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22D-2AC3-4697-B2FD-ED283742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23E-59A8-4BDC-9F3E-AD05BFF1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6D6-D7F7-40CA-B77A-27F5061A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E29-45F9-4A37-8724-F446EAE8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0CC-8748-4C63-8C1E-A0B0214C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EB3-B9E8-4734-9F93-5DD42D5D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3F4-73BB-4AE9-9398-5680DC81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BBD-A2A8-418D-8DF4-2B41F594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42F-7087-4FD1-BB18-ED98BF70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CDCB-39E0-49A2-9101-693C8B7E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44A-D7A5-49FA-A8FD-31FA2070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8C6-9109-4362-A369-6647ACB1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5126-1D1F-46E8-988A-17FF335B50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63320" y="12700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环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415320" y="220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343680" y="3141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343680" y="4078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343680" y="5086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572000" y="3284640"/>
            <a:ext cx="34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619280" y="3718080"/>
            <a:ext cx="256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267160" y="3716280"/>
            <a:ext cx="247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916360" y="2708280"/>
            <a:ext cx="12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475240" y="2708280"/>
            <a:ext cx="111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332000" y="357336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564000" y="3562200"/>
            <a:ext cx="23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894280" y="35481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427640" y="5445000"/>
            <a:ext cx="23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649520" y="2946240"/>
            <a:ext cx="18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724360" y="29257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597040" y="4035600"/>
            <a:ext cx="19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F77-92E3-4DEB-AAD3-54B3718DC9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8:51:1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