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1F5A-A34A-4534-B3A0-20CD418CE8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EAAB-7BC4-4C14-AE75-064157797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E707-6EF1-403E-A69B-6DB9FCF8D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3618-8DBC-44C7-AC0D-8AA731682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31C6-60E6-4760-AB2D-E8BFE29C7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DCEA-CF10-45DD-BF98-3376D0A78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573F-E55F-46E7-9FF4-C0B0ECC9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7EB8-46B8-4D98-8DE0-F1098E05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F94-594A-41FE-96A0-D98D6A58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4C08-D9A9-400A-8A17-987C03D4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9E3D-009B-4009-9184-C5186E2F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B586-ECAB-4060-A713-FA53B70C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A25A-9E7F-45D5-8CDD-7BB365F3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9761-A7C2-4FAA-A275-F0CF1333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B214-9EC7-4670-A1A4-89F1FE35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91E5-ED68-4C9F-907B-11BAA17F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BBBF-F747-42F8-AFA6-610194E8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22D0-0DDE-41AC-B5F3-75AB9BBF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9259-1E94-49AB-9E44-9DE3BFFC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B7DD-5E48-4882-84C7-6C86296C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0A7E-D44D-490E-A7BA-A1205C7F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F725-560A-4F5B-BF8F-07D2B14B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5A4E-9172-402E-9152-CF9F071E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7FEF-C0A5-4990-B060-71D7424D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40F-CAC3-453C-A4AF-C2D48B1E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242B-5865-4EE2-A9AE-C4200587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1BCD-A905-499D-B1F8-5FC5FC5F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48EB-038C-4523-8160-384D47F6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E26D-0235-42FC-9674-C98D17E9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B61-20C4-4B07-B6A7-778E74CB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numbers"/>
          <p:cNvPicPr/>
          <p:nvPr/>
        </p:nvPicPr>
        <p:blipFill>
          <a:blip r:embed="rId2"/>
          <a:srcRect l="0" t="3118" r="0" b="31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75A5-4096-4DFA-B21A-633DE4699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9" descr="numbers"/>
          <p:cNvPicPr/>
          <p:nvPr/>
        </p:nvPicPr>
        <p:blipFill>
          <a:blip r:embed="rId2"/>
          <a:srcRect l="0" t="3128" r="0" b="31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C3E4-4933-45F8-9E54-0E6FF2E41B1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8099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蓝色数码商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  <a:ea typeface="宋体"/>
              </a:rPr>
              <a:t>Example of a Bullet Point Slide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Sub 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  <a:ea typeface="宋体"/>
              </a:rPr>
              <a:t>Example of a chart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2027160" y="1219320"/>
          <a:ext cx="606276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219320"/>
                    <a:ext cx="60627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  <a:ea typeface="宋体"/>
              </a:rPr>
              <a:t>Picture slide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4" descr="businesspeople"/>
          <p:cNvPicPr/>
          <p:nvPr/>
        </p:nvPicPr>
        <p:blipFill>
          <a:blip r:embed="rId1"/>
          <a:stretch/>
        </p:blipFill>
        <p:spPr>
          <a:xfrm>
            <a:off x="2778120" y="1676520"/>
            <a:ext cx="3586320" cy="2689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  <a:ea typeface="宋体"/>
              </a:rPr>
              <a:t>Examples of default styles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Text and lines are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33"/>
                </a:solidFill>
                <a:uFillTx/>
                <a:latin typeface="Arial"/>
                <a:ea typeface="宋体"/>
              </a:rPr>
              <a:t>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ffff"/>
                </a:solidFill>
                <a:uFillTx/>
                <a:latin typeface="Arial"/>
                <a:ea typeface="宋体"/>
              </a:rPr>
              <a:t>Visited 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994280" y="1701720"/>
          <a:ext cx="3630600" cy="17272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15"/>
          <p:cNvSpPr/>
          <p:nvPr/>
        </p:nvSpPr>
        <p:spPr>
          <a:xfrm>
            <a:off x="3497400" y="4114800"/>
            <a:ext cx="2232000" cy="1368360"/>
          </a:xfrm>
          <a:prstGeom prst="rect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100000">
                <a:srgbClr val="ffffff">
                  <a:alpha val="42352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392880" y="4114800"/>
            <a:ext cx="2232000" cy="1368360"/>
          </a:xfrm>
          <a:prstGeom prst="rect">
            <a:avLst/>
          </a:prstGeom>
          <a:solidFill>
            <a:srgbClr val="333333">
              <a:alpha val="42000"/>
            </a:srgbClr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4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4:52:18Z</dcterms:created>
  <dc:creator>ppt宝藏</dc:creator>
  <dc:description/>
  <dc:language>en-US</dc:language>
  <cp:lastModifiedBy>a</cp:lastModifiedBy>
  <dcterms:modified xsi:type="dcterms:W3CDTF">2015-07-25T06:37:33Z</dcterms:modified>
  <cp:revision>4</cp:revision>
  <dc:subject/>
  <dc:title>www.pptbz.com</dc:title>
</cp:coreProperties>
</file>