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0E7F-C8AC-4B6C-8B18-6A3BC0CD2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DAFE-F68F-4136-9902-13E7D529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944ED-7410-41D7-BC58-9942D316D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1D83-278F-417B-98CE-8776AC815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62C1-D88C-45C5-94AF-B25C03549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84A7-8383-41AA-B9E0-60636AAD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E97-9B17-4D21-9FDA-597C3455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5A9-06A4-45EC-8E5E-A1C15BAE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ED91-5597-4184-81F2-9EA34D7D9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854A-5822-40FE-9342-2D75B5E6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70C2-3C75-4904-8228-7DE902D5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1BC3-0F40-4C35-829C-6AA0A266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B3DF-0733-4DFD-8171-4828AA220CD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357440"/>
            <a:ext cx="83502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蓝色水韵科技通用</a:t>
            </a:r>
            <a:r>
              <a:rPr b="0" lang="en-US" sz="40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2f2f2"/>
                </a:solidFill>
                <a:latin typeface="Arial Unicode MS"/>
                <a:ea typeface="Arial Unicode MS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矩形 12"/>
          <p:cNvSpPr/>
          <p:nvPr/>
        </p:nvSpPr>
        <p:spPr>
          <a:xfrm>
            <a:off x="206280" y="64897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Arial Unicode MS"/>
              <a:ea typeface="Arial Unicode MS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07:52:32Z</dcterms:created>
  <dc:creator>微软中国</dc:creator>
  <dc:description/>
  <dc:language>en-US</dc:language>
  <cp:lastModifiedBy>王玉清</cp:lastModifiedBy>
  <dcterms:modified xsi:type="dcterms:W3CDTF">2016-02-21T04:07:02Z</dcterms:modified>
  <cp:revision>4</cp:revision>
  <dc:subject>Technology</dc:subject>
  <dc:title>PowerPoint 演示文稿</dc:title>
</cp:coreProperties>
</file>