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3BB-3615-4149-B942-3586B349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99E3-9F03-4110-89B3-870F4667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85F-30A6-4F50-999E-1E328C69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0B94-D693-4ED8-9443-A8E4DF9A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99E9-2BA3-4B94-AA7A-9CFF494F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AE62-8F80-43D5-B0DE-03C583F0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A2B6-1E45-41B0-A3DB-330B0982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2385-4344-4507-99BE-9FCD3A1A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4A8C-5586-4ED4-8113-A189DD15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F389-3085-49ED-B175-EAC64E49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308D-CB1D-4B94-8882-4375146A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890E-AA9C-4DF4-A2BC-1F19F0FC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FF86-097F-40AA-B856-3C8CEF4B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2639-3E65-4889-AEC2-519BA9E3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925B-B51F-4F0A-929C-E3977AC2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6F66-5E28-4607-8A54-69994DB5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78D4-F2A9-4069-B48D-F2E09676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C174-8451-4F11-9F93-7F261F53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B79E-1F41-453E-A217-F72B768F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62C1-599A-4B15-B4BF-6C5C38BE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10A7-0300-4D3C-BCDC-D4C9F275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C51A-DFB8-48F5-8690-C82A7E39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E9FE-EC21-45EF-A091-6F4B9DFB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6351-12E3-43AB-BAF3-AA0F67A6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artoon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B135-C4B8-4017-A310-B2265ADA7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cartoon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49A9-6004-4726-BAF8-06A9CA28E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康海报体W12(P)"/>
                <a:ea typeface="华康海报体W12(P)"/>
              </a:rPr>
              <a:t>老鼠赏月通用</a:t>
            </a:r>
            <a:r>
              <a:rPr b="0" lang="en-US" sz="4000" spc="-1" strike="noStrike">
                <a:solidFill>
                  <a:srgbClr val="ffffff"/>
                </a:solidFill>
                <a:latin typeface="华康海报体W12(P)"/>
                <a:ea typeface="华康海报体W12(P)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华康海报体W12(P)"/>
                <a:ea typeface="华康海报体W12(P)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4427640" y="2708280"/>
            <a:ext cx="4176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00:19:15Z</dcterms:created>
  <dc:creator>User</dc:creator>
  <dc:description/>
  <dc:language>en-US</dc:language>
  <cp:lastModifiedBy>王玉清</cp:lastModifiedBy>
  <dcterms:modified xsi:type="dcterms:W3CDTF">2016-02-20T04:28:41Z</dcterms:modified>
  <cp:revision>4</cp:revision>
  <dc:subject/>
  <dc:title>幻灯片 1</dc:title>
</cp:coreProperties>
</file>