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427-7200-4736-AA3C-4ECF801D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598-CD31-4BDE-BD53-4809867F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7FD-53AF-4385-B1A5-7FD01B42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07BA-0867-4DB1-A241-13148A54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85F-8331-47C5-BDD0-74359CB7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B29-6DC2-47A3-93BA-651D765E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443-BE40-4BF7-A899-0210358A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A41D-6EFB-4497-ADD1-E1DF0A82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CF8-9E1D-411A-A879-737F54F7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F66-68DD-4C40-8C06-FD4F85F2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F56-4B7E-41F5-96B8-432474DB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60F-D785-47BB-9AA6-215E74D1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6EB92C-1289-4CF6-9572-E5FB5160CB3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1240" y="1700640"/>
            <a:ext cx="9122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立体箭头创意橙红活力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 rot="20922600">
            <a:off x="3775680" y="3753000"/>
            <a:ext cx="41428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611640" y="6237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  <Words>34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2-23T03:00:46Z</dcterms:modified>
  <cp:revision>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