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64D-5134-4A59-8BA2-FAC08008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35A-DECF-4ECC-8630-75769EA1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AC7-904F-4196-9467-C6DA9A94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DA7-55D4-4CA3-B6F9-00142747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4485-3BD6-497B-A082-4972192B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D9F9-624F-4E1A-A175-AE60BE86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8C07-EA4F-44A1-8FEB-83EB3487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8497-D95E-4A4D-B669-3693BCDB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8E60-BC3E-48B8-AF93-4EFF24D3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67A2-030C-4A49-AA77-4DA90828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99CD-D885-4003-9EF2-93F4B933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D74F-397E-4786-B14D-ADEE1203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C75C-5C59-442A-8CE3-9C0B6A04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DE4E-1214-40FB-A315-182CB67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9BC7-1BC4-4198-A36F-F7FA4314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717B-E1B6-42D4-9844-B410508B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4B7D-9091-496E-889B-72CAE491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619BA-60B1-470A-9DE9-E289C759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E224-79C0-41AA-A5CC-E11F3705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811B9-677C-4EEF-8D54-32F25330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63FF-90CE-4824-B9BF-0D7594D1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2918-A6D1-467B-91F9-A4C95D64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9FF-4DBE-4A69-9854-D5B8F64E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F47F-EE2D-408C-B7A8-2BBF579A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E859A-7A34-4193-AC24-BFA6029F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21BC-C621-4E98-A41D-C246A5A2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2CF8-2E67-424E-B636-B46B572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A1DB6-3941-4D90-8C46-D7CF5CB7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E003-6DC9-4714-90DF-CAEF7230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47B85-BB51-448D-9221-01646AF7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2560-A319-4ED7-B41F-36DA6248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3A7-5808-4A2F-BE56-C8F2793C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E624-F513-4D45-AB4A-5939791B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9F2-424B-4205-9A2D-6D1319FF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C37-574A-44C4-A75B-8679144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76A-E1CC-4751-B121-F99536D1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09C1-A8CE-4C4C-892E-65D04138E26B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EE35-36CC-4153-BCF6-A59B9E4E518D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E144-990A-42BF-BE83-664818206717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EC0A-3232-4D9E-98D0-3D546C4F572F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A917-1B03-479E-A9E5-396DD55B0F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0F93-3F96-49D3-8D86-A5EE5A8DBF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g_blurred_backgrounds_12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4" name="矩形 3"/>
          <p:cNvSpPr/>
          <p:nvPr/>
        </p:nvSpPr>
        <p:spPr>
          <a:xfrm>
            <a:off x="2068560" y="1647720"/>
            <a:ext cx="44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幻蓝色简洁商务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06280" y="5454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6360" y="240840"/>
            <a:ext cx="6713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36360" y="1403280"/>
            <a:ext cx="6713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5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28" name="Picture 4" descr="wg_blurred_backgrounds_12"/>
          <p:cNvPicPr/>
          <p:nvPr/>
        </p:nvPicPr>
        <p:blipFill>
          <a:blip r:embed="rId1"/>
          <a:srcRect l="52773" t="0" r="29228" b="0"/>
          <a:stretch/>
        </p:blipFill>
        <p:spPr>
          <a:xfrm>
            <a:off x="0" y="6480"/>
            <a:ext cx="162072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1262160" y="917640"/>
            <a:ext cx="2093760" cy="3529080"/>
          </a:xfrm>
          <a:custGeom>
            <a:avLst/>
            <a:gdLst>
              <a:gd name="textAreaLeft" fmla="*/ 61200 w 2093760"/>
              <a:gd name="textAreaRight" fmla="*/ 2032560 w 20937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405">
                <a:moveTo>
                  <a:pt x="2160" y="0"/>
                </a:moveTo>
                <a:arcTo wR="2160" hR="2160" stAng="16200000" swAng="-5400000"/>
                <a:lnTo>
                  <a:pt x="0" y="34245"/>
                </a:lnTo>
                <a:arcTo wR="2160" hR="2160" stAng="10800000" swAng="-5400000"/>
                <a:lnTo>
                  <a:pt x="19440" y="36405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262160" y="2328840"/>
            <a:ext cx="20937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17208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419640" y="917640"/>
            <a:ext cx="2095200" cy="3529080"/>
          </a:xfrm>
          <a:custGeom>
            <a:avLst/>
            <a:gdLst>
              <a:gd name="textAreaLeft" fmla="*/ 61200 w 2095200"/>
              <a:gd name="textAreaRight" fmla="*/ 2034000 w 209520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80">
                <a:moveTo>
                  <a:pt x="2160" y="0"/>
                </a:moveTo>
                <a:arcTo wR="2160" hR="2160" stAng="16200000" swAng="-5400000"/>
                <a:lnTo>
                  <a:pt x="0" y="34220"/>
                </a:lnTo>
                <a:arcTo wR="2160" hR="2160" stAng="10800000" swAng="-5400000"/>
                <a:lnTo>
                  <a:pt x="19440" y="36380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419640" y="2328840"/>
            <a:ext cx="209520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3879720" y="1128600"/>
            <a:ext cx="117504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5576760" y="917640"/>
            <a:ext cx="2095560" cy="3529080"/>
          </a:xfrm>
          <a:custGeom>
            <a:avLst/>
            <a:gdLst>
              <a:gd name="textAreaLeft" fmla="*/ 61200 w 2095560"/>
              <a:gd name="textAreaRight" fmla="*/ 2034360 w 20955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73">
                <a:moveTo>
                  <a:pt x="2160" y="0"/>
                </a:moveTo>
                <a:arcTo wR="2160" hR="2160" stAng="16200000" swAng="-5400000"/>
                <a:lnTo>
                  <a:pt x="0" y="34213"/>
                </a:lnTo>
                <a:arcTo wR="2160" hR="2160" stAng="10800000" swAng="-5400000"/>
                <a:lnTo>
                  <a:pt x="19440" y="36373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5576760" y="2328840"/>
            <a:ext cx="20955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60372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1515960" y="3740040"/>
            <a:ext cx="5900760" cy="530280"/>
          </a:xfrm>
          <a:prstGeom prst="leftRightArrow">
            <a:avLst>
              <a:gd name="adj1" fmla="val 50000"/>
              <a:gd name="adj2" fmla="val 49868"/>
            </a:avLst>
          </a:prstGeom>
          <a:solidFill>
            <a:srgbClr val="b0bf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290680" y="628560"/>
            <a:ext cx="134460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5429160" y="2212920"/>
            <a:ext cx="134640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290680" y="3795840"/>
            <a:ext cx="1344600" cy="135864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74680" y="5397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wg_blurred_backgrounds_12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4280" y="214164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ww.pptbz.com</dc:creator>
  <dc:description/>
  <dc:language>en-US</dc:language>
  <cp:lastModifiedBy>a</cp:lastModifiedBy>
  <dcterms:modified xsi:type="dcterms:W3CDTF">2015-07-25T02:09:44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2</vt:lpwstr>
  </property>
</Properties>
</file>