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ABC-6B51-43E4-8739-2FFC2C34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51C-B9D5-422E-A5F1-E7DE42A0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846-B7A6-4366-8ED7-5DBE56B5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EE5-1C56-4F2B-BC27-5500AC03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1A7-6F59-4A21-AC4A-2603D273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F9D7-C23F-4278-8C17-FE9A8BD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B9B-856F-4FBC-B03B-0582EEF0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5F0-D4D9-4E6F-A7A5-FEBED39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B110-17D5-40E0-B693-6A78969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8915-8F67-4813-8B2B-2588B516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0B87-1F2A-40EB-B802-4F00446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54C-BBB1-4027-A5EE-C5F9D0C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B5D2-95CA-4032-BE92-413FF9A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2A47-5443-41AA-9CFA-D2EE99B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13CD-4CB7-4A85-9D65-540AE3A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140A-C0BF-4FF3-8A57-C701E56D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6286-56D1-4660-AC66-725E510F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905-10BA-4C85-96B5-8966DDB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C2E-6E43-406A-8252-AE190532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5A2-92CB-4454-842D-999C97E9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040-1243-4EF3-A585-1953456B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B03-EF25-4E13-A5E1-7934279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F33-3BC9-4DDB-99A4-79FADD9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E79-C6D2-4BFC-9E5B-39A62D2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1800"/>
            <a:ext cx="6419160" cy="399888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"/>
          <p:cNvPicPr/>
          <p:nvPr/>
        </p:nvPicPr>
        <p:blipFill>
          <a:blip r:embed="rId3"/>
          <a:srcRect l="0" t="0" r="10987" b="0"/>
          <a:stretch/>
        </p:blipFill>
        <p:spPr>
          <a:xfrm>
            <a:off x="0" y="0"/>
            <a:ext cx="12191760" cy="504000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4075200"/>
            <a:ext cx="12191760" cy="852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12192001" h="853191">
                <a:moveTo>
                  <a:pt x="0" y="124771"/>
                </a:moveTo>
                <a:cubicBezTo>
                  <a:pt x="5412352" y="-185195"/>
                  <a:pt x="8530955" y="124772"/>
                  <a:pt x="12192000" y="589721"/>
                </a:cubicBezTo>
                <a:cubicBezTo>
                  <a:pt x="12192000" y="806697"/>
                  <a:pt x="12192001" y="558723"/>
                  <a:pt x="12192001" y="775699"/>
                </a:cubicBezTo>
                <a:cubicBezTo>
                  <a:pt x="7973018" y="-61210"/>
                  <a:pt x="4420461" y="636214"/>
                  <a:pt x="0" y="853191"/>
                </a:cubicBezTo>
                <a:lnTo>
                  <a:pt x="0" y="124771"/>
                </a:lnTo>
                <a:close/>
              </a:path>
            </a:pathLst>
          </a:custGeom>
          <a:gradFill rotWithShape="0">
            <a:gsLst>
              <a:gs pos="0">
                <a:srgbClr val="d9d9d9">
                  <a:alpha val="70196"/>
                </a:srgbClr>
              </a:gs>
              <a:gs pos="100000">
                <a:srgbClr val="accbf9">
                  <a:alpha val="70196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矩形 7"/>
          <p:cNvSpPr/>
          <p:nvPr/>
        </p:nvSpPr>
        <p:spPr>
          <a:xfrm>
            <a:off x="0" y="4451760"/>
            <a:ext cx="12191760" cy="240588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2405880"/>
              <a:gd name="textAreaBottom" fmla="*/ 2406240 h 2405880"/>
            </a:gdLst>
            <a:ahLst/>
            <a:rect l="textAreaLeft" t="textAreaTop" r="textAreaRight" b="textAreaBottom"/>
            <a:pathLst>
              <a:path w="12192000" h="2406313">
                <a:moveTo>
                  <a:pt x="0" y="481260"/>
                </a:moveTo>
                <a:cubicBezTo>
                  <a:pt x="4255168" y="110287"/>
                  <a:pt x="5391484" y="52137"/>
                  <a:pt x="8398042" y="0"/>
                </a:cubicBezTo>
                <a:cubicBezTo>
                  <a:pt x="10693309" y="80210"/>
                  <a:pt x="10342989" y="77660"/>
                  <a:pt x="12192000" y="300787"/>
                </a:cubicBezTo>
                <a:lnTo>
                  <a:pt x="12192000" y="2406313"/>
                </a:lnTo>
                <a:lnTo>
                  <a:pt x="0" y="2406313"/>
                </a:lnTo>
                <a:lnTo>
                  <a:pt x="0" y="481260"/>
                </a:lnTo>
                <a:close/>
              </a:path>
            </a:pathLst>
          </a:custGeom>
          <a:blipFill rotWithShape="0">
            <a:blip r:embed="rId4"/>
            <a:srcRect/>
            <a:tile tx="0" ty="0" sx="99988" sy="99987" algn="b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任意多边形 8"/>
          <p:cNvSpPr/>
          <p:nvPr/>
        </p:nvSpPr>
        <p:spPr>
          <a:xfrm>
            <a:off x="-15480" y="4428360"/>
            <a:ext cx="12212280" cy="499680"/>
          </a:xfrm>
          <a:custGeom>
            <a:avLst/>
            <a:gdLst>
              <a:gd name="textAreaLeft" fmla="*/ 0 w 12212280"/>
              <a:gd name="textAreaRight" fmla="*/ 12212640 w 12212280"/>
              <a:gd name="textAreaTop" fmla="*/ 0 h 499680"/>
              <a:gd name="textAreaBottom" fmla="*/ 500040 h 499680"/>
            </a:gdLst>
            <a:ahLst/>
            <a:rect l="textAreaLeft" t="textAreaTop" r="textAreaRight" b="textAreaBottom"/>
            <a:pathLst>
              <a:path w="12212664" h="500155">
                <a:moveTo>
                  <a:pt x="0" y="500155"/>
                </a:moveTo>
                <a:cubicBezTo>
                  <a:pt x="1429718" y="371002"/>
                  <a:pt x="2859437" y="241850"/>
                  <a:pt x="4277532" y="159192"/>
                </a:cubicBezTo>
                <a:cubicBezTo>
                  <a:pt x="5695627" y="76534"/>
                  <a:pt x="7186047" y="-21621"/>
                  <a:pt x="8508569" y="4209"/>
                </a:cubicBezTo>
                <a:cubicBezTo>
                  <a:pt x="9831091" y="30039"/>
                  <a:pt x="11021877" y="172107"/>
                  <a:pt x="12212664" y="314175"/>
                </a:cubicBezTo>
              </a:path>
            </a:pathLst>
          </a:custGeom>
          <a:noFill/>
          <a:ln w="38100">
            <a:solidFill>
              <a:srgbClr val="ffffff"/>
            </a:solidFill>
          </a:ln>
          <a:effectLst>
            <a:outerShdw algn="tl" blurRad="88920" dir="2700000" dist="50402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3484440"/>
            <a:ext cx="9143640" cy="226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mbria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5C5C0C-7826-4798-AB61-27693A6C616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tretch/>
        </p:blipFill>
        <p:spPr>
          <a:xfrm>
            <a:off x="0" y="1800"/>
            <a:ext cx="6419160" cy="3998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1D2A1-F351-494C-9C34-E88E4EA6A2C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3484440"/>
            <a:ext cx="9143640" cy="226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ambria"/>
              </a:rPr>
              <a:t>年终总结系列商务</a:t>
            </a: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mbria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4640" y="5872320"/>
            <a:ext cx="914364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蓝色暖调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4a66ac"/>
      </a:accent1>
      <a:accent2>
        <a:srgbClr val="629dd1"/>
      </a:accent2>
      <a:accent3>
        <a:srgbClr val="297fd5"/>
      </a:accent3>
      <a:accent4>
        <a:srgbClr val="7f8fa9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蓝色暖调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4a66ac"/>
      </a:accent1>
      <a:accent2>
        <a:srgbClr val="629dd1"/>
      </a:accent2>
      <a:accent3>
        <a:srgbClr val="297fd5"/>
      </a:accent3>
      <a:accent4>
        <a:srgbClr val="7f8fa9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  <Words>20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11-04T11:59:23Z</dcterms:created>
  <dc:creator>邹恩栋</dc:creator>
  <dc:description/>
  <cp:keywords>XS-宽屏 16：9 SC-淡蓝色 BG-浅色 DH-静态</cp:keywords>
  <dc:language>en-US</dc:language>
  <cp:lastModifiedBy>a</cp:lastModifiedBy>
  <dcterms:modified xsi:type="dcterms:W3CDTF">2015-07-25T08:00:49Z</dcterms:modified>
  <cp:revision>7</cp:revision>
  <dc:subject>TP-理念概念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