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BB18-04CE-4CE9-9972-A56943A1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F0C2-44FA-40B8-BFF1-23E3BB3E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E06AA-67A5-47C9-B6CA-5507DC71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57572-EB95-4597-B7DF-C826F783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CF06D-C96D-438E-9B08-40C8059A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ED4CE-73AE-4B03-AF0D-54E74855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BBFA5-3862-4C6C-B162-3F09BAA5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9EA2D-CA80-42CD-82BE-21BFBA85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FB0D2-6972-4727-B019-12AF3AE3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E95BF-311C-4422-87BA-D5D275130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550662-027A-46DB-BAC8-30B88108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F5756-866A-4A42-81B1-E84037F1D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C05A-3D72-493B-B4E7-F69AAF26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97471E-FB30-4959-B17D-72946E79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6129A-21C7-4ABA-8A86-F8F8EE47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EA2A8-7AB4-4BA9-A18D-2DA747B5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59316-4E82-404C-B888-8C5D85CC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5F2C96-BD21-46BB-8B58-3B2B1CC58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401D4-507F-4FF1-8388-62C7E8B3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09919-3069-40C8-9E1F-B8A9C728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DBF0A-CF05-4B36-9739-4FDBDFF1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ACC21-26B7-40C9-AEB0-093B6629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C4750-A53B-4562-9323-B1F7995E3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7B8-8F93-471E-9DA7-E17F82E4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CA87E-89EB-4A7C-8275-622365F9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EE39C-7D5E-4F56-9CFD-5CB974E2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3B3A5-A60A-4BE0-BD17-7B8591895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EE19D1-7500-4884-AFB1-2D720144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BFAD8-61A5-4787-BFFF-56920B9B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AF36C-025A-4633-B125-ACD3854C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B14D2B-383A-4936-AD30-E4EEAA8A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E1923-D0F7-4D07-A58A-A625680A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D1269-EEDF-4B3C-9637-C81AE3EA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9334E-4981-45AB-BE47-1DFE6506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4D06-D2DA-4199-B684-96D68C2D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3DF980-2808-4266-BBB8-6E2A4439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936C2-14A3-400E-8ED5-D9A1A1F0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5A5BC-8B99-4109-889A-6C9AA75E1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B89F0-9BB1-4D6A-B7FB-D0B0DA74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6DBA82-09AD-4537-AC79-79BC1B7F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B7C00C-1DD8-4040-938C-C6E0C58F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07B2E9-2991-4E5B-BD90-D9F4F3AD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8D5D3-D1D0-4D10-9816-82796705C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60904-BD84-4502-A7F5-B70CEAFC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B7A5E-A577-4FA9-981A-3E6A18BC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D0CE-4AC4-466C-B910-E0863D7E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B3235-7841-4FB4-8F20-FC65B469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FDE6A-559B-4AB5-98BC-4B95B67A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D00CC-B9FA-4BDB-8678-D6BDE939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E2B3E-88BA-435B-BC53-CDD1D572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A0A13-1D15-47F1-AFC7-50006070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B891-9AE8-4729-8309-CF132D05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EDC6-8699-4215-B338-004BAC26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B3B4-587C-4533-A6E0-2DA41D78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881E-72D3-4339-8B7E-F3E75D42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AB8D-CCDD-46B6-885E-8F8C8777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6EB-857B-45EF-B9E3-D44AEF45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EE6F-5911-411B-9154-C9177A9D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99E9-8A44-4E31-A278-3A103BEF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09AF-DB13-446E-8B8C-74903BB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A694E-FCD6-4B5C-AA16-85F11598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7B2E-DD57-437F-886F-28DFC49A0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8D3D9-A292-4907-A3C6-B9CA18CC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C4D74-ACA5-4472-B4CD-7EDB1244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A1CC4-B715-4F8B-9FFA-21D38850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2706D-9957-42E3-A34F-14A23A85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C3DF9-0D29-4EC4-9859-E13A5ACA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B31-D97F-4748-858B-1913A36C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3EF22-ED15-4140-8803-2E51F051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0A29A-9FDF-4DA7-ABA8-58683EE6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2DFAD-184C-4BFF-A055-17A5352F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31B56-AC6C-40B1-83A8-68C0EB68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43A18-97A8-4A3F-86F8-FBDB28C5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558A9-63A5-4468-96EE-2B2AE9697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76790-6F6B-48B9-BDEB-718B4BF4B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BEC7A-F931-4CA6-A770-5E245229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F82D-0B22-487F-BEF0-A77DE6BC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DD0E7-20F6-4EC5-9DAA-B06C3FE7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C3E7-6352-4F85-8256-2495917C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00033-82D1-400C-8202-F257892A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9723C-3902-47B9-9398-C38E63CC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AA09E-A5C4-49D0-9AFA-115995F9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1C6A2-29A3-4EAC-A1C6-14F9FD00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A07E8-59A5-42FC-924C-714F9DD0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31BEC-822A-4E0E-B5D1-F1381917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C88D7-4BCC-4A61-921A-523DF2AE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22503-B7EC-4E2C-8B88-481A7290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57A13-52C7-4ED7-8360-7BEFE2A9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AF404-C86A-42FE-8479-D93AE5FB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0B73-4927-4977-8F5F-82AC8097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491A9-C3F9-47FC-B9D9-D37520D7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925A5-10E4-406A-9DFB-7F88AEDD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A7FBD-6B53-4E4E-8293-CF40FC30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AE70F-68C0-4919-9ADB-B7C184695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A3841-F17A-4A60-89B4-7074C974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43CAD-DC76-4688-B222-DC1D6796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08DC6-189D-494D-84A6-59F5818E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DDCFA-2FF9-4C3D-8B01-7B2C3AFD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DCC78-6811-4FD2-B6B4-E10D4278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047BB-4E1A-4DFA-875E-AA7E0568F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E93-4837-4C40-B5C3-5C01D27EC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49366-6F48-4469-BA6E-5740F271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278B7-3DA2-4B53-864A-61AC61E54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54AB7-3AD1-4CC7-879B-10C08888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217B5-6672-4490-A459-B44918AE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78CD6-6DDB-4939-B214-36167E87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4C464-31FC-4893-AA96-4547B4BB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6B5ED-7E41-42BC-A8F1-3BED0B3B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8AB09-13EA-467B-88EE-A6354724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DE943-BC89-4C46-8D6A-4ABCF485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4EDEA-5F52-4986-AD51-B633D2EC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35D1-33BC-4CD8-8508-32976FFE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DDFBD-9DF5-4411-888A-BF18AC55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3117C-B1F2-4F04-A904-1DE42B2E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BFA48-A28C-42AB-8F8D-BB5B1D0C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5B1FD-E145-4EC7-A1ED-F65937F6F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9A065-512F-48EF-8305-C4AE7E43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3997F-6A22-4FB8-B633-80EBB4A2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B9556-9176-4B5C-A183-C6967C9B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7D26A-7180-4D25-90A1-84BCD538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3CEDA-DD43-4EA4-BDBE-2205BC43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C31E9-DEAA-4AD8-A449-1BFC9DBC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111-5850-457B-A7E2-A41722D3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A4766-B243-4203-AB7D-DFD49787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8BB29-A4A4-461F-964F-9B8A8389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D3425-25EC-4E24-972A-AFB6B089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2D0FE-A6D7-4139-BE3B-F7850564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64CEC7-23B1-4F25-B86E-87234686F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5AFD6-1104-418A-84CE-2869632F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103A5-CE8C-40DB-A379-EA0538B6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00C10-EEF0-420E-899B-4154D363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3507C-F990-45F6-A535-C4413633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175DC-87AD-4542-A9FF-2C1C78B4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F063-C5C7-4687-A0A0-4BEC9048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64E73-836F-42DD-BD28-C0654A08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D34CD-9B64-4D20-98D9-C9B4A07C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3845B-D331-4989-A5BC-D90921CE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F67AF-8DA6-44A9-8C0E-2E1B7FC5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2A4560-715D-4AD2-BC32-06669E33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4D87F-F1CF-43B2-8236-7F86395D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A3217-5152-4D1D-811D-E90A7C36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0B717-184A-45E7-89E4-886486EB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8355E-C710-439C-BC14-3D7AF231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E3395-79FB-4F9B-AE51-E3070AED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14A4-1C8B-4FE0-BFB2-81550123C0B9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6444-51E7-46C0-B25E-143EEE998A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6839-FDE9-4990-8B03-DB543CC3D66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F79B-5B43-4BDD-8CDA-A51AADBD51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36E8-6D2C-4A22-945A-4465FDFF6C7E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0A28-0B17-4C21-B999-3301A376568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0528-A75E-4294-871E-1F42C9C3625A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138F-1786-49A7-AF85-403662A9381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9824-210B-473D-9C52-92888F20145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133D-A101-483F-A184-068A0207EE6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91B1-0760-427E-992F-8D6DBF8C4E34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4C51-20FF-4D2A-B4C7-FF49D4284A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FF309-20E5-427D-9E5E-41A3A7DEFA6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90AE-2FB7-48F5-A123-86E733652C9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0482-0D66-4F53-AD91-B7E269B3E17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E1E8-44CE-4DBC-ADDE-AD67338D76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BEC3-4BD3-4AB2-9B90-2D338F42167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D3FB7-409B-4280-804C-EB5CE5BA49A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FC9F-E463-4B87-8D38-9CB1A7930173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91CEF-114A-4543-AD94-4CD968AAEA3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0D0E-0DAA-42EE-BCFD-5960D16D04A2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6A00-3A85-421E-B85A-F2E226DE6E2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085A-BA39-4921-A23C-E6C66BC215AF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EFBC-102D-4349-98BF-19BC455D00F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f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14"/>
          <p:cNvGrpSpPr/>
          <p:nvPr/>
        </p:nvGrpSpPr>
        <p:grpSpPr>
          <a:xfrm>
            <a:off x="3441600" y="4495680"/>
            <a:ext cx="2308320" cy="390600"/>
            <a:chOff x="3441600" y="4495680"/>
            <a:chExt cx="2308320" cy="390600"/>
          </a:xfrm>
        </p:grpSpPr>
        <p:sp>
          <p:nvSpPr>
            <p:cNvPr id="493" name="矩形 3"/>
            <p:cNvSpPr/>
            <p:nvPr/>
          </p:nvSpPr>
          <p:spPr>
            <a:xfrm>
              <a:off x="3762000" y="4495680"/>
              <a:ext cx="1667160" cy="390600"/>
            </a:xfrm>
            <a:prstGeom prst="rect">
              <a:avLst/>
            </a:prstGeom>
            <a:solidFill>
              <a:srgbClr val="4249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直角三角形 6"/>
            <p:cNvSpPr/>
            <p:nvPr/>
          </p:nvSpPr>
          <p:spPr>
            <a:xfrm>
              <a:off x="5429520" y="4692600"/>
              <a:ext cx="320400" cy="193680"/>
            </a:xfrm>
            <a:prstGeom prst="rtTriangle">
              <a:avLst/>
            </a:prstGeom>
            <a:solidFill>
              <a:srgbClr val="4249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直角三角形 7"/>
            <p:cNvSpPr/>
            <p:nvPr/>
          </p:nvSpPr>
          <p:spPr>
            <a:xfrm flipV="1">
              <a:off x="5429520" y="4496400"/>
              <a:ext cx="320400" cy="193680"/>
            </a:xfrm>
            <a:prstGeom prst="rtTriangle">
              <a:avLst/>
            </a:prstGeom>
            <a:solidFill>
              <a:srgbClr val="4249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直角三角形 8"/>
            <p:cNvSpPr/>
            <p:nvPr/>
          </p:nvSpPr>
          <p:spPr>
            <a:xfrm flipH="1">
              <a:off x="3441600" y="4692600"/>
              <a:ext cx="320400" cy="193680"/>
            </a:xfrm>
            <a:prstGeom prst="rtTriangle">
              <a:avLst/>
            </a:prstGeom>
            <a:solidFill>
              <a:srgbClr val="4249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直角三角形 9"/>
            <p:cNvSpPr/>
            <p:nvPr/>
          </p:nvSpPr>
          <p:spPr>
            <a:xfrm flipH="1" flipV="1">
              <a:off x="3441600" y="4496400"/>
              <a:ext cx="320400" cy="193680"/>
            </a:xfrm>
            <a:prstGeom prst="rtTriangle">
              <a:avLst/>
            </a:prstGeom>
            <a:solidFill>
              <a:srgbClr val="4249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11"/>
            <p:cNvSpPr/>
            <p:nvPr/>
          </p:nvSpPr>
          <p:spPr>
            <a:xfrm>
              <a:off x="3923280" y="4505400"/>
              <a:ext cx="134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f60"/>
                  </a:solidFill>
                  <a:latin typeface="微软雅黑"/>
                  <a:ea typeface="微软雅黑"/>
                </a:rPr>
                <a:t>add the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直接连接符 16"/>
          <p:cNvSpPr/>
          <p:nvPr/>
        </p:nvSpPr>
        <p:spPr>
          <a:xfrm>
            <a:off x="5749920" y="4689360"/>
            <a:ext cx="746280" cy="180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18"/>
          <p:cNvSpPr/>
          <p:nvPr/>
        </p:nvSpPr>
        <p:spPr>
          <a:xfrm>
            <a:off x="6732720" y="4689360"/>
            <a:ext cx="296640" cy="180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直接连接符 21"/>
          <p:cNvSpPr/>
          <p:nvPr/>
        </p:nvSpPr>
        <p:spPr>
          <a:xfrm flipH="1">
            <a:off x="6492600" y="4657680"/>
            <a:ext cx="75960" cy="76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接连接符 22"/>
          <p:cNvSpPr/>
          <p:nvPr/>
        </p:nvSpPr>
        <p:spPr>
          <a:xfrm flipH="1">
            <a:off x="6565680" y="4657680"/>
            <a:ext cx="75960" cy="76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23"/>
          <p:cNvSpPr/>
          <p:nvPr/>
        </p:nvSpPr>
        <p:spPr>
          <a:xfrm flipH="1">
            <a:off x="6638760" y="4657680"/>
            <a:ext cx="76320" cy="76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接连接符 24"/>
          <p:cNvSpPr/>
          <p:nvPr/>
        </p:nvSpPr>
        <p:spPr>
          <a:xfrm>
            <a:off x="2698920" y="4689360"/>
            <a:ext cx="747720" cy="180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直接连接符 27"/>
          <p:cNvSpPr/>
          <p:nvPr/>
        </p:nvSpPr>
        <p:spPr>
          <a:xfrm>
            <a:off x="2479680" y="4651200"/>
            <a:ext cx="76320" cy="76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直接连接符 28"/>
          <p:cNvSpPr/>
          <p:nvPr/>
        </p:nvSpPr>
        <p:spPr>
          <a:xfrm>
            <a:off x="2552760" y="4651200"/>
            <a:ext cx="76320" cy="76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直接连接符 29"/>
          <p:cNvSpPr/>
          <p:nvPr/>
        </p:nvSpPr>
        <p:spPr>
          <a:xfrm>
            <a:off x="2625120" y="4651200"/>
            <a:ext cx="75960" cy="763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直接连接符 30"/>
          <p:cNvSpPr/>
          <p:nvPr/>
        </p:nvSpPr>
        <p:spPr>
          <a:xfrm>
            <a:off x="2147760" y="4694400"/>
            <a:ext cx="297000" cy="144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31"/>
          <p:cNvSpPr/>
          <p:nvPr/>
        </p:nvSpPr>
        <p:spPr>
          <a:xfrm>
            <a:off x="2596320" y="272736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2494e"/>
                </a:solidFill>
                <a:latin typeface="微软雅黑"/>
                <a:ea typeface="微软雅黑"/>
              </a:rPr>
              <a:t>欧美简洁商务</a:t>
            </a:r>
            <a:r>
              <a:rPr b="0" lang="en-US" sz="4000" spc="-1" strike="noStrike">
                <a:solidFill>
                  <a:srgbClr val="42494e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42494e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直接连接符 33"/>
          <p:cNvSpPr/>
          <p:nvPr/>
        </p:nvSpPr>
        <p:spPr>
          <a:xfrm>
            <a:off x="3621240" y="1371600"/>
            <a:ext cx="1666800" cy="0"/>
          </a:xfrm>
          <a:prstGeom prst="line">
            <a:avLst/>
          </a:prstGeom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34"/>
          <p:cNvSpPr/>
          <p:nvPr/>
        </p:nvSpPr>
        <p:spPr>
          <a:xfrm rot="2700000">
            <a:off x="5359320" y="1336680"/>
            <a:ext cx="69840" cy="69840"/>
          </a:xfrm>
          <a:prstGeom prst="rect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35"/>
          <p:cNvSpPr/>
          <p:nvPr/>
        </p:nvSpPr>
        <p:spPr>
          <a:xfrm rot="2700000">
            <a:off x="3481560" y="1336680"/>
            <a:ext cx="69840" cy="69840"/>
          </a:xfrm>
          <a:prstGeom prst="rect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36"/>
          <p:cNvSpPr/>
          <p:nvPr/>
        </p:nvSpPr>
        <p:spPr>
          <a:xfrm rot="2700000">
            <a:off x="5492880" y="1342800"/>
            <a:ext cx="56880" cy="56880"/>
          </a:xfrm>
          <a:prstGeom prst="rect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矩形 40"/>
          <p:cNvSpPr/>
          <p:nvPr/>
        </p:nvSpPr>
        <p:spPr>
          <a:xfrm rot="2700000">
            <a:off x="5608800" y="1348920"/>
            <a:ext cx="44640" cy="45720"/>
          </a:xfrm>
          <a:prstGeom prst="rect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41"/>
          <p:cNvSpPr/>
          <p:nvPr/>
        </p:nvSpPr>
        <p:spPr>
          <a:xfrm rot="2700000">
            <a:off x="3359520" y="1342080"/>
            <a:ext cx="56880" cy="58680"/>
          </a:xfrm>
          <a:prstGeom prst="rect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42"/>
          <p:cNvSpPr/>
          <p:nvPr/>
        </p:nvSpPr>
        <p:spPr>
          <a:xfrm rot="2700000">
            <a:off x="3242160" y="1348560"/>
            <a:ext cx="44640" cy="46080"/>
          </a:xfrm>
          <a:prstGeom prst="rect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任意多边形 1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3638990" y="981028"/>
                </a:moveTo>
                <a:cubicBezTo>
                  <a:pt x="3692792" y="981028"/>
                  <a:pt x="3735152" y="999222"/>
                  <a:pt x="3766071" y="1035611"/>
                </a:cubicBezTo>
                <a:cubicBezTo>
                  <a:pt x="3796990" y="1071999"/>
                  <a:pt x="3812450" y="1123680"/>
                  <a:pt x="3812450" y="1190652"/>
                </a:cubicBezTo>
                <a:cubicBezTo>
                  <a:pt x="3812450" y="1255839"/>
                  <a:pt x="3796655" y="1306571"/>
                  <a:pt x="3765066" y="1342848"/>
                </a:cubicBezTo>
                <a:cubicBezTo>
                  <a:pt x="3733478" y="1379124"/>
                  <a:pt x="3690001" y="1397263"/>
                  <a:pt x="3634637" y="1397263"/>
                </a:cubicBezTo>
                <a:cubicBezTo>
                  <a:pt x="3583068" y="1397263"/>
                  <a:pt x="3541266" y="1378343"/>
                  <a:pt x="3509231" y="1340504"/>
                </a:cubicBezTo>
                <a:cubicBezTo>
                  <a:pt x="3477195" y="1302664"/>
                  <a:pt x="3461178" y="1252379"/>
                  <a:pt x="3461178" y="1189648"/>
                </a:cubicBezTo>
                <a:cubicBezTo>
                  <a:pt x="3461178" y="1127363"/>
                  <a:pt x="3477586" y="1077022"/>
                  <a:pt x="3510403" y="1038624"/>
                </a:cubicBezTo>
                <a:cubicBezTo>
                  <a:pt x="3543219" y="1000227"/>
                  <a:pt x="3586082" y="981028"/>
                  <a:pt x="3638990" y="981028"/>
                </a:cubicBezTo>
                <a:close/>
                <a:moveTo>
                  <a:pt x="5829219" y="929459"/>
                </a:moveTo>
                <a:lnTo>
                  <a:pt x="5829219" y="989065"/>
                </a:lnTo>
                <a:lnTo>
                  <a:pt x="5978233" y="989065"/>
                </a:lnTo>
                <a:lnTo>
                  <a:pt x="5978233" y="1448162"/>
                </a:lnTo>
                <a:lnTo>
                  <a:pt x="6045541" y="1448162"/>
                </a:lnTo>
                <a:lnTo>
                  <a:pt x="6045541" y="989065"/>
                </a:lnTo>
                <a:lnTo>
                  <a:pt x="6195225" y="989065"/>
                </a:lnTo>
                <a:lnTo>
                  <a:pt x="6195225" y="929459"/>
                </a:lnTo>
                <a:lnTo>
                  <a:pt x="5829219" y="929459"/>
                </a:lnTo>
                <a:close/>
                <a:moveTo>
                  <a:pt x="5319818" y="929459"/>
                </a:moveTo>
                <a:lnTo>
                  <a:pt x="5319818" y="1448162"/>
                </a:lnTo>
                <a:lnTo>
                  <a:pt x="5386121" y="1448162"/>
                </a:lnTo>
                <a:lnTo>
                  <a:pt x="5386121" y="1083496"/>
                </a:lnTo>
                <a:cubicBezTo>
                  <a:pt x="5386121" y="1046661"/>
                  <a:pt x="5385228" y="1022439"/>
                  <a:pt x="5383442" y="1010831"/>
                </a:cubicBezTo>
                <a:lnTo>
                  <a:pt x="5385451" y="1010831"/>
                </a:lnTo>
                <a:cubicBezTo>
                  <a:pt x="5389916" y="1021993"/>
                  <a:pt x="5395832" y="1033267"/>
                  <a:pt x="5403199" y="1044652"/>
                </a:cubicBezTo>
                <a:lnTo>
                  <a:pt x="5664057" y="1448162"/>
                </a:lnTo>
                <a:lnTo>
                  <a:pt x="5743420" y="1448162"/>
                </a:lnTo>
                <a:lnTo>
                  <a:pt x="5743420" y="929459"/>
                </a:lnTo>
                <a:lnTo>
                  <a:pt x="5677117" y="929459"/>
                </a:lnTo>
                <a:lnTo>
                  <a:pt x="5677117" y="1286088"/>
                </a:lnTo>
                <a:cubicBezTo>
                  <a:pt x="5677117" y="1321807"/>
                  <a:pt x="5678233" y="1347033"/>
                  <a:pt x="5680466" y="1361767"/>
                </a:cubicBezTo>
                <a:lnTo>
                  <a:pt x="5679126" y="1361767"/>
                </a:lnTo>
                <a:cubicBezTo>
                  <a:pt x="5676894" y="1356633"/>
                  <a:pt x="5669750" y="1344689"/>
                  <a:pt x="5657695" y="1325937"/>
                </a:cubicBezTo>
                <a:lnTo>
                  <a:pt x="5403869" y="929459"/>
                </a:lnTo>
                <a:lnTo>
                  <a:pt x="5319818" y="929459"/>
                </a:lnTo>
                <a:close/>
                <a:moveTo>
                  <a:pt x="4938818" y="929459"/>
                </a:moveTo>
                <a:lnTo>
                  <a:pt x="4938818" y="1448162"/>
                </a:lnTo>
                <a:lnTo>
                  <a:pt x="5217759" y="1448162"/>
                </a:lnTo>
                <a:lnTo>
                  <a:pt x="5217759" y="1388891"/>
                </a:lnTo>
                <a:lnTo>
                  <a:pt x="5005790" y="1388891"/>
                </a:lnTo>
                <a:lnTo>
                  <a:pt x="5005790" y="1214428"/>
                </a:lnTo>
                <a:lnTo>
                  <a:pt x="5191305" y="1214428"/>
                </a:lnTo>
                <a:lnTo>
                  <a:pt x="5191305" y="1155157"/>
                </a:lnTo>
                <a:lnTo>
                  <a:pt x="5005790" y="1155157"/>
                </a:lnTo>
                <a:lnTo>
                  <a:pt x="5005790" y="989065"/>
                </a:lnTo>
                <a:lnTo>
                  <a:pt x="5206039" y="989065"/>
                </a:lnTo>
                <a:lnTo>
                  <a:pt x="5206039" y="929459"/>
                </a:lnTo>
                <a:lnTo>
                  <a:pt x="4938818" y="929459"/>
                </a:lnTo>
                <a:close/>
                <a:moveTo>
                  <a:pt x="4495719" y="929459"/>
                </a:moveTo>
                <a:lnTo>
                  <a:pt x="4495719" y="989065"/>
                </a:lnTo>
                <a:lnTo>
                  <a:pt x="4644733" y="989065"/>
                </a:lnTo>
                <a:lnTo>
                  <a:pt x="4644733" y="1448162"/>
                </a:lnTo>
                <a:lnTo>
                  <a:pt x="4712041" y="1448162"/>
                </a:lnTo>
                <a:lnTo>
                  <a:pt x="4712041" y="989065"/>
                </a:lnTo>
                <a:lnTo>
                  <a:pt x="4861725" y="989065"/>
                </a:lnTo>
                <a:lnTo>
                  <a:pt x="4861725" y="929459"/>
                </a:lnTo>
                <a:lnTo>
                  <a:pt x="4495719" y="929459"/>
                </a:lnTo>
                <a:close/>
                <a:moveTo>
                  <a:pt x="3986318" y="929459"/>
                </a:moveTo>
                <a:lnTo>
                  <a:pt x="3986318" y="1448162"/>
                </a:lnTo>
                <a:lnTo>
                  <a:pt x="4052621" y="1448162"/>
                </a:lnTo>
                <a:lnTo>
                  <a:pt x="4052621" y="1083496"/>
                </a:lnTo>
                <a:cubicBezTo>
                  <a:pt x="4052621" y="1046661"/>
                  <a:pt x="4051728" y="1022439"/>
                  <a:pt x="4049942" y="1010831"/>
                </a:cubicBezTo>
                <a:lnTo>
                  <a:pt x="4051951" y="1010831"/>
                </a:lnTo>
                <a:cubicBezTo>
                  <a:pt x="4056416" y="1021993"/>
                  <a:pt x="4062332" y="1033267"/>
                  <a:pt x="4069699" y="1044652"/>
                </a:cubicBezTo>
                <a:lnTo>
                  <a:pt x="4330557" y="1448162"/>
                </a:lnTo>
                <a:lnTo>
                  <a:pt x="4409920" y="1448162"/>
                </a:lnTo>
                <a:lnTo>
                  <a:pt x="4409920" y="929459"/>
                </a:lnTo>
                <a:lnTo>
                  <a:pt x="4343617" y="929459"/>
                </a:lnTo>
                <a:lnTo>
                  <a:pt x="4343617" y="1286088"/>
                </a:lnTo>
                <a:cubicBezTo>
                  <a:pt x="4343617" y="1321807"/>
                  <a:pt x="4344733" y="1347033"/>
                  <a:pt x="4346966" y="1361767"/>
                </a:cubicBezTo>
                <a:lnTo>
                  <a:pt x="4345626" y="1361767"/>
                </a:lnTo>
                <a:cubicBezTo>
                  <a:pt x="4343394" y="1356633"/>
                  <a:pt x="4336250" y="1344689"/>
                  <a:pt x="4324195" y="1325937"/>
                </a:cubicBezTo>
                <a:lnTo>
                  <a:pt x="4070369" y="929459"/>
                </a:lnTo>
                <a:lnTo>
                  <a:pt x="3986318" y="929459"/>
                </a:lnTo>
                <a:close/>
                <a:moveTo>
                  <a:pt x="6431378" y="920753"/>
                </a:moveTo>
                <a:cubicBezTo>
                  <a:pt x="6378693" y="920753"/>
                  <a:pt x="6335049" y="933366"/>
                  <a:pt x="6300446" y="958592"/>
                </a:cubicBezTo>
                <a:cubicBezTo>
                  <a:pt x="6265844" y="983818"/>
                  <a:pt x="6248543" y="1017974"/>
                  <a:pt x="6248543" y="1061060"/>
                </a:cubicBezTo>
                <a:cubicBezTo>
                  <a:pt x="6248543" y="1089635"/>
                  <a:pt x="6256803" y="1115029"/>
                  <a:pt x="6273322" y="1137242"/>
                </a:cubicBezTo>
                <a:cubicBezTo>
                  <a:pt x="6289842" y="1159454"/>
                  <a:pt x="6324110" y="1183509"/>
                  <a:pt x="6376125" y="1209405"/>
                </a:cubicBezTo>
                <a:cubicBezTo>
                  <a:pt x="6413630" y="1227934"/>
                  <a:pt x="6439191" y="1241663"/>
                  <a:pt x="6452809" y="1250593"/>
                </a:cubicBezTo>
                <a:cubicBezTo>
                  <a:pt x="6466427" y="1259523"/>
                  <a:pt x="6477143" y="1269792"/>
                  <a:pt x="6484956" y="1281400"/>
                </a:cubicBezTo>
                <a:cubicBezTo>
                  <a:pt x="6492769" y="1293009"/>
                  <a:pt x="6496676" y="1306069"/>
                  <a:pt x="6496676" y="1320579"/>
                </a:cubicBezTo>
                <a:cubicBezTo>
                  <a:pt x="6496676" y="1372371"/>
                  <a:pt x="6460288" y="1398268"/>
                  <a:pt x="6387511" y="1398268"/>
                </a:cubicBezTo>
                <a:cubicBezTo>
                  <a:pt x="6363624" y="1398268"/>
                  <a:pt x="6338398" y="1393803"/>
                  <a:pt x="6311832" y="1384873"/>
                </a:cubicBezTo>
                <a:cubicBezTo>
                  <a:pt x="6285266" y="1375943"/>
                  <a:pt x="6264058" y="1364558"/>
                  <a:pt x="6248208" y="1350717"/>
                </a:cubicBezTo>
                <a:lnTo>
                  <a:pt x="6248208" y="1427066"/>
                </a:lnTo>
                <a:cubicBezTo>
                  <a:pt x="6260709" y="1435549"/>
                  <a:pt x="6280634" y="1442637"/>
                  <a:pt x="6307981" y="1448330"/>
                </a:cubicBezTo>
                <a:cubicBezTo>
                  <a:pt x="6335328" y="1454022"/>
                  <a:pt x="6359271" y="1456869"/>
                  <a:pt x="6379809" y="1456869"/>
                </a:cubicBezTo>
                <a:cubicBezTo>
                  <a:pt x="6438522" y="1456869"/>
                  <a:pt x="6484398" y="1444702"/>
                  <a:pt x="6517438" y="1420369"/>
                </a:cubicBezTo>
                <a:cubicBezTo>
                  <a:pt x="6550478" y="1396035"/>
                  <a:pt x="6566998" y="1361098"/>
                  <a:pt x="6566998" y="1315556"/>
                </a:cubicBezTo>
                <a:cubicBezTo>
                  <a:pt x="6566998" y="1285195"/>
                  <a:pt x="6556840" y="1257848"/>
                  <a:pt x="6536525" y="1233515"/>
                </a:cubicBezTo>
                <a:cubicBezTo>
                  <a:pt x="6516210" y="1209181"/>
                  <a:pt x="6480603" y="1184848"/>
                  <a:pt x="6429704" y="1160515"/>
                </a:cubicBezTo>
                <a:cubicBezTo>
                  <a:pt x="6383492" y="1137744"/>
                  <a:pt x="6353466" y="1119773"/>
                  <a:pt x="6339625" y="1106602"/>
                </a:cubicBezTo>
                <a:cubicBezTo>
                  <a:pt x="6325784" y="1093430"/>
                  <a:pt x="6318864" y="1076352"/>
                  <a:pt x="6318864" y="1055368"/>
                </a:cubicBezTo>
                <a:cubicBezTo>
                  <a:pt x="6318864" y="1031704"/>
                  <a:pt x="6328854" y="1013231"/>
                  <a:pt x="6348834" y="999948"/>
                </a:cubicBezTo>
                <a:cubicBezTo>
                  <a:pt x="6368814" y="986665"/>
                  <a:pt x="6394655" y="980023"/>
                  <a:pt x="6426355" y="980023"/>
                </a:cubicBezTo>
                <a:cubicBezTo>
                  <a:pt x="6474129" y="980023"/>
                  <a:pt x="6513643" y="990851"/>
                  <a:pt x="6544897" y="1012505"/>
                </a:cubicBezTo>
                <a:lnTo>
                  <a:pt x="6544897" y="939505"/>
                </a:lnTo>
                <a:cubicBezTo>
                  <a:pt x="6520786" y="927003"/>
                  <a:pt x="6482947" y="920753"/>
                  <a:pt x="6431378" y="920753"/>
                </a:cubicBezTo>
                <a:close/>
                <a:moveTo>
                  <a:pt x="3643009" y="920753"/>
                </a:moveTo>
                <a:cubicBezTo>
                  <a:pt x="3565544" y="920753"/>
                  <a:pt x="3504152" y="945532"/>
                  <a:pt x="3458834" y="995092"/>
                </a:cubicBezTo>
                <a:cubicBezTo>
                  <a:pt x="3413516" y="1044652"/>
                  <a:pt x="3390857" y="1111290"/>
                  <a:pt x="3390857" y="1195006"/>
                </a:cubicBezTo>
                <a:cubicBezTo>
                  <a:pt x="3390857" y="1272694"/>
                  <a:pt x="3413069" y="1335760"/>
                  <a:pt x="3457495" y="1384203"/>
                </a:cubicBezTo>
                <a:cubicBezTo>
                  <a:pt x="3501920" y="1432647"/>
                  <a:pt x="3560967" y="1456869"/>
                  <a:pt x="3634637" y="1456869"/>
                </a:cubicBezTo>
                <a:cubicBezTo>
                  <a:pt x="3710093" y="1456869"/>
                  <a:pt x="3770368" y="1432200"/>
                  <a:pt x="3815463" y="1382864"/>
                </a:cubicBezTo>
                <a:cubicBezTo>
                  <a:pt x="3860558" y="1333527"/>
                  <a:pt x="3883106" y="1266778"/>
                  <a:pt x="3883106" y="1182616"/>
                </a:cubicBezTo>
                <a:cubicBezTo>
                  <a:pt x="3883106" y="1104927"/>
                  <a:pt x="3861116" y="1041861"/>
                  <a:pt x="3817138" y="993418"/>
                </a:cubicBezTo>
                <a:cubicBezTo>
                  <a:pt x="3773159" y="944974"/>
                  <a:pt x="3715116" y="920753"/>
                  <a:pt x="3643009" y="920753"/>
                </a:cubicBezTo>
                <a:close/>
                <a:moveTo>
                  <a:pt x="3062025" y="473919"/>
                </a:moveTo>
                <a:cubicBezTo>
                  <a:pt x="2919755" y="473919"/>
                  <a:pt x="2802434" y="520930"/>
                  <a:pt x="2710061" y="614953"/>
                </a:cubicBezTo>
                <a:cubicBezTo>
                  <a:pt x="2617688" y="708975"/>
                  <a:pt x="2571502" y="833100"/>
                  <a:pt x="2571502" y="987330"/>
                </a:cubicBezTo>
                <a:cubicBezTo>
                  <a:pt x="2571502" y="1130837"/>
                  <a:pt x="2612534" y="1246200"/>
                  <a:pt x="2694597" y="1333418"/>
                </a:cubicBezTo>
                <a:cubicBezTo>
                  <a:pt x="2776660" y="1420636"/>
                  <a:pt x="2886353" y="1464245"/>
                  <a:pt x="3023674" y="1464245"/>
                </a:cubicBezTo>
                <a:cubicBezTo>
                  <a:pt x="3130068" y="1464245"/>
                  <a:pt x="3218523" y="1445688"/>
                  <a:pt x="3289040" y="1408574"/>
                </a:cubicBezTo>
                <a:lnTo>
                  <a:pt x="3289040" y="1289809"/>
                </a:lnTo>
                <a:cubicBezTo>
                  <a:pt x="3218935" y="1332696"/>
                  <a:pt x="3136460" y="1354140"/>
                  <a:pt x="3041613" y="1354140"/>
                </a:cubicBezTo>
                <a:cubicBezTo>
                  <a:pt x="2940168" y="1354140"/>
                  <a:pt x="2858105" y="1320428"/>
                  <a:pt x="2795423" y="1253004"/>
                </a:cubicBezTo>
                <a:cubicBezTo>
                  <a:pt x="2732742" y="1185581"/>
                  <a:pt x="2701401" y="1094548"/>
                  <a:pt x="2701401" y="979907"/>
                </a:cubicBezTo>
                <a:cubicBezTo>
                  <a:pt x="2701401" y="859080"/>
                  <a:pt x="2735010" y="763099"/>
                  <a:pt x="2802228" y="691964"/>
                </a:cubicBezTo>
                <a:cubicBezTo>
                  <a:pt x="2869445" y="620829"/>
                  <a:pt x="2956457" y="585261"/>
                  <a:pt x="3063263" y="585261"/>
                </a:cubicBezTo>
                <a:cubicBezTo>
                  <a:pt x="3145326" y="585261"/>
                  <a:pt x="3220585" y="604231"/>
                  <a:pt x="3289040" y="642170"/>
                </a:cubicBezTo>
                <a:lnTo>
                  <a:pt x="3289040" y="512889"/>
                </a:lnTo>
                <a:cubicBezTo>
                  <a:pt x="3229245" y="486909"/>
                  <a:pt x="3153573" y="473919"/>
                  <a:pt x="3062025" y="473919"/>
                </a:cubicBezTo>
                <a:close/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KSO_Shape"/>
          <p:cNvSpPr/>
          <p:nvPr/>
        </p:nvSpPr>
        <p:spPr>
          <a:xfrm>
            <a:off x="2517840" y="2463840"/>
            <a:ext cx="655560" cy="603360"/>
          </a:xfrm>
          <a:custGeom>
            <a:avLst/>
            <a:gdLst>
              <a:gd name="textAreaLeft" fmla="*/ 0 w 655560"/>
              <a:gd name="textAreaRight" fmla="*/ 655920 w 65556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3829" h="4675">
                <a:moveTo>
                  <a:pt x="127" y="4675"/>
                </a:moveTo>
                <a:lnTo>
                  <a:pt x="0" y="4548"/>
                </a:lnTo>
                <a:lnTo>
                  <a:pt x="2210" y="2337"/>
                </a:lnTo>
                <a:lnTo>
                  <a:pt x="0" y="127"/>
                </a:lnTo>
                <a:lnTo>
                  <a:pt x="127" y="0"/>
                </a:lnTo>
                <a:lnTo>
                  <a:pt x="2464" y="2337"/>
                </a:lnTo>
                <a:lnTo>
                  <a:pt x="127" y="4675"/>
                </a:lnTo>
                <a:close/>
                <a:moveTo>
                  <a:pt x="1491" y="4675"/>
                </a:moveTo>
                <a:lnTo>
                  <a:pt x="1363" y="4548"/>
                </a:lnTo>
                <a:lnTo>
                  <a:pt x="3574" y="2337"/>
                </a:lnTo>
                <a:lnTo>
                  <a:pt x="1363" y="127"/>
                </a:lnTo>
                <a:lnTo>
                  <a:pt x="1491" y="0"/>
                </a:lnTo>
                <a:lnTo>
                  <a:pt x="3829" y="2337"/>
                </a:lnTo>
                <a:lnTo>
                  <a:pt x="1491" y="4675"/>
                </a:lnTo>
                <a:close/>
              </a:path>
            </a:pathLst>
          </a:custGeom>
          <a:solidFill>
            <a:srgbClr val="ff5f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KSO_Shape"/>
          <p:cNvSpPr/>
          <p:nvPr/>
        </p:nvSpPr>
        <p:spPr>
          <a:xfrm>
            <a:off x="2517840" y="3422520"/>
            <a:ext cx="655560" cy="603360"/>
          </a:xfrm>
          <a:custGeom>
            <a:avLst/>
            <a:gdLst>
              <a:gd name="textAreaLeft" fmla="*/ 0 w 655560"/>
              <a:gd name="textAreaRight" fmla="*/ 655920 w 65556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3829" h="4675">
                <a:moveTo>
                  <a:pt x="127" y="4675"/>
                </a:moveTo>
                <a:lnTo>
                  <a:pt x="0" y="4548"/>
                </a:lnTo>
                <a:lnTo>
                  <a:pt x="2210" y="2337"/>
                </a:lnTo>
                <a:lnTo>
                  <a:pt x="0" y="127"/>
                </a:lnTo>
                <a:lnTo>
                  <a:pt x="127" y="0"/>
                </a:lnTo>
                <a:lnTo>
                  <a:pt x="2464" y="2337"/>
                </a:lnTo>
                <a:lnTo>
                  <a:pt x="127" y="4675"/>
                </a:lnTo>
                <a:close/>
                <a:moveTo>
                  <a:pt x="1491" y="4675"/>
                </a:moveTo>
                <a:lnTo>
                  <a:pt x="1363" y="4548"/>
                </a:lnTo>
                <a:lnTo>
                  <a:pt x="3574" y="2337"/>
                </a:lnTo>
                <a:lnTo>
                  <a:pt x="1363" y="127"/>
                </a:lnTo>
                <a:lnTo>
                  <a:pt x="1491" y="0"/>
                </a:lnTo>
                <a:lnTo>
                  <a:pt x="3829" y="2337"/>
                </a:lnTo>
                <a:lnTo>
                  <a:pt x="1491" y="4675"/>
                </a:lnTo>
                <a:close/>
              </a:path>
            </a:pathLst>
          </a:custGeom>
          <a:solidFill>
            <a:srgbClr val="ff5f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KSO_Shape"/>
          <p:cNvSpPr/>
          <p:nvPr/>
        </p:nvSpPr>
        <p:spPr>
          <a:xfrm>
            <a:off x="2517840" y="4379760"/>
            <a:ext cx="655560" cy="603360"/>
          </a:xfrm>
          <a:custGeom>
            <a:avLst/>
            <a:gdLst>
              <a:gd name="textAreaLeft" fmla="*/ 0 w 655560"/>
              <a:gd name="textAreaRight" fmla="*/ 655920 w 65556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3829" h="4675">
                <a:moveTo>
                  <a:pt x="127" y="4675"/>
                </a:moveTo>
                <a:lnTo>
                  <a:pt x="0" y="4548"/>
                </a:lnTo>
                <a:lnTo>
                  <a:pt x="2210" y="2337"/>
                </a:lnTo>
                <a:lnTo>
                  <a:pt x="0" y="127"/>
                </a:lnTo>
                <a:lnTo>
                  <a:pt x="127" y="0"/>
                </a:lnTo>
                <a:lnTo>
                  <a:pt x="2464" y="2337"/>
                </a:lnTo>
                <a:lnTo>
                  <a:pt x="127" y="4675"/>
                </a:lnTo>
                <a:close/>
                <a:moveTo>
                  <a:pt x="1491" y="4675"/>
                </a:moveTo>
                <a:lnTo>
                  <a:pt x="1363" y="4548"/>
                </a:lnTo>
                <a:lnTo>
                  <a:pt x="3574" y="2337"/>
                </a:lnTo>
                <a:lnTo>
                  <a:pt x="1363" y="127"/>
                </a:lnTo>
                <a:lnTo>
                  <a:pt x="1491" y="0"/>
                </a:lnTo>
                <a:lnTo>
                  <a:pt x="3829" y="2337"/>
                </a:lnTo>
                <a:lnTo>
                  <a:pt x="1491" y="4675"/>
                </a:lnTo>
                <a:close/>
              </a:path>
            </a:pathLst>
          </a:custGeom>
          <a:solidFill>
            <a:srgbClr val="ff5f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13"/>
          <p:cNvSpPr/>
          <p:nvPr/>
        </p:nvSpPr>
        <p:spPr>
          <a:xfrm>
            <a:off x="3793680" y="2381400"/>
            <a:ext cx="25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94e"/>
                </a:solidFill>
                <a:latin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14"/>
          <p:cNvSpPr/>
          <p:nvPr/>
        </p:nvSpPr>
        <p:spPr>
          <a:xfrm>
            <a:off x="3808080" y="3441600"/>
            <a:ext cx="25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94e"/>
                </a:solidFill>
                <a:latin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15"/>
          <p:cNvSpPr/>
          <p:nvPr/>
        </p:nvSpPr>
        <p:spPr>
          <a:xfrm>
            <a:off x="3793680" y="4379760"/>
            <a:ext cx="251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94e"/>
                </a:solidFill>
                <a:latin typeface="Calibri"/>
              </a:rPr>
              <a:t>Add Your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9"/>
          <p:cNvGrpSpPr/>
          <p:nvPr/>
        </p:nvGrpSpPr>
        <p:grpSpPr>
          <a:xfrm>
            <a:off x="0" y="15840"/>
            <a:ext cx="4915080" cy="949320"/>
            <a:chOff x="0" y="15840"/>
            <a:chExt cx="4915080" cy="949320"/>
          </a:xfrm>
        </p:grpSpPr>
        <p:sp>
          <p:nvSpPr>
            <p:cNvPr id="526" name="矩形 2"/>
            <p:cNvSpPr/>
            <p:nvPr/>
          </p:nvSpPr>
          <p:spPr>
            <a:xfrm>
              <a:off x="0" y="15840"/>
              <a:ext cx="4416480" cy="949320"/>
            </a:xfrm>
            <a:prstGeom prst="rect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直角三角形 3"/>
            <p:cNvSpPr/>
            <p:nvPr/>
          </p:nvSpPr>
          <p:spPr>
            <a:xfrm>
              <a:off x="4416480" y="494280"/>
              <a:ext cx="498600" cy="470880"/>
            </a:xfrm>
            <a:prstGeom prst="rtTriangle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直角三角形 4"/>
            <p:cNvSpPr/>
            <p:nvPr/>
          </p:nvSpPr>
          <p:spPr>
            <a:xfrm flipV="1">
              <a:off x="4416480" y="17280"/>
              <a:ext cx="498600" cy="470880"/>
            </a:xfrm>
            <a:prstGeom prst="rtTriangle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文本框 7"/>
          <p:cNvSpPr/>
          <p:nvPr/>
        </p:nvSpPr>
        <p:spPr>
          <a:xfrm>
            <a:off x="1284120" y="228600"/>
            <a:ext cx="27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组合 23"/>
          <p:cNvGrpSpPr/>
          <p:nvPr/>
        </p:nvGrpSpPr>
        <p:grpSpPr>
          <a:xfrm>
            <a:off x="755640" y="1158840"/>
            <a:ext cx="68400" cy="5411880"/>
            <a:chOff x="755640" y="1158840"/>
            <a:chExt cx="68400" cy="5411880"/>
          </a:xfrm>
        </p:grpSpPr>
        <p:sp>
          <p:nvSpPr>
            <p:cNvPr id="531" name="直接连接符 21"/>
            <p:cNvSpPr/>
            <p:nvPr/>
          </p:nvSpPr>
          <p:spPr>
            <a:xfrm>
              <a:off x="824040" y="1158840"/>
              <a:ext cx="0" cy="5411880"/>
            </a:xfrm>
            <a:prstGeom prst="line">
              <a:avLst/>
            </a:prstGeom>
            <a:ln w="6480">
              <a:solidFill>
                <a:srgbClr val="4249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直接连接符 22"/>
            <p:cNvSpPr/>
            <p:nvPr/>
          </p:nvSpPr>
          <p:spPr>
            <a:xfrm>
              <a:off x="755640" y="1158840"/>
              <a:ext cx="0" cy="5411880"/>
            </a:xfrm>
            <a:prstGeom prst="line">
              <a:avLst/>
            </a:prstGeom>
            <a:ln w="6480">
              <a:solidFill>
                <a:srgbClr val="4249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椭圆 24"/>
          <p:cNvSpPr/>
          <p:nvPr/>
        </p:nvSpPr>
        <p:spPr>
          <a:xfrm>
            <a:off x="704880" y="1870200"/>
            <a:ext cx="182520" cy="182520"/>
          </a:xfrm>
          <a:prstGeom prst="ellipse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等腰三角形 35"/>
          <p:cNvSpPr/>
          <p:nvPr/>
        </p:nvSpPr>
        <p:spPr>
          <a:xfrm rot="16200000">
            <a:off x="913680" y="1850400"/>
            <a:ext cx="257040" cy="2203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圆角矩形 36"/>
          <p:cNvSpPr/>
          <p:nvPr/>
        </p:nvSpPr>
        <p:spPr>
          <a:xfrm>
            <a:off x="1155600" y="1066680"/>
            <a:ext cx="6921720" cy="17146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椭圆 38"/>
          <p:cNvSpPr/>
          <p:nvPr/>
        </p:nvSpPr>
        <p:spPr>
          <a:xfrm>
            <a:off x="704880" y="3763800"/>
            <a:ext cx="182520" cy="184320"/>
          </a:xfrm>
          <a:prstGeom prst="ellipse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等腰三角形 39"/>
          <p:cNvSpPr/>
          <p:nvPr/>
        </p:nvSpPr>
        <p:spPr>
          <a:xfrm rot="16200000">
            <a:off x="913680" y="3745800"/>
            <a:ext cx="257040" cy="2203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圆角矩形 40"/>
          <p:cNvSpPr/>
          <p:nvPr/>
        </p:nvSpPr>
        <p:spPr>
          <a:xfrm>
            <a:off x="1155600" y="2962440"/>
            <a:ext cx="6921720" cy="1714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椭圆 41"/>
          <p:cNvSpPr/>
          <p:nvPr/>
        </p:nvSpPr>
        <p:spPr>
          <a:xfrm>
            <a:off x="704880" y="5659560"/>
            <a:ext cx="182520" cy="182520"/>
          </a:xfrm>
          <a:prstGeom prst="ellipse">
            <a:avLst/>
          </a:prstGeom>
          <a:solidFill>
            <a:srgbClr val="424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等腰三角形 42"/>
          <p:cNvSpPr/>
          <p:nvPr/>
        </p:nvSpPr>
        <p:spPr>
          <a:xfrm rot="16200000">
            <a:off x="913320" y="5640840"/>
            <a:ext cx="257400" cy="2203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圆角矩形 43"/>
          <p:cNvSpPr/>
          <p:nvPr/>
        </p:nvSpPr>
        <p:spPr>
          <a:xfrm>
            <a:off x="1155600" y="4857840"/>
            <a:ext cx="6921720" cy="17128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44"/>
          <p:cNvSpPr/>
          <p:nvPr/>
        </p:nvSpPr>
        <p:spPr>
          <a:xfrm>
            <a:off x="1114560" y="1278000"/>
            <a:ext cx="2689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45"/>
          <p:cNvSpPr/>
          <p:nvPr/>
        </p:nvSpPr>
        <p:spPr>
          <a:xfrm>
            <a:off x="1114560" y="3171960"/>
            <a:ext cx="2689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46"/>
          <p:cNvSpPr/>
          <p:nvPr/>
        </p:nvSpPr>
        <p:spPr>
          <a:xfrm>
            <a:off x="1114560" y="5067360"/>
            <a:ext cx="2689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47"/>
          <p:cNvSpPr/>
          <p:nvPr/>
        </p:nvSpPr>
        <p:spPr>
          <a:xfrm>
            <a:off x="298800" y="1679400"/>
            <a:ext cx="3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f60"/>
                </a:solidFill>
                <a:latin typeface="Calibri"/>
              </a:rPr>
              <a:t>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48"/>
          <p:cNvSpPr/>
          <p:nvPr/>
        </p:nvSpPr>
        <p:spPr>
          <a:xfrm>
            <a:off x="249840" y="3579840"/>
            <a:ext cx="4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f60"/>
                </a:solidFill>
                <a:latin typeface="Calibri"/>
              </a:rPr>
              <a:t>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49"/>
          <p:cNvSpPr/>
          <p:nvPr/>
        </p:nvSpPr>
        <p:spPr>
          <a:xfrm>
            <a:off x="214560" y="5427720"/>
            <a:ext cx="4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5f60"/>
                </a:solidFill>
                <a:latin typeface="Calibri"/>
              </a:rPr>
              <a:t>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直接连接符 18"/>
          <p:cNvSpPr/>
          <p:nvPr/>
        </p:nvSpPr>
        <p:spPr>
          <a:xfrm flipH="1">
            <a:off x="622080" y="4468680"/>
            <a:ext cx="820440" cy="82080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直接连接符 16"/>
          <p:cNvSpPr/>
          <p:nvPr/>
        </p:nvSpPr>
        <p:spPr>
          <a:xfrm>
            <a:off x="622440" y="3138480"/>
            <a:ext cx="820440" cy="82080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直接连接符 14"/>
          <p:cNvSpPr/>
          <p:nvPr/>
        </p:nvSpPr>
        <p:spPr>
          <a:xfrm flipV="1">
            <a:off x="671400" y="1808280"/>
            <a:ext cx="820800" cy="82080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9"/>
          <p:cNvGrpSpPr/>
          <p:nvPr/>
        </p:nvGrpSpPr>
        <p:grpSpPr>
          <a:xfrm>
            <a:off x="0" y="15840"/>
            <a:ext cx="4915080" cy="949320"/>
            <a:chOff x="0" y="15840"/>
            <a:chExt cx="4915080" cy="949320"/>
          </a:xfrm>
        </p:grpSpPr>
        <p:sp>
          <p:nvSpPr>
            <p:cNvPr id="552" name="矩形 2"/>
            <p:cNvSpPr/>
            <p:nvPr/>
          </p:nvSpPr>
          <p:spPr>
            <a:xfrm>
              <a:off x="0" y="15840"/>
              <a:ext cx="4416480" cy="949320"/>
            </a:xfrm>
            <a:prstGeom prst="rect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直角三角形 3"/>
            <p:cNvSpPr/>
            <p:nvPr/>
          </p:nvSpPr>
          <p:spPr>
            <a:xfrm>
              <a:off x="4416480" y="494280"/>
              <a:ext cx="498600" cy="470880"/>
            </a:xfrm>
            <a:prstGeom prst="rtTriangle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直角三角形 4"/>
            <p:cNvSpPr/>
            <p:nvPr/>
          </p:nvSpPr>
          <p:spPr>
            <a:xfrm flipV="1">
              <a:off x="4416480" y="17280"/>
              <a:ext cx="498600" cy="470880"/>
            </a:xfrm>
            <a:prstGeom prst="rtTriangle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7"/>
          <p:cNvSpPr/>
          <p:nvPr/>
        </p:nvSpPr>
        <p:spPr>
          <a:xfrm>
            <a:off x="1284120" y="228600"/>
            <a:ext cx="27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椭圆 1"/>
          <p:cNvSpPr/>
          <p:nvPr/>
        </p:nvSpPr>
        <p:spPr>
          <a:xfrm>
            <a:off x="501480" y="1638360"/>
            <a:ext cx="1160640" cy="1160280"/>
          </a:xfrm>
          <a:prstGeom prst="ellipse">
            <a:avLst/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5f60"/>
                </a:solidFill>
                <a:latin typeface="Calibri"/>
              </a:rPr>
              <a:t>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直接连接符 11"/>
          <p:cNvSpPr/>
          <p:nvPr/>
        </p:nvSpPr>
        <p:spPr>
          <a:xfrm>
            <a:off x="1081080" y="2798640"/>
            <a:ext cx="7085160" cy="180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椭圆 30"/>
          <p:cNvSpPr/>
          <p:nvPr/>
        </p:nvSpPr>
        <p:spPr>
          <a:xfrm>
            <a:off x="450720" y="2968560"/>
            <a:ext cx="1162080" cy="1160640"/>
          </a:xfrm>
          <a:prstGeom prst="ellipse">
            <a:avLst/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5f60"/>
                </a:solidFill>
                <a:latin typeface="Calibri"/>
              </a:rPr>
              <a:t>B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直接连接符 31"/>
          <p:cNvSpPr/>
          <p:nvPr/>
        </p:nvSpPr>
        <p:spPr>
          <a:xfrm>
            <a:off x="1031760" y="4129200"/>
            <a:ext cx="7134480" cy="144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椭圆 32"/>
          <p:cNvSpPr/>
          <p:nvPr/>
        </p:nvSpPr>
        <p:spPr>
          <a:xfrm>
            <a:off x="450720" y="4299120"/>
            <a:ext cx="1162080" cy="1160280"/>
          </a:xfrm>
          <a:prstGeom prst="ellipse">
            <a:avLst/>
          </a:prstGeom>
          <a:noFill/>
          <a:ln w="1260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5f60"/>
                </a:solidFill>
                <a:latin typeface="Calibri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直接连接符 33"/>
          <p:cNvSpPr/>
          <p:nvPr/>
        </p:nvSpPr>
        <p:spPr>
          <a:xfrm>
            <a:off x="1031760" y="5459400"/>
            <a:ext cx="7134480" cy="144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7"/>
          <p:cNvSpPr/>
          <p:nvPr/>
        </p:nvSpPr>
        <p:spPr>
          <a:xfrm>
            <a:off x="1568520" y="1571760"/>
            <a:ext cx="2689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47"/>
          <p:cNvSpPr/>
          <p:nvPr/>
        </p:nvSpPr>
        <p:spPr>
          <a:xfrm>
            <a:off x="1568520" y="2911320"/>
            <a:ext cx="2689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48"/>
          <p:cNvSpPr/>
          <p:nvPr/>
        </p:nvSpPr>
        <p:spPr>
          <a:xfrm>
            <a:off x="1568520" y="4203720"/>
            <a:ext cx="2689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文本框 48"/>
          <p:cNvSpPr/>
          <p:nvPr/>
        </p:nvSpPr>
        <p:spPr>
          <a:xfrm>
            <a:off x="5546880" y="2014560"/>
            <a:ext cx="26895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47"/>
          <p:cNvSpPr/>
          <p:nvPr/>
        </p:nvSpPr>
        <p:spPr>
          <a:xfrm>
            <a:off x="2987640" y="2014560"/>
            <a:ext cx="26895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37"/>
          <p:cNvSpPr/>
          <p:nvPr/>
        </p:nvSpPr>
        <p:spPr>
          <a:xfrm>
            <a:off x="492120" y="2014560"/>
            <a:ext cx="26895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f60"/>
                </a:solidFill>
                <a:latin typeface="微软雅黑"/>
                <a:ea typeface="微软雅黑"/>
              </a:rPr>
              <a:t>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4249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组合 9"/>
          <p:cNvGrpSpPr/>
          <p:nvPr/>
        </p:nvGrpSpPr>
        <p:grpSpPr>
          <a:xfrm>
            <a:off x="0" y="15840"/>
            <a:ext cx="4915080" cy="949320"/>
            <a:chOff x="0" y="15840"/>
            <a:chExt cx="4915080" cy="949320"/>
          </a:xfrm>
        </p:grpSpPr>
        <p:sp>
          <p:nvSpPr>
            <p:cNvPr id="569" name="矩形 2"/>
            <p:cNvSpPr/>
            <p:nvPr/>
          </p:nvSpPr>
          <p:spPr>
            <a:xfrm>
              <a:off x="0" y="15840"/>
              <a:ext cx="4416480" cy="949320"/>
            </a:xfrm>
            <a:prstGeom prst="rect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直角三角形 3"/>
            <p:cNvSpPr/>
            <p:nvPr/>
          </p:nvSpPr>
          <p:spPr>
            <a:xfrm>
              <a:off x="4416480" y="494280"/>
              <a:ext cx="498600" cy="470880"/>
            </a:xfrm>
            <a:prstGeom prst="rtTriangle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直角三角形 4"/>
            <p:cNvSpPr/>
            <p:nvPr/>
          </p:nvSpPr>
          <p:spPr>
            <a:xfrm flipV="1">
              <a:off x="4416480" y="17280"/>
              <a:ext cx="498600" cy="470880"/>
            </a:xfrm>
            <a:prstGeom prst="rtTriangle">
              <a:avLst/>
            </a:prstGeom>
            <a:solidFill>
              <a:srgbClr val="ff5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"/>
          <p:cNvSpPr/>
          <p:nvPr/>
        </p:nvSpPr>
        <p:spPr>
          <a:xfrm>
            <a:off x="1284120" y="228600"/>
            <a:ext cx="27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94e"/>
                </a:solidFill>
                <a:latin typeface="微软雅黑"/>
                <a:ea typeface="微软雅黑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12"/>
          <p:cNvSpPr/>
          <p:nvPr/>
        </p:nvSpPr>
        <p:spPr>
          <a:xfrm>
            <a:off x="1306440" y="2732040"/>
            <a:ext cx="112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2494e"/>
                </a:solidFill>
                <a:latin typeface="微软雅黑"/>
                <a:ea typeface="微软雅黑"/>
              </a:rPr>
              <a:t>o</a:t>
            </a:r>
            <a:r>
              <a:rPr b="0" lang="en-US" sz="2200" spc="-1" strike="noStrike">
                <a:solidFill>
                  <a:srgbClr val="42494e"/>
                </a:solidFill>
                <a:latin typeface="微软雅黑"/>
                <a:ea typeface="微软雅黑"/>
              </a:rPr>
              <a:t>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29"/>
          <p:cNvSpPr/>
          <p:nvPr/>
        </p:nvSpPr>
        <p:spPr>
          <a:xfrm>
            <a:off x="3810600" y="2732040"/>
            <a:ext cx="9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2494e"/>
                </a:solidFill>
                <a:latin typeface="微软雅黑"/>
                <a:ea typeface="微软雅黑"/>
              </a:rPr>
              <a:t>t</a:t>
            </a:r>
            <a:r>
              <a:rPr b="0" lang="en-US" sz="2200" spc="-1" strike="noStrike">
                <a:solidFill>
                  <a:srgbClr val="42494e"/>
                </a:solidFill>
                <a:latin typeface="微软雅黑"/>
                <a:ea typeface="微软雅黑"/>
              </a:rPr>
              <a:t>w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30"/>
          <p:cNvSpPr/>
          <p:nvPr/>
        </p:nvSpPr>
        <p:spPr>
          <a:xfrm>
            <a:off x="6415560" y="2732040"/>
            <a:ext cx="114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2494e"/>
                </a:solidFill>
                <a:latin typeface="微软雅黑"/>
                <a:ea typeface="微软雅黑"/>
              </a:rPr>
              <a:t>t</a:t>
            </a:r>
            <a:r>
              <a:rPr b="0" lang="en-US" sz="2200" spc="-1" strike="noStrike">
                <a:solidFill>
                  <a:srgbClr val="42494e"/>
                </a:solidFill>
                <a:latin typeface="微软雅黑"/>
                <a:ea typeface="微软雅黑"/>
              </a:rPr>
              <a:t>h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15"/>
          <p:cNvSpPr/>
          <p:nvPr/>
        </p:nvSpPr>
        <p:spPr>
          <a:xfrm>
            <a:off x="2990880" y="1442880"/>
            <a:ext cx="1440" cy="417852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直接连接符 34"/>
          <p:cNvSpPr/>
          <p:nvPr/>
        </p:nvSpPr>
        <p:spPr>
          <a:xfrm>
            <a:off x="5549760" y="1531800"/>
            <a:ext cx="0" cy="4178520"/>
          </a:xfrm>
          <a:prstGeom prst="line">
            <a:avLst/>
          </a:prstGeom>
          <a:ln w="6480">
            <a:solidFill>
              <a:srgbClr val="4249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423720" y="63388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任意多边形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7265610" y="3634171"/>
                </a:moveTo>
                <a:cubicBezTo>
                  <a:pt x="7248027" y="3634171"/>
                  <a:pt x="7232932" y="3640225"/>
                  <a:pt x="7220325" y="3652335"/>
                </a:cubicBezTo>
                <a:cubicBezTo>
                  <a:pt x="7207718" y="3664444"/>
                  <a:pt x="7201414" y="3679456"/>
                  <a:pt x="7201414" y="3697372"/>
                </a:cubicBezTo>
                <a:cubicBezTo>
                  <a:pt x="7201414" y="3713960"/>
                  <a:pt x="7207552" y="3728474"/>
                  <a:pt x="7219827" y="3740915"/>
                </a:cubicBezTo>
                <a:cubicBezTo>
                  <a:pt x="7232102" y="3753357"/>
                  <a:pt x="7248193" y="3759577"/>
                  <a:pt x="7268098" y="3759577"/>
                </a:cubicBezTo>
                <a:cubicBezTo>
                  <a:pt x="7284355" y="3759577"/>
                  <a:pt x="7298621" y="3753357"/>
                  <a:pt x="7310896" y="3740915"/>
                </a:cubicBezTo>
                <a:cubicBezTo>
                  <a:pt x="7323171" y="3728474"/>
                  <a:pt x="7329309" y="3713960"/>
                  <a:pt x="7329309" y="3697372"/>
                </a:cubicBezTo>
                <a:cubicBezTo>
                  <a:pt x="7329309" y="3680452"/>
                  <a:pt x="7323005" y="3665688"/>
                  <a:pt x="7310398" y="3653081"/>
                </a:cubicBezTo>
                <a:cubicBezTo>
                  <a:pt x="7297791" y="3640474"/>
                  <a:pt x="7282862" y="3634171"/>
                  <a:pt x="7265610" y="3634171"/>
                </a:cubicBezTo>
                <a:close/>
                <a:moveTo>
                  <a:pt x="3259883" y="3473432"/>
                </a:moveTo>
                <a:lnTo>
                  <a:pt x="3259883" y="3526182"/>
                </a:lnTo>
                <a:cubicBezTo>
                  <a:pt x="3259883" y="3571302"/>
                  <a:pt x="3246115" y="3608791"/>
                  <a:pt x="3218579" y="3638650"/>
                </a:cubicBezTo>
                <a:cubicBezTo>
                  <a:pt x="3191042" y="3668508"/>
                  <a:pt x="3156041" y="3683438"/>
                  <a:pt x="3113576" y="3683438"/>
                </a:cubicBezTo>
                <a:cubicBezTo>
                  <a:pt x="3083053" y="3683438"/>
                  <a:pt x="3058503" y="3675143"/>
                  <a:pt x="3039924" y="3658555"/>
                </a:cubicBezTo>
                <a:cubicBezTo>
                  <a:pt x="3021346" y="3641967"/>
                  <a:pt x="3012056" y="3620568"/>
                  <a:pt x="3012056" y="3594359"/>
                </a:cubicBezTo>
                <a:cubicBezTo>
                  <a:pt x="3012056" y="3564501"/>
                  <a:pt x="3020599" y="3541277"/>
                  <a:pt x="3037685" y="3524689"/>
                </a:cubicBezTo>
                <a:cubicBezTo>
                  <a:pt x="3054771" y="3508101"/>
                  <a:pt x="3085873" y="3496821"/>
                  <a:pt x="3130993" y="3490849"/>
                </a:cubicBezTo>
                <a:lnTo>
                  <a:pt x="3259883" y="3473432"/>
                </a:lnTo>
                <a:close/>
                <a:moveTo>
                  <a:pt x="5766441" y="3266909"/>
                </a:moveTo>
                <a:cubicBezTo>
                  <a:pt x="5822178" y="3266909"/>
                  <a:pt x="5864643" y="3284825"/>
                  <a:pt x="5893838" y="3320655"/>
                </a:cubicBezTo>
                <a:cubicBezTo>
                  <a:pt x="5923034" y="3356485"/>
                  <a:pt x="5937631" y="3407909"/>
                  <a:pt x="5937631" y="3474925"/>
                </a:cubicBezTo>
                <a:cubicBezTo>
                  <a:pt x="5937631" y="3541609"/>
                  <a:pt x="5923034" y="3592783"/>
                  <a:pt x="5893838" y="3628448"/>
                </a:cubicBezTo>
                <a:cubicBezTo>
                  <a:pt x="5864643" y="3664112"/>
                  <a:pt x="5822178" y="3681945"/>
                  <a:pt x="5766441" y="3681945"/>
                </a:cubicBezTo>
                <a:cubicBezTo>
                  <a:pt x="5712364" y="3681945"/>
                  <a:pt x="5669318" y="3663698"/>
                  <a:pt x="5637303" y="3627204"/>
                </a:cubicBezTo>
                <a:cubicBezTo>
                  <a:pt x="5605287" y="3590710"/>
                  <a:pt x="5589280" y="3540780"/>
                  <a:pt x="5589280" y="3477413"/>
                </a:cubicBezTo>
                <a:cubicBezTo>
                  <a:pt x="5589280" y="3412056"/>
                  <a:pt x="5605122" y="3360632"/>
                  <a:pt x="5636805" y="3323143"/>
                </a:cubicBezTo>
                <a:cubicBezTo>
                  <a:pt x="5668488" y="3285654"/>
                  <a:pt x="5711700" y="3266909"/>
                  <a:pt x="5766441" y="3266909"/>
                </a:cubicBezTo>
                <a:close/>
                <a:moveTo>
                  <a:pt x="6163329" y="3199230"/>
                </a:moveTo>
                <a:lnTo>
                  <a:pt x="6163329" y="3528670"/>
                </a:lnTo>
                <a:cubicBezTo>
                  <a:pt x="6163329" y="3684599"/>
                  <a:pt x="6228520" y="3762563"/>
                  <a:pt x="6358903" y="3762563"/>
                </a:cubicBezTo>
                <a:cubicBezTo>
                  <a:pt x="6435208" y="3762563"/>
                  <a:pt x="6491774" y="3729387"/>
                  <a:pt x="6528599" y="3663034"/>
                </a:cubicBezTo>
                <a:lnTo>
                  <a:pt x="6530590" y="3663034"/>
                </a:lnTo>
                <a:lnTo>
                  <a:pt x="6530590" y="3749624"/>
                </a:lnTo>
                <a:lnTo>
                  <a:pt x="6628626" y="3749624"/>
                </a:lnTo>
                <a:lnTo>
                  <a:pt x="6628626" y="3199230"/>
                </a:lnTo>
                <a:lnTo>
                  <a:pt x="6530590" y="3199230"/>
                </a:lnTo>
                <a:lnTo>
                  <a:pt x="6530590" y="3516229"/>
                </a:lnTo>
                <a:cubicBezTo>
                  <a:pt x="6530590" y="3564003"/>
                  <a:pt x="6517485" y="3603566"/>
                  <a:pt x="6491276" y="3634917"/>
                </a:cubicBezTo>
                <a:cubicBezTo>
                  <a:pt x="6465067" y="3666269"/>
                  <a:pt x="6430730" y="3681945"/>
                  <a:pt x="6388264" y="3681945"/>
                </a:cubicBezTo>
                <a:cubicBezTo>
                  <a:pt x="6302669" y="3681945"/>
                  <a:pt x="6259872" y="3626043"/>
                  <a:pt x="6259872" y="3514239"/>
                </a:cubicBezTo>
                <a:lnTo>
                  <a:pt x="6259872" y="3199230"/>
                </a:lnTo>
                <a:lnTo>
                  <a:pt x="6163329" y="3199230"/>
                </a:lnTo>
                <a:close/>
                <a:moveTo>
                  <a:pt x="4912559" y="3199230"/>
                </a:moveTo>
                <a:lnTo>
                  <a:pt x="5128536" y="3748629"/>
                </a:lnTo>
                <a:lnTo>
                  <a:pt x="5086236" y="3848655"/>
                </a:lnTo>
                <a:cubicBezTo>
                  <a:pt x="5064340" y="3900410"/>
                  <a:pt x="5031330" y="3926288"/>
                  <a:pt x="4987205" y="3926288"/>
                </a:cubicBezTo>
                <a:cubicBezTo>
                  <a:pt x="4969622" y="3926288"/>
                  <a:pt x="4951375" y="3922638"/>
                  <a:pt x="4932464" y="3915340"/>
                </a:cubicBezTo>
                <a:lnTo>
                  <a:pt x="4932464" y="4000934"/>
                </a:lnTo>
                <a:cubicBezTo>
                  <a:pt x="4949716" y="4006243"/>
                  <a:pt x="4970451" y="4008897"/>
                  <a:pt x="4994670" y="4008897"/>
                </a:cubicBezTo>
                <a:cubicBezTo>
                  <a:pt x="5079269" y="4008897"/>
                  <a:pt x="5144792" y="3950175"/>
                  <a:pt x="5191239" y="3832731"/>
                </a:cubicBezTo>
                <a:lnTo>
                  <a:pt x="5441057" y="3199230"/>
                </a:lnTo>
                <a:lnTo>
                  <a:pt x="5341030" y="3199230"/>
                </a:lnTo>
                <a:lnTo>
                  <a:pt x="5190742" y="3613767"/>
                </a:lnTo>
                <a:cubicBezTo>
                  <a:pt x="5184770" y="3633010"/>
                  <a:pt x="5180789" y="3647773"/>
                  <a:pt x="5178798" y="3658058"/>
                </a:cubicBezTo>
                <a:lnTo>
                  <a:pt x="5176310" y="3658058"/>
                </a:lnTo>
                <a:lnTo>
                  <a:pt x="5164366" y="3612772"/>
                </a:lnTo>
                <a:lnTo>
                  <a:pt x="5020547" y="3199230"/>
                </a:lnTo>
                <a:lnTo>
                  <a:pt x="4912559" y="3199230"/>
                </a:lnTo>
                <a:close/>
                <a:moveTo>
                  <a:pt x="7046772" y="3189775"/>
                </a:moveTo>
                <a:cubicBezTo>
                  <a:pt x="6978429" y="3189775"/>
                  <a:pt x="6930324" y="3230250"/>
                  <a:pt x="6902456" y="3311200"/>
                </a:cubicBezTo>
                <a:lnTo>
                  <a:pt x="6900465" y="3311200"/>
                </a:lnTo>
                <a:lnTo>
                  <a:pt x="6900465" y="3199230"/>
                </a:lnTo>
                <a:lnTo>
                  <a:pt x="6802927" y="3199230"/>
                </a:lnTo>
                <a:lnTo>
                  <a:pt x="6802927" y="3749624"/>
                </a:lnTo>
                <a:lnTo>
                  <a:pt x="6900465" y="3749624"/>
                </a:lnTo>
                <a:lnTo>
                  <a:pt x="6900465" y="3470944"/>
                </a:lnTo>
                <a:cubicBezTo>
                  <a:pt x="6900465" y="3413217"/>
                  <a:pt x="6912740" y="3366687"/>
                  <a:pt x="6937291" y="3331354"/>
                </a:cubicBezTo>
                <a:cubicBezTo>
                  <a:pt x="6961841" y="3296022"/>
                  <a:pt x="6993027" y="3278355"/>
                  <a:pt x="7030848" y="3278355"/>
                </a:cubicBezTo>
                <a:cubicBezTo>
                  <a:pt x="7059379" y="3278355"/>
                  <a:pt x="7081773" y="3284161"/>
                  <a:pt x="7098030" y="3295773"/>
                </a:cubicBezTo>
                <a:lnTo>
                  <a:pt x="7098030" y="3197239"/>
                </a:lnTo>
                <a:cubicBezTo>
                  <a:pt x="7086086" y="3192263"/>
                  <a:pt x="7069000" y="3189775"/>
                  <a:pt x="7046772" y="3189775"/>
                </a:cubicBezTo>
                <a:close/>
                <a:moveTo>
                  <a:pt x="5772413" y="3186291"/>
                </a:moveTo>
                <a:cubicBezTo>
                  <a:pt x="5685491" y="3186291"/>
                  <a:pt x="5616650" y="3212583"/>
                  <a:pt x="5565891" y="3265168"/>
                </a:cubicBezTo>
                <a:cubicBezTo>
                  <a:pt x="5515131" y="3317752"/>
                  <a:pt x="5489751" y="3389496"/>
                  <a:pt x="5489751" y="3480399"/>
                </a:cubicBezTo>
                <a:cubicBezTo>
                  <a:pt x="5489751" y="3564998"/>
                  <a:pt x="5514301" y="3633175"/>
                  <a:pt x="5563403" y="3684930"/>
                </a:cubicBezTo>
                <a:cubicBezTo>
                  <a:pt x="5612503" y="3736685"/>
                  <a:pt x="5678192" y="3762563"/>
                  <a:pt x="5760470" y="3762563"/>
                </a:cubicBezTo>
                <a:cubicBezTo>
                  <a:pt x="5844737" y="3762563"/>
                  <a:pt x="5911919" y="3735856"/>
                  <a:pt x="5962016" y="3682442"/>
                </a:cubicBezTo>
                <a:cubicBezTo>
                  <a:pt x="6012112" y="3629028"/>
                  <a:pt x="6037160" y="3558861"/>
                  <a:pt x="6037160" y="3471939"/>
                </a:cubicBezTo>
                <a:cubicBezTo>
                  <a:pt x="6037160" y="3382695"/>
                  <a:pt x="6013687" y="3312776"/>
                  <a:pt x="5966743" y="3262182"/>
                </a:cubicBezTo>
                <a:cubicBezTo>
                  <a:pt x="5919799" y="3211588"/>
                  <a:pt x="5855022" y="3186291"/>
                  <a:pt x="5772413" y="3186291"/>
                </a:cubicBezTo>
                <a:close/>
                <a:moveTo>
                  <a:pt x="3796976" y="3186291"/>
                </a:moveTo>
                <a:cubicBezTo>
                  <a:pt x="3718016" y="3186291"/>
                  <a:pt x="3657801" y="3220960"/>
                  <a:pt x="3616331" y="3290299"/>
                </a:cubicBezTo>
                <a:lnTo>
                  <a:pt x="3614340" y="3290299"/>
                </a:lnTo>
                <a:lnTo>
                  <a:pt x="3614340" y="3199230"/>
                </a:lnTo>
                <a:lnTo>
                  <a:pt x="3516802" y="3199230"/>
                </a:lnTo>
                <a:lnTo>
                  <a:pt x="3516802" y="3749624"/>
                </a:lnTo>
                <a:lnTo>
                  <a:pt x="3614340" y="3749624"/>
                </a:lnTo>
                <a:lnTo>
                  <a:pt x="3614340" y="3435611"/>
                </a:lnTo>
                <a:cubicBezTo>
                  <a:pt x="3614340" y="3386842"/>
                  <a:pt x="3628109" y="3346533"/>
                  <a:pt x="3655645" y="3314683"/>
                </a:cubicBezTo>
                <a:cubicBezTo>
                  <a:pt x="3683181" y="3282834"/>
                  <a:pt x="3718348" y="3266909"/>
                  <a:pt x="3761146" y="3266909"/>
                </a:cubicBezTo>
                <a:cubicBezTo>
                  <a:pt x="3843754" y="3266909"/>
                  <a:pt x="3885059" y="3323475"/>
                  <a:pt x="3885059" y="3436606"/>
                </a:cubicBezTo>
                <a:lnTo>
                  <a:pt x="3885059" y="3749624"/>
                </a:lnTo>
                <a:lnTo>
                  <a:pt x="3982099" y="3749624"/>
                </a:lnTo>
                <a:lnTo>
                  <a:pt x="3982099" y="3413217"/>
                </a:lnTo>
                <a:cubicBezTo>
                  <a:pt x="3982099" y="3339234"/>
                  <a:pt x="3966341" y="3282917"/>
                  <a:pt x="3934823" y="3244267"/>
                </a:cubicBezTo>
                <a:cubicBezTo>
                  <a:pt x="3903306" y="3205616"/>
                  <a:pt x="3857357" y="3186291"/>
                  <a:pt x="3796976" y="3186291"/>
                </a:cubicBezTo>
                <a:close/>
                <a:moveTo>
                  <a:pt x="3157368" y="3186291"/>
                </a:moveTo>
                <a:cubicBezTo>
                  <a:pt x="3085707" y="3186291"/>
                  <a:pt x="3022507" y="3203377"/>
                  <a:pt x="2967766" y="3237549"/>
                </a:cubicBezTo>
                <a:lnTo>
                  <a:pt x="2967766" y="3331603"/>
                </a:lnTo>
                <a:cubicBezTo>
                  <a:pt x="3022175" y="3287147"/>
                  <a:pt x="3082390" y="3264919"/>
                  <a:pt x="3148411" y="3264919"/>
                </a:cubicBezTo>
                <a:cubicBezTo>
                  <a:pt x="3222725" y="3264919"/>
                  <a:pt x="3259883" y="3309873"/>
                  <a:pt x="3259883" y="3399781"/>
                </a:cubicBezTo>
                <a:lnTo>
                  <a:pt x="3096656" y="3422672"/>
                </a:lnTo>
                <a:cubicBezTo>
                  <a:pt x="2974899" y="3439592"/>
                  <a:pt x="2914020" y="3499475"/>
                  <a:pt x="2914020" y="3602322"/>
                </a:cubicBezTo>
                <a:cubicBezTo>
                  <a:pt x="2914020" y="3651422"/>
                  <a:pt x="2929779" y="3690405"/>
                  <a:pt x="2961297" y="3719268"/>
                </a:cubicBezTo>
                <a:cubicBezTo>
                  <a:pt x="2992814" y="3748131"/>
                  <a:pt x="3035280" y="3762563"/>
                  <a:pt x="3088693" y="3762563"/>
                </a:cubicBezTo>
                <a:cubicBezTo>
                  <a:pt x="3163008" y="3762563"/>
                  <a:pt x="3219242" y="3729884"/>
                  <a:pt x="3257395" y="3664527"/>
                </a:cubicBezTo>
                <a:lnTo>
                  <a:pt x="3259883" y="3664527"/>
                </a:lnTo>
                <a:lnTo>
                  <a:pt x="3259883" y="3749624"/>
                </a:lnTo>
                <a:lnTo>
                  <a:pt x="3356426" y="3749624"/>
                </a:lnTo>
                <a:lnTo>
                  <a:pt x="3356426" y="3395302"/>
                </a:lnTo>
                <a:cubicBezTo>
                  <a:pt x="3356426" y="3255961"/>
                  <a:pt x="3290073" y="3186291"/>
                  <a:pt x="3157368" y="3186291"/>
                </a:cubicBezTo>
                <a:close/>
                <a:moveTo>
                  <a:pt x="7213357" y="2978774"/>
                </a:moveTo>
                <a:lnTo>
                  <a:pt x="7224306" y="3530163"/>
                </a:lnTo>
                <a:lnTo>
                  <a:pt x="7303929" y="3530163"/>
                </a:lnTo>
                <a:lnTo>
                  <a:pt x="7315375" y="2978774"/>
                </a:lnTo>
                <a:lnTo>
                  <a:pt x="7213357" y="2978774"/>
                </a:lnTo>
                <a:close/>
                <a:moveTo>
                  <a:pt x="1679463" y="2978774"/>
                </a:moveTo>
                <a:lnTo>
                  <a:pt x="1679463" y="3067354"/>
                </a:lnTo>
                <a:lnTo>
                  <a:pt x="1900915" y="3067354"/>
                </a:lnTo>
                <a:lnTo>
                  <a:pt x="1900915" y="3749624"/>
                </a:lnTo>
                <a:lnTo>
                  <a:pt x="2000941" y="3749624"/>
                </a:lnTo>
                <a:lnTo>
                  <a:pt x="2000941" y="3067354"/>
                </a:lnTo>
                <a:lnTo>
                  <a:pt x="2223388" y="3067354"/>
                </a:lnTo>
                <a:lnTo>
                  <a:pt x="2223388" y="2978774"/>
                </a:lnTo>
                <a:lnTo>
                  <a:pt x="1679463" y="2978774"/>
                </a:lnTo>
                <a:close/>
                <a:moveTo>
                  <a:pt x="4145452" y="2934981"/>
                </a:moveTo>
                <a:lnTo>
                  <a:pt x="4145452" y="3749624"/>
                </a:lnTo>
                <a:lnTo>
                  <a:pt x="4242990" y="3749624"/>
                </a:lnTo>
                <a:lnTo>
                  <a:pt x="4242990" y="3484380"/>
                </a:lnTo>
                <a:lnTo>
                  <a:pt x="4244981" y="3484380"/>
                </a:lnTo>
                <a:lnTo>
                  <a:pt x="4480366" y="3749624"/>
                </a:lnTo>
                <a:lnTo>
                  <a:pt x="4613237" y="3749624"/>
                </a:lnTo>
                <a:lnTo>
                  <a:pt x="4345007" y="3463977"/>
                </a:lnTo>
                <a:lnTo>
                  <a:pt x="4593829" y="3199230"/>
                </a:lnTo>
                <a:lnTo>
                  <a:pt x="4468423" y="3199230"/>
                </a:lnTo>
                <a:lnTo>
                  <a:pt x="4244981" y="3451535"/>
                </a:lnTo>
                <a:lnTo>
                  <a:pt x="4242990" y="3451535"/>
                </a:lnTo>
                <a:lnTo>
                  <a:pt x="4242990" y="2934981"/>
                </a:lnTo>
                <a:lnTo>
                  <a:pt x="4145452" y="2934981"/>
                </a:lnTo>
                <a:close/>
                <a:moveTo>
                  <a:pt x="2326177" y="2934981"/>
                </a:moveTo>
                <a:lnTo>
                  <a:pt x="2326177" y="3749624"/>
                </a:lnTo>
                <a:lnTo>
                  <a:pt x="2423715" y="3749624"/>
                </a:lnTo>
                <a:lnTo>
                  <a:pt x="2423715" y="3437601"/>
                </a:lnTo>
                <a:cubicBezTo>
                  <a:pt x="2423715" y="3388501"/>
                  <a:pt x="2437649" y="3347777"/>
                  <a:pt x="2465518" y="3315430"/>
                </a:cubicBezTo>
                <a:cubicBezTo>
                  <a:pt x="2493385" y="3283083"/>
                  <a:pt x="2528386" y="3266909"/>
                  <a:pt x="2570520" y="3266909"/>
                </a:cubicBezTo>
                <a:cubicBezTo>
                  <a:pt x="2652797" y="3266909"/>
                  <a:pt x="2693936" y="3322314"/>
                  <a:pt x="2693936" y="3433123"/>
                </a:cubicBezTo>
                <a:lnTo>
                  <a:pt x="2693936" y="3749624"/>
                </a:lnTo>
                <a:lnTo>
                  <a:pt x="2790977" y="3749624"/>
                </a:lnTo>
                <a:lnTo>
                  <a:pt x="2790977" y="3410729"/>
                </a:lnTo>
                <a:cubicBezTo>
                  <a:pt x="2790977" y="3261104"/>
                  <a:pt x="2729103" y="3186291"/>
                  <a:pt x="2605355" y="3186291"/>
                </a:cubicBezTo>
                <a:cubicBezTo>
                  <a:pt x="2527723" y="3186291"/>
                  <a:pt x="2467840" y="3220795"/>
                  <a:pt x="2425706" y="3289801"/>
                </a:cubicBezTo>
                <a:lnTo>
                  <a:pt x="2423715" y="3289801"/>
                </a:lnTo>
                <a:lnTo>
                  <a:pt x="2423715" y="2934981"/>
                </a:lnTo>
                <a:lnTo>
                  <a:pt x="2326177" y="2934981"/>
                </a:lnTo>
                <a:close/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solidFill>
            <a:srgbClr val="ff5f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0T06:42:00Z</dcterms:created>
  <dc:creator>www.pptbz.com</dc:creator>
  <dc:description/>
  <dc:language>en-US</dc:language>
  <cp:lastModifiedBy>a</cp:lastModifiedBy>
  <dcterms:modified xsi:type="dcterms:W3CDTF">2015-07-25T02:13:48Z</dcterms:modified>
  <cp:revision>1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