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C18-B291-4708-ACAE-FA8788FF4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D6D8-0EEE-4E05-AD67-1863972F3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76BE-875A-4122-ADC8-0E9742760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77DF-0A31-4C34-A5D6-882AFFF99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3E73F-D5D4-4815-B526-CBA8CD83D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83878-3E8D-4B87-B2D6-531673D8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D1E99-709B-47B3-8AC9-97F95E658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F8F26-4E39-469E-994D-7CF25A826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ADF52-6C42-49DF-88D9-0619E26A1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2E900-106C-4EDA-A6F5-782C51FDD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174F-C345-4277-B4A6-7EA2002EC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1EA1-4DFF-4277-9DAB-DB6917D5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0BF1E-EF63-4AE9-A792-D62DCE5E9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4C8C0-1B16-4E04-83DD-AEDC96757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E1554-B864-4044-91D4-A85DEBFEC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2261-E6E6-4B75-A78C-B98111ADB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29A9F-88F3-45B3-886A-A2D7906E9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E73E-4A28-4DC6-A5B3-B692A132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AE37-133A-4604-A475-C89727180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F8C3-903E-46C1-80C9-DFF3A04F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D8490-478A-415D-832F-61D75C9B8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D5B6-CD5D-4036-8098-6F969CA5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2EE9-E551-42DD-98C8-37D00B968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D4F7-924E-4E3C-B572-FA63865F6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12E57-66BE-4539-A303-7FBFC7CF21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ADFF1-E13B-4197-ABF2-7CD39AA0AFE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427"/>
          <p:cNvGrpSpPr/>
          <p:nvPr/>
        </p:nvGrpSpPr>
        <p:grpSpPr>
          <a:xfrm>
            <a:off x="533520" y="1098720"/>
            <a:ext cx="7873920" cy="4373280"/>
            <a:chOff x="533520" y="1098720"/>
            <a:chExt cx="7873920" cy="4373280"/>
          </a:xfrm>
        </p:grpSpPr>
        <p:grpSp>
          <p:nvGrpSpPr>
            <p:cNvPr id="83" name="Gruppe 255"/>
            <p:cNvGrpSpPr/>
            <p:nvPr/>
          </p:nvGrpSpPr>
          <p:grpSpPr>
            <a:xfrm>
              <a:off x="2147040" y="1850760"/>
              <a:ext cx="6260400" cy="3621240"/>
              <a:chOff x="2147040" y="1850760"/>
              <a:chExt cx="6260400" cy="3621240"/>
            </a:xfrm>
          </p:grpSpPr>
          <p:sp>
            <p:nvSpPr>
              <p:cNvPr id="84" name="Freeform 5962"/>
              <p:cNvSpPr/>
              <p:nvPr/>
            </p:nvSpPr>
            <p:spPr>
              <a:xfrm>
                <a:off x="3745440" y="3851280"/>
                <a:ext cx="852840" cy="1620720"/>
              </a:xfrm>
              <a:prstGeom prst="pie">
                <a:avLst/>
              </a:prstGeom>
              <a:gradFill rotWithShape="0">
                <a:gsLst>
                  <a:gs pos="0">
                    <a:srgbClr val="737373"/>
                  </a:gs>
                  <a:gs pos="100000">
                    <a:srgbClr val="696c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Freeform 5963"/>
              <p:cNvSpPr/>
              <p:nvPr/>
            </p:nvSpPr>
            <p:spPr>
              <a:xfrm>
                <a:off x="5166360" y="2490480"/>
                <a:ext cx="288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Freeform 5964"/>
              <p:cNvSpPr/>
              <p:nvPr/>
            </p:nvSpPr>
            <p:spPr>
              <a:xfrm>
                <a:off x="5149080" y="2509560"/>
                <a:ext cx="468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Freeform 5965"/>
              <p:cNvSpPr/>
              <p:nvPr/>
            </p:nvSpPr>
            <p:spPr>
              <a:xfrm>
                <a:off x="5161680" y="2499840"/>
                <a:ext cx="612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Freeform 5966"/>
              <p:cNvSpPr/>
              <p:nvPr/>
            </p:nvSpPr>
            <p:spPr>
              <a:xfrm>
                <a:off x="5151960" y="2525400"/>
                <a:ext cx="612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Freeform 5967"/>
              <p:cNvSpPr/>
              <p:nvPr/>
            </p:nvSpPr>
            <p:spPr>
              <a:xfrm>
                <a:off x="5153760" y="2514240"/>
                <a:ext cx="7920" cy="936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Freeform 5968"/>
              <p:cNvSpPr/>
              <p:nvPr/>
            </p:nvSpPr>
            <p:spPr>
              <a:xfrm>
                <a:off x="5144040" y="2526840"/>
                <a:ext cx="612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Freeform 5969"/>
              <p:cNvSpPr/>
              <p:nvPr/>
            </p:nvSpPr>
            <p:spPr>
              <a:xfrm>
                <a:off x="5159880" y="2493720"/>
                <a:ext cx="4680" cy="4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Freeform 5970"/>
              <p:cNvSpPr/>
              <p:nvPr/>
            </p:nvSpPr>
            <p:spPr>
              <a:xfrm>
                <a:off x="4309920" y="4078080"/>
                <a:ext cx="4680" cy="61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Freeform 5971"/>
              <p:cNvSpPr/>
              <p:nvPr/>
            </p:nvSpPr>
            <p:spPr>
              <a:xfrm>
                <a:off x="5194800" y="3093120"/>
                <a:ext cx="4680" cy="140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Freeform 5972"/>
              <p:cNvSpPr/>
              <p:nvPr/>
            </p:nvSpPr>
            <p:spPr>
              <a:xfrm>
                <a:off x="5198040" y="3091680"/>
                <a:ext cx="6120" cy="61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Freeform 5973"/>
              <p:cNvSpPr/>
              <p:nvPr/>
            </p:nvSpPr>
            <p:spPr>
              <a:xfrm>
                <a:off x="5202720" y="3105720"/>
                <a:ext cx="7920" cy="79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Freeform 5974"/>
              <p:cNvSpPr/>
              <p:nvPr/>
            </p:nvSpPr>
            <p:spPr>
              <a:xfrm>
                <a:off x="5271120" y="2667960"/>
                <a:ext cx="2880" cy="4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Freeform 5975"/>
              <p:cNvSpPr/>
              <p:nvPr/>
            </p:nvSpPr>
            <p:spPr>
              <a:xfrm>
                <a:off x="5137920" y="2544480"/>
                <a:ext cx="468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Freeform 5976"/>
              <p:cNvSpPr/>
              <p:nvPr/>
            </p:nvSpPr>
            <p:spPr>
              <a:xfrm>
                <a:off x="5331240" y="2677680"/>
                <a:ext cx="2880" cy="1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Freeform 5977"/>
              <p:cNvSpPr/>
              <p:nvPr/>
            </p:nvSpPr>
            <p:spPr>
              <a:xfrm>
                <a:off x="5333040" y="2669760"/>
                <a:ext cx="2880" cy="4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Freeform 5978"/>
              <p:cNvSpPr/>
              <p:nvPr/>
            </p:nvSpPr>
            <p:spPr>
              <a:xfrm>
                <a:off x="5321880" y="2584080"/>
                <a:ext cx="4680" cy="4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Freeform 5979"/>
              <p:cNvSpPr/>
              <p:nvPr/>
            </p:nvSpPr>
            <p:spPr>
              <a:xfrm>
                <a:off x="5137920" y="2541240"/>
                <a:ext cx="288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Freeform 5980"/>
              <p:cNvSpPr/>
              <p:nvPr/>
            </p:nvSpPr>
            <p:spPr>
              <a:xfrm>
                <a:off x="5134680" y="2541240"/>
                <a:ext cx="288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Freeform 5981"/>
              <p:cNvSpPr/>
              <p:nvPr/>
            </p:nvSpPr>
            <p:spPr>
              <a:xfrm>
                <a:off x="5385240" y="2528640"/>
                <a:ext cx="9360" cy="4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Freeform 5982"/>
              <p:cNvSpPr/>
              <p:nvPr/>
            </p:nvSpPr>
            <p:spPr>
              <a:xfrm>
                <a:off x="5328000" y="2679120"/>
                <a:ext cx="1440" cy="1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Freeform 5983"/>
              <p:cNvSpPr/>
              <p:nvPr/>
            </p:nvSpPr>
            <p:spPr>
              <a:xfrm>
                <a:off x="5301000" y="2680920"/>
                <a:ext cx="288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Freeform 5984"/>
              <p:cNvSpPr/>
              <p:nvPr/>
            </p:nvSpPr>
            <p:spPr>
              <a:xfrm>
                <a:off x="5291640" y="2671200"/>
                <a:ext cx="14040" cy="936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Freeform 5985"/>
              <p:cNvSpPr/>
              <p:nvPr/>
            </p:nvSpPr>
            <p:spPr>
              <a:xfrm>
                <a:off x="5337720" y="2674440"/>
                <a:ext cx="4680" cy="1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5986"/>
              <p:cNvSpPr/>
              <p:nvPr/>
            </p:nvSpPr>
            <p:spPr>
              <a:xfrm>
                <a:off x="5335920" y="2677680"/>
                <a:ext cx="1440" cy="1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5987"/>
              <p:cNvSpPr/>
              <p:nvPr/>
            </p:nvSpPr>
            <p:spPr>
              <a:xfrm>
                <a:off x="5196600" y="3324600"/>
                <a:ext cx="288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Freeform 5988"/>
              <p:cNvSpPr/>
              <p:nvPr/>
            </p:nvSpPr>
            <p:spPr>
              <a:xfrm>
                <a:off x="5653080" y="4274640"/>
                <a:ext cx="6120" cy="172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Freeform 5989"/>
              <p:cNvSpPr/>
              <p:nvPr/>
            </p:nvSpPr>
            <p:spPr>
              <a:xfrm>
                <a:off x="5661000" y="4255560"/>
                <a:ext cx="4680" cy="1260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Freeform 5990"/>
              <p:cNvSpPr/>
              <p:nvPr/>
            </p:nvSpPr>
            <p:spPr>
              <a:xfrm>
                <a:off x="5661000" y="4317480"/>
                <a:ext cx="4680" cy="79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Freeform 5991"/>
              <p:cNvSpPr/>
              <p:nvPr/>
            </p:nvSpPr>
            <p:spPr>
              <a:xfrm>
                <a:off x="5378760" y="3288240"/>
                <a:ext cx="288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Freeform 5992"/>
              <p:cNvSpPr/>
              <p:nvPr/>
            </p:nvSpPr>
            <p:spPr>
              <a:xfrm>
                <a:off x="5382000" y="3250080"/>
                <a:ext cx="2880" cy="4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Freeform 5993"/>
              <p:cNvSpPr/>
              <p:nvPr/>
            </p:nvSpPr>
            <p:spPr>
              <a:xfrm>
                <a:off x="5351760" y="3250080"/>
                <a:ext cx="31680" cy="2520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Freeform 5994"/>
              <p:cNvSpPr/>
              <p:nvPr/>
            </p:nvSpPr>
            <p:spPr>
              <a:xfrm>
                <a:off x="5402520" y="3218400"/>
                <a:ext cx="792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Freeform 5995"/>
              <p:cNvSpPr/>
              <p:nvPr/>
            </p:nvSpPr>
            <p:spPr>
              <a:xfrm>
                <a:off x="5409000" y="3281760"/>
                <a:ext cx="6120" cy="4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Freeform 5996"/>
              <p:cNvSpPr/>
              <p:nvPr/>
            </p:nvSpPr>
            <p:spPr>
              <a:xfrm>
                <a:off x="5407560" y="3259800"/>
                <a:ext cx="4680" cy="1080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Freeform 5997"/>
              <p:cNvSpPr/>
              <p:nvPr/>
            </p:nvSpPr>
            <p:spPr>
              <a:xfrm>
                <a:off x="5407560" y="3240720"/>
                <a:ext cx="12600" cy="936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Freeform 5998"/>
              <p:cNvSpPr/>
              <p:nvPr/>
            </p:nvSpPr>
            <p:spPr>
              <a:xfrm>
                <a:off x="5377320" y="3281760"/>
                <a:ext cx="288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Freeform 5999"/>
              <p:cNvSpPr/>
              <p:nvPr/>
            </p:nvSpPr>
            <p:spPr>
              <a:xfrm>
                <a:off x="5391720" y="3224880"/>
                <a:ext cx="7920" cy="4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Freeform 6000"/>
              <p:cNvSpPr/>
              <p:nvPr/>
            </p:nvSpPr>
            <p:spPr>
              <a:xfrm>
                <a:off x="5385240" y="3275640"/>
                <a:ext cx="10800" cy="1080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Freeform 6001"/>
              <p:cNvSpPr/>
              <p:nvPr/>
            </p:nvSpPr>
            <p:spPr>
              <a:xfrm>
                <a:off x="5382000" y="3204360"/>
                <a:ext cx="4680" cy="61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6002"/>
              <p:cNvSpPr/>
              <p:nvPr/>
            </p:nvSpPr>
            <p:spPr>
              <a:xfrm>
                <a:off x="5984640" y="4595040"/>
                <a:ext cx="7920" cy="1260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Freeform 6003"/>
              <p:cNvSpPr/>
              <p:nvPr/>
            </p:nvSpPr>
            <p:spPr>
              <a:xfrm>
                <a:off x="5945040" y="4617360"/>
                <a:ext cx="12600" cy="1080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Freeform 6007"/>
              <p:cNvSpPr/>
              <p:nvPr/>
            </p:nvSpPr>
            <p:spPr>
              <a:xfrm>
                <a:off x="4309920" y="4114440"/>
                <a:ext cx="4680" cy="61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Freeform 6137"/>
              <p:cNvSpPr/>
              <p:nvPr/>
            </p:nvSpPr>
            <p:spPr>
              <a:xfrm>
                <a:off x="5050440" y="4140000"/>
                <a:ext cx="6120" cy="79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Freeform 6139"/>
              <p:cNvSpPr/>
              <p:nvPr/>
            </p:nvSpPr>
            <p:spPr>
              <a:xfrm>
                <a:off x="5726160" y="4401720"/>
                <a:ext cx="2880" cy="1260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Freeform 6140"/>
              <p:cNvSpPr/>
              <p:nvPr/>
            </p:nvSpPr>
            <p:spPr>
              <a:xfrm>
                <a:off x="5091840" y="4065480"/>
                <a:ext cx="4680" cy="61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6142"/>
              <p:cNvSpPr/>
              <p:nvPr/>
            </p:nvSpPr>
            <p:spPr>
              <a:xfrm>
                <a:off x="5091840" y="4065480"/>
                <a:ext cx="4680" cy="6120"/>
              </a:xfrm>
              <a:prstGeom prst="pie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6143"/>
              <p:cNvSpPr/>
              <p:nvPr/>
            </p:nvSpPr>
            <p:spPr>
              <a:xfrm>
                <a:off x="4313160" y="4111560"/>
                <a:ext cx="4680" cy="61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6145"/>
              <p:cNvSpPr/>
              <p:nvPr/>
            </p:nvSpPr>
            <p:spPr>
              <a:xfrm>
                <a:off x="4294080" y="4130280"/>
                <a:ext cx="2880" cy="612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6146"/>
              <p:cNvSpPr/>
              <p:nvPr/>
            </p:nvSpPr>
            <p:spPr>
              <a:xfrm>
                <a:off x="4299120" y="4138200"/>
                <a:ext cx="4680" cy="4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Freeform 6147"/>
              <p:cNvSpPr/>
              <p:nvPr/>
            </p:nvSpPr>
            <p:spPr>
              <a:xfrm>
                <a:off x="4314960" y="4106520"/>
                <a:ext cx="2880" cy="28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Freeform 6148"/>
              <p:cNvSpPr/>
              <p:nvPr/>
            </p:nvSpPr>
            <p:spPr>
              <a:xfrm>
                <a:off x="4299120" y="4133520"/>
                <a:ext cx="2880" cy="468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Gruppe 226" descr=""/>
              <p:cNvPicPr/>
              <p:nvPr/>
            </p:nvPicPr>
            <p:blipFill>
              <a:blip r:embed="rId1"/>
              <a:stretch/>
            </p:blipFill>
            <p:spPr>
              <a:xfrm>
                <a:off x="2147040" y="1850760"/>
                <a:ext cx="2867760" cy="212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7" name="Freeform 6151"/>
              <p:cNvSpPr/>
              <p:nvPr/>
            </p:nvSpPr>
            <p:spPr>
              <a:xfrm>
                <a:off x="7010640" y="4149360"/>
                <a:ext cx="1222560" cy="1094040"/>
              </a:xfrm>
              <a:prstGeom prst="pie">
                <a:avLst/>
              </a:prstGeom>
              <a:gradFill rotWithShape="0">
                <a:gsLst>
                  <a:gs pos="0">
                    <a:srgbClr val="484848"/>
                  </a:gs>
                  <a:gs pos="100000">
                    <a:srgbClr val="7f7f7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Freeform 6152"/>
              <p:cNvSpPr/>
              <p:nvPr/>
            </p:nvSpPr>
            <p:spPr>
              <a:xfrm>
                <a:off x="5521680" y="3435840"/>
                <a:ext cx="1440" cy="1440"/>
              </a:xfrm>
              <a:prstGeom prst="pie">
                <a:avLst/>
              </a:pr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Freeform 6153"/>
              <p:cNvSpPr/>
              <p:nvPr/>
            </p:nvSpPr>
            <p:spPr>
              <a:xfrm>
                <a:off x="4614480" y="3291480"/>
                <a:ext cx="1262160" cy="1650960"/>
              </a:xfrm>
              <a:prstGeom prst="pie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e6e6e6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Freeform 6155"/>
              <p:cNvSpPr/>
              <p:nvPr/>
            </p:nvSpPr>
            <p:spPr>
              <a:xfrm>
                <a:off x="4741560" y="1998720"/>
                <a:ext cx="1289160" cy="1869840"/>
              </a:xfrm>
              <a:prstGeom prst="pie">
                <a:avLst/>
              </a:prstGeom>
              <a:gradFill rotWithShape="0">
                <a:gsLst>
                  <a:gs pos="0">
                    <a:srgbClr val="a00000"/>
                  </a:gs>
                  <a:gs pos="100000">
                    <a:srgbClr val="ff00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Freeform 6156"/>
              <p:cNvSpPr/>
              <p:nvPr/>
            </p:nvSpPr>
            <p:spPr>
              <a:xfrm>
                <a:off x="5743440" y="1946520"/>
                <a:ext cx="2664000" cy="2489760"/>
              </a:xfrm>
              <a:prstGeom prst="pie">
                <a:avLst/>
              </a:prstGeom>
              <a:gradFill rotWithShape="0">
                <a:gsLst>
                  <a:gs pos="0">
                    <a:srgbClr val="737373"/>
                  </a:gs>
                  <a:gs pos="100000">
                    <a:srgbClr val="696c6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" name="Ellipse 22"/>
            <p:cNvSpPr/>
            <p:nvPr/>
          </p:nvSpPr>
          <p:spPr>
            <a:xfrm>
              <a:off x="533520" y="1843200"/>
              <a:ext cx="2428920" cy="2430360"/>
            </a:xfrm>
            <a:prstGeom prst="ellipse">
              <a:avLst/>
            </a:prstGeom>
            <a:gradFill rotWithShape="0">
              <a:gsLst>
                <a:gs pos="0">
                  <a:srgbClr val="f2f2f2"/>
                </a:gs>
                <a:gs pos="100000">
                  <a:srgbClr val="bfbfbf"/>
                </a:gs>
              </a:gsLst>
              <a:lin ang="13500000"/>
            </a:gradFill>
            <a:ln w="57240">
              <a:solidFill>
                <a:srgbClr val="696c6f"/>
              </a:solidFill>
              <a:miter/>
            </a:ln>
            <a:effectLst>
              <a:outerShdw dist="23040" dir="5400000" blurRad="0" rotWithShape="0">
                <a:srgbClr val="808080">
                  <a:alpha val="32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" name="Gruppe 72"/>
            <p:cNvGrpSpPr/>
            <p:nvPr/>
          </p:nvGrpSpPr>
          <p:grpSpPr>
            <a:xfrm>
              <a:off x="2140920" y="1098720"/>
              <a:ext cx="3144240" cy="2819880"/>
              <a:chOff x="2140920" y="1098720"/>
              <a:chExt cx="3144240" cy="2819880"/>
            </a:xfrm>
          </p:grpSpPr>
          <p:sp>
            <p:nvSpPr>
              <p:cNvPr id="144" name="Freeform 19"/>
              <p:cNvSpPr/>
              <p:nvPr/>
            </p:nvSpPr>
            <p:spPr>
              <a:xfrm rot="19776600">
                <a:off x="3447000" y="2567520"/>
                <a:ext cx="1788840" cy="513720"/>
              </a:xfrm>
              <a:prstGeom prst="pie">
                <a:avLst/>
              </a:prstGeom>
              <a:solidFill>
                <a:srgbClr val="151616">
                  <a:alpha val="1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Gruppe 63"/>
              <p:cNvGrpSpPr/>
              <p:nvPr/>
            </p:nvGrpSpPr>
            <p:grpSpPr>
              <a:xfrm>
                <a:off x="2140920" y="1098720"/>
                <a:ext cx="3144240" cy="2819880"/>
                <a:chOff x="2140920" y="1098720"/>
                <a:chExt cx="3144240" cy="2819880"/>
              </a:xfrm>
            </p:grpSpPr>
            <p:sp>
              <p:nvSpPr>
                <p:cNvPr id="146" name="Freeform 19"/>
                <p:cNvSpPr/>
                <p:nvPr/>
              </p:nvSpPr>
              <p:spPr>
                <a:xfrm rot="19776600">
                  <a:off x="2427840" y="1669680"/>
                  <a:ext cx="2604240" cy="1707120"/>
                </a:xfrm>
                <a:prstGeom prst="pie">
                  <a:avLst/>
                </a:prstGeom>
                <a:solidFill>
                  <a:srgbClr val="0061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9"/>
                <p:cNvSpPr/>
                <p:nvPr/>
              </p:nvSpPr>
              <p:spPr>
                <a:xfrm rot="19776600">
                  <a:off x="2393280" y="1640160"/>
                  <a:ext cx="2602800" cy="1705320"/>
                </a:xfrm>
                <a:prstGeom prst="pie">
                  <a:avLst/>
                </a:prstGeom>
                <a:gradFill rotWithShape="0">
                  <a:gsLst>
                    <a:gs pos="0">
                      <a:srgbClr val="00405f"/>
                    </a:gs>
                    <a:gs pos="100000">
                      <a:srgbClr val="ffffff"/>
                    </a:gs>
                  </a:gsLst>
                  <a:lin ang="12336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8" name="Freeform 6155"/>
            <p:cNvSpPr/>
            <p:nvPr/>
          </p:nvSpPr>
          <p:spPr>
            <a:xfrm>
              <a:off x="1012680" y="1977840"/>
              <a:ext cx="1431720" cy="2076480"/>
            </a:xfrm>
            <a:prstGeom prst="pie">
              <a:avLst/>
            </a:prstGeom>
            <a:gradFill rotWithShape="0">
              <a:gsLst>
                <a:gs pos="0">
                  <a:srgbClr val="a00000"/>
                </a:gs>
                <a:gs pos="100000">
                  <a:srgbClr val="ff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9" name="TextBox 54"/>
          <p:cNvSpPr/>
          <p:nvPr/>
        </p:nvSpPr>
        <p:spPr>
          <a:xfrm>
            <a:off x="314280" y="378000"/>
            <a:ext cx="3733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b-NO" sz="1500" spc="-1" strike="noStrike">
                <a:solidFill>
                  <a:srgbClr val="4a452a"/>
                </a:solidFill>
                <a:latin typeface="Calibri"/>
                <a:ea typeface="MS PGothic"/>
              </a:rPr>
              <a:t>ILLUSTRATE </a:t>
            </a:r>
            <a:r>
              <a:rPr b="0" lang="nb-NO" sz="1500" spc="-1" strike="noStrike">
                <a:solidFill>
                  <a:srgbClr val="4a452a"/>
                </a:solidFill>
                <a:latin typeface="Calibri"/>
                <a:ea typeface="MS PGothic"/>
              </a:rPr>
              <a:t>YOUR MARKET!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4920" y="6453360"/>
            <a:ext cx="5040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3480" y="404640"/>
            <a:ext cx="262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欧洲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30C82-BBE5-49DF-AB11-37DEB04EDA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30T11:50:16Z</dcterms:created>
  <dc:creator/>
  <dc:description/>
  <dc:language>en-US</dc:language>
  <cp:lastModifiedBy>GZB</cp:lastModifiedBy>
  <dcterms:modified xsi:type="dcterms:W3CDTF">2015-07-20T11:24:47Z</dcterms:modified>
  <cp:revision>16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