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C37-8BFC-4770-95F7-516781B0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D022-C6CA-40BD-88B6-CBC15530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7BA-A786-4CA8-A0AE-92223AB3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26D7-F4A2-4123-9C80-CBE1D5D6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ECF5-5DA6-4789-891E-F8E6F6D6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2A44-5E0B-4EC7-B624-91DC67A3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5342-53BD-49A3-9F2A-3BC8DC2B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9DCA-75BF-4EB9-A155-F831EEA8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6F5F-BA4D-48E1-A2B2-F5D69586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B331-8A72-435F-9FA8-4453AC34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1243-E50C-490D-A6E7-666B5435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42F-8871-4AD8-B213-C0A8BCC3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2273-C85D-40BF-A0CA-0761160A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F1BD-A9A5-4F0D-9013-911CAA8B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A398-6C04-4C34-BB68-F8CAAF58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DC77-059C-4B2D-ADEA-ECC71799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643B-F594-4B91-98D6-75BC91DC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5D62-FDFB-4AFE-82CB-A5565240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E31-2A38-405E-B0F5-B78FFF12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420-51B3-4C3C-ABEC-8C23781B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CAA-A041-467E-86B0-62B0A105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2115-128D-4C29-9652-FFE332D2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6FE-BEEB-4FBE-81ED-73D7CB7A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40BD-323B-4AD2-B9A7-7A0E21F8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c06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0027D0-83EA-4D50-8DF7-F2A3CAF883D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c06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c06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c06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c06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c06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c06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c06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c06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c06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c06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c06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06A061-6243-4E34-B578-B3F9AE0D5EF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640" y="228600"/>
            <a:ext cx="85111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chemeClr val="accent6">
                    <a:lumMod val="10000"/>
                  </a:schemeClr>
                </a:solidFill>
                <a:latin typeface="Adobe Heiti Std R"/>
                <a:ea typeface="Adobe Heiti Std R"/>
              </a:rPr>
              <a:t>漂亮的海滨现代城通用</a:t>
            </a:r>
            <a:r>
              <a:rPr b="1" lang="en-US" sz="4400" spc="-1" strike="noStrike">
                <a:solidFill>
                  <a:schemeClr val="accent6">
                    <a:lumMod val="10000"/>
                  </a:schemeClr>
                </a:solidFill>
                <a:latin typeface="Adobe Heiti Std R"/>
                <a:ea typeface="Adobe Heiti Std R"/>
              </a:rPr>
              <a:t>PPT</a:t>
            </a:r>
            <a:r>
              <a:rPr b="1" lang="zh-CN" sz="4400" spc="-1" strike="noStrike">
                <a:solidFill>
                  <a:schemeClr val="accent6">
                    <a:lumMod val="10000"/>
                  </a:schemeClr>
                </a:solidFill>
                <a:latin typeface="Adobe Heiti Std R"/>
                <a:ea typeface="Adobe Heiti Std R"/>
              </a:rPr>
              <a:t>模板下载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81280" y="1371600"/>
            <a:ext cx="518112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dobe Heiti Std R"/>
                <a:ea typeface="Adobe Heiti Std R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Tex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00064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4671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c0600"/>
                </a:solidFill>
                <a:latin typeface="Adobe Heiti Std R"/>
                <a:ea typeface="Adobe Heiti Std R"/>
              </a:rPr>
              <a:t>Prin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920" y="1219320"/>
            <a:ext cx="7238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0014">
  <a:themeElements>
    <a:clrScheme name="Custom 58">
      <a:dk1>
        <a:srgbClr val="0c0600"/>
      </a:dk1>
      <a:lt1>
        <a:srgbClr val="ffffff"/>
      </a:lt1>
      <a:dk2>
        <a:srgbClr val="03b0b9"/>
      </a:dk2>
      <a:lt2>
        <a:srgbClr val="7bdefd"/>
      </a:lt2>
      <a:accent1>
        <a:srgbClr val="9cbcc4"/>
      </a:accent1>
      <a:accent2>
        <a:srgbClr val="dce9ec"/>
      </a:accent2>
      <a:accent3>
        <a:srgbClr val="9aa5a8"/>
      </a:accent3>
      <a:accent4>
        <a:srgbClr val="005658"/>
      </a:accent4>
      <a:accent5>
        <a:srgbClr val="14cece"/>
      </a:accent5>
      <a:accent6>
        <a:srgbClr val="ecf6f8"/>
      </a:accent6>
      <a:hlink>
        <a:srgbClr val="ffffff"/>
      </a:hlink>
      <a:folHlink>
        <a:srgbClr val="00515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0014">
  <a:themeElements>
    <a:clrScheme name="Custom 58">
      <a:dk1>
        <a:srgbClr val="0c0600"/>
      </a:dk1>
      <a:lt1>
        <a:srgbClr val="ffffff"/>
      </a:lt1>
      <a:dk2>
        <a:srgbClr val="03b0b9"/>
      </a:dk2>
      <a:lt2>
        <a:srgbClr val="7bdefd"/>
      </a:lt2>
      <a:accent1>
        <a:srgbClr val="9cbcc4"/>
      </a:accent1>
      <a:accent2>
        <a:srgbClr val="dce9ec"/>
      </a:accent2>
      <a:accent3>
        <a:srgbClr val="9aa5a8"/>
      </a:accent3>
      <a:accent4>
        <a:srgbClr val="005658"/>
      </a:accent4>
      <a:accent5>
        <a:srgbClr val="14cece"/>
      </a:accent5>
      <a:accent6>
        <a:srgbClr val="ecf6f8"/>
      </a:accent6>
      <a:hlink>
        <a:srgbClr val="ffffff"/>
      </a:hlink>
      <a:folHlink>
        <a:srgbClr val="00515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n0014</Template>
  <TotalTime>1</TotalTime>
  <Application>LibreOffice/7.4.7.2$Linux_X86_64 LibreOffice_project/40$Build-2</Application>
  <AppVersion>15.0000</AppVersion>
  <Words>101</Words>
  <Paragraphs>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4:11:25Z</dcterms:created>
  <dc:creator>haobaopc04</dc:creator>
  <dc:description/>
  <dc:language>en-US</dc:language>
  <cp:lastModifiedBy>王玉清</cp:lastModifiedBy>
  <dcterms:modified xsi:type="dcterms:W3CDTF">2016-02-24T03:35:11Z</dcterms:modified>
  <cp:revision>2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