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CAF-ED1C-4385-A3C2-FF3EA9B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388-6A9D-4F71-A402-20A6592F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605-C217-4876-95C7-907F33F2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EB37-365A-4083-B6D1-2674FD01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BFC-A3F8-4709-93CE-7FCD44AA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94B-FE7A-4DF0-9397-4161E938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1CF-4DEC-457F-88BB-82CD91A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377-0620-49E9-A7E1-2EB92534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62D-28AC-40E1-85A6-05F96DA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E38-C323-45A1-AE91-F368A8EC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508-EFA4-40FD-9465-D31B1471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351-EA95-44C8-B490-C883AC96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B09A-CDE4-4271-99DD-22B8667E4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1"/>
          <p:cNvSpPr/>
          <p:nvPr/>
        </p:nvSpPr>
        <p:spPr>
          <a:xfrm>
            <a:off x="2076120" y="8380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的蓝色地球背景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66f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3141000" y="1135368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cp:keywords/>
  <dc:language>en-US</dc:language>
  <cp:lastModifiedBy>a</cp:lastModifiedBy>
  <dcterms:modified xsi:type="dcterms:W3CDTF">2015-07-25T02:36:2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