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462-10B9-4C51-B16D-0145CB10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7FC-D042-48D7-9A4C-3B657209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696-AF99-4B6F-96F5-085FDE23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A506-3463-425D-9CE7-39DBBF3E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B008-CEE8-4D32-ADF0-3D65DB46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328A-DD1A-4758-AF7E-6CDA5D03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9108-010B-4917-BC13-8D9EF95B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0C74-3166-496A-A7C5-8E43F26B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43D2-2EEB-4445-974C-64717440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6578-FCCF-4710-A965-448B323C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D640-AE00-4DBA-B296-DF1D078E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964-2EEB-4BF3-AA4D-456984DA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F00A-C001-47D8-9761-6E2611C1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D45B-2960-467D-8594-F406AADD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C973-020D-4C09-96D6-3C5E486E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9841-BEDA-430B-BE3E-55B04DEE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C28F-438D-4D8D-B271-B4527738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EC51-E6A3-4C16-935A-1D195F51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275-63FA-41AB-9F83-D4411459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2E3-166A-4B9B-AA3F-47CDE009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456-F4C2-4B33-8910-BBA0E5A3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ECD1-3DB4-4FD3-985A-339EDADA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30C-E658-4081-8F44-B80F00E0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8F8-B81F-4083-B3CC-0734DF74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BD1F-2D3D-439F-8FAB-80C2FB2EC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D92B-AEDB-453C-9677-9856C4339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99ff"/>
                </a:solidFill>
                <a:latin typeface="Arial"/>
                <a:ea typeface="宋体"/>
              </a:rPr>
              <a:t>漂亮的紫色弧线国外经典</a:t>
            </a:r>
            <a:r>
              <a:rPr b="0" lang="en-US" sz="4000" spc="-1" strike="noStrike">
                <a:solidFill>
                  <a:srgbClr val="cc99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cc99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  <a:ea typeface="宋体"/>
              </a:rPr>
              <a:t>Add Your Subtitl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Arial"/>
                <a:ea typeface="宋体"/>
              </a:rPr>
              <a:t>Add Your Topic He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  <a:ea typeface="宋体"/>
              </a:rPr>
              <a:t>Add Subtopic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Arial"/>
                <a:ea typeface="宋体"/>
              </a:rPr>
              <a:t>Printable P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dd Subtopic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99ff"/>
                </a:solidFill>
                <a:latin typeface="Times New Roman"/>
                <a:ea typeface="宋体"/>
              </a:rPr>
              <a:t>Transition P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22:02:32Z</dcterms:created>
  <dc:creator>eclipse</dc:creator>
  <dc:description/>
  <dc:language>en-US</dc:language>
  <cp:lastModifiedBy>王玉清</cp:lastModifiedBy>
  <dcterms:modified xsi:type="dcterms:W3CDTF">2016-02-21T04:55:20Z</dcterms:modified>
  <cp:revision>6</cp:revision>
  <dc:subject/>
  <dc:title>PURPLE PASSION</dc:title>
</cp:coreProperties>
</file>