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FB3F-7081-4EF7-8732-8CADED3F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0CD-7EB3-4517-BE55-480F67CF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6A1-AF42-42AD-A1DD-95B59F39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5B4-D3A1-4790-AA65-55317C526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7EF0-0168-4ED4-A418-714C821A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E465-432C-43F7-A053-75D728F3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2290-5AAC-4F08-8791-AEBED439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316A-99A5-47FE-9FF2-B2A91CCF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0252-A34A-47EB-84E5-D14A6106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B4BC-6C21-4014-BA8C-1912A6FA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487A-D23B-47B9-914D-4C26D9D6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9539-8EC4-4824-9F28-8CEDA6B6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72BC-1E28-4B80-B088-639E8123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CEBC-A70F-452F-BA69-94D03C48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F4AF-FAF3-4E31-A70D-AE4B44C3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266D-A5A3-4CD4-9941-852BBC43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F510-4F19-4F4F-BACA-2DFD6F75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407-6C9F-425E-9441-AF29BA9F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C28-869F-470E-8633-41E39A6D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89F-7411-4A81-860D-EB84F96F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7BF-E2BE-4757-977F-DA0C7585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C48-4CA5-4675-B46B-A8FAF241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ECD7-AE52-42A0-A2FD-E548CB9D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8546-4939-4056-948E-2F6F6AAB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AB52-B095-4358-8F80-4138D6076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A6D6-D20B-4303-B088-D9EF5D912A2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453360"/>
            <a:ext cx="426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素材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suc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42200" y="765000"/>
            <a:ext cx="251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漂亮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F87B-536D-4EF9-89ED-DA2813069B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3T21:56:09Z</dcterms:created>
  <dc:creator>雨林木风</dc:creator>
  <dc:description/>
  <dc:language>en-US</dc:language>
  <cp:lastModifiedBy>雨林木风</cp:lastModifiedBy>
  <dcterms:modified xsi:type="dcterms:W3CDTF">2015-07-20T10:57:16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