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457200" y="838080"/>
            <a:ext cx="8229600" cy="5683320"/>
            <a:chOff x="457200" y="838080"/>
            <a:chExt cx="8229600" cy="5683320"/>
          </a:xfrm>
        </p:grpSpPr>
        <p:sp>
          <p:nvSpPr>
            <p:cNvPr id="2" name=""/>
            <p:cNvSpPr/>
            <p:nvPr/>
          </p:nvSpPr>
          <p:spPr>
            <a:xfrm>
              <a:off x="66294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45720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5146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57200" y="6246720"/>
              <a:ext cx="20574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6294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5146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457200" y="4348080"/>
              <a:ext cx="2057400" cy="29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6294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45720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5146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457200" y="2436840"/>
              <a:ext cx="2057400" cy="30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66294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5720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5146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57200" y="464796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66294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45720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5146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57200" y="2743200"/>
              <a:ext cx="2057400" cy="160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66294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45720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25146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457200" y="838080"/>
              <a:ext cx="2057400" cy="159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457200" y="83808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457200" y="243684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57200" y="274320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57200" y="434808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57200" y="464796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" y="6246720"/>
              <a:ext cx="8229600" cy="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57200" y="6521400"/>
              <a:ext cx="8229600" cy="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572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5146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45720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6629400" y="838080"/>
              <a:ext cx="0" cy="5683320"/>
            </a:xfrm>
            <a:prstGeom prst="line">
              <a:avLst/>
            </a:prstGeom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86800" y="838080"/>
              <a:ext cx="0" cy="5683320"/>
            </a:xfrm>
            <a:prstGeom prst="line">
              <a:avLst/>
            </a:prstGeom>
            <a:ln cap="sq"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84480" y="4724280"/>
            <a:ext cx="9540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990720" y="914400"/>
            <a:ext cx="787320" cy="14479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3"/>
          <a:stretch/>
        </p:blipFill>
        <p:spPr>
          <a:xfrm>
            <a:off x="3081240" y="914400"/>
            <a:ext cx="990720" cy="144792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4"/>
          <a:stretch/>
        </p:blipFill>
        <p:spPr>
          <a:xfrm>
            <a:off x="5099040" y="914400"/>
            <a:ext cx="1003320" cy="14479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5"/>
          <a:stretch/>
        </p:blipFill>
        <p:spPr>
          <a:xfrm>
            <a:off x="7112160" y="914400"/>
            <a:ext cx="1062000" cy="1447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6"/>
          <a:stretch/>
        </p:blipFill>
        <p:spPr>
          <a:xfrm>
            <a:off x="990720" y="2819520"/>
            <a:ext cx="996840" cy="144756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7"/>
          <a:stretch/>
        </p:blipFill>
        <p:spPr>
          <a:xfrm>
            <a:off x="3048120" y="2819520"/>
            <a:ext cx="1015920" cy="1447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8"/>
          <a:stretch/>
        </p:blipFill>
        <p:spPr>
          <a:xfrm>
            <a:off x="5029200" y="2819520"/>
            <a:ext cx="1089000" cy="1447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9"/>
          <a:stretch/>
        </p:blipFill>
        <p:spPr>
          <a:xfrm>
            <a:off x="7162920" y="2819520"/>
            <a:ext cx="984240" cy="14475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10"/>
          <a:stretch/>
        </p:blipFill>
        <p:spPr>
          <a:xfrm>
            <a:off x="990720" y="4724280"/>
            <a:ext cx="990360" cy="137160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10677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1251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1825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239960" y="245736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77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1251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1825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239960" y="438480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677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25160" y="6257880"/>
            <a:ext cx="91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Gulim"/>
              </a:rPr>
              <a:t>Type : Im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6320" y="64008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76400" y="22860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数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22:39:55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2T09:45:34Z</dcterms:modified>
  <cp:revision>7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