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E00-2840-49EF-A078-5C3B5FC167C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8320" y="685440"/>
            <a:ext cx="4581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9DB-A468-4FC6-8D17-8AA6EE8F2CC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学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大同小异。（要有一定基础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7484240" y="2147484240"/>
            <a:ext cx="0" cy="2147482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什么是图层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+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5EA-36D0-41BC-870B-B1C39D6A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5A2-D10D-40DD-9523-A49FA572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0CC-F681-4690-AB02-F6315FB7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66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66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BDF-1490-4B86-AF96-ED2D2616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660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439-4273-4CBD-BA31-C10F6A42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D61-1DCD-4156-A552-482BF5A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484-AC13-4502-B6AD-74EF832C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2A7-1FD1-4E8E-BC77-7A040227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F9A-84F5-4871-80B6-76DA4DC5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72E-5119-4722-BDF1-DC2273D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9E0-C5E3-4876-B217-7F39817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000-D836-4A79-9C3D-3C0AFE6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D7E7-B5E4-406D-8B48-8F836A7017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9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900-3D68-42CD-9223-8F51DF339E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-11160" y="0"/>
            <a:ext cx="914256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1"/>
          <p:cNvSpPr/>
          <p:nvPr/>
        </p:nvSpPr>
        <p:spPr>
          <a:xfrm>
            <a:off x="0" y="590400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"/>
          <p:cNvSpPr/>
          <p:nvPr/>
        </p:nvSpPr>
        <p:spPr>
          <a:xfrm>
            <a:off x="-23760" y="489420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"/>
          <p:cNvSpPr/>
          <p:nvPr/>
        </p:nvSpPr>
        <p:spPr>
          <a:xfrm>
            <a:off x="0" y="3884760"/>
            <a:ext cx="9144000" cy="8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"/>
          <p:cNvSpPr/>
          <p:nvPr/>
        </p:nvSpPr>
        <p:spPr>
          <a:xfrm>
            <a:off x="-11160" y="2876400"/>
            <a:ext cx="914256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9"/>
          <p:cNvSpPr/>
          <p:nvPr/>
        </p:nvSpPr>
        <p:spPr>
          <a:xfrm>
            <a:off x="3608280" y="539640"/>
            <a:ext cx="1927440" cy="1927440"/>
          </a:xfrm>
          <a:prstGeom prst="ellipse">
            <a:avLst/>
          </a:prstGeom>
          <a:solidFill>
            <a:srgbClr val="299c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6"/>
          <p:cNvSpPr/>
          <p:nvPr/>
        </p:nvSpPr>
        <p:spPr>
          <a:xfrm>
            <a:off x="3581280" y="512640"/>
            <a:ext cx="1981440" cy="19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3677760" y="55548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黑体"/>
                <a:ea typeface="黑体"/>
              </a:rPr>
              <a:t>P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546200" y="29084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498680" y="391788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1511280" y="492768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487520" y="5904000"/>
            <a:ext cx="61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2505240" y="227160"/>
            <a:ext cx="47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Ps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的使用动态</a:t>
            </a: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50" fill="hold"/>
                                        <p:tgtEl>
                                          <p:spTgt spid="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50" fill="hold"/>
                                        <p:tgtEl>
                                          <p:spTgt spid="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50" fill="hold"/>
                                        <p:tgtEl>
                                          <p:spTgt spid="5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50" fill="hold"/>
                                        <p:tgtEl>
                                          <p:spTgt spid="5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E98-C17D-48B1-A44F-F95C703452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D:\Graphic Design\素材\排版\排版 19.jpg"/>
          <p:cNvPicPr/>
          <p:nvPr/>
        </p:nvPicPr>
        <p:blipFill>
          <a:blip r:embed="rId2"/>
          <a:stretch/>
        </p:blipFill>
        <p:spPr>
          <a:xfrm>
            <a:off x="2487600" y="642960"/>
            <a:ext cx="4168800" cy="555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Graphic Design\素材\排版\排版 8.jpg"/>
          <p:cNvPicPr/>
          <p:nvPr/>
        </p:nvPicPr>
        <p:blipFill>
          <a:blip r:embed="rId3"/>
          <a:stretch/>
        </p:blipFill>
        <p:spPr>
          <a:xfrm>
            <a:off x="826920" y="1314360"/>
            <a:ext cx="7488360" cy="4211640"/>
          </a:xfrm>
          <a:prstGeom prst="rect">
            <a:avLst/>
          </a:prstGeom>
          <a:ln w="0">
            <a:noFill/>
          </a:ln>
        </p:spPr>
      </p:pic>
      <p:sp>
        <p:nvSpPr>
          <p:cNvPr id="13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D:\Graphic Design\素材\排版\排版 18.jpg"/>
          <p:cNvPicPr/>
          <p:nvPr/>
        </p:nvPicPr>
        <p:blipFill>
          <a:blip r:embed="rId4"/>
          <a:stretch/>
        </p:blipFill>
        <p:spPr>
          <a:xfrm>
            <a:off x="4643280" y="641520"/>
            <a:ext cx="417060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0991E-006 L -0.23628 0.00023 E">
                                      <p:cBhvr>
                                        <p:cTn id="312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509E-6895-4279-9E21-37C8795AF7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-561960" y="2050920"/>
            <a:ext cx="1000908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ASUS\Desktop\5f7e6a548e86c440b0eaa8aee222e86d 副本.jpg"/>
          <p:cNvPicPr/>
          <p:nvPr/>
        </p:nvPicPr>
        <p:blipFill>
          <a:blip r:embed="rId2"/>
          <a:stretch/>
        </p:blipFill>
        <p:spPr>
          <a:xfrm>
            <a:off x="2843280" y="207000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C9BC-4156-46E0-8EDC-A0F19876C2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5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2016000" y="25700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红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绿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赛狗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黄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紫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不如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/>
          <p:cNvSpPr/>
          <p:nvPr/>
        </p:nvSpPr>
        <p:spPr>
          <a:xfrm>
            <a:off x="-561960" y="2050920"/>
            <a:ext cx="1000908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ASUS\Desktop\5f7e6a548e86c440b0eaa8aee222e86d 副本.jpg"/>
          <p:cNvPicPr/>
          <p:nvPr/>
        </p:nvPicPr>
        <p:blipFill>
          <a:blip r:embed="rId2"/>
          <a:stretch/>
        </p:blipFill>
        <p:spPr>
          <a:xfrm>
            <a:off x="2843280" y="207000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6379-D7C9-4095-B48C-27C3DA4CBA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0" y="0"/>
            <a:ext cx="9144000" cy="684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2016000" y="25700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红配绿，赛狗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黄配紫，不如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ASUS\Desktop\u=3620503727,44697846&amp;fm=21&amp;gp=0 副本.png"/>
          <p:cNvPicPr/>
          <p:nvPr/>
        </p:nvPicPr>
        <p:blipFill>
          <a:blip r:embed="rId1"/>
          <a:stretch/>
        </p:blipFill>
        <p:spPr>
          <a:xfrm>
            <a:off x="4581360" y="2489040"/>
            <a:ext cx="43578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BA7E-8877-4D61-BC57-E3F5F691EE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8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2016000" y="25700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红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绿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赛狗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黄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紫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不如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3608280" y="2403360"/>
            <a:ext cx="1927440" cy="1925640"/>
          </a:xfrm>
          <a:prstGeom prst="ellipse">
            <a:avLst/>
          </a:prstGeom>
          <a:solidFill>
            <a:srgbClr val="299c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8"/>
          <p:cNvSpPr/>
          <p:nvPr/>
        </p:nvSpPr>
        <p:spPr>
          <a:xfrm>
            <a:off x="3581280" y="2376360"/>
            <a:ext cx="1981440" cy="19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3648960" y="241776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黑体"/>
                <a:ea typeface="黑体"/>
              </a:rPr>
              <a:t>P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800360" y="2027160"/>
            <a:ext cx="55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黑体"/>
                <a:ea typeface="黑体"/>
              </a:rPr>
              <a:t>EN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60400" y="640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50" fill="hold"/>
                                        <p:tgtEl>
                                          <p:spTgt spid="1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50" fill="hold"/>
                                        <p:tgtEl>
                                          <p:spTgt spid="1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150" fill="hold"/>
                                        <p:tgtEl>
                                          <p:spTgt spid="16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150" fill="hold"/>
                                        <p:tgtEl>
                                          <p:spTgt spid="16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251"/>
                            </p:stCondLst>
                            <p:childTnLst>
                              <p:par>
                                <p:cTn id="41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2DB-B60E-4D47-A5FC-4069BC7E6B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椭圆 11"/>
          <p:cNvSpPr/>
          <p:nvPr/>
        </p:nvSpPr>
        <p:spPr>
          <a:xfrm>
            <a:off x="3608280" y="539640"/>
            <a:ext cx="1927440" cy="1927440"/>
          </a:xfrm>
          <a:prstGeom prst="ellipse">
            <a:avLst/>
          </a:prstGeom>
          <a:solidFill>
            <a:srgbClr val="299c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3581280" y="512640"/>
            <a:ext cx="1981440" cy="19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677760" y="55548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黑体"/>
                <a:ea typeface="黑体"/>
              </a:rPr>
              <a:t>P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"/>
          <p:cNvSpPr/>
          <p:nvPr/>
        </p:nvSpPr>
        <p:spPr>
          <a:xfrm>
            <a:off x="0" y="3060720"/>
            <a:ext cx="9144000" cy="3779640"/>
          </a:xfrm>
          <a:prstGeom prst="rect">
            <a:avLst/>
          </a:prstGeom>
          <a:solidFill>
            <a:srgbClr val="f2f2f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"/>
          <p:cNvSpPr/>
          <p:nvPr/>
        </p:nvSpPr>
        <p:spPr>
          <a:xfrm>
            <a:off x="0" y="590400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"/>
          <p:cNvSpPr/>
          <p:nvPr/>
        </p:nvSpPr>
        <p:spPr>
          <a:xfrm>
            <a:off x="0" y="4968720"/>
            <a:ext cx="914400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"/>
          <p:cNvSpPr/>
          <p:nvPr/>
        </p:nvSpPr>
        <p:spPr>
          <a:xfrm>
            <a:off x="0" y="403236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"/>
          <p:cNvSpPr/>
          <p:nvPr/>
        </p:nvSpPr>
        <p:spPr>
          <a:xfrm>
            <a:off x="0" y="309564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511280" y="3095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511280" y="403236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511280" y="496872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511280" y="5904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1042920" y="21654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择好的素材，是成功的第一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900000" y="27702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天才第一步，雀氏纸尿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6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6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6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2">
                                  <p:stCondLst>
                                    <p:cond delay="3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2">
                                  <p:stCondLst>
                                    <p:cond delay="3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2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042920" y="21654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择好的素材，是成功的第一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900000" y="27702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天才第一步，雀氏纸尿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7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allbase" descr="C:\Users\ASUS\Desktop\QQ图片20131031223355.jpg"/>
          <p:cNvPicPr/>
          <p:nvPr/>
        </p:nvPicPr>
        <p:blipFill>
          <a:blip r:embed="rId2"/>
          <a:stretch/>
        </p:blipFill>
        <p:spPr>
          <a:xfrm>
            <a:off x="3851280" y="2432160"/>
            <a:ext cx="4375080" cy="2835000"/>
          </a:xfrm>
          <a:prstGeom prst="rect">
            <a:avLst/>
          </a:prstGeom>
          <a:ln w="0">
            <a:noFill/>
          </a:ln>
        </p:spPr>
      </p:pic>
      <p:pic>
        <p:nvPicPr>
          <p:cNvPr id="90" name="huaban" descr="C:\Users\ASUS\Desktop\QQ图片20131031233824.jpg"/>
          <p:cNvPicPr/>
          <p:nvPr/>
        </p:nvPicPr>
        <p:blipFill>
          <a:blip r:embed="rId3"/>
          <a:stretch/>
        </p:blipFill>
        <p:spPr>
          <a:xfrm>
            <a:off x="3851280" y="2430360"/>
            <a:ext cx="4375080" cy="2830680"/>
          </a:xfrm>
          <a:prstGeom prst="rect">
            <a:avLst/>
          </a:prstGeom>
          <a:ln w="0">
            <a:noFill/>
          </a:ln>
        </p:spPr>
      </p:pic>
      <p:pic>
        <p:nvPicPr>
          <p:cNvPr id="91" name="uisdc" descr="C:\Users\ASUS\Desktop\QQ截图20131031233952.jpg"/>
          <p:cNvPicPr/>
          <p:nvPr/>
        </p:nvPicPr>
        <p:blipFill>
          <a:blip r:embed="rId4"/>
          <a:stretch/>
        </p:blipFill>
        <p:spPr>
          <a:xfrm>
            <a:off x="3851280" y="2432160"/>
            <a:ext cx="4375080" cy="28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uisdc" descr="C:\Users\ASUS\Desktop\QQ截图20131031233952.jpg"/>
          <p:cNvPicPr/>
          <p:nvPr/>
        </p:nvPicPr>
        <p:blipFill>
          <a:blip r:embed="rId2"/>
          <a:stretch/>
        </p:blipFill>
        <p:spPr>
          <a:xfrm>
            <a:off x="3851280" y="2432160"/>
            <a:ext cx="4375080" cy="2835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266920" y="2508120"/>
            <a:ext cx="461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Layer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6467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266920" y="2508120"/>
            <a:ext cx="461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Layer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266920" y="2484360"/>
            <a:ext cx="461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ffff"/>
                </a:solidFill>
                <a:latin typeface="黑体"/>
                <a:ea typeface="黑体"/>
              </a:rPr>
              <a:t>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5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3311640" y="2484360"/>
            <a:ext cx="252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ffff"/>
                </a:solidFill>
                <a:latin typeface="黑体"/>
                <a:ea typeface="黑体"/>
              </a:rPr>
              <a:t>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4017960" y="2484360"/>
            <a:ext cx="2859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ffff"/>
                </a:solidFill>
                <a:latin typeface="黑体"/>
                <a:ea typeface="黑体"/>
              </a:rPr>
              <a:t>次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843280" y="30002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什么是图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57077E-006 L -0.09444 -4.57077E-006 E">
                                      <p:cBhvr>
                                        <p:cTn id="211" dur="7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4 -3.97028E-007 L -0.00208 0.0007 E">
                                      <p:cBhvr>
                                        <p:cTn id="228" dur="2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7028E-007 L -0.09566 -3.97028E-007 E">
                                      <p:cBhvr>
                                        <p:cTn id="230" dur="2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B24-3D50-4713-BFE6-DE354E42E8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2843280" y="30002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什么是图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059280" y="300024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左对齐、右对齐、居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059280" y="370836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学、历史、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3059280" y="441648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重点、次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059280" y="51246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22CC-49B9-4410-BC53-5A957AC805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Graphic Design\素材\排版\排版 8.jpg"/>
          <p:cNvPicPr/>
          <p:nvPr/>
        </p:nvPicPr>
        <p:blipFill>
          <a:blip r:embed="rId2"/>
          <a:stretch/>
        </p:blipFill>
        <p:spPr>
          <a:xfrm>
            <a:off x="826920" y="1314360"/>
            <a:ext cx="7488360" cy="4211640"/>
          </a:xfrm>
          <a:prstGeom prst="rect">
            <a:avLst/>
          </a:prstGeom>
          <a:ln w="0">
            <a:noFill/>
          </a:ln>
        </p:spPr>
      </p:pic>
      <p:sp>
        <p:nvSpPr>
          <p:cNvPr id="12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3059280" y="300024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左对齐、右对齐、居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3059280" y="370836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学、历史、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059280" y="441648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重点、次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059280" y="51246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7:14:00Z</dcterms:created>
  <dc:creator>USER</dc:creator>
  <dc:description/>
  <cp:keywords/>
  <dc:language>en-US</dc:language>
  <cp:lastModifiedBy>王玉清</cp:lastModifiedBy>
  <dcterms:modified xsi:type="dcterms:W3CDTF">2016-02-19T07:31:55Z</dcterms:modified>
  <cp:revision>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