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0BF-E8B1-468D-856D-C41D2E22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6D6-9BAE-44F9-B42B-7424433B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50E-5D28-48A4-B0ED-923EB5D7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D29-8EEF-46B4-9591-B30C30CF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B6EB-196A-4AB3-97E3-57832984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CFAC-016E-48E4-B5F4-58710BCB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D6C-371A-496B-BA8B-EDF9D196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B1E7-3ACA-40D5-B91F-00FEEAAC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A898-26C6-45EC-B209-9AD34D22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DCF0-3B80-4774-B99E-056924EF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E9DC-D164-4475-907D-8EB3283D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9015-22F7-4A49-9C1A-92038587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0358-DB6E-40C5-ADF2-257DDCA4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BD99-1CE7-4792-805D-0349C44A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36A6-34E6-4763-B9EF-5F47D57F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A61F-EF3E-49D7-8B57-4309EFDB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F414-D0CC-468F-9245-6CA9B05E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3EB-CF3F-48C6-8FB8-A3E817B9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0212-DF95-42D4-975F-9D1456F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B41-21FE-4180-9424-949F0146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C724-6967-4127-B407-9B6BB5D1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BFE-23D3-442D-A793-21623949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AC42-1F98-4BCF-AE71-8E808B66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C14-7104-4CF1-8A6B-3488E45C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8E4CAC-21F2-46A5-AD2E-64E722FF857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AE3AD6-DF86-4403-800B-70454D83F9D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5" descr=""/>
          <p:cNvPicPr/>
          <p:nvPr/>
        </p:nvPicPr>
        <p:blipFill>
          <a:blip r:embed="rId1"/>
          <a:srcRect l="0" t="4847" r="0" b="16294"/>
          <a:stretch/>
        </p:blipFill>
        <p:spPr>
          <a:xfrm>
            <a:off x="0" y="0"/>
            <a:ext cx="9143640" cy="45064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7" descr=""/>
          <p:cNvPicPr/>
          <p:nvPr/>
        </p:nvPicPr>
        <p:blipFill>
          <a:blip r:embed="rId2"/>
          <a:stretch/>
        </p:blipFill>
        <p:spPr>
          <a:xfrm rot="1678200">
            <a:off x="5012280" y="2223360"/>
            <a:ext cx="471960" cy="52236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1"/>
          <p:cNvSpPr/>
          <p:nvPr/>
        </p:nvSpPr>
        <p:spPr>
          <a:xfrm>
            <a:off x="623880" y="5115960"/>
            <a:ext cx="6238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0000"/>
                </a:solidFill>
                <a:latin typeface="方正粗黑宋简体"/>
                <a:ea typeface="方正粗黑宋简体"/>
              </a:rPr>
              <a:t>乔帮主知道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2" descr=""/>
          <p:cNvPicPr/>
          <p:nvPr/>
        </p:nvPicPr>
        <p:blipFill>
          <a:blip r:embed="rId3"/>
          <a:srcRect l="0" t="28056" r="0" b="43783"/>
          <a:stretch/>
        </p:blipFill>
        <p:spPr>
          <a:xfrm>
            <a:off x="0" y="4444920"/>
            <a:ext cx="7486200" cy="8614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" descr=""/>
          <p:cNvPicPr/>
          <p:nvPr/>
        </p:nvPicPr>
        <p:blipFill>
          <a:blip r:embed="rId4"/>
          <a:srcRect l="0" t="0" r="0" b="72062"/>
          <a:stretch/>
        </p:blipFill>
        <p:spPr>
          <a:xfrm>
            <a:off x="0" y="3589560"/>
            <a:ext cx="7486200" cy="854640"/>
          </a:xfrm>
          <a:prstGeom prst="rect">
            <a:avLst/>
          </a:prstGeom>
          <a:ln w="0">
            <a:noFill/>
          </a:ln>
        </p:spPr>
      </p:pic>
      <p:sp>
        <p:nvSpPr>
          <p:cNvPr id="87" name="矩形 4"/>
          <p:cNvSpPr/>
          <p:nvPr/>
        </p:nvSpPr>
        <p:spPr>
          <a:xfrm>
            <a:off x="2186640" y="73296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乔布斯的幽默气泡对话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1"/>
          <p:cNvSpPr/>
          <p:nvPr/>
        </p:nvSpPr>
        <p:spPr>
          <a:xfrm>
            <a:off x="1608840" y="1913400"/>
            <a:ext cx="5706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c00000"/>
                </a:solidFill>
                <a:latin typeface="方正大黑_GBK"/>
                <a:ea typeface="方正大黑_GBK"/>
              </a:rPr>
              <a:t>笑过</a:t>
            </a:r>
            <a:r>
              <a:rPr b="0" lang="en-US" sz="80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之后…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"/>
          <p:cNvPicPr/>
          <p:nvPr/>
        </p:nvPicPr>
        <p:blipFill>
          <a:blip r:embed="rId1">
            <a:grayscl/>
          </a:blip>
          <a:srcRect l="0" t="0" r="9024" b="0"/>
          <a:stretch/>
        </p:blipFill>
        <p:spPr>
          <a:xfrm>
            <a:off x="6923160" y="3200400"/>
            <a:ext cx="2220480" cy="365724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914400" y="1623600"/>
            <a:ext cx="8229240" cy="24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不知哪个豆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cloud</a:t>
            </a: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用非我的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成功登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并把我的手机设置为“查找我的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pho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然后在网页上用非我的</a:t>
            </a:r>
            <a:r>
              <a:rPr b="0" lang="en-US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D</a:t>
            </a:r>
            <a:r>
              <a:rPr b="0" lang="zh-CN" sz="2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登录，把手机设置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丢失模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>
            <a:grayscl/>
          </a:blip>
          <a:srcRect l="0" t="0" r="10930" b="0"/>
          <a:stretch/>
        </p:blipFill>
        <p:spPr>
          <a:xfrm>
            <a:off x="0" y="0"/>
            <a:ext cx="9162000" cy="685764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2"/>
          <p:cNvSpPr/>
          <p:nvPr/>
        </p:nvSpPr>
        <p:spPr>
          <a:xfrm>
            <a:off x="1700640" y="841320"/>
            <a:ext cx="7296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c00000"/>
                </a:solidFill>
                <a:latin typeface="方正大黑_GBK"/>
                <a:ea typeface="方正大黑_GBK"/>
              </a:rPr>
              <a:t>激活</a:t>
            </a:r>
            <a:r>
              <a:rPr b="0" lang="zh-CN" sz="4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我未丢失的</a:t>
            </a:r>
            <a:r>
              <a:rPr b="0" lang="en-US" sz="4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i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246960" y="329040"/>
            <a:ext cx="8659080" cy="4242600"/>
          </a:xfrm>
          <a:prstGeom prst="rect">
            <a:avLst/>
          </a:prstGeom>
          <a:solidFill>
            <a:schemeClr val="bg1"/>
          </a:solidFill>
          <a:ln cap="sq" w="3175">
            <a:solidFill>
              <a:srgbClr val="000000"/>
            </a:solidFill>
          </a:ln>
          <a:effectLst>
            <a:innerShdw blurRad="76200">
              <a:srgbClr val="000000"/>
            </a:innerShdw>
          </a:effectLst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图片 2" descr=""/>
          <p:cNvPicPr/>
          <p:nvPr/>
        </p:nvPicPr>
        <p:blipFill>
          <a:blip r:embed="rId1"/>
          <a:srcRect l="3872" t="0" r="0" b="0"/>
          <a:stretch/>
        </p:blipFill>
        <p:spPr>
          <a:xfrm rot="10800000">
            <a:off x="503280" y="650520"/>
            <a:ext cx="5770080" cy="3376440"/>
          </a:xfrm>
          <a:prstGeom prst="rect">
            <a:avLst/>
          </a:prstGeom>
          <a:ln cap="sq" w="88900">
            <a:solidFill>
              <a:srgbClr val="e7e6e6"/>
            </a:solidFill>
            <a:miter/>
          </a:ln>
          <a:effectLst>
            <a:innerShdw blurRad="76200">
              <a:srgbClr val="000000"/>
            </a:innerShdw>
          </a:effectLst>
        </p:spPr>
      </p:pic>
      <p:pic>
        <p:nvPicPr>
          <p:cNvPr id="95" name="图片 3" descr=""/>
          <p:cNvPicPr/>
          <p:nvPr/>
        </p:nvPicPr>
        <p:blipFill>
          <a:blip r:embed="rId2"/>
          <a:stretch/>
        </p:blipFill>
        <p:spPr>
          <a:xfrm>
            <a:off x="6034680" y="897120"/>
            <a:ext cx="2597040" cy="1947600"/>
          </a:xfrm>
          <a:prstGeom prst="rect">
            <a:avLst/>
          </a:prstGeom>
          <a:ln cap="sq" w="88900">
            <a:solidFill>
              <a:srgbClr val="e7e6e6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96" name="文本框 4"/>
          <p:cNvSpPr/>
          <p:nvPr/>
        </p:nvSpPr>
        <p:spPr>
          <a:xfrm>
            <a:off x="6387480" y="3034080"/>
            <a:ext cx="2404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发票（上有机主姓名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机主身份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手机三保凭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手机、手机原包装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"/>
          <p:cNvSpPr/>
          <p:nvPr/>
        </p:nvSpPr>
        <p:spPr>
          <a:xfrm>
            <a:off x="320040" y="4875120"/>
            <a:ext cx="8586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各位看官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请您</a:t>
            </a:r>
            <a:r>
              <a:rPr b="0" lang="zh-CN" sz="4400" spc="-1" strike="noStrike">
                <a:solidFill>
                  <a:srgbClr val="c00000"/>
                </a:solidFill>
                <a:latin typeface="方正大黑_GBK"/>
                <a:ea typeface="方正大黑_GBK"/>
              </a:rPr>
              <a:t>挑战</a:t>
            </a:r>
            <a:r>
              <a:rPr b="0" lang="zh-CN" sz="4400" spc="-1" strike="noStrike">
                <a:solidFill>
                  <a:srgbClr val="000000"/>
                </a:solidFill>
                <a:latin typeface="方正大黑_GBK"/>
                <a:ea typeface="方正大黑_GBK"/>
              </a:rPr>
              <a:t>一下苹果是如何回复的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7"/>
          <p:cNvGrpSpPr/>
          <p:nvPr/>
        </p:nvGrpSpPr>
        <p:grpSpPr>
          <a:xfrm>
            <a:off x="951840" y="3164400"/>
            <a:ext cx="7155360" cy="2081160"/>
            <a:chOff x="951840" y="3164400"/>
            <a:chExt cx="7155360" cy="2081160"/>
          </a:xfrm>
        </p:grpSpPr>
        <p:sp>
          <p:nvSpPr>
            <p:cNvPr id="99" name="圆角矩形标注 5"/>
            <p:cNvSpPr/>
            <p:nvPr/>
          </p:nvSpPr>
          <p:spPr>
            <a:xfrm>
              <a:off x="2854440" y="3164400"/>
              <a:ext cx="5252760" cy="2081160"/>
            </a:xfrm>
            <a:prstGeom prst="wedgeRoundRectCallout">
              <a:avLst>
                <a:gd name="adj1" fmla="val -57600"/>
                <a:gd name="adj2" fmla="val 19099"/>
                <a:gd name="adj3" fmla="val 16667"/>
              </a:avLst>
            </a:prstGeom>
            <a:solidFill>
              <a:srgbClr val="ffffff"/>
            </a:solidFill>
            <a:ln w="28575">
              <a:solidFill>
                <a:srgbClr val="0070c0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pic>
          <p:nvPicPr>
            <p:cNvPr id="100" name="图片 3" descr=""/>
            <p:cNvPicPr/>
            <p:nvPr/>
          </p:nvPicPr>
          <p:blipFill>
            <a:blip r:embed="rId1"/>
            <a:stretch/>
          </p:blipFill>
          <p:spPr>
            <a:xfrm>
              <a:off x="951840" y="3760560"/>
              <a:ext cx="1407960" cy="132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2"/>
            <p:cNvSpPr/>
            <p:nvPr/>
          </p:nvSpPr>
          <p:spPr>
            <a:xfrm>
              <a:off x="3176280" y="3164400"/>
              <a:ext cx="4930920" cy="19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去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让公安局开个证明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证明手机是你的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云形标注 6"/>
          <p:cNvSpPr/>
          <p:nvPr/>
        </p:nvSpPr>
        <p:spPr>
          <a:xfrm>
            <a:off x="3171600" y="285120"/>
            <a:ext cx="3430440" cy="2488680"/>
          </a:xfrm>
          <a:prstGeom prst="cloudCallout">
            <a:avLst>
              <a:gd name="adj1" fmla="val 65426"/>
              <a:gd name="adj2" fmla="val 31197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03" name="图片 15" descr=""/>
          <p:cNvPicPr/>
          <p:nvPr/>
        </p:nvPicPr>
        <p:blipFill>
          <a:blip r:embed="rId2"/>
          <a:stretch/>
        </p:blipFill>
        <p:spPr>
          <a:xfrm>
            <a:off x="5116680" y="966960"/>
            <a:ext cx="1319400" cy="127584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6"/>
          <p:cNvSpPr/>
          <p:nvPr/>
        </p:nvSpPr>
        <p:spPr>
          <a:xfrm>
            <a:off x="3541320" y="929520"/>
            <a:ext cx="2234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没听说苹果收购公安部啊，难道</a:t>
            </a:r>
            <a:r>
              <a:rPr b="0" lang="en-US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8"/>
          <p:cNvSpPr/>
          <p:nvPr/>
        </p:nvSpPr>
        <p:spPr>
          <a:xfrm>
            <a:off x="3218040" y="5359320"/>
            <a:ext cx="5762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注：保留原话本意，保有想像空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9" descr=""/>
          <p:cNvPicPr/>
          <p:nvPr/>
        </p:nvPicPr>
        <p:blipFill>
          <a:blip r:embed="rId3"/>
          <a:stretch/>
        </p:blipFill>
        <p:spPr>
          <a:xfrm>
            <a:off x="7104960" y="1707480"/>
            <a:ext cx="1082880" cy="1188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121680" y="6523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6"/>
          <p:cNvGrpSpPr/>
          <p:nvPr/>
        </p:nvGrpSpPr>
        <p:grpSpPr>
          <a:xfrm>
            <a:off x="748800" y="1354680"/>
            <a:ext cx="7439040" cy="3717000"/>
            <a:chOff x="748800" y="1354680"/>
            <a:chExt cx="7439040" cy="3717000"/>
          </a:xfrm>
        </p:grpSpPr>
        <p:pic>
          <p:nvPicPr>
            <p:cNvPr id="109" name="图片 2" descr=""/>
            <p:cNvPicPr/>
            <p:nvPr/>
          </p:nvPicPr>
          <p:blipFill>
            <a:blip r:embed="rId1"/>
            <a:stretch/>
          </p:blipFill>
          <p:spPr>
            <a:xfrm>
              <a:off x="748800" y="3743640"/>
              <a:ext cx="140796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3" descr=""/>
            <p:cNvPicPr/>
            <p:nvPr/>
          </p:nvPicPr>
          <p:blipFill>
            <a:blip r:embed="rId2"/>
            <a:stretch/>
          </p:blipFill>
          <p:spPr>
            <a:xfrm>
              <a:off x="7104960" y="1707480"/>
              <a:ext cx="1082880" cy="11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圆角矩形标注 4"/>
            <p:cNvSpPr/>
            <p:nvPr/>
          </p:nvSpPr>
          <p:spPr>
            <a:xfrm>
              <a:off x="2438280" y="1354680"/>
              <a:ext cx="4046760" cy="1727640"/>
            </a:xfrm>
            <a:prstGeom prst="wedgeRoundRectCallout">
              <a:avLst>
                <a:gd name="adj1" fmla="val 57894"/>
                <a:gd name="adj2" fmla="val 10563"/>
                <a:gd name="adj3" fmla="val 16667"/>
              </a:avLst>
            </a:prstGeom>
            <a:solidFill>
              <a:srgbClr val="ffffff"/>
            </a:solidFill>
            <a:ln w="28575">
              <a:solidFill>
                <a:srgbClr val="0070c0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4000" spc="-1" strike="noStrike">
                  <a:solidFill>
                    <a:schemeClr val="dk1"/>
                  </a:solidFill>
                  <a:latin typeface="方正喵呜体"/>
                  <a:ea typeface="方正喵呜体"/>
                </a:rPr>
                <a:t>你这么牛逼，乔帮主知道吗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圆角矩形标注 5"/>
            <p:cNvSpPr/>
            <p:nvPr/>
          </p:nvSpPr>
          <p:spPr>
            <a:xfrm>
              <a:off x="2824200" y="3486240"/>
              <a:ext cx="3931920" cy="1585440"/>
            </a:xfrm>
            <a:prstGeom prst="wedgeRoundRectCallout">
              <a:avLst>
                <a:gd name="adj1" fmla="val -57600"/>
                <a:gd name="adj2" fmla="val 19099"/>
                <a:gd name="adj3" fmla="val 16667"/>
              </a:avLst>
            </a:prstGeom>
            <a:solidFill>
              <a:srgbClr val="ffffff"/>
            </a:solidFill>
            <a:ln w="28575">
              <a:solidFill>
                <a:srgbClr val="0070c0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这厮是谁</a:t>
              </a:r>
              <a:r>
                <a:rPr b="0" lang="en-US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图片 7" descr=""/>
          <p:cNvPicPr/>
          <p:nvPr/>
        </p:nvPicPr>
        <p:blipFill>
          <a:blip r:embed="rId3"/>
          <a:stretch/>
        </p:blipFill>
        <p:spPr>
          <a:xfrm>
            <a:off x="3985200" y="2722680"/>
            <a:ext cx="1054440" cy="11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1"/>
          <p:cNvGrpSpPr/>
          <p:nvPr/>
        </p:nvGrpSpPr>
        <p:grpSpPr>
          <a:xfrm>
            <a:off x="2092320" y="762120"/>
            <a:ext cx="5252760" cy="3454920"/>
            <a:chOff x="2092320" y="762120"/>
            <a:chExt cx="5252760" cy="3454920"/>
          </a:xfrm>
        </p:grpSpPr>
        <p:sp>
          <p:nvSpPr>
            <p:cNvPr id="115" name="圆角矩形标注 2"/>
            <p:cNvSpPr/>
            <p:nvPr/>
          </p:nvSpPr>
          <p:spPr>
            <a:xfrm>
              <a:off x="2092320" y="762120"/>
              <a:ext cx="5252760" cy="3454920"/>
            </a:xfrm>
            <a:prstGeom prst="wedgeRoundRectCallout">
              <a:avLst>
                <a:gd name="adj1" fmla="val -57600"/>
                <a:gd name="adj2" fmla="val 19099"/>
                <a:gd name="adj3" fmla="val 16667"/>
              </a:avLst>
            </a:prstGeom>
            <a:solidFill>
              <a:srgbClr val="ffffff"/>
            </a:solidFill>
            <a:ln w="28575">
              <a:solidFill>
                <a:srgbClr val="0070c0"/>
              </a:solidFill>
            </a:ln>
          </p:spPr>
          <p:style>
            <a:lnRef idx="2">
              <a:schemeClr val="dk1"/>
            </a:lnRef>
            <a:fillRef idx="1">
              <a:schemeClr val="lt1"/>
            </a:fillRef>
            <a:effectRef idx="0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16" name="文本框 4"/>
            <p:cNvSpPr/>
            <p:nvPr/>
          </p:nvSpPr>
          <p:spPr>
            <a:xfrm>
              <a:off x="2414160" y="948960"/>
              <a:ext cx="4930920" cy="313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我咧个去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这本来就可以证明是你的嘛，苹果搞什么飞机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工商部门投诉去</a:t>
              </a:r>
              <a:r>
                <a:rPr b="0" lang="en-US" sz="4000" spc="-1" strike="noStrike">
                  <a:solidFill>
                    <a:srgbClr val="c00000"/>
                  </a:solidFill>
                  <a:latin typeface="方正正准黑简体"/>
                  <a:ea typeface="方正正准黑简体"/>
                </a:rPr>
                <a:t>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图片 6" descr=""/>
          <p:cNvPicPr/>
          <p:nvPr/>
        </p:nvPicPr>
        <p:blipFill>
          <a:blip r:embed="rId1"/>
          <a:stretch/>
        </p:blipFill>
        <p:spPr>
          <a:xfrm>
            <a:off x="306720" y="2449080"/>
            <a:ext cx="1342440" cy="9709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2"/>
          <a:stretch/>
        </p:blipFill>
        <p:spPr>
          <a:xfrm>
            <a:off x="7497720" y="4659480"/>
            <a:ext cx="1082880" cy="1188360"/>
          </a:xfrm>
          <a:prstGeom prst="rect">
            <a:avLst/>
          </a:prstGeom>
          <a:ln w="0">
            <a:noFill/>
          </a:ln>
        </p:spPr>
      </p:pic>
      <p:sp>
        <p:nvSpPr>
          <p:cNvPr id="119" name="圆角矩形标注 9"/>
          <p:cNvSpPr/>
          <p:nvPr/>
        </p:nvSpPr>
        <p:spPr>
          <a:xfrm>
            <a:off x="2540160" y="4659480"/>
            <a:ext cx="4397040" cy="1371240"/>
          </a:xfrm>
          <a:prstGeom prst="wedgeRoundRectCallout">
            <a:avLst>
              <a:gd name="adj1" fmla="val 57894"/>
              <a:gd name="adj2" fmla="val 13503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chemeClr val="dk1"/>
                </a:solidFill>
                <a:latin typeface="方正喵呜体"/>
                <a:ea typeface="方正喵呜体"/>
              </a:rPr>
              <a:t>Yes,si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标注 4"/>
          <p:cNvSpPr/>
          <p:nvPr/>
        </p:nvSpPr>
        <p:spPr>
          <a:xfrm>
            <a:off x="1960560" y="5418000"/>
            <a:ext cx="4406040" cy="987840"/>
          </a:xfrm>
          <a:prstGeom prst="wedgeRoundRectCallout">
            <a:avLst>
              <a:gd name="adj1" fmla="val 59216"/>
              <a:gd name="adj2" fmla="val 13503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chemeClr val="dk1"/>
                </a:solidFill>
                <a:latin typeface="方正喵呜体"/>
                <a:ea typeface="方正喵呜体"/>
              </a:rPr>
              <a:t>这孙子太黑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标注 5"/>
          <p:cNvSpPr/>
          <p:nvPr/>
        </p:nvSpPr>
        <p:spPr>
          <a:xfrm>
            <a:off x="1960560" y="2078280"/>
            <a:ext cx="4406040" cy="916200"/>
          </a:xfrm>
          <a:prstGeom prst="wedgeRoundRectCallout">
            <a:avLst>
              <a:gd name="adj1" fmla="val -57600"/>
              <a:gd name="adj2" fmla="val 19099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姑娘，卖手机还是买手机啊？</a:t>
            </a:r>
            <a:r>
              <a:rPr b="0" lang="en-US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可以解锁，</a:t>
            </a:r>
            <a:r>
              <a:rPr b="0" lang="en-US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800</a:t>
            </a:r>
            <a:r>
              <a:rPr b="0" lang="zh-CN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元</a:t>
            </a:r>
            <a:r>
              <a:rPr b="0" lang="en-US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423360" y="463680"/>
            <a:ext cx="8152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背景：经过无数次的苹果售后沟通，话费猛涨，两周后，小</a:t>
            </a:r>
            <a:r>
              <a:rPr b="0" lang="en-US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同学，终于明白无法和牛逼的公司较劲，“伤不起啊，伤不起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方正喵呜体"/>
                <a:ea typeface="方正喵呜体"/>
              </a:rPr>
              <a:t>她开始尝试在手机市场寻找解决方案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标注 11"/>
          <p:cNvSpPr/>
          <p:nvPr/>
        </p:nvSpPr>
        <p:spPr>
          <a:xfrm>
            <a:off x="1960560" y="3190680"/>
            <a:ext cx="4406040" cy="916200"/>
          </a:xfrm>
          <a:prstGeom prst="wedgeRoundRectCallout">
            <a:avLst>
              <a:gd name="adj1" fmla="val -57600"/>
              <a:gd name="adj2" fmla="val 19099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方正喵呜体"/>
                <a:ea typeface="方正喵呜体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可以解锁，</a:t>
            </a:r>
            <a:r>
              <a:rPr b="0" lang="en-US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450</a:t>
            </a:r>
            <a:r>
              <a:rPr b="0" lang="zh-CN" sz="2000" spc="-1" strike="noStrike">
                <a:solidFill>
                  <a:srgbClr val="000000"/>
                </a:solidFill>
                <a:latin typeface="方正正准黑简体"/>
                <a:ea typeface="方正正准黑简体"/>
              </a:rPr>
              <a:t>元，寄深圳</a:t>
            </a:r>
            <a:r>
              <a:rPr b="0" lang="en-US" sz="2000" spc="-1" strike="noStrike">
                <a:solidFill>
                  <a:schemeClr val="dk1"/>
                </a:solidFill>
                <a:latin typeface="方正喵呜体"/>
                <a:ea typeface="方正喵呜体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标注 12"/>
          <p:cNvSpPr/>
          <p:nvPr/>
        </p:nvSpPr>
        <p:spPr>
          <a:xfrm>
            <a:off x="1960560" y="4305240"/>
            <a:ext cx="4406040" cy="916200"/>
          </a:xfrm>
          <a:prstGeom prst="wedgeRoundRectCallout">
            <a:avLst>
              <a:gd name="adj1" fmla="val -57600"/>
              <a:gd name="adj2" fmla="val 19099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……</a:t>
            </a:r>
            <a:r>
              <a:rPr b="0" lang="zh-CN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你这手机也不值钱了，</a:t>
            </a:r>
            <a:r>
              <a:rPr b="0" lang="en-US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200</a:t>
            </a:r>
            <a:r>
              <a:rPr b="0" lang="zh-CN" sz="2000" spc="-1" strike="noStrike">
                <a:solidFill>
                  <a:schemeClr val="dk1"/>
                </a:solidFill>
                <a:latin typeface="方正正准黑简体"/>
                <a:ea typeface="方正正准黑简体"/>
              </a:rPr>
              <a:t>元收了，怎么样，考虑一下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3" descr=""/>
          <p:cNvPicPr/>
          <p:nvPr/>
        </p:nvPicPr>
        <p:blipFill>
          <a:blip r:embed="rId1"/>
          <a:stretch/>
        </p:blipFill>
        <p:spPr>
          <a:xfrm>
            <a:off x="7120440" y="5291280"/>
            <a:ext cx="1193400" cy="12412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4" descr=""/>
          <p:cNvPicPr/>
          <p:nvPr/>
        </p:nvPicPr>
        <p:blipFill>
          <a:blip r:embed="rId2"/>
          <a:stretch/>
        </p:blipFill>
        <p:spPr>
          <a:xfrm>
            <a:off x="7120440" y="3067920"/>
            <a:ext cx="1138680" cy="1249920"/>
          </a:xfrm>
          <a:prstGeom prst="rect">
            <a:avLst/>
          </a:prstGeom>
          <a:ln w="0">
            <a:noFill/>
          </a:ln>
        </p:spPr>
      </p:pic>
      <p:sp>
        <p:nvSpPr>
          <p:cNvPr id="127" name="虚尾箭头 15"/>
          <p:cNvSpPr/>
          <p:nvPr/>
        </p:nvSpPr>
        <p:spPr>
          <a:xfrm rot="5400000">
            <a:off x="7404840" y="4436280"/>
            <a:ext cx="570600" cy="736200"/>
          </a:xfrm>
          <a:prstGeom prst="striped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21680" y="65232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圆角矩形标注 2"/>
          <p:cNvSpPr/>
          <p:nvPr/>
        </p:nvSpPr>
        <p:spPr>
          <a:xfrm>
            <a:off x="2417760" y="1610280"/>
            <a:ext cx="6091560" cy="3418560"/>
          </a:xfrm>
          <a:prstGeom prst="wedgeRoundRectCallout">
            <a:avLst>
              <a:gd name="adj1" fmla="val -55865"/>
              <a:gd name="adj2" fmla="val 8054"/>
              <a:gd name="adj3" fmla="val 16667"/>
            </a:avLst>
          </a:prstGeom>
          <a:solidFill>
            <a:srgbClr val="ffffff"/>
          </a:solidFill>
          <a:ln w="28575">
            <a:solidFill>
              <a:srgbClr val="0070c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Kao</a:t>
            </a: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几天不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这帮孙子连老子都不认识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整天搞什么飞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c00000"/>
                </a:solidFill>
                <a:latin typeface="方正正准黑简体"/>
                <a:ea typeface="方正正准黑简体"/>
              </a:rPr>
              <a:t>马上让售后来见我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3" descr=""/>
          <p:cNvPicPr/>
          <p:nvPr/>
        </p:nvPicPr>
        <p:blipFill>
          <a:blip r:embed="rId1">
            <a:grayscl/>
          </a:blip>
          <a:srcRect l="19177" t="0" r="22548" b="2741"/>
          <a:stretch/>
        </p:blipFill>
        <p:spPr>
          <a:xfrm>
            <a:off x="558720" y="2597040"/>
            <a:ext cx="12981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86</TotalTime>
  <Application>LibreOffice/7.4.7.2$Linux_X86_64 LibreOffice_project/40$Build-2</Application>
  <AppVersion>15.0000</AppVersion>
  <Words>338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01:11:40Z</dcterms:created>
  <dc:creator>冯凯欣</dc:creator>
  <dc:description/>
  <dc:language>en-US</dc:language>
  <cp:lastModifiedBy>王玉清</cp:lastModifiedBy>
  <dcterms:modified xsi:type="dcterms:W3CDTF">2016-02-24T02:48:21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