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323-93E0-45CE-8C43-BFB5BA15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2AC-E235-417E-B624-89367E8C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3AB-A0A4-4949-8BBA-099CC9F3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A578-0B0E-4505-A687-3F46EB98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64B6-DB47-4F53-BF61-46E606A6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CBDB-4785-4617-A9D2-B382E240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7164-3D0F-4410-A0F5-FA1E2FB3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B75B-9412-4524-A1A8-BA32E518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6D22-C008-40F4-9555-98227DF0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488E-6A9D-49F7-B54B-9B105712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3C63-FFC5-41FC-8956-0F708DBB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D22-70D1-461F-BEA2-30F43BA4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9CFB-7A25-4ED9-A3C0-369150B5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6917-75B1-4371-BE00-BED0CBA8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B9DF-6270-4EE3-B1E9-4B15D839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2C9F-A362-4AB4-8290-9EA8FB76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ECEE-4448-409E-9E48-C3E6B1E4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A4D-4180-46AD-A7CF-430EC618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1DF-7C0C-4DFF-8407-C16B4B3C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4A4-089F-46A9-85FA-C827928A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8A2-055C-4B1A-9300-51F33826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D99-66E8-471E-8B50-E8AA737C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CB1-6E8C-4B1A-8304-2CA08A73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CB3-9522-46C2-9BC4-D7E00DA2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3D52-D2B6-41A4-B6E5-52BC686696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B7A9-B13B-40BB-AB56-7DC2191765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43F2-A4EE-4B57-8AF3-086EF7237BD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93FE-D12F-44D2-961F-076F720D6C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82520"/>
            <a:ext cx="9144000" cy="6491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876320" y="5905440"/>
            <a:ext cx="4697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270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04840" y="182520"/>
            <a:ext cx="232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钱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84EB-B5D0-4CB2-8B4A-75D57501E6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dc:language>en-US</dc:language>
  <cp:lastModifiedBy>bianxiaoxiang</cp:lastModifiedBy>
  <dcterms:modified xsi:type="dcterms:W3CDTF">2015-07-20T09:29:1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