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EBB-ECD5-4E46-B68C-D6D35477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15E-D6C5-4F18-95BC-1F2E3B97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611-0FEA-48FA-AE1B-76159F4B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2AA-D151-4E41-8C18-A392A975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F4FF-FF7C-4A24-A7E2-1B034D47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D8AA-5160-4537-8604-1141D5A1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D18A-8B68-4140-B3C5-BF6371BF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E955-FC64-4F0B-89C1-4BA8D036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C8F5-CFA5-4CC3-A279-F49E4E47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EE14-BF72-4CD7-935E-B2FC979C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E9FA-C5AF-42C5-813F-B044E7F7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E39-F4B8-40FE-8E3F-B5162D22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F936-6EB4-40C0-992A-A13E5CA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1A48-F159-4C3E-9133-0C8F745D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9DD4-6A2D-4ED9-A144-8963A68D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697A-A4E7-4520-8905-AFC6BBE6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4FE6-D5CA-47CA-A29B-37322928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625-6F83-4ACB-AB08-8405ADCD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2C5-BDD1-4F76-915A-4D061128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7B8-01D9-49D9-AB3F-8F1D70DF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5E9-E828-4B45-9D78-04C313E6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648-4A01-4FD6-B5D2-AF39EC21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E51-33D6-487A-83EB-3CDC6DDA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186-36D0-49F6-995C-B1D19363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72BA-0A4F-452E-87F2-B82A345FB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河山图标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1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2"/>
          <p:cNvPicPr/>
          <p:nvPr/>
        </p:nvPicPr>
        <p:blipFill>
          <a:blip r:embed="rId4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6858000" y="0"/>
            <a:ext cx="2286000" cy="6858000"/>
            <a:chOff x="6858000" y="0"/>
            <a:chExt cx="2286000" cy="6858000"/>
          </a:xfrm>
        </p:grpSpPr>
        <p:pic>
          <p:nvPicPr>
            <p:cNvPr id="45" name="Picture 6" descr="silly_toys_bear"/>
            <p:cNvPicPr/>
            <p:nvPr/>
          </p:nvPicPr>
          <p:blipFill>
            <a:blip r:embed="rId5"/>
            <a:stretch/>
          </p:blipFill>
          <p:spPr>
            <a:xfrm>
              <a:off x="6858000" y="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silly_toys_bear"/>
            <p:cNvPicPr/>
            <p:nvPr/>
          </p:nvPicPr>
          <p:blipFill>
            <a:blip r:embed="rId6"/>
            <a:stretch/>
          </p:blipFill>
          <p:spPr>
            <a:xfrm>
              <a:off x="6858000" y="228600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silly_toys_bear"/>
            <p:cNvPicPr/>
            <p:nvPr/>
          </p:nvPicPr>
          <p:blipFill>
            <a:blip r:embed="rId7"/>
            <a:stretch/>
          </p:blipFill>
          <p:spPr>
            <a:xfrm>
              <a:off x="6858000" y="45720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1386-3B47-45EA-9650-B685F5A54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演讲比赛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1"/>
          <p:cNvSpPr/>
          <p:nvPr/>
        </p:nvSpPr>
        <p:spPr>
          <a:xfrm>
            <a:off x="2083680" y="7794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华康简综艺"/>
              </a:rPr>
              <a:t>全球炫丽通用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  <a:ea typeface="华康简综艺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华康简综艺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封面-形象"/>
          <p:cNvPicPr/>
          <p:nvPr/>
        </p:nvPicPr>
        <p:blipFill>
          <a:blip r:embed="rId1"/>
          <a:stretch/>
        </p:blipFill>
        <p:spPr>
          <a:xfrm>
            <a:off x="-14400" y="-3240"/>
            <a:ext cx="9145800" cy="685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6:55:01Z</dcterms:created>
  <dc:creator>User</dc:creator>
  <dc:description/>
  <dc:language>en-US</dc:language>
  <cp:lastModifiedBy>王玉清</cp:lastModifiedBy>
  <dcterms:modified xsi:type="dcterms:W3CDTF">2016-02-21T07:17:36Z</dcterms:modified>
  <cp:revision>38</cp:revision>
  <dc:subject/>
  <dc:title>幻灯片 1</dc:title>
</cp:coreProperties>
</file>