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514-4A5D-436E-9A30-21B33FAB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45B-DC27-4297-AEDF-E0CF66A4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D5B-D445-48A6-9D46-F48D5B24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030-D13D-4E5D-9101-0999D24F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1AD63-E2FB-4140-876C-F86CC898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8A28-704C-4462-841B-AF58A2C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B414-9FB7-4CDD-8BBE-DBCB1BED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A0D2-08FD-474D-9535-72F8D32C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F738-12EC-4EAF-BC7B-CDB236D9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1415-9314-4E6F-80AE-96EADC99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9953-601B-4E05-A690-7A1A7DB9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A88-1654-423D-83E2-B3CB24D7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006B-B406-4816-97E8-B7E6DCA4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EEF2-AD16-4019-B0E2-6F07E06C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A7CF-CF3C-4950-A952-ED01DC33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E660-345A-4F9F-B689-6AFD1925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4892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3960" y="83808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4892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3960" y="3704040"/>
            <a:ext cx="2404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09FC-D4E3-4EC9-8B22-E0408CE4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93D-510C-4A1E-A299-4CF481C2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7762-A2CD-4C31-84A3-41A8366A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E1E-B2F7-4C5D-A10F-AF984048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00C8-B0EF-4F77-9F80-07DA7F15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8B7-CC4F-400E-B77B-A1F13E58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0680" y="370404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1D5-B7CA-4945-B503-D51F228B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29160"/>
            <a:ext cx="8915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0680" y="838080"/>
            <a:ext cx="36442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704040"/>
            <a:ext cx="7467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712-DBCC-4B40-9C94-A6AB54C2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8F1CC-46AC-4D88-93B6-B4B0CE9BBE0A}" type="slidenum">
              <a:rPr b="0" lang="zh-CN" sz="1400" spc="-1" strike="noStrike">
                <a:solidFill>
                  <a:srgbClr val="000000"/>
                </a:solidFill>
                <a:latin typeface="Copperplate Gothic Bol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Click to edit the outline text format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1" marL="743040" indent="-28584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con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2" marL="11430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Third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3" marL="16002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our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4" marL="2057400" indent="-228600">
              <a:spcBef>
                <a:spcPts val="799"/>
              </a:spcBef>
              <a:buClr>
                <a:srgbClr val="5d3603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Fif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ix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</a:rPr>
              <a:t>Seventh Outline Level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pperplate Gothic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CF0-E263-4584-A716-903121C57498}" type="slidenum">
              <a:rPr b="0" lang="zh-CN" sz="1400" spc="-1" strike="noStrike">
                <a:solidFill>
                  <a:srgbClr val="000000"/>
                </a:solidFill>
                <a:latin typeface="Copperplate Gothic Bol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762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秋天通用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pic>
        <p:nvPicPr>
          <p:cNvPr id="83" name="Picture 6" descr="leaves"/>
          <p:cNvPicPr/>
          <p:nvPr/>
        </p:nvPicPr>
        <p:blipFill>
          <a:blip r:embed="rId1"/>
          <a:stretch/>
        </p:blipFill>
        <p:spPr>
          <a:xfrm>
            <a:off x="5334120" y="4343400"/>
            <a:ext cx="3614760" cy="2389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eaves"/>
          <p:cNvPicPr/>
          <p:nvPr/>
        </p:nvPicPr>
        <p:blipFill>
          <a:blip r:embed="rId2"/>
          <a:stretch/>
        </p:blipFill>
        <p:spPr>
          <a:xfrm>
            <a:off x="304920" y="4411800"/>
            <a:ext cx="3429000" cy="22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leaf"/>
          <p:cNvPicPr/>
          <p:nvPr/>
        </p:nvPicPr>
        <p:blipFill>
          <a:blip r:embed="rId3"/>
          <a:stretch/>
        </p:blipFill>
        <p:spPr>
          <a:xfrm>
            <a:off x="3962520" y="4952880"/>
            <a:ext cx="1752480" cy="1703520"/>
          </a:xfrm>
          <a:prstGeom prst="rect">
            <a:avLst/>
          </a:prstGeom>
          <a:ln w="0">
            <a:noFill/>
          </a:ln>
        </p:spPr>
      </p:pic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  <a:ea typeface="宋体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  <a:ea typeface="宋体"/>
              </a:rPr>
              <a:t>Your sub topics go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89" name="Picture 4" descr="leaf"/>
          <p:cNvPicPr/>
          <p:nvPr/>
        </p:nvPicPr>
        <p:blipFill>
          <a:blip r:embed="rId1"/>
          <a:stretch/>
        </p:blipFill>
        <p:spPr>
          <a:xfrm>
            <a:off x="152280" y="4419720"/>
            <a:ext cx="2286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pperplate Gothic Bold"/>
                <a:ea typeface="宋体"/>
              </a:rPr>
              <a:t>Transitional Page</a:t>
            </a:r>
            <a:endParaRPr b="0" lang="en-US" sz="66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2971440"/>
            <a:ext cx="8076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d3603"/>
              </a:solidFill>
              <a:latin typeface="Eras Bold ITC"/>
              <a:ea typeface="宋体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  <a:ea typeface="宋体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Copperplate Gothic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838080"/>
            <a:ext cx="7467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d3603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3603"/>
                </a:solidFill>
                <a:latin typeface="Eras Bold ITC"/>
                <a:ea typeface="宋体"/>
              </a:rPr>
              <a:t>Your sub topics go here</a:t>
            </a: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3603"/>
              </a:solidFill>
              <a:latin typeface="Eras Bold ITC"/>
            </a:endParaRPr>
          </a:p>
        </p:txBody>
      </p:sp>
      <p:pic>
        <p:nvPicPr>
          <p:cNvPr id="95" name="Picture 4" descr="leaf"/>
          <p:cNvPicPr/>
          <p:nvPr/>
        </p:nvPicPr>
        <p:blipFill>
          <a:blip r:embed="rId2"/>
          <a:stretch/>
        </p:blipFill>
        <p:spPr>
          <a:xfrm>
            <a:off x="152280" y="4419720"/>
            <a:ext cx="2286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38:10Z</dcterms:created>
  <dc:creator>User</dc:creator>
  <dc:description/>
  <dc:language>en-US</dc:language>
  <cp:lastModifiedBy>王玉清</cp:lastModifiedBy>
  <dcterms:modified xsi:type="dcterms:W3CDTF">2016-02-22T03:08:54Z</dcterms:modified>
  <cp:revision>4</cp:revision>
  <dc:subject/>
  <dc:title>Autumn Myst</dc:title>
</cp:coreProperties>
</file>