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60C9-9D5B-4829-9189-1F4ADB43B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1160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6D3A-A4CA-4803-9BBC-4D44D778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1160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1160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FBBF-4D81-4049-9E53-C9341C723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8592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8592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1160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1160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1160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7ADC-2D7D-4E6B-AF45-3AD741C39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7BC4-F7AE-4C27-B85A-9D0EEB5B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28592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FBD9-76DA-456A-AD3A-D84EE3B0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F271-9BB1-4EA0-B996-1EEED717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DCC4-1BD1-4E11-950A-A59C9A64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A4EC-0915-42E5-9107-2CFCBB90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04376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1656-0950-4D80-BCFD-BB247222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1160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F52D-FECD-4C3C-BC07-94C44ECB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8592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F5C5-B7B8-4F42-9515-D8C0111D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71160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64DE-D06B-41AB-AF14-71061DF1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1160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6FB9-D020-48DE-9D49-AEA71939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71160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6B4C-FE38-4D59-900E-E6995FBD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1160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71160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2C9A-7DB5-4B06-AE5A-E643F1E1E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28592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28592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71160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71160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71160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9281-5BDA-4A73-A4FE-4A7D9F90F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8592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2936-E42B-48C1-87C6-D4559EAE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04376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1160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71160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1160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71160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1160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71160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8592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8592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71160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71160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71160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D766-EAC6-4106-9ADD-B6FD8417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A9BC-705F-4206-ABC6-1040ABBE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04376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E2F9-9253-4718-B810-9345DF80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1160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0B9A-2D1B-487D-96C0-E2F17E55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1160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EA2E-2C38-4597-9244-74E72388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1160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75FF-D437-4B00-A041-0D385B9D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www.nordridesign.cn/index.php" TargetMode="External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我的文件\素材文件\3D小人\8.JPG"/>
          <p:cNvPicPr/>
          <p:nvPr/>
        </p:nvPicPr>
        <p:blipFill>
          <a:blip r:embed="rId2"/>
          <a:srcRect l="0" t="10264" r="7692" b="12823"/>
          <a:stretch/>
        </p:blipFill>
        <p:spPr>
          <a:xfrm>
            <a:off x="7429680" y="0"/>
            <a:ext cx="1714320" cy="1071720"/>
          </a:xfrm>
          <a:prstGeom prst="rect">
            <a:avLst/>
          </a:prstGeom>
          <a:ln w="0">
            <a:noFill/>
          </a:ln>
        </p:spPr>
      </p:pic>
      <p:sp>
        <p:nvSpPr>
          <p:cNvPr id="1" name="任意多边形 6"/>
          <p:cNvSpPr/>
          <p:nvPr/>
        </p:nvSpPr>
        <p:spPr>
          <a:xfrm>
            <a:off x="0" y="-25560"/>
            <a:ext cx="7858080" cy="1097280"/>
          </a:xfrm>
          <a:custGeom>
            <a:avLst/>
            <a:gdLst>
              <a:gd name="textAreaLeft" fmla="*/ 0 w 7858080"/>
              <a:gd name="textAreaRight" fmla="*/ 7858440 w 7858080"/>
              <a:gd name="textAreaTop" fmla="*/ 0 h 1097280"/>
              <a:gd name="textAreaBottom" fmla="*/ 1097640 h 1097280"/>
            </a:gdLst>
            <a:ahLst/>
            <a:rect l="textAreaLeft" t="textAreaTop" r="textAreaRight" b="textAreaBottom"/>
            <a:pathLst>
              <a:path w="7500958" h="3429024">
                <a:moveTo>
                  <a:pt x="0" y="0"/>
                </a:moveTo>
                <a:lnTo>
                  <a:pt x="7500958" y="0"/>
                </a:lnTo>
                <a:cubicBezTo>
                  <a:pt x="7118923" y="833988"/>
                  <a:pt x="7081776" y="2775409"/>
                  <a:pt x="7500958" y="3429024"/>
                </a:cubicBezTo>
                <a:lnTo>
                  <a:pt x="0" y="342902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87e2"/>
              </a:gs>
              <a:gs pos="100000">
                <a:srgbClr val="94c0e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8592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BA17-522A-4FD2-AA3B-9B9FC2194C77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8458-0853-4E73-97FD-360B00BF5E1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8131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4029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42559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45435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47577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5037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52642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54784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4078080" y="3019320"/>
            <a:ext cx="14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中国专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设计交流论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6" descr="logo"/>
          <p:cNvPicPr/>
          <p:nvPr/>
        </p:nvPicPr>
        <p:blipFill>
          <a:blip r:embed="rId2"/>
          <a:stretch/>
        </p:blipFill>
        <p:spPr>
          <a:xfrm>
            <a:off x="3116160" y="2525760"/>
            <a:ext cx="782640" cy="73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logo2"/>
          <p:cNvPicPr/>
          <p:nvPr/>
        </p:nvPicPr>
        <p:blipFill>
          <a:blip r:embed="rId3"/>
          <a:stretch/>
        </p:blipFill>
        <p:spPr>
          <a:xfrm>
            <a:off x="2563920" y="2347920"/>
            <a:ext cx="3828960" cy="13255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8">
            <a:hlinkClick r:id="rId4"/>
          </p:cNvPr>
          <p:cNvSpPr/>
          <p:nvPr/>
        </p:nvSpPr>
        <p:spPr>
          <a:xfrm>
            <a:off x="2484360" y="2060640"/>
            <a:ext cx="3987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E:\我的文件\素材文件\3D小人\8.JPG"/>
          <p:cNvPicPr/>
          <p:nvPr/>
        </p:nvPicPr>
        <p:blipFill>
          <a:blip r:embed="rId2"/>
          <a:srcRect l="27275" t="0" r="0" b="0"/>
          <a:stretch/>
        </p:blipFill>
        <p:spPr>
          <a:xfrm>
            <a:off x="0" y="0"/>
            <a:ext cx="5334120" cy="5500800"/>
          </a:xfrm>
          <a:prstGeom prst="rect">
            <a:avLst/>
          </a:prstGeom>
          <a:ln w="0">
            <a:noFill/>
          </a:ln>
        </p:spPr>
      </p:pic>
      <p:sp>
        <p:nvSpPr>
          <p:cNvPr id="97" name="任意多边形 5"/>
          <p:cNvSpPr/>
          <p:nvPr/>
        </p:nvSpPr>
        <p:spPr>
          <a:xfrm>
            <a:off x="2571840" y="0"/>
            <a:ext cx="6572160" cy="6858000"/>
          </a:xfrm>
          <a:custGeom>
            <a:avLst/>
            <a:gdLst/>
            <a:ahLst/>
            <a:rect l="l" t="t" r="r" b="b"/>
            <a:pathLst>
              <a:path w="6572360" h="5000660">
                <a:moveTo>
                  <a:pt x="857320" y="0"/>
                </a:moveTo>
                <a:lnTo>
                  <a:pt x="6572360" y="0"/>
                </a:lnTo>
                <a:lnTo>
                  <a:pt x="6572360" y="5000660"/>
                </a:lnTo>
                <a:lnTo>
                  <a:pt x="0" y="5000660"/>
                </a:lnTo>
                <a:cubicBezTo>
                  <a:pt x="642817" y="4346076"/>
                  <a:pt x="1643873" y="3303515"/>
                  <a:pt x="1786760" y="2470072"/>
                </a:cubicBezTo>
                <a:cubicBezTo>
                  <a:pt x="1929647" y="1636629"/>
                  <a:pt x="1513584" y="705005"/>
                  <a:pt x="857320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任意多边形 4"/>
          <p:cNvSpPr/>
          <p:nvPr/>
        </p:nvSpPr>
        <p:spPr>
          <a:xfrm>
            <a:off x="3000240" y="0"/>
            <a:ext cx="6143760" cy="6858000"/>
          </a:xfrm>
          <a:custGeom>
            <a:avLst/>
            <a:gdLst/>
            <a:ahLst/>
            <a:rect l="l" t="t" r="r" b="b"/>
            <a:pathLst>
              <a:path w="6143700" h="5000660">
                <a:moveTo>
                  <a:pt x="428660" y="0"/>
                </a:moveTo>
                <a:lnTo>
                  <a:pt x="6143700" y="0"/>
                </a:lnTo>
                <a:lnTo>
                  <a:pt x="6143700" y="5000660"/>
                </a:lnTo>
                <a:lnTo>
                  <a:pt x="0" y="5000660"/>
                </a:lnTo>
                <a:cubicBezTo>
                  <a:pt x="642817" y="4346076"/>
                  <a:pt x="1501004" y="3303515"/>
                  <a:pt x="1572447" y="2470072"/>
                </a:cubicBezTo>
                <a:cubicBezTo>
                  <a:pt x="1643890" y="1636629"/>
                  <a:pt x="1084924" y="705005"/>
                  <a:pt x="428660" y="0"/>
                </a:cubicBezTo>
                <a:close/>
              </a:path>
            </a:pathLst>
          </a:cu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任意多边形 3"/>
          <p:cNvSpPr/>
          <p:nvPr/>
        </p:nvSpPr>
        <p:spPr>
          <a:xfrm>
            <a:off x="3429000" y="0"/>
            <a:ext cx="5715000" cy="6858000"/>
          </a:xfrm>
          <a:custGeom>
            <a:avLst/>
            <a:gdLst/>
            <a:ahLst/>
            <a:rect l="l" t="t" r="r" b="b"/>
            <a:pathLst>
              <a:path w="5715040" h="5000660">
                <a:moveTo>
                  <a:pt x="0" y="0"/>
                </a:moveTo>
                <a:lnTo>
                  <a:pt x="5715040" y="0"/>
                </a:lnTo>
                <a:lnTo>
                  <a:pt x="5715040" y="5000660"/>
                </a:lnTo>
                <a:lnTo>
                  <a:pt x="0" y="5000660"/>
                </a:lnTo>
                <a:cubicBezTo>
                  <a:pt x="642817" y="4346076"/>
                  <a:pt x="1358135" y="3303515"/>
                  <a:pt x="1358135" y="2470072"/>
                </a:cubicBezTo>
                <a:cubicBezTo>
                  <a:pt x="1358135" y="1636629"/>
                  <a:pt x="656264" y="705005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558ed5"/>
              </a:gs>
              <a:gs pos="100000">
                <a:srgbClr val="4b9fe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28592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9"/>
          <p:cNvSpPr/>
          <p:nvPr/>
        </p:nvSpPr>
        <p:spPr>
          <a:xfrm>
            <a:off x="611280" y="1268280"/>
            <a:ext cx="716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人生及选择通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Unbenannt-2"/>
          <p:cNvPicPr/>
          <p:nvPr/>
        </p:nvPicPr>
        <p:blipFill>
          <a:blip r:embed="rId1"/>
          <a:stretch/>
        </p:blipFill>
        <p:spPr>
          <a:xfrm>
            <a:off x="6369120" y="3214800"/>
            <a:ext cx="280800" cy="431640"/>
          </a:xfrm>
          <a:prstGeom prst="rect">
            <a:avLst/>
          </a:prstGeom>
          <a:ln w="0">
            <a:noFill/>
          </a:ln>
        </p:spPr>
      </p:pic>
      <p:sp>
        <p:nvSpPr>
          <p:cNvPr id="14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8760" y="17859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572080" y="1500120"/>
            <a:ext cx="32148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细黑"/>
              </a:rPr>
              <a:t>感谢您的关注！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12:58:23Z</dcterms:created>
  <dc:creator>dell</dc:creator>
  <dc:description>PowerBar：中国专业ppt设计交流论坛，是基于PowerPoint软件，以设计，创意，技巧，讨论，赏析，模板发布内容为主。
通过Nordri设计团队并汇集国内优秀PowerPoint设计者/爱好者的原创力量，建立更多与PPT相关的专业内容，为网友共享。 
</dc:description>
  <cp:keywords>ppt模板 PPT专业模板 PowerBar 专业PPT论坛</cp:keywords>
  <dc:language>en-US</dc:language>
  <cp:lastModifiedBy>王玉清</cp:lastModifiedBy>
  <dcterms:modified xsi:type="dcterms:W3CDTF">2016-02-24T03:40:49Z</dcterms:modified>
  <cp:revision>5</cp:revision>
  <dc:subject>PowerBar原创专业PPT模板</dc:subject>
  <dc:title>幻灯片 1</dc:title>
</cp:coreProperties>
</file>