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C5D8-2482-41B9-85C4-9EE8547935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62B-30F5-4B6C-979B-B7F943133DE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C4D-F0A3-4924-9F7F-E465B242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41A-083C-413A-9C00-8D483B8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0D2-5179-4C43-BC4A-8199CDB9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F7E-B3EF-4266-9B0E-73C983D6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6142-E5CF-4CA6-B3E8-0C6DA9EF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EEDF-8E6F-445F-8DC1-A50BE80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8D0D-2783-4725-90DB-3D618AF1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AB72-900F-409E-927D-568E5C1D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593-BC25-47E9-A0E7-41C0838A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8BC-17B0-49B8-AD7B-E76099A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98BA-32D5-448E-BB8B-11EFD44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E5C-7068-4FDF-8119-349488C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43B6-D7CB-486C-B35A-D79AF8C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35B-799E-4E11-895E-17E6336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CCA5-4BCB-4663-91D3-93E2183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8E0-634E-43AC-A9F0-EB1EE141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46C-13DE-446B-A1BC-751F74AF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ADBE-76F3-4742-ADCF-9A206E5C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6D7C-DC0C-4C03-8AC5-58D28C16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3650-8B3D-45DC-8443-75AC73E7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F84D-9056-4FCC-84EE-CA1EF4C7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55F3-0006-44E1-A4A4-CF728C08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C17-DDE3-490B-BE30-BD83055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C8CA-169D-44DE-8817-9E675EDA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B760-9612-4180-8E56-D8F915F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D6DC-08B9-4441-8A5D-5BEAC8F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3FEB-6543-4FD8-B31F-5768056F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EB6B-47A4-40A5-8C7C-60D3AEA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7C2C-9D5F-422A-9886-EAF6D518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8E61-8952-4F5C-84F1-45E3FC88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630-7055-4D31-9891-BB40C58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F69-F866-43CE-B503-72E8A8F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3CC-817E-4F67-87AB-8E7882A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ACB-8A5E-471D-9A37-E47CA39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6FB-1A0A-4190-A27B-F0E900A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E2B-B213-4D19-B287-CB6F965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BC3-3D69-43BF-82A7-345CC465C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41F-D375-4BCB-ACE5-126B95BAC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5B03-C4BB-4EBE-90D0-E3665FEA9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收获的季节通用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模板下载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-19080" y="6400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王玉清</cp:lastModifiedBy>
  <dcterms:modified xsi:type="dcterms:W3CDTF">2016-03-01T07:32:59Z</dcterms:modified>
  <cp:revision>17</cp:revision>
  <dc:subject/>
  <dc:title>Thankful Turkey</dc:title>
</cp:coreProperties>
</file>