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79232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07A-7B8E-4BD8-9312-54CFDCB7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71294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869360"/>
            <a:ext cx="71294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CF1-AB06-4300-95CB-92569E8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1364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E67-11FC-4BEF-B4EC-4E28CA9A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0920" y="323964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81480" y="323964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86936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0920" y="486936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81480" y="486936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14B-8996-4182-B8DE-D0E8DE0E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2A9C-2478-4787-9662-7A99D8A2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0360" y="3239640"/>
            <a:ext cx="712944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D71E-700E-4731-A23B-1508B617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71294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DF3B-20C9-4C0A-81E6-47A583E6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105F-A6A7-4612-916A-7935293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7E4-FAED-4021-861D-5EBC81B6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720" y="288720"/>
            <a:ext cx="71294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A0E5-97CE-4E91-87E0-9E2310FF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036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BF8F-A73C-4D59-B602-CC6A9B3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3239640"/>
            <a:ext cx="712944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930-4352-4608-B49D-9CFCEAB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1364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ADF5-7495-4140-A5FC-C22387F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0360" y="4869360"/>
            <a:ext cx="71294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CEBD-C604-4DE6-9286-62090B65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71294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0360" y="4869360"/>
            <a:ext cx="71294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BDBF-E70B-456C-933E-D6600BF8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36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1364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6A74-6012-4ACC-A10D-F5CE0B4A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0920" y="323964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1480" y="323964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0360" y="486936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0920" y="486936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181480" y="4869360"/>
            <a:ext cx="22953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7B4A-35C8-45A3-B157-E4BE8841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71294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755-68ED-491B-BD74-D6584879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75D-0FCB-4B70-B3EC-11C4CD47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CF4-6487-4328-AF54-5D801629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720" y="288720"/>
            <a:ext cx="71294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882-704A-44EA-9969-DBD8879E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502-1BFE-420A-8DED-6D764EA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3640" y="486936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637-7EAF-4227-982B-372E7B5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3640" y="3239640"/>
            <a:ext cx="34790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869360"/>
            <a:ext cx="71294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791-BCD4-4D8A-8362-2D686BD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96360" y="6557760"/>
            <a:ext cx="1847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E564-B768-4AF5-BCAA-0962CA2E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60360" y="3239640"/>
            <a:ext cx="71294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6720" y="1679040"/>
            <a:ext cx="712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6360" y="6557760"/>
            <a:ext cx="18478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4DDC-09D7-4EE5-BA26-53BAE8A1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12823264179007"/>
          <p:cNvPicPr/>
          <p:nvPr/>
        </p:nvPicPr>
        <p:blipFill>
          <a:blip r:embed="rId1"/>
          <a:stretch/>
        </p:blipFill>
        <p:spPr>
          <a:xfrm>
            <a:off x="0" y="0"/>
            <a:ext cx="7921800" cy="511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745080" y="53308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329080" y="6480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4896000"/>
            <a:ext cx="7921800" cy="7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-71280" y="4464000"/>
            <a:ext cx="37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bjrz.net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北京人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360" y="6769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1280" y="216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98360"/>
            <a:ext cx="711036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3600" y="1333080"/>
            <a:ext cx="773424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311880" y="349200"/>
            <a:ext cx="1204920" cy="368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E49-F474-4EE5-8099-1488FD15C70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12823264179007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1079640"/>
            <a:ext cx="7921800" cy="6121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4"/>
          <p:cNvSpPr/>
          <p:nvPr/>
        </p:nvSpPr>
        <p:spPr>
          <a:xfrm>
            <a:off x="0" y="0"/>
            <a:ext cx="7921800" cy="2879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2087640"/>
            <a:ext cx="79218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1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1368360"/>
            <a:ext cx="792180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1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863640"/>
            <a:ext cx="792180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1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0" y="1655640"/>
            <a:ext cx="79218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1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0" y="1154160"/>
            <a:ext cx="792180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1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440000" y="384120"/>
            <a:ext cx="51116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  <a:ea typeface="幼圆"/>
              </a:rPr>
              <a:t>周末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愉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791352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3889440"/>
            <a:ext cx="7921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714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人的一生两个最大的财富是：你的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"/>
              </a:rPr>
              <a:t>才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和你的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"/>
              </a:rPr>
              <a:t>时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。才华越来越多，但是时间越来越少，我们的一生可以说是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"/>
              </a:rPr>
              <a:t>用时间来换取才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。如果一天天过去了，我们的时间少了，而才华没有增加，那就是虚度了时光。所以，我们必须节省时间，有效率地使用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000"/>
              </a:spcBef>
              <a:buClr>
                <a:srgbClr val="714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如何有效率地利用时间呢？我有下面几个建议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4" descr="12964936561439"/>
          <p:cNvPicPr/>
          <p:nvPr/>
        </p:nvPicPr>
        <p:blipFill>
          <a:blip r:embed="rId1"/>
          <a:stretch/>
        </p:blipFill>
        <p:spPr>
          <a:xfrm>
            <a:off x="0" y="0"/>
            <a:ext cx="792180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5"/>
          <p:cNvSpPr/>
          <p:nvPr/>
        </p:nvSpPr>
        <p:spPr>
          <a:xfrm>
            <a:off x="0" y="2808360"/>
            <a:ext cx="7921800" cy="720720"/>
          </a:xfrm>
          <a:prstGeom prst="rect">
            <a:avLst/>
          </a:prstGeom>
          <a:solidFill>
            <a:srgbClr val="e1c5d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736720"/>
            <a:ext cx="7921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做你真正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</a:rPr>
              <a:t>感兴趣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、与自己人生目标一致的事情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744720"/>
            <a:ext cx="78501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发现我的“生产力”和我的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“兴趣”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有着直接的关系，而且这种关系还不是单纯的线性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果面对我没有兴趣的事情，我可能会花掉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时间，但只能产生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效果；如果遇到我感兴趣的事情，我可能会花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时间而得到</a:t>
            </a:r>
            <a:r>
              <a:rPr b="1" lang="en-US" sz="1800" spc="-1" strike="noStrike">
                <a:solidFill>
                  <a:srgbClr val="ff6600"/>
                </a:solidFill>
                <a:latin typeface="楷体"/>
                <a:ea typeface="楷体"/>
              </a:rPr>
              <a:t>200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％的效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要在工作上奋发图强，身体健康固然重要，但是真正能改变你的状态的关键是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心理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而不是生理上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真正地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投入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到你的工作中，你需要的是一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态度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、一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渴望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、一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意志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2921741564035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fb899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80" y="266364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知道你的时间是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如何花掉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的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3600360"/>
            <a:ext cx="7921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caab2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挑一个星期，每天记录下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每</a:t>
            </a:r>
            <a:r>
              <a:rPr b="1" lang="en-US" sz="1800" spc="-1" strike="noStrike">
                <a:solidFill>
                  <a:srgbClr val="ff6600"/>
                </a:solidFill>
                <a:latin typeface="楷体"/>
                <a:ea typeface="楷体"/>
              </a:rPr>
              <a:t>30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分钟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做的事情，然后做一个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分类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例如：读书、准备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GRE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、和朋友聊天、社团活动等）和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统计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，看看自己什么方面花了太多的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caab2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凡事想要进步，必须先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理解现状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每天结束后，把一整天做的事记下来，每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分钟为一个单位（例如：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:00—1:1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等车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:15—1:4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搭车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:45—2:4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与朋友喝茶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caab2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在一周结束后，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分析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下，这周你的时间如何可以更有效率地安排？有没有活动占太大的比例？有没有方法可以增加效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65358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2608465532327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3080" y="3600360"/>
            <a:ext cx="784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如果你做了上面的时间统计，你一定发现每天有很多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时间流失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了，例如等车、排队、走路、搭车等，可以用来背单字、打电话、温习功课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现在随时随地都能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上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，所以没有任何借口再发呆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我前一阵和同事一起出差，他们都很惊讶为什么我和他们整天在一起，但是我的电子邮件都可以及时回答？后来，他们发现，当他们在飞机上和汽车上聊天、读杂志和发呆的时候，我就把电子邮件全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重点是，无论自己忙还是不忙，你要把那些可以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利用时间碎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做的事先准备好，到你有空闲的时候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有计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地拿出来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97a78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-360" y="2664000"/>
            <a:ext cx="7921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三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使用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时间碎片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死时间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12657735671992"/>
          <p:cNvPicPr/>
          <p:nvPr/>
        </p:nvPicPr>
        <p:blipFill>
          <a:blip r:embed="rId1"/>
          <a:stretch/>
        </p:blipFill>
        <p:spPr>
          <a:xfrm>
            <a:off x="0" y="0"/>
            <a:ext cx="792180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71280" y="3816360"/>
            <a:ext cx="7921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75a4b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在工作和生活中每天都有干不完的事，唯一能够做的就是</a:t>
            </a:r>
            <a:r>
              <a:rPr b="1" lang="zh-CN" sz="2000" spc="-1" strike="noStrike">
                <a:solidFill>
                  <a:srgbClr val="ff6600"/>
                </a:solidFill>
                <a:latin typeface="楷体"/>
                <a:ea typeface="楷体"/>
              </a:rPr>
              <a:t>分清轻重缓急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要理解急事不等于重要的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75a4b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天除了办又急又重要的事情外，一定要注意不要成为急事的奴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75a4b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些急但是不重要的事情，你要</a:t>
            </a:r>
            <a:r>
              <a:rPr b="1" lang="zh-CN" sz="2000" spc="-1" strike="noStrike">
                <a:solidFill>
                  <a:srgbClr val="ff6600"/>
                </a:solidFill>
                <a:latin typeface="楷体"/>
                <a:ea typeface="楷体"/>
              </a:rPr>
              <a:t>学会放掉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要能对人说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no!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而且每天这三件事里最好有一件重要但是不急的，这样才能确保你没有成为急事的奴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2305080"/>
            <a:ext cx="7921800" cy="1150920"/>
          </a:xfrm>
          <a:prstGeom prst="rect">
            <a:avLst/>
          </a:prstGeom>
          <a:solidFill>
            <a:srgbClr val="75a4b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-360" y="2232000"/>
            <a:ext cx="792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四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要事为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每天一大早挑出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最重要的三件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当天一定要能够做完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12739571696175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360036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b624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有的年轻人会说自己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没有时间学习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，其实，换个说法就是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学习没有被排上优先级次序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b624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曾经有一个教学生做时间管理的老师，他上课时带来两个大玻璃缸和一堆大小不一的石头。他做了一个实验，在其中一个玻璃缸中先把小石、砂倒进去，最后大石头就放不下了。而另一个玻璃缸中先放大石头，其它小石和砂却可以慢慢渗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b624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他以此为比喻说：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时间管理就是要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找到自己的优先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，若颠倒顺序，一堆琐事占满了时间，重要的事情就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没有空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了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9b624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-360" y="2592360"/>
            <a:ext cx="79218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五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要有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纪律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720287528888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3600360"/>
            <a:ext cx="7921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61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人如果利用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最高效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的时间，只要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投入就能产生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效率。相对来说，如果使用最低效的时间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时间投入只能产生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效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61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天头脑最清楚的时候，应该放在最需要专心的工作上。与朋友、家人在一起的时间，相对来说，不需要头脑那么清楚。所以，我们要把握一天中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最高效时间（有些人是早晨，也有些人是下午和晚上；除了时间之外，还要看你的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心态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，血糖的高低，休息是否足够等综合考量），专门用于最困难的科目和最需要思考的学习上。许多同学喜欢熬夜，但是晚睡会伤身，所以还是尽量早睡早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c6183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0920" y="2663640"/>
            <a:ext cx="785052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六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运用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％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原则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65358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12673269802390"/>
          <p:cNvPicPr/>
          <p:nvPr/>
        </p:nvPicPr>
        <p:blipFill>
          <a:blip r:embed="rId1"/>
          <a:stretch/>
        </p:blipFill>
        <p:spPr>
          <a:xfrm>
            <a:off x="0" y="0"/>
            <a:ext cx="7921800" cy="3313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3384360"/>
            <a:ext cx="7921800" cy="36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对于家庭的时间分配是用下列的原则：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划清界限、言出必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对家人做出承诺后，而且一定要做到，但是希望其他时间得到谅解。制定较低的期望值以免造成失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忙中偷闲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不要一投入工作就忽视了家人，有时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分钟的体贴比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小时的陪伴还更受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闲中偷忙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学会怎么利用时间碎片。例如：家人没起床的时候，你就可以利用这段空闲时间去做你需要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注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有质量的时间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quality time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时间不是每一分钟都是一样的，有时需要全神贯注，有时坐在旁边上网就可以了。要记得家人平时为你牺牲很多，度假、周末是你补偿的机会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2521080"/>
            <a:ext cx="7921800" cy="792000"/>
          </a:xfrm>
          <a:prstGeom prst="rect">
            <a:avLst/>
          </a:prstGeom>
          <a:solidFill>
            <a:srgbClr val="8f858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-360" y="2448000"/>
            <a:ext cx="79218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七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平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和家庭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3:20:47Z</dcterms:created>
  <dc:creator>monica.pan</dc:creator>
  <dc:description/>
  <dc:language>en-US</dc:language>
  <cp:lastModifiedBy>USER</cp:lastModifiedBy>
  <dcterms:modified xsi:type="dcterms:W3CDTF">2015-07-20T11:18:1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