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DA6AB-8864-40DE-81F9-0C44623E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90611F-F51A-4BDF-A2B5-39EF373370A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9AF856-31B1-4EE2-B667-AF2810D5D2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22404B-F67B-4198-9BBB-027A69ECFB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0A989C-0F60-4BFE-9A3F-68ED62F78E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F09-8752-4DD3-A047-A32C8F45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5CA-B044-4774-A926-58C04E3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C82-9CA3-4356-853F-D853DC92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FC8-4135-405D-8C58-E5AC8B33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C58F-29F6-4FE2-A373-10D059DC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59E-1B6D-45F9-B30C-87C4A09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5D80-19C1-444C-A104-B01CBC33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338-FE09-4156-804E-93441DD2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74DC-D3BD-498D-8536-A2141FEE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0CC7-1E1E-4D01-8D77-395A6641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D33-B9AF-43AB-86F6-60031A5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A1F-30F8-47EC-876E-7C70B2A6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F53-053C-4B15-B707-1929DA2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3646-4228-4541-B7C0-901B9579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C2CB-C4BD-4992-9C50-47F57B8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A3D-EB5F-4165-AD06-611F5E5C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DE2-7EE3-44C5-81A5-78D01FA2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6FD6-CED3-4BDA-8371-03110F74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3B41-79F6-4441-9191-52F8EBE0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EA9E-7B12-4D21-A804-711471F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6C1D-0D38-4262-BC3A-CDB2D2D5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B859-A55C-4D23-ACB8-6C9DDDAD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EB0-9336-4408-ABBE-C25D545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379C-FE80-4871-8AEB-5B20050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A3F5-FF3B-411D-B0E9-4F545AA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FE5A-1120-44EA-ADA5-0AB3909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9EAE-5668-4E2F-A36A-B3996A4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C148-D1C1-4BC7-A4F9-7467CC1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B619-AC31-4183-A338-519B89EC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B4C6-6F63-48F9-9810-56B3FDC5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52F-2D6E-4CD2-94AC-52E261D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50D-58BE-4B5F-B67D-79BFEAF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890-4EBC-4F99-B32E-237A5E2F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364-93BC-41AB-8D20-EDEE339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398-F647-46DB-83C3-D199CA22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A7F-108C-4396-BB31-49BEE0F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tretch/>
        </p:blipFill>
        <p:spPr>
          <a:xfrm>
            <a:off x="0" y="-27360"/>
            <a:ext cx="9143640" cy="69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0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PowerPoint</a:t>
            </a:r>
            <a:r>
              <a:rPr b="0" lang="zh-CN" sz="48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模板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B305D6-AF73-4745-A02F-4E101ED4D2B1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微软雅黑"/>
              </a:rPr>
              <a:t>第二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微软雅黑"/>
              </a:rPr>
              <a:t>第三级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buClr>
                <a:srgbClr val="808080"/>
              </a:buClr>
              <a:buFont typeface="Arial"/>
              <a:buChar char="–"/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  <a:ea typeface="微软雅黑"/>
              </a:rPr>
              <a:t>第四级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buClr>
                <a:srgbClr val="808080"/>
              </a:buClr>
              <a:buFont typeface="Arial"/>
              <a:buChar char="»"/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  <a:ea typeface="微软雅黑"/>
              </a:rPr>
              <a:t>第五级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969539-E540-4206-BB56-51E214A0CFFC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640" y="2853000"/>
            <a:ext cx="432000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/>
                </a:solidFill>
                <a:latin typeface="Arial Black"/>
                <a:ea typeface="微软雅黑"/>
              </a:rPr>
              <a:t>您的章节标题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11640" y="3573000"/>
            <a:ext cx="432000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8d8d8d"/>
                </a:solidFill>
                <a:latin typeface="微软雅黑"/>
                <a:ea typeface="微软雅黑"/>
              </a:rPr>
              <a:t>您的章节副标题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57D4AB-0F79-41D4-8693-35CC241F6404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763640" y="2421000"/>
            <a:ext cx="719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chemeClr val="accent2"/>
                </a:solidFill>
                <a:latin typeface="MS PGothic"/>
                <a:ea typeface="MS PGothic"/>
              </a:rPr>
              <a:t>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6516360" y="3069000"/>
            <a:ext cx="9216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chemeClr val="accent2"/>
                </a:solidFill>
                <a:latin typeface="MS PGothic"/>
                <a:ea typeface="MS PGothic"/>
              </a:rPr>
              <a:t>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0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矢量云朵通用</a:t>
            </a:r>
            <a:r>
              <a:rPr b="0" lang="en-US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11640" y="2853000"/>
            <a:ext cx="432000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/>
                </a:solidFill>
                <a:latin typeface="Arial Black"/>
                <a:ea typeface="微软雅黑"/>
              </a:rPr>
              <a:t>您的章节标题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11640" y="3573000"/>
            <a:ext cx="432000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8d8d8d"/>
                </a:solidFill>
                <a:latin typeface="微软雅黑"/>
                <a:ea typeface="微软雅黑"/>
              </a:rPr>
              <a:t>您的章节副标题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温馨提示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十字星 6"/>
          <p:cNvSpPr/>
          <p:nvPr/>
        </p:nvSpPr>
        <p:spPr>
          <a:xfrm>
            <a:off x="2001600" y="2754000"/>
            <a:ext cx="71640" cy="71640"/>
          </a:xfrm>
          <a:prstGeom prst="star4">
            <a:avLst>
              <a:gd name="adj" fmla="val 12500"/>
            </a:avLst>
          </a:prstGeom>
          <a:solidFill>
            <a:schemeClr val="accent1"/>
          </a:solidFill>
          <a:ln>
            <a:solidFill>
              <a:srgbClr val="00ade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3" name="十字星 7"/>
          <p:cNvSpPr/>
          <p:nvPr/>
        </p:nvSpPr>
        <p:spPr>
          <a:xfrm>
            <a:off x="2017440" y="3474000"/>
            <a:ext cx="71640" cy="71640"/>
          </a:xfrm>
          <a:prstGeom prst="star4">
            <a:avLst>
              <a:gd name="adj" fmla="val 12500"/>
            </a:avLst>
          </a:prstGeom>
          <a:solidFill>
            <a:srgbClr val="00b0f0"/>
          </a:solidFill>
          <a:ln>
            <a:solidFill>
              <a:srgbClr val="00ade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  <Words>30</Words>
  <Paragraphs>1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56:03Z</dcterms:created>
  <dc:creator>User</dc:creator>
  <dc:description/>
  <dc:language>en-US</dc:language>
  <cp:lastModifiedBy>王玉清</cp:lastModifiedBy>
  <dcterms:modified xsi:type="dcterms:W3CDTF">2016-02-24T03:35:43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4</vt:r8>
  </property>
  <property fmtid="{D5CDD505-2E9C-101B-9397-08002B2CF9AE}" pid="5" name="VIP等级">
    <vt:lpwstr>1</vt:lpwstr>
  </property>
  <property fmtid="{D5CDD505-2E9C-101B-9397-08002B2CF9AE}" pid="6" name="价格">
    <vt:lpwstr>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PPT 格式 背景 蓝天白云模板 蓝 蓝天 白云 炫 炫丽 可爱 简洁 V1</vt:lpwstr>
  </property>
  <property fmtid="{D5CDD505-2E9C-101B-9397-08002B2CF9AE}" pid="10" name="操作代码">
    <vt:lpwstr>2</vt:lpwstr>
  </property>
  <property fmtid="{D5CDD505-2E9C-101B-9397-08002B2CF9AE}" pid="11" name="是否可购买">
    <vt:lpwstr>0</vt:lpwstr>
  </property>
  <property fmtid="{D5CDD505-2E9C-101B-9397-08002B2CF9AE}" pid="12" name="显示VIP等级">
    <vt:lpwstr>1</vt:lpwstr>
  </property>
  <property fmtid="{D5CDD505-2E9C-101B-9397-08002B2CF9AE}" pid="13" name="标题">
    <vt:lpwstr>蓝天白云模板</vt:lpwstr>
  </property>
  <property fmtid="{D5CDD505-2E9C-101B-9397-08002B2CF9AE}" pid="14" name="模板ID">
    <vt:lpwstr>A30220121126A24</vt:lpwstr>
  </property>
  <property fmtid="{D5CDD505-2E9C-101B-9397-08002B2CF9AE}" pid="15" name="模板缩略图">
    <vt:lpwstr>A30220121126A24.png</vt:lpwstr>
  </property>
  <property fmtid="{D5CDD505-2E9C-101B-9397-08002B2CF9AE}" pid="16" name="相关案例">
    <vt:lpwstr>854</vt:lpwstr>
  </property>
  <property fmtid="{D5CDD505-2E9C-101B-9397-08002B2CF9AE}" pid="17" name="缩略图标题">
    <vt:lpwstr>蓝天白云模板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21126A2401</vt:lpwstr>
  </property>
  <property fmtid="{D5CDD505-2E9C-101B-9397-08002B2CF9AE}" pid="20" name="附件缩略图">
    <vt:lpwstr>A30220121126A2401.png</vt:lpwstr>
  </property>
  <property fmtid="{D5CDD505-2E9C-101B-9397-08002B2CF9AE}" pid="21" name="附件路径">
    <vt:lpwstr>A30220121126A2401.dotx</vt:lpwstr>
  </property>
</Properties>
</file>