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D86-7152-47CD-BBC3-BBFBFF6D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384-3990-48E4-830B-7C20F81E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2D3-6C2F-4C8E-9D83-869892EF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77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3360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5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77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3360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BA3-F11F-45E3-A3D4-B08FDFB2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82B2-982D-4ED3-A235-4BD123DC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F582-702A-44DD-BB70-A2B97BC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C5F7-EDC4-42C2-B60B-B90EE729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BDFC-5A2D-4509-B4EF-C57C07D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7E4D-1926-4050-9C40-9D6CEB94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8120" y="1290960"/>
            <a:ext cx="807660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477B-AD6F-47A8-8F3F-5AB3AC2D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2132-7897-4F6A-B3CC-C81516D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6ED-A5D3-4054-933E-9C5B493D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88E-7140-48F6-92A4-9B022437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5059-F4F0-4B77-ACA1-9C7910A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739-B4A9-4746-97A6-188C3081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B1DF-EA19-450C-A8B1-D9496A01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677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3360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5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9677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33360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D32-207A-4347-AC11-FC3C5EE5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5908-D891-4544-9DC6-D6A21F2E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A389-C483-4DAA-A40D-3AB332C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CAEE-E4AC-41B1-A952-D79535D6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E7D8-B228-484F-B14B-8DBC0F89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3E3B-BB95-44DF-B3D8-92EE5D3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4E3-16FF-4D6C-8FFC-3FEB2EF9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18120" y="1290960"/>
            <a:ext cx="807660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D1C5-F8CE-45F1-B60F-544E36EC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712E-9EDB-4992-A5AE-B751077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871DC-2E45-440A-BEC0-42EBDE8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88EB-1504-4C54-96EA-BBB3524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3F4D-A038-4F6E-AB3B-0F23B0CD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DA9B-A53F-4E59-A00C-36AFF9D9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677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33360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15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9677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33360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5E74F-94AA-4BB2-872D-5E6EDB33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B123C-C213-46DD-9477-00C8FF94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A817-1FF6-435A-994A-D8A88FA4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18F1-1D47-4AC7-B571-A3CB6BF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FEC-5CE0-42C4-9E22-0F10982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0C16B-48F3-4CF4-A3F5-1F84D5F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38C2-FBFC-4C0B-912C-666C2F8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18120" y="1290960"/>
            <a:ext cx="807660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73A9-DC3F-4FEE-932D-77CA80EC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4FC7-D7F5-4564-AE92-9F85F35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C310-F8A6-4F70-865F-962906E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2580-8A56-4880-9193-95B744D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CAC9-4D3E-4663-9AD2-0C66D13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1BEB-FB1C-4EE1-82D6-2EF97515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96776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333600" y="19018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15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96776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333600" y="22363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B4DB-F90A-4DF8-A454-E8C5FF7F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F72-E568-4029-9D06-7580BA0D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8120" y="1290960"/>
            <a:ext cx="807660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042-600B-400E-942E-82C0224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05C-1F65-4DB2-BFF8-95DF774F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71920" y="22363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679-4EEE-44F2-A93C-69A24BC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71920" y="19018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560" y="22363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4F3-EAA1-4FB0-8C5F-8A6F0C2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7200" y="5261400"/>
            <a:ext cx="7772040" cy="7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E68CB2-C1A8-4A7D-A045-42A9C0A7F5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985680"/>
            <a:ext cx="8229240" cy="4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07200" y="1901880"/>
            <a:ext cx="732960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4B38AC-21B0-4B33-8703-6E11B624BEB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6040" y="527760"/>
            <a:ext cx="701568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6040" y="1290960"/>
            <a:ext cx="7015680" cy="458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8072A8-29F4-4E5E-B867-0E550B5DAF7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601560" y="253188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70c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36800" y="190188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36800" y="253188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70c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70c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594F18-82E5-439F-8262-E2AB4CC758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7200" y="5261400"/>
            <a:ext cx="7772040" cy="7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1320" y="4192560"/>
            <a:ext cx="640044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ster subtitle sty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2943720" y="692640"/>
            <a:ext cx="3937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手捧着地球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985680"/>
            <a:ext cx="8229240" cy="4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7200" y="1901880"/>
            <a:ext cx="732960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527760"/>
            <a:ext cx="701568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6040" y="1290960"/>
            <a:ext cx="7015680" cy="458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403640" y="6309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8120" y="1290960"/>
            <a:ext cx="807660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1560" y="190188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1560" y="253188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36800" y="190188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36800" y="253188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  <Words>86</Words>
  <Paragraphs>2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ppt宝藏</dc:creator>
  <dc:description/>
  <dc:language>en-US</dc:language>
  <cp:lastModifiedBy>a</cp:lastModifiedBy>
  <dcterms:modified xsi:type="dcterms:W3CDTF">2015-07-25T02:51:32Z</dcterms:modified>
  <cp:revision>4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