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457-61C8-45B2-83FF-CCC447DB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92F-E7FE-44BD-95F6-4E502AF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4B2-887D-49A8-9E76-1A1664B1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126-24BB-473F-9C6D-0BD0FC7E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2C7E-A08F-40AF-8851-CB375D98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900-6120-4D2B-BD25-6166850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9CDB-8057-4AAD-9D24-18191F0B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FCA9-FB92-463C-8099-5A871F3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4A9D-8B33-44CF-8FE9-F5BCA70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0B1A-A2D1-4401-B970-29F6377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859-F176-47AC-AF78-4243A62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000-C79C-4D6E-961C-9047CB24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05D-D720-4A95-9902-AF11F29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B8B4-FE14-43E2-82D4-19678D7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062-EE76-44F1-86BE-9790EC6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5F0-E166-457D-A9C6-A069FD5D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F9DD-8731-4303-81A3-8599B39F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CDB-01CE-497C-9C91-B16197A3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5F9-BE58-47B0-B988-26F14954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155-3C56-4E6F-985F-3DC2197C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EAA-7B55-4064-9526-CD25F1B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ED6-4C43-48B2-ACFA-E23E21E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D22-4171-40A1-BAD4-B738835E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B36-8D58-4A18-9C8B-D30E8ED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FD32D9-21EF-4EAD-9F69-C561A1BA49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3C95D4-F0AB-4F16-A191-B75780AF3A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01280" y="1268640"/>
            <a:ext cx="4966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商务简洁</a:t>
            </a:r>
            <a:r>
              <a:rPr b="0" lang="en-US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17375e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691640" y="6453360"/>
            <a:ext cx="833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笔记本地球城市电脑科技商务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笔记本地球城市电脑科技商务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笔记本地球城市电脑科技商务PPT模板</Template>
  <TotalTime>382</TotalTime>
  <Application>LibreOffice/7.4.7.2$Linux_X86_64 LibreOffice_project/40$Build-2</Application>
  <AppVersion>15.0000</AppVersion>
  <Words>96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PowerPoint template, IT</cp:category>
  <dcterms:created xsi:type="dcterms:W3CDTF">2014-02-13T15:41:01Z</dcterms:created>
  <dc:creator>lenovo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IT IT PowerPoint template</cp:keywords>
  <dc:language>en-US</dc:language>
  <cp:lastModifiedBy>a</cp:lastModifiedBy>
  <dcterms:modified xsi:type="dcterms:W3CDTF">2015-07-25T02:07:45Z</dcterms:modified>
  <cp:revision>9</cp:revision>
  <dc:subject>IT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