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2C64-66BA-4FF0-87B2-3713B0177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D80D-1A8A-458A-8F8B-FD692664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E268-BEE6-4A85-A852-97E1013AC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D983-AAA4-4DE2-9786-181EE1E01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04B6-53AA-4A20-B1D0-26B51C01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304B-2C36-480B-9227-1E629B78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0E72-4E3D-4815-8508-BF3D5C8A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9F7C-1380-4BC4-941B-3E20F024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A4EB-12A5-4EE1-91AF-DFB6022B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64B6-F133-45D8-8760-5BA19B77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0DF9-FF9E-4E28-8CC3-5D581261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BE3E-64B9-4D6D-A915-35AC9B38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D:\Documents and Settings\Administrator\桌面\河山图标.jpg"/>
          <p:cNvPicPr/>
          <p:nvPr/>
        </p:nvPicPr>
        <p:blipFill>
          <a:blip r:embed="rId2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3" descr="D:\Documents and Settings\Administrator\桌面\20\新建文件夹\新建文件夹\04.jpg"/>
          <p:cNvPicPr/>
          <p:nvPr/>
        </p:nvPicPr>
        <p:blipFill>
          <a:blip r:embed="rId3"/>
          <a:stretch/>
        </p:blipFill>
        <p:spPr>
          <a:xfrm>
            <a:off x="0" y="7920"/>
            <a:ext cx="9144000" cy="684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9A61-AE3E-4ABB-A078-70755DAF8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商务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之商务旅行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07:05:08Z</dcterms:created>
  <dc:creator>ppt宝藏</dc:creator>
  <dc:description/>
  <dc:language>en-US</dc:language>
  <cp:lastModifiedBy>a</cp:lastModifiedBy>
  <dcterms:modified xsi:type="dcterms:W3CDTF">2015-07-25T07:11:08Z</dcterms:modified>
  <cp:revision>7</cp:revision>
  <dc:subject/>
  <dc:title>www.pptbz.com</dc:title>
</cp:coreProperties>
</file>