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5965417867435"/>
          <c:y val="0.0373511003432263"/>
          <c:w val="0.96685878962536"/>
          <c:h val="0.920586849720708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列 2</c:v>
                </c:pt>
              </c:strCache>
            </c:strRef>
          </c:tx>
          <c:spPr>
            <a:solidFill>
              <a:srgbClr val="ccb15c"/>
            </a:solidFill>
            <a:ln w="54000">
              <a:solidFill>
                <a:srgbClr val="ccb15c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Pt>
            <c:idx val="7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列 3</c:v>
                </c:pt>
              </c:strCache>
            </c:strRef>
          </c:tx>
          <c:spPr>
            <a:solidFill>
              <a:srgbClr val="7a563a"/>
            </a:solidFill>
            <a:ln w="54000">
              <a:solidFill>
                <a:srgbClr val="7a563a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8"/>
                <c:pt idx="0">
                  <c:v>7</c:v>
                </c:pt>
                <c:pt idx="1">
                  <c:v>6</c:v>
                </c:pt>
                <c:pt idx="2">
                  <c:v>5</c:v>
                </c:pt>
                <c:pt idx="3">
                  <c:v>4</c:v>
                </c:pt>
                <c:pt idx="4">
                  <c:v>3</c:v>
                </c:pt>
                <c:pt idx="5">
                  <c:v>2</c:v>
                </c:pt>
                <c:pt idx="6">
                  <c:v>1</c:v>
                </c:pt>
                <c:pt idx="7">
                  <c:v>0</c:v>
                </c:pt>
              </c:numCache>
            </c:numRef>
          </c:yVal>
          <c:smooth val="0"/>
        </c:ser>
        <c:axId val="4189603"/>
        <c:axId val="14896535"/>
      </c:scatterChart>
      <c:valAx>
        <c:axId val="4189603"/>
        <c:scaling>
          <c:orientation val="minMax"/>
          <c:max val="12"/>
          <c:min val="0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14896535"/>
        <c:crossesAt val="0"/>
        <c:crossBetween val="midCat"/>
        <c:majorUnit val="2"/>
        <c:minorUnit val="1"/>
      </c:valAx>
      <c:valAx>
        <c:axId val="14896535"/>
        <c:scaling>
          <c:orientation val="minMax"/>
          <c:max val="12"/>
          <c:min val="0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4189603"/>
        <c:crossesAt val="2"/>
        <c:crossBetween val="midCat"/>
        <c:majorUnit val="2"/>
        <c:minorUnit val="1"/>
      </c:valAx>
      <c:spPr>
        <a:noFill/>
        <a:ln w="36000">
          <a:noFill/>
        </a:ln>
      </c:spPr>
    </c:plotArea>
    <c:plotVisOnly val="0"/>
    <c:dispBlanksAs val="span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3F3-CC39-4F95-99D2-A62D4C02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B7E-0B53-4BE8-8583-E950D422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420-E448-419B-AF7C-82E89001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B3F-2B2B-4C2E-ACF4-06C113C1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254-BA3F-4E57-918A-078A5C9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620-3C24-4E9F-AC70-B50B563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518-FEAC-4CF8-8E61-44DECCA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21A-0CA1-48EF-BCC4-22B95CF6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DF5-09FD-46A7-837A-7D03F01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2DD-01E4-4557-8A86-32CEC55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661-9E10-4619-ACC8-A5ECA021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A7F-1C9D-4607-8ED4-B9BC2641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44164-EBF8-4016-9C50-D73EFB176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824040"/>
            <a:ext cx="907092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商务小人团队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50640" y="721044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504720" y="85392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079720" y="1941480"/>
            <a:ext cx="2844720" cy="128916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5197320" y="1925640"/>
            <a:ext cx="2845080" cy="128916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070000" y="3506760"/>
            <a:ext cx="2860920" cy="132408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5202360" y="350676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701880" y="5164200"/>
            <a:ext cx="2822760" cy="1224000"/>
          </a:xfrm>
          <a:prstGeom prst="roundRect">
            <a:avLst>
              <a:gd name="adj" fmla="val 11741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1112760" y="1895400"/>
            <a:ext cx="5605560" cy="4560840"/>
          </a:xfrm>
          <a:prstGeom prst="triangle">
            <a:avLst>
              <a:gd name="adj" fmla="val 50000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3844800" y="219564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844800" y="356400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844800" y="493236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1724040" y="2297160"/>
            <a:ext cx="1962000" cy="103176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5000760" y="2305080"/>
            <a:ext cx="1925640" cy="1044720"/>
          </a:xfrm>
          <a:custGeom>
            <a:avLst/>
            <a:gdLst>
              <a:gd name="textAreaLeft" fmla="*/ 0 w 1925640"/>
              <a:gd name="textAreaRight" fmla="*/ 1926000 w 19256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6621480" y="2297160"/>
            <a:ext cx="1922400" cy="102060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72404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381480" y="2305080"/>
            <a:ext cx="1925640" cy="1044720"/>
          </a:xfrm>
          <a:custGeom>
            <a:avLst/>
            <a:gdLst>
              <a:gd name="textAreaLeft" fmla="*/ 0 w 1925640"/>
              <a:gd name="textAreaRight" fmla="*/ 1926000 w 19256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38148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000760" y="3486240"/>
            <a:ext cx="1471320" cy="2465280"/>
          </a:xfrm>
          <a:custGeom>
            <a:avLst/>
            <a:gdLst>
              <a:gd name="textAreaLeft" fmla="*/ 50400 w 1471320"/>
              <a:gd name="textAreaRight" fmla="*/ 1420920 w 147132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8">
                <a:moveTo>
                  <a:pt x="2536" y="0"/>
                </a:moveTo>
                <a:arcTo wR="2536" hR="2536" stAng="16200000" swAng="-5400000"/>
                <a:lnTo>
                  <a:pt x="0" y="33652"/>
                </a:lnTo>
                <a:arcTo wR="2536" hR="2536" stAng="10800000" swAng="-5400000"/>
                <a:lnTo>
                  <a:pt x="19064" y="36188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62148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>
            <a:off x="4011480" y="223668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2306520" y="3570120"/>
            <a:ext cx="2129040" cy="95904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661356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02120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393920" y="510552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"/>
          <p:cNvCxnSpPr>
            <a:stCxn id="64" idx="3"/>
            <a:endCxn id="63" idx="2"/>
          </p:cNvCxnSpPr>
          <p:nvPr/>
        </p:nvCxnSpPr>
        <p:spPr>
          <a:xfrm flipV="1">
            <a:off x="4435200" y="3168000"/>
            <a:ext cx="6339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AutoShape 7"/>
          <p:cNvCxnSpPr>
            <a:stCxn id="63" idx="2"/>
            <a:endCxn id="67" idx="0"/>
          </p:cNvCxnSpPr>
          <p:nvPr/>
        </p:nvCxnSpPr>
        <p:spPr>
          <a:xfrm flipV="1" rot="10800000">
            <a:off x="2432880" y="3168360"/>
            <a:ext cx="2635920" cy="1937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8"/>
          <p:cNvCxnSpPr>
            <a:stCxn id="63" idx="2"/>
            <a:endCxn id="65" idx="0"/>
          </p:cNvCxnSpPr>
          <p:nvPr/>
        </p:nvCxnSpPr>
        <p:spPr>
          <a:xfrm>
            <a:off x="5067000" y="3168720"/>
            <a:ext cx="2586600" cy="193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AutoShape 9"/>
          <p:cNvCxnSpPr>
            <a:stCxn id="63" idx="2"/>
            <a:endCxn id="66" idx="0"/>
          </p:cNvCxnSpPr>
          <p:nvPr/>
        </p:nvCxnSpPr>
        <p:spPr>
          <a:xfrm flipV="1" rot="10800000">
            <a:off x="5060160" y="3168360"/>
            <a:ext cx="7200" cy="1937520"/>
          </a:xfrm>
          <a:prstGeom prst="bentConnector3">
            <a:avLst>
              <a:gd name="adj1" fmla="val 473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Text Box 10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89080" y="2598840"/>
            <a:ext cx="5635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99880" y="3335400"/>
            <a:ext cx="5083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33360" y="4125960"/>
            <a:ext cx="5397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23880" y="3014640"/>
            <a:ext cx="549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611280" y="3768840"/>
            <a:ext cx="495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39720" y="4565520"/>
            <a:ext cx="4635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44400" y="5376960"/>
            <a:ext cx="433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9"/>
          <p:cNvGrpSpPr/>
          <p:nvPr/>
        </p:nvGrpSpPr>
        <p:grpSpPr>
          <a:xfrm>
            <a:off x="7810560" y="2040480"/>
            <a:ext cx="2047320" cy="2447280"/>
            <a:chOff x="7810560" y="2040480"/>
            <a:chExt cx="2047320" cy="2447280"/>
          </a:xfrm>
        </p:grpSpPr>
        <p:sp>
          <p:nvSpPr>
            <p:cNvPr id="81" name="Line 9"/>
            <p:cNvSpPr/>
            <p:nvPr/>
          </p:nvSpPr>
          <p:spPr>
            <a:xfrm flipH="1" flipV="1">
              <a:off x="7810560" y="2120400"/>
              <a:ext cx="1777680" cy="2367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 rot="3660000">
              <a:off x="7791840" y="3071160"/>
              <a:ext cx="25700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your all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1"/>
          <p:cNvSpPr/>
          <p:nvPr/>
        </p:nvSpPr>
        <p:spPr>
          <a:xfrm rot="18240000">
            <a:off x="5122440" y="2815560"/>
            <a:ext cx="27176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all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 flipH="1">
            <a:off x="5763960" y="2089080"/>
            <a:ext cx="1600200" cy="2367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39840" y="4976640"/>
            <a:ext cx="4413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5106960" y="4267080"/>
            <a:ext cx="4613400" cy="2892240"/>
            <a:chOff x="5106960" y="4267080"/>
            <a:chExt cx="4613400" cy="2892240"/>
          </a:xfrm>
        </p:grpSpPr>
        <p:sp>
          <p:nvSpPr>
            <p:cNvPr id="87" name="Freeform 15"/>
            <p:cNvSpPr/>
            <p:nvPr/>
          </p:nvSpPr>
          <p:spPr>
            <a:xfrm>
              <a:off x="5106960" y="4824000"/>
              <a:ext cx="4613400" cy="2335320"/>
            </a:xfrm>
            <a:custGeom>
              <a:avLst/>
              <a:gdLst>
                <a:gd name="textAreaLeft" fmla="*/ 0 w 4613400"/>
                <a:gd name="textAreaRight" fmla="*/ 4613760 w 4613400"/>
                <a:gd name="textAreaTop" fmla="*/ 0 h 2335320"/>
                <a:gd name="textAreaBottom" fmla="*/ 2335680 h 2335320"/>
              </a:gdLst>
              <a:ahLst/>
              <a:rect l="textAreaLeft" t="textAreaTop" r="textAreaRight" b="textAreaBottom"/>
              <a:pathLst>
                <a:path w="12822" h="6490">
                  <a:moveTo>
                    <a:pt x="6041" y="0"/>
                  </a:moveTo>
                  <a:lnTo>
                    <a:pt x="12821" y="2552"/>
                  </a:lnTo>
                  <a:lnTo>
                    <a:pt x="8237" y="6489"/>
                  </a:lnTo>
                  <a:lnTo>
                    <a:pt x="0" y="2546"/>
                  </a:lnTo>
                  <a:lnTo>
                    <a:pt x="6041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7941960" y="4843080"/>
              <a:ext cx="1764000" cy="2314800"/>
            </a:xfrm>
            <a:custGeom>
              <a:avLst/>
              <a:gdLst>
                <a:gd name="textAreaLeft" fmla="*/ 0 w 1764000"/>
                <a:gd name="textAreaRight" fmla="*/ 1764360 w 17640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4904" h="6434">
                  <a:moveTo>
                    <a:pt x="0" y="2581"/>
                  </a:moveTo>
                  <a:lnTo>
                    <a:pt x="3403" y="0"/>
                  </a:lnTo>
                  <a:lnTo>
                    <a:pt x="4903" y="2503"/>
                  </a:lnTo>
                  <a:lnTo>
                    <a:pt x="312" y="6433"/>
                  </a:lnTo>
                  <a:lnTo>
                    <a:pt x="0" y="2581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5125680" y="4267080"/>
              <a:ext cx="2244960" cy="1456200"/>
            </a:xfrm>
            <a:custGeom>
              <a:avLst/>
              <a:gdLst>
                <a:gd name="textAreaLeft" fmla="*/ 0 w 2244960"/>
                <a:gd name="textAreaRight" fmla="*/ 2245320 w 2244960"/>
                <a:gd name="textAreaTop" fmla="*/ 0 h 1456200"/>
                <a:gd name="textAreaBottom" fmla="*/ 1456560 h 1456200"/>
              </a:gdLst>
              <a:ahLst/>
              <a:rect l="textAreaLeft" t="textAreaTop" r="textAreaRight" b="textAreaBottom"/>
              <a:pathLst>
                <a:path w="6241" h="4046">
                  <a:moveTo>
                    <a:pt x="1647" y="1549"/>
                  </a:moveTo>
                  <a:lnTo>
                    <a:pt x="6240" y="0"/>
                  </a:lnTo>
                  <a:lnTo>
                    <a:pt x="6041" y="1549"/>
                  </a:lnTo>
                  <a:lnTo>
                    <a:pt x="0" y="4045"/>
                  </a:lnTo>
                  <a:lnTo>
                    <a:pt x="1647" y="1549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5736600" y="4284360"/>
              <a:ext cx="3429720" cy="1472040"/>
            </a:xfrm>
            <a:custGeom>
              <a:avLst/>
              <a:gdLst>
                <a:gd name="textAreaLeft" fmla="*/ 0 w 3429720"/>
                <a:gd name="textAreaRight" fmla="*/ 3430080 w 3429720"/>
                <a:gd name="textAreaTop" fmla="*/ 0 h 1472040"/>
                <a:gd name="textAreaBottom" fmla="*/ 1472400 h 1472040"/>
              </a:gdLst>
              <a:ahLst/>
              <a:rect l="textAreaLeft" t="textAreaTop" r="textAreaRight" b="textAreaBottom"/>
              <a:pathLst>
                <a:path w="9536" h="4091">
                  <a:moveTo>
                    <a:pt x="4493" y="0"/>
                  </a:moveTo>
                  <a:lnTo>
                    <a:pt x="9535" y="1598"/>
                  </a:lnTo>
                  <a:lnTo>
                    <a:pt x="6132" y="4090"/>
                  </a:lnTo>
                  <a:lnTo>
                    <a:pt x="0" y="1499"/>
                  </a:lnTo>
                  <a:lnTo>
                    <a:pt x="4493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106960" y="4824000"/>
              <a:ext cx="2960280" cy="2332080"/>
            </a:xfrm>
            <a:custGeom>
              <a:avLst/>
              <a:gdLst>
                <a:gd name="textAreaLeft" fmla="*/ 0 w 2960280"/>
                <a:gd name="textAreaRight" fmla="*/ 2960640 w 296028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8230" h="6483">
                  <a:moveTo>
                    <a:pt x="1697" y="0"/>
                  </a:moveTo>
                  <a:lnTo>
                    <a:pt x="7840" y="2591"/>
                  </a:lnTo>
                  <a:lnTo>
                    <a:pt x="8229" y="6482"/>
                  </a:lnTo>
                  <a:lnTo>
                    <a:pt x="0" y="2546"/>
                  </a:lnTo>
                  <a:lnTo>
                    <a:pt x="1697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1"/>
          <p:cNvGrpSpPr/>
          <p:nvPr/>
        </p:nvGrpSpPr>
        <p:grpSpPr>
          <a:xfrm>
            <a:off x="5830920" y="3567240"/>
            <a:ext cx="3216240" cy="1887120"/>
            <a:chOff x="5830920" y="3567240"/>
            <a:chExt cx="3216240" cy="1887120"/>
          </a:xfrm>
        </p:grpSpPr>
        <p:sp>
          <p:nvSpPr>
            <p:cNvPr id="93" name="Freeform 21"/>
            <p:cNvSpPr/>
            <p:nvPr/>
          </p:nvSpPr>
          <p:spPr>
            <a:xfrm>
              <a:off x="5843520" y="4096800"/>
              <a:ext cx="3203640" cy="1349640"/>
            </a:xfrm>
            <a:custGeom>
              <a:avLst/>
              <a:gdLst>
                <a:gd name="textAreaLeft" fmla="*/ 0 w 3203640"/>
                <a:gd name="textAreaRight" fmla="*/ 3204000 w 320364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8901" h="3753">
                  <a:moveTo>
                    <a:pt x="4041" y="0"/>
                  </a:moveTo>
                  <a:lnTo>
                    <a:pt x="8900" y="1539"/>
                  </a:lnTo>
                  <a:lnTo>
                    <a:pt x="5725" y="3752"/>
                  </a:lnTo>
                  <a:lnTo>
                    <a:pt x="0" y="1443"/>
                  </a:lnTo>
                  <a:lnTo>
                    <a:pt x="4041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6372360" y="3567240"/>
              <a:ext cx="2276280" cy="742320"/>
            </a:xfrm>
            <a:custGeom>
              <a:avLst/>
              <a:gdLst>
                <a:gd name="textAreaLeft" fmla="*/ 0 w 2276280"/>
                <a:gd name="textAreaRight" fmla="*/ 2276640 w 22762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6322" h="2065">
                  <a:moveTo>
                    <a:pt x="2602" y="0"/>
                  </a:moveTo>
                  <a:lnTo>
                    <a:pt x="6321" y="1000"/>
                  </a:lnTo>
                  <a:lnTo>
                    <a:pt x="4019" y="2064"/>
                  </a:lnTo>
                  <a:lnTo>
                    <a:pt x="0" y="798"/>
                  </a:lnTo>
                  <a:lnTo>
                    <a:pt x="2602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>
              <a:off x="5830920" y="3849480"/>
              <a:ext cx="2079720" cy="1604880"/>
            </a:xfrm>
            <a:custGeom>
              <a:avLst/>
              <a:gdLst>
                <a:gd name="textAreaLeft" fmla="*/ 0 w 2079720"/>
                <a:gd name="textAreaRight" fmla="*/ 2080080 w 20797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5776" h="4462">
                  <a:moveTo>
                    <a:pt x="1509" y="0"/>
                  </a:moveTo>
                  <a:lnTo>
                    <a:pt x="5531" y="1260"/>
                  </a:lnTo>
                  <a:lnTo>
                    <a:pt x="5775" y="4461"/>
                  </a:lnTo>
                  <a:lnTo>
                    <a:pt x="0" y="2138"/>
                  </a:lnTo>
                  <a:lnTo>
                    <a:pt x="1509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4"/>
            <p:cNvSpPr/>
            <p:nvPr/>
          </p:nvSpPr>
          <p:spPr>
            <a:xfrm>
              <a:off x="7818480" y="3925800"/>
              <a:ext cx="1228680" cy="15220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522080"/>
                <a:gd name="textAreaBottom" fmla="*/ 1522440 h 1522080"/>
              </a:gdLst>
              <a:ahLst/>
              <a:rect l="textAreaLeft" t="textAreaTop" r="textAreaRight" b="textAreaBottom"/>
              <a:pathLst>
                <a:path w="3414" h="4233">
                  <a:moveTo>
                    <a:pt x="0" y="1064"/>
                  </a:moveTo>
                  <a:lnTo>
                    <a:pt x="2302" y="0"/>
                  </a:lnTo>
                  <a:lnTo>
                    <a:pt x="3413" y="2006"/>
                  </a:lnTo>
                  <a:lnTo>
                    <a:pt x="235" y="4232"/>
                  </a:lnTo>
                  <a:lnTo>
                    <a:pt x="0" y="1064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6473880" y="2847960"/>
            <a:ext cx="2047680" cy="1187280"/>
            <a:chOff x="6473880" y="2847960"/>
            <a:chExt cx="2047680" cy="1187280"/>
          </a:xfrm>
        </p:grpSpPr>
        <p:sp>
          <p:nvSpPr>
            <p:cNvPr id="98" name="Freeform 26"/>
            <p:cNvSpPr/>
            <p:nvPr/>
          </p:nvSpPr>
          <p:spPr>
            <a:xfrm>
              <a:off x="7380720" y="2858760"/>
              <a:ext cx="1134000" cy="845640"/>
            </a:xfrm>
            <a:custGeom>
              <a:avLst/>
              <a:gdLst>
                <a:gd name="textAreaLeft" fmla="*/ 0 w 1134000"/>
                <a:gd name="textAreaRight" fmla="*/ 1134360 w 1134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3154" h="2354">
                  <a:moveTo>
                    <a:pt x="154" y="0"/>
                  </a:moveTo>
                  <a:lnTo>
                    <a:pt x="2135" y="261"/>
                  </a:lnTo>
                  <a:lnTo>
                    <a:pt x="3153" y="2353"/>
                  </a:lnTo>
                  <a:lnTo>
                    <a:pt x="0" y="1538"/>
                  </a:lnTo>
                  <a:lnTo>
                    <a:pt x="154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7"/>
            <p:cNvSpPr/>
            <p:nvPr/>
          </p:nvSpPr>
          <p:spPr>
            <a:xfrm>
              <a:off x="6473880" y="3405240"/>
              <a:ext cx="2047680" cy="626760"/>
            </a:xfrm>
            <a:custGeom>
              <a:avLst/>
              <a:gdLst>
                <a:gd name="textAreaLeft" fmla="*/ 0 w 2047680"/>
                <a:gd name="textAreaRight" fmla="*/ 2048040 w 20476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5691" h="1748">
                  <a:moveTo>
                    <a:pt x="2496" y="0"/>
                  </a:moveTo>
                  <a:lnTo>
                    <a:pt x="5690" y="801"/>
                  </a:lnTo>
                  <a:lnTo>
                    <a:pt x="3644" y="1747"/>
                  </a:lnTo>
                  <a:lnTo>
                    <a:pt x="0" y="748"/>
                  </a:lnTo>
                  <a:lnTo>
                    <a:pt x="2496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8"/>
            <p:cNvSpPr/>
            <p:nvPr/>
          </p:nvSpPr>
          <p:spPr>
            <a:xfrm>
              <a:off x="7705800" y="2952360"/>
              <a:ext cx="815400" cy="10828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1082880"/>
                <a:gd name="textAreaBottom" fmla="*/ 1083240 h 1082880"/>
              </a:gdLst>
              <a:ahLst/>
              <a:rect l="textAreaLeft" t="textAreaTop" r="textAreaRight" b="textAreaBottom"/>
              <a:pathLst>
                <a:path w="2266" h="3015">
                  <a:moveTo>
                    <a:pt x="0" y="282"/>
                  </a:moveTo>
                  <a:lnTo>
                    <a:pt x="1193" y="0"/>
                  </a:lnTo>
                  <a:lnTo>
                    <a:pt x="2265" y="2059"/>
                  </a:lnTo>
                  <a:lnTo>
                    <a:pt x="239" y="3014"/>
                  </a:lnTo>
                  <a:lnTo>
                    <a:pt x="0" y="282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9"/>
            <p:cNvSpPr/>
            <p:nvPr/>
          </p:nvSpPr>
          <p:spPr>
            <a:xfrm>
              <a:off x="6473880" y="2858760"/>
              <a:ext cx="968760" cy="82332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2693" h="2292">
                  <a:moveTo>
                    <a:pt x="1400" y="223"/>
                  </a:moveTo>
                  <a:lnTo>
                    <a:pt x="2692" y="0"/>
                  </a:lnTo>
                  <a:lnTo>
                    <a:pt x="2564" y="1525"/>
                  </a:lnTo>
                  <a:lnTo>
                    <a:pt x="0" y="2291"/>
                  </a:lnTo>
                  <a:lnTo>
                    <a:pt x="1400" y="223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0"/>
            <p:cNvSpPr/>
            <p:nvPr/>
          </p:nvSpPr>
          <p:spPr>
            <a:xfrm>
              <a:off x="6480000" y="2944440"/>
              <a:ext cx="1311120" cy="109080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3645" h="3037">
                  <a:moveTo>
                    <a:pt x="1388" y="0"/>
                  </a:moveTo>
                  <a:lnTo>
                    <a:pt x="3383" y="304"/>
                  </a:lnTo>
                  <a:lnTo>
                    <a:pt x="3644" y="3036"/>
                  </a:lnTo>
                  <a:lnTo>
                    <a:pt x="0" y="2040"/>
                  </a:lnTo>
                  <a:lnTo>
                    <a:pt x="1388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1"/>
            <p:cNvSpPr/>
            <p:nvPr/>
          </p:nvSpPr>
          <p:spPr>
            <a:xfrm>
              <a:off x="6969960" y="2847960"/>
              <a:ext cx="1167480" cy="204120"/>
            </a:xfrm>
            <a:custGeom>
              <a:avLst/>
              <a:gdLst>
                <a:gd name="textAreaLeft" fmla="*/ 0 w 1167480"/>
                <a:gd name="textAreaRight" fmla="*/ 1167840 w 11674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3247" h="571">
                  <a:moveTo>
                    <a:pt x="1395" y="0"/>
                  </a:moveTo>
                  <a:lnTo>
                    <a:pt x="3246" y="275"/>
                  </a:lnTo>
                  <a:lnTo>
                    <a:pt x="2042" y="570"/>
                  </a:lnTo>
                  <a:lnTo>
                    <a:pt x="0" y="240"/>
                  </a:lnTo>
                  <a:lnTo>
                    <a:pt x="1395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3"/>
          <p:cNvGrpSpPr/>
          <p:nvPr/>
        </p:nvGrpSpPr>
        <p:grpSpPr>
          <a:xfrm>
            <a:off x="7074000" y="2049480"/>
            <a:ext cx="974520" cy="817560"/>
            <a:chOff x="7074000" y="2049480"/>
            <a:chExt cx="974520" cy="817560"/>
          </a:xfrm>
        </p:grpSpPr>
        <p:sp>
          <p:nvSpPr>
            <p:cNvPr id="105" name="Freeform 33"/>
            <p:cNvSpPr/>
            <p:nvPr/>
          </p:nvSpPr>
          <p:spPr>
            <a:xfrm>
              <a:off x="7074000" y="2694240"/>
              <a:ext cx="974520" cy="17064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2711" h="478">
                  <a:moveTo>
                    <a:pt x="1257" y="0"/>
                  </a:moveTo>
                  <a:lnTo>
                    <a:pt x="2710" y="239"/>
                  </a:lnTo>
                  <a:lnTo>
                    <a:pt x="1691" y="477"/>
                  </a:lnTo>
                  <a:lnTo>
                    <a:pt x="0" y="195"/>
                  </a:lnTo>
                  <a:lnTo>
                    <a:pt x="1257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4"/>
            <p:cNvSpPr/>
            <p:nvPr/>
          </p:nvSpPr>
          <p:spPr>
            <a:xfrm>
              <a:off x="7074000" y="2049480"/>
              <a:ext cx="608040" cy="8175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1692" h="2278">
                  <a:moveTo>
                    <a:pt x="1449" y="0"/>
                  </a:moveTo>
                  <a:lnTo>
                    <a:pt x="1691" y="2277"/>
                  </a:lnTo>
                  <a:lnTo>
                    <a:pt x="0" y="1973"/>
                  </a:lnTo>
                  <a:lnTo>
                    <a:pt x="1449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5"/>
            <p:cNvSpPr/>
            <p:nvPr/>
          </p:nvSpPr>
          <p:spPr>
            <a:xfrm>
              <a:off x="7595280" y="2049480"/>
              <a:ext cx="452880" cy="8175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1262" h="2278">
                  <a:moveTo>
                    <a:pt x="0" y="0"/>
                  </a:moveTo>
                  <a:lnTo>
                    <a:pt x="1261" y="2017"/>
                  </a:lnTo>
                  <a:lnTo>
                    <a:pt x="242" y="2277"/>
                  </a:lnTo>
                  <a:lnTo>
                    <a:pt x="0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36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89080" y="689436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93680" y="2778120"/>
            <a:ext cx="7918560" cy="735120"/>
            <a:chOff x="1093680" y="2778120"/>
            <a:chExt cx="7918560" cy="735120"/>
          </a:xfrm>
        </p:grpSpPr>
        <p:sp>
          <p:nvSpPr>
            <p:cNvPr id="111" name="AutoShape 2"/>
            <p:cNvSpPr/>
            <p:nvPr/>
          </p:nvSpPr>
          <p:spPr>
            <a:xfrm>
              <a:off x="1093680" y="2778120"/>
              <a:ext cx="7918560" cy="735120"/>
            </a:xfrm>
            <a:prstGeom prst="rightArrow">
              <a:avLst>
                <a:gd name="adj1" fmla="val 51269"/>
                <a:gd name="adj2" fmla="val 87072"/>
              </a:avLst>
            </a:prstGeom>
            <a:solidFill>
              <a:srgbClr val="7a5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  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"/>
            <p:cNvSpPr/>
            <p:nvPr/>
          </p:nvSpPr>
          <p:spPr>
            <a:xfrm>
              <a:off x="1568160" y="2953800"/>
              <a:ext cx="916920" cy="386280"/>
            </a:xfrm>
            <a:prstGeom prst="rect">
              <a:avLst/>
            </a:prstGeom>
            <a:solidFill>
              <a:srgbClr val="fcd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ctr">
              <a:normAutofit fontScale="89000"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4"/>
          <p:cNvSpPr/>
          <p:nvPr/>
        </p:nvSpPr>
        <p:spPr>
          <a:xfrm>
            <a:off x="136044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76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5608800" y="3429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33560" y="2470320"/>
            <a:ext cx="47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Your ow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20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701208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5673600" y="408312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5668920" y="27874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927840" y="4095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6927840" y="27874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5180040" y="4564080"/>
            <a:ext cx="1518840" cy="1528560"/>
            <a:chOff x="5180040" y="4564080"/>
            <a:chExt cx="1518840" cy="1528560"/>
          </a:xfrm>
        </p:grpSpPr>
        <p:sp>
          <p:nvSpPr>
            <p:cNvPr id="125" name="Freeform 6"/>
            <p:cNvSpPr/>
            <p:nvPr/>
          </p:nvSpPr>
          <p:spPr>
            <a:xfrm>
              <a:off x="5190840" y="5707440"/>
              <a:ext cx="1508040" cy="38520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5180040" y="456408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6438960" y="4562640"/>
            <a:ext cx="1518840" cy="1528200"/>
            <a:chOff x="6438960" y="4562640"/>
            <a:chExt cx="1518840" cy="1528200"/>
          </a:xfrm>
        </p:grpSpPr>
        <p:sp>
          <p:nvSpPr>
            <p:cNvPr id="128" name="Freeform 9"/>
            <p:cNvSpPr/>
            <p:nvPr/>
          </p:nvSpPr>
          <p:spPr>
            <a:xfrm>
              <a:off x="6451200" y="5706360"/>
              <a:ext cx="1506600" cy="384480"/>
            </a:xfrm>
            <a:custGeom>
              <a:avLst/>
              <a:gdLst>
                <a:gd name="textAreaLeft" fmla="*/ 0 w 1506600"/>
                <a:gd name="textAreaRight" fmla="*/ 1506960 w 15066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7a563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6438960" y="4562640"/>
              <a:ext cx="1508040" cy="1509480"/>
            </a:xfrm>
            <a:prstGeom prst="cube">
              <a:avLst>
                <a:gd name="adj" fmla="val 25000"/>
              </a:avLst>
            </a:prstGeom>
            <a:solidFill>
              <a:srgbClr val="7a563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1"/>
          <p:cNvSpPr/>
          <p:nvPr/>
        </p:nvSpPr>
        <p:spPr>
          <a:xfrm>
            <a:off x="1967040" y="408312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960560" y="278928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219480" y="4095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3219480" y="278928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173560" y="3267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fcd25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6443640" y="32716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1469880" y="4564080"/>
            <a:ext cx="1519200" cy="1528560"/>
            <a:chOff x="1469880" y="4564080"/>
            <a:chExt cx="1519200" cy="1528560"/>
          </a:xfrm>
        </p:grpSpPr>
        <p:sp>
          <p:nvSpPr>
            <p:cNvPr id="137" name="Freeform 18"/>
            <p:cNvSpPr/>
            <p:nvPr/>
          </p:nvSpPr>
          <p:spPr>
            <a:xfrm>
              <a:off x="1480680" y="5707440"/>
              <a:ext cx="1508400" cy="38520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1469880" y="4564080"/>
              <a:ext cx="150984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1"/>
          <p:cNvGrpSpPr/>
          <p:nvPr/>
        </p:nvGrpSpPr>
        <p:grpSpPr>
          <a:xfrm>
            <a:off x="2732040" y="4564080"/>
            <a:ext cx="1518840" cy="1528560"/>
            <a:chOff x="2732040" y="4564080"/>
            <a:chExt cx="1518840" cy="1528560"/>
          </a:xfrm>
        </p:grpSpPr>
        <p:sp>
          <p:nvSpPr>
            <p:cNvPr id="140" name="Freeform 21"/>
            <p:cNvSpPr/>
            <p:nvPr/>
          </p:nvSpPr>
          <p:spPr>
            <a:xfrm>
              <a:off x="2742840" y="5707440"/>
              <a:ext cx="1508040" cy="38520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2732040" y="456408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3"/>
          <p:cNvSpPr/>
          <p:nvPr/>
        </p:nvSpPr>
        <p:spPr>
          <a:xfrm>
            <a:off x="1465200" y="3267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2735280" y="3271680"/>
            <a:ext cx="1511280" cy="1513080"/>
          </a:xfrm>
          <a:prstGeom prst="cube">
            <a:avLst>
              <a:gd name="adj" fmla="val 25000"/>
            </a:avLst>
          </a:prstGeom>
          <a:solidFill>
            <a:srgbClr val="7a563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1"/>
          <p:cNvGraphicFramePr/>
          <p:nvPr/>
        </p:nvGraphicFramePr>
        <p:xfrm>
          <a:off x="534960" y="1768320"/>
          <a:ext cx="8744040" cy="5348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6" name="Text Box 2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02:12Z</dcterms:created>
  <dc:creator>ppt宝藏</dc:creator>
  <dc:description/>
  <dc:language>en-US</dc:language>
  <cp:lastModifiedBy>a</cp:lastModifiedBy>
  <dcterms:modified xsi:type="dcterms:W3CDTF">2015-07-25T06:19:22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License">
    <vt:lpwstr>&lt;a href="http://templates.services.openoffice.org/bsd-license"&gt;BSD&lt;/a&gt;</vt:lpwstr>
  </property>
</Properties>
</file>