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8376-654E-4965-AA12-0858EDB64DD4}" type="datetime">
              <a:rPr b="0" lang="zh-CN" sz="1800" spc="-1" strike="noStrike">
                <a:solidFill>
                  <a:srgbClr val="5f5f5f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move the slide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8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5A1C-5D8A-42F1-BBD4-6187BEDD88D7}" type="slidenum">
              <a:rPr b="0" lang="zh-CN" sz="18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-658800" y="0"/>
            <a:ext cx="1320840" cy="9921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FE5-EAF5-4579-92C6-DCC86C27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715-417E-4996-BC9E-05DC24F9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7F0-3BDB-4B5E-A402-D2F657B2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208-4409-47AE-ADC1-479D75C9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230-BD1D-485B-BDE5-CC3B1762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9AF-90BF-44A7-A754-2A12A17B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099-8388-4E29-A5CD-083376D1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537-9BDB-4C07-8260-B6C268AB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A92-94BA-4FF0-BA29-9CDE928A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C75-9905-4631-BA79-ED0EAD0D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F0E-093E-49E2-8479-8C809BE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681-F819-4271-9037-D2AA5665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矩形 10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d2e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矩形 11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c9c9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494-F786-4148-A429-07C519179E57}" type="datetime">
              <a:rPr b="0" lang="zh-CN" sz="1200" spc="-1" strike="noStrike">
                <a:solidFill>
                  <a:srgbClr val="9c9c9c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c9c9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0E1A-1FB1-47EE-9950-91FAF0AB0448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5c3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2c27b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d2e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5" name="Picture 4" descr="c:\documents and settings\administrator\application data\360se6\User Data\temp\2898199_072627953398_2.jpg"/>
          <p:cNvPicPr/>
          <p:nvPr/>
        </p:nvPicPr>
        <p:blipFill>
          <a:blip r:embed="rId1"/>
          <a:srcRect l="0" t="0" r="0" b="9178"/>
          <a:stretch/>
        </p:blipFill>
        <p:spPr>
          <a:xfrm>
            <a:off x="0" y="0"/>
            <a:ext cx="9144000" cy="198900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1852920" y="2205000"/>
            <a:ext cx="57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商务总结报告工作汇报类动态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组合 53"/>
          <p:cNvGrpSpPr/>
          <p:nvPr/>
        </p:nvGrpSpPr>
        <p:grpSpPr>
          <a:xfrm>
            <a:off x="4681440" y="2332080"/>
            <a:ext cx="777960" cy="776160"/>
            <a:chOff x="4681440" y="2332080"/>
            <a:chExt cx="777960" cy="776160"/>
          </a:xfrm>
        </p:grpSpPr>
        <p:sp>
          <p:nvSpPr>
            <p:cNvPr id="244" name="矩形 2"/>
            <p:cNvSpPr/>
            <p:nvPr/>
          </p:nvSpPr>
          <p:spPr>
            <a:xfrm>
              <a:off x="4681440" y="2332080"/>
              <a:ext cx="7779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5" name="直接连接符 55"/>
            <p:cNvSpPr/>
            <p:nvPr/>
          </p:nvSpPr>
          <p:spPr>
            <a:xfrm>
              <a:off x="4681440" y="2720160"/>
              <a:ext cx="7779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" name="直接连接符 56"/>
            <p:cNvSpPr/>
            <p:nvPr/>
          </p:nvSpPr>
          <p:spPr>
            <a:xfrm>
              <a:off x="50702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47" name="组合 57"/>
          <p:cNvGrpSpPr/>
          <p:nvPr/>
        </p:nvGrpSpPr>
        <p:grpSpPr>
          <a:xfrm>
            <a:off x="5605560" y="2332080"/>
            <a:ext cx="776160" cy="776160"/>
            <a:chOff x="5605560" y="2332080"/>
            <a:chExt cx="776160" cy="776160"/>
          </a:xfrm>
        </p:grpSpPr>
        <p:sp>
          <p:nvSpPr>
            <p:cNvPr id="248" name="矩形 6"/>
            <p:cNvSpPr/>
            <p:nvPr/>
          </p:nvSpPr>
          <p:spPr>
            <a:xfrm>
              <a:off x="5605560" y="2332080"/>
              <a:ext cx="7761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直接连接符 59"/>
            <p:cNvSpPr/>
            <p:nvPr/>
          </p:nvSpPr>
          <p:spPr>
            <a:xfrm>
              <a:off x="5605560" y="2720160"/>
              <a:ext cx="7761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" name="直接连接符 60"/>
            <p:cNvSpPr/>
            <p:nvPr/>
          </p:nvSpPr>
          <p:spPr>
            <a:xfrm>
              <a:off x="59936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1" name="组合 61"/>
          <p:cNvGrpSpPr/>
          <p:nvPr/>
        </p:nvGrpSpPr>
        <p:grpSpPr>
          <a:xfrm>
            <a:off x="6529320" y="2332080"/>
            <a:ext cx="776520" cy="776160"/>
            <a:chOff x="6529320" y="2332080"/>
            <a:chExt cx="776520" cy="776160"/>
          </a:xfrm>
        </p:grpSpPr>
        <p:sp>
          <p:nvSpPr>
            <p:cNvPr id="252" name="矩形 10"/>
            <p:cNvSpPr/>
            <p:nvPr/>
          </p:nvSpPr>
          <p:spPr>
            <a:xfrm>
              <a:off x="6529320" y="2332080"/>
              <a:ext cx="77652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3" name="直接连接符 63"/>
            <p:cNvSpPr/>
            <p:nvPr/>
          </p:nvSpPr>
          <p:spPr>
            <a:xfrm>
              <a:off x="6529320" y="2720160"/>
              <a:ext cx="77652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4" name="直接连接符 64"/>
            <p:cNvSpPr/>
            <p:nvPr/>
          </p:nvSpPr>
          <p:spPr>
            <a:xfrm>
              <a:off x="691740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5" name="组合 65"/>
          <p:cNvGrpSpPr/>
          <p:nvPr/>
        </p:nvGrpSpPr>
        <p:grpSpPr>
          <a:xfrm>
            <a:off x="7451640" y="2332080"/>
            <a:ext cx="777960" cy="776160"/>
            <a:chOff x="7451640" y="2332080"/>
            <a:chExt cx="777960" cy="776160"/>
          </a:xfrm>
        </p:grpSpPr>
        <p:sp>
          <p:nvSpPr>
            <p:cNvPr id="256" name="矩形 14"/>
            <p:cNvSpPr/>
            <p:nvPr/>
          </p:nvSpPr>
          <p:spPr>
            <a:xfrm>
              <a:off x="7451640" y="2332080"/>
              <a:ext cx="777960" cy="776160"/>
            </a:xfrm>
            <a:prstGeom prst="rect">
              <a:avLst/>
            </a:prstGeom>
            <a:noFill/>
            <a:ln w="19080">
              <a:solidFill>
                <a:srgbClr val="f7ca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7" name="直接连接符 67"/>
            <p:cNvSpPr/>
            <p:nvPr/>
          </p:nvSpPr>
          <p:spPr>
            <a:xfrm>
              <a:off x="7451640" y="2720160"/>
              <a:ext cx="777960" cy="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直接连接符 68"/>
            <p:cNvSpPr/>
            <p:nvPr/>
          </p:nvSpPr>
          <p:spPr>
            <a:xfrm>
              <a:off x="7840440" y="2332080"/>
              <a:ext cx="0" cy="776160"/>
            </a:xfrm>
            <a:prstGeom prst="line">
              <a:avLst/>
            </a:prstGeom>
            <a:ln w="12600">
              <a:solidFill>
                <a:srgbClr val="f8cb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文本框 69"/>
          <p:cNvSpPr/>
          <p:nvPr/>
        </p:nvSpPr>
        <p:spPr>
          <a:xfrm>
            <a:off x="4672080" y="2305080"/>
            <a:ext cx="850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第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文本框 70"/>
          <p:cNvSpPr/>
          <p:nvPr/>
        </p:nvSpPr>
        <p:spPr>
          <a:xfrm>
            <a:off x="5594400" y="2305080"/>
            <a:ext cx="8524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二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文本框 71"/>
          <p:cNvSpPr/>
          <p:nvPr/>
        </p:nvSpPr>
        <p:spPr>
          <a:xfrm>
            <a:off x="6518160" y="2305080"/>
            <a:ext cx="8524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章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文本框 72"/>
          <p:cNvSpPr/>
          <p:nvPr/>
        </p:nvSpPr>
        <p:spPr>
          <a:xfrm>
            <a:off x="7442280" y="2305080"/>
            <a:ext cx="8506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d7d31"/>
                </a:solidFill>
                <a:latin typeface="华文新魏"/>
                <a:ea typeface="华文新魏"/>
              </a:rPr>
              <a:t>节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文本框 73"/>
          <p:cNvSpPr/>
          <p:nvPr/>
        </p:nvSpPr>
        <p:spPr>
          <a:xfrm>
            <a:off x="4819680" y="1941480"/>
            <a:ext cx="501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di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文本框 74"/>
          <p:cNvSpPr/>
          <p:nvPr/>
        </p:nvSpPr>
        <p:spPr>
          <a:xfrm>
            <a:off x="5743440" y="1941480"/>
            <a:ext cx="500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文本框 75"/>
          <p:cNvSpPr/>
          <p:nvPr/>
        </p:nvSpPr>
        <p:spPr>
          <a:xfrm>
            <a:off x="6381720" y="1941480"/>
            <a:ext cx="1098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zhang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" name="文本框 76"/>
          <p:cNvSpPr/>
          <p:nvPr/>
        </p:nvSpPr>
        <p:spPr>
          <a:xfrm>
            <a:off x="7591320" y="1941480"/>
            <a:ext cx="595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aac"/>
                </a:solidFill>
                <a:latin typeface="华文新魏"/>
                <a:ea typeface="华文新魏"/>
              </a:rPr>
              <a:t>ji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3" descr=""/>
          <p:cNvPicPr/>
          <p:nvPr/>
        </p:nvPicPr>
        <p:blipFill>
          <a:blip r:embed="rId1"/>
          <a:stretch/>
        </p:blipFill>
        <p:spPr>
          <a:xfrm>
            <a:off x="3963960" y="1539720"/>
            <a:ext cx="1154160" cy="1173240"/>
          </a:xfrm>
          <a:prstGeom prst="rect">
            <a:avLst/>
          </a:prstGeom>
          <a:ln w="0">
            <a:noFill/>
          </a:ln>
        </p:spPr>
      </p:pic>
      <p:sp>
        <p:nvSpPr>
          <p:cNvPr id="268" name="Freeform 48"/>
          <p:cNvSpPr/>
          <p:nvPr/>
        </p:nvSpPr>
        <p:spPr>
          <a:xfrm>
            <a:off x="2979720" y="2774880"/>
            <a:ext cx="3160800" cy="3160800"/>
          </a:xfrm>
          <a:custGeom>
            <a:avLst/>
            <a:gdLst>
              <a:gd name="textAreaLeft" fmla="*/ 0 w 3160800"/>
              <a:gd name="textAreaRight" fmla="*/ 3161160 w 3160800"/>
              <a:gd name="textAreaTop" fmla="*/ 0 h 3160800"/>
              <a:gd name="textAreaBottom" fmla="*/ 3161160 h 3160800"/>
            </a:gdLst>
            <a:ahLst/>
            <a:rect l="textAreaLeft" t="textAreaTop" r="textAreaRight" b="textAreaBottom"/>
            <a:pathLst>
              <a:path w="1252" h="1252">
                <a:moveTo>
                  <a:pt x="626" y="1252"/>
                </a:moveTo>
                <a:cubicBezTo>
                  <a:pt x="604" y="1252"/>
                  <a:pt x="581" y="1251"/>
                  <a:pt x="559" y="1249"/>
                </a:cubicBezTo>
                <a:cubicBezTo>
                  <a:pt x="556" y="1248"/>
                  <a:pt x="556" y="1248"/>
                  <a:pt x="556" y="1248"/>
                </a:cubicBezTo>
                <a:cubicBezTo>
                  <a:pt x="528" y="1134"/>
                  <a:pt x="528" y="1134"/>
                  <a:pt x="528" y="1134"/>
                </a:cubicBezTo>
                <a:cubicBezTo>
                  <a:pt x="504" y="1129"/>
                  <a:pt x="480" y="1123"/>
                  <a:pt x="458" y="1115"/>
                </a:cubicBezTo>
                <a:cubicBezTo>
                  <a:pt x="375" y="1200"/>
                  <a:pt x="375" y="1200"/>
                  <a:pt x="375" y="1200"/>
                </a:cubicBezTo>
                <a:cubicBezTo>
                  <a:pt x="372" y="1199"/>
                  <a:pt x="372" y="1199"/>
                  <a:pt x="372" y="1199"/>
                </a:cubicBezTo>
                <a:cubicBezTo>
                  <a:pt x="332" y="1181"/>
                  <a:pt x="293" y="1158"/>
                  <a:pt x="257" y="1132"/>
                </a:cubicBezTo>
                <a:cubicBezTo>
                  <a:pt x="255" y="1130"/>
                  <a:pt x="255" y="1130"/>
                  <a:pt x="255" y="1130"/>
                </a:cubicBezTo>
                <a:cubicBezTo>
                  <a:pt x="287" y="1016"/>
                  <a:pt x="287" y="1016"/>
                  <a:pt x="287" y="1016"/>
                </a:cubicBezTo>
                <a:cubicBezTo>
                  <a:pt x="269" y="1001"/>
                  <a:pt x="252" y="983"/>
                  <a:pt x="236" y="965"/>
                </a:cubicBezTo>
                <a:cubicBezTo>
                  <a:pt x="122" y="998"/>
                  <a:pt x="122" y="998"/>
                  <a:pt x="122" y="998"/>
                </a:cubicBezTo>
                <a:cubicBezTo>
                  <a:pt x="120" y="995"/>
                  <a:pt x="120" y="995"/>
                  <a:pt x="120" y="995"/>
                </a:cubicBezTo>
                <a:cubicBezTo>
                  <a:pt x="94" y="959"/>
                  <a:pt x="72" y="921"/>
                  <a:pt x="54" y="880"/>
                </a:cubicBezTo>
                <a:cubicBezTo>
                  <a:pt x="52" y="877"/>
                  <a:pt x="52" y="877"/>
                  <a:pt x="52" y="877"/>
                </a:cubicBezTo>
                <a:cubicBezTo>
                  <a:pt x="137" y="795"/>
                  <a:pt x="137" y="795"/>
                  <a:pt x="137" y="795"/>
                </a:cubicBezTo>
                <a:cubicBezTo>
                  <a:pt x="130" y="772"/>
                  <a:pt x="123" y="748"/>
                  <a:pt x="119" y="725"/>
                </a:cubicBezTo>
                <a:cubicBezTo>
                  <a:pt x="4" y="696"/>
                  <a:pt x="4" y="696"/>
                  <a:pt x="4" y="696"/>
                </a:cubicBezTo>
                <a:cubicBezTo>
                  <a:pt x="4" y="693"/>
                  <a:pt x="4" y="693"/>
                  <a:pt x="4" y="693"/>
                </a:cubicBezTo>
                <a:cubicBezTo>
                  <a:pt x="1" y="671"/>
                  <a:pt x="0" y="648"/>
                  <a:pt x="0" y="626"/>
                </a:cubicBezTo>
                <a:cubicBezTo>
                  <a:pt x="0" y="604"/>
                  <a:pt x="1" y="582"/>
                  <a:pt x="4" y="560"/>
                </a:cubicBezTo>
                <a:cubicBezTo>
                  <a:pt x="4" y="557"/>
                  <a:pt x="4" y="557"/>
                  <a:pt x="4" y="557"/>
                </a:cubicBezTo>
                <a:cubicBezTo>
                  <a:pt x="119" y="528"/>
                  <a:pt x="119" y="528"/>
                  <a:pt x="119" y="528"/>
                </a:cubicBezTo>
                <a:cubicBezTo>
                  <a:pt x="123" y="504"/>
                  <a:pt x="130" y="481"/>
                  <a:pt x="137" y="458"/>
                </a:cubicBezTo>
                <a:cubicBezTo>
                  <a:pt x="52" y="376"/>
                  <a:pt x="52" y="376"/>
                  <a:pt x="52" y="376"/>
                </a:cubicBezTo>
                <a:cubicBezTo>
                  <a:pt x="54" y="373"/>
                  <a:pt x="54" y="373"/>
                  <a:pt x="54" y="373"/>
                </a:cubicBezTo>
                <a:cubicBezTo>
                  <a:pt x="72" y="332"/>
                  <a:pt x="94" y="293"/>
                  <a:pt x="120" y="257"/>
                </a:cubicBezTo>
                <a:cubicBezTo>
                  <a:pt x="122" y="255"/>
                  <a:pt x="122" y="255"/>
                  <a:pt x="122" y="255"/>
                </a:cubicBezTo>
                <a:cubicBezTo>
                  <a:pt x="236" y="287"/>
                  <a:pt x="236" y="287"/>
                  <a:pt x="236" y="287"/>
                </a:cubicBezTo>
                <a:cubicBezTo>
                  <a:pt x="252" y="269"/>
                  <a:pt x="269" y="252"/>
                  <a:pt x="287" y="236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7" y="121"/>
                  <a:pt x="257" y="121"/>
                  <a:pt x="257" y="121"/>
                </a:cubicBezTo>
                <a:cubicBezTo>
                  <a:pt x="293" y="94"/>
                  <a:pt x="332" y="72"/>
                  <a:pt x="372" y="54"/>
                </a:cubicBezTo>
                <a:cubicBezTo>
                  <a:pt x="375" y="53"/>
                  <a:pt x="375" y="53"/>
                  <a:pt x="375" y="53"/>
                </a:cubicBezTo>
                <a:cubicBezTo>
                  <a:pt x="458" y="138"/>
                  <a:pt x="458" y="138"/>
                  <a:pt x="458" y="138"/>
                </a:cubicBezTo>
                <a:cubicBezTo>
                  <a:pt x="480" y="130"/>
                  <a:pt x="504" y="123"/>
                  <a:pt x="528" y="119"/>
                </a:cubicBezTo>
                <a:cubicBezTo>
                  <a:pt x="556" y="4"/>
                  <a:pt x="556" y="4"/>
                  <a:pt x="556" y="4"/>
                </a:cubicBezTo>
                <a:cubicBezTo>
                  <a:pt x="559" y="4"/>
                  <a:pt x="559" y="4"/>
                  <a:pt x="559" y="4"/>
                </a:cubicBezTo>
                <a:cubicBezTo>
                  <a:pt x="581" y="2"/>
                  <a:pt x="604" y="0"/>
                  <a:pt x="626" y="0"/>
                </a:cubicBezTo>
                <a:cubicBezTo>
                  <a:pt x="648" y="0"/>
                  <a:pt x="671" y="2"/>
                  <a:pt x="693" y="4"/>
                </a:cubicBezTo>
                <a:cubicBezTo>
                  <a:pt x="696" y="4"/>
                  <a:pt x="696" y="4"/>
                  <a:pt x="696" y="4"/>
                </a:cubicBezTo>
                <a:cubicBezTo>
                  <a:pt x="724" y="119"/>
                  <a:pt x="724" y="119"/>
                  <a:pt x="724" y="119"/>
                </a:cubicBezTo>
                <a:cubicBezTo>
                  <a:pt x="748" y="123"/>
                  <a:pt x="772" y="130"/>
                  <a:pt x="794" y="138"/>
                </a:cubicBezTo>
                <a:cubicBezTo>
                  <a:pt x="877" y="53"/>
                  <a:pt x="877" y="53"/>
                  <a:pt x="877" y="53"/>
                </a:cubicBezTo>
                <a:cubicBezTo>
                  <a:pt x="879" y="54"/>
                  <a:pt x="879" y="54"/>
                  <a:pt x="879" y="54"/>
                </a:cubicBezTo>
                <a:cubicBezTo>
                  <a:pt x="920" y="72"/>
                  <a:pt x="959" y="94"/>
                  <a:pt x="995" y="121"/>
                </a:cubicBezTo>
                <a:cubicBezTo>
                  <a:pt x="997" y="122"/>
                  <a:pt x="997" y="122"/>
                  <a:pt x="997" y="122"/>
                </a:cubicBezTo>
                <a:cubicBezTo>
                  <a:pt x="965" y="236"/>
                  <a:pt x="965" y="236"/>
                  <a:pt x="965" y="236"/>
                </a:cubicBezTo>
                <a:cubicBezTo>
                  <a:pt x="983" y="252"/>
                  <a:pt x="1000" y="269"/>
                  <a:pt x="1016" y="287"/>
                </a:cubicBezTo>
                <a:cubicBezTo>
                  <a:pt x="1130" y="255"/>
                  <a:pt x="1130" y="255"/>
                  <a:pt x="1130" y="255"/>
                </a:cubicBezTo>
                <a:cubicBezTo>
                  <a:pt x="1132" y="257"/>
                  <a:pt x="1132" y="257"/>
                  <a:pt x="1132" y="257"/>
                </a:cubicBezTo>
                <a:cubicBezTo>
                  <a:pt x="1158" y="293"/>
                  <a:pt x="1180" y="332"/>
                  <a:pt x="1198" y="373"/>
                </a:cubicBezTo>
                <a:cubicBezTo>
                  <a:pt x="1200" y="376"/>
                  <a:pt x="1200" y="376"/>
                  <a:pt x="1200" y="376"/>
                </a:cubicBezTo>
                <a:cubicBezTo>
                  <a:pt x="1115" y="458"/>
                  <a:pt x="1115" y="458"/>
                  <a:pt x="1115" y="458"/>
                </a:cubicBezTo>
                <a:cubicBezTo>
                  <a:pt x="1123" y="481"/>
                  <a:pt x="1129" y="504"/>
                  <a:pt x="1133" y="528"/>
                </a:cubicBezTo>
                <a:cubicBezTo>
                  <a:pt x="1248" y="557"/>
                  <a:pt x="1248" y="557"/>
                  <a:pt x="1248" y="557"/>
                </a:cubicBezTo>
                <a:cubicBezTo>
                  <a:pt x="1248" y="560"/>
                  <a:pt x="1248" y="560"/>
                  <a:pt x="1248" y="560"/>
                </a:cubicBezTo>
                <a:cubicBezTo>
                  <a:pt x="1251" y="582"/>
                  <a:pt x="1252" y="604"/>
                  <a:pt x="1252" y="626"/>
                </a:cubicBezTo>
                <a:cubicBezTo>
                  <a:pt x="1252" y="649"/>
                  <a:pt x="1251" y="671"/>
                  <a:pt x="1248" y="693"/>
                </a:cubicBezTo>
                <a:cubicBezTo>
                  <a:pt x="1248" y="696"/>
                  <a:pt x="1248" y="696"/>
                  <a:pt x="1248" y="696"/>
                </a:cubicBezTo>
                <a:cubicBezTo>
                  <a:pt x="1133" y="725"/>
                  <a:pt x="1133" y="725"/>
                  <a:pt x="1133" y="725"/>
                </a:cubicBezTo>
                <a:cubicBezTo>
                  <a:pt x="1129" y="748"/>
                  <a:pt x="1122" y="772"/>
                  <a:pt x="1115" y="795"/>
                </a:cubicBezTo>
                <a:cubicBezTo>
                  <a:pt x="1200" y="877"/>
                  <a:pt x="1200" y="877"/>
                  <a:pt x="1200" y="877"/>
                </a:cubicBezTo>
                <a:cubicBezTo>
                  <a:pt x="1198" y="880"/>
                  <a:pt x="1198" y="880"/>
                  <a:pt x="1198" y="880"/>
                </a:cubicBezTo>
                <a:cubicBezTo>
                  <a:pt x="1180" y="920"/>
                  <a:pt x="1158" y="959"/>
                  <a:pt x="1132" y="995"/>
                </a:cubicBezTo>
                <a:cubicBezTo>
                  <a:pt x="1130" y="998"/>
                  <a:pt x="1130" y="998"/>
                  <a:pt x="1130" y="998"/>
                </a:cubicBezTo>
                <a:cubicBezTo>
                  <a:pt x="1016" y="965"/>
                  <a:pt x="1016" y="965"/>
                  <a:pt x="1016" y="965"/>
                </a:cubicBezTo>
                <a:cubicBezTo>
                  <a:pt x="1000" y="983"/>
                  <a:pt x="983" y="1001"/>
                  <a:pt x="965" y="1016"/>
                </a:cubicBezTo>
                <a:cubicBezTo>
                  <a:pt x="997" y="1130"/>
                  <a:pt x="997" y="1130"/>
                  <a:pt x="997" y="1130"/>
                </a:cubicBezTo>
                <a:cubicBezTo>
                  <a:pt x="995" y="1132"/>
                  <a:pt x="995" y="1132"/>
                  <a:pt x="995" y="1132"/>
                </a:cubicBezTo>
                <a:cubicBezTo>
                  <a:pt x="959" y="1158"/>
                  <a:pt x="920" y="1181"/>
                  <a:pt x="879" y="1199"/>
                </a:cubicBezTo>
                <a:cubicBezTo>
                  <a:pt x="877" y="1200"/>
                  <a:pt x="877" y="1200"/>
                  <a:pt x="877" y="1200"/>
                </a:cubicBezTo>
                <a:cubicBezTo>
                  <a:pt x="794" y="1115"/>
                  <a:pt x="794" y="1115"/>
                  <a:pt x="794" y="1115"/>
                </a:cubicBezTo>
                <a:cubicBezTo>
                  <a:pt x="772" y="1123"/>
                  <a:pt x="748" y="1129"/>
                  <a:pt x="724" y="1134"/>
                </a:cubicBezTo>
                <a:cubicBezTo>
                  <a:pt x="696" y="1248"/>
                  <a:pt x="696" y="1248"/>
                  <a:pt x="696" y="1248"/>
                </a:cubicBezTo>
                <a:cubicBezTo>
                  <a:pt x="693" y="1249"/>
                  <a:pt x="693" y="1249"/>
                  <a:pt x="693" y="1249"/>
                </a:cubicBezTo>
                <a:cubicBezTo>
                  <a:pt x="671" y="1251"/>
                  <a:pt x="648" y="1252"/>
                  <a:pt x="626" y="1252"/>
                </a:cubicBezTo>
                <a:close/>
                <a:moveTo>
                  <a:pt x="563" y="1241"/>
                </a:moveTo>
                <a:cubicBezTo>
                  <a:pt x="584" y="1243"/>
                  <a:pt x="605" y="1244"/>
                  <a:pt x="626" y="1244"/>
                </a:cubicBezTo>
                <a:cubicBezTo>
                  <a:pt x="647" y="1244"/>
                  <a:pt x="668" y="1243"/>
                  <a:pt x="689" y="1241"/>
                </a:cubicBezTo>
                <a:cubicBezTo>
                  <a:pt x="717" y="1126"/>
                  <a:pt x="717" y="1126"/>
                  <a:pt x="717" y="1126"/>
                </a:cubicBezTo>
                <a:cubicBezTo>
                  <a:pt x="720" y="1126"/>
                  <a:pt x="720" y="1126"/>
                  <a:pt x="720" y="1126"/>
                </a:cubicBezTo>
                <a:cubicBezTo>
                  <a:pt x="745" y="1121"/>
                  <a:pt x="770" y="1114"/>
                  <a:pt x="794" y="1106"/>
                </a:cubicBezTo>
                <a:cubicBezTo>
                  <a:pt x="797" y="1105"/>
                  <a:pt x="797" y="1105"/>
                  <a:pt x="797" y="1105"/>
                </a:cubicBezTo>
                <a:cubicBezTo>
                  <a:pt x="879" y="1190"/>
                  <a:pt x="879" y="1190"/>
                  <a:pt x="879" y="1190"/>
                </a:cubicBezTo>
                <a:cubicBezTo>
                  <a:pt x="917" y="1173"/>
                  <a:pt x="953" y="1151"/>
                  <a:pt x="988" y="1127"/>
                </a:cubicBezTo>
                <a:cubicBezTo>
                  <a:pt x="955" y="1014"/>
                  <a:pt x="955" y="1014"/>
                  <a:pt x="955" y="1014"/>
                </a:cubicBezTo>
                <a:cubicBezTo>
                  <a:pt x="957" y="1012"/>
                  <a:pt x="957" y="1012"/>
                  <a:pt x="957" y="1012"/>
                </a:cubicBezTo>
                <a:cubicBezTo>
                  <a:pt x="977" y="995"/>
                  <a:pt x="995" y="977"/>
                  <a:pt x="1011" y="958"/>
                </a:cubicBezTo>
                <a:cubicBezTo>
                  <a:pt x="1013" y="955"/>
                  <a:pt x="1013" y="955"/>
                  <a:pt x="1013" y="955"/>
                </a:cubicBezTo>
                <a:cubicBezTo>
                  <a:pt x="1127" y="988"/>
                  <a:pt x="1127" y="988"/>
                  <a:pt x="1127" y="988"/>
                </a:cubicBezTo>
                <a:cubicBezTo>
                  <a:pt x="1151" y="954"/>
                  <a:pt x="1172" y="917"/>
                  <a:pt x="1189" y="879"/>
                </a:cubicBezTo>
                <a:cubicBezTo>
                  <a:pt x="1105" y="797"/>
                  <a:pt x="1105" y="797"/>
                  <a:pt x="1105" y="797"/>
                </a:cubicBezTo>
                <a:cubicBezTo>
                  <a:pt x="1106" y="795"/>
                  <a:pt x="1106" y="795"/>
                  <a:pt x="1106" y="795"/>
                </a:cubicBezTo>
                <a:cubicBezTo>
                  <a:pt x="1114" y="771"/>
                  <a:pt x="1121" y="746"/>
                  <a:pt x="1125" y="720"/>
                </a:cubicBezTo>
                <a:cubicBezTo>
                  <a:pt x="1126" y="718"/>
                  <a:pt x="1126" y="718"/>
                  <a:pt x="1126" y="718"/>
                </a:cubicBezTo>
                <a:cubicBezTo>
                  <a:pt x="1240" y="689"/>
                  <a:pt x="1240" y="689"/>
                  <a:pt x="1240" y="689"/>
                </a:cubicBezTo>
                <a:cubicBezTo>
                  <a:pt x="1242" y="668"/>
                  <a:pt x="1243" y="647"/>
                  <a:pt x="1243" y="626"/>
                </a:cubicBezTo>
                <a:cubicBezTo>
                  <a:pt x="1243" y="605"/>
                  <a:pt x="1242" y="584"/>
                  <a:pt x="1240" y="563"/>
                </a:cubicBezTo>
                <a:cubicBezTo>
                  <a:pt x="1126" y="535"/>
                  <a:pt x="1126" y="535"/>
                  <a:pt x="1126" y="535"/>
                </a:cubicBezTo>
                <a:cubicBezTo>
                  <a:pt x="1125" y="532"/>
                  <a:pt x="1125" y="532"/>
                  <a:pt x="1125" y="532"/>
                </a:cubicBezTo>
                <a:cubicBezTo>
                  <a:pt x="1121" y="507"/>
                  <a:pt x="1114" y="482"/>
                  <a:pt x="1106" y="458"/>
                </a:cubicBezTo>
                <a:cubicBezTo>
                  <a:pt x="1105" y="455"/>
                  <a:pt x="1105" y="455"/>
                  <a:pt x="1105" y="455"/>
                </a:cubicBezTo>
                <a:cubicBezTo>
                  <a:pt x="1189" y="374"/>
                  <a:pt x="1189" y="374"/>
                  <a:pt x="1189" y="374"/>
                </a:cubicBezTo>
                <a:cubicBezTo>
                  <a:pt x="1172" y="335"/>
                  <a:pt x="1151" y="299"/>
                  <a:pt x="1127" y="265"/>
                </a:cubicBezTo>
                <a:cubicBezTo>
                  <a:pt x="1013" y="297"/>
                  <a:pt x="1013" y="297"/>
                  <a:pt x="1013" y="297"/>
                </a:cubicBezTo>
                <a:cubicBezTo>
                  <a:pt x="1011" y="295"/>
                  <a:pt x="1011" y="295"/>
                  <a:pt x="1011" y="295"/>
                </a:cubicBezTo>
                <a:cubicBezTo>
                  <a:pt x="995" y="276"/>
                  <a:pt x="977" y="257"/>
                  <a:pt x="957" y="241"/>
                </a:cubicBezTo>
                <a:cubicBezTo>
                  <a:pt x="955" y="239"/>
                  <a:pt x="955" y="239"/>
                  <a:pt x="955" y="239"/>
                </a:cubicBezTo>
                <a:cubicBezTo>
                  <a:pt x="988" y="126"/>
                  <a:pt x="988" y="126"/>
                  <a:pt x="988" y="126"/>
                </a:cubicBezTo>
                <a:cubicBezTo>
                  <a:pt x="953" y="101"/>
                  <a:pt x="917" y="80"/>
                  <a:pt x="879" y="63"/>
                </a:cubicBezTo>
                <a:cubicBezTo>
                  <a:pt x="797" y="148"/>
                  <a:pt x="797" y="148"/>
                  <a:pt x="797" y="148"/>
                </a:cubicBezTo>
                <a:cubicBezTo>
                  <a:pt x="794" y="147"/>
                  <a:pt x="794" y="147"/>
                  <a:pt x="794" y="147"/>
                </a:cubicBezTo>
                <a:cubicBezTo>
                  <a:pt x="770" y="138"/>
                  <a:pt x="745" y="131"/>
                  <a:pt x="720" y="127"/>
                </a:cubicBezTo>
                <a:cubicBezTo>
                  <a:pt x="717" y="126"/>
                  <a:pt x="717" y="126"/>
                  <a:pt x="717" y="126"/>
                </a:cubicBezTo>
                <a:cubicBezTo>
                  <a:pt x="689" y="12"/>
                  <a:pt x="689" y="12"/>
                  <a:pt x="689" y="12"/>
                </a:cubicBezTo>
                <a:cubicBezTo>
                  <a:pt x="668" y="10"/>
                  <a:pt x="647" y="9"/>
                  <a:pt x="626" y="9"/>
                </a:cubicBezTo>
                <a:cubicBezTo>
                  <a:pt x="605" y="9"/>
                  <a:pt x="584" y="10"/>
                  <a:pt x="563" y="12"/>
                </a:cubicBezTo>
                <a:cubicBezTo>
                  <a:pt x="535" y="126"/>
                  <a:pt x="535" y="126"/>
                  <a:pt x="535" y="126"/>
                </a:cubicBezTo>
                <a:cubicBezTo>
                  <a:pt x="532" y="127"/>
                  <a:pt x="532" y="127"/>
                  <a:pt x="532" y="127"/>
                </a:cubicBezTo>
                <a:cubicBezTo>
                  <a:pt x="507" y="131"/>
                  <a:pt x="482" y="138"/>
                  <a:pt x="458" y="147"/>
                </a:cubicBezTo>
                <a:cubicBezTo>
                  <a:pt x="455" y="148"/>
                  <a:pt x="455" y="148"/>
                  <a:pt x="455" y="148"/>
                </a:cubicBezTo>
                <a:cubicBezTo>
                  <a:pt x="373" y="63"/>
                  <a:pt x="373" y="63"/>
                  <a:pt x="373" y="63"/>
                </a:cubicBezTo>
                <a:cubicBezTo>
                  <a:pt x="335" y="80"/>
                  <a:pt x="298" y="101"/>
                  <a:pt x="264" y="126"/>
                </a:cubicBezTo>
                <a:cubicBezTo>
                  <a:pt x="297" y="239"/>
                  <a:pt x="297" y="239"/>
                  <a:pt x="297" y="239"/>
                </a:cubicBezTo>
                <a:cubicBezTo>
                  <a:pt x="295" y="241"/>
                  <a:pt x="295" y="241"/>
                  <a:pt x="295" y="241"/>
                </a:cubicBezTo>
                <a:cubicBezTo>
                  <a:pt x="275" y="257"/>
                  <a:pt x="257" y="276"/>
                  <a:pt x="241" y="295"/>
                </a:cubicBezTo>
                <a:cubicBezTo>
                  <a:pt x="239" y="297"/>
                  <a:pt x="239" y="297"/>
                  <a:pt x="239" y="297"/>
                </a:cubicBezTo>
                <a:cubicBezTo>
                  <a:pt x="125" y="265"/>
                  <a:pt x="125" y="265"/>
                  <a:pt x="125" y="265"/>
                </a:cubicBezTo>
                <a:cubicBezTo>
                  <a:pt x="101" y="299"/>
                  <a:pt x="80" y="335"/>
                  <a:pt x="63" y="374"/>
                </a:cubicBezTo>
                <a:cubicBezTo>
                  <a:pt x="147" y="455"/>
                  <a:pt x="147" y="455"/>
                  <a:pt x="147" y="455"/>
                </a:cubicBezTo>
                <a:cubicBezTo>
                  <a:pt x="146" y="458"/>
                  <a:pt x="146" y="458"/>
                  <a:pt x="146" y="458"/>
                </a:cubicBezTo>
                <a:cubicBezTo>
                  <a:pt x="138" y="482"/>
                  <a:pt x="131" y="507"/>
                  <a:pt x="127" y="532"/>
                </a:cubicBezTo>
                <a:cubicBezTo>
                  <a:pt x="126" y="535"/>
                  <a:pt x="126" y="535"/>
                  <a:pt x="126" y="535"/>
                </a:cubicBezTo>
                <a:cubicBezTo>
                  <a:pt x="12" y="563"/>
                  <a:pt x="12" y="563"/>
                  <a:pt x="12" y="563"/>
                </a:cubicBezTo>
                <a:cubicBezTo>
                  <a:pt x="10" y="584"/>
                  <a:pt x="9" y="606"/>
                  <a:pt x="9" y="626"/>
                </a:cubicBezTo>
                <a:cubicBezTo>
                  <a:pt x="9" y="647"/>
                  <a:pt x="10" y="668"/>
                  <a:pt x="12" y="689"/>
                </a:cubicBezTo>
                <a:cubicBezTo>
                  <a:pt x="126" y="718"/>
                  <a:pt x="126" y="718"/>
                  <a:pt x="126" y="718"/>
                </a:cubicBezTo>
                <a:cubicBezTo>
                  <a:pt x="127" y="720"/>
                  <a:pt x="127" y="720"/>
                  <a:pt x="127" y="720"/>
                </a:cubicBezTo>
                <a:cubicBezTo>
                  <a:pt x="131" y="746"/>
                  <a:pt x="138" y="771"/>
                  <a:pt x="146" y="795"/>
                </a:cubicBezTo>
                <a:cubicBezTo>
                  <a:pt x="147" y="797"/>
                  <a:pt x="147" y="797"/>
                  <a:pt x="147" y="797"/>
                </a:cubicBezTo>
                <a:cubicBezTo>
                  <a:pt x="63" y="879"/>
                  <a:pt x="63" y="879"/>
                  <a:pt x="63" y="879"/>
                </a:cubicBezTo>
                <a:cubicBezTo>
                  <a:pt x="80" y="917"/>
                  <a:pt x="101" y="954"/>
                  <a:pt x="125" y="988"/>
                </a:cubicBezTo>
                <a:cubicBezTo>
                  <a:pt x="239" y="955"/>
                  <a:pt x="239" y="955"/>
                  <a:pt x="239" y="955"/>
                </a:cubicBezTo>
                <a:cubicBezTo>
                  <a:pt x="241" y="958"/>
                  <a:pt x="241" y="958"/>
                  <a:pt x="241" y="958"/>
                </a:cubicBezTo>
                <a:cubicBezTo>
                  <a:pt x="257" y="977"/>
                  <a:pt x="275" y="995"/>
                  <a:pt x="295" y="1012"/>
                </a:cubicBezTo>
                <a:cubicBezTo>
                  <a:pt x="297" y="1014"/>
                  <a:pt x="297" y="1014"/>
                  <a:pt x="297" y="1014"/>
                </a:cubicBezTo>
                <a:cubicBezTo>
                  <a:pt x="264" y="1127"/>
                  <a:pt x="264" y="1127"/>
                  <a:pt x="264" y="1127"/>
                </a:cubicBezTo>
                <a:cubicBezTo>
                  <a:pt x="298" y="1151"/>
                  <a:pt x="335" y="1173"/>
                  <a:pt x="373" y="1190"/>
                </a:cubicBezTo>
                <a:cubicBezTo>
                  <a:pt x="455" y="1105"/>
                  <a:pt x="455" y="1105"/>
                  <a:pt x="455" y="1105"/>
                </a:cubicBezTo>
                <a:cubicBezTo>
                  <a:pt x="458" y="1106"/>
                  <a:pt x="458" y="1106"/>
                  <a:pt x="458" y="1106"/>
                </a:cubicBezTo>
                <a:cubicBezTo>
                  <a:pt x="482" y="1114"/>
                  <a:pt x="507" y="1121"/>
                  <a:pt x="532" y="1126"/>
                </a:cubicBezTo>
                <a:cubicBezTo>
                  <a:pt x="535" y="1126"/>
                  <a:pt x="535" y="1126"/>
                  <a:pt x="535" y="1126"/>
                </a:cubicBezTo>
                <a:lnTo>
                  <a:pt x="563" y="1241"/>
                </a:lnTo>
                <a:close/>
                <a:moveTo>
                  <a:pt x="626" y="1104"/>
                </a:moveTo>
                <a:cubicBezTo>
                  <a:pt x="498" y="1104"/>
                  <a:pt x="378" y="1055"/>
                  <a:pt x="288" y="964"/>
                </a:cubicBezTo>
                <a:cubicBezTo>
                  <a:pt x="198" y="874"/>
                  <a:pt x="148" y="754"/>
                  <a:pt x="148" y="626"/>
                </a:cubicBezTo>
                <a:cubicBezTo>
                  <a:pt x="148" y="499"/>
                  <a:pt x="198" y="379"/>
                  <a:pt x="288" y="288"/>
                </a:cubicBezTo>
                <a:cubicBezTo>
                  <a:pt x="378" y="198"/>
                  <a:pt x="498" y="148"/>
                  <a:pt x="626" y="148"/>
                </a:cubicBezTo>
                <a:cubicBezTo>
                  <a:pt x="754" y="148"/>
                  <a:pt x="874" y="198"/>
                  <a:pt x="964" y="288"/>
                </a:cubicBezTo>
                <a:cubicBezTo>
                  <a:pt x="1054" y="379"/>
                  <a:pt x="1104" y="499"/>
                  <a:pt x="1104" y="626"/>
                </a:cubicBezTo>
                <a:cubicBezTo>
                  <a:pt x="1104" y="754"/>
                  <a:pt x="1054" y="874"/>
                  <a:pt x="964" y="964"/>
                </a:cubicBezTo>
                <a:cubicBezTo>
                  <a:pt x="874" y="1055"/>
                  <a:pt x="754" y="1104"/>
                  <a:pt x="626" y="1104"/>
                </a:cubicBezTo>
                <a:close/>
                <a:moveTo>
                  <a:pt x="626" y="157"/>
                </a:moveTo>
                <a:cubicBezTo>
                  <a:pt x="367" y="157"/>
                  <a:pt x="157" y="367"/>
                  <a:pt x="157" y="626"/>
                </a:cubicBezTo>
                <a:cubicBezTo>
                  <a:pt x="157" y="885"/>
                  <a:pt x="367" y="1096"/>
                  <a:pt x="626" y="1096"/>
                </a:cubicBezTo>
                <a:cubicBezTo>
                  <a:pt x="885" y="1096"/>
                  <a:pt x="1095" y="885"/>
                  <a:pt x="1095" y="626"/>
                </a:cubicBezTo>
                <a:cubicBezTo>
                  <a:pt x="1095" y="367"/>
                  <a:pt x="885" y="157"/>
                  <a:pt x="626" y="157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9" name="Freeform 49"/>
          <p:cNvSpPr/>
          <p:nvPr/>
        </p:nvSpPr>
        <p:spPr>
          <a:xfrm>
            <a:off x="3503520" y="3263760"/>
            <a:ext cx="2127240" cy="331164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3311640"/>
              <a:gd name="textAreaBottom" fmla="*/ 3312000 h 3311640"/>
            </a:gdLst>
            <a:ahLst/>
            <a:rect l="textAreaLeft" t="textAreaTop" r="textAreaRight" b="textAreaBottom"/>
            <a:pathLst>
              <a:path w="842" h="1312">
                <a:moveTo>
                  <a:pt x="388" y="1312"/>
                </a:moveTo>
                <a:cubicBezTo>
                  <a:pt x="362" y="1312"/>
                  <a:pt x="340" y="1291"/>
                  <a:pt x="340" y="1265"/>
                </a:cubicBezTo>
                <a:cubicBezTo>
                  <a:pt x="340" y="1259"/>
                  <a:pt x="341" y="1254"/>
                  <a:pt x="343" y="1249"/>
                </a:cubicBezTo>
                <a:cubicBezTo>
                  <a:pt x="278" y="1249"/>
                  <a:pt x="278" y="1249"/>
                  <a:pt x="278" y="1249"/>
                </a:cubicBezTo>
                <a:cubicBezTo>
                  <a:pt x="250" y="1249"/>
                  <a:pt x="228" y="1226"/>
                  <a:pt x="228" y="1199"/>
                </a:cubicBezTo>
                <a:cubicBezTo>
                  <a:pt x="228" y="1186"/>
                  <a:pt x="233" y="1173"/>
                  <a:pt x="241" y="1164"/>
                </a:cubicBezTo>
                <a:cubicBezTo>
                  <a:pt x="228" y="1156"/>
                  <a:pt x="219" y="1140"/>
                  <a:pt x="219" y="1121"/>
                </a:cubicBezTo>
                <a:cubicBezTo>
                  <a:pt x="219" y="1108"/>
                  <a:pt x="223" y="1095"/>
                  <a:pt x="232" y="1086"/>
                </a:cubicBezTo>
                <a:cubicBezTo>
                  <a:pt x="210" y="1073"/>
                  <a:pt x="196" y="1049"/>
                  <a:pt x="196" y="1022"/>
                </a:cubicBezTo>
                <a:cubicBezTo>
                  <a:pt x="196" y="982"/>
                  <a:pt x="196" y="982"/>
                  <a:pt x="196" y="982"/>
                </a:cubicBezTo>
                <a:cubicBezTo>
                  <a:pt x="196" y="982"/>
                  <a:pt x="196" y="982"/>
                  <a:pt x="196" y="982"/>
                </a:cubicBezTo>
                <a:cubicBezTo>
                  <a:pt x="196" y="976"/>
                  <a:pt x="196" y="976"/>
                  <a:pt x="196" y="976"/>
                </a:cubicBezTo>
                <a:cubicBezTo>
                  <a:pt x="196" y="966"/>
                  <a:pt x="196" y="957"/>
                  <a:pt x="196" y="947"/>
                </a:cubicBezTo>
                <a:cubicBezTo>
                  <a:pt x="197" y="940"/>
                  <a:pt x="197" y="940"/>
                  <a:pt x="197" y="940"/>
                </a:cubicBezTo>
                <a:cubicBezTo>
                  <a:pt x="197" y="917"/>
                  <a:pt x="197" y="917"/>
                  <a:pt x="197" y="917"/>
                </a:cubicBezTo>
                <a:cubicBezTo>
                  <a:pt x="196" y="897"/>
                  <a:pt x="194" y="871"/>
                  <a:pt x="180" y="849"/>
                </a:cubicBezTo>
                <a:cubicBezTo>
                  <a:pt x="166" y="824"/>
                  <a:pt x="148" y="802"/>
                  <a:pt x="129" y="779"/>
                </a:cubicBezTo>
                <a:cubicBezTo>
                  <a:pt x="69" y="706"/>
                  <a:pt x="0" y="623"/>
                  <a:pt x="0" y="419"/>
                </a:cubicBezTo>
                <a:cubicBezTo>
                  <a:pt x="0" y="188"/>
                  <a:pt x="188" y="0"/>
                  <a:pt x="419" y="0"/>
                </a:cubicBezTo>
                <a:cubicBezTo>
                  <a:pt x="423" y="0"/>
                  <a:pt x="423" y="0"/>
                  <a:pt x="423" y="0"/>
                </a:cubicBezTo>
                <a:cubicBezTo>
                  <a:pt x="654" y="0"/>
                  <a:pt x="842" y="188"/>
                  <a:pt x="842" y="419"/>
                </a:cubicBezTo>
                <a:cubicBezTo>
                  <a:pt x="842" y="623"/>
                  <a:pt x="773" y="706"/>
                  <a:pt x="713" y="779"/>
                </a:cubicBezTo>
                <a:cubicBezTo>
                  <a:pt x="694" y="802"/>
                  <a:pt x="676" y="824"/>
                  <a:pt x="662" y="849"/>
                </a:cubicBezTo>
                <a:cubicBezTo>
                  <a:pt x="653" y="863"/>
                  <a:pt x="649" y="879"/>
                  <a:pt x="647" y="899"/>
                </a:cubicBezTo>
                <a:cubicBezTo>
                  <a:pt x="646" y="1023"/>
                  <a:pt x="646" y="1023"/>
                  <a:pt x="646" y="1023"/>
                </a:cubicBezTo>
                <a:cubicBezTo>
                  <a:pt x="646" y="1049"/>
                  <a:pt x="632" y="1073"/>
                  <a:pt x="610" y="1086"/>
                </a:cubicBezTo>
                <a:cubicBezTo>
                  <a:pt x="619" y="1095"/>
                  <a:pt x="623" y="1108"/>
                  <a:pt x="623" y="1121"/>
                </a:cubicBezTo>
                <a:cubicBezTo>
                  <a:pt x="623" y="1140"/>
                  <a:pt x="614" y="1156"/>
                  <a:pt x="601" y="1164"/>
                </a:cubicBezTo>
                <a:cubicBezTo>
                  <a:pt x="609" y="1173"/>
                  <a:pt x="614" y="1186"/>
                  <a:pt x="614" y="1199"/>
                </a:cubicBezTo>
                <a:cubicBezTo>
                  <a:pt x="614" y="1226"/>
                  <a:pt x="592" y="1249"/>
                  <a:pt x="564" y="1249"/>
                </a:cubicBezTo>
                <a:cubicBezTo>
                  <a:pt x="499" y="1249"/>
                  <a:pt x="499" y="1249"/>
                  <a:pt x="499" y="1249"/>
                </a:cubicBezTo>
                <a:cubicBezTo>
                  <a:pt x="501" y="1254"/>
                  <a:pt x="502" y="1259"/>
                  <a:pt x="502" y="1265"/>
                </a:cubicBezTo>
                <a:cubicBezTo>
                  <a:pt x="502" y="1291"/>
                  <a:pt x="480" y="1312"/>
                  <a:pt x="455" y="1312"/>
                </a:cubicBezTo>
                <a:lnTo>
                  <a:pt x="388" y="1312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Freeform 50"/>
          <p:cNvSpPr/>
          <p:nvPr/>
        </p:nvSpPr>
        <p:spPr>
          <a:xfrm>
            <a:off x="4451400" y="6434280"/>
            <a:ext cx="233280" cy="64800"/>
          </a:xfrm>
          <a:custGeom>
            <a:avLst/>
            <a:gdLst>
              <a:gd name="textAreaLeft" fmla="*/ 0 w 233280"/>
              <a:gd name="textAreaRight" fmla="*/ 233640 w 2332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3" h="26">
                <a:moveTo>
                  <a:pt x="13" y="26"/>
                </a:moveTo>
                <a:cubicBezTo>
                  <a:pt x="5" y="26"/>
                  <a:pt x="0" y="20"/>
                  <a:pt x="0" y="13"/>
                </a:cubicBezTo>
                <a:cubicBezTo>
                  <a:pt x="0" y="6"/>
                  <a:pt x="5" y="0"/>
                  <a:pt x="13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7" y="0"/>
                  <a:pt x="93" y="6"/>
                  <a:pt x="93" y="13"/>
                </a:cubicBezTo>
                <a:cubicBezTo>
                  <a:pt x="93" y="20"/>
                  <a:pt x="87" y="26"/>
                  <a:pt x="80" y="26"/>
                </a:cubicBezTo>
                <a:lnTo>
                  <a:pt x="13" y="26"/>
                </a:lnTo>
                <a:close/>
              </a:path>
            </a:pathLst>
          </a:cu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Freeform 51"/>
          <p:cNvSpPr/>
          <p:nvPr/>
        </p:nvSpPr>
        <p:spPr>
          <a:xfrm>
            <a:off x="4165560" y="6257880"/>
            <a:ext cx="803160" cy="82440"/>
          </a:xfrm>
          <a:custGeom>
            <a:avLst/>
            <a:gdLst>
              <a:gd name="textAreaLeft" fmla="*/ 0 w 803160"/>
              <a:gd name="textAreaRight" fmla="*/ 803520 w 8031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18" h="33">
                <a:moveTo>
                  <a:pt x="16" y="33"/>
                </a:moveTo>
                <a:cubicBezTo>
                  <a:pt x="7" y="33"/>
                  <a:pt x="0" y="25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302" y="0"/>
                  <a:pt x="302" y="0"/>
                  <a:pt x="302" y="0"/>
                </a:cubicBezTo>
                <a:cubicBezTo>
                  <a:pt x="311" y="0"/>
                  <a:pt x="318" y="7"/>
                  <a:pt x="318" y="16"/>
                </a:cubicBezTo>
                <a:cubicBezTo>
                  <a:pt x="318" y="25"/>
                  <a:pt x="311" y="33"/>
                  <a:pt x="302" y="33"/>
                </a:cubicBezTo>
                <a:lnTo>
                  <a:pt x="16" y="33"/>
                </a:lnTo>
                <a:close/>
              </a:path>
            </a:pathLst>
          </a:cu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2" name="Freeform 52"/>
          <p:cNvSpPr/>
          <p:nvPr/>
        </p:nvSpPr>
        <p:spPr>
          <a:xfrm>
            <a:off x="4140360" y="6046920"/>
            <a:ext cx="838080" cy="85680"/>
          </a:xfrm>
          <a:custGeom>
            <a:avLst/>
            <a:gdLst>
              <a:gd name="textAreaLeft" fmla="*/ 0 w 838080"/>
              <a:gd name="textAreaRight" fmla="*/ 838440 w 8380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332" h="34">
                <a:moveTo>
                  <a:pt x="17" y="34"/>
                </a:moveTo>
                <a:cubicBezTo>
                  <a:pt x="8" y="34"/>
                  <a:pt x="0" y="26"/>
                  <a:pt x="0" y="17"/>
                </a:cubicBezTo>
                <a:cubicBezTo>
                  <a:pt x="0" y="7"/>
                  <a:pt x="8" y="0"/>
                  <a:pt x="17" y="0"/>
                </a:cubicBezTo>
                <a:cubicBezTo>
                  <a:pt x="315" y="0"/>
                  <a:pt x="315" y="0"/>
                  <a:pt x="315" y="0"/>
                </a:cubicBezTo>
                <a:cubicBezTo>
                  <a:pt x="324" y="0"/>
                  <a:pt x="332" y="7"/>
                  <a:pt x="332" y="17"/>
                </a:cubicBezTo>
                <a:cubicBezTo>
                  <a:pt x="332" y="26"/>
                  <a:pt x="324" y="34"/>
                  <a:pt x="315" y="34"/>
                </a:cubicBezTo>
                <a:lnTo>
                  <a:pt x="17" y="34"/>
                </a:lnTo>
                <a:close/>
              </a:path>
            </a:pathLst>
          </a:custGeom>
          <a:solidFill>
            <a:srgbClr val="858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Freeform 53"/>
          <p:cNvSpPr/>
          <p:nvPr/>
        </p:nvSpPr>
        <p:spPr>
          <a:xfrm>
            <a:off x="4079880" y="5500800"/>
            <a:ext cx="974880" cy="439560"/>
          </a:xfrm>
          <a:custGeom>
            <a:avLst/>
            <a:gdLst>
              <a:gd name="textAreaLeft" fmla="*/ 0 w 974880"/>
              <a:gd name="textAreaRight" fmla="*/ 975240 w 97488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386" h="174">
                <a:moveTo>
                  <a:pt x="3" y="30"/>
                </a:moveTo>
                <a:cubicBezTo>
                  <a:pt x="3" y="30"/>
                  <a:pt x="3" y="30"/>
                  <a:pt x="3" y="30"/>
                </a:cubicBezTo>
                <a:cubicBezTo>
                  <a:pt x="3" y="54"/>
                  <a:pt x="3" y="54"/>
                  <a:pt x="3" y="54"/>
                </a:cubicBezTo>
                <a:cubicBezTo>
                  <a:pt x="3" y="54"/>
                  <a:pt x="2" y="62"/>
                  <a:pt x="2" y="62"/>
                </a:cubicBezTo>
                <a:cubicBezTo>
                  <a:pt x="3" y="62"/>
                  <a:pt x="3" y="62"/>
                  <a:pt x="3" y="62"/>
                </a:cubicBezTo>
                <a:cubicBezTo>
                  <a:pt x="2" y="137"/>
                  <a:pt x="2" y="137"/>
                  <a:pt x="2" y="137"/>
                </a:cubicBezTo>
                <a:cubicBezTo>
                  <a:pt x="2" y="153"/>
                  <a:pt x="12" y="168"/>
                  <a:pt x="27" y="174"/>
                </a:cubicBezTo>
                <a:cubicBezTo>
                  <a:pt x="34" y="173"/>
                  <a:pt x="359" y="174"/>
                  <a:pt x="359" y="174"/>
                </a:cubicBezTo>
                <a:cubicBezTo>
                  <a:pt x="374" y="168"/>
                  <a:pt x="384" y="153"/>
                  <a:pt x="384" y="136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6"/>
                  <a:pt x="385" y="3"/>
                  <a:pt x="386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1"/>
                  <a:pt x="2" y="21"/>
                  <a:pt x="3" y="30"/>
                </a:cubicBez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Freeform 54"/>
          <p:cNvSpPr/>
          <p:nvPr/>
        </p:nvSpPr>
        <p:spPr>
          <a:xfrm>
            <a:off x="3592440" y="3349800"/>
            <a:ext cx="1952640" cy="205236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2052360"/>
              <a:gd name="textAreaBottom" fmla="*/ 2052720 h 2052360"/>
            </a:gdLst>
            <a:ahLst/>
            <a:rect l="textAreaLeft" t="textAreaTop" r="textAreaRight" b="textAreaBottom"/>
            <a:pathLst>
              <a:path w="773" h="813">
                <a:moveTo>
                  <a:pt x="597" y="797"/>
                </a:moveTo>
                <a:cubicBezTo>
                  <a:pt x="613" y="771"/>
                  <a:pt x="632" y="748"/>
                  <a:pt x="652" y="723"/>
                </a:cubicBezTo>
                <a:cubicBezTo>
                  <a:pt x="709" y="655"/>
                  <a:pt x="773" y="577"/>
                  <a:pt x="773" y="385"/>
                </a:cubicBezTo>
                <a:cubicBezTo>
                  <a:pt x="773" y="173"/>
                  <a:pt x="600" y="0"/>
                  <a:pt x="388" y="0"/>
                </a:cubicBezTo>
                <a:cubicBezTo>
                  <a:pt x="384" y="0"/>
                  <a:pt x="384" y="0"/>
                  <a:pt x="384" y="0"/>
                </a:cubicBezTo>
                <a:cubicBezTo>
                  <a:pt x="172" y="0"/>
                  <a:pt x="0" y="173"/>
                  <a:pt x="0" y="385"/>
                </a:cubicBezTo>
                <a:cubicBezTo>
                  <a:pt x="0" y="577"/>
                  <a:pt x="64" y="655"/>
                  <a:pt x="120" y="723"/>
                </a:cubicBezTo>
                <a:cubicBezTo>
                  <a:pt x="140" y="748"/>
                  <a:pt x="159" y="771"/>
                  <a:pt x="175" y="797"/>
                </a:cubicBezTo>
                <a:cubicBezTo>
                  <a:pt x="178" y="803"/>
                  <a:pt x="180" y="808"/>
                  <a:pt x="183" y="813"/>
                </a:cubicBezTo>
                <a:cubicBezTo>
                  <a:pt x="589" y="813"/>
                  <a:pt x="589" y="813"/>
                  <a:pt x="589" y="813"/>
                </a:cubicBezTo>
                <a:cubicBezTo>
                  <a:pt x="592" y="808"/>
                  <a:pt x="594" y="802"/>
                  <a:pt x="597" y="797"/>
                </a:cubicBezTo>
                <a:close/>
              </a:path>
            </a:pathLst>
          </a:cu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Freeform 58"/>
          <p:cNvSpPr/>
          <p:nvPr/>
        </p:nvSpPr>
        <p:spPr>
          <a:xfrm>
            <a:off x="4327560" y="1857240"/>
            <a:ext cx="138240" cy="247680"/>
          </a:xfrm>
          <a:custGeom>
            <a:avLst/>
            <a:gdLst>
              <a:gd name="textAreaLeft" fmla="*/ 0 w 138240"/>
              <a:gd name="textAreaRight" fmla="*/ 138600 w 1382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6" h="82">
                <a:moveTo>
                  <a:pt x="36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9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5" y="82"/>
                  <a:pt x="10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1" y="82"/>
                  <a:pt x="46" y="78"/>
                  <a:pt x="46" y="73"/>
                </a:cubicBezTo>
                <a:cubicBezTo>
                  <a:pt x="46" y="9"/>
                  <a:pt x="46" y="9"/>
                  <a:pt x="46" y="9"/>
                </a:cubicBezTo>
                <a:cubicBezTo>
                  <a:pt x="46" y="4"/>
                  <a:pt x="41" y="0"/>
                  <a:pt x="36" y="0"/>
                </a:cubicBezTo>
                <a:close/>
                <a:moveTo>
                  <a:pt x="24" y="71"/>
                </a:moveTo>
                <a:cubicBezTo>
                  <a:pt x="23" y="71"/>
                  <a:pt x="23" y="71"/>
                  <a:pt x="23" y="71"/>
                </a:cubicBezTo>
                <a:cubicBezTo>
                  <a:pt x="21" y="71"/>
                  <a:pt x="19" y="69"/>
                  <a:pt x="19" y="67"/>
                </a:cubicBezTo>
                <a:cubicBezTo>
                  <a:pt x="19" y="65"/>
                  <a:pt x="21" y="63"/>
                  <a:pt x="23" y="63"/>
                </a:cubicBezTo>
                <a:cubicBezTo>
                  <a:pt x="24" y="63"/>
                  <a:pt x="24" y="63"/>
                  <a:pt x="24" y="63"/>
                </a:cubicBezTo>
                <a:cubicBezTo>
                  <a:pt x="26" y="63"/>
                  <a:pt x="28" y="65"/>
                  <a:pt x="28" y="67"/>
                </a:cubicBezTo>
                <a:cubicBezTo>
                  <a:pt x="28" y="69"/>
                  <a:pt x="26" y="71"/>
                  <a:pt x="24" y="71"/>
                </a:cubicBezTo>
                <a:close/>
                <a:moveTo>
                  <a:pt x="36" y="26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7" y="25"/>
                  <a:pt x="7" y="23"/>
                </a:cubicBezTo>
                <a:cubicBezTo>
                  <a:pt x="7" y="21"/>
                  <a:pt x="8" y="20"/>
                  <a:pt x="10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9" y="21"/>
                  <a:pt x="39" y="23"/>
                </a:cubicBezTo>
                <a:cubicBezTo>
                  <a:pt x="39" y="25"/>
                  <a:pt x="37" y="26"/>
                  <a:pt x="36" y="26"/>
                </a:cubicBezTo>
                <a:close/>
                <a:moveTo>
                  <a:pt x="36" y="16"/>
                </a:moveTo>
                <a:cubicBezTo>
                  <a:pt x="10" y="16"/>
                  <a:pt x="10" y="16"/>
                  <a:pt x="10" y="16"/>
                </a:cubicBezTo>
                <a:cubicBezTo>
                  <a:pt x="8" y="16"/>
                  <a:pt x="7" y="15"/>
                  <a:pt x="7" y="13"/>
                </a:cubicBezTo>
                <a:cubicBezTo>
                  <a:pt x="7" y="11"/>
                  <a:pt x="8" y="10"/>
                  <a:pt x="10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10"/>
                  <a:pt x="39" y="11"/>
                  <a:pt x="39" y="13"/>
                </a:cubicBezTo>
                <a:cubicBezTo>
                  <a:pt x="39" y="15"/>
                  <a:pt x="37" y="16"/>
                  <a:pt x="36" y="16"/>
                </a:cubicBez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Freeform 59"/>
          <p:cNvSpPr/>
          <p:nvPr/>
        </p:nvSpPr>
        <p:spPr>
          <a:xfrm>
            <a:off x="4483080" y="1854360"/>
            <a:ext cx="306360" cy="207720"/>
          </a:xfrm>
          <a:custGeom>
            <a:avLst/>
            <a:gdLst>
              <a:gd name="textAreaLeft" fmla="*/ 0 w 306360"/>
              <a:gd name="textAreaRight" fmla="*/ 306720 w 3063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02" h="69">
                <a:moveTo>
                  <a:pt x="90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6"/>
                  <a:pt x="0" y="1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9"/>
                  <a:pt x="12" y="69"/>
                </a:cubicBezTo>
                <a:cubicBezTo>
                  <a:pt x="90" y="69"/>
                  <a:pt x="90" y="69"/>
                  <a:pt x="90" y="69"/>
                </a:cubicBezTo>
                <a:cubicBezTo>
                  <a:pt x="97" y="69"/>
                  <a:pt x="102" y="63"/>
                  <a:pt x="102" y="5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2" y="6"/>
                  <a:pt x="97" y="0"/>
                  <a:pt x="90" y="0"/>
                </a:cubicBezTo>
                <a:close/>
                <a:moveTo>
                  <a:pt x="98" y="56"/>
                </a:moveTo>
                <a:cubicBezTo>
                  <a:pt x="98" y="60"/>
                  <a:pt x="94" y="64"/>
                  <a:pt x="90" y="64"/>
                </a:cubicBezTo>
                <a:cubicBezTo>
                  <a:pt x="12" y="64"/>
                  <a:pt x="12" y="64"/>
                  <a:pt x="12" y="64"/>
                </a:cubicBezTo>
                <a:cubicBezTo>
                  <a:pt x="8" y="64"/>
                  <a:pt x="5" y="60"/>
                  <a:pt x="5" y="56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8"/>
                  <a:pt x="8" y="5"/>
                  <a:pt x="12" y="5"/>
                </a:cubicBezTo>
                <a:cubicBezTo>
                  <a:pt x="90" y="5"/>
                  <a:pt x="90" y="5"/>
                  <a:pt x="90" y="5"/>
                </a:cubicBezTo>
                <a:cubicBezTo>
                  <a:pt x="94" y="5"/>
                  <a:pt x="98" y="8"/>
                  <a:pt x="98" y="12"/>
                </a:cubicBezTo>
                <a:lnTo>
                  <a:pt x="98" y="56"/>
                </a:ln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" name="Freeform 60"/>
          <p:cNvSpPr/>
          <p:nvPr/>
        </p:nvSpPr>
        <p:spPr>
          <a:xfrm>
            <a:off x="4606920" y="2071800"/>
            <a:ext cx="54000" cy="39600"/>
          </a:xfrm>
          <a:custGeom>
            <a:avLst/>
            <a:gdLst>
              <a:gd name="textAreaLeft" fmla="*/ 0 w 54000"/>
              <a:gd name="textAreaRight" fmla="*/ 54360 w 540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8" h="13">
                <a:moveTo>
                  <a:pt x="1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10"/>
                  <a:pt x="3" y="13"/>
                  <a:pt x="7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5" y="13"/>
                  <a:pt x="18" y="10"/>
                  <a:pt x="18" y="7"/>
                </a:cubicBezTo>
                <a:cubicBezTo>
                  <a:pt x="18" y="3"/>
                  <a:pt x="15" y="0"/>
                  <a:pt x="12" y="0"/>
                </a:cubicBez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8" name="Freeform 76"/>
          <p:cNvSpPr/>
          <p:nvPr/>
        </p:nvSpPr>
        <p:spPr>
          <a:xfrm>
            <a:off x="4335480" y="5208480"/>
            <a:ext cx="74520" cy="111240"/>
          </a:xfrm>
          <a:custGeom>
            <a:avLst/>
            <a:gdLst>
              <a:gd name="textAreaLeft" fmla="*/ 0 w 74520"/>
              <a:gd name="textAreaRight" fmla="*/ 74880 w 745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4" h="21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1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1"/>
                  <a:pt x="1" y="21"/>
                  <a:pt x="1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3" y="0"/>
                </a:cubicBez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Freeform 77"/>
          <p:cNvSpPr/>
          <p:nvPr/>
        </p:nvSpPr>
        <p:spPr>
          <a:xfrm>
            <a:off x="4460760" y="5254560"/>
            <a:ext cx="76320" cy="65160"/>
          </a:xfrm>
          <a:custGeom>
            <a:avLst/>
            <a:gdLst>
              <a:gd name="textAreaLeft" fmla="*/ 0 w 76320"/>
              <a:gd name="textAreaRight" fmla="*/ 76680 w 763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4" h="12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4" y="12"/>
                  <a:pt x="14" y="12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3" y="0"/>
                  <a:pt x="13" y="0"/>
                </a:cubicBez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Freeform 78"/>
          <p:cNvSpPr/>
          <p:nvPr/>
        </p:nvSpPr>
        <p:spPr>
          <a:xfrm>
            <a:off x="4583160" y="5124600"/>
            <a:ext cx="73080" cy="195120"/>
          </a:xfrm>
          <a:custGeom>
            <a:avLst/>
            <a:gdLst>
              <a:gd name="textAreaLeft" fmla="*/ 0 w 73080"/>
              <a:gd name="textAreaRight" fmla="*/ 73440 w 73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4" h="37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6"/>
                  <a:pt x="1" y="37"/>
                  <a:pt x="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4" y="37"/>
                  <a:pt x="14" y="36"/>
                  <a:pt x="14" y="35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4" y="0"/>
                  <a:pt x="13" y="0"/>
                </a:cubicBez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Freeform 79"/>
          <p:cNvSpPr/>
          <p:nvPr/>
        </p:nvSpPr>
        <p:spPr>
          <a:xfrm>
            <a:off x="4708440" y="4938840"/>
            <a:ext cx="76320" cy="380880"/>
          </a:xfrm>
          <a:custGeom>
            <a:avLst/>
            <a:gdLst>
              <a:gd name="textAreaLeft" fmla="*/ 0 w 76320"/>
              <a:gd name="textAreaRight" fmla="*/ 76680 w 76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4" h="72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2"/>
                  <a:pt x="0" y="4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0"/>
                  <a:pt x="1" y="72"/>
                  <a:pt x="1" y="72"/>
                </a:cubicBezTo>
                <a:cubicBezTo>
                  <a:pt x="13" y="72"/>
                  <a:pt x="13" y="72"/>
                  <a:pt x="13" y="72"/>
                </a:cubicBezTo>
                <a:cubicBezTo>
                  <a:pt x="14" y="72"/>
                  <a:pt x="14" y="70"/>
                  <a:pt x="14" y="68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4" y="0"/>
                  <a:pt x="13" y="0"/>
                </a:cubicBez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Freeform 80"/>
          <p:cNvSpPr/>
          <p:nvPr/>
        </p:nvSpPr>
        <p:spPr>
          <a:xfrm>
            <a:off x="4325760" y="4695840"/>
            <a:ext cx="463680" cy="482760"/>
          </a:xfrm>
          <a:custGeom>
            <a:avLst/>
            <a:gdLst>
              <a:gd name="textAreaLeft" fmla="*/ 0 w 463680"/>
              <a:gd name="textAreaRight" fmla="*/ 464040 w 4636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09" h="218">
                <a:moveTo>
                  <a:pt x="147" y="48"/>
                </a:moveTo>
                <a:lnTo>
                  <a:pt x="159" y="58"/>
                </a:lnTo>
                <a:lnTo>
                  <a:pt x="71" y="191"/>
                </a:lnTo>
                <a:lnTo>
                  <a:pt x="19" y="163"/>
                </a:lnTo>
                <a:lnTo>
                  <a:pt x="0" y="187"/>
                </a:lnTo>
                <a:lnTo>
                  <a:pt x="14" y="198"/>
                </a:lnTo>
                <a:lnTo>
                  <a:pt x="23" y="187"/>
                </a:lnTo>
                <a:lnTo>
                  <a:pt x="78" y="218"/>
                </a:lnTo>
                <a:lnTo>
                  <a:pt x="176" y="67"/>
                </a:lnTo>
                <a:lnTo>
                  <a:pt x="188" y="77"/>
                </a:lnTo>
                <a:lnTo>
                  <a:pt x="197" y="38"/>
                </a:lnTo>
                <a:lnTo>
                  <a:pt x="209" y="0"/>
                </a:lnTo>
                <a:lnTo>
                  <a:pt x="178" y="24"/>
                </a:lnTo>
                <a:lnTo>
                  <a:pt x="147" y="48"/>
                </a:lnTo>
                <a:close/>
              </a:path>
            </a:pathLst>
          </a:custGeom>
          <a:solidFill>
            <a:srgbClr val="f6f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文本框 52"/>
          <p:cNvSpPr/>
          <p:nvPr/>
        </p:nvSpPr>
        <p:spPr>
          <a:xfrm>
            <a:off x="4343760" y="2131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文本框 57"/>
          <p:cNvSpPr/>
          <p:nvPr/>
        </p:nvSpPr>
        <p:spPr>
          <a:xfrm>
            <a:off x="3773520" y="391644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LINMI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5" name="图片 43" descr=""/>
          <p:cNvPicPr/>
          <p:nvPr/>
        </p:nvPicPr>
        <p:blipFill>
          <a:blip r:embed="rId2"/>
          <a:stretch/>
        </p:blipFill>
        <p:spPr>
          <a:xfrm>
            <a:off x="2324160" y="2421000"/>
            <a:ext cx="1155600" cy="11746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44" descr=""/>
          <p:cNvPicPr/>
          <p:nvPr/>
        </p:nvPicPr>
        <p:blipFill>
          <a:blip r:embed="rId3"/>
          <a:stretch/>
        </p:blipFill>
        <p:spPr>
          <a:xfrm>
            <a:off x="5700600" y="2421000"/>
            <a:ext cx="1155960" cy="11746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45" descr=""/>
          <p:cNvPicPr/>
          <p:nvPr/>
        </p:nvPicPr>
        <p:blipFill>
          <a:blip r:embed="rId4"/>
          <a:stretch/>
        </p:blipFill>
        <p:spPr>
          <a:xfrm>
            <a:off x="6118200" y="4159080"/>
            <a:ext cx="1154160" cy="11732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46" descr=""/>
          <p:cNvPicPr/>
          <p:nvPr/>
        </p:nvPicPr>
        <p:blipFill>
          <a:blip r:embed="rId5"/>
          <a:stretch/>
        </p:blipFill>
        <p:spPr>
          <a:xfrm>
            <a:off x="1871640" y="4159080"/>
            <a:ext cx="1154160" cy="1173240"/>
          </a:xfrm>
          <a:prstGeom prst="rect">
            <a:avLst/>
          </a:prstGeom>
          <a:ln w="0">
            <a:noFill/>
          </a:ln>
        </p:spPr>
      </p:pic>
      <p:sp>
        <p:nvSpPr>
          <p:cNvPr id="289" name="任意多边形 47"/>
          <p:cNvSpPr/>
          <p:nvPr/>
        </p:nvSpPr>
        <p:spPr>
          <a:xfrm>
            <a:off x="2727360" y="2705040"/>
            <a:ext cx="341280" cy="333360"/>
          </a:xfrm>
          <a:custGeom>
            <a:avLst/>
            <a:gdLst>
              <a:gd name="textAreaLeft" fmla="*/ 0 w 341280"/>
              <a:gd name="textAreaRight" fmla="*/ 341640 w 3412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42470" h="333044">
                <a:moveTo>
                  <a:pt x="180167" y="56867"/>
                </a:moveTo>
                <a:cubicBezTo>
                  <a:pt x="180167" y="56867"/>
                  <a:pt x="180167" y="56867"/>
                  <a:pt x="279352" y="56867"/>
                </a:cubicBezTo>
                <a:cubicBezTo>
                  <a:pt x="312414" y="56867"/>
                  <a:pt x="342470" y="84111"/>
                  <a:pt x="342470" y="117409"/>
                </a:cubicBezTo>
                <a:cubicBezTo>
                  <a:pt x="342470" y="117409"/>
                  <a:pt x="342470" y="117409"/>
                  <a:pt x="342470" y="165842"/>
                </a:cubicBezTo>
                <a:cubicBezTo>
                  <a:pt x="342470" y="196112"/>
                  <a:pt x="318425" y="220329"/>
                  <a:pt x="291375" y="226383"/>
                </a:cubicBezTo>
                <a:cubicBezTo>
                  <a:pt x="285363" y="256654"/>
                  <a:pt x="306403" y="317195"/>
                  <a:pt x="306403" y="317195"/>
                </a:cubicBezTo>
                <a:cubicBezTo>
                  <a:pt x="270335" y="308114"/>
                  <a:pt x="261318" y="247573"/>
                  <a:pt x="258313" y="226383"/>
                </a:cubicBezTo>
                <a:cubicBezTo>
                  <a:pt x="258313" y="226383"/>
                  <a:pt x="258313" y="226383"/>
                  <a:pt x="180167" y="226383"/>
                </a:cubicBezTo>
                <a:cubicBezTo>
                  <a:pt x="147105" y="226383"/>
                  <a:pt x="120054" y="199139"/>
                  <a:pt x="120054" y="165842"/>
                </a:cubicBezTo>
                <a:cubicBezTo>
                  <a:pt x="120054" y="165842"/>
                  <a:pt x="120054" y="165842"/>
                  <a:pt x="120054" y="117409"/>
                </a:cubicBezTo>
                <a:cubicBezTo>
                  <a:pt x="120054" y="84111"/>
                  <a:pt x="147105" y="56867"/>
                  <a:pt x="180167" y="56867"/>
                </a:cubicBezTo>
                <a:close/>
                <a:moveTo>
                  <a:pt x="63096" y="0"/>
                </a:moveTo>
                <a:cubicBezTo>
                  <a:pt x="63096" y="0"/>
                  <a:pt x="63096" y="0"/>
                  <a:pt x="234358" y="0"/>
                </a:cubicBezTo>
                <a:cubicBezTo>
                  <a:pt x="264403" y="0"/>
                  <a:pt x="288440" y="21154"/>
                  <a:pt x="294449" y="48351"/>
                </a:cubicBezTo>
                <a:cubicBezTo>
                  <a:pt x="291445" y="48351"/>
                  <a:pt x="288440" y="45329"/>
                  <a:pt x="285435" y="45329"/>
                </a:cubicBezTo>
                <a:cubicBezTo>
                  <a:pt x="285435" y="45329"/>
                  <a:pt x="285435" y="45329"/>
                  <a:pt x="177270" y="45329"/>
                </a:cubicBezTo>
                <a:cubicBezTo>
                  <a:pt x="138211" y="45329"/>
                  <a:pt x="108165" y="75549"/>
                  <a:pt x="108165" y="114834"/>
                </a:cubicBezTo>
                <a:cubicBezTo>
                  <a:pt x="108165" y="114834"/>
                  <a:pt x="108165" y="114834"/>
                  <a:pt x="108165" y="166208"/>
                </a:cubicBezTo>
                <a:cubicBezTo>
                  <a:pt x="108165" y="196427"/>
                  <a:pt x="126193" y="220603"/>
                  <a:pt x="150229" y="229669"/>
                </a:cubicBezTo>
                <a:cubicBezTo>
                  <a:pt x="120183" y="347525"/>
                  <a:pt x="33051" y="332415"/>
                  <a:pt x="33051" y="332415"/>
                </a:cubicBezTo>
                <a:cubicBezTo>
                  <a:pt x="78119" y="320328"/>
                  <a:pt x="87133" y="256866"/>
                  <a:pt x="90138" y="229669"/>
                </a:cubicBezTo>
                <a:cubicBezTo>
                  <a:pt x="90138" y="229669"/>
                  <a:pt x="90138" y="229669"/>
                  <a:pt x="63096" y="229669"/>
                </a:cubicBezTo>
                <a:cubicBezTo>
                  <a:pt x="27041" y="229669"/>
                  <a:pt x="0" y="202471"/>
                  <a:pt x="0" y="166208"/>
                </a:cubicBezTo>
                <a:cubicBezTo>
                  <a:pt x="0" y="166208"/>
                  <a:pt x="0" y="166208"/>
                  <a:pt x="0" y="60439"/>
                </a:cubicBezTo>
                <a:cubicBezTo>
                  <a:pt x="0" y="27198"/>
                  <a:pt x="27041" y="0"/>
                  <a:pt x="63096" y="0"/>
                </a:cubicBezTo>
                <a:close/>
              </a:path>
            </a:pathLst>
          </a:custGeom>
          <a:solidFill>
            <a:srgbClr val="f2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0" name="组合 48"/>
          <p:cNvGrpSpPr/>
          <p:nvPr/>
        </p:nvGrpSpPr>
        <p:grpSpPr>
          <a:xfrm>
            <a:off x="6116760" y="2774880"/>
            <a:ext cx="393480" cy="295200"/>
            <a:chOff x="6116760" y="2774880"/>
            <a:chExt cx="393480" cy="295200"/>
          </a:xfrm>
        </p:grpSpPr>
        <p:sp>
          <p:nvSpPr>
            <p:cNvPr id="291" name="Freeform 63"/>
            <p:cNvSpPr/>
            <p:nvPr/>
          </p:nvSpPr>
          <p:spPr>
            <a:xfrm>
              <a:off x="6116760" y="2774880"/>
              <a:ext cx="84240" cy="29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28" h="97">
                  <a:moveTo>
                    <a:pt x="27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7"/>
                    <a:pt x="1" y="97"/>
                  </a:cubicBezTo>
                  <a:cubicBezTo>
                    <a:pt x="27" y="97"/>
                    <a:pt x="27" y="97"/>
                    <a:pt x="27" y="97"/>
                  </a:cubicBezTo>
                  <a:cubicBezTo>
                    <a:pt x="27" y="97"/>
                    <a:pt x="28" y="97"/>
                    <a:pt x="28" y="96"/>
                  </a:cubicBezTo>
                  <a:cubicBezTo>
                    <a:pt x="28" y="1"/>
                    <a:pt x="28" y="1"/>
                    <a:pt x="28" y="1"/>
                  </a:cubicBezTo>
                  <a:cubicBezTo>
                    <a:pt x="28" y="1"/>
                    <a:pt x="27" y="0"/>
                    <a:pt x="27" y="0"/>
                  </a:cubicBezTo>
                  <a:close/>
                  <a:moveTo>
                    <a:pt x="14" y="94"/>
                  </a:moveTo>
                  <a:cubicBezTo>
                    <a:pt x="10" y="94"/>
                    <a:pt x="7" y="91"/>
                    <a:pt x="7" y="87"/>
                  </a:cubicBezTo>
                  <a:cubicBezTo>
                    <a:pt x="7" y="83"/>
                    <a:pt x="10" y="80"/>
                    <a:pt x="14" y="80"/>
                  </a:cubicBezTo>
                  <a:cubicBezTo>
                    <a:pt x="18" y="80"/>
                    <a:pt x="21" y="83"/>
                    <a:pt x="21" y="87"/>
                  </a:cubicBezTo>
                  <a:cubicBezTo>
                    <a:pt x="21" y="91"/>
                    <a:pt x="18" y="94"/>
                    <a:pt x="14" y="94"/>
                  </a:cubicBezTo>
                  <a:close/>
                  <a:moveTo>
                    <a:pt x="24" y="54"/>
                  </a:moveTo>
                  <a:cubicBezTo>
                    <a:pt x="24" y="55"/>
                    <a:pt x="24" y="55"/>
                    <a:pt x="23" y="55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5" y="55"/>
                    <a:pt x="4" y="55"/>
                    <a:pt x="4" y="5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4" y="5"/>
                    <a:pt x="24" y="6"/>
                    <a:pt x="24" y="6"/>
                  </a:cubicBezTo>
                  <a:lnTo>
                    <a:pt x="24" y="54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64"/>
            <p:cNvSpPr/>
            <p:nvPr/>
          </p:nvSpPr>
          <p:spPr>
            <a:xfrm>
              <a:off x="6138000" y="2811240"/>
              <a:ext cx="43920" cy="11160"/>
            </a:xfrm>
            <a:custGeom>
              <a:avLst/>
              <a:gdLst>
                <a:gd name="textAreaLeft" fmla="*/ 0 w 43920"/>
                <a:gd name="textAreaRight" fmla="*/ 43920 w 43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65"/>
            <p:cNvSpPr/>
            <p:nvPr/>
          </p:nvSpPr>
          <p:spPr>
            <a:xfrm>
              <a:off x="6138000" y="2826360"/>
              <a:ext cx="43920" cy="11160"/>
            </a:xfrm>
            <a:custGeom>
              <a:avLst/>
              <a:gdLst>
                <a:gd name="textAreaLeft" fmla="*/ 0 w 43920"/>
                <a:gd name="textAreaRight" fmla="*/ 43920 w 43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66"/>
            <p:cNvSpPr/>
            <p:nvPr/>
          </p:nvSpPr>
          <p:spPr>
            <a:xfrm>
              <a:off x="6216480" y="2774880"/>
              <a:ext cx="80640" cy="292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27" h="97">
                  <a:moveTo>
                    <a:pt x="27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0" y="97"/>
                    <a:pt x="1" y="97"/>
                    <a:pt x="1" y="97"/>
                  </a:cubicBezTo>
                  <a:cubicBezTo>
                    <a:pt x="27" y="97"/>
                    <a:pt x="27" y="97"/>
                    <a:pt x="27" y="97"/>
                  </a:cubicBezTo>
                  <a:cubicBezTo>
                    <a:pt x="27" y="97"/>
                    <a:pt x="27" y="97"/>
                    <a:pt x="27" y="96"/>
                  </a:cubicBezTo>
                  <a:cubicBezTo>
                    <a:pt x="27" y="1"/>
                    <a:pt x="27" y="1"/>
                    <a:pt x="27" y="1"/>
                  </a:cubicBezTo>
                  <a:cubicBezTo>
                    <a:pt x="27" y="1"/>
                    <a:pt x="27" y="0"/>
                    <a:pt x="27" y="0"/>
                  </a:cubicBezTo>
                  <a:close/>
                  <a:moveTo>
                    <a:pt x="14" y="94"/>
                  </a:moveTo>
                  <a:cubicBezTo>
                    <a:pt x="10" y="94"/>
                    <a:pt x="7" y="91"/>
                    <a:pt x="7" y="87"/>
                  </a:cubicBezTo>
                  <a:cubicBezTo>
                    <a:pt x="7" y="83"/>
                    <a:pt x="10" y="80"/>
                    <a:pt x="14" y="80"/>
                  </a:cubicBezTo>
                  <a:cubicBezTo>
                    <a:pt x="18" y="80"/>
                    <a:pt x="21" y="83"/>
                    <a:pt x="21" y="87"/>
                  </a:cubicBezTo>
                  <a:cubicBezTo>
                    <a:pt x="21" y="91"/>
                    <a:pt x="18" y="94"/>
                    <a:pt x="14" y="94"/>
                  </a:cubicBezTo>
                  <a:close/>
                  <a:moveTo>
                    <a:pt x="24" y="54"/>
                  </a:moveTo>
                  <a:cubicBezTo>
                    <a:pt x="24" y="55"/>
                    <a:pt x="24" y="55"/>
                    <a:pt x="23" y="55"/>
                  </a:cubicBezTo>
                  <a:cubicBezTo>
                    <a:pt x="5" y="55"/>
                    <a:pt x="5" y="55"/>
                    <a:pt x="5" y="55"/>
                  </a:cubicBezTo>
                  <a:cubicBezTo>
                    <a:pt x="5" y="55"/>
                    <a:pt x="4" y="55"/>
                    <a:pt x="4" y="5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4" y="5"/>
                    <a:pt x="24" y="6"/>
                    <a:pt x="24" y="6"/>
                  </a:cubicBezTo>
                  <a:lnTo>
                    <a:pt x="24" y="54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67"/>
            <p:cNvSpPr/>
            <p:nvPr/>
          </p:nvSpPr>
          <p:spPr>
            <a:xfrm>
              <a:off x="6236640" y="2811240"/>
              <a:ext cx="42840" cy="11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4">
                  <a:moveTo>
                    <a:pt x="14" y="3"/>
                  </a:moveTo>
                  <a:cubicBezTo>
                    <a:pt x="14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4" y="0"/>
                    <a:pt x="14" y="1"/>
                  </a:cubicBezTo>
                  <a:lnTo>
                    <a:pt x="14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6236640" y="2826360"/>
              <a:ext cx="45360" cy="11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5" h="4">
                  <a:moveTo>
                    <a:pt x="15" y="3"/>
                  </a:moveTo>
                  <a:cubicBezTo>
                    <a:pt x="15" y="3"/>
                    <a:pt x="14" y="4"/>
                    <a:pt x="14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5" y="0"/>
                    <a:pt x="15" y="1"/>
                  </a:cubicBezTo>
                  <a:lnTo>
                    <a:pt x="15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6305760" y="2774880"/>
              <a:ext cx="204480" cy="2952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68" h="98">
                  <a:moveTo>
                    <a:pt x="23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44" y="97"/>
                    <a:pt x="44" y="97"/>
                    <a:pt x="44" y="97"/>
                  </a:cubicBezTo>
                  <a:cubicBezTo>
                    <a:pt x="44" y="98"/>
                    <a:pt x="44" y="98"/>
                    <a:pt x="45" y="98"/>
                  </a:cubicBezTo>
                  <a:cubicBezTo>
                    <a:pt x="67" y="86"/>
                    <a:pt x="67" y="86"/>
                    <a:pt x="67" y="86"/>
                  </a:cubicBezTo>
                  <a:cubicBezTo>
                    <a:pt x="68" y="86"/>
                    <a:pt x="68" y="85"/>
                    <a:pt x="68" y="8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3" y="0"/>
                    <a:pt x="23" y="0"/>
                  </a:cubicBezTo>
                  <a:close/>
                  <a:moveTo>
                    <a:pt x="54" y="89"/>
                  </a:moveTo>
                  <a:cubicBezTo>
                    <a:pt x="51" y="90"/>
                    <a:pt x="47" y="89"/>
                    <a:pt x="45" y="86"/>
                  </a:cubicBezTo>
                  <a:cubicBezTo>
                    <a:pt x="44" y="83"/>
                    <a:pt x="45" y="79"/>
                    <a:pt x="48" y="77"/>
                  </a:cubicBezTo>
                  <a:cubicBezTo>
                    <a:pt x="52" y="75"/>
                    <a:pt x="56" y="76"/>
                    <a:pt x="57" y="80"/>
                  </a:cubicBezTo>
                  <a:cubicBezTo>
                    <a:pt x="59" y="83"/>
                    <a:pt x="58" y="87"/>
                    <a:pt x="54" y="89"/>
                  </a:cubicBezTo>
                  <a:close/>
                  <a:moveTo>
                    <a:pt x="45" y="49"/>
                  </a:moveTo>
                  <a:cubicBezTo>
                    <a:pt x="46" y="50"/>
                    <a:pt x="45" y="50"/>
                    <a:pt x="45" y="50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29" y="59"/>
                    <a:pt x="28" y="59"/>
                    <a:pt x="28" y="5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5"/>
                    <a:pt x="6" y="14"/>
                    <a:pt x="6" y="14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6"/>
                    <a:pt x="23" y="6"/>
                    <a:pt x="23" y="6"/>
                  </a:cubicBezTo>
                  <a:lnTo>
                    <a:pt x="45" y="49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6338880" y="281376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2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10"/>
                    <a:pt x="1" y="9"/>
                    <a:pt x="1" y="9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3" y="0"/>
                    <a:pt x="13" y="0"/>
                  </a:cubicBezTo>
                  <a:lnTo>
                    <a:pt x="14" y="2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71"/>
            <p:cNvSpPr/>
            <p:nvPr/>
          </p:nvSpPr>
          <p:spPr>
            <a:xfrm>
              <a:off x="6345000" y="2826360"/>
              <a:ext cx="45360" cy="302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5" h="10">
                  <a:moveTo>
                    <a:pt x="14" y="3"/>
                  </a:moveTo>
                  <a:cubicBezTo>
                    <a:pt x="15" y="3"/>
                    <a:pt x="14" y="3"/>
                    <a:pt x="14" y="4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1" y="10"/>
                    <a:pt x="1" y="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1" y="6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1"/>
                  </a:cubicBezTo>
                  <a:lnTo>
                    <a:pt x="14" y="3"/>
                  </a:lnTo>
                  <a:close/>
                </a:path>
              </a:pathLst>
            </a:custGeom>
            <a:solidFill>
              <a:srgbClr val="f2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0" name="任意多边形 68"/>
          <p:cNvSpPr/>
          <p:nvPr/>
        </p:nvSpPr>
        <p:spPr>
          <a:xfrm>
            <a:off x="6494400" y="4460760"/>
            <a:ext cx="336600" cy="319320"/>
          </a:xfrm>
          <a:custGeom>
            <a:avLst/>
            <a:gdLst>
              <a:gd name="textAreaLeft" fmla="*/ 0 w 336600"/>
              <a:gd name="textAreaRight" fmla="*/ 336960 w 336600"/>
              <a:gd name="textAreaTop" fmla="*/ 0 h 319320"/>
              <a:gd name="textAreaBottom" fmla="*/ 319320 h 319320"/>
            </a:gdLst>
            <a:ahLst/>
            <a:rect l="textAreaLeft" t="textAreaTop" r="textAreaRight" b="textAreaBottom"/>
            <a:pathLst>
              <a:path w="336152" h="318969">
                <a:moveTo>
                  <a:pt x="283076" y="267157"/>
                </a:moveTo>
                <a:cubicBezTo>
                  <a:pt x="297035" y="267157"/>
                  <a:pt x="308351" y="278756"/>
                  <a:pt x="308351" y="293063"/>
                </a:cubicBezTo>
                <a:cubicBezTo>
                  <a:pt x="308351" y="307370"/>
                  <a:pt x="297035" y="318969"/>
                  <a:pt x="283076" y="318969"/>
                </a:cubicBezTo>
                <a:cubicBezTo>
                  <a:pt x="269117" y="318969"/>
                  <a:pt x="257801" y="307370"/>
                  <a:pt x="257801" y="293063"/>
                </a:cubicBezTo>
                <a:cubicBezTo>
                  <a:pt x="257801" y="278756"/>
                  <a:pt x="269117" y="267157"/>
                  <a:pt x="283076" y="267157"/>
                </a:cubicBezTo>
                <a:close/>
                <a:moveTo>
                  <a:pt x="154175" y="267157"/>
                </a:moveTo>
                <a:cubicBezTo>
                  <a:pt x="168134" y="267157"/>
                  <a:pt x="179450" y="278756"/>
                  <a:pt x="179450" y="293063"/>
                </a:cubicBezTo>
                <a:cubicBezTo>
                  <a:pt x="179450" y="307370"/>
                  <a:pt x="168134" y="318969"/>
                  <a:pt x="154175" y="318969"/>
                </a:cubicBezTo>
                <a:cubicBezTo>
                  <a:pt x="140216" y="318969"/>
                  <a:pt x="128900" y="307370"/>
                  <a:pt x="128900" y="293063"/>
                </a:cubicBezTo>
                <a:cubicBezTo>
                  <a:pt x="128900" y="278756"/>
                  <a:pt x="140216" y="267157"/>
                  <a:pt x="154175" y="267157"/>
                </a:cubicBezTo>
                <a:close/>
                <a:moveTo>
                  <a:pt x="243900" y="171113"/>
                </a:moveTo>
                <a:cubicBezTo>
                  <a:pt x="252973" y="171113"/>
                  <a:pt x="260329" y="177903"/>
                  <a:pt x="260329" y="186278"/>
                </a:cubicBezTo>
                <a:cubicBezTo>
                  <a:pt x="260329" y="194653"/>
                  <a:pt x="252973" y="201443"/>
                  <a:pt x="243900" y="201443"/>
                </a:cubicBezTo>
                <a:cubicBezTo>
                  <a:pt x="234827" y="201443"/>
                  <a:pt x="227471" y="194653"/>
                  <a:pt x="227471" y="186278"/>
                </a:cubicBezTo>
                <a:cubicBezTo>
                  <a:pt x="227471" y="177903"/>
                  <a:pt x="234827" y="171113"/>
                  <a:pt x="243900" y="171113"/>
                </a:cubicBezTo>
                <a:close/>
                <a:moveTo>
                  <a:pt x="190192" y="171113"/>
                </a:moveTo>
                <a:cubicBezTo>
                  <a:pt x="199615" y="171113"/>
                  <a:pt x="207253" y="177903"/>
                  <a:pt x="207253" y="186278"/>
                </a:cubicBezTo>
                <a:cubicBezTo>
                  <a:pt x="207253" y="194653"/>
                  <a:pt x="199615" y="201443"/>
                  <a:pt x="190192" y="201443"/>
                </a:cubicBezTo>
                <a:cubicBezTo>
                  <a:pt x="180769" y="201443"/>
                  <a:pt x="173131" y="194653"/>
                  <a:pt x="173131" y="186278"/>
                </a:cubicBezTo>
                <a:cubicBezTo>
                  <a:pt x="173131" y="177903"/>
                  <a:pt x="180769" y="171113"/>
                  <a:pt x="190192" y="171113"/>
                </a:cubicBezTo>
                <a:close/>
                <a:moveTo>
                  <a:pt x="271702" y="116772"/>
                </a:moveTo>
                <a:cubicBezTo>
                  <a:pt x="280775" y="116772"/>
                  <a:pt x="288131" y="124128"/>
                  <a:pt x="288131" y="133201"/>
                </a:cubicBezTo>
                <a:cubicBezTo>
                  <a:pt x="288131" y="142274"/>
                  <a:pt x="280775" y="149630"/>
                  <a:pt x="271702" y="149630"/>
                </a:cubicBezTo>
                <a:cubicBezTo>
                  <a:pt x="262629" y="149630"/>
                  <a:pt x="255273" y="142274"/>
                  <a:pt x="255273" y="133201"/>
                </a:cubicBezTo>
                <a:cubicBezTo>
                  <a:pt x="255273" y="124128"/>
                  <a:pt x="262629" y="116772"/>
                  <a:pt x="271702" y="116772"/>
                </a:cubicBezTo>
                <a:close/>
                <a:moveTo>
                  <a:pt x="160494" y="116772"/>
                </a:moveTo>
                <a:cubicBezTo>
                  <a:pt x="169567" y="116772"/>
                  <a:pt x="176923" y="124128"/>
                  <a:pt x="176923" y="133201"/>
                </a:cubicBezTo>
                <a:cubicBezTo>
                  <a:pt x="176923" y="142274"/>
                  <a:pt x="169567" y="149630"/>
                  <a:pt x="160494" y="149630"/>
                </a:cubicBezTo>
                <a:cubicBezTo>
                  <a:pt x="151421" y="149630"/>
                  <a:pt x="144065" y="142274"/>
                  <a:pt x="144065" y="133201"/>
                </a:cubicBezTo>
                <a:cubicBezTo>
                  <a:pt x="144065" y="124128"/>
                  <a:pt x="151421" y="116772"/>
                  <a:pt x="160494" y="116772"/>
                </a:cubicBezTo>
                <a:close/>
                <a:moveTo>
                  <a:pt x="3001" y="53586"/>
                </a:moveTo>
                <a:cubicBezTo>
                  <a:pt x="3001" y="53586"/>
                  <a:pt x="3001" y="53586"/>
                  <a:pt x="6002" y="53586"/>
                </a:cubicBezTo>
                <a:cubicBezTo>
                  <a:pt x="90040" y="53586"/>
                  <a:pt x="90040" y="53586"/>
                  <a:pt x="90040" y="53586"/>
                </a:cubicBezTo>
                <a:cubicBezTo>
                  <a:pt x="90040" y="53586"/>
                  <a:pt x="93042" y="53586"/>
                  <a:pt x="93042" y="53586"/>
                </a:cubicBezTo>
                <a:cubicBezTo>
                  <a:pt x="159072" y="219329"/>
                  <a:pt x="159072" y="219329"/>
                  <a:pt x="159072" y="219329"/>
                </a:cubicBezTo>
                <a:cubicBezTo>
                  <a:pt x="159072" y="219329"/>
                  <a:pt x="159072" y="222343"/>
                  <a:pt x="162073" y="222343"/>
                </a:cubicBezTo>
                <a:cubicBezTo>
                  <a:pt x="273124" y="222343"/>
                  <a:pt x="273124" y="222343"/>
                  <a:pt x="273124" y="222343"/>
                </a:cubicBezTo>
                <a:cubicBezTo>
                  <a:pt x="273124" y="222343"/>
                  <a:pt x="276125" y="219329"/>
                  <a:pt x="276125" y="219329"/>
                </a:cubicBezTo>
                <a:cubicBezTo>
                  <a:pt x="309140" y="119883"/>
                  <a:pt x="309140" y="119883"/>
                  <a:pt x="309140" y="119883"/>
                </a:cubicBezTo>
                <a:cubicBezTo>
                  <a:pt x="309140" y="116870"/>
                  <a:pt x="312141" y="116870"/>
                  <a:pt x="312141" y="116870"/>
                </a:cubicBezTo>
                <a:lnTo>
                  <a:pt x="333151" y="125910"/>
                </a:lnTo>
                <a:cubicBezTo>
                  <a:pt x="336152" y="125910"/>
                  <a:pt x="336152" y="125910"/>
                  <a:pt x="336152" y="128924"/>
                </a:cubicBezTo>
                <a:cubicBezTo>
                  <a:pt x="294133" y="246451"/>
                  <a:pt x="294133" y="246451"/>
                  <a:pt x="294133" y="246451"/>
                </a:cubicBezTo>
                <a:cubicBezTo>
                  <a:pt x="294133" y="246451"/>
                  <a:pt x="294133" y="249464"/>
                  <a:pt x="294133" y="249464"/>
                </a:cubicBezTo>
                <a:cubicBezTo>
                  <a:pt x="141064" y="249464"/>
                  <a:pt x="141064" y="249464"/>
                  <a:pt x="141064" y="249464"/>
                </a:cubicBezTo>
                <a:cubicBezTo>
                  <a:pt x="141064" y="249464"/>
                  <a:pt x="141064" y="246451"/>
                  <a:pt x="141064" y="246451"/>
                </a:cubicBezTo>
                <a:cubicBezTo>
                  <a:pt x="75034" y="80708"/>
                  <a:pt x="75034" y="80708"/>
                  <a:pt x="75034" y="80708"/>
                </a:cubicBezTo>
                <a:cubicBezTo>
                  <a:pt x="72032" y="80708"/>
                  <a:pt x="72032" y="80708"/>
                  <a:pt x="72032" y="80708"/>
                </a:cubicBezTo>
                <a:cubicBezTo>
                  <a:pt x="6002" y="80708"/>
                  <a:pt x="6002" y="80708"/>
                  <a:pt x="6002" y="80708"/>
                </a:cubicBezTo>
                <a:cubicBezTo>
                  <a:pt x="3001" y="80708"/>
                  <a:pt x="3001" y="80708"/>
                  <a:pt x="0" y="77694"/>
                </a:cubicBezTo>
                <a:cubicBezTo>
                  <a:pt x="3001" y="53586"/>
                  <a:pt x="3001" y="53586"/>
                  <a:pt x="3001" y="53586"/>
                </a:cubicBezTo>
                <a:close/>
                <a:moveTo>
                  <a:pt x="215877" y="2265"/>
                </a:moveTo>
                <a:cubicBezTo>
                  <a:pt x="218844" y="-754"/>
                  <a:pt x="218844" y="-754"/>
                  <a:pt x="218844" y="2265"/>
                </a:cubicBezTo>
                <a:cubicBezTo>
                  <a:pt x="251481" y="53587"/>
                  <a:pt x="251481" y="53587"/>
                  <a:pt x="251481" y="53587"/>
                </a:cubicBezTo>
                <a:cubicBezTo>
                  <a:pt x="251481" y="56605"/>
                  <a:pt x="251481" y="56605"/>
                  <a:pt x="248514" y="56605"/>
                </a:cubicBezTo>
                <a:cubicBezTo>
                  <a:pt x="233679" y="56605"/>
                  <a:pt x="233679" y="56605"/>
                  <a:pt x="233679" y="56605"/>
                </a:cubicBezTo>
                <a:cubicBezTo>
                  <a:pt x="230712" y="56605"/>
                  <a:pt x="230712" y="56605"/>
                  <a:pt x="230712" y="56605"/>
                </a:cubicBezTo>
                <a:cubicBezTo>
                  <a:pt x="230712" y="159248"/>
                  <a:pt x="230712" y="159248"/>
                  <a:pt x="230712" y="159248"/>
                </a:cubicBezTo>
                <a:cubicBezTo>
                  <a:pt x="230712" y="162267"/>
                  <a:pt x="230712" y="162267"/>
                  <a:pt x="230712" y="162267"/>
                </a:cubicBezTo>
                <a:lnTo>
                  <a:pt x="206976" y="162267"/>
                </a:lnTo>
                <a:cubicBezTo>
                  <a:pt x="204009" y="162267"/>
                  <a:pt x="204009" y="162267"/>
                  <a:pt x="204009" y="159248"/>
                </a:cubicBezTo>
                <a:cubicBezTo>
                  <a:pt x="204009" y="56605"/>
                  <a:pt x="204009" y="56605"/>
                  <a:pt x="204009" y="56605"/>
                </a:cubicBezTo>
                <a:cubicBezTo>
                  <a:pt x="186207" y="56605"/>
                  <a:pt x="186207" y="56605"/>
                  <a:pt x="186207" y="56605"/>
                </a:cubicBezTo>
                <a:cubicBezTo>
                  <a:pt x="186207" y="56605"/>
                  <a:pt x="183240" y="56605"/>
                  <a:pt x="186207" y="53587"/>
                </a:cubicBezTo>
                <a:cubicBezTo>
                  <a:pt x="215877" y="2265"/>
                  <a:pt x="215877" y="2265"/>
                  <a:pt x="215877" y="2265"/>
                </a:cubicBez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文本框 69"/>
          <p:cNvSpPr/>
          <p:nvPr/>
        </p:nvSpPr>
        <p:spPr>
          <a:xfrm>
            <a:off x="2704680" y="2998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2" name="文本框 70"/>
          <p:cNvSpPr/>
          <p:nvPr/>
        </p:nvSpPr>
        <p:spPr>
          <a:xfrm>
            <a:off x="6081480" y="3048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文本框 71"/>
          <p:cNvSpPr/>
          <p:nvPr/>
        </p:nvSpPr>
        <p:spPr>
          <a:xfrm>
            <a:off x="2251440" y="47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文本框 72"/>
          <p:cNvSpPr/>
          <p:nvPr/>
        </p:nvSpPr>
        <p:spPr>
          <a:xfrm>
            <a:off x="6498000" y="478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58585"/>
                </a:solidFill>
                <a:latin typeface="幼圆"/>
                <a:ea typeface="幼圆"/>
              </a:rPr>
              <a:t>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KSO_Shape"/>
          <p:cNvSpPr/>
          <p:nvPr/>
        </p:nvSpPr>
        <p:spPr>
          <a:xfrm flipH="1">
            <a:off x="2324160" y="4424400"/>
            <a:ext cx="249120" cy="360360"/>
          </a:xfrm>
          <a:custGeom>
            <a:avLst/>
            <a:gdLst>
              <a:gd name="textAreaLeft" fmla="*/ 360 w 249120"/>
              <a:gd name="textAreaRight" fmla="*/ 249840 w 2491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519238" h="2201863">
                <a:moveTo>
                  <a:pt x="745439" y="1962150"/>
                </a:moveTo>
                <a:lnTo>
                  <a:pt x="739140" y="1962469"/>
                </a:lnTo>
                <a:lnTo>
                  <a:pt x="733471" y="1962788"/>
                </a:lnTo>
                <a:lnTo>
                  <a:pt x="728117" y="1963426"/>
                </a:lnTo>
                <a:lnTo>
                  <a:pt x="723078" y="1964383"/>
                </a:lnTo>
                <a:lnTo>
                  <a:pt x="714890" y="1966296"/>
                </a:lnTo>
                <a:lnTo>
                  <a:pt x="708591" y="1968209"/>
                </a:lnTo>
                <a:lnTo>
                  <a:pt x="704181" y="1969804"/>
                </a:lnTo>
                <a:lnTo>
                  <a:pt x="700087" y="1971398"/>
                </a:lnTo>
                <a:lnTo>
                  <a:pt x="700087" y="2179638"/>
                </a:lnTo>
                <a:lnTo>
                  <a:pt x="748589" y="2179638"/>
                </a:lnTo>
                <a:lnTo>
                  <a:pt x="769060" y="2179638"/>
                </a:lnTo>
                <a:lnTo>
                  <a:pt x="817562" y="2179638"/>
                </a:lnTo>
                <a:lnTo>
                  <a:pt x="817562" y="1971398"/>
                </a:lnTo>
                <a:lnTo>
                  <a:pt x="813468" y="1969804"/>
                </a:lnTo>
                <a:lnTo>
                  <a:pt x="808744" y="1968209"/>
                </a:lnTo>
                <a:lnTo>
                  <a:pt x="802760" y="1966296"/>
                </a:lnTo>
                <a:lnTo>
                  <a:pt x="794256" y="1964383"/>
                </a:lnTo>
                <a:lnTo>
                  <a:pt x="789532" y="1963426"/>
                </a:lnTo>
                <a:lnTo>
                  <a:pt x="784178" y="1962788"/>
                </a:lnTo>
                <a:lnTo>
                  <a:pt x="778509" y="1962469"/>
                </a:lnTo>
                <a:lnTo>
                  <a:pt x="772210" y="1962150"/>
                </a:lnTo>
                <a:lnTo>
                  <a:pt x="765596" y="1962150"/>
                </a:lnTo>
                <a:lnTo>
                  <a:pt x="758667" y="1962469"/>
                </a:lnTo>
                <a:lnTo>
                  <a:pt x="751738" y="1962150"/>
                </a:lnTo>
                <a:lnTo>
                  <a:pt x="745439" y="1962150"/>
                </a:lnTo>
                <a:close/>
                <a:moveTo>
                  <a:pt x="1243330" y="1914525"/>
                </a:moveTo>
                <a:lnTo>
                  <a:pt x="1238568" y="1914843"/>
                </a:lnTo>
                <a:lnTo>
                  <a:pt x="1234758" y="1915161"/>
                </a:lnTo>
                <a:lnTo>
                  <a:pt x="1227138" y="1916116"/>
                </a:lnTo>
                <a:lnTo>
                  <a:pt x="1220788" y="1918024"/>
                </a:lnTo>
                <a:lnTo>
                  <a:pt x="1216025" y="1919614"/>
                </a:lnTo>
                <a:lnTo>
                  <a:pt x="1212533" y="1920886"/>
                </a:lnTo>
                <a:lnTo>
                  <a:pt x="1209675" y="1922159"/>
                </a:lnTo>
                <a:lnTo>
                  <a:pt x="1209675" y="2095500"/>
                </a:lnTo>
                <a:lnTo>
                  <a:pt x="1245553" y="2095500"/>
                </a:lnTo>
                <a:lnTo>
                  <a:pt x="1261111" y="2095500"/>
                </a:lnTo>
                <a:lnTo>
                  <a:pt x="1296988" y="2095500"/>
                </a:lnTo>
                <a:lnTo>
                  <a:pt x="1296988" y="1922159"/>
                </a:lnTo>
                <a:lnTo>
                  <a:pt x="1294131" y="1920886"/>
                </a:lnTo>
                <a:lnTo>
                  <a:pt x="1290956" y="1919614"/>
                </a:lnTo>
                <a:lnTo>
                  <a:pt x="1286193" y="1918024"/>
                </a:lnTo>
                <a:lnTo>
                  <a:pt x="1279843" y="1916116"/>
                </a:lnTo>
                <a:lnTo>
                  <a:pt x="1272541" y="1915161"/>
                </a:lnTo>
                <a:lnTo>
                  <a:pt x="1268096" y="1914843"/>
                </a:lnTo>
                <a:lnTo>
                  <a:pt x="1263651" y="1914525"/>
                </a:lnTo>
                <a:lnTo>
                  <a:pt x="1258571" y="1914525"/>
                </a:lnTo>
                <a:lnTo>
                  <a:pt x="1253490" y="1914525"/>
                </a:lnTo>
                <a:lnTo>
                  <a:pt x="1248410" y="1914525"/>
                </a:lnTo>
                <a:lnTo>
                  <a:pt x="1243330" y="1914525"/>
                </a:lnTo>
                <a:close/>
                <a:moveTo>
                  <a:pt x="255588" y="1914525"/>
                </a:moveTo>
                <a:lnTo>
                  <a:pt x="251143" y="1914843"/>
                </a:lnTo>
                <a:lnTo>
                  <a:pt x="246698" y="1915161"/>
                </a:lnTo>
                <a:lnTo>
                  <a:pt x="239395" y="1916116"/>
                </a:lnTo>
                <a:lnTo>
                  <a:pt x="233045" y="1918024"/>
                </a:lnTo>
                <a:lnTo>
                  <a:pt x="228600" y="1919614"/>
                </a:lnTo>
                <a:lnTo>
                  <a:pt x="224790" y="1920886"/>
                </a:lnTo>
                <a:lnTo>
                  <a:pt x="222250" y="1922159"/>
                </a:lnTo>
                <a:lnTo>
                  <a:pt x="222250" y="2095500"/>
                </a:lnTo>
                <a:lnTo>
                  <a:pt x="258128" y="2095500"/>
                </a:lnTo>
                <a:lnTo>
                  <a:pt x="273685" y="2095500"/>
                </a:lnTo>
                <a:lnTo>
                  <a:pt x="309563" y="2095500"/>
                </a:lnTo>
                <a:lnTo>
                  <a:pt x="309563" y="1922159"/>
                </a:lnTo>
                <a:lnTo>
                  <a:pt x="306388" y="1920886"/>
                </a:lnTo>
                <a:lnTo>
                  <a:pt x="303213" y="1919614"/>
                </a:lnTo>
                <a:lnTo>
                  <a:pt x="298451" y="1918024"/>
                </a:lnTo>
                <a:lnTo>
                  <a:pt x="292101" y="1916116"/>
                </a:lnTo>
                <a:lnTo>
                  <a:pt x="284798" y="1915161"/>
                </a:lnTo>
                <a:lnTo>
                  <a:pt x="280670" y="1914843"/>
                </a:lnTo>
                <a:lnTo>
                  <a:pt x="275908" y="1914525"/>
                </a:lnTo>
                <a:lnTo>
                  <a:pt x="271145" y="1914525"/>
                </a:lnTo>
                <a:lnTo>
                  <a:pt x="265748" y="1914525"/>
                </a:lnTo>
                <a:lnTo>
                  <a:pt x="260668" y="1914525"/>
                </a:lnTo>
                <a:lnTo>
                  <a:pt x="255588" y="1914525"/>
                </a:lnTo>
                <a:close/>
                <a:moveTo>
                  <a:pt x="745294" y="1574800"/>
                </a:moveTo>
                <a:lnTo>
                  <a:pt x="733515" y="1575116"/>
                </a:lnTo>
                <a:lnTo>
                  <a:pt x="723327" y="1576064"/>
                </a:lnTo>
                <a:lnTo>
                  <a:pt x="714732" y="1577013"/>
                </a:lnTo>
                <a:lnTo>
                  <a:pt x="708364" y="1578593"/>
                </a:lnTo>
                <a:lnTo>
                  <a:pt x="703907" y="1579857"/>
                </a:lnTo>
                <a:lnTo>
                  <a:pt x="700087" y="1580805"/>
                </a:lnTo>
                <a:lnTo>
                  <a:pt x="700087" y="1712913"/>
                </a:lnTo>
                <a:lnTo>
                  <a:pt x="748478" y="1712913"/>
                </a:lnTo>
                <a:lnTo>
                  <a:pt x="769171" y="1712913"/>
                </a:lnTo>
                <a:lnTo>
                  <a:pt x="817562" y="1712913"/>
                </a:lnTo>
                <a:lnTo>
                  <a:pt x="817562" y="1580805"/>
                </a:lnTo>
                <a:lnTo>
                  <a:pt x="813742" y="1579857"/>
                </a:lnTo>
                <a:lnTo>
                  <a:pt x="808966" y="1578593"/>
                </a:lnTo>
                <a:lnTo>
                  <a:pt x="802918" y="1577013"/>
                </a:lnTo>
                <a:lnTo>
                  <a:pt x="794322" y="1576064"/>
                </a:lnTo>
                <a:lnTo>
                  <a:pt x="784453" y="1575116"/>
                </a:lnTo>
                <a:lnTo>
                  <a:pt x="772355" y="1574800"/>
                </a:lnTo>
                <a:lnTo>
                  <a:pt x="758665" y="1574800"/>
                </a:lnTo>
                <a:lnTo>
                  <a:pt x="745294" y="1574800"/>
                </a:lnTo>
                <a:close/>
                <a:moveTo>
                  <a:pt x="1245919" y="1568450"/>
                </a:moveTo>
                <a:lnTo>
                  <a:pt x="1237883" y="1569087"/>
                </a:lnTo>
                <a:lnTo>
                  <a:pt x="1231454" y="1569723"/>
                </a:lnTo>
                <a:lnTo>
                  <a:pt x="1225668" y="1571314"/>
                </a:lnTo>
                <a:lnTo>
                  <a:pt x="1221811" y="1572269"/>
                </a:lnTo>
                <a:lnTo>
                  <a:pt x="1218275" y="1573542"/>
                </a:lnTo>
                <a:lnTo>
                  <a:pt x="1216025" y="1574497"/>
                </a:lnTo>
                <a:lnTo>
                  <a:pt x="1216025" y="1704975"/>
                </a:lnTo>
                <a:lnTo>
                  <a:pt x="1248169" y="1704975"/>
                </a:lnTo>
                <a:lnTo>
                  <a:pt x="1261669" y="1704975"/>
                </a:lnTo>
                <a:lnTo>
                  <a:pt x="1293813" y="1704975"/>
                </a:lnTo>
                <a:lnTo>
                  <a:pt x="1293813" y="1574497"/>
                </a:lnTo>
                <a:lnTo>
                  <a:pt x="1291242" y="1573542"/>
                </a:lnTo>
                <a:lnTo>
                  <a:pt x="1288349" y="1572269"/>
                </a:lnTo>
                <a:lnTo>
                  <a:pt x="1283849" y="1571314"/>
                </a:lnTo>
                <a:lnTo>
                  <a:pt x="1278706" y="1569723"/>
                </a:lnTo>
                <a:lnTo>
                  <a:pt x="1271955" y="1569087"/>
                </a:lnTo>
                <a:lnTo>
                  <a:pt x="1264241" y="1568450"/>
                </a:lnTo>
                <a:lnTo>
                  <a:pt x="1255241" y="1568768"/>
                </a:lnTo>
                <a:lnTo>
                  <a:pt x="1245919" y="1568450"/>
                </a:lnTo>
                <a:close/>
                <a:moveTo>
                  <a:pt x="257030" y="1568450"/>
                </a:moveTo>
                <a:lnTo>
                  <a:pt x="248961" y="1569087"/>
                </a:lnTo>
                <a:lnTo>
                  <a:pt x="242505" y="1569723"/>
                </a:lnTo>
                <a:lnTo>
                  <a:pt x="236695" y="1571314"/>
                </a:lnTo>
                <a:lnTo>
                  <a:pt x="232176" y="1572269"/>
                </a:lnTo>
                <a:lnTo>
                  <a:pt x="229272" y="1573542"/>
                </a:lnTo>
                <a:lnTo>
                  <a:pt x="227012" y="1574497"/>
                </a:lnTo>
                <a:lnTo>
                  <a:pt x="227012" y="1704975"/>
                </a:lnTo>
                <a:lnTo>
                  <a:pt x="258967" y="1704975"/>
                </a:lnTo>
                <a:lnTo>
                  <a:pt x="272846" y="1704975"/>
                </a:lnTo>
                <a:lnTo>
                  <a:pt x="304800" y="1704975"/>
                </a:lnTo>
                <a:lnTo>
                  <a:pt x="304800" y="1574497"/>
                </a:lnTo>
                <a:lnTo>
                  <a:pt x="302541" y="1573542"/>
                </a:lnTo>
                <a:lnTo>
                  <a:pt x="299636" y="1572269"/>
                </a:lnTo>
                <a:lnTo>
                  <a:pt x="295117" y="1571314"/>
                </a:lnTo>
                <a:lnTo>
                  <a:pt x="289630" y="1569723"/>
                </a:lnTo>
                <a:lnTo>
                  <a:pt x="282852" y="1569087"/>
                </a:lnTo>
                <a:lnTo>
                  <a:pt x="275105" y="1568450"/>
                </a:lnTo>
                <a:lnTo>
                  <a:pt x="266068" y="1568768"/>
                </a:lnTo>
                <a:lnTo>
                  <a:pt x="257030" y="1568450"/>
                </a:lnTo>
                <a:close/>
                <a:moveTo>
                  <a:pt x="1395413" y="1412762"/>
                </a:moveTo>
                <a:lnTo>
                  <a:pt x="1394778" y="1413079"/>
                </a:lnTo>
                <a:lnTo>
                  <a:pt x="1394143" y="1414032"/>
                </a:lnTo>
                <a:lnTo>
                  <a:pt x="1394143" y="1414667"/>
                </a:lnTo>
                <a:lnTo>
                  <a:pt x="1394143" y="1414985"/>
                </a:lnTo>
                <a:lnTo>
                  <a:pt x="1394143" y="1421971"/>
                </a:lnTo>
                <a:lnTo>
                  <a:pt x="1394778" y="1422606"/>
                </a:lnTo>
                <a:lnTo>
                  <a:pt x="1395413" y="1423876"/>
                </a:lnTo>
                <a:lnTo>
                  <a:pt x="1395413" y="1425146"/>
                </a:lnTo>
                <a:lnTo>
                  <a:pt x="1395413" y="1426416"/>
                </a:lnTo>
                <a:lnTo>
                  <a:pt x="1397001" y="1426416"/>
                </a:lnTo>
                <a:lnTo>
                  <a:pt x="1397318" y="1426416"/>
                </a:lnTo>
                <a:lnTo>
                  <a:pt x="1397001" y="1425146"/>
                </a:lnTo>
                <a:lnTo>
                  <a:pt x="1397318" y="1423876"/>
                </a:lnTo>
                <a:lnTo>
                  <a:pt x="1397953" y="1422606"/>
                </a:lnTo>
                <a:lnTo>
                  <a:pt x="1398271" y="1421971"/>
                </a:lnTo>
                <a:lnTo>
                  <a:pt x="1398271" y="1414985"/>
                </a:lnTo>
                <a:lnTo>
                  <a:pt x="1398271" y="1414667"/>
                </a:lnTo>
                <a:lnTo>
                  <a:pt x="1398271" y="1414032"/>
                </a:lnTo>
                <a:lnTo>
                  <a:pt x="1397636" y="1413079"/>
                </a:lnTo>
                <a:lnTo>
                  <a:pt x="1397001" y="1412762"/>
                </a:lnTo>
                <a:lnTo>
                  <a:pt x="1396366" y="1412762"/>
                </a:lnTo>
                <a:lnTo>
                  <a:pt x="1395413" y="1412762"/>
                </a:lnTo>
                <a:close/>
                <a:moveTo>
                  <a:pt x="1387793" y="1412762"/>
                </a:moveTo>
                <a:lnTo>
                  <a:pt x="1387158" y="1413079"/>
                </a:lnTo>
                <a:lnTo>
                  <a:pt x="1386523" y="1414032"/>
                </a:lnTo>
                <a:lnTo>
                  <a:pt x="1386206" y="1414667"/>
                </a:lnTo>
                <a:lnTo>
                  <a:pt x="1386206" y="1414985"/>
                </a:lnTo>
                <a:lnTo>
                  <a:pt x="1386206" y="1421971"/>
                </a:lnTo>
                <a:lnTo>
                  <a:pt x="1386841" y="1422606"/>
                </a:lnTo>
                <a:lnTo>
                  <a:pt x="1387476" y="1423876"/>
                </a:lnTo>
                <a:lnTo>
                  <a:pt x="1387793" y="1425146"/>
                </a:lnTo>
                <a:lnTo>
                  <a:pt x="1387476" y="1426416"/>
                </a:lnTo>
                <a:lnTo>
                  <a:pt x="1389381" y="1426416"/>
                </a:lnTo>
                <a:lnTo>
                  <a:pt x="1389381" y="1425146"/>
                </a:lnTo>
                <a:lnTo>
                  <a:pt x="1389381" y="1423876"/>
                </a:lnTo>
                <a:lnTo>
                  <a:pt x="1390016" y="1422606"/>
                </a:lnTo>
                <a:lnTo>
                  <a:pt x="1390651" y="1421971"/>
                </a:lnTo>
                <a:lnTo>
                  <a:pt x="1390651" y="1414985"/>
                </a:lnTo>
                <a:lnTo>
                  <a:pt x="1390651" y="1414667"/>
                </a:lnTo>
                <a:lnTo>
                  <a:pt x="1390333" y="1414032"/>
                </a:lnTo>
                <a:lnTo>
                  <a:pt x="1389698" y="1413079"/>
                </a:lnTo>
                <a:lnTo>
                  <a:pt x="1389381" y="1412762"/>
                </a:lnTo>
                <a:lnTo>
                  <a:pt x="1388428" y="1412762"/>
                </a:lnTo>
                <a:lnTo>
                  <a:pt x="1387793" y="1412762"/>
                </a:lnTo>
                <a:close/>
                <a:moveTo>
                  <a:pt x="1379856" y="1412762"/>
                </a:moveTo>
                <a:lnTo>
                  <a:pt x="1379221" y="1413079"/>
                </a:lnTo>
                <a:lnTo>
                  <a:pt x="1378586" y="1414032"/>
                </a:lnTo>
                <a:lnTo>
                  <a:pt x="1378586" y="1414667"/>
                </a:lnTo>
                <a:lnTo>
                  <a:pt x="1378586" y="1414985"/>
                </a:lnTo>
                <a:lnTo>
                  <a:pt x="1378586" y="1421971"/>
                </a:lnTo>
                <a:lnTo>
                  <a:pt x="1379221" y="1422606"/>
                </a:lnTo>
                <a:lnTo>
                  <a:pt x="1379856" y="1423876"/>
                </a:lnTo>
                <a:lnTo>
                  <a:pt x="1379856" y="1425146"/>
                </a:lnTo>
                <a:lnTo>
                  <a:pt x="1379856" y="1426416"/>
                </a:lnTo>
                <a:lnTo>
                  <a:pt x="1381443" y="1426416"/>
                </a:lnTo>
                <a:lnTo>
                  <a:pt x="1381761" y="1426416"/>
                </a:lnTo>
                <a:lnTo>
                  <a:pt x="1381443" y="1425146"/>
                </a:lnTo>
                <a:lnTo>
                  <a:pt x="1381443" y="1423876"/>
                </a:lnTo>
                <a:lnTo>
                  <a:pt x="1382078" y="1422606"/>
                </a:lnTo>
                <a:lnTo>
                  <a:pt x="1382713" y="1421971"/>
                </a:lnTo>
                <a:lnTo>
                  <a:pt x="1382713" y="1414985"/>
                </a:lnTo>
                <a:lnTo>
                  <a:pt x="1382713" y="1414667"/>
                </a:lnTo>
                <a:lnTo>
                  <a:pt x="1382713" y="1414032"/>
                </a:lnTo>
                <a:lnTo>
                  <a:pt x="1382078" y="1413079"/>
                </a:lnTo>
                <a:lnTo>
                  <a:pt x="1381443" y="1412762"/>
                </a:lnTo>
                <a:lnTo>
                  <a:pt x="1380808" y="1412762"/>
                </a:lnTo>
                <a:lnTo>
                  <a:pt x="1379856" y="1412762"/>
                </a:lnTo>
                <a:close/>
                <a:moveTo>
                  <a:pt x="1371918" y="1412762"/>
                </a:moveTo>
                <a:lnTo>
                  <a:pt x="1371283" y="1413079"/>
                </a:lnTo>
                <a:lnTo>
                  <a:pt x="1370648" y="1414032"/>
                </a:lnTo>
                <a:lnTo>
                  <a:pt x="1370648" y="1414667"/>
                </a:lnTo>
                <a:lnTo>
                  <a:pt x="1370648" y="1414985"/>
                </a:lnTo>
                <a:lnTo>
                  <a:pt x="1370648" y="1421971"/>
                </a:lnTo>
                <a:lnTo>
                  <a:pt x="1371283" y="1422606"/>
                </a:lnTo>
                <a:lnTo>
                  <a:pt x="1371918" y="1423876"/>
                </a:lnTo>
                <a:lnTo>
                  <a:pt x="1371918" y="1425146"/>
                </a:lnTo>
                <a:lnTo>
                  <a:pt x="1371918" y="1426416"/>
                </a:lnTo>
                <a:lnTo>
                  <a:pt x="1373506" y="1426416"/>
                </a:lnTo>
                <a:lnTo>
                  <a:pt x="1373823" y="1426416"/>
                </a:lnTo>
                <a:lnTo>
                  <a:pt x="1373506" y="1425146"/>
                </a:lnTo>
                <a:lnTo>
                  <a:pt x="1373823" y="1423876"/>
                </a:lnTo>
                <a:lnTo>
                  <a:pt x="1374141" y="1422606"/>
                </a:lnTo>
                <a:lnTo>
                  <a:pt x="1374776" y="1421971"/>
                </a:lnTo>
                <a:lnTo>
                  <a:pt x="1374776" y="1414985"/>
                </a:lnTo>
                <a:lnTo>
                  <a:pt x="1374776" y="1414667"/>
                </a:lnTo>
                <a:lnTo>
                  <a:pt x="1374776" y="1414032"/>
                </a:lnTo>
                <a:lnTo>
                  <a:pt x="1374141" y="1413079"/>
                </a:lnTo>
                <a:lnTo>
                  <a:pt x="1373506" y="1412762"/>
                </a:lnTo>
                <a:lnTo>
                  <a:pt x="1372871" y="1412762"/>
                </a:lnTo>
                <a:lnTo>
                  <a:pt x="1371918" y="1412762"/>
                </a:lnTo>
                <a:close/>
                <a:moveTo>
                  <a:pt x="1364933" y="1412762"/>
                </a:moveTo>
                <a:lnTo>
                  <a:pt x="1364933" y="1426416"/>
                </a:lnTo>
                <a:lnTo>
                  <a:pt x="1366203" y="1426416"/>
                </a:lnTo>
                <a:lnTo>
                  <a:pt x="1366203" y="1425146"/>
                </a:lnTo>
                <a:lnTo>
                  <a:pt x="1366203" y="1423876"/>
                </a:lnTo>
                <a:lnTo>
                  <a:pt x="1366838" y="1422606"/>
                </a:lnTo>
                <a:lnTo>
                  <a:pt x="1367473" y="1421971"/>
                </a:lnTo>
                <a:lnTo>
                  <a:pt x="1367473" y="1414985"/>
                </a:lnTo>
                <a:lnTo>
                  <a:pt x="1367473" y="1414667"/>
                </a:lnTo>
                <a:lnTo>
                  <a:pt x="1367473" y="1414032"/>
                </a:lnTo>
                <a:lnTo>
                  <a:pt x="1366838" y="1413079"/>
                </a:lnTo>
                <a:lnTo>
                  <a:pt x="1366203" y="1412762"/>
                </a:lnTo>
                <a:lnTo>
                  <a:pt x="1365251" y="1412762"/>
                </a:lnTo>
                <a:lnTo>
                  <a:pt x="1364933" y="1412762"/>
                </a:lnTo>
                <a:close/>
                <a:moveTo>
                  <a:pt x="1307783" y="1412762"/>
                </a:moveTo>
                <a:lnTo>
                  <a:pt x="1307148" y="1413079"/>
                </a:lnTo>
                <a:lnTo>
                  <a:pt x="1306513" y="1413397"/>
                </a:lnTo>
                <a:lnTo>
                  <a:pt x="1306196" y="1414032"/>
                </a:lnTo>
                <a:lnTo>
                  <a:pt x="1305878" y="1414667"/>
                </a:lnTo>
                <a:lnTo>
                  <a:pt x="1305878" y="1414985"/>
                </a:lnTo>
                <a:lnTo>
                  <a:pt x="1305878" y="1421971"/>
                </a:lnTo>
                <a:lnTo>
                  <a:pt x="1306831" y="1422606"/>
                </a:lnTo>
                <a:lnTo>
                  <a:pt x="1307466" y="1423241"/>
                </a:lnTo>
                <a:lnTo>
                  <a:pt x="1307783" y="1423876"/>
                </a:lnTo>
                <a:lnTo>
                  <a:pt x="1307783" y="1425146"/>
                </a:lnTo>
                <a:lnTo>
                  <a:pt x="1307783" y="1426416"/>
                </a:lnTo>
                <a:lnTo>
                  <a:pt x="1309371" y="1426416"/>
                </a:lnTo>
                <a:lnTo>
                  <a:pt x="1309371" y="1412762"/>
                </a:lnTo>
                <a:lnTo>
                  <a:pt x="1309053" y="1412762"/>
                </a:lnTo>
                <a:lnTo>
                  <a:pt x="1307783" y="1412762"/>
                </a:lnTo>
                <a:close/>
                <a:moveTo>
                  <a:pt x="1298893" y="1412762"/>
                </a:moveTo>
                <a:lnTo>
                  <a:pt x="1298258" y="1413079"/>
                </a:lnTo>
                <a:lnTo>
                  <a:pt x="1297306" y="1413397"/>
                </a:lnTo>
                <a:lnTo>
                  <a:pt x="1296988" y="1414032"/>
                </a:lnTo>
                <a:lnTo>
                  <a:pt x="1296988" y="1414667"/>
                </a:lnTo>
                <a:lnTo>
                  <a:pt x="1296988" y="1414985"/>
                </a:lnTo>
                <a:lnTo>
                  <a:pt x="1296988" y="1421971"/>
                </a:lnTo>
                <a:lnTo>
                  <a:pt x="1297623" y="1422606"/>
                </a:lnTo>
                <a:lnTo>
                  <a:pt x="1298258" y="1423241"/>
                </a:lnTo>
                <a:lnTo>
                  <a:pt x="1298576" y="1423876"/>
                </a:lnTo>
                <a:lnTo>
                  <a:pt x="1298893" y="1425146"/>
                </a:lnTo>
                <a:lnTo>
                  <a:pt x="1298576" y="1426416"/>
                </a:lnTo>
                <a:lnTo>
                  <a:pt x="1298893" y="1426416"/>
                </a:lnTo>
                <a:lnTo>
                  <a:pt x="1300798" y="1426416"/>
                </a:lnTo>
                <a:lnTo>
                  <a:pt x="1301116" y="1426416"/>
                </a:lnTo>
                <a:lnTo>
                  <a:pt x="1300798" y="1425146"/>
                </a:lnTo>
                <a:lnTo>
                  <a:pt x="1301116" y="1423876"/>
                </a:lnTo>
                <a:lnTo>
                  <a:pt x="1301433" y="1423241"/>
                </a:lnTo>
                <a:lnTo>
                  <a:pt x="1301751" y="1422606"/>
                </a:lnTo>
                <a:lnTo>
                  <a:pt x="1302386" y="1421971"/>
                </a:lnTo>
                <a:lnTo>
                  <a:pt x="1302386" y="1414985"/>
                </a:lnTo>
                <a:lnTo>
                  <a:pt x="1302386" y="1414667"/>
                </a:lnTo>
                <a:lnTo>
                  <a:pt x="1302386" y="1414032"/>
                </a:lnTo>
                <a:lnTo>
                  <a:pt x="1302068" y="1413397"/>
                </a:lnTo>
                <a:lnTo>
                  <a:pt x="1301433" y="1413079"/>
                </a:lnTo>
                <a:lnTo>
                  <a:pt x="1300798" y="1412762"/>
                </a:lnTo>
                <a:lnTo>
                  <a:pt x="1299846" y="1412762"/>
                </a:lnTo>
                <a:lnTo>
                  <a:pt x="1298893" y="1412762"/>
                </a:lnTo>
                <a:close/>
                <a:moveTo>
                  <a:pt x="1289368" y="1412762"/>
                </a:moveTo>
                <a:lnTo>
                  <a:pt x="1288733" y="1413079"/>
                </a:lnTo>
                <a:lnTo>
                  <a:pt x="1288416" y="1413397"/>
                </a:lnTo>
                <a:lnTo>
                  <a:pt x="1288098" y="1414032"/>
                </a:lnTo>
                <a:lnTo>
                  <a:pt x="1287781" y="1414667"/>
                </a:lnTo>
                <a:lnTo>
                  <a:pt x="1287781" y="1414985"/>
                </a:lnTo>
                <a:lnTo>
                  <a:pt x="1287781" y="1421971"/>
                </a:lnTo>
                <a:lnTo>
                  <a:pt x="1288733" y="1422606"/>
                </a:lnTo>
                <a:lnTo>
                  <a:pt x="1289051" y="1423241"/>
                </a:lnTo>
                <a:lnTo>
                  <a:pt x="1289368" y="1423876"/>
                </a:lnTo>
                <a:lnTo>
                  <a:pt x="1289368" y="1425146"/>
                </a:lnTo>
                <a:lnTo>
                  <a:pt x="1289368" y="1426416"/>
                </a:lnTo>
                <a:lnTo>
                  <a:pt x="1291908" y="1426416"/>
                </a:lnTo>
                <a:lnTo>
                  <a:pt x="1291908" y="1425146"/>
                </a:lnTo>
                <a:lnTo>
                  <a:pt x="1291908" y="1423876"/>
                </a:lnTo>
                <a:lnTo>
                  <a:pt x="1292861" y="1422606"/>
                </a:lnTo>
                <a:lnTo>
                  <a:pt x="1293496" y="1421971"/>
                </a:lnTo>
                <a:lnTo>
                  <a:pt x="1293496" y="1414985"/>
                </a:lnTo>
                <a:lnTo>
                  <a:pt x="1293496" y="1414667"/>
                </a:lnTo>
                <a:lnTo>
                  <a:pt x="1293496" y="1414032"/>
                </a:lnTo>
                <a:lnTo>
                  <a:pt x="1293178" y="1413397"/>
                </a:lnTo>
                <a:lnTo>
                  <a:pt x="1292543" y="1413079"/>
                </a:lnTo>
                <a:lnTo>
                  <a:pt x="1291908" y="1412762"/>
                </a:lnTo>
                <a:lnTo>
                  <a:pt x="1290638" y="1412762"/>
                </a:lnTo>
                <a:lnTo>
                  <a:pt x="1290321" y="1412762"/>
                </a:lnTo>
                <a:lnTo>
                  <a:pt x="1289368" y="1412762"/>
                </a:lnTo>
                <a:close/>
                <a:moveTo>
                  <a:pt x="1280161" y="1412762"/>
                </a:moveTo>
                <a:lnTo>
                  <a:pt x="1279526" y="1413079"/>
                </a:lnTo>
                <a:lnTo>
                  <a:pt x="1278891" y="1413397"/>
                </a:lnTo>
                <a:lnTo>
                  <a:pt x="1278573" y="1414032"/>
                </a:lnTo>
                <a:lnTo>
                  <a:pt x="1278573" y="1414667"/>
                </a:lnTo>
                <a:lnTo>
                  <a:pt x="1278573" y="1414985"/>
                </a:lnTo>
                <a:lnTo>
                  <a:pt x="1278573" y="1421971"/>
                </a:lnTo>
                <a:lnTo>
                  <a:pt x="1279208" y="1422606"/>
                </a:lnTo>
                <a:lnTo>
                  <a:pt x="1279843" y="1423241"/>
                </a:lnTo>
                <a:lnTo>
                  <a:pt x="1280161" y="1423876"/>
                </a:lnTo>
                <a:lnTo>
                  <a:pt x="1280161" y="1425146"/>
                </a:lnTo>
                <a:lnTo>
                  <a:pt x="1280161" y="1426416"/>
                </a:lnTo>
                <a:lnTo>
                  <a:pt x="1282383" y="1426416"/>
                </a:lnTo>
                <a:lnTo>
                  <a:pt x="1282066" y="1425146"/>
                </a:lnTo>
                <a:lnTo>
                  <a:pt x="1282383" y="1423876"/>
                </a:lnTo>
                <a:lnTo>
                  <a:pt x="1282701" y="1423241"/>
                </a:lnTo>
                <a:lnTo>
                  <a:pt x="1283018" y="1422606"/>
                </a:lnTo>
                <a:lnTo>
                  <a:pt x="1284288" y="1421971"/>
                </a:lnTo>
                <a:lnTo>
                  <a:pt x="1284288" y="1414985"/>
                </a:lnTo>
                <a:lnTo>
                  <a:pt x="1284288" y="1414667"/>
                </a:lnTo>
                <a:lnTo>
                  <a:pt x="1283971" y="1414032"/>
                </a:lnTo>
                <a:lnTo>
                  <a:pt x="1283336" y="1413397"/>
                </a:lnTo>
                <a:lnTo>
                  <a:pt x="1283018" y="1413079"/>
                </a:lnTo>
                <a:lnTo>
                  <a:pt x="1282066" y="1412762"/>
                </a:lnTo>
                <a:lnTo>
                  <a:pt x="1281113" y="1412762"/>
                </a:lnTo>
                <a:lnTo>
                  <a:pt x="1280161" y="1412762"/>
                </a:lnTo>
                <a:close/>
                <a:moveTo>
                  <a:pt x="1271271" y="1412762"/>
                </a:moveTo>
                <a:lnTo>
                  <a:pt x="1270318" y="1413079"/>
                </a:lnTo>
                <a:lnTo>
                  <a:pt x="1270001" y="1413397"/>
                </a:lnTo>
                <a:lnTo>
                  <a:pt x="1269683" y="1414032"/>
                </a:lnTo>
                <a:lnTo>
                  <a:pt x="1269048" y="1414667"/>
                </a:lnTo>
                <a:lnTo>
                  <a:pt x="1269048" y="1414985"/>
                </a:lnTo>
                <a:lnTo>
                  <a:pt x="1269048" y="1421971"/>
                </a:lnTo>
                <a:lnTo>
                  <a:pt x="1270318" y="1422606"/>
                </a:lnTo>
                <a:lnTo>
                  <a:pt x="1270636" y="1423241"/>
                </a:lnTo>
                <a:lnTo>
                  <a:pt x="1270953" y="1423876"/>
                </a:lnTo>
                <a:lnTo>
                  <a:pt x="1271271" y="1425146"/>
                </a:lnTo>
                <a:lnTo>
                  <a:pt x="1270953" y="1426416"/>
                </a:lnTo>
                <a:lnTo>
                  <a:pt x="1271271" y="1426416"/>
                </a:lnTo>
                <a:lnTo>
                  <a:pt x="1273176" y="1426416"/>
                </a:lnTo>
                <a:lnTo>
                  <a:pt x="1273493" y="1426416"/>
                </a:lnTo>
                <a:lnTo>
                  <a:pt x="1273176" y="1425146"/>
                </a:lnTo>
                <a:lnTo>
                  <a:pt x="1273493" y="1423876"/>
                </a:lnTo>
                <a:lnTo>
                  <a:pt x="1274128" y="1422606"/>
                </a:lnTo>
                <a:lnTo>
                  <a:pt x="1274763" y="1421971"/>
                </a:lnTo>
                <a:lnTo>
                  <a:pt x="1274763" y="1414985"/>
                </a:lnTo>
                <a:lnTo>
                  <a:pt x="1274763" y="1414667"/>
                </a:lnTo>
                <a:lnTo>
                  <a:pt x="1274763" y="1414032"/>
                </a:lnTo>
                <a:lnTo>
                  <a:pt x="1274446" y="1413397"/>
                </a:lnTo>
                <a:lnTo>
                  <a:pt x="1273811" y="1413079"/>
                </a:lnTo>
                <a:lnTo>
                  <a:pt x="1273176" y="1412762"/>
                </a:lnTo>
                <a:lnTo>
                  <a:pt x="1272223" y="1412762"/>
                </a:lnTo>
                <a:lnTo>
                  <a:pt x="1271271" y="1412762"/>
                </a:lnTo>
                <a:close/>
                <a:moveTo>
                  <a:pt x="1261746" y="1412762"/>
                </a:moveTo>
                <a:lnTo>
                  <a:pt x="1261111" y="1413079"/>
                </a:lnTo>
                <a:lnTo>
                  <a:pt x="1260793" y="1413397"/>
                </a:lnTo>
                <a:lnTo>
                  <a:pt x="1260476" y="1414032"/>
                </a:lnTo>
                <a:lnTo>
                  <a:pt x="1260158" y="1414667"/>
                </a:lnTo>
                <a:lnTo>
                  <a:pt x="1260158" y="1414985"/>
                </a:lnTo>
                <a:lnTo>
                  <a:pt x="1260158" y="1421971"/>
                </a:lnTo>
                <a:lnTo>
                  <a:pt x="1260793" y="1422606"/>
                </a:lnTo>
                <a:lnTo>
                  <a:pt x="1261428" y="1423241"/>
                </a:lnTo>
                <a:lnTo>
                  <a:pt x="1261746" y="1423876"/>
                </a:lnTo>
                <a:lnTo>
                  <a:pt x="1261746" y="1425146"/>
                </a:lnTo>
                <a:lnTo>
                  <a:pt x="1261746" y="1426416"/>
                </a:lnTo>
                <a:lnTo>
                  <a:pt x="1264286" y="1426416"/>
                </a:lnTo>
                <a:lnTo>
                  <a:pt x="1264286" y="1425146"/>
                </a:lnTo>
                <a:lnTo>
                  <a:pt x="1264286" y="1423876"/>
                </a:lnTo>
                <a:lnTo>
                  <a:pt x="1264603" y="1423241"/>
                </a:lnTo>
                <a:lnTo>
                  <a:pt x="1265238" y="1422606"/>
                </a:lnTo>
                <a:lnTo>
                  <a:pt x="1265873" y="1421971"/>
                </a:lnTo>
                <a:lnTo>
                  <a:pt x="1265873" y="1414985"/>
                </a:lnTo>
                <a:lnTo>
                  <a:pt x="1265873" y="1414667"/>
                </a:lnTo>
                <a:lnTo>
                  <a:pt x="1265556" y="1414032"/>
                </a:lnTo>
                <a:lnTo>
                  <a:pt x="1265556" y="1413397"/>
                </a:lnTo>
                <a:lnTo>
                  <a:pt x="1264921" y="1413079"/>
                </a:lnTo>
                <a:lnTo>
                  <a:pt x="1264286" y="1412762"/>
                </a:lnTo>
                <a:lnTo>
                  <a:pt x="1263333" y="1412762"/>
                </a:lnTo>
                <a:lnTo>
                  <a:pt x="1261746" y="1412762"/>
                </a:lnTo>
                <a:close/>
                <a:moveTo>
                  <a:pt x="1252538" y="1412762"/>
                </a:moveTo>
                <a:lnTo>
                  <a:pt x="1251903" y="1413079"/>
                </a:lnTo>
                <a:lnTo>
                  <a:pt x="1251268" y="1413397"/>
                </a:lnTo>
                <a:lnTo>
                  <a:pt x="1250951" y="1414032"/>
                </a:lnTo>
                <a:lnTo>
                  <a:pt x="1250951" y="1414667"/>
                </a:lnTo>
                <a:lnTo>
                  <a:pt x="1250951" y="1414985"/>
                </a:lnTo>
                <a:lnTo>
                  <a:pt x="1250951" y="1421971"/>
                </a:lnTo>
                <a:lnTo>
                  <a:pt x="1251586" y="1422606"/>
                </a:lnTo>
                <a:lnTo>
                  <a:pt x="1252221" y="1423876"/>
                </a:lnTo>
                <a:lnTo>
                  <a:pt x="1252538" y="1425146"/>
                </a:lnTo>
                <a:lnTo>
                  <a:pt x="1252221" y="1426416"/>
                </a:lnTo>
                <a:lnTo>
                  <a:pt x="1252538" y="1426416"/>
                </a:lnTo>
                <a:lnTo>
                  <a:pt x="1255078" y="1426416"/>
                </a:lnTo>
                <a:lnTo>
                  <a:pt x="1254443" y="1425146"/>
                </a:lnTo>
                <a:lnTo>
                  <a:pt x="1255078" y="1423876"/>
                </a:lnTo>
                <a:lnTo>
                  <a:pt x="1255713" y="1422606"/>
                </a:lnTo>
                <a:lnTo>
                  <a:pt x="1256666" y="1421971"/>
                </a:lnTo>
                <a:lnTo>
                  <a:pt x="1256666" y="1414985"/>
                </a:lnTo>
                <a:lnTo>
                  <a:pt x="1256666" y="1414667"/>
                </a:lnTo>
                <a:lnTo>
                  <a:pt x="1256348" y="1414032"/>
                </a:lnTo>
                <a:lnTo>
                  <a:pt x="1256031" y="1413397"/>
                </a:lnTo>
                <a:lnTo>
                  <a:pt x="1255713" y="1413079"/>
                </a:lnTo>
                <a:lnTo>
                  <a:pt x="1254443" y="1412762"/>
                </a:lnTo>
                <a:lnTo>
                  <a:pt x="1253491" y="1412762"/>
                </a:lnTo>
                <a:lnTo>
                  <a:pt x="1252538" y="1412762"/>
                </a:lnTo>
                <a:close/>
                <a:moveTo>
                  <a:pt x="1243648" y="1412762"/>
                </a:moveTo>
                <a:lnTo>
                  <a:pt x="1242696" y="1413079"/>
                </a:lnTo>
                <a:lnTo>
                  <a:pt x="1242378" y="1413397"/>
                </a:lnTo>
                <a:lnTo>
                  <a:pt x="1242061" y="1414032"/>
                </a:lnTo>
                <a:lnTo>
                  <a:pt x="1241743" y="1414667"/>
                </a:lnTo>
                <a:lnTo>
                  <a:pt x="1241743" y="1414985"/>
                </a:lnTo>
                <a:lnTo>
                  <a:pt x="1241743" y="1421971"/>
                </a:lnTo>
                <a:lnTo>
                  <a:pt x="1242696" y="1422606"/>
                </a:lnTo>
                <a:lnTo>
                  <a:pt x="1243013" y="1423241"/>
                </a:lnTo>
                <a:lnTo>
                  <a:pt x="1243331" y="1423876"/>
                </a:lnTo>
                <a:lnTo>
                  <a:pt x="1243648" y="1425146"/>
                </a:lnTo>
                <a:lnTo>
                  <a:pt x="1243331" y="1426416"/>
                </a:lnTo>
                <a:lnTo>
                  <a:pt x="1243648" y="1426416"/>
                </a:lnTo>
                <a:lnTo>
                  <a:pt x="1245553" y="1426416"/>
                </a:lnTo>
                <a:lnTo>
                  <a:pt x="1245871" y="1426416"/>
                </a:lnTo>
                <a:lnTo>
                  <a:pt x="1245553" y="1425146"/>
                </a:lnTo>
                <a:lnTo>
                  <a:pt x="1245871" y="1423876"/>
                </a:lnTo>
                <a:lnTo>
                  <a:pt x="1245871" y="1423241"/>
                </a:lnTo>
                <a:lnTo>
                  <a:pt x="1246506" y="1422606"/>
                </a:lnTo>
                <a:lnTo>
                  <a:pt x="1247141" y="1421971"/>
                </a:lnTo>
                <a:lnTo>
                  <a:pt x="1247141" y="1414985"/>
                </a:lnTo>
                <a:lnTo>
                  <a:pt x="1247141" y="1414667"/>
                </a:lnTo>
                <a:lnTo>
                  <a:pt x="1247141" y="1414032"/>
                </a:lnTo>
                <a:lnTo>
                  <a:pt x="1246823" y="1413397"/>
                </a:lnTo>
                <a:lnTo>
                  <a:pt x="1246188" y="1413079"/>
                </a:lnTo>
                <a:lnTo>
                  <a:pt x="1245553" y="1412762"/>
                </a:lnTo>
                <a:lnTo>
                  <a:pt x="1244601" y="1412762"/>
                </a:lnTo>
                <a:lnTo>
                  <a:pt x="1243648" y="1412762"/>
                </a:lnTo>
                <a:close/>
                <a:moveTo>
                  <a:pt x="1234441" y="1412762"/>
                </a:moveTo>
                <a:lnTo>
                  <a:pt x="1233806" y="1413079"/>
                </a:lnTo>
                <a:lnTo>
                  <a:pt x="1232853" y="1413397"/>
                </a:lnTo>
                <a:lnTo>
                  <a:pt x="1232853" y="1414032"/>
                </a:lnTo>
                <a:lnTo>
                  <a:pt x="1232536" y="1414667"/>
                </a:lnTo>
                <a:lnTo>
                  <a:pt x="1232536" y="1414985"/>
                </a:lnTo>
                <a:lnTo>
                  <a:pt x="1232536" y="1421971"/>
                </a:lnTo>
                <a:lnTo>
                  <a:pt x="1233171" y="1422606"/>
                </a:lnTo>
                <a:lnTo>
                  <a:pt x="1234441" y="1423876"/>
                </a:lnTo>
                <a:lnTo>
                  <a:pt x="1234441" y="1425146"/>
                </a:lnTo>
                <a:lnTo>
                  <a:pt x="1234441" y="1426416"/>
                </a:lnTo>
                <a:lnTo>
                  <a:pt x="1236663" y="1426416"/>
                </a:lnTo>
                <a:lnTo>
                  <a:pt x="1236663" y="1425146"/>
                </a:lnTo>
                <a:lnTo>
                  <a:pt x="1236663" y="1423876"/>
                </a:lnTo>
                <a:lnTo>
                  <a:pt x="1236981" y="1423241"/>
                </a:lnTo>
                <a:lnTo>
                  <a:pt x="1237616" y="1422606"/>
                </a:lnTo>
                <a:lnTo>
                  <a:pt x="1238251" y="1421971"/>
                </a:lnTo>
                <a:lnTo>
                  <a:pt x="1238251" y="1414985"/>
                </a:lnTo>
                <a:lnTo>
                  <a:pt x="1238251" y="1414667"/>
                </a:lnTo>
                <a:lnTo>
                  <a:pt x="1237933" y="1414032"/>
                </a:lnTo>
                <a:lnTo>
                  <a:pt x="1237616" y="1413397"/>
                </a:lnTo>
                <a:lnTo>
                  <a:pt x="1237298" y="1413079"/>
                </a:lnTo>
                <a:lnTo>
                  <a:pt x="1236663" y="1412762"/>
                </a:lnTo>
                <a:lnTo>
                  <a:pt x="1235711" y="1412762"/>
                </a:lnTo>
                <a:lnTo>
                  <a:pt x="1235393" y="1412762"/>
                </a:lnTo>
                <a:lnTo>
                  <a:pt x="1234441" y="1412762"/>
                </a:lnTo>
                <a:close/>
                <a:moveTo>
                  <a:pt x="1224916" y="1412762"/>
                </a:moveTo>
                <a:lnTo>
                  <a:pt x="1224281" y="1413079"/>
                </a:lnTo>
                <a:lnTo>
                  <a:pt x="1223646" y="1413397"/>
                </a:lnTo>
                <a:lnTo>
                  <a:pt x="1223328" y="1414032"/>
                </a:lnTo>
                <a:lnTo>
                  <a:pt x="1223328" y="1414667"/>
                </a:lnTo>
                <a:lnTo>
                  <a:pt x="1223328" y="1414985"/>
                </a:lnTo>
                <a:lnTo>
                  <a:pt x="1223328" y="1421971"/>
                </a:lnTo>
                <a:lnTo>
                  <a:pt x="1223963" y="1422606"/>
                </a:lnTo>
                <a:lnTo>
                  <a:pt x="1224281" y="1423241"/>
                </a:lnTo>
                <a:lnTo>
                  <a:pt x="1224598" y="1423876"/>
                </a:lnTo>
                <a:lnTo>
                  <a:pt x="1224916" y="1425146"/>
                </a:lnTo>
                <a:lnTo>
                  <a:pt x="1224598" y="1426416"/>
                </a:lnTo>
                <a:lnTo>
                  <a:pt x="1224916" y="1426416"/>
                </a:lnTo>
                <a:lnTo>
                  <a:pt x="1227456" y="1426416"/>
                </a:lnTo>
                <a:lnTo>
                  <a:pt x="1227138" y="1425146"/>
                </a:lnTo>
                <a:lnTo>
                  <a:pt x="1227456" y="1423876"/>
                </a:lnTo>
                <a:lnTo>
                  <a:pt x="1227773" y="1423241"/>
                </a:lnTo>
                <a:lnTo>
                  <a:pt x="1228091" y="1422606"/>
                </a:lnTo>
                <a:lnTo>
                  <a:pt x="1229043" y="1421971"/>
                </a:lnTo>
                <a:lnTo>
                  <a:pt x="1229043" y="1414985"/>
                </a:lnTo>
                <a:lnTo>
                  <a:pt x="1229043" y="1414667"/>
                </a:lnTo>
                <a:lnTo>
                  <a:pt x="1228726" y="1414032"/>
                </a:lnTo>
                <a:lnTo>
                  <a:pt x="1228408" y="1413397"/>
                </a:lnTo>
                <a:lnTo>
                  <a:pt x="1228091" y="1413079"/>
                </a:lnTo>
                <a:lnTo>
                  <a:pt x="1227138" y="1412762"/>
                </a:lnTo>
                <a:lnTo>
                  <a:pt x="1225868" y="1412762"/>
                </a:lnTo>
                <a:lnTo>
                  <a:pt x="1224916" y="1412762"/>
                </a:lnTo>
                <a:close/>
                <a:moveTo>
                  <a:pt x="1216343" y="1412762"/>
                </a:moveTo>
                <a:lnTo>
                  <a:pt x="1215391" y="1413079"/>
                </a:lnTo>
                <a:lnTo>
                  <a:pt x="1215073" y="1413397"/>
                </a:lnTo>
                <a:lnTo>
                  <a:pt x="1214756" y="1414032"/>
                </a:lnTo>
                <a:lnTo>
                  <a:pt x="1214438" y="1414667"/>
                </a:lnTo>
                <a:lnTo>
                  <a:pt x="1214438" y="1414985"/>
                </a:lnTo>
                <a:lnTo>
                  <a:pt x="1214438" y="1421971"/>
                </a:lnTo>
                <a:lnTo>
                  <a:pt x="1215391" y="1422606"/>
                </a:lnTo>
                <a:lnTo>
                  <a:pt x="1215708" y="1423241"/>
                </a:lnTo>
                <a:lnTo>
                  <a:pt x="1216026" y="1423876"/>
                </a:lnTo>
                <a:lnTo>
                  <a:pt x="1216343" y="1425146"/>
                </a:lnTo>
                <a:lnTo>
                  <a:pt x="1216026" y="1426416"/>
                </a:lnTo>
                <a:lnTo>
                  <a:pt x="1218248" y="1426416"/>
                </a:lnTo>
                <a:lnTo>
                  <a:pt x="1218248" y="1425146"/>
                </a:lnTo>
                <a:lnTo>
                  <a:pt x="1218248" y="1423876"/>
                </a:lnTo>
                <a:lnTo>
                  <a:pt x="1218566" y="1423241"/>
                </a:lnTo>
                <a:lnTo>
                  <a:pt x="1219518" y="1422606"/>
                </a:lnTo>
                <a:lnTo>
                  <a:pt x="1220153" y="1421971"/>
                </a:lnTo>
                <a:lnTo>
                  <a:pt x="1220153" y="1414985"/>
                </a:lnTo>
                <a:lnTo>
                  <a:pt x="1220153" y="1414667"/>
                </a:lnTo>
                <a:lnTo>
                  <a:pt x="1220153" y="1414032"/>
                </a:lnTo>
                <a:lnTo>
                  <a:pt x="1219836" y="1413397"/>
                </a:lnTo>
                <a:lnTo>
                  <a:pt x="1219201" y="1413079"/>
                </a:lnTo>
                <a:lnTo>
                  <a:pt x="1218248" y="1412762"/>
                </a:lnTo>
                <a:lnTo>
                  <a:pt x="1217296" y="1412762"/>
                </a:lnTo>
                <a:lnTo>
                  <a:pt x="1216343" y="1412762"/>
                </a:lnTo>
                <a:close/>
                <a:moveTo>
                  <a:pt x="1206818" y="1412762"/>
                </a:moveTo>
                <a:lnTo>
                  <a:pt x="1206183" y="1413079"/>
                </a:lnTo>
                <a:lnTo>
                  <a:pt x="1205548" y="1413397"/>
                </a:lnTo>
                <a:lnTo>
                  <a:pt x="1205548" y="1414032"/>
                </a:lnTo>
                <a:lnTo>
                  <a:pt x="1205231" y="1414667"/>
                </a:lnTo>
                <a:lnTo>
                  <a:pt x="1205231" y="1414985"/>
                </a:lnTo>
                <a:lnTo>
                  <a:pt x="1205231" y="1421971"/>
                </a:lnTo>
                <a:lnTo>
                  <a:pt x="1205866" y="1422606"/>
                </a:lnTo>
                <a:lnTo>
                  <a:pt x="1206501" y="1423241"/>
                </a:lnTo>
                <a:lnTo>
                  <a:pt x="1206818" y="1423876"/>
                </a:lnTo>
                <a:lnTo>
                  <a:pt x="1206818" y="1425146"/>
                </a:lnTo>
                <a:lnTo>
                  <a:pt x="1206818" y="1426416"/>
                </a:lnTo>
                <a:lnTo>
                  <a:pt x="1209041" y="1426416"/>
                </a:lnTo>
                <a:lnTo>
                  <a:pt x="1209041" y="1425146"/>
                </a:lnTo>
                <a:lnTo>
                  <a:pt x="1209041" y="1423876"/>
                </a:lnTo>
                <a:lnTo>
                  <a:pt x="1209358" y="1423241"/>
                </a:lnTo>
                <a:lnTo>
                  <a:pt x="1209676" y="1422606"/>
                </a:lnTo>
                <a:lnTo>
                  <a:pt x="1210628" y="1421971"/>
                </a:lnTo>
                <a:lnTo>
                  <a:pt x="1210628" y="1414985"/>
                </a:lnTo>
                <a:lnTo>
                  <a:pt x="1210628" y="1414667"/>
                </a:lnTo>
                <a:lnTo>
                  <a:pt x="1210311" y="1414032"/>
                </a:lnTo>
                <a:lnTo>
                  <a:pt x="1209993" y="1413397"/>
                </a:lnTo>
                <a:lnTo>
                  <a:pt x="1209676" y="1413079"/>
                </a:lnTo>
                <a:lnTo>
                  <a:pt x="1209041" y="1412762"/>
                </a:lnTo>
                <a:lnTo>
                  <a:pt x="1208088" y="1412762"/>
                </a:lnTo>
                <a:lnTo>
                  <a:pt x="1207771" y="1412762"/>
                </a:lnTo>
                <a:lnTo>
                  <a:pt x="1206818" y="1412762"/>
                </a:lnTo>
                <a:close/>
                <a:moveTo>
                  <a:pt x="1198881" y="1412762"/>
                </a:moveTo>
                <a:lnTo>
                  <a:pt x="1198881" y="1426416"/>
                </a:lnTo>
                <a:lnTo>
                  <a:pt x="1200468" y="1426416"/>
                </a:lnTo>
                <a:lnTo>
                  <a:pt x="1200786" y="1426416"/>
                </a:lnTo>
                <a:lnTo>
                  <a:pt x="1200468" y="1425146"/>
                </a:lnTo>
                <a:lnTo>
                  <a:pt x="1200786" y="1423876"/>
                </a:lnTo>
                <a:lnTo>
                  <a:pt x="1201103" y="1423241"/>
                </a:lnTo>
                <a:lnTo>
                  <a:pt x="1201738" y="1422606"/>
                </a:lnTo>
                <a:lnTo>
                  <a:pt x="1202691" y="1421971"/>
                </a:lnTo>
                <a:lnTo>
                  <a:pt x="1202691" y="1414985"/>
                </a:lnTo>
                <a:lnTo>
                  <a:pt x="1202691" y="1414667"/>
                </a:lnTo>
                <a:lnTo>
                  <a:pt x="1202373" y="1414032"/>
                </a:lnTo>
                <a:lnTo>
                  <a:pt x="1202056" y="1413397"/>
                </a:lnTo>
                <a:lnTo>
                  <a:pt x="1201421" y="1413079"/>
                </a:lnTo>
                <a:lnTo>
                  <a:pt x="1200468" y="1412762"/>
                </a:lnTo>
                <a:lnTo>
                  <a:pt x="1199198" y="1412762"/>
                </a:lnTo>
                <a:lnTo>
                  <a:pt x="1198881" y="1412762"/>
                </a:lnTo>
                <a:close/>
                <a:moveTo>
                  <a:pt x="318770" y="1412762"/>
                </a:moveTo>
                <a:lnTo>
                  <a:pt x="317817" y="1413079"/>
                </a:lnTo>
                <a:lnTo>
                  <a:pt x="317182" y="1413397"/>
                </a:lnTo>
                <a:lnTo>
                  <a:pt x="316865" y="1414032"/>
                </a:lnTo>
                <a:lnTo>
                  <a:pt x="316547" y="1414667"/>
                </a:lnTo>
                <a:lnTo>
                  <a:pt x="316547" y="1414985"/>
                </a:lnTo>
                <a:lnTo>
                  <a:pt x="316547" y="1421971"/>
                </a:lnTo>
                <a:lnTo>
                  <a:pt x="317500" y="1422606"/>
                </a:lnTo>
                <a:lnTo>
                  <a:pt x="318135" y="1423241"/>
                </a:lnTo>
                <a:lnTo>
                  <a:pt x="318452" y="1423876"/>
                </a:lnTo>
                <a:lnTo>
                  <a:pt x="318770" y="1425146"/>
                </a:lnTo>
                <a:lnTo>
                  <a:pt x="318452" y="1426416"/>
                </a:lnTo>
                <a:lnTo>
                  <a:pt x="318770" y="1426416"/>
                </a:lnTo>
                <a:lnTo>
                  <a:pt x="320675" y="1426416"/>
                </a:lnTo>
                <a:lnTo>
                  <a:pt x="320675" y="1412762"/>
                </a:lnTo>
                <a:lnTo>
                  <a:pt x="320040" y="1412762"/>
                </a:lnTo>
                <a:lnTo>
                  <a:pt x="318770" y="1412762"/>
                </a:lnTo>
                <a:close/>
                <a:moveTo>
                  <a:pt x="310197" y="1412762"/>
                </a:moveTo>
                <a:lnTo>
                  <a:pt x="309562" y="1413079"/>
                </a:lnTo>
                <a:lnTo>
                  <a:pt x="309245" y="1413397"/>
                </a:lnTo>
                <a:lnTo>
                  <a:pt x="308927" y="1414032"/>
                </a:lnTo>
                <a:lnTo>
                  <a:pt x="308610" y="1414667"/>
                </a:lnTo>
                <a:lnTo>
                  <a:pt x="308610" y="1414985"/>
                </a:lnTo>
                <a:lnTo>
                  <a:pt x="308610" y="1421971"/>
                </a:lnTo>
                <a:lnTo>
                  <a:pt x="309245" y="1422606"/>
                </a:lnTo>
                <a:lnTo>
                  <a:pt x="309880" y="1423241"/>
                </a:lnTo>
                <a:lnTo>
                  <a:pt x="310197" y="1423876"/>
                </a:lnTo>
                <a:lnTo>
                  <a:pt x="310197" y="1425146"/>
                </a:lnTo>
                <a:lnTo>
                  <a:pt x="310197" y="1426416"/>
                </a:lnTo>
                <a:lnTo>
                  <a:pt x="312420" y="1426416"/>
                </a:lnTo>
                <a:lnTo>
                  <a:pt x="312420" y="1425146"/>
                </a:lnTo>
                <a:lnTo>
                  <a:pt x="312420" y="1423876"/>
                </a:lnTo>
                <a:lnTo>
                  <a:pt x="312737" y="1423241"/>
                </a:lnTo>
                <a:lnTo>
                  <a:pt x="313690" y="1422606"/>
                </a:lnTo>
                <a:lnTo>
                  <a:pt x="314325" y="1421971"/>
                </a:lnTo>
                <a:lnTo>
                  <a:pt x="314325" y="1414985"/>
                </a:lnTo>
                <a:lnTo>
                  <a:pt x="314325" y="1414667"/>
                </a:lnTo>
                <a:lnTo>
                  <a:pt x="314007" y="1414032"/>
                </a:lnTo>
                <a:lnTo>
                  <a:pt x="313690" y="1413397"/>
                </a:lnTo>
                <a:lnTo>
                  <a:pt x="313055" y="1413079"/>
                </a:lnTo>
                <a:lnTo>
                  <a:pt x="312420" y="1412762"/>
                </a:lnTo>
                <a:lnTo>
                  <a:pt x="311467" y="1412762"/>
                </a:lnTo>
                <a:lnTo>
                  <a:pt x="311150" y="1412762"/>
                </a:lnTo>
                <a:lnTo>
                  <a:pt x="310197" y="1412762"/>
                </a:lnTo>
                <a:close/>
                <a:moveTo>
                  <a:pt x="300990" y="1412762"/>
                </a:moveTo>
                <a:lnTo>
                  <a:pt x="300355" y="1413079"/>
                </a:lnTo>
                <a:lnTo>
                  <a:pt x="299720" y="1413397"/>
                </a:lnTo>
                <a:lnTo>
                  <a:pt x="299402" y="1414032"/>
                </a:lnTo>
                <a:lnTo>
                  <a:pt x="299402" y="1414667"/>
                </a:lnTo>
                <a:lnTo>
                  <a:pt x="299402" y="1414985"/>
                </a:lnTo>
                <a:lnTo>
                  <a:pt x="299402" y="1421971"/>
                </a:lnTo>
                <a:lnTo>
                  <a:pt x="300037" y="1422606"/>
                </a:lnTo>
                <a:lnTo>
                  <a:pt x="300672" y="1423876"/>
                </a:lnTo>
                <a:lnTo>
                  <a:pt x="300990" y="1425146"/>
                </a:lnTo>
                <a:lnTo>
                  <a:pt x="300990" y="1426416"/>
                </a:lnTo>
                <a:lnTo>
                  <a:pt x="303212" y="1426416"/>
                </a:lnTo>
                <a:lnTo>
                  <a:pt x="302895" y="1425146"/>
                </a:lnTo>
                <a:lnTo>
                  <a:pt x="303212" y="1423876"/>
                </a:lnTo>
                <a:lnTo>
                  <a:pt x="303530" y="1423241"/>
                </a:lnTo>
                <a:lnTo>
                  <a:pt x="303847" y="1422606"/>
                </a:lnTo>
                <a:lnTo>
                  <a:pt x="304800" y="1421971"/>
                </a:lnTo>
                <a:lnTo>
                  <a:pt x="304800" y="1414985"/>
                </a:lnTo>
                <a:lnTo>
                  <a:pt x="304800" y="1414667"/>
                </a:lnTo>
                <a:lnTo>
                  <a:pt x="304482" y="1414032"/>
                </a:lnTo>
                <a:lnTo>
                  <a:pt x="304165" y="1413397"/>
                </a:lnTo>
                <a:lnTo>
                  <a:pt x="303847" y="1413079"/>
                </a:lnTo>
                <a:lnTo>
                  <a:pt x="302895" y="1412762"/>
                </a:lnTo>
                <a:lnTo>
                  <a:pt x="301942" y="1412762"/>
                </a:lnTo>
                <a:lnTo>
                  <a:pt x="300990" y="1412762"/>
                </a:lnTo>
                <a:close/>
                <a:moveTo>
                  <a:pt x="292417" y="1412762"/>
                </a:moveTo>
                <a:lnTo>
                  <a:pt x="291147" y="1413079"/>
                </a:lnTo>
                <a:lnTo>
                  <a:pt x="290830" y="1413397"/>
                </a:lnTo>
                <a:lnTo>
                  <a:pt x="290512" y="1414032"/>
                </a:lnTo>
                <a:lnTo>
                  <a:pt x="290195" y="1414667"/>
                </a:lnTo>
                <a:lnTo>
                  <a:pt x="290195" y="1414985"/>
                </a:lnTo>
                <a:lnTo>
                  <a:pt x="290195" y="1421971"/>
                </a:lnTo>
                <a:lnTo>
                  <a:pt x="291147" y="1422606"/>
                </a:lnTo>
                <a:lnTo>
                  <a:pt x="292100" y="1423876"/>
                </a:lnTo>
                <a:lnTo>
                  <a:pt x="292417" y="1425146"/>
                </a:lnTo>
                <a:lnTo>
                  <a:pt x="292100" y="1426416"/>
                </a:lnTo>
                <a:lnTo>
                  <a:pt x="294322" y="1426416"/>
                </a:lnTo>
                <a:lnTo>
                  <a:pt x="294640" y="1426416"/>
                </a:lnTo>
                <a:lnTo>
                  <a:pt x="294322" y="1425146"/>
                </a:lnTo>
                <a:lnTo>
                  <a:pt x="294640" y="1423876"/>
                </a:lnTo>
                <a:lnTo>
                  <a:pt x="294640" y="1423241"/>
                </a:lnTo>
                <a:lnTo>
                  <a:pt x="295275" y="1422606"/>
                </a:lnTo>
                <a:lnTo>
                  <a:pt x="295910" y="1421971"/>
                </a:lnTo>
                <a:lnTo>
                  <a:pt x="295910" y="1414985"/>
                </a:lnTo>
                <a:lnTo>
                  <a:pt x="295910" y="1414667"/>
                </a:lnTo>
                <a:lnTo>
                  <a:pt x="295910" y="1414032"/>
                </a:lnTo>
                <a:lnTo>
                  <a:pt x="295592" y="1413397"/>
                </a:lnTo>
                <a:lnTo>
                  <a:pt x="294957" y="1413079"/>
                </a:lnTo>
                <a:lnTo>
                  <a:pt x="294322" y="1412762"/>
                </a:lnTo>
                <a:lnTo>
                  <a:pt x="293370" y="1412762"/>
                </a:lnTo>
                <a:lnTo>
                  <a:pt x="292417" y="1412762"/>
                </a:lnTo>
                <a:close/>
                <a:moveTo>
                  <a:pt x="282575" y="1412762"/>
                </a:moveTo>
                <a:lnTo>
                  <a:pt x="281940" y="1413079"/>
                </a:lnTo>
                <a:lnTo>
                  <a:pt x="281305" y="1413397"/>
                </a:lnTo>
                <a:lnTo>
                  <a:pt x="281305" y="1414032"/>
                </a:lnTo>
                <a:lnTo>
                  <a:pt x="280987" y="1414667"/>
                </a:lnTo>
                <a:lnTo>
                  <a:pt x="280987" y="1414985"/>
                </a:lnTo>
                <a:lnTo>
                  <a:pt x="280987" y="1421971"/>
                </a:lnTo>
                <a:lnTo>
                  <a:pt x="281622" y="1422606"/>
                </a:lnTo>
                <a:lnTo>
                  <a:pt x="282257" y="1423241"/>
                </a:lnTo>
                <a:lnTo>
                  <a:pt x="282575" y="1423876"/>
                </a:lnTo>
                <a:lnTo>
                  <a:pt x="282575" y="1425146"/>
                </a:lnTo>
                <a:lnTo>
                  <a:pt x="282575" y="1426416"/>
                </a:lnTo>
                <a:lnTo>
                  <a:pt x="285115" y="1426416"/>
                </a:lnTo>
                <a:lnTo>
                  <a:pt x="285115" y="1425146"/>
                </a:lnTo>
                <a:lnTo>
                  <a:pt x="285115" y="1423876"/>
                </a:lnTo>
                <a:lnTo>
                  <a:pt x="286067" y="1422606"/>
                </a:lnTo>
                <a:lnTo>
                  <a:pt x="286702" y="1421971"/>
                </a:lnTo>
                <a:lnTo>
                  <a:pt x="286702" y="1414985"/>
                </a:lnTo>
                <a:lnTo>
                  <a:pt x="286702" y="1414667"/>
                </a:lnTo>
                <a:lnTo>
                  <a:pt x="286385" y="1414032"/>
                </a:lnTo>
                <a:lnTo>
                  <a:pt x="286067" y="1413397"/>
                </a:lnTo>
                <a:lnTo>
                  <a:pt x="285750" y="1413079"/>
                </a:lnTo>
                <a:lnTo>
                  <a:pt x="285115" y="1412762"/>
                </a:lnTo>
                <a:lnTo>
                  <a:pt x="283527" y="1412762"/>
                </a:lnTo>
                <a:lnTo>
                  <a:pt x="282575" y="1412762"/>
                </a:lnTo>
                <a:close/>
                <a:moveTo>
                  <a:pt x="273685" y="1412762"/>
                </a:moveTo>
                <a:lnTo>
                  <a:pt x="273050" y="1413079"/>
                </a:lnTo>
                <a:lnTo>
                  <a:pt x="272415" y="1413397"/>
                </a:lnTo>
                <a:lnTo>
                  <a:pt x="272097" y="1414032"/>
                </a:lnTo>
                <a:lnTo>
                  <a:pt x="272097" y="1414667"/>
                </a:lnTo>
                <a:lnTo>
                  <a:pt x="272097" y="1414985"/>
                </a:lnTo>
                <a:lnTo>
                  <a:pt x="272097" y="1421971"/>
                </a:lnTo>
                <a:lnTo>
                  <a:pt x="272732" y="1422606"/>
                </a:lnTo>
                <a:lnTo>
                  <a:pt x="273367" y="1423876"/>
                </a:lnTo>
                <a:lnTo>
                  <a:pt x="273685" y="1425146"/>
                </a:lnTo>
                <a:lnTo>
                  <a:pt x="273367" y="1426416"/>
                </a:lnTo>
                <a:lnTo>
                  <a:pt x="273685" y="1426416"/>
                </a:lnTo>
                <a:lnTo>
                  <a:pt x="275590" y="1426416"/>
                </a:lnTo>
                <a:lnTo>
                  <a:pt x="275907" y="1426416"/>
                </a:lnTo>
                <a:lnTo>
                  <a:pt x="275590" y="1425146"/>
                </a:lnTo>
                <a:lnTo>
                  <a:pt x="275907" y="1423876"/>
                </a:lnTo>
                <a:lnTo>
                  <a:pt x="276225" y="1423241"/>
                </a:lnTo>
                <a:lnTo>
                  <a:pt x="276542" y="1422606"/>
                </a:lnTo>
                <a:lnTo>
                  <a:pt x="277812" y="1421971"/>
                </a:lnTo>
                <a:lnTo>
                  <a:pt x="277812" y="1414985"/>
                </a:lnTo>
                <a:lnTo>
                  <a:pt x="277812" y="1414667"/>
                </a:lnTo>
                <a:lnTo>
                  <a:pt x="277495" y="1414032"/>
                </a:lnTo>
                <a:lnTo>
                  <a:pt x="276860" y="1413397"/>
                </a:lnTo>
                <a:lnTo>
                  <a:pt x="276542" y="1413079"/>
                </a:lnTo>
                <a:lnTo>
                  <a:pt x="275590" y="1412762"/>
                </a:lnTo>
                <a:lnTo>
                  <a:pt x="274637" y="1412762"/>
                </a:lnTo>
                <a:lnTo>
                  <a:pt x="273685" y="1412762"/>
                </a:lnTo>
                <a:close/>
                <a:moveTo>
                  <a:pt x="264795" y="1412762"/>
                </a:moveTo>
                <a:lnTo>
                  <a:pt x="263842" y="1413079"/>
                </a:lnTo>
                <a:lnTo>
                  <a:pt x="263525" y="1413397"/>
                </a:lnTo>
                <a:lnTo>
                  <a:pt x="263207" y="1414032"/>
                </a:lnTo>
                <a:lnTo>
                  <a:pt x="262572" y="1414667"/>
                </a:lnTo>
                <a:lnTo>
                  <a:pt x="262572" y="1414985"/>
                </a:lnTo>
                <a:lnTo>
                  <a:pt x="262572" y="1421971"/>
                </a:lnTo>
                <a:lnTo>
                  <a:pt x="263842" y="1422606"/>
                </a:lnTo>
                <a:lnTo>
                  <a:pt x="264160" y="1423241"/>
                </a:lnTo>
                <a:lnTo>
                  <a:pt x="264477" y="1423876"/>
                </a:lnTo>
                <a:lnTo>
                  <a:pt x="264795" y="1425146"/>
                </a:lnTo>
                <a:lnTo>
                  <a:pt x="264477" y="1426416"/>
                </a:lnTo>
                <a:lnTo>
                  <a:pt x="266700" y="1426416"/>
                </a:lnTo>
                <a:lnTo>
                  <a:pt x="267017" y="1426416"/>
                </a:lnTo>
                <a:lnTo>
                  <a:pt x="266700" y="1425146"/>
                </a:lnTo>
                <a:lnTo>
                  <a:pt x="266700" y="1423876"/>
                </a:lnTo>
                <a:lnTo>
                  <a:pt x="267652" y="1422606"/>
                </a:lnTo>
                <a:lnTo>
                  <a:pt x="268287" y="1421971"/>
                </a:lnTo>
                <a:lnTo>
                  <a:pt x="268287" y="1414985"/>
                </a:lnTo>
                <a:lnTo>
                  <a:pt x="268287" y="1414667"/>
                </a:lnTo>
                <a:lnTo>
                  <a:pt x="268287" y="1414032"/>
                </a:lnTo>
                <a:lnTo>
                  <a:pt x="267970" y="1413397"/>
                </a:lnTo>
                <a:lnTo>
                  <a:pt x="267335" y="1413079"/>
                </a:lnTo>
                <a:lnTo>
                  <a:pt x="266700" y="1412762"/>
                </a:lnTo>
                <a:lnTo>
                  <a:pt x="265747" y="1412762"/>
                </a:lnTo>
                <a:lnTo>
                  <a:pt x="264795" y="1412762"/>
                </a:lnTo>
                <a:close/>
                <a:moveTo>
                  <a:pt x="254952" y="1412762"/>
                </a:moveTo>
                <a:lnTo>
                  <a:pt x="254317" y="1413079"/>
                </a:lnTo>
                <a:lnTo>
                  <a:pt x="253682" y="1413397"/>
                </a:lnTo>
                <a:lnTo>
                  <a:pt x="253365" y="1414032"/>
                </a:lnTo>
                <a:lnTo>
                  <a:pt x="253365" y="1414667"/>
                </a:lnTo>
                <a:lnTo>
                  <a:pt x="253365" y="1414985"/>
                </a:lnTo>
                <a:lnTo>
                  <a:pt x="253365" y="1421971"/>
                </a:lnTo>
                <a:lnTo>
                  <a:pt x="254000" y="1422606"/>
                </a:lnTo>
                <a:lnTo>
                  <a:pt x="254635" y="1423241"/>
                </a:lnTo>
                <a:lnTo>
                  <a:pt x="254952" y="1423876"/>
                </a:lnTo>
                <a:lnTo>
                  <a:pt x="254952" y="1425146"/>
                </a:lnTo>
                <a:lnTo>
                  <a:pt x="254952" y="1426416"/>
                </a:lnTo>
                <a:lnTo>
                  <a:pt x="257492" y="1426416"/>
                </a:lnTo>
                <a:lnTo>
                  <a:pt x="257492" y="1425146"/>
                </a:lnTo>
                <a:lnTo>
                  <a:pt x="257492" y="1423876"/>
                </a:lnTo>
                <a:lnTo>
                  <a:pt x="257810" y="1423241"/>
                </a:lnTo>
                <a:lnTo>
                  <a:pt x="258127" y="1422606"/>
                </a:lnTo>
                <a:lnTo>
                  <a:pt x="259080" y="1421971"/>
                </a:lnTo>
                <a:lnTo>
                  <a:pt x="259080" y="1414985"/>
                </a:lnTo>
                <a:lnTo>
                  <a:pt x="259080" y="1414667"/>
                </a:lnTo>
                <a:lnTo>
                  <a:pt x="258762" y="1414032"/>
                </a:lnTo>
                <a:lnTo>
                  <a:pt x="258445" y="1413397"/>
                </a:lnTo>
                <a:lnTo>
                  <a:pt x="258127" y="1413079"/>
                </a:lnTo>
                <a:lnTo>
                  <a:pt x="257492" y="1412762"/>
                </a:lnTo>
                <a:lnTo>
                  <a:pt x="256222" y="1412762"/>
                </a:lnTo>
                <a:lnTo>
                  <a:pt x="254952" y="1412762"/>
                </a:lnTo>
                <a:close/>
                <a:moveTo>
                  <a:pt x="246062" y="1412762"/>
                </a:moveTo>
                <a:lnTo>
                  <a:pt x="245427" y="1413079"/>
                </a:lnTo>
                <a:lnTo>
                  <a:pt x="244792" y="1413397"/>
                </a:lnTo>
                <a:lnTo>
                  <a:pt x="244475" y="1414032"/>
                </a:lnTo>
                <a:lnTo>
                  <a:pt x="244475" y="1414667"/>
                </a:lnTo>
                <a:lnTo>
                  <a:pt x="244475" y="1414985"/>
                </a:lnTo>
                <a:lnTo>
                  <a:pt x="244475" y="1421971"/>
                </a:lnTo>
                <a:lnTo>
                  <a:pt x="245110" y="1422606"/>
                </a:lnTo>
                <a:lnTo>
                  <a:pt x="245745" y="1423876"/>
                </a:lnTo>
                <a:lnTo>
                  <a:pt x="246062" y="1425146"/>
                </a:lnTo>
                <a:lnTo>
                  <a:pt x="245745" y="1426416"/>
                </a:lnTo>
                <a:lnTo>
                  <a:pt x="246062" y="1426416"/>
                </a:lnTo>
                <a:lnTo>
                  <a:pt x="247967" y="1426416"/>
                </a:lnTo>
                <a:lnTo>
                  <a:pt x="248285" y="1426416"/>
                </a:lnTo>
                <a:lnTo>
                  <a:pt x="247967" y="1425146"/>
                </a:lnTo>
                <a:lnTo>
                  <a:pt x="248285" y="1423876"/>
                </a:lnTo>
                <a:lnTo>
                  <a:pt x="248920" y="1423241"/>
                </a:lnTo>
                <a:lnTo>
                  <a:pt x="249237" y="1422606"/>
                </a:lnTo>
                <a:lnTo>
                  <a:pt x="249872" y="1421971"/>
                </a:lnTo>
                <a:lnTo>
                  <a:pt x="249872" y="1414985"/>
                </a:lnTo>
                <a:lnTo>
                  <a:pt x="250190" y="1414667"/>
                </a:lnTo>
                <a:lnTo>
                  <a:pt x="249872" y="1414032"/>
                </a:lnTo>
                <a:lnTo>
                  <a:pt x="249555" y="1413397"/>
                </a:lnTo>
                <a:lnTo>
                  <a:pt x="249237" y="1413079"/>
                </a:lnTo>
                <a:lnTo>
                  <a:pt x="247967" y="1412762"/>
                </a:lnTo>
                <a:lnTo>
                  <a:pt x="247015" y="1412762"/>
                </a:lnTo>
                <a:lnTo>
                  <a:pt x="246062" y="1412762"/>
                </a:lnTo>
                <a:close/>
                <a:moveTo>
                  <a:pt x="236855" y="1412762"/>
                </a:moveTo>
                <a:lnTo>
                  <a:pt x="236220" y="1413079"/>
                </a:lnTo>
                <a:lnTo>
                  <a:pt x="235902" y="1413397"/>
                </a:lnTo>
                <a:lnTo>
                  <a:pt x="235585" y="1414032"/>
                </a:lnTo>
                <a:lnTo>
                  <a:pt x="235267" y="1414667"/>
                </a:lnTo>
                <a:lnTo>
                  <a:pt x="235267" y="1414985"/>
                </a:lnTo>
                <a:lnTo>
                  <a:pt x="235267" y="1421971"/>
                </a:lnTo>
                <a:lnTo>
                  <a:pt x="236220" y="1422606"/>
                </a:lnTo>
                <a:lnTo>
                  <a:pt x="236537" y="1423241"/>
                </a:lnTo>
                <a:lnTo>
                  <a:pt x="236855" y="1423876"/>
                </a:lnTo>
                <a:lnTo>
                  <a:pt x="237172" y="1425146"/>
                </a:lnTo>
                <a:lnTo>
                  <a:pt x="236855" y="1426416"/>
                </a:lnTo>
                <a:lnTo>
                  <a:pt x="239077" y="1426416"/>
                </a:lnTo>
                <a:lnTo>
                  <a:pt x="239077" y="1425146"/>
                </a:lnTo>
                <a:lnTo>
                  <a:pt x="239077" y="1423876"/>
                </a:lnTo>
                <a:lnTo>
                  <a:pt x="240030" y="1422606"/>
                </a:lnTo>
                <a:lnTo>
                  <a:pt x="240665" y="1421971"/>
                </a:lnTo>
                <a:lnTo>
                  <a:pt x="240665" y="1414985"/>
                </a:lnTo>
                <a:lnTo>
                  <a:pt x="240665" y="1414667"/>
                </a:lnTo>
                <a:lnTo>
                  <a:pt x="240665" y="1414032"/>
                </a:lnTo>
                <a:lnTo>
                  <a:pt x="240347" y="1413397"/>
                </a:lnTo>
                <a:lnTo>
                  <a:pt x="239712" y="1413079"/>
                </a:lnTo>
                <a:lnTo>
                  <a:pt x="239077" y="1412762"/>
                </a:lnTo>
                <a:lnTo>
                  <a:pt x="238125" y="1412762"/>
                </a:lnTo>
                <a:lnTo>
                  <a:pt x="236855" y="1412762"/>
                </a:lnTo>
                <a:close/>
                <a:moveTo>
                  <a:pt x="227647" y="1412762"/>
                </a:moveTo>
                <a:lnTo>
                  <a:pt x="226695" y="1413079"/>
                </a:lnTo>
                <a:lnTo>
                  <a:pt x="226060" y="1413397"/>
                </a:lnTo>
                <a:lnTo>
                  <a:pt x="225742" y="1414032"/>
                </a:lnTo>
                <a:lnTo>
                  <a:pt x="225742" y="1414667"/>
                </a:lnTo>
                <a:lnTo>
                  <a:pt x="225742" y="1414985"/>
                </a:lnTo>
                <a:lnTo>
                  <a:pt x="225742" y="1421971"/>
                </a:lnTo>
                <a:lnTo>
                  <a:pt x="226377" y="1422606"/>
                </a:lnTo>
                <a:lnTo>
                  <a:pt x="227647" y="1423876"/>
                </a:lnTo>
                <a:lnTo>
                  <a:pt x="227647" y="1425146"/>
                </a:lnTo>
                <a:lnTo>
                  <a:pt x="227647" y="1426416"/>
                </a:lnTo>
                <a:lnTo>
                  <a:pt x="229870" y="1426416"/>
                </a:lnTo>
                <a:lnTo>
                  <a:pt x="229552" y="1425146"/>
                </a:lnTo>
                <a:lnTo>
                  <a:pt x="229870" y="1423876"/>
                </a:lnTo>
                <a:lnTo>
                  <a:pt x="230187" y="1423241"/>
                </a:lnTo>
                <a:lnTo>
                  <a:pt x="230505" y="1422606"/>
                </a:lnTo>
                <a:lnTo>
                  <a:pt x="231457" y="1421971"/>
                </a:lnTo>
                <a:lnTo>
                  <a:pt x="231457" y="1414985"/>
                </a:lnTo>
                <a:lnTo>
                  <a:pt x="231457" y="1414667"/>
                </a:lnTo>
                <a:lnTo>
                  <a:pt x="231140" y="1414032"/>
                </a:lnTo>
                <a:lnTo>
                  <a:pt x="230822" y="1413397"/>
                </a:lnTo>
                <a:lnTo>
                  <a:pt x="230505" y="1413079"/>
                </a:lnTo>
                <a:lnTo>
                  <a:pt x="229870" y="1412762"/>
                </a:lnTo>
                <a:lnTo>
                  <a:pt x="228600" y="1412762"/>
                </a:lnTo>
                <a:lnTo>
                  <a:pt x="227647" y="1412762"/>
                </a:lnTo>
                <a:close/>
                <a:moveTo>
                  <a:pt x="218440" y="1412762"/>
                </a:moveTo>
                <a:lnTo>
                  <a:pt x="217805" y="1413079"/>
                </a:lnTo>
                <a:lnTo>
                  <a:pt x="217170" y="1413397"/>
                </a:lnTo>
                <a:lnTo>
                  <a:pt x="216852" y="1414032"/>
                </a:lnTo>
                <a:lnTo>
                  <a:pt x="216852" y="1414667"/>
                </a:lnTo>
                <a:lnTo>
                  <a:pt x="216852" y="1414985"/>
                </a:lnTo>
                <a:lnTo>
                  <a:pt x="216852" y="1421971"/>
                </a:lnTo>
                <a:lnTo>
                  <a:pt x="217487" y="1422606"/>
                </a:lnTo>
                <a:lnTo>
                  <a:pt x="217805" y="1423241"/>
                </a:lnTo>
                <a:lnTo>
                  <a:pt x="218122" y="1423876"/>
                </a:lnTo>
                <a:lnTo>
                  <a:pt x="218440" y="1425146"/>
                </a:lnTo>
                <a:lnTo>
                  <a:pt x="218122" y="1426416"/>
                </a:lnTo>
                <a:lnTo>
                  <a:pt x="218440" y="1426416"/>
                </a:lnTo>
                <a:lnTo>
                  <a:pt x="220662" y="1426416"/>
                </a:lnTo>
                <a:lnTo>
                  <a:pt x="220980" y="1426416"/>
                </a:lnTo>
                <a:lnTo>
                  <a:pt x="220662" y="1425146"/>
                </a:lnTo>
                <a:lnTo>
                  <a:pt x="220980" y="1423876"/>
                </a:lnTo>
                <a:lnTo>
                  <a:pt x="221297" y="1423241"/>
                </a:lnTo>
                <a:lnTo>
                  <a:pt x="221615" y="1422606"/>
                </a:lnTo>
                <a:lnTo>
                  <a:pt x="222250" y="1421971"/>
                </a:lnTo>
                <a:lnTo>
                  <a:pt x="222250" y="1414985"/>
                </a:lnTo>
                <a:lnTo>
                  <a:pt x="222250" y="1414667"/>
                </a:lnTo>
                <a:lnTo>
                  <a:pt x="222250" y="1414032"/>
                </a:lnTo>
                <a:lnTo>
                  <a:pt x="221932" y="1413397"/>
                </a:lnTo>
                <a:lnTo>
                  <a:pt x="221297" y="1413079"/>
                </a:lnTo>
                <a:lnTo>
                  <a:pt x="220662" y="1412762"/>
                </a:lnTo>
                <a:lnTo>
                  <a:pt x="219392" y="1412762"/>
                </a:lnTo>
                <a:lnTo>
                  <a:pt x="218440" y="1412762"/>
                </a:lnTo>
                <a:close/>
                <a:moveTo>
                  <a:pt x="209867" y="1412762"/>
                </a:moveTo>
                <a:lnTo>
                  <a:pt x="209867" y="1426416"/>
                </a:lnTo>
                <a:lnTo>
                  <a:pt x="211455" y="1426416"/>
                </a:lnTo>
                <a:lnTo>
                  <a:pt x="211137" y="1425146"/>
                </a:lnTo>
                <a:lnTo>
                  <a:pt x="211455" y="1423876"/>
                </a:lnTo>
                <a:lnTo>
                  <a:pt x="211772" y="1423241"/>
                </a:lnTo>
                <a:lnTo>
                  <a:pt x="212407" y="1422606"/>
                </a:lnTo>
                <a:lnTo>
                  <a:pt x="213677" y="1421971"/>
                </a:lnTo>
                <a:lnTo>
                  <a:pt x="213677" y="1414985"/>
                </a:lnTo>
                <a:lnTo>
                  <a:pt x="213677" y="1414667"/>
                </a:lnTo>
                <a:lnTo>
                  <a:pt x="213360" y="1414032"/>
                </a:lnTo>
                <a:lnTo>
                  <a:pt x="213042" y="1413397"/>
                </a:lnTo>
                <a:lnTo>
                  <a:pt x="212090" y="1413079"/>
                </a:lnTo>
                <a:lnTo>
                  <a:pt x="211455" y="1412762"/>
                </a:lnTo>
                <a:lnTo>
                  <a:pt x="210185" y="1412762"/>
                </a:lnTo>
                <a:lnTo>
                  <a:pt x="209867" y="1412762"/>
                </a:lnTo>
                <a:close/>
                <a:moveTo>
                  <a:pt x="153035" y="1412762"/>
                </a:moveTo>
                <a:lnTo>
                  <a:pt x="152400" y="1413079"/>
                </a:lnTo>
                <a:lnTo>
                  <a:pt x="151765" y="1414032"/>
                </a:lnTo>
                <a:lnTo>
                  <a:pt x="151765" y="1414667"/>
                </a:lnTo>
                <a:lnTo>
                  <a:pt x="151765" y="1414985"/>
                </a:lnTo>
                <a:lnTo>
                  <a:pt x="151765" y="1421971"/>
                </a:lnTo>
                <a:lnTo>
                  <a:pt x="152400" y="1422606"/>
                </a:lnTo>
                <a:lnTo>
                  <a:pt x="153035" y="1423876"/>
                </a:lnTo>
                <a:lnTo>
                  <a:pt x="153035" y="1425146"/>
                </a:lnTo>
                <a:lnTo>
                  <a:pt x="153035" y="1426416"/>
                </a:lnTo>
                <a:lnTo>
                  <a:pt x="154305" y="1426416"/>
                </a:lnTo>
                <a:lnTo>
                  <a:pt x="154305" y="1412762"/>
                </a:lnTo>
                <a:lnTo>
                  <a:pt x="153987" y="1412762"/>
                </a:lnTo>
                <a:lnTo>
                  <a:pt x="153035" y="1412762"/>
                </a:lnTo>
                <a:close/>
                <a:moveTo>
                  <a:pt x="145732" y="1412762"/>
                </a:moveTo>
                <a:lnTo>
                  <a:pt x="145097" y="1413079"/>
                </a:lnTo>
                <a:lnTo>
                  <a:pt x="144462" y="1414032"/>
                </a:lnTo>
                <a:lnTo>
                  <a:pt x="144462" y="1414667"/>
                </a:lnTo>
                <a:lnTo>
                  <a:pt x="144462" y="1414985"/>
                </a:lnTo>
                <a:lnTo>
                  <a:pt x="144462" y="1421971"/>
                </a:lnTo>
                <a:lnTo>
                  <a:pt x="145097" y="1422606"/>
                </a:lnTo>
                <a:lnTo>
                  <a:pt x="145415" y="1423876"/>
                </a:lnTo>
                <a:lnTo>
                  <a:pt x="145732" y="1425146"/>
                </a:lnTo>
                <a:lnTo>
                  <a:pt x="145415" y="1426416"/>
                </a:lnTo>
                <a:lnTo>
                  <a:pt x="145732" y="1426416"/>
                </a:lnTo>
                <a:lnTo>
                  <a:pt x="147320" y="1426416"/>
                </a:lnTo>
                <a:lnTo>
                  <a:pt x="147320" y="1425146"/>
                </a:lnTo>
                <a:lnTo>
                  <a:pt x="147320" y="1423876"/>
                </a:lnTo>
                <a:lnTo>
                  <a:pt x="148272" y="1422606"/>
                </a:lnTo>
                <a:lnTo>
                  <a:pt x="148907" y="1421971"/>
                </a:lnTo>
                <a:lnTo>
                  <a:pt x="148907" y="1414985"/>
                </a:lnTo>
                <a:lnTo>
                  <a:pt x="148907" y="1414667"/>
                </a:lnTo>
                <a:lnTo>
                  <a:pt x="148907" y="1414032"/>
                </a:lnTo>
                <a:lnTo>
                  <a:pt x="148272" y="1413079"/>
                </a:lnTo>
                <a:lnTo>
                  <a:pt x="147320" y="1412762"/>
                </a:lnTo>
                <a:lnTo>
                  <a:pt x="146367" y="1412762"/>
                </a:lnTo>
                <a:lnTo>
                  <a:pt x="145732" y="1412762"/>
                </a:lnTo>
                <a:close/>
                <a:moveTo>
                  <a:pt x="137795" y="1412762"/>
                </a:moveTo>
                <a:lnTo>
                  <a:pt x="137160" y="1413079"/>
                </a:lnTo>
                <a:lnTo>
                  <a:pt x="136525" y="1414032"/>
                </a:lnTo>
                <a:lnTo>
                  <a:pt x="136525" y="1414667"/>
                </a:lnTo>
                <a:lnTo>
                  <a:pt x="136525" y="1414985"/>
                </a:lnTo>
                <a:lnTo>
                  <a:pt x="136525" y="1421971"/>
                </a:lnTo>
                <a:lnTo>
                  <a:pt x="137160" y="1422606"/>
                </a:lnTo>
                <a:lnTo>
                  <a:pt x="137477" y="1423876"/>
                </a:lnTo>
                <a:lnTo>
                  <a:pt x="137795" y="1425146"/>
                </a:lnTo>
                <a:lnTo>
                  <a:pt x="137477" y="1426416"/>
                </a:lnTo>
                <a:lnTo>
                  <a:pt x="137795" y="1426416"/>
                </a:lnTo>
                <a:lnTo>
                  <a:pt x="139382" y="1426416"/>
                </a:lnTo>
                <a:lnTo>
                  <a:pt x="139382" y="1425146"/>
                </a:lnTo>
                <a:lnTo>
                  <a:pt x="139382" y="1423876"/>
                </a:lnTo>
                <a:lnTo>
                  <a:pt x="140017" y="1422606"/>
                </a:lnTo>
                <a:lnTo>
                  <a:pt x="140970" y="1421971"/>
                </a:lnTo>
                <a:lnTo>
                  <a:pt x="140970" y="1414985"/>
                </a:lnTo>
                <a:lnTo>
                  <a:pt x="140970" y="1414667"/>
                </a:lnTo>
                <a:lnTo>
                  <a:pt x="140970" y="1414032"/>
                </a:lnTo>
                <a:lnTo>
                  <a:pt x="140017" y="1413079"/>
                </a:lnTo>
                <a:lnTo>
                  <a:pt x="139382" y="1412762"/>
                </a:lnTo>
                <a:lnTo>
                  <a:pt x="138430" y="1412762"/>
                </a:lnTo>
                <a:lnTo>
                  <a:pt x="137795" y="1412762"/>
                </a:lnTo>
                <a:close/>
                <a:moveTo>
                  <a:pt x="129857" y="1412762"/>
                </a:moveTo>
                <a:lnTo>
                  <a:pt x="129540" y="1413079"/>
                </a:lnTo>
                <a:lnTo>
                  <a:pt x="128905" y="1414032"/>
                </a:lnTo>
                <a:lnTo>
                  <a:pt x="128587" y="1414667"/>
                </a:lnTo>
                <a:lnTo>
                  <a:pt x="128587" y="1414985"/>
                </a:lnTo>
                <a:lnTo>
                  <a:pt x="128587" y="1421971"/>
                </a:lnTo>
                <a:lnTo>
                  <a:pt x="129222" y="1422606"/>
                </a:lnTo>
                <a:lnTo>
                  <a:pt x="129857" y="1423876"/>
                </a:lnTo>
                <a:lnTo>
                  <a:pt x="129857" y="1425146"/>
                </a:lnTo>
                <a:lnTo>
                  <a:pt x="129857" y="1426416"/>
                </a:lnTo>
                <a:lnTo>
                  <a:pt x="131762" y="1426416"/>
                </a:lnTo>
                <a:lnTo>
                  <a:pt x="131445" y="1425146"/>
                </a:lnTo>
                <a:lnTo>
                  <a:pt x="131762" y="1423876"/>
                </a:lnTo>
                <a:lnTo>
                  <a:pt x="132397" y="1422606"/>
                </a:lnTo>
                <a:lnTo>
                  <a:pt x="133032" y="1421971"/>
                </a:lnTo>
                <a:lnTo>
                  <a:pt x="133032" y="1414985"/>
                </a:lnTo>
                <a:lnTo>
                  <a:pt x="133032" y="1414667"/>
                </a:lnTo>
                <a:lnTo>
                  <a:pt x="132715" y="1414032"/>
                </a:lnTo>
                <a:lnTo>
                  <a:pt x="132080" y="1413079"/>
                </a:lnTo>
                <a:lnTo>
                  <a:pt x="131445" y="1412762"/>
                </a:lnTo>
                <a:lnTo>
                  <a:pt x="130810" y="1412762"/>
                </a:lnTo>
                <a:lnTo>
                  <a:pt x="129857" y="1412762"/>
                </a:lnTo>
                <a:close/>
                <a:moveTo>
                  <a:pt x="122237" y="1412762"/>
                </a:moveTo>
                <a:lnTo>
                  <a:pt x="121602" y="1413079"/>
                </a:lnTo>
                <a:lnTo>
                  <a:pt x="120967" y="1414032"/>
                </a:lnTo>
                <a:lnTo>
                  <a:pt x="120967" y="1414667"/>
                </a:lnTo>
                <a:lnTo>
                  <a:pt x="120967" y="1414985"/>
                </a:lnTo>
                <a:lnTo>
                  <a:pt x="120967" y="1421971"/>
                </a:lnTo>
                <a:lnTo>
                  <a:pt x="121285" y="1422606"/>
                </a:lnTo>
                <a:lnTo>
                  <a:pt x="121920" y="1423876"/>
                </a:lnTo>
                <a:lnTo>
                  <a:pt x="122237" y="1425146"/>
                </a:lnTo>
                <a:lnTo>
                  <a:pt x="121920" y="1426416"/>
                </a:lnTo>
                <a:lnTo>
                  <a:pt x="122237" y="1426416"/>
                </a:lnTo>
                <a:lnTo>
                  <a:pt x="123825" y="1426416"/>
                </a:lnTo>
                <a:lnTo>
                  <a:pt x="123825" y="1425146"/>
                </a:lnTo>
                <a:lnTo>
                  <a:pt x="123825" y="1423876"/>
                </a:lnTo>
                <a:lnTo>
                  <a:pt x="124460" y="1422606"/>
                </a:lnTo>
                <a:lnTo>
                  <a:pt x="125095" y="1421971"/>
                </a:lnTo>
                <a:lnTo>
                  <a:pt x="125095" y="1414985"/>
                </a:lnTo>
                <a:lnTo>
                  <a:pt x="125095" y="1414667"/>
                </a:lnTo>
                <a:lnTo>
                  <a:pt x="125095" y="1414032"/>
                </a:lnTo>
                <a:lnTo>
                  <a:pt x="124460" y="1413079"/>
                </a:lnTo>
                <a:lnTo>
                  <a:pt x="123825" y="1412762"/>
                </a:lnTo>
                <a:lnTo>
                  <a:pt x="122872" y="1412762"/>
                </a:lnTo>
                <a:lnTo>
                  <a:pt x="122237" y="1412762"/>
                </a:lnTo>
                <a:close/>
                <a:moveTo>
                  <a:pt x="1008062" y="1235075"/>
                </a:moveTo>
                <a:lnTo>
                  <a:pt x="1008062" y="1284288"/>
                </a:lnTo>
                <a:lnTo>
                  <a:pt x="1019175" y="1284288"/>
                </a:lnTo>
                <a:lnTo>
                  <a:pt x="1019175" y="1247702"/>
                </a:lnTo>
                <a:lnTo>
                  <a:pt x="1015134" y="1242846"/>
                </a:lnTo>
                <a:lnTo>
                  <a:pt x="1011767" y="1238313"/>
                </a:lnTo>
                <a:lnTo>
                  <a:pt x="1008062" y="1235075"/>
                </a:lnTo>
                <a:close/>
                <a:moveTo>
                  <a:pt x="511175" y="1235075"/>
                </a:moveTo>
                <a:lnTo>
                  <a:pt x="507702" y="1238313"/>
                </a:lnTo>
                <a:lnTo>
                  <a:pt x="503882" y="1242846"/>
                </a:lnTo>
                <a:lnTo>
                  <a:pt x="500062" y="1247702"/>
                </a:lnTo>
                <a:lnTo>
                  <a:pt x="500062" y="1284288"/>
                </a:lnTo>
                <a:lnTo>
                  <a:pt x="511175" y="1284288"/>
                </a:lnTo>
                <a:lnTo>
                  <a:pt x="511175" y="1235075"/>
                </a:lnTo>
                <a:close/>
                <a:moveTo>
                  <a:pt x="837366" y="1189037"/>
                </a:moveTo>
                <a:lnTo>
                  <a:pt x="832962" y="1189349"/>
                </a:lnTo>
                <a:lnTo>
                  <a:pt x="828873" y="1190282"/>
                </a:lnTo>
                <a:lnTo>
                  <a:pt x="821952" y="1191527"/>
                </a:lnTo>
                <a:lnTo>
                  <a:pt x="817863" y="1192461"/>
                </a:lnTo>
                <a:lnTo>
                  <a:pt x="815975" y="1193084"/>
                </a:lnTo>
                <a:lnTo>
                  <a:pt x="815975" y="1209270"/>
                </a:lnTo>
                <a:lnTo>
                  <a:pt x="884238" y="1236662"/>
                </a:lnTo>
                <a:lnTo>
                  <a:pt x="884238" y="1201177"/>
                </a:lnTo>
                <a:lnTo>
                  <a:pt x="877947" y="1197753"/>
                </a:lnTo>
                <a:lnTo>
                  <a:pt x="871655" y="1194640"/>
                </a:lnTo>
                <a:lnTo>
                  <a:pt x="865364" y="1192773"/>
                </a:lnTo>
                <a:lnTo>
                  <a:pt x="859701" y="1191216"/>
                </a:lnTo>
                <a:lnTo>
                  <a:pt x="853724" y="1190282"/>
                </a:lnTo>
                <a:lnTo>
                  <a:pt x="848062" y="1189349"/>
                </a:lnTo>
                <a:lnTo>
                  <a:pt x="842400" y="1189037"/>
                </a:lnTo>
                <a:lnTo>
                  <a:pt x="837366" y="1189037"/>
                </a:lnTo>
                <a:close/>
                <a:moveTo>
                  <a:pt x="671195" y="1189037"/>
                </a:moveTo>
                <a:lnTo>
                  <a:pt x="665480" y="1189357"/>
                </a:lnTo>
                <a:lnTo>
                  <a:pt x="659765" y="1189996"/>
                </a:lnTo>
                <a:lnTo>
                  <a:pt x="654685" y="1191275"/>
                </a:lnTo>
                <a:lnTo>
                  <a:pt x="650240" y="1192553"/>
                </a:lnTo>
                <a:lnTo>
                  <a:pt x="646430" y="1194151"/>
                </a:lnTo>
                <a:lnTo>
                  <a:pt x="642620" y="1196069"/>
                </a:lnTo>
                <a:lnTo>
                  <a:pt x="640080" y="1197667"/>
                </a:lnTo>
                <a:lnTo>
                  <a:pt x="637857" y="1198946"/>
                </a:lnTo>
                <a:lnTo>
                  <a:pt x="634365" y="1201183"/>
                </a:lnTo>
                <a:lnTo>
                  <a:pt x="633412" y="1202142"/>
                </a:lnTo>
                <a:lnTo>
                  <a:pt x="633412" y="1236662"/>
                </a:lnTo>
                <a:lnTo>
                  <a:pt x="701675" y="1207576"/>
                </a:lnTo>
                <a:lnTo>
                  <a:pt x="701675" y="1192553"/>
                </a:lnTo>
                <a:lnTo>
                  <a:pt x="693103" y="1190635"/>
                </a:lnTo>
                <a:lnTo>
                  <a:pt x="685165" y="1189677"/>
                </a:lnTo>
                <a:lnTo>
                  <a:pt x="677862" y="1189037"/>
                </a:lnTo>
                <a:lnTo>
                  <a:pt x="671195" y="1189037"/>
                </a:lnTo>
                <a:close/>
                <a:moveTo>
                  <a:pt x="870744" y="992187"/>
                </a:moveTo>
                <a:lnTo>
                  <a:pt x="870744" y="993113"/>
                </a:lnTo>
                <a:lnTo>
                  <a:pt x="870744" y="993422"/>
                </a:lnTo>
                <a:lnTo>
                  <a:pt x="870744" y="1000831"/>
                </a:lnTo>
                <a:lnTo>
                  <a:pt x="870215" y="1001757"/>
                </a:lnTo>
                <a:lnTo>
                  <a:pt x="869950" y="1002683"/>
                </a:lnTo>
                <a:lnTo>
                  <a:pt x="874713" y="1003300"/>
                </a:lnTo>
                <a:lnTo>
                  <a:pt x="874449" y="1002683"/>
                </a:lnTo>
                <a:lnTo>
                  <a:pt x="873655" y="1001757"/>
                </a:lnTo>
                <a:lnTo>
                  <a:pt x="873655" y="994039"/>
                </a:lnTo>
                <a:lnTo>
                  <a:pt x="873655" y="992805"/>
                </a:lnTo>
                <a:lnTo>
                  <a:pt x="870744" y="992187"/>
                </a:lnTo>
                <a:close/>
                <a:moveTo>
                  <a:pt x="648448" y="992187"/>
                </a:moveTo>
                <a:lnTo>
                  <a:pt x="645366" y="992805"/>
                </a:lnTo>
                <a:lnTo>
                  <a:pt x="645366" y="994039"/>
                </a:lnTo>
                <a:lnTo>
                  <a:pt x="645366" y="1001757"/>
                </a:lnTo>
                <a:lnTo>
                  <a:pt x="644805" y="1002683"/>
                </a:lnTo>
                <a:lnTo>
                  <a:pt x="644525" y="1003300"/>
                </a:lnTo>
                <a:lnTo>
                  <a:pt x="649288" y="1002683"/>
                </a:lnTo>
                <a:lnTo>
                  <a:pt x="649008" y="1001757"/>
                </a:lnTo>
                <a:lnTo>
                  <a:pt x="648448" y="1000831"/>
                </a:lnTo>
                <a:lnTo>
                  <a:pt x="648448" y="993422"/>
                </a:lnTo>
                <a:lnTo>
                  <a:pt x="648448" y="992187"/>
                </a:lnTo>
                <a:close/>
                <a:moveTo>
                  <a:pt x="862806" y="990600"/>
                </a:moveTo>
                <a:lnTo>
                  <a:pt x="862806" y="991603"/>
                </a:lnTo>
                <a:lnTo>
                  <a:pt x="862806" y="992271"/>
                </a:lnTo>
                <a:lnTo>
                  <a:pt x="862806" y="1000292"/>
                </a:lnTo>
                <a:lnTo>
                  <a:pt x="862541" y="1000961"/>
                </a:lnTo>
                <a:lnTo>
                  <a:pt x="862012" y="1002632"/>
                </a:lnTo>
                <a:lnTo>
                  <a:pt x="866775" y="1003300"/>
                </a:lnTo>
                <a:lnTo>
                  <a:pt x="866511" y="1002298"/>
                </a:lnTo>
                <a:lnTo>
                  <a:pt x="865717" y="1001295"/>
                </a:lnTo>
                <a:lnTo>
                  <a:pt x="865717" y="993274"/>
                </a:lnTo>
                <a:lnTo>
                  <a:pt x="865717" y="992606"/>
                </a:lnTo>
                <a:lnTo>
                  <a:pt x="865981" y="991269"/>
                </a:lnTo>
                <a:lnTo>
                  <a:pt x="862806" y="990600"/>
                </a:lnTo>
                <a:close/>
                <a:moveTo>
                  <a:pt x="855486" y="990600"/>
                </a:moveTo>
                <a:lnTo>
                  <a:pt x="855486" y="991577"/>
                </a:lnTo>
                <a:lnTo>
                  <a:pt x="855486" y="999718"/>
                </a:lnTo>
                <a:lnTo>
                  <a:pt x="854781" y="1000369"/>
                </a:lnTo>
                <a:lnTo>
                  <a:pt x="854428" y="1001346"/>
                </a:lnTo>
                <a:lnTo>
                  <a:pt x="854075" y="1002323"/>
                </a:lnTo>
                <a:lnTo>
                  <a:pt x="860425" y="1003300"/>
                </a:lnTo>
                <a:lnTo>
                  <a:pt x="859720" y="1001672"/>
                </a:lnTo>
                <a:lnTo>
                  <a:pt x="859014" y="1001021"/>
                </a:lnTo>
                <a:lnTo>
                  <a:pt x="859014" y="993205"/>
                </a:lnTo>
                <a:lnTo>
                  <a:pt x="859014" y="992554"/>
                </a:lnTo>
                <a:lnTo>
                  <a:pt x="859367" y="991252"/>
                </a:lnTo>
                <a:lnTo>
                  <a:pt x="855486" y="990600"/>
                </a:lnTo>
                <a:close/>
                <a:moveTo>
                  <a:pt x="664042" y="990600"/>
                </a:moveTo>
                <a:lnTo>
                  <a:pt x="660960" y="991252"/>
                </a:lnTo>
                <a:lnTo>
                  <a:pt x="661241" y="992554"/>
                </a:lnTo>
                <a:lnTo>
                  <a:pt x="661241" y="993205"/>
                </a:lnTo>
                <a:lnTo>
                  <a:pt x="661241" y="1001021"/>
                </a:lnTo>
                <a:lnTo>
                  <a:pt x="660680" y="1001672"/>
                </a:lnTo>
                <a:lnTo>
                  <a:pt x="660400" y="1003300"/>
                </a:lnTo>
                <a:lnTo>
                  <a:pt x="665163" y="1002323"/>
                </a:lnTo>
                <a:lnTo>
                  <a:pt x="664883" y="1001346"/>
                </a:lnTo>
                <a:lnTo>
                  <a:pt x="664603" y="1000369"/>
                </a:lnTo>
                <a:lnTo>
                  <a:pt x="664042" y="999718"/>
                </a:lnTo>
                <a:lnTo>
                  <a:pt x="664042" y="991577"/>
                </a:lnTo>
                <a:lnTo>
                  <a:pt x="664042" y="990600"/>
                </a:lnTo>
                <a:close/>
                <a:moveTo>
                  <a:pt x="656385" y="990600"/>
                </a:moveTo>
                <a:lnTo>
                  <a:pt x="653022" y="991269"/>
                </a:lnTo>
                <a:lnTo>
                  <a:pt x="653303" y="992606"/>
                </a:lnTo>
                <a:lnTo>
                  <a:pt x="653303" y="993274"/>
                </a:lnTo>
                <a:lnTo>
                  <a:pt x="653303" y="1001295"/>
                </a:lnTo>
                <a:lnTo>
                  <a:pt x="652742" y="1002298"/>
                </a:lnTo>
                <a:lnTo>
                  <a:pt x="652462" y="1003300"/>
                </a:lnTo>
                <a:lnTo>
                  <a:pt x="657225" y="1002632"/>
                </a:lnTo>
                <a:lnTo>
                  <a:pt x="656665" y="1000961"/>
                </a:lnTo>
                <a:lnTo>
                  <a:pt x="656385" y="1000292"/>
                </a:lnTo>
                <a:lnTo>
                  <a:pt x="656385" y="992271"/>
                </a:lnTo>
                <a:lnTo>
                  <a:pt x="656385" y="991603"/>
                </a:lnTo>
                <a:lnTo>
                  <a:pt x="656385" y="990600"/>
                </a:lnTo>
                <a:close/>
                <a:moveTo>
                  <a:pt x="847474" y="989012"/>
                </a:moveTo>
                <a:lnTo>
                  <a:pt x="847474" y="990015"/>
                </a:lnTo>
                <a:lnTo>
                  <a:pt x="847474" y="998036"/>
                </a:lnTo>
                <a:lnTo>
                  <a:pt x="846806" y="999039"/>
                </a:lnTo>
                <a:lnTo>
                  <a:pt x="846471" y="1000041"/>
                </a:lnTo>
                <a:lnTo>
                  <a:pt x="846137" y="1001044"/>
                </a:lnTo>
                <a:lnTo>
                  <a:pt x="852487" y="1001712"/>
                </a:lnTo>
                <a:lnTo>
                  <a:pt x="852487" y="1001044"/>
                </a:lnTo>
                <a:lnTo>
                  <a:pt x="851819" y="1000041"/>
                </a:lnTo>
                <a:lnTo>
                  <a:pt x="851484" y="999373"/>
                </a:lnTo>
                <a:lnTo>
                  <a:pt x="851484" y="991018"/>
                </a:lnTo>
                <a:lnTo>
                  <a:pt x="851484" y="990683"/>
                </a:lnTo>
                <a:lnTo>
                  <a:pt x="851484" y="989681"/>
                </a:lnTo>
                <a:lnTo>
                  <a:pt x="847474" y="989012"/>
                </a:lnTo>
                <a:close/>
                <a:moveTo>
                  <a:pt x="839537" y="989012"/>
                </a:moveTo>
                <a:lnTo>
                  <a:pt x="839537" y="989305"/>
                </a:lnTo>
                <a:lnTo>
                  <a:pt x="839537" y="996323"/>
                </a:lnTo>
                <a:lnTo>
                  <a:pt x="838869" y="997201"/>
                </a:lnTo>
                <a:lnTo>
                  <a:pt x="838534" y="998371"/>
                </a:lnTo>
                <a:lnTo>
                  <a:pt x="838200" y="999540"/>
                </a:lnTo>
                <a:lnTo>
                  <a:pt x="844550" y="1000125"/>
                </a:lnTo>
                <a:lnTo>
                  <a:pt x="844550" y="999248"/>
                </a:lnTo>
                <a:lnTo>
                  <a:pt x="843882" y="998371"/>
                </a:lnTo>
                <a:lnTo>
                  <a:pt x="843547" y="997493"/>
                </a:lnTo>
                <a:lnTo>
                  <a:pt x="843547" y="990474"/>
                </a:lnTo>
                <a:lnTo>
                  <a:pt x="843547" y="989305"/>
                </a:lnTo>
                <a:lnTo>
                  <a:pt x="839537" y="989012"/>
                </a:lnTo>
                <a:close/>
                <a:moveTo>
                  <a:pt x="679767" y="989012"/>
                </a:moveTo>
                <a:lnTo>
                  <a:pt x="675640" y="989305"/>
                </a:lnTo>
                <a:lnTo>
                  <a:pt x="675640" y="990474"/>
                </a:lnTo>
                <a:lnTo>
                  <a:pt x="675640" y="997493"/>
                </a:lnTo>
                <a:lnTo>
                  <a:pt x="675322" y="998371"/>
                </a:lnTo>
                <a:lnTo>
                  <a:pt x="674687" y="999248"/>
                </a:lnTo>
                <a:lnTo>
                  <a:pt x="674687" y="1000125"/>
                </a:lnTo>
                <a:lnTo>
                  <a:pt x="681037" y="999540"/>
                </a:lnTo>
                <a:lnTo>
                  <a:pt x="680720" y="998371"/>
                </a:lnTo>
                <a:lnTo>
                  <a:pt x="680402" y="997201"/>
                </a:lnTo>
                <a:lnTo>
                  <a:pt x="679767" y="996323"/>
                </a:lnTo>
                <a:lnTo>
                  <a:pt x="679767" y="989305"/>
                </a:lnTo>
                <a:lnTo>
                  <a:pt x="679767" y="989012"/>
                </a:lnTo>
                <a:close/>
                <a:moveTo>
                  <a:pt x="671513" y="989012"/>
                </a:moveTo>
                <a:lnTo>
                  <a:pt x="667703" y="989681"/>
                </a:lnTo>
                <a:lnTo>
                  <a:pt x="667703" y="990683"/>
                </a:lnTo>
                <a:lnTo>
                  <a:pt x="667703" y="991018"/>
                </a:lnTo>
                <a:lnTo>
                  <a:pt x="667703" y="999373"/>
                </a:lnTo>
                <a:lnTo>
                  <a:pt x="667385" y="1000041"/>
                </a:lnTo>
                <a:lnTo>
                  <a:pt x="666750" y="1001044"/>
                </a:lnTo>
                <a:lnTo>
                  <a:pt x="666750" y="1001712"/>
                </a:lnTo>
                <a:lnTo>
                  <a:pt x="673100" y="1001044"/>
                </a:lnTo>
                <a:lnTo>
                  <a:pt x="672783" y="1000041"/>
                </a:lnTo>
                <a:lnTo>
                  <a:pt x="672148" y="999039"/>
                </a:lnTo>
                <a:lnTo>
                  <a:pt x="671513" y="998036"/>
                </a:lnTo>
                <a:lnTo>
                  <a:pt x="671513" y="990015"/>
                </a:lnTo>
                <a:lnTo>
                  <a:pt x="671513" y="989012"/>
                </a:lnTo>
                <a:close/>
                <a:moveTo>
                  <a:pt x="831705" y="987425"/>
                </a:moveTo>
                <a:lnTo>
                  <a:pt x="831705" y="988060"/>
                </a:lnTo>
                <a:lnTo>
                  <a:pt x="831705" y="995680"/>
                </a:lnTo>
                <a:lnTo>
                  <a:pt x="831128" y="996633"/>
                </a:lnTo>
                <a:lnTo>
                  <a:pt x="830551" y="997903"/>
                </a:lnTo>
                <a:lnTo>
                  <a:pt x="830262" y="999490"/>
                </a:lnTo>
                <a:lnTo>
                  <a:pt x="836612" y="1000125"/>
                </a:lnTo>
                <a:lnTo>
                  <a:pt x="836323" y="998855"/>
                </a:lnTo>
                <a:lnTo>
                  <a:pt x="836035" y="997585"/>
                </a:lnTo>
                <a:lnTo>
                  <a:pt x="835458" y="996633"/>
                </a:lnTo>
                <a:lnTo>
                  <a:pt x="835458" y="989013"/>
                </a:lnTo>
                <a:lnTo>
                  <a:pt x="835458" y="988060"/>
                </a:lnTo>
                <a:lnTo>
                  <a:pt x="831705" y="987425"/>
                </a:lnTo>
                <a:close/>
                <a:moveTo>
                  <a:pt x="823595" y="987425"/>
                </a:moveTo>
                <a:lnTo>
                  <a:pt x="823595" y="987995"/>
                </a:lnTo>
                <a:lnTo>
                  <a:pt x="823595" y="995119"/>
                </a:lnTo>
                <a:lnTo>
                  <a:pt x="822960" y="995689"/>
                </a:lnTo>
                <a:lnTo>
                  <a:pt x="822643" y="996829"/>
                </a:lnTo>
                <a:lnTo>
                  <a:pt x="822325" y="997968"/>
                </a:lnTo>
                <a:lnTo>
                  <a:pt x="828675" y="998538"/>
                </a:lnTo>
                <a:lnTo>
                  <a:pt x="828358" y="997398"/>
                </a:lnTo>
                <a:lnTo>
                  <a:pt x="828040" y="996259"/>
                </a:lnTo>
                <a:lnTo>
                  <a:pt x="827405" y="995404"/>
                </a:lnTo>
                <a:lnTo>
                  <a:pt x="827405" y="988565"/>
                </a:lnTo>
                <a:lnTo>
                  <a:pt x="827405" y="987710"/>
                </a:lnTo>
                <a:lnTo>
                  <a:pt x="823595" y="987425"/>
                </a:lnTo>
                <a:close/>
                <a:moveTo>
                  <a:pt x="695642" y="987425"/>
                </a:moveTo>
                <a:lnTo>
                  <a:pt x="691832" y="987710"/>
                </a:lnTo>
                <a:lnTo>
                  <a:pt x="691832" y="988565"/>
                </a:lnTo>
                <a:lnTo>
                  <a:pt x="691832" y="995404"/>
                </a:lnTo>
                <a:lnTo>
                  <a:pt x="691197" y="996259"/>
                </a:lnTo>
                <a:lnTo>
                  <a:pt x="690880" y="997398"/>
                </a:lnTo>
                <a:lnTo>
                  <a:pt x="690562" y="998538"/>
                </a:lnTo>
                <a:lnTo>
                  <a:pt x="696912" y="997968"/>
                </a:lnTo>
                <a:lnTo>
                  <a:pt x="696595" y="996829"/>
                </a:lnTo>
                <a:lnTo>
                  <a:pt x="696277" y="995689"/>
                </a:lnTo>
                <a:lnTo>
                  <a:pt x="695642" y="995119"/>
                </a:lnTo>
                <a:lnTo>
                  <a:pt x="695642" y="987995"/>
                </a:lnTo>
                <a:lnTo>
                  <a:pt x="695642" y="987425"/>
                </a:lnTo>
                <a:close/>
                <a:moveTo>
                  <a:pt x="687821" y="987425"/>
                </a:moveTo>
                <a:lnTo>
                  <a:pt x="683780" y="988060"/>
                </a:lnTo>
                <a:lnTo>
                  <a:pt x="683780" y="989013"/>
                </a:lnTo>
                <a:lnTo>
                  <a:pt x="683780" y="996633"/>
                </a:lnTo>
                <a:lnTo>
                  <a:pt x="683202" y="997585"/>
                </a:lnTo>
                <a:lnTo>
                  <a:pt x="682914" y="998855"/>
                </a:lnTo>
                <a:lnTo>
                  <a:pt x="682625" y="1000125"/>
                </a:lnTo>
                <a:lnTo>
                  <a:pt x="688975" y="999490"/>
                </a:lnTo>
                <a:lnTo>
                  <a:pt x="688686" y="997903"/>
                </a:lnTo>
                <a:lnTo>
                  <a:pt x="688109" y="996633"/>
                </a:lnTo>
                <a:lnTo>
                  <a:pt x="687821" y="995680"/>
                </a:lnTo>
                <a:lnTo>
                  <a:pt x="687821" y="988060"/>
                </a:lnTo>
                <a:lnTo>
                  <a:pt x="687821" y="987425"/>
                </a:lnTo>
                <a:close/>
                <a:moveTo>
                  <a:pt x="984885" y="925512"/>
                </a:moveTo>
                <a:lnTo>
                  <a:pt x="983297" y="926147"/>
                </a:lnTo>
                <a:lnTo>
                  <a:pt x="981710" y="926782"/>
                </a:lnTo>
                <a:lnTo>
                  <a:pt x="980440" y="927735"/>
                </a:lnTo>
                <a:lnTo>
                  <a:pt x="979487" y="928687"/>
                </a:lnTo>
                <a:lnTo>
                  <a:pt x="977900" y="931227"/>
                </a:lnTo>
                <a:lnTo>
                  <a:pt x="976947" y="933450"/>
                </a:lnTo>
                <a:lnTo>
                  <a:pt x="976312" y="935672"/>
                </a:lnTo>
                <a:lnTo>
                  <a:pt x="981392" y="939165"/>
                </a:lnTo>
                <a:lnTo>
                  <a:pt x="981392" y="943292"/>
                </a:lnTo>
                <a:lnTo>
                  <a:pt x="978217" y="945197"/>
                </a:lnTo>
                <a:lnTo>
                  <a:pt x="979170" y="946785"/>
                </a:lnTo>
                <a:lnTo>
                  <a:pt x="979805" y="948372"/>
                </a:lnTo>
                <a:lnTo>
                  <a:pt x="980440" y="950277"/>
                </a:lnTo>
                <a:lnTo>
                  <a:pt x="980757" y="952500"/>
                </a:lnTo>
                <a:lnTo>
                  <a:pt x="981075" y="956310"/>
                </a:lnTo>
                <a:lnTo>
                  <a:pt x="980757" y="960755"/>
                </a:lnTo>
                <a:lnTo>
                  <a:pt x="980440" y="964248"/>
                </a:lnTo>
                <a:lnTo>
                  <a:pt x="980122" y="967423"/>
                </a:lnTo>
                <a:lnTo>
                  <a:pt x="979487" y="969963"/>
                </a:lnTo>
                <a:lnTo>
                  <a:pt x="1006475" y="977900"/>
                </a:lnTo>
                <a:lnTo>
                  <a:pt x="1006475" y="969645"/>
                </a:lnTo>
                <a:lnTo>
                  <a:pt x="1003618" y="967105"/>
                </a:lnTo>
                <a:lnTo>
                  <a:pt x="1003618" y="964565"/>
                </a:lnTo>
                <a:lnTo>
                  <a:pt x="1006475" y="962343"/>
                </a:lnTo>
                <a:lnTo>
                  <a:pt x="1006158" y="957263"/>
                </a:lnTo>
                <a:lnTo>
                  <a:pt x="1005840" y="952818"/>
                </a:lnTo>
                <a:lnTo>
                  <a:pt x="1005205" y="948690"/>
                </a:lnTo>
                <a:lnTo>
                  <a:pt x="1004253" y="945197"/>
                </a:lnTo>
                <a:lnTo>
                  <a:pt x="1002983" y="941705"/>
                </a:lnTo>
                <a:lnTo>
                  <a:pt x="1002030" y="939165"/>
                </a:lnTo>
                <a:lnTo>
                  <a:pt x="1000760" y="936307"/>
                </a:lnTo>
                <a:lnTo>
                  <a:pt x="999808" y="934402"/>
                </a:lnTo>
                <a:lnTo>
                  <a:pt x="997585" y="931227"/>
                </a:lnTo>
                <a:lnTo>
                  <a:pt x="995045" y="928687"/>
                </a:lnTo>
                <a:lnTo>
                  <a:pt x="993775" y="927735"/>
                </a:lnTo>
                <a:lnTo>
                  <a:pt x="993140" y="927417"/>
                </a:lnTo>
                <a:lnTo>
                  <a:pt x="990917" y="926147"/>
                </a:lnTo>
                <a:lnTo>
                  <a:pt x="988377" y="925512"/>
                </a:lnTo>
                <a:lnTo>
                  <a:pt x="986472" y="925512"/>
                </a:lnTo>
                <a:lnTo>
                  <a:pt x="984885" y="925512"/>
                </a:lnTo>
                <a:close/>
                <a:moveTo>
                  <a:pt x="531614" y="925512"/>
                </a:moveTo>
                <a:lnTo>
                  <a:pt x="529299" y="926147"/>
                </a:lnTo>
                <a:lnTo>
                  <a:pt x="526653" y="927417"/>
                </a:lnTo>
                <a:lnTo>
                  <a:pt x="525991" y="927735"/>
                </a:lnTo>
                <a:lnTo>
                  <a:pt x="524668" y="928687"/>
                </a:lnTo>
                <a:lnTo>
                  <a:pt x="522353" y="931227"/>
                </a:lnTo>
                <a:lnTo>
                  <a:pt x="519707" y="934402"/>
                </a:lnTo>
                <a:lnTo>
                  <a:pt x="518385" y="936307"/>
                </a:lnTo>
                <a:lnTo>
                  <a:pt x="517392" y="939165"/>
                </a:lnTo>
                <a:lnTo>
                  <a:pt x="516400" y="941705"/>
                </a:lnTo>
                <a:lnTo>
                  <a:pt x="515408" y="945197"/>
                </a:lnTo>
                <a:lnTo>
                  <a:pt x="514416" y="948690"/>
                </a:lnTo>
                <a:lnTo>
                  <a:pt x="513424" y="952818"/>
                </a:lnTo>
                <a:lnTo>
                  <a:pt x="513093" y="957263"/>
                </a:lnTo>
                <a:lnTo>
                  <a:pt x="512762" y="962343"/>
                </a:lnTo>
                <a:lnTo>
                  <a:pt x="515739" y="964565"/>
                </a:lnTo>
                <a:lnTo>
                  <a:pt x="515739" y="967105"/>
                </a:lnTo>
                <a:lnTo>
                  <a:pt x="512762" y="969645"/>
                </a:lnTo>
                <a:lnTo>
                  <a:pt x="512762" y="977900"/>
                </a:lnTo>
                <a:lnTo>
                  <a:pt x="540874" y="969963"/>
                </a:lnTo>
                <a:lnTo>
                  <a:pt x="540213" y="967423"/>
                </a:lnTo>
                <a:lnTo>
                  <a:pt x="539882" y="964248"/>
                </a:lnTo>
                <a:lnTo>
                  <a:pt x="539551" y="960755"/>
                </a:lnTo>
                <a:lnTo>
                  <a:pt x="539220" y="956310"/>
                </a:lnTo>
                <a:lnTo>
                  <a:pt x="539551" y="952500"/>
                </a:lnTo>
                <a:lnTo>
                  <a:pt x="539882" y="950277"/>
                </a:lnTo>
                <a:lnTo>
                  <a:pt x="540543" y="948372"/>
                </a:lnTo>
                <a:lnTo>
                  <a:pt x="541205" y="946785"/>
                </a:lnTo>
                <a:lnTo>
                  <a:pt x="542197" y="945197"/>
                </a:lnTo>
                <a:lnTo>
                  <a:pt x="538890" y="943292"/>
                </a:lnTo>
                <a:lnTo>
                  <a:pt x="538890" y="939165"/>
                </a:lnTo>
                <a:lnTo>
                  <a:pt x="544512" y="935672"/>
                </a:lnTo>
                <a:lnTo>
                  <a:pt x="543520" y="933450"/>
                </a:lnTo>
                <a:lnTo>
                  <a:pt x="542528" y="931227"/>
                </a:lnTo>
                <a:lnTo>
                  <a:pt x="540874" y="928687"/>
                </a:lnTo>
                <a:lnTo>
                  <a:pt x="539882" y="927735"/>
                </a:lnTo>
                <a:lnTo>
                  <a:pt x="538559" y="926782"/>
                </a:lnTo>
                <a:lnTo>
                  <a:pt x="537236" y="926147"/>
                </a:lnTo>
                <a:lnTo>
                  <a:pt x="535252" y="925512"/>
                </a:lnTo>
                <a:lnTo>
                  <a:pt x="533598" y="925512"/>
                </a:lnTo>
                <a:lnTo>
                  <a:pt x="531614" y="925512"/>
                </a:lnTo>
                <a:close/>
                <a:moveTo>
                  <a:pt x="844658" y="874712"/>
                </a:moveTo>
                <a:lnTo>
                  <a:pt x="841429" y="875029"/>
                </a:lnTo>
                <a:lnTo>
                  <a:pt x="837877" y="875662"/>
                </a:lnTo>
                <a:lnTo>
                  <a:pt x="833680" y="876928"/>
                </a:lnTo>
                <a:lnTo>
                  <a:pt x="831420" y="877878"/>
                </a:lnTo>
                <a:lnTo>
                  <a:pt x="829159" y="878827"/>
                </a:lnTo>
                <a:lnTo>
                  <a:pt x="827222" y="880410"/>
                </a:lnTo>
                <a:lnTo>
                  <a:pt x="825285" y="881992"/>
                </a:lnTo>
                <a:lnTo>
                  <a:pt x="823993" y="883892"/>
                </a:lnTo>
                <a:lnTo>
                  <a:pt x="822379" y="886107"/>
                </a:lnTo>
                <a:lnTo>
                  <a:pt x="821410" y="888956"/>
                </a:lnTo>
                <a:lnTo>
                  <a:pt x="820765" y="892121"/>
                </a:lnTo>
                <a:lnTo>
                  <a:pt x="824962" y="892121"/>
                </a:lnTo>
                <a:lnTo>
                  <a:pt x="823993" y="897819"/>
                </a:lnTo>
                <a:lnTo>
                  <a:pt x="822379" y="900668"/>
                </a:lnTo>
                <a:lnTo>
                  <a:pt x="821087" y="903516"/>
                </a:lnTo>
                <a:lnTo>
                  <a:pt x="820119" y="904782"/>
                </a:lnTo>
                <a:lnTo>
                  <a:pt x="819150" y="905732"/>
                </a:lnTo>
                <a:lnTo>
                  <a:pt x="819796" y="971253"/>
                </a:lnTo>
                <a:lnTo>
                  <a:pt x="839492" y="973152"/>
                </a:lnTo>
                <a:lnTo>
                  <a:pt x="855313" y="975051"/>
                </a:lnTo>
                <a:lnTo>
                  <a:pt x="867582" y="976634"/>
                </a:lnTo>
                <a:lnTo>
                  <a:pt x="875977" y="977900"/>
                </a:lnTo>
                <a:lnTo>
                  <a:pt x="876300" y="919343"/>
                </a:lnTo>
                <a:lnTo>
                  <a:pt x="873394" y="913645"/>
                </a:lnTo>
                <a:lnTo>
                  <a:pt x="871780" y="909530"/>
                </a:lnTo>
                <a:lnTo>
                  <a:pt x="875654" y="902567"/>
                </a:lnTo>
                <a:lnTo>
                  <a:pt x="875654" y="901301"/>
                </a:lnTo>
                <a:lnTo>
                  <a:pt x="874686" y="897819"/>
                </a:lnTo>
                <a:lnTo>
                  <a:pt x="872748" y="893071"/>
                </a:lnTo>
                <a:lnTo>
                  <a:pt x="871457" y="890539"/>
                </a:lnTo>
                <a:lnTo>
                  <a:pt x="870165" y="888006"/>
                </a:lnTo>
                <a:lnTo>
                  <a:pt x="868551" y="885158"/>
                </a:lnTo>
                <a:lnTo>
                  <a:pt x="865968" y="882625"/>
                </a:lnTo>
                <a:lnTo>
                  <a:pt x="863708" y="880410"/>
                </a:lnTo>
                <a:lnTo>
                  <a:pt x="860802" y="878194"/>
                </a:lnTo>
                <a:lnTo>
                  <a:pt x="857573" y="876611"/>
                </a:lnTo>
                <a:lnTo>
                  <a:pt x="854021" y="875345"/>
                </a:lnTo>
                <a:lnTo>
                  <a:pt x="849501" y="874712"/>
                </a:lnTo>
                <a:lnTo>
                  <a:pt x="844658" y="874712"/>
                </a:lnTo>
                <a:close/>
                <a:moveTo>
                  <a:pt x="669736" y="874712"/>
                </a:moveTo>
                <a:lnTo>
                  <a:pt x="665216" y="875345"/>
                </a:lnTo>
                <a:lnTo>
                  <a:pt x="661664" y="876611"/>
                </a:lnTo>
                <a:lnTo>
                  <a:pt x="658758" y="878194"/>
                </a:lnTo>
                <a:lnTo>
                  <a:pt x="655529" y="880410"/>
                </a:lnTo>
                <a:lnTo>
                  <a:pt x="653269" y="882625"/>
                </a:lnTo>
                <a:lnTo>
                  <a:pt x="650686" y="885158"/>
                </a:lnTo>
                <a:lnTo>
                  <a:pt x="649072" y="888006"/>
                </a:lnTo>
                <a:lnTo>
                  <a:pt x="647780" y="890539"/>
                </a:lnTo>
                <a:lnTo>
                  <a:pt x="646489" y="893071"/>
                </a:lnTo>
                <a:lnTo>
                  <a:pt x="644874" y="897819"/>
                </a:lnTo>
                <a:lnTo>
                  <a:pt x="643906" y="901301"/>
                </a:lnTo>
                <a:lnTo>
                  <a:pt x="643906" y="902567"/>
                </a:lnTo>
                <a:lnTo>
                  <a:pt x="647780" y="909530"/>
                </a:lnTo>
                <a:lnTo>
                  <a:pt x="645520" y="913645"/>
                </a:lnTo>
                <a:lnTo>
                  <a:pt x="642937" y="919343"/>
                </a:lnTo>
                <a:lnTo>
                  <a:pt x="643260" y="977900"/>
                </a:lnTo>
                <a:lnTo>
                  <a:pt x="651978" y="976634"/>
                </a:lnTo>
                <a:lnTo>
                  <a:pt x="663924" y="975051"/>
                </a:lnTo>
                <a:lnTo>
                  <a:pt x="679746" y="973152"/>
                </a:lnTo>
                <a:lnTo>
                  <a:pt x="699441" y="971253"/>
                </a:lnTo>
                <a:lnTo>
                  <a:pt x="700087" y="905732"/>
                </a:lnTo>
                <a:lnTo>
                  <a:pt x="699118" y="904782"/>
                </a:lnTo>
                <a:lnTo>
                  <a:pt x="698150" y="903516"/>
                </a:lnTo>
                <a:lnTo>
                  <a:pt x="696858" y="900668"/>
                </a:lnTo>
                <a:lnTo>
                  <a:pt x="695567" y="897819"/>
                </a:lnTo>
                <a:lnTo>
                  <a:pt x="694275" y="892121"/>
                </a:lnTo>
                <a:lnTo>
                  <a:pt x="698473" y="892121"/>
                </a:lnTo>
                <a:lnTo>
                  <a:pt x="697827" y="888956"/>
                </a:lnTo>
                <a:lnTo>
                  <a:pt x="696858" y="886107"/>
                </a:lnTo>
                <a:lnTo>
                  <a:pt x="695567" y="883892"/>
                </a:lnTo>
                <a:lnTo>
                  <a:pt x="693952" y="881992"/>
                </a:lnTo>
                <a:lnTo>
                  <a:pt x="692015" y="880410"/>
                </a:lnTo>
                <a:lnTo>
                  <a:pt x="690078" y="878827"/>
                </a:lnTo>
                <a:lnTo>
                  <a:pt x="688141" y="877878"/>
                </a:lnTo>
                <a:lnTo>
                  <a:pt x="685557" y="876928"/>
                </a:lnTo>
                <a:lnTo>
                  <a:pt x="681683" y="875662"/>
                </a:lnTo>
                <a:lnTo>
                  <a:pt x="677808" y="875029"/>
                </a:lnTo>
                <a:lnTo>
                  <a:pt x="674579" y="874712"/>
                </a:lnTo>
                <a:lnTo>
                  <a:pt x="669736" y="874712"/>
                </a:lnTo>
                <a:close/>
                <a:moveTo>
                  <a:pt x="820737" y="414337"/>
                </a:moveTo>
                <a:lnTo>
                  <a:pt x="820737" y="416233"/>
                </a:lnTo>
                <a:lnTo>
                  <a:pt x="823971" y="416233"/>
                </a:lnTo>
                <a:lnTo>
                  <a:pt x="823971" y="420656"/>
                </a:lnTo>
                <a:lnTo>
                  <a:pt x="823383" y="421919"/>
                </a:lnTo>
                <a:lnTo>
                  <a:pt x="822795" y="422551"/>
                </a:lnTo>
                <a:lnTo>
                  <a:pt x="821913" y="423815"/>
                </a:lnTo>
                <a:lnTo>
                  <a:pt x="821031" y="424447"/>
                </a:lnTo>
                <a:lnTo>
                  <a:pt x="820737" y="424763"/>
                </a:lnTo>
                <a:lnTo>
                  <a:pt x="820737" y="472783"/>
                </a:lnTo>
                <a:lnTo>
                  <a:pt x="823383" y="474362"/>
                </a:lnTo>
                <a:lnTo>
                  <a:pt x="826323" y="475942"/>
                </a:lnTo>
                <a:lnTo>
                  <a:pt x="828675" y="477837"/>
                </a:lnTo>
                <a:lnTo>
                  <a:pt x="828675" y="424763"/>
                </a:lnTo>
                <a:lnTo>
                  <a:pt x="828087" y="424447"/>
                </a:lnTo>
                <a:lnTo>
                  <a:pt x="827499" y="423815"/>
                </a:lnTo>
                <a:lnTo>
                  <a:pt x="826911" y="422551"/>
                </a:lnTo>
                <a:lnTo>
                  <a:pt x="826911" y="421287"/>
                </a:lnTo>
                <a:lnTo>
                  <a:pt x="826911" y="420972"/>
                </a:lnTo>
                <a:lnTo>
                  <a:pt x="826323" y="420340"/>
                </a:lnTo>
                <a:lnTo>
                  <a:pt x="825735" y="419392"/>
                </a:lnTo>
                <a:lnTo>
                  <a:pt x="825441" y="416865"/>
                </a:lnTo>
                <a:lnTo>
                  <a:pt x="825441" y="415285"/>
                </a:lnTo>
                <a:lnTo>
                  <a:pt x="825441" y="414337"/>
                </a:lnTo>
                <a:lnTo>
                  <a:pt x="820737" y="414337"/>
                </a:lnTo>
                <a:close/>
                <a:moveTo>
                  <a:pt x="693796" y="414337"/>
                </a:moveTo>
                <a:lnTo>
                  <a:pt x="693796" y="415285"/>
                </a:lnTo>
                <a:lnTo>
                  <a:pt x="693796" y="416865"/>
                </a:lnTo>
                <a:lnTo>
                  <a:pt x="693502" y="419392"/>
                </a:lnTo>
                <a:lnTo>
                  <a:pt x="692914" y="420340"/>
                </a:lnTo>
                <a:lnTo>
                  <a:pt x="692326" y="420972"/>
                </a:lnTo>
                <a:lnTo>
                  <a:pt x="692326" y="421287"/>
                </a:lnTo>
                <a:lnTo>
                  <a:pt x="692326" y="422551"/>
                </a:lnTo>
                <a:lnTo>
                  <a:pt x="691738" y="423815"/>
                </a:lnTo>
                <a:lnTo>
                  <a:pt x="691150" y="424447"/>
                </a:lnTo>
                <a:lnTo>
                  <a:pt x="690562" y="424763"/>
                </a:lnTo>
                <a:lnTo>
                  <a:pt x="690562" y="477837"/>
                </a:lnTo>
                <a:lnTo>
                  <a:pt x="692914" y="475942"/>
                </a:lnTo>
                <a:lnTo>
                  <a:pt x="695560" y="474362"/>
                </a:lnTo>
                <a:lnTo>
                  <a:pt x="698500" y="472783"/>
                </a:lnTo>
                <a:lnTo>
                  <a:pt x="698500" y="424763"/>
                </a:lnTo>
                <a:lnTo>
                  <a:pt x="698206" y="424447"/>
                </a:lnTo>
                <a:lnTo>
                  <a:pt x="697324" y="423815"/>
                </a:lnTo>
                <a:lnTo>
                  <a:pt x="696442" y="422551"/>
                </a:lnTo>
                <a:lnTo>
                  <a:pt x="695854" y="421919"/>
                </a:lnTo>
                <a:lnTo>
                  <a:pt x="695560" y="420656"/>
                </a:lnTo>
                <a:lnTo>
                  <a:pt x="695560" y="416233"/>
                </a:lnTo>
                <a:lnTo>
                  <a:pt x="698206" y="416233"/>
                </a:lnTo>
                <a:lnTo>
                  <a:pt x="698206" y="414337"/>
                </a:lnTo>
                <a:lnTo>
                  <a:pt x="693796" y="414337"/>
                </a:lnTo>
                <a:close/>
                <a:moveTo>
                  <a:pt x="788353" y="395287"/>
                </a:moveTo>
                <a:lnTo>
                  <a:pt x="786765" y="395603"/>
                </a:lnTo>
                <a:lnTo>
                  <a:pt x="785813" y="396235"/>
                </a:lnTo>
                <a:lnTo>
                  <a:pt x="784543" y="397184"/>
                </a:lnTo>
                <a:lnTo>
                  <a:pt x="783908" y="398764"/>
                </a:lnTo>
                <a:lnTo>
                  <a:pt x="782638" y="400976"/>
                </a:lnTo>
                <a:lnTo>
                  <a:pt x="781685" y="403189"/>
                </a:lnTo>
                <a:lnTo>
                  <a:pt x="781050" y="406033"/>
                </a:lnTo>
                <a:lnTo>
                  <a:pt x="783590" y="406982"/>
                </a:lnTo>
                <a:lnTo>
                  <a:pt x="781368" y="416463"/>
                </a:lnTo>
                <a:lnTo>
                  <a:pt x="781368" y="457236"/>
                </a:lnTo>
                <a:lnTo>
                  <a:pt x="785178" y="458500"/>
                </a:lnTo>
                <a:lnTo>
                  <a:pt x="785178" y="461028"/>
                </a:lnTo>
                <a:lnTo>
                  <a:pt x="794068" y="462609"/>
                </a:lnTo>
                <a:lnTo>
                  <a:pt x="800101" y="463873"/>
                </a:lnTo>
                <a:lnTo>
                  <a:pt x="803276" y="464821"/>
                </a:lnTo>
                <a:lnTo>
                  <a:pt x="804228" y="465137"/>
                </a:lnTo>
                <a:lnTo>
                  <a:pt x="803911" y="437008"/>
                </a:lnTo>
                <a:lnTo>
                  <a:pt x="802006" y="434163"/>
                </a:lnTo>
                <a:lnTo>
                  <a:pt x="802006" y="431951"/>
                </a:lnTo>
                <a:lnTo>
                  <a:pt x="804863" y="430054"/>
                </a:lnTo>
                <a:lnTo>
                  <a:pt x="804228" y="421204"/>
                </a:lnTo>
                <a:lnTo>
                  <a:pt x="802958" y="414251"/>
                </a:lnTo>
                <a:lnTo>
                  <a:pt x="801371" y="408562"/>
                </a:lnTo>
                <a:lnTo>
                  <a:pt x="799783" y="404137"/>
                </a:lnTo>
                <a:lnTo>
                  <a:pt x="798195" y="401292"/>
                </a:lnTo>
                <a:lnTo>
                  <a:pt x="796925" y="399396"/>
                </a:lnTo>
                <a:lnTo>
                  <a:pt x="795655" y="398132"/>
                </a:lnTo>
                <a:lnTo>
                  <a:pt x="793433" y="396552"/>
                </a:lnTo>
                <a:lnTo>
                  <a:pt x="791528" y="395603"/>
                </a:lnTo>
                <a:lnTo>
                  <a:pt x="789940" y="395287"/>
                </a:lnTo>
                <a:lnTo>
                  <a:pt x="788353" y="395287"/>
                </a:lnTo>
                <a:close/>
                <a:moveTo>
                  <a:pt x="729102" y="395287"/>
                </a:moveTo>
                <a:lnTo>
                  <a:pt x="727535" y="395603"/>
                </a:lnTo>
                <a:lnTo>
                  <a:pt x="725655" y="396552"/>
                </a:lnTo>
                <a:lnTo>
                  <a:pt x="723775" y="398132"/>
                </a:lnTo>
                <a:lnTo>
                  <a:pt x="722208" y="399396"/>
                </a:lnTo>
                <a:lnTo>
                  <a:pt x="720955" y="401292"/>
                </a:lnTo>
                <a:lnTo>
                  <a:pt x="719388" y="404137"/>
                </a:lnTo>
                <a:lnTo>
                  <a:pt x="717822" y="408562"/>
                </a:lnTo>
                <a:lnTo>
                  <a:pt x="716568" y="414251"/>
                </a:lnTo>
                <a:lnTo>
                  <a:pt x="715002" y="421204"/>
                </a:lnTo>
                <a:lnTo>
                  <a:pt x="714375" y="430054"/>
                </a:lnTo>
                <a:lnTo>
                  <a:pt x="717508" y="431951"/>
                </a:lnTo>
                <a:lnTo>
                  <a:pt x="717508" y="434163"/>
                </a:lnTo>
                <a:lnTo>
                  <a:pt x="715315" y="437008"/>
                </a:lnTo>
                <a:lnTo>
                  <a:pt x="715002" y="465137"/>
                </a:lnTo>
                <a:lnTo>
                  <a:pt x="716255" y="464821"/>
                </a:lnTo>
                <a:lnTo>
                  <a:pt x="719075" y="463873"/>
                </a:lnTo>
                <a:lnTo>
                  <a:pt x="725028" y="462609"/>
                </a:lnTo>
                <a:lnTo>
                  <a:pt x="733802" y="461028"/>
                </a:lnTo>
                <a:lnTo>
                  <a:pt x="733802" y="458500"/>
                </a:lnTo>
                <a:lnTo>
                  <a:pt x="737875" y="457236"/>
                </a:lnTo>
                <a:lnTo>
                  <a:pt x="737875" y="416463"/>
                </a:lnTo>
                <a:lnTo>
                  <a:pt x="735368" y="406982"/>
                </a:lnTo>
                <a:lnTo>
                  <a:pt x="738188" y="406033"/>
                </a:lnTo>
                <a:lnTo>
                  <a:pt x="737561" y="403189"/>
                </a:lnTo>
                <a:lnTo>
                  <a:pt x="736308" y="400976"/>
                </a:lnTo>
                <a:lnTo>
                  <a:pt x="735055" y="398764"/>
                </a:lnTo>
                <a:lnTo>
                  <a:pt x="734428" y="397184"/>
                </a:lnTo>
                <a:lnTo>
                  <a:pt x="733175" y="396235"/>
                </a:lnTo>
                <a:lnTo>
                  <a:pt x="732235" y="395603"/>
                </a:lnTo>
                <a:lnTo>
                  <a:pt x="730982" y="395287"/>
                </a:lnTo>
                <a:lnTo>
                  <a:pt x="729102" y="395287"/>
                </a:lnTo>
                <a:close/>
                <a:moveTo>
                  <a:pt x="759460" y="0"/>
                </a:moveTo>
                <a:lnTo>
                  <a:pt x="760095" y="0"/>
                </a:lnTo>
                <a:lnTo>
                  <a:pt x="760095" y="1270"/>
                </a:lnTo>
                <a:lnTo>
                  <a:pt x="760730" y="1588"/>
                </a:lnTo>
                <a:lnTo>
                  <a:pt x="761365" y="2223"/>
                </a:lnTo>
                <a:lnTo>
                  <a:pt x="761683" y="2858"/>
                </a:lnTo>
                <a:lnTo>
                  <a:pt x="761683" y="3493"/>
                </a:lnTo>
                <a:lnTo>
                  <a:pt x="761683" y="4128"/>
                </a:lnTo>
                <a:lnTo>
                  <a:pt x="761365" y="4763"/>
                </a:lnTo>
                <a:lnTo>
                  <a:pt x="760730" y="5398"/>
                </a:lnTo>
                <a:lnTo>
                  <a:pt x="760095" y="5398"/>
                </a:lnTo>
                <a:lnTo>
                  <a:pt x="760095" y="14289"/>
                </a:lnTo>
                <a:lnTo>
                  <a:pt x="761683" y="14289"/>
                </a:lnTo>
                <a:lnTo>
                  <a:pt x="761683" y="27626"/>
                </a:lnTo>
                <a:lnTo>
                  <a:pt x="777558" y="27626"/>
                </a:lnTo>
                <a:lnTo>
                  <a:pt x="777558" y="32072"/>
                </a:lnTo>
                <a:lnTo>
                  <a:pt x="761683" y="32072"/>
                </a:lnTo>
                <a:lnTo>
                  <a:pt x="761683" y="85102"/>
                </a:lnTo>
                <a:lnTo>
                  <a:pt x="766763" y="90183"/>
                </a:lnTo>
                <a:lnTo>
                  <a:pt x="769938" y="93358"/>
                </a:lnTo>
                <a:lnTo>
                  <a:pt x="772478" y="96851"/>
                </a:lnTo>
                <a:lnTo>
                  <a:pt x="774383" y="100027"/>
                </a:lnTo>
                <a:lnTo>
                  <a:pt x="775653" y="103202"/>
                </a:lnTo>
                <a:lnTo>
                  <a:pt x="776288" y="106060"/>
                </a:lnTo>
                <a:lnTo>
                  <a:pt x="776288" y="108601"/>
                </a:lnTo>
                <a:lnTo>
                  <a:pt x="776288" y="111458"/>
                </a:lnTo>
                <a:lnTo>
                  <a:pt x="775653" y="113681"/>
                </a:lnTo>
                <a:lnTo>
                  <a:pt x="775018" y="115587"/>
                </a:lnTo>
                <a:lnTo>
                  <a:pt x="774065" y="117809"/>
                </a:lnTo>
                <a:lnTo>
                  <a:pt x="771843" y="120667"/>
                </a:lnTo>
                <a:lnTo>
                  <a:pt x="770255" y="122573"/>
                </a:lnTo>
                <a:lnTo>
                  <a:pt x="769620" y="123208"/>
                </a:lnTo>
                <a:lnTo>
                  <a:pt x="768668" y="127018"/>
                </a:lnTo>
                <a:lnTo>
                  <a:pt x="786130" y="327707"/>
                </a:lnTo>
                <a:lnTo>
                  <a:pt x="798513" y="341362"/>
                </a:lnTo>
                <a:lnTo>
                  <a:pt x="798513" y="362002"/>
                </a:lnTo>
                <a:lnTo>
                  <a:pt x="803275" y="364542"/>
                </a:lnTo>
                <a:lnTo>
                  <a:pt x="807403" y="367718"/>
                </a:lnTo>
                <a:lnTo>
                  <a:pt x="811530" y="371211"/>
                </a:lnTo>
                <a:lnTo>
                  <a:pt x="815023" y="374704"/>
                </a:lnTo>
                <a:lnTo>
                  <a:pt x="820420" y="380420"/>
                </a:lnTo>
                <a:lnTo>
                  <a:pt x="822325" y="382643"/>
                </a:lnTo>
                <a:lnTo>
                  <a:pt x="823278" y="380737"/>
                </a:lnTo>
                <a:lnTo>
                  <a:pt x="824230" y="378514"/>
                </a:lnTo>
                <a:lnTo>
                  <a:pt x="824548" y="376292"/>
                </a:lnTo>
                <a:lnTo>
                  <a:pt x="824548" y="373434"/>
                </a:lnTo>
                <a:lnTo>
                  <a:pt x="824548" y="369306"/>
                </a:lnTo>
                <a:lnTo>
                  <a:pt x="824548" y="367400"/>
                </a:lnTo>
                <a:lnTo>
                  <a:pt x="824230" y="364860"/>
                </a:lnTo>
                <a:lnTo>
                  <a:pt x="824230" y="362002"/>
                </a:lnTo>
                <a:lnTo>
                  <a:pt x="824548" y="359144"/>
                </a:lnTo>
                <a:lnTo>
                  <a:pt x="824865" y="356921"/>
                </a:lnTo>
                <a:lnTo>
                  <a:pt x="825818" y="352793"/>
                </a:lnTo>
                <a:lnTo>
                  <a:pt x="826453" y="351523"/>
                </a:lnTo>
                <a:lnTo>
                  <a:pt x="826770" y="348983"/>
                </a:lnTo>
                <a:lnTo>
                  <a:pt x="827405" y="346760"/>
                </a:lnTo>
                <a:lnTo>
                  <a:pt x="828040" y="345172"/>
                </a:lnTo>
                <a:lnTo>
                  <a:pt x="828993" y="344219"/>
                </a:lnTo>
                <a:lnTo>
                  <a:pt x="829945" y="343902"/>
                </a:lnTo>
                <a:lnTo>
                  <a:pt x="830580" y="343584"/>
                </a:lnTo>
                <a:lnTo>
                  <a:pt x="831533" y="343267"/>
                </a:lnTo>
                <a:lnTo>
                  <a:pt x="832803" y="341044"/>
                </a:lnTo>
                <a:lnTo>
                  <a:pt x="834073" y="339774"/>
                </a:lnTo>
                <a:lnTo>
                  <a:pt x="835025" y="339139"/>
                </a:lnTo>
                <a:lnTo>
                  <a:pt x="835978" y="339456"/>
                </a:lnTo>
                <a:lnTo>
                  <a:pt x="836930" y="339774"/>
                </a:lnTo>
                <a:lnTo>
                  <a:pt x="838200" y="341679"/>
                </a:lnTo>
                <a:lnTo>
                  <a:pt x="838518" y="342314"/>
                </a:lnTo>
                <a:lnTo>
                  <a:pt x="838518" y="343584"/>
                </a:lnTo>
                <a:lnTo>
                  <a:pt x="838518" y="344855"/>
                </a:lnTo>
                <a:lnTo>
                  <a:pt x="837565" y="346760"/>
                </a:lnTo>
                <a:lnTo>
                  <a:pt x="836613" y="348348"/>
                </a:lnTo>
                <a:lnTo>
                  <a:pt x="836295" y="348983"/>
                </a:lnTo>
                <a:lnTo>
                  <a:pt x="836613" y="349935"/>
                </a:lnTo>
                <a:lnTo>
                  <a:pt x="836930" y="351205"/>
                </a:lnTo>
                <a:lnTo>
                  <a:pt x="837565" y="353746"/>
                </a:lnTo>
                <a:lnTo>
                  <a:pt x="837565" y="356921"/>
                </a:lnTo>
                <a:lnTo>
                  <a:pt x="837565" y="358827"/>
                </a:lnTo>
                <a:lnTo>
                  <a:pt x="838518" y="360732"/>
                </a:lnTo>
                <a:lnTo>
                  <a:pt x="839470" y="362637"/>
                </a:lnTo>
                <a:lnTo>
                  <a:pt x="840105" y="364225"/>
                </a:lnTo>
                <a:lnTo>
                  <a:pt x="840105" y="365495"/>
                </a:lnTo>
                <a:lnTo>
                  <a:pt x="840105" y="367718"/>
                </a:lnTo>
                <a:lnTo>
                  <a:pt x="839470" y="368988"/>
                </a:lnTo>
                <a:lnTo>
                  <a:pt x="839153" y="369623"/>
                </a:lnTo>
                <a:lnTo>
                  <a:pt x="839470" y="378197"/>
                </a:lnTo>
                <a:lnTo>
                  <a:pt x="840423" y="378832"/>
                </a:lnTo>
                <a:lnTo>
                  <a:pt x="840740" y="379467"/>
                </a:lnTo>
                <a:lnTo>
                  <a:pt x="841058" y="380102"/>
                </a:lnTo>
                <a:lnTo>
                  <a:pt x="841058" y="381055"/>
                </a:lnTo>
                <a:lnTo>
                  <a:pt x="840740" y="382325"/>
                </a:lnTo>
                <a:lnTo>
                  <a:pt x="840423" y="382960"/>
                </a:lnTo>
                <a:lnTo>
                  <a:pt x="839788" y="385818"/>
                </a:lnTo>
                <a:lnTo>
                  <a:pt x="839470" y="388041"/>
                </a:lnTo>
                <a:lnTo>
                  <a:pt x="839153" y="389946"/>
                </a:lnTo>
                <a:lnTo>
                  <a:pt x="840423" y="390581"/>
                </a:lnTo>
                <a:lnTo>
                  <a:pt x="841375" y="391216"/>
                </a:lnTo>
                <a:lnTo>
                  <a:pt x="842010" y="391851"/>
                </a:lnTo>
                <a:lnTo>
                  <a:pt x="842010" y="392486"/>
                </a:lnTo>
                <a:lnTo>
                  <a:pt x="842010" y="394074"/>
                </a:lnTo>
                <a:lnTo>
                  <a:pt x="841693" y="394392"/>
                </a:lnTo>
                <a:lnTo>
                  <a:pt x="848995" y="394392"/>
                </a:lnTo>
                <a:lnTo>
                  <a:pt x="850265" y="398520"/>
                </a:lnTo>
                <a:lnTo>
                  <a:pt x="850900" y="402013"/>
                </a:lnTo>
                <a:lnTo>
                  <a:pt x="850900" y="405823"/>
                </a:lnTo>
                <a:lnTo>
                  <a:pt x="850900" y="409316"/>
                </a:lnTo>
                <a:lnTo>
                  <a:pt x="849948" y="414715"/>
                </a:lnTo>
                <a:lnTo>
                  <a:pt x="849313" y="416620"/>
                </a:lnTo>
                <a:lnTo>
                  <a:pt x="846773" y="416620"/>
                </a:lnTo>
                <a:lnTo>
                  <a:pt x="845820" y="417890"/>
                </a:lnTo>
                <a:lnTo>
                  <a:pt x="841375" y="418525"/>
                </a:lnTo>
                <a:lnTo>
                  <a:pt x="841693" y="424241"/>
                </a:lnTo>
                <a:lnTo>
                  <a:pt x="842328" y="424559"/>
                </a:lnTo>
                <a:lnTo>
                  <a:pt x="842645" y="425194"/>
                </a:lnTo>
                <a:lnTo>
                  <a:pt x="842645" y="426146"/>
                </a:lnTo>
                <a:lnTo>
                  <a:pt x="842645" y="427734"/>
                </a:lnTo>
                <a:lnTo>
                  <a:pt x="842010" y="429957"/>
                </a:lnTo>
                <a:lnTo>
                  <a:pt x="841693" y="431227"/>
                </a:lnTo>
                <a:lnTo>
                  <a:pt x="842010" y="432180"/>
                </a:lnTo>
                <a:lnTo>
                  <a:pt x="842328" y="433767"/>
                </a:lnTo>
                <a:lnTo>
                  <a:pt x="842010" y="436308"/>
                </a:lnTo>
                <a:lnTo>
                  <a:pt x="841693" y="439483"/>
                </a:lnTo>
                <a:lnTo>
                  <a:pt x="840423" y="439166"/>
                </a:lnTo>
                <a:lnTo>
                  <a:pt x="840423" y="441389"/>
                </a:lnTo>
                <a:lnTo>
                  <a:pt x="840105" y="442024"/>
                </a:lnTo>
                <a:lnTo>
                  <a:pt x="839788" y="442659"/>
                </a:lnTo>
                <a:lnTo>
                  <a:pt x="839470" y="442659"/>
                </a:lnTo>
                <a:lnTo>
                  <a:pt x="839470" y="503310"/>
                </a:lnTo>
                <a:lnTo>
                  <a:pt x="843598" y="507438"/>
                </a:lnTo>
                <a:lnTo>
                  <a:pt x="847725" y="511566"/>
                </a:lnTo>
                <a:lnTo>
                  <a:pt x="850583" y="515694"/>
                </a:lnTo>
                <a:lnTo>
                  <a:pt x="853440" y="519505"/>
                </a:lnTo>
                <a:lnTo>
                  <a:pt x="855345" y="523950"/>
                </a:lnTo>
                <a:lnTo>
                  <a:pt x="856933" y="528079"/>
                </a:lnTo>
                <a:lnTo>
                  <a:pt x="858203" y="531572"/>
                </a:lnTo>
                <a:lnTo>
                  <a:pt x="859155" y="535382"/>
                </a:lnTo>
                <a:lnTo>
                  <a:pt x="860108" y="538558"/>
                </a:lnTo>
                <a:lnTo>
                  <a:pt x="860425" y="542051"/>
                </a:lnTo>
                <a:lnTo>
                  <a:pt x="860425" y="546814"/>
                </a:lnTo>
                <a:lnTo>
                  <a:pt x="860425" y="550307"/>
                </a:lnTo>
                <a:lnTo>
                  <a:pt x="860108" y="551577"/>
                </a:lnTo>
                <a:lnTo>
                  <a:pt x="862330" y="556975"/>
                </a:lnTo>
                <a:lnTo>
                  <a:pt x="863600" y="561738"/>
                </a:lnTo>
                <a:lnTo>
                  <a:pt x="864553" y="566502"/>
                </a:lnTo>
                <a:lnTo>
                  <a:pt x="865188" y="571265"/>
                </a:lnTo>
                <a:lnTo>
                  <a:pt x="865188" y="575393"/>
                </a:lnTo>
                <a:lnTo>
                  <a:pt x="864870" y="579839"/>
                </a:lnTo>
                <a:lnTo>
                  <a:pt x="864235" y="583332"/>
                </a:lnTo>
                <a:lnTo>
                  <a:pt x="863600" y="587142"/>
                </a:lnTo>
                <a:lnTo>
                  <a:pt x="862648" y="590000"/>
                </a:lnTo>
                <a:lnTo>
                  <a:pt x="861378" y="593175"/>
                </a:lnTo>
                <a:lnTo>
                  <a:pt x="859155" y="597621"/>
                </a:lnTo>
                <a:lnTo>
                  <a:pt x="857568" y="600479"/>
                </a:lnTo>
                <a:lnTo>
                  <a:pt x="856933" y="601432"/>
                </a:lnTo>
                <a:lnTo>
                  <a:pt x="855663" y="606512"/>
                </a:lnTo>
                <a:lnTo>
                  <a:pt x="861378" y="609370"/>
                </a:lnTo>
                <a:lnTo>
                  <a:pt x="867093" y="612546"/>
                </a:lnTo>
                <a:lnTo>
                  <a:pt x="873125" y="616674"/>
                </a:lnTo>
                <a:lnTo>
                  <a:pt x="879475" y="621119"/>
                </a:lnTo>
                <a:lnTo>
                  <a:pt x="892493" y="630328"/>
                </a:lnTo>
                <a:lnTo>
                  <a:pt x="904875" y="640172"/>
                </a:lnTo>
                <a:lnTo>
                  <a:pt x="915670" y="649699"/>
                </a:lnTo>
                <a:lnTo>
                  <a:pt x="924878" y="657320"/>
                </a:lnTo>
                <a:lnTo>
                  <a:pt x="932815" y="664623"/>
                </a:lnTo>
                <a:lnTo>
                  <a:pt x="934720" y="662400"/>
                </a:lnTo>
                <a:lnTo>
                  <a:pt x="934403" y="661130"/>
                </a:lnTo>
                <a:lnTo>
                  <a:pt x="934085" y="660495"/>
                </a:lnTo>
                <a:lnTo>
                  <a:pt x="934085" y="659225"/>
                </a:lnTo>
                <a:lnTo>
                  <a:pt x="934403" y="658272"/>
                </a:lnTo>
                <a:lnTo>
                  <a:pt x="934720" y="658272"/>
                </a:lnTo>
                <a:lnTo>
                  <a:pt x="936308" y="657320"/>
                </a:lnTo>
                <a:lnTo>
                  <a:pt x="937260" y="657320"/>
                </a:lnTo>
                <a:lnTo>
                  <a:pt x="938213" y="657637"/>
                </a:lnTo>
                <a:lnTo>
                  <a:pt x="938848" y="658272"/>
                </a:lnTo>
                <a:lnTo>
                  <a:pt x="938848" y="659860"/>
                </a:lnTo>
                <a:lnTo>
                  <a:pt x="938848" y="660813"/>
                </a:lnTo>
                <a:lnTo>
                  <a:pt x="940435" y="660178"/>
                </a:lnTo>
                <a:lnTo>
                  <a:pt x="942023" y="659860"/>
                </a:lnTo>
                <a:lnTo>
                  <a:pt x="943293" y="659860"/>
                </a:lnTo>
                <a:lnTo>
                  <a:pt x="944245" y="659860"/>
                </a:lnTo>
                <a:lnTo>
                  <a:pt x="945198" y="660178"/>
                </a:lnTo>
                <a:lnTo>
                  <a:pt x="946468" y="660813"/>
                </a:lnTo>
                <a:lnTo>
                  <a:pt x="947420" y="662083"/>
                </a:lnTo>
                <a:lnTo>
                  <a:pt x="948055" y="663353"/>
                </a:lnTo>
                <a:lnTo>
                  <a:pt x="948373" y="664941"/>
                </a:lnTo>
                <a:lnTo>
                  <a:pt x="948373" y="666529"/>
                </a:lnTo>
                <a:lnTo>
                  <a:pt x="949960" y="666846"/>
                </a:lnTo>
                <a:lnTo>
                  <a:pt x="951230" y="667799"/>
                </a:lnTo>
                <a:lnTo>
                  <a:pt x="951548" y="669069"/>
                </a:lnTo>
                <a:lnTo>
                  <a:pt x="951865" y="670339"/>
                </a:lnTo>
                <a:lnTo>
                  <a:pt x="951230" y="673197"/>
                </a:lnTo>
                <a:lnTo>
                  <a:pt x="950913" y="674150"/>
                </a:lnTo>
                <a:lnTo>
                  <a:pt x="951865" y="675420"/>
                </a:lnTo>
                <a:lnTo>
                  <a:pt x="952818" y="676372"/>
                </a:lnTo>
                <a:lnTo>
                  <a:pt x="955358" y="677960"/>
                </a:lnTo>
                <a:lnTo>
                  <a:pt x="957263" y="678913"/>
                </a:lnTo>
                <a:lnTo>
                  <a:pt x="957898" y="679230"/>
                </a:lnTo>
                <a:lnTo>
                  <a:pt x="958533" y="680818"/>
                </a:lnTo>
                <a:lnTo>
                  <a:pt x="958851" y="682406"/>
                </a:lnTo>
                <a:lnTo>
                  <a:pt x="958533" y="683994"/>
                </a:lnTo>
                <a:lnTo>
                  <a:pt x="958216" y="685264"/>
                </a:lnTo>
                <a:lnTo>
                  <a:pt x="957581" y="687804"/>
                </a:lnTo>
                <a:lnTo>
                  <a:pt x="956946" y="688439"/>
                </a:lnTo>
                <a:lnTo>
                  <a:pt x="959486" y="690662"/>
                </a:lnTo>
                <a:lnTo>
                  <a:pt x="962343" y="693520"/>
                </a:lnTo>
                <a:lnTo>
                  <a:pt x="968058" y="700506"/>
                </a:lnTo>
                <a:lnTo>
                  <a:pt x="973773" y="708127"/>
                </a:lnTo>
                <a:lnTo>
                  <a:pt x="979488" y="716383"/>
                </a:lnTo>
                <a:lnTo>
                  <a:pt x="988696" y="730355"/>
                </a:lnTo>
                <a:lnTo>
                  <a:pt x="992506" y="736389"/>
                </a:lnTo>
                <a:lnTo>
                  <a:pt x="997586" y="735436"/>
                </a:lnTo>
                <a:lnTo>
                  <a:pt x="997903" y="733848"/>
                </a:lnTo>
                <a:lnTo>
                  <a:pt x="998221" y="732896"/>
                </a:lnTo>
                <a:lnTo>
                  <a:pt x="998856" y="731943"/>
                </a:lnTo>
                <a:lnTo>
                  <a:pt x="999491" y="731625"/>
                </a:lnTo>
                <a:lnTo>
                  <a:pt x="1000443" y="730990"/>
                </a:lnTo>
                <a:lnTo>
                  <a:pt x="1000761" y="730990"/>
                </a:lnTo>
                <a:lnTo>
                  <a:pt x="1002031" y="730355"/>
                </a:lnTo>
                <a:lnTo>
                  <a:pt x="1002666" y="730355"/>
                </a:lnTo>
                <a:lnTo>
                  <a:pt x="1002983" y="730673"/>
                </a:lnTo>
                <a:lnTo>
                  <a:pt x="1003618" y="730990"/>
                </a:lnTo>
                <a:lnTo>
                  <a:pt x="1003618" y="732261"/>
                </a:lnTo>
                <a:lnTo>
                  <a:pt x="1002983" y="732578"/>
                </a:lnTo>
                <a:lnTo>
                  <a:pt x="1002348" y="734801"/>
                </a:lnTo>
                <a:lnTo>
                  <a:pt x="1002348" y="736706"/>
                </a:lnTo>
                <a:lnTo>
                  <a:pt x="1002348" y="738294"/>
                </a:lnTo>
                <a:lnTo>
                  <a:pt x="1003618" y="738611"/>
                </a:lnTo>
                <a:lnTo>
                  <a:pt x="1004253" y="738929"/>
                </a:lnTo>
                <a:lnTo>
                  <a:pt x="1004253" y="739564"/>
                </a:lnTo>
                <a:lnTo>
                  <a:pt x="1004253" y="740199"/>
                </a:lnTo>
                <a:lnTo>
                  <a:pt x="1003936" y="741787"/>
                </a:lnTo>
                <a:lnTo>
                  <a:pt x="1003618" y="742422"/>
                </a:lnTo>
                <a:lnTo>
                  <a:pt x="1002666" y="743692"/>
                </a:lnTo>
                <a:lnTo>
                  <a:pt x="1002348" y="744645"/>
                </a:lnTo>
                <a:lnTo>
                  <a:pt x="1002348" y="746550"/>
                </a:lnTo>
                <a:lnTo>
                  <a:pt x="1002348" y="748138"/>
                </a:lnTo>
                <a:lnTo>
                  <a:pt x="1002666" y="748773"/>
                </a:lnTo>
                <a:lnTo>
                  <a:pt x="1004571" y="748773"/>
                </a:lnTo>
                <a:lnTo>
                  <a:pt x="1005841" y="749726"/>
                </a:lnTo>
                <a:lnTo>
                  <a:pt x="1006793" y="750996"/>
                </a:lnTo>
                <a:lnTo>
                  <a:pt x="1008063" y="750678"/>
                </a:lnTo>
                <a:lnTo>
                  <a:pt x="1009333" y="750678"/>
                </a:lnTo>
                <a:lnTo>
                  <a:pt x="1010286" y="751313"/>
                </a:lnTo>
                <a:lnTo>
                  <a:pt x="1011873" y="752266"/>
                </a:lnTo>
                <a:lnTo>
                  <a:pt x="1013143" y="754489"/>
                </a:lnTo>
                <a:lnTo>
                  <a:pt x="1013778" y="755441"/>
                </a:lnTo>
                <a:lnTo>
                  <a:pt x="1014731" y="756712"/>
                </a:lnTo>
                <a:lnTo>
                  <a:pt x="1015048" y="757982"/>
                </a:lnTo>
                <a:lnTo>
                  <a:pt x="1014731" y="758934"/>
                </a:lnTo>
                <a:lnTo>
                  <a:pt x="1014413" y="759569"/>
                </a:lnTo>
                <a:lnTo>
                  <a:pt x="1012826" y="760840"/>
                </a:lnTo>
                <a:lnTo>
                  <a:pt x="1012191" y="761157"/>
                </a:lnTo>
                <a:lnTo>
                  <a:pt x="1009651" y="766238"/>
                </a:lnTo>
                <a:lnTo>
                  <a:pt x="1013143" y="772906"/>
                </a:lnTo>
                <a:lnTo>
                  <a:pt x="1016636" y="781480"/>
                </a:lnTo>
                <a:lnTo>
                  <a:pt x="1020763" y="791324"/>
                </a:lnTo>
                <a:lnTo>
                  <a:pt x="1023938" y="801486"/>
                </a:lnTo>
                <a:lnTo>
                  <a:pt x="1029971" y="817998"/>
                </a:lnTo>
                <a:lnTo>
                  <a:pt x="1032511" y="825301"/>
                </a:lnTo>
                <a:lnTo>
                  <a:pt x="1033781" y="822761"/>
                </a:lnTo>
                <a:lnTo>
                  <a:pt x="1035051" y="821173"/>
                </a:lnTo>
                <a:lnTo>
                  <a:pt x="1036321" y="820538"/>
                </a:lnTo>
                <a:lnTo>
                  <a:pt x="1037591" y="820538"/>
                </a:lnTo>
                <a:lnTo>
                  <a:pt x="1038861" y="821173"/>
                </a:lnTo>
                <a:lnTo>
                  <a:pt x="1041083" y="822761"/>
                </a:lnTo>
                <a:lnTo>
                  <a:pt x="1042036" y="823714"/>
                </a:lnTo>
                <a:lnTo>
                  <a:pt x="1042671" y="822761"/>
                </a:lnTo>
                <a:lnTo>
                  <a:pt x="1043306" y="822761"/>
                </a:lnTo>
                <a:lnTo>
                  <a:pt x="1043941" y="822761"/>
                </a:lnTo>
                <a:lnTo>
                  <a:pt x="1044258" y="823079"/>
                </a:lnTo>
                <a:lnTo>
                  <a:pt x="1044893" y="823714"/>
                </a:lnTo>
                <a:lnTo>
                  <a:pt x="1045211" y="824031"/>
                </a:lnTo>
                <a:lnTo>
                  <a:pt x="1045846" y="824349"/>
                </a:lnTo>
                <a:lnTo>
                  <a:pt x="1046798" y="824666"/>
                </a:lnTo>
                <a:lnTo>
                  <a:pt x="1047433" y="825619"/>
                </a:lnTo>
                <a:lnTo>
                  <a:pt x="1047751" y="826889"/>
                </a:lnTo>
                <a:lnTo>
                  <a:pt x="1047751" y="828477"/>
                </a:lnTo>
                <a:lnTo>
                  <a:pt x="1047433" y="831970"/>
                </a:lnTo>
                <a:lnTo>
                  <a:pt x="1047116" y="833240"/>
                </a:lnTo>
                <a:lnTo>
                  <a:pt x="1048068" y="832923"/>
                </a:lnTo>
                <a:lnTo>
                  <a:pt x="1048386" y="832923"/>
                </a:lnTo>
                <a:lnTo>
                  <a:pt x="1048386" y="833240"/>
                </a:lnTo>
                <a:lnTo>
                  <a:pt x="1048703" y="834510"/>
                </a:lnTo>
                <a:lnTo>
                  <a:pt x="1048386" y="835780"/>
                </a:lnTo>
                <a:lnTo>
                  <a:pt x="1047751" y="838956"/>
                </a:lnTo>
                <a:lnTo>
                  <a:pt x="1047433" y="840226"/>
                </a:lnTo>
                <a:lnTo>
                  <a:pt x="1048386" y="840544"/>
                </a:lnTo>
                <a:lnTo>
                  <a:pt x="1049021" y="841179"/>
                </a:lnTo>
                <a:lnTo>
                  <a:pt x="1049656" y="842449"/>
                </a:lnTo>
                <a:lnTo>
                  <a:pt x="1049973" y="843402"/>
                </a:lnTo>
                <a:lnTo>
                  <a:pt x="1049973" y="844354"/>
                </a:lnTo>
                <a:lnTo>
                  <a:pt x="1050608" y="845624"/>
                </a:lnTo>
                <a:lnTo>
                  <a:pt x="1050291" y="846895"/>
                </a:lnTo>
                <a:lnTo>
                  <a:pt x="1049973" y="848482"/>
                </a:lnTo>
                <a:lnTo>
                  <a:pt x="1049021" y="849753"/>
                </a:lnTo>
                <a:lnTo>
                  <a:pt x="1047433" y="852610"/>
                </a:lnTo>
                <a:lnTo>
                  <a:pt x="1046163" y="853563"/>
                </a:lnTo>
                <a:lnTo>
                  <a:pt x="1046798" y="857056"/>
                </a:lnTo>
                <a:lnTo>
                  <a:pt x="1047433" y="860867"/>
                </a:lnTo>
                <a:lnTo>
                  <a:pt x="1049021" y="866900"/>
                </a:lnTo>
                <a:lnTo>
                  <a:pt x="1050608" y="871028"/>
                </a:lnTo>
                <a:lnTo>
                  <a:pt x="1051243" y="872933"/>
                </a:lnTo>
                <a:lnTo>
                  <a:pt x="1052513" y="873251"/>
                </a:lnTo>
                <a:lnTo>
                  <a:pt x="1054101" y="873886"/>
                </a:lnTo>
                <a:lnTo>
                  <a:pt x="1054736" y="874839"/>
                </a:lnTo>
                <a:lnTo>
                  <a:pt x="1055371" y="875474"/>
                </a:lnTo>
                <a:lnTo>
                  <a:pt x="1055688" y="876426"/>
                </a:lnTo>
                <a:lnTo>
                  <a:pt x="1055688" y="877061"/>
                </a:lnTo>
                <a:lnTo>
                  <a:pt x="1055688" y="878967"/>
                </a:lnTo>
                <a:lnTo>
                  <a:pt x="1055053" y="880872"/>
                </a:lnTo>
                <a:lnTo>
                  <a:pt x="1054418" y="882142"/>
                </a:lnTo>
                <a:lnTo>
                  <a:pt x="1053148" y="883412"/>
                </a:lnTo>
                <a:lnTo>
                  <a:pt x="1052831" y="885635"/>
                </a:lnTo>
                <a:lnTo>
                  <a:pt x="1052196" y="887858"/>
                </a:lnTo>
                <a:lnTo>
                  <a:pt x="1051243" y="889446"/>
                </a:lnTo>
                <a:lnTo>
                  <a:pt x="1050608" y="890716"/>
                </a:lnTo>
                <a:lnTo>
                  <a:pt x="1049021" y="891986"/>
                </a:lnTo>
                <a:lnTo>
                  <a:pt x="1048386" y="892304"/>
                </a:lnTo>
                <a:lnTo>
                  <a:pt x="1049338" y="893891"/>
                </a:lnTo>
                <a:lnTo>
                  <a:pt x="1049973" y="895797"/>
                </a:lnTo>
                <a:lnTo>
                  <a:pt x="1050291" y="897384"/>
                </a:lnTo>
                <a:lnTo>
                  <a:pt x="1050291" y="898655"/>
                </a:lnTo>
                <a:lnTo>
                  <a:pt x="1050291" y="900877"/>
                </a:lnTo>
                <a:lnTo>
                  <a:pt x="1050291" y="902148"/>
                </a:lnTo>
                <a:lnTo>
                  <a:pt x="1056641" y="909134"/>
                </a:lnTo>
                <a:lnTo>
                  <a:pt x="1057593" y="907228"/>
                </a:lnTo>
                <a:lnTo>
                  <a:pt x="1058546" y="906593"/>
                </a:lnTo>
                <a:lnTo>
                  <a:pt x="1059498" y="905958"/>
                </a:lnTo>
                <a:lnTo>
                  <a:pt x="1060451" y="905958"/>
                </a:lnTo>
                <a:lnTo>
                  <a:pt x="1061721" y="906276"/>
                </a:lnTo>
                <a:lnTo>
                  <a:pt x="1062038" y="906593"/>
                </a:lnTo>
                <a:lnTo>
                  <a:pt x="1062038" y="908816"/>
                </a:lnTo>
                <a:lnTo>
                  <a:pt x="1061721" y="910086"/>
                </a:lnTo>
                <a:lnTo>
                  <a:pt x="1061403" y="911039"/>
                </a:lnTo>
                <a:lnTo>
                  <a:pt x="1060451" y="911674"/>
                </a:lnTo>
                <a:lnTo>
                  <a:pt x="1059498" y="911991"/>
                </a:lnTo>
                <a:lnTo>
                  <a:pt x="1058863" y="911991"/>
                </a:lnTo>
                <a:lnTo>
                  <a:pt x="1059181" y="912944"/>
                </a:lnTo>
                <a:lnTo>
                  <a:pt x="1059498" y="914214"/>
                </a:lnTo>
                <a:lnTo>
                  <a:pt x="1059181" y="916755"/>
                </a:lnTo>
                <a:lnTo>
                  <a:pt x="1058863" y="918978"/>
                </a:lnTo>
                <a:lnTo>
                  <a:pt x="1061721" y="921200"/>
                </a:lnTo>
                <a:lnTo>
                  <a:pt x="1061721" y="918660"/>
                </a:lnTo>
                <a:lnTo>
                  <a:pt x="1061721" y="917390"/>
                </a:lnTo>
                <a:lnTo>
                  <a:pt x="1061721" y="916120"/>
                </a:lnTo>
                <a:lnTo>
                  <a:pt x="1062356" y="914849"/>
                </a:lnTo>
                <a:lnTo>
                  <a:pt x="1062991" y="913897"/>
                </a:lnTo>
                <a:lnTo>
                  <a:pt x="1063943" y="912944"/>
                </a:lnTo>
                <a:lnTo>
                  <a:pt x="1064578" y="912627"/>
                </a:lnTo>
                <a:lnTo>
                  <a:pt x="1065213" y="911674"/>
                </a:lnTo>
                <a:lnTo>
                  <a:pt x="1065848" y="911674"/>
                </a:lnTo>
                <a:lnTo>
                  <a:pt x="1066166" y="911991"/>
                </a:lnTo>
                <a:lnTo>
                  <a:pt x="1066483" y="912309"/>
                </a:lnTo>
                <a:lnTo>
                  <a:pt x="1066801" y="911674"/>
                </a:lnTo>
                <a:lnTo>
                  <a:pt x="1067118" y="911674"/>
                </a:lnTo>
                <a:lnTo>
                  <a:pt x="1067753" y="911991"/>
                </a:lnTo>
                <a:lnTo>
                  <a:pt x="1069023" y="912944"/>
                </a:lnTo>
                <a:lnTo>
                  <a:pt x="1069658" y="913897"/>
                </a:lnTo>
                <a:lnTo>
                  <a:pt x="1071246" y="917072"/>
                </a:lnTo>
                <a:lnTo>
                  <a:pt x="1071563" y="918342"/>
                </a:lnTo>
                <a:lnTo>
                  <a:pt x="1072198" y="920565"/>
                </a:lnTo>
                <a:lnTo>
                  <a:pt x="1072516" y="922471"/>
                </a:lnTo>
                <a:lnTo>
                  <a:pt x="1072516" y="924376"/>
                </a:lnTo>
                <a:lnTo>
                  <a:pt x="1072198" y="925646"/>
                </a:lnTo>
                <a:lnTo>
                  <a:pt x="1071563" y="926916"/>
                </a:lnTo>
                <a:lnTo>
                  <a:pt x="1071246" y="927234"/>
                </a:lnTo>
                <a:lnTo>
                  <a:pt x="1072516" y="928504"/>
                </a:lnTo>
                <a:lnTo>
                  <a:pt x="1073151" y="929774"/>
                </a:lnTo>
                <a:lnTo>
                  <a:pt x="1073468" y="931362"/>
                </a:lnTo>
                <a:lnTo>
                  <a:pt x="1073468" y="932632"/>
                </a:lnTo>
                <a:lnTo>
                  <a:pt x="1073151" y="934855"/>
                </a:lnTo>
                <a:lnTo>
                  <a:pt x="1072833" y="935807"/>
                </a:lnTo>
                <a:lnTo>
                  <a:pt x="1076326" y="940571"/>
                </a:lnTo>
                <a:lnTo>
                  <a:pt x="1070928" y="944064"/>
                </a:lnTo>
                <a:lnTo>
                  <a:pt x="1071881" y="948827"/>
                </a:lnTo>
                <a:lnTo>
                  <a:pt x="1072833" y="952637"/>
                </a:lnTo>
                <a:lnTo>
                  <a:pt x="1074103" y="955178"/>
                </a:lnTo>
                <a:lnTo>
                  <a:pt x="1075691" y="956765"/>
                </a:lnTo>
                <a:lnTo>
                  <a:pt x="1076643" y="957718"/>
                </a:lnTo>
                <a:lnTo>
                  <a:pt x="1077596" y="958353"/>
                </a:lnTo>
                <a:lnTo>
                  <a:pt x="1078231" y="958353"/>
                </a:lnTo>
                <a:lnTo>
                  <a:pt x="1078231" y="960894"/>
                </a:lnTo>
                <a:lnTo>
                  <a:pt x="1079818" y="961211"/>
                </a:lnTo>
                <a:lnTo>
                  <a:pt x="1079818" y="962799"/>
                </a:lnTo>
                <a:lnTo>
                  <a:pt x="1079501" y="964069"/>
                </a:lnTo>
                <a:lnTo>
                  <a:pt x="1079183" y="965022"/>
                </a:lnTo>
                <a:lnTo>
                  <a:pt x="1078866" y="965657"/>
                </a:lnTo>
                <a:lnTo>
                  <a:pt x="1077913" y="966927"/>
                </a:lnTo>
                <a:lnTo>
                  <a:pt x="1077596" y="966927"/>
                </a:lnTo>
                <a:lnTo>
                  <a:pt x="1077278" y="969150"/>
                </a:lnTo>
                <a:lnTo>
                  <a:pt x="1076961" y="970737"/>
                </a:lnTo>
                <a:lnTo>
                  <a:pt x="1076326" y="972008"/>
                </a:lnTo>
                <a:lnTo>
                  <a:pt x="1077278" y="975501"/>
                </a:lnTo>
                <a:lnTo>
                  <a:pt x="1077913" y="978676"/>
                </a:lnTo>
                <a:lnTo>
                  <a:pt x="1078866" y="985662"/>
                </a:lnTo>
                <a:lnTo>
                  <a:pt x="1079183" y="991378"/>
                </a:lnTo>
                <a:lnTo>
                  <a:pt x="1079183" y="993283"/>
                </a:lnTo>
                <a:lnTo>
                  <a:pt x="1082993" y="993283"/>
                </a:lnTo>
                <a:lnTo>
                  <a:pt x="1082993" y="1003127"/>
                </a:lnTo>
                <a:lnTo>
                  <a:pt x="1092836" y="1001857"/>
                </a:lnTo>
                <a:lnTo>
                  <a:pt x="1092518" y="1006620"/>
                </a:lnTo>
                <a:lnTo>
                  <a:pt x="1091566" y="1012336"/>
                </a:lnTo>
                <a:lnTo>
                  <a:pt x="1089978" y="1019322"/>
                </a:lnTo>
                <a:lnTo>
                  <a:pt x="1092836" y="1020910"/>
                </a:lnTo>
                <a:lnTo>
                  <a:pt x="1095376" y="1021545"/>
                </a:lnTo>
                <a:lnTo>
                  <a:pt x="1097281" y="1022497"/>
                </a:lnTo>
                <a:lnTo>
                  <a:pt x="1098233" y="1024085"/>
                </a:lnTo>
                <a:lnTo>
                  <a:pt x="1098551" y="1025355"/>
                </a:lnTo>
                <a:lnTo>
                  <a:pt x="1098868" y="1026943"/>
                </a:lnTo>
                <a:lnTo>
                  <a:pt x="1098868" y="1027896"/>
                </a:lnTo>
                <a:lnTo>
                  <a:pt x="1098551" y="1029166"/>
                </a:lnTo>
                <a:lnTo>
                  <a:pt x="1101091" y="1032341"/>
                </a:lnTo>
                <a:lnTo>
                  <a:pt x="1102678" y="1035517"/>
                </a:lnTo>
                <a:lnTo>
                  <a:pt x="1104266" y="1038375"/>
                </a:lnTo>
                <a:lnTo>
                  <a:pt x="1104583" y="1040915"/>
                </a:lnTo>
                <a:lnTo>
                  <a:pt x="1104901" y="1043138"/>
                </a:lnTo>
                <a:lnTo>
                  <a:pt x="1104901" y="1044726"/>
                </a:lnTo>
                <a:lnTo>
                  <a:pt x="1104583" y="1046631"/>
                </a:lnTo>
                <a:lnTo>
                  <a:pt x="1109663" y="1045043"/>
                </a:lnTo>
                <a:lnTo>
                  <a:pt x="1116331" y="1051394"/>
                </a:lnTo>
                <a:lnTo>
                  <a:pt x="1122046" y="1057110"/>
                </a:lnTo>
                <a:lnTo>
                  <a:pt x="1126808" y="1062826"/>
                </a:lnTo>
                <a:lnTo>
                  <a:pt x="1130301" y="1067907"/>
                </a:lnTo>
                <a:lnTo>
                  <a:pt x="1133476" y="1071717"/>
                </a:lnTo>
                <a:lnTo>
                  <a:pt x="1135381" y="1075210"/>
                </a:lnTo>
                <a:lnTo>
                  <a:pt x="1136651" y="1078068"/>
                </a:lnTo>
                <a:lnTo>
                  <a:pt x="1135063" y="1079021"/>
                </a:lnTo>
                <a:lnTo>
                  <a:pt x="1134746" y="1080608"/>
                </a:lnTo>
                <a:lnTo>
                  <a:pt x="1130936" y="1081879"/>
                </a:lnTo>
                <a:lnTo>
                  <a:pt x="1130936" y="1087912"/>
                </a:lnTo>
                <a:lnTo>
                  <a:pt x="1134746" y="1090452"/>
                </a:lnTo>
                <a:lnTo>
                  <a:pt x="1137921" y="1092993"/>
                </a:lnTo>
                <a:lnTo>
                  <a:pt x="1141096" y="1096168"/>
                </a:lnTo>
                <a:lnTo>
                  <a:pt x="1143953" y="1099026"/>
                </a:lnTo>
                <a:lnTo>
                  <a:pt x="1149351" y="1105377"/>
                </a:lnTo>
                <a:lnTo>
                  <a:pt x="1153161" y="1111410"/>
                </a:lnTo>
                <a:lnTo>
                  <a:pt x="1156653" y="1116809"/>
                </a:lnTo>
                <a:lnTo>
                  <a:pt x="1159193" y="1121254"/>
                </a:lnTo>
                <a:lnTo>
                  <a:pt x="1160781" y="1125382"/>
                </a:lnTo>
                <a:lnTo>
                  <a:pt x="1159511" y="1126017"/>
                </a:lnTo>
                <a:lnTo>
                  <a:pt x="1158241" y="1126653"/>
                </a:lnTo>
                <a:lnTo>
                  <a:pt x="1156653" y="1128240"/>
                </a:lnTo>
                <a:lnTo>
                  <a:pt x="1155701" y="1129193"/>
                </a:lnTo>
                <a:lnTo>
                  <a:pt x="1155383" y="1129828"/>
                </a:lnTo>
                <a:lnTo>
                  <a:pt x="1156018" y="1131416"/>
                </a:lnTo>
                <a:lnTo>
                  <a:pt x="1155701" y="1132686"/>
                </a:lnTo>
                <a:lnTo>
                  <a:pt x="1155066" y="1133003"/>
                </a:lnTo>
                <a:lnTo>
                  <a:pt x="1152843" y="1133003"/>
                </a:lnTo>
                <a:lnTo>
                  <a:pt x="1151573" y="1133003"/>
                </a:lnTo>
                <a:lnTo>
                  <a:pt x="1150303" y="1133639"/>
                </a:lnTo>
                <a:lnTo>
                  <a:pt x="1149668" y="1133956"/>
                </a:lnTo>
                <a:lnTo>
                  <a:pt x="1148398" y="1134909"/>
                </a:lnTo>
                <a:lnTo>
                  <a:pt x="1148398" y="1135544"/>
                </a:lnTo>
                <a:lnTo>
                  <a:pt x="1148398" y="1136496"/>
                </a:lnTo>
                <a:lnTo>
                  <a:pt x="1148081" y="1136814"/>
                </a:lnTo>
                <a:lnTo>
                  <a:pt x="1147446" y="1137132"/>
                </a:lnTo>
                <a:lnTo>
                  <a:pt x="1146811" y="1137132"/>
                </a:lnTo>
                <a:lnTo>
                  <a:pt x="1146176" y="1136814"/>
                </a:lnTo>
                <a:lnTo>
                  <a:pt x="1145223" y="1137132"/>
                </a:lnTo>
                <a:lnTo>
                  <a:pt x="1144588" y="1137767"/>
                </a:lnTo>
                <a:lnTo>
                  <a:pt x="1143953" y="1138402"/>
                </a:lnTo>
                <a:lnTo>
                  <a:pt x="1143953" y="1138719"/>
                </a:lnTo>
                <a:lnTo>
                  <a:pt x="1143953" y="1139989"/>
                </a:lnTo>
                <a:lnTo>
                  <a:pt x="1143636" y="1140625"/>
                </a:lnTo>
                <a:lnTo>
                  <a:pt x="1143001" y="1140942"/>
                </a:lnTo>
                <a:lnTo>
                  <a:pt x="1142366" y="1141260"/>
                </a:lnTo>
                <a:lnTo>
                  <a:pt x="1141096" y="1141577"/>
                </a:lnTo>
                <a:lnTo>
                  <a:pt x="1140461" y="1141577"/>
                </a:lnTo>
                <a:lnTo>
                  <a:pt x="1137603" y="1138402"/>
                </a:lnTo>
                <a:lnTo>
                  <a:pt x="1136968" y="1138402"/>
                </a:lnTo>
                <a:lnTo>
                  <a:pt x="1136016" y="1138719"/>
                </a:lnTo>
                <a:lnTo>
                  <a:pt x="1134428" y="1139989"/>
                </a:lnTo>
                <a:lnTo>
                  <a:pt x="1133158" y="1141260"/>
                </a:lnTo>
                <a:lnTo>
                  <a:pt x="1135381" y="1144118"/>
                </a:lnTo>
                <a:lnTo>
                  <a:pt x="1136333" y="1146975"/>
                </a:lnTo>
                <a:lnTo>
                  <a:pt x="1136968" y="1149516"/>
                </a:lnTo>
                <a:lnTo>
                  <a:pt x="1136968" y="1151421"/>
                </a:lnTo>
                <a:lnTo>
                  <a:pt x="1136651" y="1153644"/>
                </a:lnTo>
                <a:lnTo>
                  <a:pt x="1136016" y="1154914"/>
                </a:lnTo>
                <a:lnTo>
                  <a:pt x="1135381" y="1156184"/>
                </a:lnTo>
                <a:lnTo>
                  <a:pt x="1136968" y="1157454"/>
                </a:lnTo>
                <a:lnTo>
                  <a:pt x="1137603" y="1158725"/>
                </a:lnTo>
                <a:lnTo>
                  <a:pt x="1137921" y="1159677"/>
                </a:lnTo>
                <a:lnTo>
                  <a:pt x="1137603" y="1159995"/>
                </a:lnTo>
                <a:lnTo>
                  <a:pt x="1137286" y="1160947"/>
                </a:lnTo>
                <a:lnTo>
                  <a:pt x="1136651" y="1160947"/>
                </a:lnTo>
                <a:lnTo>
                  <a:pt x="1136016" y="1161265"/>
                </a:lnTo>
                <a:lnTo>
                  <a:pt x="1133793" y="1162853"/>
                </a:lnTo>
                <a:lnTo>
                  <a:pt x="1134111" y="1169521"/>
                </a:lnTo>
                <a:lnTo>
                  <a:pt x="1135698" y="1169521"/>
                </a:lnTo>
                <a:lnTo>
                  <a:pt x="1136651" y="1170156"/>
                </a:lnTo>
                <a:lnTo>
                  <a:pt x="1136968" y="1170791"/>
                </a:lnTo>
                <a:lnTo>
                  <a:pt x="1136968" y="1171426"/>
                </a:lnTo>
                <a:lnTo>
                  <a:pt x="1136333" y="1172697"/>
                </a:lnTo>
                <a:lnTo>
                  <a:pt x="1135698" y="1173332"/>
                </a:lnTo>
                <a:lnTo>
                  <a:pt x="1141731" y="1175555"/>
                </a:lnTo>
                <a:lnTo>
                  <a:pt x="1139508" y="1177777"/>
                </a:lnTo>
                <a:lnTo>
                  <a:pt x="1139191" y="1179683"/>
                </a:lnTo>
                <a:lnTo>
                  <a:pt x="1140143" y="1180635"/>
                </a:lnTo>
                <a:lnTo>
                  <a:pt x="1140461" y="1181271"/>
                </a:lnTo>
                <a:lnTo>
                  <a:pt x="1140461" y="1181906"/>
                </a:lnTo>
                <a:lnTo>
                  <a:pt x="1140143" y="1182859"/>
                </a:lnTo>
                <a:lnTo>
                  <a:pt x="1139191" y="1183811"/>
                </a:lnTo>
                <a:lnTo>
                  <a:pt x="1138556" y="1184129"/>
                </a:lnTo>
                <a:lnTo>
                  <a:pt x="1138238" y="1185399"/>
                </a:lnTo>
                <a:lnTo>
                  <a:pt x="1137603" y="1186669"/>
                </a:lnTo>
                <a:lnTo>
                  <a:pt x="1136333" y="1187622"/>
                </a:lnTo>
                <a:lnTo>
                  <a:pt x="1135063" y="1188574"/>
                </a:lnTo>
                <a:lnTo>
                  <a:pt x="1132523" y="1190480"/>
                </a:lnTo>
                <a:lnTo>
                  <a:pt x="1131571" y="1191115"/>
                </a:lnTo>
                <a:lnTo>
                  <a:pt x="1133476" y="1191115"/>
                </a:lnTo>
                <a:lnTo>
                  <a:pt x="1134428" y="1191432"/>
                </a:lnTo>
                <a:lnTo>
                  <a:pt x="1134746" y="1191750"/>
                </a:lnTo>
                <a:lnTo>
                  <a:pt x="1135063" y="1192385"/>
                </a:lnTo>
                <a:lnTo>
                  <a:pt x="1134746" y="1193655"/>
                </a:lnTo>
                <a:lnTo>
                  <a:pt x="1134428" y="1194290"/>
                </a:lnTo>
                <a:lnTo>
                  <a:pt x="1133793" y="1193655"/>
                </a:lnTo>
                <a:lnTo>
                  <a:pt x="1133158" y="1193338"/>
                </a:lnTo>
                <a:lnTo>
                  <a:pt x="1132523" y="1193655"/>
                </a:lnTo>
                <a:lnTo>
                  <a:pt x="1131888" y="1193655"/>
                </a:lnTo>
                <a:lnTo>
                  <a:pt x="1131253" y="1194290"/>
                </a:lnTo>
                <a:lnTo>
                  <a:pt x="1130936" y="1194925"/>
                </a:lnTo>
                <a:lnTo>
                  <a:pt x="1131253" y="1198418"/>
                </a:lnTo>
                <a:lnTo>
                  <a:pt x="1131888" y="1198736"/>
                </a:lnTo>
                <a:lnTo>
                  <a:pt x="1132206" y="1199371"/>
                </a:lnTo>
                <a:lnTo>
                  <a:pt x="1132206" y="1200324"/>
                </a:lnTo>
                <a:lnTo>
                  <a:pt x="1131888" y="1201276"/>
                </a:lnTo>
                <a:lnTo>
                  <a:pt x="1131253" y="1202546"/>
                </a:lnTo>
                <a:lnTo>
                  <a:pt x="1130936" y="1203499"/>
                </a:lnTo>
                <a:lnTo>
                  <a:pt x="1130936" y="1272406"/>
                </a:lnTo>
                <a:lnTo>
                  <a:pt x="1131253" y="1272406"/>
                </a:lnTo>
                <a:lnTo>
                  <a:pt x="1151256" y="1272406"/>
                </a:lnTo>
                <a:lnTo>
                  <a:pt x="1151256" y="1294000"/>
                </a:lnTo>
                <a:lnTo>
                  <a:pt x="1188403" y="1294000"/>
                </a:lnTo>
                <a:lnTo>
                  <a:pt x="1178878" y="1312100"/>
                </a:lnTo>
                <a:lnTo>
                  <a:pt x="1189991" y="1312100"/>
                </a:lnTo>
                <a:lnTo>
                  <a:pt x="1184911" y="1328295"/>
                </a:lnTo>
                <a:lnTo>
                  <a:pt x="1162686" y="1374974"/>
                </a:lnTo>
                <a:lnTo>
                  <a:pt x="1155066" y="1404188"/>
                </a:lnTo>
                <a:lnTo>
                  <a:pt x="1476058" y="1404188"/>
                </a:lnTo>
                <a:lnTo>
                  <a:pt x="1469391" y="1414667"/>
                </a:lnTo>
                <a:lnTo>
                  <a:pt x="1469391" y="1449597"/>
                </a:lnTo>
                <a:lnTo>
                  <a:pt x="1495426" y="1449597"/>
                </a:lnTo>
                <a:lnTo>
                  <a:pt x="1488123" y="1463887"/>
                </a:lnTo>
                <a:lnTo>
                  <a:pt x="1474153" y="1480081"/>
                </a:lnTo>
                <a:lnTo>
                  <a:pt x="1474153" y="1703634"/>
                </a:lnTo>
                <a:lnTo>
                  <a:pt x="1479233" y="1703634"/>
                </a:lnTo>
                <a:lnTo>
                  <a:pt x="1479233" y="1709032"/>
                </a:lnTo>
                <a:lnTo>
                  <a:pt x="1472566" y="1715700"/>
                </a:lnTo>
                <a:lnTo>
                  <a:pt x="1472566" y="1744915"/>
                </a:lnTo>
                <a:lnTo>
                  <a:pt x="1477011" y="1749043"/>
                </a:lnTo>
                <a:lnTo>
                  <a:pt x="1477011" y="1768413"/>
                </a:lnTo>
                <a:lnTo>
                  <a:pt x="1519238" y="1768413"/>
                </a:lnTo>
                <a:lnTo>
                  <a:pt x="1507491" y="1783338"/>
                </a:lnTo>
                <a:lnTo>
                  <a:pt x="1488123" y="1800485"/>
                </a:lnTo>
                <a:lnTo>
                  <a:pt x="1475423" y="1800485"/>
                </a:lnTo>
                <a:lnTo>
                  <a:pt x="1475423" y="1827794"/>
                </a:lnTo>
                <a:lnTo>
                  <a:pt x="1478598" y="1827794"/>
                </a:lnTo>
                <a:lnTo>
                  <a:pt x="1478598" y="1846529"/>
                </a:lnTo>
                <a:lnTo>
                  <a:pt x="1473201" y="1846529"/>
                </a:lnTo>
                <a:lnTo>
                  <a:pt x="1473201" y="2130415"/>
                </a:lnTo>
                <a:lnTo>
                  <a:pt x="1477011" y="2130415"/>
                </a:lnTo>
                <a:lnTo>
                  <a:pt x="1477011" y="2158042"/>
                </a:lnTo>
                <a:lnTo>
                  <a:pt x="1479868" y="2158042"/>
                </a:lnTo>
                <a:lnTo>
                  <a:pt x="1479868" y="2201863"/>
                </a:lnTo>
                <a:lnTo>
                  <a:pt x="793433" y="2201863"/>
                </a:lnTo>
                <a:lnTo>
                  <a:pt x="725805" y="2201863"/>
                </a:lnTo>
                <a:lnTo>
                  <a:pt x="39370" y="2201863"/>
                </a:lnTo>
                <a:lnTo>
                  <a:pt x="39370" y="2158042"/>
                </a:lnTo>
                <a:lnTo>
                  <a:pt x="42227" y="2158042"/>
                </a:lnTo>
                <a:lnTo>
                  <a:pt x="42227" y="2130415"/>
                </a:lnTo>
                <a:lnTo>
                  <a:pt x="46037" y="2130415"/>
                </a:lnTo>
                <a:lnTo>
                  <a:pt x="46037" y="1846529"/>
                </a:lnTo>
                <a:lnTo>
                  <a:pt x="40957" y="1846529"/>
                </a:lnTo>
                <a:lnTo>
                  <a:pt x="40957" y="1827794"/>
                </a:lnTo>
                <a:lnTo>
                  <a:pt x="43815" y="1827794"/>
                </a:lnTo>
                <a:lnTo>
                  <a:pt x="43815" y="1800485"/>
                </a:lnTo>
                <a:lnTo>
                  <a:pt x="31115" y="1800485"/>
                </a:lnTo>
                <a:lnTo>
                  <a:pt x="12065" y="1783338"/>
                </a:lnTo>
                <a:lnTo>
                  <a:pt x="0" y="1768413"/>
                </a:lnTo>
                <a:lnTo>
                  <a:pt x="42227" y="1768413"/>
                </a:lnTo>
                <a:lnTo>
                  <a:pt x="42227" y="1749043"/>
                </a:lnTo>
                <a:lnTo>
                  <a:pt x="46672" y="1744915"/>
                </a:lnTo>
                <a:lnTo>
                  <a:pt x="46672" y="1715700"/>
                </a:lnTo>
                <a:lnTo>
                  <a:pt x="40322" y="1709032"/>
                </a:lnTo>
                <a:lnTo>
                  <a:pt x="40322" y="1703634"/>
                </a:lnTo>
                <a:lnTo>
                  <a:pt x="45085" y="1703634"/>
                </a:lnTo>
                <a:lnTo>
                  <a:pt x="45085" y="1480081"/>
                </a:lnTo>
                <a:lnTo>
                  <a:pt x="31115" y="1463887"/>
                </a:lnTo>
                <a:lnTo>
                  <a:pt x="23812" y="1449597"/>
                </a:lnTo>
                <a:lnTo>
                  <a:pt x="49847" y="1449597"/>
                </a:lnTo>
                <a:lnTo>
                  <a:pt x="49847" y="1414667"/>
                </a:lnTo>
                <a:lnTo>
                  <a:pt x="43180" y="1404188"/>
                </a:lnTo>
                <a:lnTo>
                  <a:pt x="364172" y="1404188"/>
                </a:lnTo>
                <a:lnTo>
                  <a:pt x="356870" y="1374974"/>
                </a:lnTo>
                <a:lnTo>
                  <a:pt x="334327" y="1328295"/>
                </a:lnTo>
                <a:lnTo>
                  <a:pt x="329247" y="1312100"/>
                </a:lnTo>
                <a:lnTo>
                  <a:pt x="340360" y="1312100"/>
                </a:lnTo>
                <a:lnTo>
                  <a:pt x="330835" y="1294000"/>
                </a:lnTo>
                <a:lnTo>
                  <a:pt x="367982" y="1294000"/>
                </a:lnTo>
                <a:lnTo>
                  <a:pt x="367982" y="1272406"/>
                </a:lnTo>
                <a:lnTo>
                  <a:pt x="387985" y="1272406"/>
                </a:lnTo>
                <a:lnTo>
                  <a:pt x="388302" y="1272406"/>
                </a:lnTo>
                <a:lnTo>
                  <a:pt x="388302" y="1203499"/>
                </a:lnTo>
                <a:lnTo>
                  <a:pt x="387985" y="1202546"/>
                </a:lnTo>
                <a:lnTo>
                  <a:pt x="387350" y="1201276"/>
                </a:lnTo>
                <a:lnTo>
                  <a:pt x="387032" y="1200324"/>
                </a:lnTo>
                <a:lnTo>
                  <a:pt x="387032" y="1199371"/>
                </a:lnTo>
                <a:lnTo>
                  <a:pt x="387350" y="1198736"/>
                </a:lnTo>
                <a:lnTo>
                  <a:pt x="387985" y="1198418"/>
                </a:lnTo>
                <a:lnTo>
                  <a:pt x="388302" y="1194925"/>
                </a:lnTo>
                <a:lnTo>
                  <a:pt x="387985" y="1194290"/>
                </a:lnTo>
                <a:lnTo>
                  <a:pt x="387350" y="1193655"/>
                </a:lnTo>
                <a:lnTo>
                  <a:pt x="386715" y="1193655"/>
                </a:lnTo>
                <a:lnTo>
                  <a:pt x="386397" y="1193338"/>
                </a:lnTo>
                <a:lnTo>
                  <a:pt x="385762" y="1193655"/>
                </a:lnTo>
                <a:lnTo>
                  <a:pt x="384810" y="1194290"/>
                </a:lnTo>
                <a:lnTo>
                  <a:pt x="384492" y="1193655"/>
                </a:lnTo>
                <a:lnTo>
                  <a:pt x="384175" y="1192385"/>
                </a:lnTo>
                <a:lnTo>
                  <a:pt x="384175" y="1191750"/>
                </a:lnTo>
                <a:lnTo>
                  <a:pt x="384810" y="1191432"/>
                </a:lnTo>
                <a:lnTo>
                  <a:pt x="386080" y="1191115"/>
                </a:lnTo>
                <a:lnTo>
                  <a:pt x="387667" y="1191115"/>
                </a:lnTo>
                <a:lnTo>
                  <a:pt x="386397" y="1190480"/>
                </a:lnTo>
                <a:lnTo>
                  <a:pt x="384175" y="1188574"/>
                </a:lnTo>
                <a:lnTo>
                  <a:pt x="382905" y="1187622"/>
                </a:lnTo>
                <a:lnTo>
                  <a:pt x="381635" y="1186669"/>
                </a:lnTo>
                <a:lnTo>
                  <a:pt x="381000" y="1185399"/>
                </a:lnTo>
                <a:lnTo>
                  <a:pt x="380682" y="1184129"/>
                </a:lnTo>
                <a:lnTo>
                  <a:pt x="380047" y="1183811"/>
                </a:lnTo>
                <a:lnTo>
                  <a:pt x="379412" y="1182859"/>
                </a:lnTo>
                <a:lnTo>
                  <a:pt x="379095" y="1181906"/>
                </a:lnTo>
                <a:lnTo>
                  <a:pt x="379095" y="1181271"/>
                </a:lnTo>
                <a:lnTo>
                  <a:pt x="379412" y="1180635"/>
                </a:lnTo>
                <a:lnTo>
                  <a:pt x="380047" y="1179683"/>
                </a:lnTo>
                <a:lnTo>
                  <a:pt x="379730" y="1177777"/>
                </a:lnTo>
                <a:lnTo>
                  <a:pt x="377507" y="1175555"/>
                </a:lnTo>
                <a:lnTo>
                  <a:pt x="383540" y="1173332"/>
                </a:lnTo>
                <a:lnTo>
                  <a:pt x="382905" y="1172697"/>
                </a:lnTo>
                <a:lnTo>
                  <a:pt x="382270" y="1171426"/>
                </a:lnTo>
                <a:lnTo>
                  <a:pt x="382270" y="1170791"/>
                </a:lnTo>
                <a:lnTo>
                  <a:pt x="382587" y="1170156"/>
                </a:lnTo>
                <a:lnTo>
                  <a:pt x="383540" y="1169521"/>
                </a:lnTo>
                <a:lnTo>
                  <a:pt x="385445" y="1169521"/>
                </a:lnTo>
                <a:lnTo>
                  <a:pt x="385762" y="1162853"/>
                </a:lnTo>
                <a:lnTo>
                  <a:pt x="383222" y="1161265"/>
                </a:lnTo>
                <a:lnTo>
                  <a:pt x="382587" y="1160947"/>
                </a:lnTo>
                <a:lnTo>
                  <a:pt x="381952" y="1160947"/>
                </a:lnTo>
                <a:lnTo>
                  <a:pt x="381635" y="1159995"/>
                </a:lnTo>
                <a:lnTo>
                  <a:pt x="381317" y="1159677"/>
                </a:lnTo>
                <a:lnTo>
                  <a:pt x="381635" y="1158725"/>
                </a:lnTo>
                <a:lnTo>
                  <a:pt x="382270" y="1157454"/>
                </a:lnTo>
                <a:lnTo>
                  <a:pt x="383857" y="1156184"/>
                </a:lnTo>
                <a:lnTo>
                  <a:pt x="383222" y="1154914"/>
                </a:lnTo>
                <a:lnTo>
                  <a:pt x="382587" y="1153644"/>
                </a:lnTo>
                <a:lnTo>
                  <a:pt x="382270" y="1151421"/>
                </a:lnTo>
                <a:lnTo>
                  <a:pt x="382270" y="1149516"/>
                </a:lnTo>
                <a:lnTo>
                  <a:pt x="382905" y="1146975"/>
                </a:lnTo>
                <a:lnTo>
                  <a:pt x="383857" y="1144118"/>
                </a:lnTo>
                <a:lnTo>
                  <a:pt x="386397" y="1141260"/>
                </a:lnTo>
                <a:lnTo>
                  <a:pt x="384810" y="1139989"/>
                </a:lnTo>
                <a:lnTo>
                  <a:pt x="383222" y="1138719"/>
                </a:lnTo>
                <a:lnTo>
                  <a:pt x="382270" y="1138402"/>
                </a:lnTo>
                <a:lnTo>
                  <a:pt x="381635" y="1138402"/>
                </a:lnTo>
                <a:lnTo>
                  <a:pt x="379095" y="1141577"/>
                </a:lnTo>
                <a:lnTo>
                  <a:pt x="378460" y="1141577"/>
                </a:lnTo>
                <a:lnTo>
                  <a:pt x="376872" y="1141260"/>
                </a:lnTo>
                <a:lnTo>
                  <a:pt x="375920" y="1140942"/>
                </a:lnTo>
                <a:lnTo>
                  <a:pt x="375602" y="1140625"/>
                </a:lnTo>
                <a:lnTo>
                  <a:pt x="375285" y="1139989"/>
                </a:lnTo>
                <a:lnTo>
                  <a:pt x="375285" y="1138719"/>
                </a:lnTo>
                <a:lnTo>
                  <a:pt x="375285" y="1138402"/>
                </a:lnTo>
                <a:lnTo>
                  <a:pt x="374650" y="1137767"/>
                </a:lnTo>
                <a:lnTo>
                  <a:pt x="374015" y="1137132"/>
                </a:lnTo>
                <a:lnTo>
                  <a:pt x="373062" y="1136814"/>
                </a:lnTo>
                <a:lnTo>
                  <a:pt x="372427" y="1137132"/>
                </a:lnTo>
                <a:lnTo>
                  <a:pt x="372110" y="1137132"/>
                </a:lnTo>
                <a:lnTo>
                  <a:pt x="371475" y="1136814"/>
                </a:lnTo>
                <a:lnTo>
                  <a:pt x="371157" y="1136496"/>
                </a:lnTo>
                <a:lnTo>
                  <a:pt x="371157" y="1135544"/>
                </a:lnTo>
                <a:lnTo>
                  <a:pt x="371157" y="1134909"/>
                </a:lnTo>
                <a:lnTo>
                  <a:pt x="369570" y="1133956"/>
                </a:lnTo>
                <a:lnTo>
                  <a:pt x="368935" y="1133639"/>
                </a:lnTo>
                <a:lnTo>
                  <a:pt x="367665" y="1133003"/>
                </a:lnTo>
                <a:lnTo>
                  <a:pt x="366395" y="1133003"/>
                </a:lnTo>
                <a:lnTo>
                  <a:pt x="364490" y="1133003"/>
                </a:lnTo>
                <a:lnTo>
                  <a:pt x="363855" y="1132686"/>
                </a:lnTo>
                <a:lnTo>
                  <a:pt x="363220" y="1131416"/>
                </a:lnTo>
                <a:lnTo>
                  <a:pt x="363855" y="1129828"/>
                </a:lnTo>
                <a:lnTo>
                  <a:pt x="363855" y="1129193"/>
                </a:lnTo>
                <a:lnTo>
                  <a:pt x="362585" y="1128240"/>
                </a:lnTo>
                <a:lnTo>
                  <a:pt x="360680" y="1126653"/>
                </a:lnTo>
                <a:lnTo>
                  <a:pt x="359727" y="1126017"/>
                </a:lnTo>
                <a:lnTo>
                  <a:pt x="358457" y="1125382"/>
                </a:lnTo>
                <a:lnTo>
                  <a:pt x="360045" y="1121254"/>
                </a:lnTo>
                <a:lnTo>
                  <a:pt x="362585" y="1116809"/>
                </a:lnTo>
                <a:lnTo>
                  <a:pt x="366077" y="1111410"/>
                </a:lnTo>
                <a:lnTo>
                  <a:pt x="369887" y="1105377"/>
                </a:lnTo>
                <a:lnTo>
                  <a:pt x="375285" y="1099026"/>
                </a:lnTo>
                <a:lnTo>
                  <a:pt x="378460" y="1096168"/>
                </a:lnTo>
                <a:lnTo>
                  <a:pt x="381317" y="1092993"/>
                </a:lnTo>
                <a:lnTo>
                  <a:pt x="384492" y="1090452"/>
                </a:lnTo>
                <a:lnTo>
                  <a:pt x="388302" y="1087912"/>
                </a:lnTo>
                <a:lnTo>
                  <a:pt x="388302" y="1081879"/>
                </a:lnTo>
                <a:lnTo>
                  <a:pt x="384492" y="1080608"/>
                </a:lnTo>
                <a:lnTo>
                  <a:pt x="384175" y="1079021"/>
                </a:lnTo>
                <a:lnTo>
                  <a:pt x="382587" y="1078068"/>
                </a:lnTo>
                <a:lnTo>
                  <a:pt x="383857" y="1075210"/>
                </a:lnTo>
                <a:lnTo>
                  <a:pt x="386080" y="1071717"/>
                </a:lnTo>
                <a:lnTo>
                  <a:pt x="388937" y="1067907"/>
                </a:lnTo>
                <a:lnTo>
                  <a:pt x="392747" y="1062826"/>
                </a:lnTo>
                <a:lnTo>
                  <a:pt x="397192" y="1057110"/>
                </a:lnTo>
                <a:lnTo>
                  <a:pt x="402907" y="1051394"/>
                </a:lnTo>
                <a:lnTo>
                  <a:pt x="409575" y="1045043"/>
                </a:lnTo>
                <a:lnTo>
                  <a:pt x="414972" y="1046631"/>
                </a:lnTo>
                <a:lnTo>
                  <a:pt x="414655" y="1044726"/>
                </a:lnTo>
                <a:lnTo>
                  <a:pt x="414655" y="1043138"/>
                </a:lnTo>
                <a:lnTo>
                  <a:pt x="414972" y="1040915"/>
                </a:lnTo>
                <a:lnTo>
                  <a:pt x="415290" y="1038375"/>
                </a:lnTo>
                <a:lnTo>
                  <a:pt x="416560" y="1035517"/>
                </a:lnTo>
                <a:lnTo>
                  <a:pt x="418147" y="1032341"/>
                </a:lnTo>
                <a:lnTo>
                  <a:pt x="420687" y="1029166"/>
                </a:lnTo>
                <a:lnTo>
                  <a:pt x="420370" y="1027896"/>
                </a:lnTo>
                <a:lnTo>
                  <a:pt x="420370" y="1026943"/>
                </a:lnTo>
                <a:lnTo>
                  <a:pt x="420687" y="1025355"/>
                </a:lnTo>
                <a:lnTo>
                  <a:pt x="421322" y="1024085"/>
                </a:lnTo>
                <a:lnTo>
                  <a:pt x="422275" y="1022497"/>
                </a:lnTo>
                <a:lnTo>
                  <a:pt x="423862" y="1021545"/>
                </a:lnTo>
                <a:lnTo>
                  <a:pt x="426402" y="1020910"/>
                </a:lnTo>
                <a:lnTo>
                  <a:pt x="429578" y="1019322"/>
                </a:lnTo>
                <a:lnTo>
                  <a:pt x="427673" y="1012336"/>
                </a:lnTo>
                <a:lnTo>
                  <a:pt x="426720" y="1006620"/>
                </a:lnTo>
                <a:lnTo>
                  <a:pt x="426402" y="1001857"/>
                </a:lnTo>
                <a:lnTo>
                  <a:pt x="436563" y="1003127"/>
                </a:lnTo>
                <a:lnTo>
                  <a:pt x="436563" y="993283"/>
                </a:lnTo>
                <a:lnTo>
                  <a:pt x="440055" y="993283"/>
                </a:lnTo>
                <a:lnTo>
                  <a:pt x="440055" y="991378"/>
                </a:lnTo>
                <a:lnTo>
                  <a:pt x="440373" y="985662"/>
                </a:lnTo>
                <a:lnTo>
                  <a:pt x="441325" y="978676"/>
                </a:lnTo>
                <a:lnTo>
                  <a:pt x="441960" y="975501"/>
                </a:lnTo>
                <a:lnTo>
                  <a:pt x="443230" y="972008"/>
                </a:lnTo>
                <a:lnTo>
                  <a:pt x="442278" y="970737"/>
                </a:lnTo>
                <a:lnTo>
                  <a:pt x="441960" y="969150"/>
                </a:lnTo>
                <a:lnTo>
                  <a:pt x="441643" y="966927"/>
                </a:lnTo>
                <a:lnTo>
                  <a:pt x="441325" y="966927"/>
                </a:lnTo>
                <a:lnTo>
                  <a:pt x="440373" y="965657"/>
                </a:lnTo>
                <a:lnTo>
                  <a:pt x="440055" y="965022"/>
                </a:lnTo>
                <a:lnTo>
                  <a:pt x="439738" y="964069"/>
                </a:lnTo>
                <a:lnTo>
                  <a:pt x="439420" y="962799"/>
                </a:lnTo>
                <a:lnTo>
                  <a:pt x="439420" y="961211"/>
                </a:lnTo>
                <a:lnTo>
                  <a:pt x="441008" y="960894"/>
                </a:lnTo>
                <a:lnTo>
                  <a:pt x="441008" y="958353"/>
                </a:lnTo>
                <a:lnTo>
                  <a:pt x="441643" y="958353"/>
                </a:lnTo>
                <a:lnTo>
                  <a:pt x="442913" y="957718"/>
                </a:lnTo>
                <a:lnTo>
                  <a:pt x="443865" y="956765"/>
                </a:lnTo>
                <a:lnTo>
                  <a:pt x="445135" y="955178"/>
                </a:lnTo>
                <a:lnTo>
                  <a:pt x="446405" y="952637"/>
                </a:lnTo>
                <a:lnTo>
                  <a:pt x="447358" y="948827"/>
                </a:lnTo>
                <a:lnTo>
                  <a:pt x="448310" y="944064"/>
                </a:lnTo>
                <a:lnTo>
                  <a:pt x="443230" y="940571"/>
                </a:lnTo>
                <a:lnTo>
                  <a:pt x="446405" y="935807"/>
                </a:lnTo>
                <a:lnTo>
                  <a:pt x="446088" y="934855"/>
                </a:lnTo>
                <a:lnTo>
                  <a:pt x="445453" y="932632"/>
                </a:lnTo>
                <a:lnTo>
                  <a:pt x="445453" y="931362"/>
                </a:lnTo>
                <a:lnTo>
                  <a:pt x="446088" y="929774"/>
                </a:lnTo>
                <a:lnTo>
                  <a:pt x="446723" y="928504"/>
                </a:lnTo>
                <a:lnTo>
                  <a:pt x="447993" y="927234"/>
                </a:lnTo>
                <a:lnTo>
                  <a:pt x="447675" y="926916"/>
                </a:lnTo>
                <a:lnTo>
                  <a:pt x="447040" y="925646"/>
                </a:lnTo>
                <a:lnTo>
                  <a:pt x="446723" y="924376"/>
                </a:lnTo>
                <a:lnTo>
                  <a:pt x="446723" y="922471"/>
                </a:lnTo>
                <a:lnTo>
                  <a:pt x="447040" y="920565"/>
                </a:lnTo>
                <a:lnTo>
                  <a:pt x="447675" y="918342"/>
                </a:lnTo>
                <a:lnTo>
                  <a:pt x="447993" y="917072"/>
                </a:lnTo>
                <a:lnTo>
                  <a:pt x="449580" y="913897"/>
                </a:lnTo>
                <a:lnTo>
                  <a:pt x="450533" y="912944"/>
                </a:lnTo>
                <a:lnTo>
                  <a:pt x="451485" y="911991"/>
                </a:lnTo>
                <a:lnTo>
                  <a:pt x="452120" y="911674"/>
                </a:lnTo>
                <a:lnTo>
                  <a:pt x="452438" y="911674"/>
                </a:lnTo>
                <a:lnTo>
                  <a:pt x="452755" y="912309"/>
                </a:lnTo>
                <a:lnTo>
                  <a:pt x="452755" y="911991"/>
                </a:lnTo>
                <a:lnTo>
                  <a:pt x="453390" y="911674"/>
                </a:lnTo>
                <a:lnTo>
                  <a:pt x="454025" y="911674"/>
                </a:lnTo>
                <a:lnTo>
                  <a:pt x="454660" y="912627"/>
                </a:lnTo>
                <a:lnTo>
                  <a:pt x="455295" y="912944"/>
                </a:lnTo>
                <a:lnTo>
                  <a:pt x="456248" y="913897"/>
                </a:lnTo>
                <a:lnTo>
                  <a:pt x="457200" y="914849"/>
                </a:lnTo>
                <a:lnTo>
                  <a:pt x="457835" y="916120"/>
                </a:lnTo>
                <a:lnTo>
                  <a:pt x="457835" y="917390"/>
                </a:lnTo>
                <a:lnTo>
                  <a:pt x="457835" y="918660"/>
                </a:lnTo>
                <a:lnTo>
                  <a:pt x="457835" y="921200"/>
                </a:lnTo>
                <a:lnTo>
                  <a:pt x="460375" y="918978"/>
                </a:lnTo>
                <a:lnTo>
                  <a:pt x="460058" y="916755"/>
                </a:lnTo>
                <a:lnTo>
                  <a:pt x="459740" y="914214"/>
                </a:lnTo>
                <a:lnTo>
                  <a:pt x="460058" y="912944"/>
                </a:lnTo>
                <a:lnTo>
                  <a:pt x="460058" y="911991"/>
                </a:lnTo>
                <a:lnTo>
                  <a:pt x="459740" y="911991"/>
                </a:lnTo>
                <a:lnTo>
                  <a:pt x="458788" y="911674"/>
                </a:lnTo>
                <a:lnTo>
                  <a:pt x="458153" y="911039"/>
                </a:lnTo>
                <a:lnTo>
                  <a:pt x="457835" y="910086"/>
                </a:lnTo>
                <a:lnTo>
                  <a:pt x="457518" y="908816"/>
                </a:lnTo>
                <a:lnTo>
                  <a:pt x="457518" y="906593"/>
                </a:lnTo>
                <a:lnTo>
                  <a:pt x="457835" y="906276"/>
                </a:lnTo>
                <a:lnTo>
                  <a:pt x="458788" y="905958"/>
                </a:lnTo>
                <a:lnTo>
                  <a:pt x="459740" y="905958"/>
                </a:lnTo>
                <a:lnTo>
                  <a:pt x="460693" y="906593"/>
                </a:lnTo>
                <a:lnTo>
                  <a:pt x="461645" y="907228"/>
                </a:lnTo>
                <a:lnTo>
                  <a:pt x="462598" y="909134"/>
                </a:lnTo>
                <a:lnTo>
                  <a:pt x="468948" y="902148"/>
                </a:lnTo>
                <a:lnTo>
                  <a:pt x="468948" y="900877"/>
                </a:lnTo>
                <a:lnTo>
                  <a:pt x="468948" y="898655"/>
                </a:lnTo>
                <a:lnTo>
                  <a:pt x="468948" y="897384"/>
                </a:lnTo>
                <a:lnTo>
                  <a:pt x="469265" y="895797"/>
                </a:lnTo>
                <a:lnTo>
                  <a:pt x="469900" y="893891"/>
                </a:lnTo>
                <a:lnTo>
                  <a:pt x="470853" y="892304"/>
                </a:lnTo>
                <a:lnTo>
                  <a:pt x="470218" y="891986"/>
                </a:lnTo>
                <a:lnTo>
                  <a:pt x="468630" y="890716"/>
                </a:lnTo>
                <a:lnTo>
                  <a:pt x="467995" y="889446"/>
                </a:lnTo>
                <a:lnTo>
                  <a:pt x="467043" y="887858"/>
                </a:lnTo>
                <a:lnTo>
                  <a:pt x="466408" y="885635"/>
                </a:lnTo>
                <a:lnTo>
                  <a:pt x="466090" y="883412"/>
                </a:lnTo>
                <a:lnTo>
                  <a:pt x="465138" y="882142"/>
                </a:lnTo>
                <a:lnTo>
                  <a:pt x="464503" y="880872"/>
                </a:lnTo>
                <a:lnTo>
                  <a:pt x="463550" y="878967"/>
                </a:lnTo>
                <a:lnTo>
                  <a:pt x="463550" y="877061"/>
                </a:lnTo>
                <a:lnTo>
                  <a:pt x="463550" y="876426"/>
                </a:lnTo>
                <a:lnTo>
                  <a:pt x="463868" y="875474"/>
                </a:lnTo>
                <a:lnTo>
                  <a:pt x="464820" y="874839"/>
                </a:lnTo>
                <a:lnTo>
                  <a:pt x="465455" y="873886"/>
                </a:lnTo>
                <a:lnTo>
                  <a:pt x="466725" y="873251"/>
                </a:lnTo>
                <a:lnTo>
                  <a:pt x="467995" y="872933"/>
                </a:lnTo>
                <a:lnTo>
                  <a:pt x="468630" y="871028"/>
                </a:lnTo>
                <a:lnTo>
                  <a:pt x="470218" y="866900"/>
                </a:lnTo>
                <a:lnTo>
                  <a:pt x="472123" y="860867"/>
                </a:lnTo>
                <a:lnTo>
                  <a:pt x="472758" y="857056"/>
                </a:lnTo>
                <a:lnTo>
                  <a:pt x="473075" y="853563"/>
                </a:lnTo>
                <a:lnTo>
                  <a:pt x="472123" y="852610"/>
                </a:lnTo>
                <a:lnTo>
                  <a:pt x="470218" y="849753"/>
                </a:lnTo>
                <a:lnTo>
                  <a:pt x="469265" y="848482"/>
                </a:lnTo>
                <a:lnTo>
                  <a:pt x="468948" y="846895"/>
                </a:lnTo>
                <a:lnTo>
                  <a:pt x="468630" y="845624"/>
                </a:lnTo>
                <a:lnTo>
                  <a:pt x="469265" y="844354"/>
                </a:lnTo>
                <a:lnTo>
                  <a:pt x="469265" y="843402"/>
                </a:lnTo>
                <a:lnTo>
                  <a:pt x="469583" y="842449"/>
                </a:lnTo>
                <a:lnTo>
                  <a:pt x="470218" y="841179"/>
                </a:lnTo>
                <a:lnTo>
                  <a:pt x="470853" y="840544"/>
                </a:lnTo>
                <a:lnTo>
                  <a:pt x="472123" y="840226"/>
                </a:lnTo>
                <a:lnTo>
                  <a:pt x="471805" y="838956"/>
                </a:lnTo>
                <a:lnTo>
                  <a:pt x="470853" y="835780"/>
                </a:lnTo>
                <a:lnTo>
                  <a:pt x="470535" y="834510"/>
                </a:lnTo>
                <a:lnTo>
                  <a:pt x="470853" y="833240"/>
                </a:lnTo>
                <a:lnTo>
                  <a:pt x="470853" y="832923"/>
                </a:lnTo>
                <a:lnTo>
                  <a:pt x="471170" y="832923"/>
                </a:lnTo>
                <a:lnTo>
                  <a:pt x="472440" y="833240"/>
                </a:lnTo>
                <a:lnTo>
                  <a:pt x="472123" y="831970"/>
                </a:lnTo>
                <a:lnTo>
                  <a:pt x="471805" y="828477"/>
                </a:lnTo>
                <a:lnTo>
                  <a:pt x="471805" y="826889"/>
                </a:lnTo>
                <a:lnTo>
                  <a:pt x="472123" y="825619"/>
                </a:lnTo>
                <a:lnTo>
                  <a:pt x="472758" y="824666"/>
                </a:lnTo>
                <a:lnTo>
                  <a:pt x="473393" y="824349"/>
                </a:lnTo>
                <a:lnTo>
                  <a:pt x="474028" y="824031"/>
                </a:lnTo>
                <a:lnTo>
                  <a:pt x="474345" y="823714"/>
                </a:lnTo>
                <a:lnTo>
                  <a:pt x="474980" y="823079"/>
                </a:lnTo>
                <a:lnTo>
                  <a:pt x="475298" y="822761"/>
                </a:lnTo>
                <a:lnTo>
                  <a:pt x="475933" y="822761"/>
                </a:lnTo>
                <a:lnTo>
                  <a:pt x="476568" y="822761"/>
                </a:lnTo>
                <a:lnTo>
                  <a:pt x="477203" y="823714"/>
                </a:lnTo>
                <a:lnTo>
                  <a:pt x="478155" y="822761"/>
                </a:lnTo>
                <a:lnTo>
                  <a:pt x="480378" y="821173"/>
                </a:lnTo>
                <a:lnTo>
                  <a:pt x="481330" y="820538"/>
                </a:lnTo>
                <a:lnTo>
                  <a:pt x="482918" y="820538"/>
                </a:lnTo>
                <a:lnTo>
                  <a:pt x="484188" y="821173"/>
                </a:lnTo>
                <a:lnTo>
                  <a:pt x="485458" y="822761"/>
                </a:lnTo>
                <a:lnTo>
                  <a:pt x="487045" y="825301"/>
                </a:lnTo>
                <a:lnTo>
                  <a:pt x="489268" y="817998"/>
                </a:lnTo>
                <a:lnTo>
                  <a:pt x="495300" y="801486"/>
                </a:lnTo>
                <a:lnTo>
                  <a:pt x="498475" y="791324"/>
                </a:lnTo>
                <a:lnTo>
                  <a:pt x="502603" y="781480"/>
                </a:lnTo>
                <a:lnTo>
                  <a:pt x="506095" y="772906"/>
                </a:lnTo>
                <a:lnTo>
                  <a:pt x="509588" y="766238"/>
                </a:lnTo>
                <a:lnTo>
                  <a:pt x="507048" y="761157"/>
                </a:lnTo>
                <a:lnTo>
                  <a:pt x="506413" y="760840"/>
                </a:lnTo>
                <a:lnTo>
                  <a:pt x="504825" y="759569"/>
                </a:lnTo>
                <a:lnTo>
                  <a:pt x="504508" y="758934"/>
                </a:lnTo>
                <a:lnTo>
                  <a:pt x="504190" y="757982"/>
                </a:lnTo>
                <a:lnTo>
                  <a:pt x="504508" y="756712"/>
                </a:lnTo>
                <a:lnTo>
                  <a:pt x="505460" y="755441"/>
                </a:lnTo>
                <a:lnTo>
                  <a:pt x="506095" y="754489"/>
                </a:lnTo>
                <a:lnTo>
                  <a:pt x="507683" y="752266"/>
                </a:lnTo>
                <a:lnTo>
                  <a:pt x="508953" y="751313"/>
                </a:lnTo>
                <a:lnTo>
                  <a:pt x="509905" y="750678"/>
                </a:lnTo>
                <a:lnTo>
                  <a:pt x="511175" y="750678"/>
                </a:lnTo>
                <a:lnTo>
                  <a:pt x="512445" y="750996"/>
                </a:lnTo>
                <a:lnTo>
                  <a:pt x="513398" y="749726"/>
                </a:lnTo>
                <a:lnTo>
                  <a:pt x="514985" y="748773"/>
                </a:lnTo>
                <a:lnTo>
                  <a:pt x="516573" y="748773"/>
                </a:lnTo>
                <a:lnTo>
                  <a:pt x="516890" y="748138"/>
                </a:lnTo>
                <a:lnTo>
                  <a:pt x="516890" y="746550"/>
                </a:lnTo>
                <a:lnTo>
                  <a:pt x="516890" y="744645"/>
                </a:lnTo>
                <a:lnTo>
                  <a:pt x="516573" y="743692"/>
                </a:lnTo>
                <a:lnTo>
                  <a:pt x="515938" y="742422"/>
                </a:lnTo>
                <a:lnTo>
                  <a:pt x="515620" y="741787"/>
                </a:lnTo>
                <a:lnTo>
                  <a:pt x="515303" y="740199"/>
                </a:lnTo>
                <a:lnTo>
                  <a:pt x="515303" y="739564"/>
                </a:lnTo>
                <a:lnTo>
                  <a:pt x="515303" y="738929"/>
                </a:lnTo>
                <a:lnTo>
                  <a:pt x="515938" y="738611"/>
                </a:lnTo>
                <a:lnTo>
                  <a:pt x="516890" y="738294"/>
                </a:lnTo>
                <a:lnTo>
                  <a:pt x="516890" y="736706"/>
                </a:lnTo>
                <a:lnTo>
                  <a:pt x="516890" y="734801"/>
                </a:lnTo>
                <a:lnTo>
                  <a:pt x="516255" y="732578"/>
                </a:lnTo>
                <a:lnTo>
                  <a:pt x="515938" y="732261"/>
                </a:lnTo>
                <a:lnTo>
                  <a:pt x="515938" y="730990"/>
                </a:lnTo>
                <a:lnTo>
                  <a:pt x="516255" y="730673"/>
                </a:lnTo>
                <a:lnTo>
                  <a:pt x="516573" y="730355"/>
                </a:lnTo>
                <a:lnTo>
                  <a:pt x="517208" y="730355"/>
                </a:lnTo>
                <a:lnTo>
                  <a:pt x="518478" y="730990"/>
                </a:lnTo>
                <a:lnTo>
                  <a:pt x="518795" y="730990"/>
                </a:lnTo>
                <a:lnTo>
                  <a:pt x="519748" y="731625"/>
                </a:lnTo>
                <a:lnTo>
                  <a:pt x="520383" y="731943"/>
                </a:lnTo>
                <a:lnTo>
                  <a:pt x="521018" y="732896"/>
                </a:lnTo>
                <a:lnTo>
                  <a:pt x="521335" y="733848"/>
                </a:lnTo>
                <a:lnTo>
                  <a:pt x="521970" y="735436"/>
                </a:lnTo>
                <a:lnTo>
                  <a:pt x="526733" y="736389"/>
                </a:lnTo>
                <a:lnTo>
                  <a:pt x="530543" y="730355"/>
                </a:lnTo>
                <a:lnTo>
                  <a:pt x="539750" y="716383"/>
                </a:lnTo>
                <a:lnTo>
                  <a:pt x="545465" y="708127"/>
                </a:lnTo>
                <a:lnTo>
                  <a:pt x="551498" y="700506"/>
                </a:lnTo>
                <a:lnTo>
                  <a:pt x="556895" y="693520"/>
                </a:lnTo>
                <a:lnTo>
                  <a:pt x="559753" y="690662"/>
                </a:lnTo>
                <a:lnTo>
                  <a:pt x="562293" y="688439"/>
                </a:lnTo>
                <a:lnTo>
                  <a:pt x="561658" y="687804"/>
                </a:lnTo>
                <a:lnTo>
                  <a:pt x="561023" y="685264"/>
                </a:lnTo>
                <a:lnTo>
                  <a:pt x="560705" y="683994"/>
                </a:lnTo>
                <a:lnTo>
                  <a:pt x="560388" y="682406"/>
                </a:lnTo>
                <a:lnTo>
                  <a:pt x="560705" y="680818"/>
                </a:lnTo>
                <a:lnTo>
                  <a:pt x="561340" y="679230"/>
                </a:lnTo>
                <a:lnTo>
                  <a:pt x="561975" y="678913"/>
                </a:lnTo>
                <a:lnTo>
                  <a:pt x="563880" y="677960"/>
                </a:lnTo>
                <a:lnTo>
                  <a:pt x="566420" y="676372"/>
                </a:lnTo>
                <a:lnTo>
                  <a:pt x="567373" y="675420"/>
                </a:lnTo>
                <a:lnTo>
                  <a:pt x="568325" y="674150"/>
                </a:lnTo>
                <a:lnTo>
                  <a:pt x="568008" y="673197"/>
                </a:lnTo>
                <a:lnTo>
                  <a:pt x="567373" y="670339"/>
                </a:lnTo>
                <a:lnTo>
                  <a:pt x="567690" y="669069"/>
                </a:lnTo>
                <a:lnTo>
                  <a:pt x="568008" y="667799"/>
                </a:lnTo>
                <a:lnTo>
                  <a:pt x="569278" y="666846"/>
                </a:lnTo>
                <a:lnTo>
                  <a:pt x="570865" y="666529"/>
                </a:lnTo>
                <a:lnTo>
                  <a:pt x="570865" y="664941"/>
                </a:lnTo>
                <a:lnTo>
                  <a:pt x="571183" y="663353"/>
                </a:lnTo>
                <a:lnTo>
                  <a:pt x="571818" y="662083"/>
                </a:lnTo>
                <a:lnTo>
                  <a:pt x="573088" y="660813"/>
                </a:lnTo>
                <a:lnTo>
                  <a:pt x="574040" y="660178"/>
                </a:lnTo>
                <a:lnTo>
                  <a:pt x="574675" y="659860"/>
                </a:lnTo>
                <a:lnTo>
                  <a:pt x="575945" y="659860"/>
                </a:lnTo>
                <a:lnTo>
                  <a:pt x="577215" y="659860"/>
                </a:lnTo>
                <a:lnTo>
                  <a:pt x="578803" y="660178"/>
                </a:lnTo>
                <a:lnTo>
                  <a:pt x="580708" y="660813"/>
                </a:lnTo>
                <a:lnTo>
                  <a:pt x="580708" y="659860"/>
                </a:lnTo>
                <a:lnTo>
                  <a:pt x="580708" y="658272"/>
                </a:lnTo>
                <a:lnTo>
                  <a:pt x="581025" y="657637"/>
                </a:lnTo>
                <a:lnTo>
                  <a:pt x="581978" y="657320"/>
                </a:lnTo>
                <a:lnTo>
                  <a:pt x="582930" y="657320"/>
                </a:lnTo>
                <a:lnTo>
                  <a:pt x="584518" y="658272"/>
                </a:lnTo>
                <a:lnTo>
                  <a:pt x="584835" y="658272"/>
                </a:lnTo>
                <a:lnTo>
                  <a:pt x="585153" y="659225"/>
                </a:lnTo>
                <a:lnTo>
                  <a:pt x="585153" y="660495"/>
                </a:lnTo>
                <a:lnTo>
                  <a:pt x="584518" y="662400"/>
                </a:lnTo>
                <a:lnTo>
                  <a:pt x="586105" y="664623"/>
                </a:lnTo>
                <a:lnTo>
                  <a:pt x="594678" y="657320"/>
                </a:lnTo>
                <a:lnTo>
                  <a:pt x="603568" y="649699"/>
                </a:lnTo>
                <a:lnTo>
                  <a:pt x="614363" y="640172"/>
                </a:lnTo>
                <a:lnTo>
                  <a:pt x="626745" y="630328"/>
                </a:lnTo>
                <a:lnTo>
                  <a:pt x="639763" y="621119"/>
                </a:lnTo>
                <a:lnTo>
                  <a:pt x="646113" y="616674"/>
                </a:lnTo>
                <a:lnTo>
                  <a:pt x="652463" y="612546"/>
                </a:lnTo>
                <a:lnTo>
                  <a:pt x="657860" y="609370"/>
                </a:lnTo>
                <a:lnTo>
                  <a:pt x="663575" y="606512"/>
                </a:lnTo>
                <a:lnTo>
                  <a:pt x="662305" y="601432"/>
                </a:lnTo>
                <a:lnTo>
                  <a:pt x="661670" y="600479"/>
                </a:lnTo>
                <a:lnTo>
                  <a:pt x="660083" y="597621"/>
                </a:lnTo>
                <a:lnTo>
                  <a:pt x="657543" y="593175"/>
                </a:lnTo>
                <a:lnTo>
                  <a:pt x="656590" y="590000"/>
                </a:lnTo>
                <a:lnTo>
                  <a:pt x="655638" y="587142"/>
                </a:lnTo>
                <a:lnTo>
                  <a:pt x="655003" y="583332"/>
                </a:lnTo>
                <a:lnTo>
                  <a:pt x="654368" y="579839"/>
                </a:lnTo>
                <a:lnTo>
                  <a:pt x="654050" y="575393"/>
                </a:lnTo>
                <a:lnTo>
                  <a:pt x="654050" y="571265"/>
                </a:lnTo>
                <a:lnTo>
                  <a:pt x="654685" y="566502"/>
                </a:lnTo>
                <a:lnTo>
                  <a:pt x="655638" y="561738"/>
                </a:lnTo>
                <a:lnTo>
                  <a:pt x="656908" y="556975"/>
                </a:lnTo>
                <a:lnTo>
                  <a:pt x="659448" y="551577"/>
                </a:lnTo>
                <a:lnTo>
                  <a:pt x="659130" y="550307"/>
                </a:lnTo>
                <a:lnTo>
                  <a:pt x="659130" y="546814"/>
                </a:lnTo>
                <a:lnTo>
                  <a:pt x="659130" y="542051"/>
                </a:lnTo>
                <a:lnTo>
                  <a:pt x="659448" y="538558"/>
                </a:lnTo>
                <a:lnTo>
                  <a:pt x="660083" y="535382"/>
                </a:lnTo>
                <a:lnTo>
                  <a:pt x="661035" y="531572"/>
                </a:lnTo>
                <a:lnTo>
                  <a:pt x="662305" y="528079"/>
                </a:lnTo>
                <a:lnTo>
                  <a:pt x="663893" y="523950"/>
                </a:lnTo>
                <a:lnTo>
                  <a:pt x="666115" y="519505"/>
                </a:lnTo>
                <a:lnTo>
                  <a:pt x="668655" y="515694"/>
                </a:lnTo>
                <a:lnTo>
                  <a:pt x="671513" y="511566"/>
                </a:lnTo>
                <a:lnTo>
                  <a:pt x="675640" y="507438"/>
                </a:lnTo>
                <a:lnTo>
                  <a:pt x="680085" y="503310"/>
                </a:lnTo>
                <a:lnTo>
                  <a:pt x="680085" y="442659"/>
                </a:lnTo>
                <a:lnTo>
                  <a:pt x="679450" y="442659"/>
                </a:lnTo>
                <a:lnTo>
                  <a:pt x="679133" y="442024"/>
                </a:lnTo>
                <a:lnTo>
                  <a:pt x="678815" y="441389"/>
                </a:lnTo>
                <a:lnTo>
                  <a:pt x="678815" y="439166"/>
                </a:lnTo>
                <a:lnTo>
                  <a:pt x="677545" y="439483"/>
                </a:lnTo>
                <a:lnTo>
                  <a:pt x="677228" y="436308"/>
                </a:lnTo>
                <a:lnTo>
                  <a:pt x="676910" y="433767"/>
                </a:lnTo>
                <a:lnTo>
                  <a:pt x="677228" y="432180"/>
                </a:lnTo>
                <a:lnTo>
                  <a:pt x="677228" y="431227"/>
                </a:lnTo>
                <a:lnTo>
                  <a:pt x="677228" y="429957"/>
                </a:lnTo>
                <a:lnTo>
                  <a:pt x="676593" y="427734"/>
                </a:lnTo>
                <a:lnTo>
                  <a:pt x="676593" y="426146"/>
                </a:lnTo>
                <a:lnTo>
                  <a:pt x="676593" y="425194"/>
                </a:lnTo>
                <a:lnTo>
                  <a:pt x="676910" y="424559"/>
                </a:lnTo>
                <a:lnTo>
                  <a:pt x="677545" y="424241"/>
                </a:lnTo>
                <a:lnTo>
                  <a:pt x="677863" y="418525"/>
                </a:lnTo>
                <a:lnTo>
                  <a:pt x="673735" y="417890"/>
                </a:lnTo>
                <a:lnTo>
                  <a:pt x="672465" y="416620"/>
                </a:lnTo>
                <a:lnTo>
                  <a:pt x="669925" y="416620"/>
                </a:lnTo>
                <a:lnTo>
                  <a:pt x="669290" y="414715"/>
                </a:lnTo>
                <a:lnTo>
                  <a:pt x="668338" y="409316"/>
                </a:lnTo>
                <a:lnTo>
                  <a:pt x="668338" y="405823"/>
                </a:lnTo>
                <a:lnTo>
                  <a:pt x="668338" y="402013"/>
                </a:lnTo>
                <a:lnTo>
                  <a:pt x="668973" y="398520"/>
                </a:lnTo>
                <a:lnTo>
                  <a:pt x="670243" y="394392"/>
                </a:lnTo>
                <a:lnTo>
                  <a:pt x="677545" y="394392"/>
                </a:lnTo>
                <a:lnTo>
                  <a:pt x="677228" y="394074"/>
                </a:lnTo>
                <a:lnTo>
                  <a:pt x="677228" y="392486"/>
                </a:lnTo>
                <a:lnTo>
                  <a:pt x="677228" y="391851"/>
                </a:lnTo>
                <a:lnTo>
                  <a:pt x="677863" y="391216"/>
                </a:lnTo>
                <a:lnTo>
                  <a:pt x="678815" y="390581"/>
                </a:lnTo>
                <a:lnTo>
                  <a:pt x="680403" y="389946"/>
                </a:lnTo>
                <a:lnTo>
                  <a:pt x="680085" y="388041"/>
                </a:lnTo>
                <a:lnTo>
                  <a:pt x="679450" y="385818"/>
                </a:lnTo>
                <a:lnTo>
                  <a:pt x="678815" y="382960"/>
                </a:lnTo>
                <a:lnTo>
                  <a:pt x="678498" y="382325"/>
                </a:lnTo>
                <a:lnTo>
                  <a:pt x="678180" y="381055"/>
                </a:lnTo>
                <a:lnTo>
                  <a:pt x="678180" y="380102"/>
                </a:lnTo>
                <a:lnTo>
                  <a:pt x="678498" y="379467"/>
                </a:lnTo>
                <a:lnTo>
                  <a:pt x="678815" y="378832"/>
                </a:lnTo>
                <a:lnTo>
                  <a:pt x="680085" y="378197"/>
                </a:lnTo>
                <a:lnTo>
                  <a:pt x="680403" y="369623"/>
                </a:lnTo>
                <a:lnTo>
                  <a:pt x="680085" y="368988"/>
                </a:lnTo>
                <a:lnTo>
                  <a:pt x="679133" y="367718"/>
                </a:lnTo>
                <a:lnTo>
                  <a:pt x="679133" y="365495"/>
                </a:lnTo>
                <a:lnTo>
                  <a:pt x="679133" y="364225"/>
                </a:lnTo>
                <a:lnTo>
                  <a:pt x="680085" y="362637"/>
                </a:lnTo>
                <a:lnTo>
                  <a:pt x="681038" y="360732"/>
                </a:lnTo>
                <a:lnTo>
                  <a:pt x="681673" y="358827"/>
                </a:lnTo>
                <a:lnTo>
                  <a:pt x="681673" y="356921"/>
                </a:lnTo>
                <a:lnTo>
                  <a:pt x="681673" y="353746"/>
                </a:lnTo>
                <a:lnTo>
                  <a:pt x="682308" y="351205"/>
                </a:lnTo>
                <a:lnTo>
                  <a:pt x="682625" y="349935"/>
                </a:lnTo>
                <a:lnTo>
                  <a:pt x="682943" y="348983"/>
                </a:lnTo>
                <a:lnTo>
                  <a:pt x="682625" y="348348"/>
                </a:lnTo>
                <a:lnTo>
                  <a:pt x="681673" y="346760"/>
                </a:lnTo>
                <a:lnTo>
                  <a:pt x="681038" y="344855"/>
                </a:lnTo>
                <a:lnTo>
                  <a:pt x="681038" y="343584"/>
                </a:lnTo>
                <a:lnTo>
                  <a:pt x="681038" y="342314"/>
                </a:lnTo>
                <a:lnTo>
                  <a:pt x="681355" y="341679"/>
                </a:lnTo>
                <a:lnTo>
                  <a:pt x="682308" y="339774"/>
                </a:lnTo>
                <a:lnTo>
                  <a:pt x="683260" y="339456"/>
                </a:lnTo>
                <a:lnTo>
                  <a:pt x="684213" y="339139"/>
                </a:lnTo>
                <a:lnTo>
                  <a:pt x="685165" y="339774"/>
                </a:lnTo>
                <a:lnTo>
                  <a:pt x="686435" y="341044"/>
                </a:lnTo>
                <a:lnTo>
                  <a:pt x="688023" y="343267"/>
                </a:lnTo>
                <a:lnTo>
                  <a:pt x="688658" y="343584"/>
                </a:lnTo>
                <a:lnTo>
                  <a:pt x="689293" y="343902"/>
                </a:lnTo>
                <a:lnTo>
                  <a:pt x="690245" y="344219"/>
                </a:lnTo>
                <a:lnTo>
                  <a:pt x="691198" y="345172"/>
                </a:lnTo>
                <a:lnTo>
                  <a:pt x="691833" y="346760"/>
                </a:lnTo>
                <a:lnTo>
                  <a:pt x="692468" y="348983"/>
                </a:lnTo>
                <a:lnTo>
                  <a:pt x="692785" y="351523"/>
                </a:lnTo>
                <a:lnTo>
                  <a:pt x="693420" y="352793"/>
                </a:lnTo>
                <a:lnTo>
                  <a:pt x="694690" y="356921"/>
                </a:lnTo>
                <a:lnTo>
                  <a:pt x="695008" y="359144"/>
                </a:lnTo>
                <a:lnTo>
                  <a:pt x="695325" y="362002"/>
                </a:lnTo>
                <a:lnTo>
                  <a:pt x="695325" y="364860"/>
                </a:lnTo>
                <a:lnTo>
                  <a:pt x="695008" y="367400"/>
                </a:lnTo>
                <a:lnTo>
                  <a:pt x="695008" y="369306"/>
                </a:lnTo>
                <a:lnTo>
                  <a:pt x="694690" y="373434"/>
                </a:lnTo>
                <a:lnTo>
                  <a:pt x="695008" y="376292"/>
                </a:lnTo>
                <a:lnTo>
                  <a:pt x="695325" y="378514"/>
                </a:lnTo>
                <a:lnTo>
                  <a:pt x="695960" y="380737"/>
                </a:lnTo>
                <a:lnTo>
                  <a:pt x="696913" y="382643"/>
                </a:lnTo>
                <a:lnTo>
                  <a:pt x="698818" y="380420"/>
                </a:lnTo>
                <a:lnTo>
                  <a:pt x="704215" y="374704"/>
                </a:lnTo>
                <a:lnTo>
                  <a:pt x="707708" y="371211"/>
                </a:lnTo>
                <a:lnTo>
                  <a:pt x="711835" y="367718"/>
                </a:lnTo>
                <a:lnTo>
                  <a:pt x="716280" y="364542"/>
                </a:lnTo>
                <a:lnTo>
                  <a:pt x="720725" y="362002"/>
                </a:lnTo>
                <a:lnTo>
                  <a:pt x="720725" y="341362"/>
                </a:lnTo>
                <a:lnTo>
                  <a:pt x="733108" y="327707"/>
                </a:lnTo>
                <a:lnTo>
                  <a:pt x="750570" y="127018"/>
                </a:lnTo>
                <a:lnTo>
                  <a:pt x="749618" y="123208"/>
                </a:lnTo>
                <a:lnTo>
                  <a:pt x="748983" y="122573"/>
                </a:lnTo>
                <a:lnTo>
                  <a:pt x="747395" y="120667"/>
                </a:lnTo>
                <a:lnTo>
                  <a:pt x="745490" y="117809"/>
                </a:lnTo>
                <a:lnTo>
                  <a:pt x="744220" y="115587"/>
                </a:lnTo>
                <a:lnTo>
                  <a:pt x="743585" y="113681"/>
                </a:lnTo>
                <a:lnTo>
                  <a:pt x="742950" y="111458"/>
                </a:lnTo>
                <a:lnTo>
                  <a:pt x="742950" y="108601"/>
                </a:lnTo>
                <a:lnTo>
                  <a:pt x="742950" y="106060"/>
                </a:lnTo>
                <a:lnTo>
                  <a:pt x="743585" y="103202"/>
                </a:lnTo>
                <a:lnTo>
                  <a:pt x="745173" y="100027"/>
                </a:lnTo>
                <a:lnTo>
                  <a:pt x="746760" y="96851"/>
                </a:lnTo>
                <a:lnTo>
                  <a:pt x="749300" y="93358"/>
                </a:lnTo>
                <a:lnTo>
                  <a:pt x="752793" y="90183"/>
                </a:lnTo>
                <a:lnTo>
                  <a:pt x="757555" y="85102"/>
                </a:lnTo>
                <a:lnTo>
                  <a:pt x="757555" y="32072"/>
                </a:lnTo>
                <a:lnTo>
                  <a:pt x="741680" y="32072"/>
                </a:lnTo>
                <a:lnTo>
                  <a:pt x="741680" y="27626"/>
                </a:lnTo>
                <a:lnTo>
                  <a:pt x="757555" y="27626"/>
                </a:lnTo>
                <a:lnTo>
                  <a:pt x="757555" y="14289"/>
                </a:lnTo>
                <a:lnTo>
                  <a:pt x="759460" y="14289"/>
                </a:lnTo>
                <a:lnTo>
                  <a:pt x="759460" y="5398"/>
                </a:lnTo>
                <a:lnTo>
                  <a:pt x="758508" y="5398"/>
                </a:lnTo>
                <a:lnTo>
                  <a:pt x="757873" y="4763"/>
                </a:lnTo>
                <a:lnTo>
                  <a:pt x="757555" y="4128"/>
                </a:lnTo>
                <a:lnTo>
                  <a:pt x="757555" y="3493"/>
                </a:lnTo>
                <a:lnTo>
                  <a:pt x="757555" y="2858"/>
                </a:lnTo>
                <a:lnTo>
                  <a:pt x="757873" y="2223"/>
                </a:lnTo>
                <a:lnTo>
                  <a:pt x="758508" y="1588"/>
                </a:lnTo>
                <a:lnTo>
                  <a:pt x="759460" y="1270"/>
                </a:lnTo>
                <a:lnTo>
                  <a:pt x="759460" y="0"/>
                </a:lnTo>
                <a:close/>
              </a:path>
            </a:pathLst>
          </a:custGeom>
          <a:solidFill>
            <a:srgbClr val="31a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5"/>
          <p:cNvSpPr/>
          <p:nvPr/>
        </p:nvSpPr>
        <p:spPr>
          <a:xfrm>
            <a:off x="2384280" y="1503360"/>
            <a:ext cx="4375440" cy="5354640"/>
          </a:xfrm>
          <a:custGeom>
            <a:avLst/>
            <a:gdLst>
              <a:gd name="textAreaLeft" fmla="*/ 0 w 4375440"/>
              <a:gd name="textAreaRight" fmla="*/ 4375800 w 4375440"/>
              <a:gd name="textAreaTop" fmla="*/ 0 h 5354640"/>
              <a:gd name="textAreaBottom" fmla="*/ 5355000 h 5354640"/>
            </a:gdLst>
            <a:ahLst/>
            <a:rect l="textAreaLeft" t="textAreaTop" r="textAreaRight" b="textAreaBottom"/>
            <a:pathLst>
              <a:path w="1646" h="2015">
                <a:moveTo>
                  <a:pt x="1412" y="1674"/>
                </a:moveTo>
                <a:cubicBezTo>
                  <a:pt x="1287" y="1534"/>
                  <a:pt x="1265" y="1326"/>
                  <a:pt x="1372" y="1163"/>
                </a:cubicBezTo>
                <a:cubicBezTo>
                  <a:pt x="1391" y="1135"/>
                  <a:pt x="1413" y="1106"/>
                  <a:pt x="1439" y="1075"/>
                </a:cubicBezTo>
                <a:cubicBezTo>
                  <a:pt x="1499" y="1000"/>
                  <a:pt x="1530" y="907"/>
                  <a:pt x="1536" y="808"/>
                </a:cubicBezTo>
                <a:cubicBezTo>
                  <a:pt x="1551" y="579"/>
                  <a:pt x="1439" y="291"/>
                  <a:pt x="1247" y="156"/>
                </a:cubicBezTo>
                <a:cubicBezTo>
                  <a:pt x="1032" y="18"/>
                  <a:pt x="744" y="0"/>
                  <a:pt x="493" y="100"/>
                </a:cubicBezTo>
                <a:cubicBezTo>
                  <a:pt x="460" y="116"/>
                  <a:pt x="429" y="135"/>
                  <a:pt x="398" y="157"/>
                </a:cubicBezTo>
                <a:cubicBezTo>
                  <a:pt x="258" y="258"/>
                  <a:pt x="224" y="369"/>
                  <a:pt x="163" y="524"/>
                </a:cubicBezTo>
                <a:cubicBezTo>
                  <a:pt x="151" y="554"/>
                  <a:pt x="133" y="585"/>
                  <a:pt x="126" y="617"/>
                </a:cubicBezTo>
                <a:cubicBezTo>
                  <a:pt x="119" y="652"/>
                  <a:pt x="127" y="664"/>
                  <a:pt x="134" y="682"/>
                </a:cubicBezTo>
                <a:cubicBezTo>
                  <a:pt x="145" y="707"/>
                  <a:pt x="144" y="723"/>
                  <a:pt x="133" y="749"/>
                </a:cubicBezTo>
                <a:cubicBezTo>
                  <a:pt x="97" y="826"/>
                  <a:pt x="65" y="904"/>
                  <a:pt x="20" y="977"/>
                </a:cubicBezTo>
                <a:cubicBezTo>
                  <a:pt x="12" y="989"/>
                  <a:pt x="2" y="1005"/>
                  <a:pt x="1" y="1022"/>
                </a:cubicBezTo>
                <a:cubicBezTo>
                  <a:pt x="0" y="1046"/>
                  <a:pt x="11" y="1070"/>
                  <a:pt x="35" y="1079"/>
                </a:cubicBezTo>
                <a:cubicBezTo>
                  <a:pt x="52" y="1085"/>
                  <a:pt x="71" y="1083"/>
                  <a:pt x="89" y="1092"/>
                </a:cubicBezTo>
                <a:cubicBezTo>
                  <a:pt x="130" y="1112"/>
                  <a:pt x="124" y="1148"/>
                  <a:pt x="103" y="1178"/>
                </a:cubicBezTo>
                <a:cubicBezTo>
                  <a:pt x="96" y="1189"/>
                  <a:pt x="89" y="1199"/>
                  <a:pt x="88" y="1208"/>
                </a:cubicBezTo>
                <a:cubicBezTo>
                  <a:pt x="85" y="1225"/>
                  <a:pt x="90" y="1240"/>
                  <a:pt x="113" y="1250"/>
                </a:cubicBezTo>
                <a:cubicBezTo>
                  <a:pt x="120" y="1254"/>
                  <a:pt x="130" y="1257"/>
                  <a:pt x="141" y="1260"/>
                </a:cubicBezTo>
                <a:cubicBezTo>
                  <a:pt x="131" y="1266"/>
                  <a:pt x="123" y="1272"/>
                  <a:pt x="118" y="1278"/>
                </a:cubicBezTo>
                <a:cubicBezTo>
                  <a:pt x="94" y="1302"/>
                  <a:pt x="114" y="1325"/>
                  <a:pt x="136" y="1339"/>
                </a:cubicBezTo>
                <a:cubicBezTo>
                  <a:pt x="150" y="1348"/>
                  <a:pt x="159" y="1356"/>
                  <a:pt x="151" y="1373"/>
                </a:cubicBezTo>
                <a:cubicBezTo>
                  <a:pt x="142" y="1393"/>
                  <a:pt x="139" y="1413"/>
                  <a:pt x="139" y="1432"/>
                </a:cubicBezTo>
                <a:cubicBezTo>
                  <a:pt x="140" y="1481"/>
                  <a:pt x="166" y="1527"/>
                  <a:pt x="215" y="1540"/>
                </a:cubicBezTo>
                <a:cubicBezTo>
                  <a:pt x="277" y="1556"/>
                  <a:pt x="371" y="1542"/>
                  <a:pt x="436" y="1546"/>
                </a:cubicBezTo>
                <a:cubicBezTo>
                  <a:pt x="483" y="1550"/>
                  <a:pt x="520" y="1567"/>
                  <a:pt x="541" y="1617"/>
                </a:cubicBezTo>
                <a:cubicBezTo>
                  <a:pt x="550" y="1639"/>
                  <a:pt x="555" y="1661"/>
                  <a:pt x="560" y="1684"/>
                </a:cubicBezTo>
                <a:cubicBezTo>
                  <a:pt x="577" y="1767"/>
                  <a:pt x="616" y="1806"/>
                  <a:pt x="644" y="1879"/>
                </a:cubicBezTo>
                <a:cubicBezTo>
                  <a:pt x="660" y="1920"/>
                  <a:pt x="660" y="1966"/>
                  <a:pt x="607" y="2015"/>
                </a:cubicBezTo>
                <a:cubicBezTo>
                  <a:pt x="1646" y="2015"/>
                  <a:pt x="1646" y="2015"/>
                  <a:pt x="1646" y="2015"/>
                </a:cubicBezTo>
                <a:cubicBezTo>
                  <a:pt x="1600" y="1886"/>
                  <a:pt x="1527" y="1803"/>
                  <a:pt x="1412" y="1674"/>
                </a:cubicBezTo>
                <a:close/>
              </a:path>
            </a:pathLst>
          </a:custGeom>
          <a:solidFill>
            <a:srgbClr val="a2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Freeform 6"/>
          <p:cNvSpPr/>
          <p:nvPr/>
        </p:nvSpPr>
        <p:spPr>
          <a:xfrm>
            <a:off x="2384280" y="1601640"/>
            <a:ext cx="2159280" cy="5256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5256360"/>
              <a:gd name="textAreaBottom" fmla="*/ 5256720 h 5256360"/>
            </a:gdLst>
            <a:ahLst/>
            <a:rect l="textAreaLeft" t="textAreaTop" r="textAreaRight" b="textAreaBottom"/>
            <a:pathLst>
              <a:path w="812" h="1978">
                <a:moveTo>
                  <a:pt x="812" y="0"/>
                </a:moveTo>
                <a:cubicBezTo>
                  <a:pt x="704" y="1"/>
                  <a:pt x="596" y="22"/>
                  <a:pt x="493" y="63"/>
                </a:cubicBezTo>
                <a:cubicBezTo>
                  <a:pt x="460" y="79"/>
                  <a:pt x="429" y="98"/>
                  <a:pt x="398" y="120"/>
                </a:cubicBezTo>
                <a:cubicBezTo>
                  <a:pt x="258" y="221"/>
                  <a:pt x="224" y="332"/>
                  <a:pt x="163" y="487"/>
                </a:cubicBezTo>
                <a:cubicBezTo>
                  <a:pt x="151" y="517"/>
                  <a:pt x="133" y="548"/>
                  <a:pt x="126" y="580"/>
                </a:cubicBezTo>
                <a:cubicBezTo>
                  <a:pt x="119" y="615"/>
                  <a:pt x="127" y="627"/>
                  <a:pt x="134" y="645"/>
                </a:cubicBezTo>
                <a:cubicBezTo>
                  <a:pt x="145" y="670"/>
                  <a:pt x="144" y="686"/>
                  <a:pt x="133" y="712"/>
                </a:cubicBezTo>
                <a:cubicBezTo>
                  <a:pt x="97" y="789"/>
                  <a:pt x="65" y="867"/>
                  <a:pt x="20" y="940"/>
                </a:cubicBezTo>
                <a:cubicBezTo>
                  <a:pt x="12" y="952"/>
                  <a:pt x="2" y="968"/>
                  <a:pt x="1" y="985"/>
                </a:cubicBezTo>
                <a:cubicBezTo>
                  <a:pt x="0" y="1009"/>
                  <a:pt x="11" y="1033"/>
                  <a:pt x="35" y="1042"/>
                </a:cubicBezTo>
                <a:cubicBezTo>
                  <a:pt x="52" y="1048"/>
                  <a:pt x="71" y="1046"/>
                  <a:pt x="89" y="1055"/>
                </a:cubicBezTo>
                <a:cubicBezTo>
                  <a:pt x="130" y="1075"/>
                  <a:pt x="124" y="1111"/>
                  <a:pt x="103" y="1141"/>
                </a:cubicBezTo>
                <a:cubicBezTo>
                  <a:pt x="96" y="1152"/>
                  <a:pt x="89" y="1162"/>
                  <a:pt x="88" y="1171"/>
                </a:cubicBezTo>
                <a:cubicBezTo>
                  <a:pt x="85" y="1188"/>
                  <a:pt x="90" y="1203"/>
                  <a:pt x="113" y="1213"/>
                </a:cubicBezTo>
                <a:cubicBezTo>
                  <a:pt x="120" y="1217"/>
                  <a:pt x="130" y="1220"/>
                  <a:pt x="141" y="1223"/>
                </a:cubicBezTo>
                <a:cubicBezTo>
                  <a:pt x="131" y="1229"/>
                  <a:pt x="123" y="1235"/>
                  <a:pt x="118" y="1241"/>
                </a:cubicBezTo>
                <a:cubicBezTo>
                  <a:pt x="94" y="1265"/>
                  <a:pt x="114" y="1288"/>
                  <a:pt x="136" y="1302"/>
                </a:cubicBezTo>
                <a:cubicBezTo>
                  <a:pt x="150" y="1311"/>
                  <a:pt x="159" y="1319"/>
                  <a:pt x="151" y="1336"/>
                </a:cubicBezTo>
                <a:cubicBezTo>
                  <a:pt x="142" y="1356"/>
                  <a:pt x="139" y="1376"/>
                  <a:pt x="139" y="1395"/>
                </a:cubicBezTo>
                <a:cubicBezTo>
                  <a:pt x="140" y="1444"/>
                  <a:pt x="166" y="1490"/>
                  <a:pt x="215" y="1503"/>
                </a:cubicBezTo>
                <a:cubicBezTo>
                  <a:pt x="277" y="1519"/>
                  <a:pt x="371" y="1505"/>
                  <a:pt x="436" y="1509"/>
                </a:cubicBezTo>
                <a:cubicBezTo>
                  <a:pt x="483" y="1513"/>
                  <a:pt x="520" y="1530"/>
                  <a:pt x="541" y="1580"/>
                </a:cubicBezTo>
                <a:cubicBezTo>
                  <a:pt x="550" y="1602"/>
                  <a:pt x="555" y="1624"/>
                  <a:pt x="560" y="1647"/>
                </a:cubicBezTo>
                <a:cubicBezTo>
                  <a:pt x="577" y="1730"/>
                  <a:pt x="616" y="1769"/>
                  <a:pt x="644" y="1842"/>
                </a:cubicBezTo>
                <a:cubicBezTo>
                  <a:pt x="660" y="1883"/>
                  <a:pt x="660" y="1929"/>
                  <a:pt x="607" y="1978"/>
                </a:cubicBezTo>
                <a:cubicBezTo>
                  <a:pt x="812" y="1978"/>
                  <a:pt x="812" y="1978"/>
                  <a:pt x="812" y="1978"/>
                </a:cubicBezTo>
                <a:cubicBezTo>
                  <a:pt x="812" y="0"/>
                  <a:pt x="812" y="0"/>
                  <a:pt x="812" y="0"/>
                </a:cubicBezTo>
                <a:close/>
              </a:path>
            </a:pathLst>
          </a:custGeom>
          <a:solidFill>
            <a:srgbClr val="f39e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Freeform 7"/>
          <p:cNvSpPr/>
          <p:nvPr/>
        </p:nvSpPr>
        <p:spPr>
          <a:xfrm>
            <a:off x="2519280" y="1503360"/>
            <a:ext cx="3987720" cy="2451240"/>
          </a:xfrm>
          <a:custGeom>
            <a:avLst/>
            <a:gdLst>
              <a:gd name="textAreaLeft" fmla="*/ 0 w 3987720"/>
              <a:gd name="textAreaRight" fmla="*/ 3988080 w 3987720"/>
              <a:gd name="textAreaTop" fmla="*/ 0 h 2451240"/>
              <a:gd name="textAreaBottom" fmla="*/ 2451600 h 2451240"/>
            </a:gdLst>
            <a:ahLst/>
            <a:rect l="textAreaLeft" t="textAreaTop" r="textAreaRight" b="textAreaBottom"/>
            <a:pathLst>
              <a:path w="1500" h="922">
                <a:moveTo>
                  <a:pt x="1466" y="922"/>
                </a:moveTo>
                <a:cubicBezTo>
                  <a:pt x="1476" y="885"/>
                  <a:pt x="1483" y="847"/>
                  <a:pt x="1485" y="808"/>
                </a:cubicBezTo>
                <a:cubicBezTo>
                  <a:pt x="1500" y="579"/>
                  <a:pt x="1388" y="291"/>
                  <a:pt x="1196" y="156"/>
                </a:cubicBezTo>
                <a:cubicBezTo>
                  <a:pt x="981" y="18"/>
                  <a:pt x="693" y="0"/>
                  <a:pt x="442" y="100"/>
                </a:cubicBezTo>
                <a:cubicBezTo>
                  <a:pt x="409" y="116"/>
                  <a:pt x="378" y="135"/>
                  <a:pt x="347" y="157"/>
                </a:cubicBezTo>
                <a:cubicBezTo>
                  <a:pt x="207" y="258"/>
                  <a:pt x="173" y="369"/>
                  <a:pt x="112" y="524"/>
                </a:cubicBezTo>
                <a:cubicBezTo>
                  <a:pt x="100" y="554"/>
                  <a:pt x="82" y="585"/>
                  <a:pt x="75" y="617"/>
                </a:cubicBezTo>
                <a:cubicBezTo>
                  <a:pt x="68" y="652"/>
                  <a:pt x="76" y="664"/>
                  <a:pt x="83" y="682"/>
                </a:cubicBezTo>
                <a:cubicBezTo>
                  <a:pt x="94" y="707"/>
                  <a:pt x="93" y="723"/>
                  <a:pt x="82" y="749"/>
                </a:cubicBezTo>
                <a:cubicBezTo>
                  <a:pt x="55" y="807"/>
                  <a:pt x="30" y="866"/>
                  <a:pt x="0" y="922"/>
                </a:cubicBezTo>
                <a:cubicBezTo>
                  <a:pt x="1466" y="922"/>
                  <a:pt x="1466" y="922"/>
                  <a:pt x="1466" y="922"/>
                </a:cubicBezTo>
                <a:close/>
              </a:path>
            </a:pathLst>
          </a:custGeom>
          <a:solidFill>
            <a:srgbClr val="e7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>
            <a:off x="2519280" y="1601640"/>
            <a:ext cx="2024280" cy="2352960"/>
          </a:xfrm>
          <a:custGeom>
            <a:avLst/>
            <a:gdLst>
              <a:gd name="textAreaLeft" fmla="*/ 0 w 2024280"/>
              <a:gd name="textAreaRight" fmla="*/ 2024640 w 2024280"/>
              <a:gd name="textAreaTop" fmla="*/ 0 h 2352960"/>
              <a:gd name="textAreaBottom" fmla="*/ 2353320 h 2352960"/>
            </a:gdLst>
            <a:ahLst/>
            <a:rect l="textAreaLeft" t="textAreaTop" r="textAreaRight" b="textAreaBottom"/>
            <a:pathLst>
              <a:path w="761" h="885">
                <a:moveTo>
                  <a:pt x="761" y="0"/>
                </a:moveTo>
                <a:cubicBezTo>
                  <a:pt x="653" y="1"/>
                  <a:pt x="545" y="22"/>
                  <a:pt x="442" y="63"/>
                </a:cubicBezTo>
                <a:cubicBezTo>
                  <a:pt x="409" y="79"/>
                  <a:pt x="378" y="98"/>
                  <a:pt x="347" y="120"/>
                </a:cubicBezTo>
                <a:cubicBezTo>
                  <a:pt x="207" y="221"/>
                  <a:pt x="173" y="332"/>
                  <a:pt x="112" y="487"/>
                </a:cubicBezTo>
                <a:cubicBezTo>
                  <a:pt x="100" y="517"/>
                  <a:pt x="82" y="548"/>
                  <a:pt x="75" y="580"/>
                </a:cubicBezTo>
                <a:cubicBezTo>
                  <a:pt x="68" y="615"/>
                  <a:pt x="76" y="627"/>
                  <a:pt x="83" y="645"/>
                </a:cubicBezTo>
                <a:cubicBezTo>
                  <a:pt x="94" y="670"/>
                  <a:pt x="93" y="686"/>
                  <a:pt x="82" y="712"/>
                </a:cubicBezTo>
                <a:cubicBezTo>
                  <a:pt x="55" y="770"/>
                  <a:pt x="30" y="829"/>
                  <a:pt x="0" y="885"/>
                </a:cubicBezTo>
                <a:cubicBezTo>
                  <a:pt x="761" y="885"/>
                  <a:pt x="761" y="885"/>
                  <a:pt x="761" y="885"/>
                </a:cubicBezTo>
                <a:cubicBezTo>
                  <a:pt x="761" y="0"/>
                  <a:pt x="761" y="0"/>
                  <a:pt x="761" y="0"/>
                </a:cubicBezTo>
                <a:close/>
              </a:path>
            </a:pathLst>
          </a:custGeom>
          <a:solidFill>
            <a:srgbClr val="009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>
            <a:off x="4095720" y="3139920"/>
            <a:ext cx="198360" cy="662040"/>
          </a:xfrm>
          <a:custGeom>
            <a:avLst/>
            <a:gdLst>
              <a:gd name="textAreaLeft" fmla="*/ 0 w 198360"/>
              <a:gd name="textAreaRight" fmla="*/ 198720 w 19836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64" h="544">
                <a:moveTo>
                  <a:pt x="164" y="0"/>
                </a:moveTo>
                <a:lnTo>
                  <a:pt x="164" y="544"/>
                </a:lnTo>
                <a:lnTo>
                  <a:pt x="72" y="544"/>
                </a:lnTo>
                <a:lnTo>
                  <a:pt x="72" y="75"/>
                </a:lnTo>
                <a:lnTo>
                  <a:pt x="41" y="134"/>
                </a:lnTo>
                <a:lnTo>
                  <a:pt x="0" y="110"/>
                </a:lnTo>
                <a:lnTo>
                  <a:pt x="63" y="0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Freeform 10"/>
          <p:cNvSpPr/>
          <p:nvPr/>
        </p:nvSpPr>
        <p:spPr>
          <a:xfrm>
            <a:off x="4738680" y="3139920"/>
            <a:ext cx="293760" cy="662040"/>
          </a:xfrm>
          <a:custGeom>
            <a:avLst/>
            <a:gdLst>
              <a:gd name="textAreaLeft" fmla="*/ 0 w 293760"/>
              <a:gd name="textAreaRight" fmla="*/ 294120 w 29376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10" h="249">
                <a:moveTo>
                  <a:pt x="105" y="98"/>
                </a:moveTo>
                <a:cubicBezTo>
                  <a:pt x="109" y="92"/>
                  <a:pt x="110" y="86"/>
                  <a:pt x="110" y="79"/>
                </a:cubicBezTo>
                <a:cubicBezTo>
                  <a:pt x="110" y="38"/>
                  <a:pt x="110" y="38"/>
                  <a:pt x="110" y="38"/>
                </a:cubicBezTo>
                <a:cubicBezTo>
                  <a:pt x="110" y="28"/>
                  <a:pt x="107" y="19"/>
                  <a:pt x="99" y="11"/>
                </a:cubicBezTo>
                <a:cubicBezTo>
                  <a:pt x="92" y="4"/>
                  <a:pt x="83" y="0"/>
                  <a:pt x="72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28" y="0"/>
                  <a:pt x="19" y="4"/>
                  <a:pt x="11" y="11"/>
                </a:cubicBezTo>
                <a:cubicBezTo>
                  <a:pt x="4" y="19"/>
                  <a:pt x="0" y="28"/>
                  <a:pt x="0" y="38"/>
                </a:cubicBezTo>
                <a:cubicBezTo>
                  <a:pt x="0" y="70"/>
                  <a:pt x="0" y="70"/>
                  <a:pt x="0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35"/>
                  <a:pt x="41" y="35"/>
                  <a:pt x="41" y="35"/>
                </a:cubicBezTo>
                <a:cubicBezTo>
                  <a:pt x="69" y="35"/>
                  <a:pt x="69" y="35"/>
                  <a:pt x="69" y="35"/>
                </a:cubicBezTo>
                <a:cubicBezTo>
                  <a:pt x="69" y="91"/>
                  <a:pt x="69" y="91"/>
                  <a:pt x="69" y="91"/>
                </a:cubicBezTo>
                <a:cubicBezTo>
                  <a:pt x="0" y="215"/>
                  <a:pt x="0" y="215"/>
                  <a:pt x="0" y="215"/>
                </a:cubicBezTo>
                <a:cubicBezTo>
                  <a:pt x="0" y="249"/>
                  <a:pt x="0" y="249"/>
                  <a:pt x="0" y="249"/>
                </a:cubicBezTo>
                <a:cubicBezTo>
                  <a:pt x="110" y="249"/>
                  <a:pt x="110" y="249"/>
                  <a:pt x="110" y="249"/>
                </a:cubicBezTo>
                <a:cubicBezTo>
                  <a:pt x="110" y="215"/>
                  <a:pt x="110" y="215"/>
                  <a:pt x="110" y="215"/>
                </a:cubicBezTo>
                <a:cubicBezTo>
                  <a:pt x="40" y="215"/>
                  <a:pt x="40" y="215"/>
                  <a:pt x="40" y="215"/>
                </a:cubicBezTo>
                <a:cubicBezTo>
                  <a:pt x="105" y="98"/>
                  <a:pt x="105" y="98"/>
                  <a:pt x="10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2" name="Freeform 11"/>
          <p:cNvSpPr/>
          <p:nvPr/>
        </p:nvSpPr>
        <p:spPr>
          <a:xfrm>
            <a:off x="4095720" y="4105440"/>
            <a:ext cx="295200" cy="664920"/>
          </a:xfrm>
          <a:custGeom>
            <a:avLst/>
            <a:gdLst>
              <a:gd name="textAreaLeft" fmla="*/ 0 w 295200"/>
              <a:gd name="textAreaRight" fmla="*/ 295560 w 29520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111" h="250">
                <a:moveTo>
                  <a:pt x="73" y="0"/>
                </a:moveTo>
                <a:cubicBezTo>
                  <a:pt x="83" y="0"/>
                  <a:pt x="92" y="4"/>
                  <a:pt x="100" y="11"/>
                </a:cubicBezTo>
                <a:cubicBezTo>
                  <a:pt x="107" y="19"/>
                  <a:pt x="111" y="28"/>
                  <a:pt x="111" y="38"/>
                </a:cubicBezTo>
                <a:cubicBezTo>
                  <a:pt x="111" y="91"/>
                  <a:pt x="111" y="91"/>
                  <a:pt x="111" y="91"/>
                </a:cubicBezTo>
                <a:cubicBezTo>
                  <a:pt x="111" y="98"/>
                  <a:pt x="109" y="105"/>
                  <a:pt x="105" y="111"/>
                </a:cubicBezTo>
                <a:cubicBezTo>
                  <a:pt x="101" y="117"/>
                  <a:pt x="96" y="122"/>
                  <a:pt x="90" y="125"/>
                </a:cubicBezTo>
                <a:cubicBezTo>
                  <a:pt x="96" y="128"/>
                  <a:pt x="101" y="133"/>
                  <a:pt x="105" y="139"/>
                </a:cubicBezTo>
                <a:cubicBezTo>
                  <a:pt x="109" y="145"/>
                  <a:pt x="111" y="152"/>
                  <a:pt x="111" y="159"/>
                </a:cubicBezTo>
                <a:cubicBezTo>
                  <a:pt x="111" y="211"/>
                  <a:pt x="111" y="211"/>
                  <a:pt x="111" y="211"/>
                </a:cubicBezTo>
                <a:cubicBezTo>
                  <a:pt x="111" y="222"/>
                  <a:pt x="107" y="231"/>
                  <a:pt x="100" y="238"/>
                </a:cubicBezTo>
                <a:cubicBezTo>
                  <a:pt x="92" y="246"/>
                  <a:pt x="83" y="250"/>
                  <a:pt x="73" y="250"/>
                </a:cubicBezTo>
                <a:cubicBezTo>
                  <a:pt x="38" y="250"/>
                  <a:pt x="38" y="250"/>
                  <a:pt x="38" y="250"/>
                </a:cubicBezTo>
                <a:cubicBezTo>
                  <a:pt x="28" y="250"/>
                  <a:pt x="19" y="246"/>
                  <a:pt x="12" y="238"/>
                </a:cubicBezTo>
                <a:cubicBezTo>
                  <a:pt x="4" y="231"/>
                  <a:pt x="0" y="222"/>
                  <a:pt x="0" y="211"/>
                </a:cubicBezTo>
                <a:cubicBezTo>
                  <a:pt x="0" y="180"/>
                  <a:pt x="0" y="180"/>
                  <a:pt x="0" y="180"/>
                </a:cubicBezTo>
                <a:cubicBezTo>
                  <a:pt x="41" y="180"/>
                  <a:pt x="41" y="180"/>
                  <a:pt x="41" y="180"/>
                </a:cubicBezTo>
                <a:cubicBezTo>
                  <a:pt x="41" y="215"/>
                  <a:pt x="41" y="215"/>
                  <a:pt x="41" y="215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41" y="142"/>
                  <a:pt x="41" y="142"/>
                  <a:pt x="41" y="142"/>
                </a:cubicBezTo>
                <a:cubicBezTo>
                  <a:pt x="41" y="107"/>
                  <a:pt x="41" y="107"/>
                  <a:pt x="41" y="107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70" y="35"/>
                  <a:pt x="70" y="35"/>
                  <a:pt x="70" y="35"/>
                </a:cubicBezTo>
                <a:cubicBezTo>
                  <a:pt x="41" y="35"/>
                  <a:pt x="41" y="35"/>
                  <a:pt x="41" y="35"/>
                </a:cubicBezTo>
                <a:cubicBezTo>
                  <a:pt x="41" y="70"/>
                  <a:pt x="41" y="70"/>
                  <a:pt x="41" y="70"/>
                </a:cubicBezTo>
                <a:cubicBezTo>
                  <a:pt x="0" y="70"/>
                  <a:pt x="0" y="70"/>
                  <a:pt x="0" y="70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8"/>
                  <a:pt x="4" y="19"/>
                  <a:pt x="12" y="11"/>
                </a:cubicBezTo>
                <a:cubicBezTo>
                  <a:pt x="19" y="4"/>
                  <a:pt x="28" y="0"/>
                  <a:pt x="38" y="0"/>
                </a:cubicBezTo>
                <a:cubicBezTo>
                  <a:pt x="73" y="0"/>
                  <a:pt x="73" y="0"/>
                  <a:pt x="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Freeform 12"/>
          <p:cNvSpPr/>
          <p:nvPr/>
        </p:nvSpPr>
        <p:spPr>
          <a:xfrm>
            <a:off x="4694400" y="4105440"/>
            <a:ext cx="338040" cy="661680"/>
          </a:xfrm>
          <a:custGeom>
            <a:avLst/>
            <a:gdLst>
              <a:gd name="textAreaLeft" fmla="*/ 0 w 338040"/>
              <a:gd name="textAreaRight" fmla="*/ 338400 w 338040"/>
              <a:gd name="textAreaTop" fmla="*/ 0 h 661680"/>
              <a:gd name="textAreaBottom" fmla="*/ 662040 h 661680"/>
            </a:gdLst>
            <a:ahLst/>
            <a:rect l="textAreaLeft" t="textAreaTop" r="textAreaRight" b="textAreaBottom"/>
            <a:pathLst>
              <a:path w="278" h="545">
                <a:moveTo>
                  <a:pt x="241" y="0"/>
                </a:moveTo>
                <a:lnTo>
                  <a:pt x="241" y="317"/>
                </a:lnTo>
                <a:lnTo>
                  <a:pt x="278" y="317"/>
                </a:lnTo>
                <a:lnTo>
                  <a:pt x="278" y="394"/>
                </a:lnTo>
                <a:lnTo>
                  <a:pt x="241" y="394"/>
                </a:lnTo>
                <a:lnTo>
                  <a:pt x="241" y="545"/>
                </a:lnTo>
                <a:lnTo>
                  <a:pt x="151" y="545"/>
                </a:lnTo>
                <a:lnTo>
                  <a:pt x="151" y="394"/>
                </a:lnTo>
                <a:lnTo>
                  <a:pt x="0" y="394"/>
                </a:lnTo>
                <a:lnTo>
                  <a:pt x="0" y="317"/>
                </a:lnTo>
                <a:lnTo>
                  <a:pt x="97" y="0"/>
                </a:lnTo>
                <a:lnTo>
                  <a:pt x="241" y="0"/>
                </a:lnTo>
                <a:close/>
                <a:moveTo>
                  <a:pt x="151" y="317"/>
                </a:moveTo>
                <a:lnTo>
                  <a:pt x="151" y="68"/>
                </a:lnTo>
                <a:lnTo>
                  <a:pt x="79" y="317"/>
                </a:lnTo>
                <a:lnTo>
                  <a:pt x="151" y="3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Freeform 14"/>
          <p:cNvSpPr/>
          <p:nvPr/>
        </p:nvSpPr>
        <p:spPr>
          <a:xfrm>
            <a:off x="4070520" y="2573280"/>
            <a:ext cx="347400" cy="399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1" h="151">
                <a:moveTo>
                  <a:pt x="48" y="130"/>
                </a:moveTo>
                <a:cubicBezTo>
                  <a:pt x="83" y="130"/>
                  <a:pt x="83" y="130"/>
                  <a:pt x="83" y="130"/>
                </a:cubicBezTo>
                <a:cubicBezTo>
                  <a:pt x="84" y="130"/>
                  <a:pt x="86" y="131"/>
                  <a:pt x="86" y="132"/>
                </a:cubicBezTo>
                <a:cubicBezTo>
                  <a:pt x="86" y="136"/>
                  <a:pt x="86" y="136"/>
                  <a:pt x="86" y="136"/>
                </a:cubicBezTo>
                <a:cubicBezTo>
                  <a:pt x="86" y="137"/>
                  <a:pt x="84" y="138"/>
                  <a:pt x="83" y="138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46" y="138"/>
                  <a:pt x="45" y="137"/>
                  <a:pt x="45" y="136"/>
                </a:cubicBezTo>
                <a:cubicBezTo>
                  <a:pt x="45" y="132"/>
                  <a:pt x="45" y="132"/>
                  <a:pt x="45" y="132"/>
                </a:cubicBezTo>
                <a:cubicBezTo>
                  <a:pt x="45" y="131"/>
                  <a:pt x="46" y="130"/>
                  <a:pt x="48" y="130"/>
                </a:cubicBezTo>
                <a:cubicBezTo>
                  <a:pt x="48" y="130"/>
                  <a:pt x="48" y="130"/>
                  <a:pt x="48" y="130"/>
                </a:cubicBezTo>
                <a:close/>
                <a:moveTo>
                  <a:pt x="78" y="143"/>
                </a:moveTo>
                <a:cubicBezTo>
                  <a:pt x="78" y="147"/>
                  <a:pt x="78" y="147"/>
                  <a:pt x="78" y="147"/>
                </a:cubicBezTo>
                <a:cubicBezTo>
                  <a:pt x="78" y="149"/>
                  <a:pt x="76" y="151"/>
                  <a:pt x="74" y="151"/>
                </a:cubicBezTo>
                <a:cubicBezTo>
                  <a:pt x="57" y="151"/>
                  <a:pt x="57" y="151"/>
                  <a:pt x="57" y="151"/>
                </a:cubicBezTo>
                <a:cubicBezTo>
                  <a:pt x="54" y="151"/>
                  <a:pt x="52" y="149"/>
                  <a:pt x="52" y="147"/>
                </a:cubicBezTo>
                <a:cubicBezTo>
                  <a:pt x="52" y="143"/>
                  <a:pt x="52" y="143"/>
                  <a:pt x="52" y="143"/>
                </a:cubicBezTo>
                <a:cubicBezTo>
                  <a:pt x="78" y="143"/>
                  <a:pt x="78" y="143"/>
                  <a:pt x="78" y="143"/>
                </a:cubicBezTo>
                <a:close/>
                <a:moveTo>
                  <a:pt x="65" y="34"/>
                </a:moveTo>
                <a:cubicBezTo>
                  <a:pt x="84" y="34"/>
                  <a:pt x="99" y="49"/>
                  <a:pt x="99" y="68"/>
                </a:cubicBezTo>
                <a:cubicBezTo>
                  <a:pt x="99" y="89"/>
                  <a:pt x="82" y="94"/>
                  <a:pt x="82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94"/>
                  <a:pt x="31" y="89"/>
                  <a:pt x="31" y="68"/>
                </a:cubicBezTo>
                <a:cubicBezTo>
                  <a:pt x="31" y="49"/>
                  <a:pt x="47" y="34"/>
                  <a:pt x="65" y="34"/>
                </a:cubicBezTo>
                <a:cubicBezTo>
                  <a:pt x="65" y="34"/>
                  <a:pt x="65" y="34"/>
                  <a:pt x="65" y="34"/>
                </a:cubicBezTo>
                <a:close/>
                <a:moveTo>
                  <a:pt x="70" y="40"/>
                </a:moveTo>
                <a:cubicBezTo>
                  <a:pt x="72" y="41"/>
                  <a:pt x="72" y="41"/>
                  <a:pt x="72" y="41"/>
                </a:cubicBezTo>
                <a:cubicBezTo>
                  <a:pt x="76" y="42"/>
                  <a:pt x="80" y="44"/>
                  <a:pt x="83" y="46"/>
                </a:cubicBezTo>
                <a:cubicBezTo>
                  <a:pt x="82" y="46"/>
                  <a:pt x="80" y="45"/>
                  <a:pt x="79" y="45"/>
                </a:cubicBezTo>
                <a:cubicBezTo>
                  <a:pt x="76" y="44"/>
                  <a:pt x="76" y="44"/>
                  <a:pt x="76" y="44"/>
                </a:cubicBezTo>
                <a:cubicBezTo>
                  <a:pt x="74" y="44"/>
                  <a:pt x="73" y="44"/>
                  <a:pt x="71" y="43"/>
                </a:cubicBezTo>
                <a:cubicBezTo>
                  <a:pt x="69" y="44"/>
                  <a:pt x="66" y="44"/>
                  <a:pt x="64" y="45"/>
                </a:cubicBezTo>
                <a:cubicBezTo>
                  <a:pt x="59" y="46"/>
                  <a:pt x="54" y="49"/>
                  <a:pt x="50" y="53"/>
                </a:cubicBezTo>
                <a:cubicBezTo>
                  <a:pt x="49" y="55"/>
                  <a:pt x="49" y="55"/>
                  <a:pt x="49" y="55"/>
                </a:cubicBezTo>
                <a:cubicBezTo>
                  <a:pt x="45" y="59"/>
                  <a:pt x="43" y="63"/>
                  <a:pt x="42" y="68"/>
                </a:cubicBezTo>
                <a:cubicBezTo>
                  <a:pt x="41" y="72"/>
                  <a:pt x="41" y="72"/>
                  <a:pt x="41" y="72"/>
                </a:cubicBezTo>
                <a:cubicBezTo>
                  <a:pt x="40" y="75"/>
                  <a:pt x="40" y="78"/>
                  <a:pt x="40" y="81"/>
                </a:cubicBezTo>
                <a:cubicBezTo>
                  <a:pt x="40" y="80"/>
                  <a:pt x="39" y="78"/>
                  <a:pt x="38" y="77"/>
                </a:cubicBezTo>
                <a:cubicBezTo>
                  <a:pt x="38" y="74"/>
                  <a:pt x="38" y="74"/>
                  <a:pt x="38" y="74"/>
                </a:cubicBezTo>
                <a:cubicBezTo>
                  <a:pt x="37" y="70"/>
                  <a:pt x="37" y="66"/>
                  <a:pt x="38" y="62"/>
                </a:cubicBezTo>
                <a:cubicBezTo>
                  <a:pt x="38" y="60"/>
                  <a:pt x="38" y="60"/>
                  <a:pt x="38" y="60"/>
                </a:cubicBezTo>
                <a:cubicBezTo>
                  <a:pt x="40" y="56"/>
                  <a:pt x="42" y="53"/>
                  <a:pt x="45" y="49"/>
                </a:cubicBezTo>
                <a:cubicBezTo>
                  <a:pt x="47" y="47"/>
                  <a:pt x="47" y="47"/>
                  <a:pt x="47" y="47"/>
                </a:cubicBezTo>
                <a:cubicBezTo>
                  <a:pt x="50" y="44"/>
                  <a:pt x="54" y="42"/>
                  <a:pt x="58" y="41"/>
                </a:cubicBezTo>
                <a:cubicBezTo>
                  <a:pt x="61" y="40"/>
                  <a:pt x="63" y="40"/>
                  <a:pt x="65" y="40"/>
                </a:cubicBezTo>
                <a:cubicBezTo>
                  <a:pt x="67" y="40"/>
                  <a:pt x="68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lose/>
                <a:moveTo>
                  <a:pt x="62" y="0"/>
                </a:moveTo>
                <a:cubicBezTo>
                  <a:pt x="70" y="0"/>
                  <a:pt x="70" y="0"/>
                  <a:pt x="70" y="0"/>
                </a:cubicBezTo>
                <a:cubicBezTo>
                  <a:pt x="70" y="23"/>
                  <a:pt x="70" y="23"/>
                  <a:pt x="70" y="23"/>
                </a:cubicBezTo>
                <a:cubicBezTo>
                  <a:pt x="68" y="23"/>
                  <a:pt x="67" y="23"/>
                  <a:pt x="66" y="23"/>
                </a:cubicBezTo>
                <a:cubicBezTo>
                  <a:pt x="64" y="23"/>
                  <a:pt x="63" y="23"/>
                  <a:pt x="62" y="23"/>
                </a:cubicBezTo>
                <a:cubicBezTo>
                  <a:pt x="62" y="0"/>
                  <a:pt x="62" y="0"/>
                  <a:pt x="62" y="0"/>
                </a:cubicBezTo>
                <a:close/>
                <a:moveTo>
                  <a:pt x="109" y="16"/>
                </a:moveTo>
                <a:cubicBezTo>
                  <a:pt x="115" y="22"/>
                  <a:pt x="115" y="22"/>
                  <a:pt x="115" y="22"/>
                </a:cubicBezTo>
                <a:cubicBezTo>
                  <a:pt x="99" y="37"/>
                  <a:pt x="99" y="37"/>
                  <a:pt x="99" y="37"/>
                </a:cubicBezTo>
                <a:cubicBezTo>
                  <a:pt x="97" y="35"/>
                  <a:pt x="95" y="33"/>
                  <a:pt x="93" y="32"/>
                </a:cubicBezTo>
                <a:cubicBezTo>
                  <a:pt x="109" y="16"/>
                  <a:pt x="109" y="16"/>
                  <a:pt x="109" y="16"/>
                </a:cubicBezTo>
                <a:close/>
                <a:moveTo>
                  <a:pt x="34" y="102"/>
                </a:moveTo>
                <a:cubicBezTo>
                  <a:pt x="22" y="114"/>
                  <a:pt x="22" y="114"/>
                  <a:pt x="22" y="114"/>
                </a:cubicBezTo>
                <a:cubicBezTo>
                  <a:pt x="17" y="108"/>
                  <a:pt x="17" y="108"/>
                  <a:pt x="17" y="108"/>
                </a:cubicBezTo>
                <a:cubicBezTo>
                  <a:pt x="29" y="96"/>
                  <a:pt x="29" y="96"/>
                  <a:pt x="29" y="96"/>
                </a:cubicBezTo>
                <a:cubicBezTo>
                  <a:pt x="31" y="98"/>
                  <a:pt x="32" y="100"/>
                  <a:pt x="34" y="102"/>
                </a:cubicBezTo>
                <a:cubicBezTo>
                  <a:pt x="34" y="102"/>
                  <a:pt x="34" y="102"/>
                  <a:pt x="34" y="102"/>
                </a:cubicBezTo>
                <a:close/>
                <a:moveTo>
                  <a:pt x="22" y="16"/>
                </a:moveTo>
                <a:cubicBezTo>
                  <a:pt x="17" y="22"/>
                  <a:pt x="17" y="22"/>
                  <a:pt x="17" y="22"/>
                </a:cubicBezTo>
                <a:cubicBezTo>
                  <a:pt x="32" y="37"/>
                  <a:pt x="32" y="37"/>
                  <a:pt x="32" y="37"/>
                </a:cubicBezTo>
                <a:cubicBezTo>
                  <a:pt x="34" y="35"/>
                  <a:pt x="36" y="33"/>
                  <a:pt x="38" y="32"/>
                </a:cubicBezTo>
                <a:cubicBezTo>
                  <a:pt x="22" y="16"/>
                  <a:pt x="22" y="16"/>
                  <a:pt x="22" y="16"/>
                </a:cubicBezTo>
                <a:close/>
                <a:moveTo>
                  <a:pt x="97" y="102"/>
                </a:moveTo>
                <a:cubicBezTo>
                  <a:pt x="109" y="114"/>
                  <a:pt x="109" y="114"/>
                  <a:pt x="109" y="114"/>
                </a:cubicBezTo>
                <a:cubicBezTo>
                  <a:pt x="115" y="108"/>
                  <a:pt x="115" y="108"/>
                  <a:pt x="115" y="108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101" y="98"/>
                  <a:pt x="99" y="100"/>
                  <a:pt x="97" y="102"/>
                </a:cubicBezTo>
                <a:cubicBezTo>
                  <a:pt x="97" y="102"/>
                  <a:pt x="97" y="102"/>
                  <a:pt x="97" y="102"/>
                </a:cubicBezTo>
                <a:close/>
                <a:moveTo>
                  <a:pt x="131" y="61"/>
                </a:moveTo>
                <a:cubicBezTo>
                  <a:pt x="131" y="69"/>
                  <a:pt x="131" y="69"/>
                  <a:pt x="131" y="69"/>
                </a:cubicBezTo>
                <a:cubicBezTo>
                  <a:pt x="112" y="69"/>
                  <a:pt x="112" y="69"/>
                  <a:pt x="112" y="69"/>
                </a:cubicBezTo>
                <a:cubicBezTo>
                  <a:pt x="112" y="69"/>
                  <a:pt x="112" y="68"/>
                  <a:pt x="112" y="68"/>
                </a:cubicBezTo>
                <a:cubicBezTo>
                  <a:pt x="112" y="66"/>
                  <a:pt x="111" y="63"/>
                  <a:pt x="111" y="61"/>
                </a:cubicBezTo>
                <a:cubicBezTo>
                  <a:pt x="131" y="61"/>
                  <a:pt x="131" y="61"/>
                  <a:pt x="131" y="61"/>
                </a:cubicBezTo>
                <a:close/>
                <a:moveTo>
                  <a:pt x="20" y="69"/>
                </a:moveTo>
                <a:cubicBezTo>
                  <a:pt x="0" y="69"/>
                  <a:pt x="0" y="69"/>
                  <a:pt x="0" y="69"/>
                </a:cubicBezTo>
                <a:cubicBezTo>
                  <a:pt x="0" y="61"/>
                  <a:pt x="0" y="61"/>
                  <a:pt x="0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3"/>
                  <a:pt x="20" y="66"/>
                  <a:pt x="20" y="68"/>
                </a:cubicBezTo>
                <a:cubicBezTo>
                  <a:pt x="20" y="68"/>
                  <a:pt x="20" y="69"/>
                  <a:pt x="20" y="69"/>
                </a:cubicBezTo>
                <a:cubicBezTo>
                  <a:pt x="20" y="69"/>
                  <a:pt x="20" y="69"/>
                  <a:pt x="20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4675320" y="2651040"/>
            <a:ext cx="331560" cy="260280"/>
          </a:xfrm>
          <a:custGeom>
            <a:avLst/>
            <a:gdLst>
              <a:gd name="textAreaLeft" fmla="*/ 0 w 331560"/>
              <a:gd name="textAreaRight" fmla="*/ 331920 w 33156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25" h="98">
                <a:moveTo>
                  <a:pt x="125" y="54"/>
                </a:moveTo>
                <a:cubicBezTo>
                  <a:pt x="125" y="91"/>
                  <a:pt x="125" y="91"/>
                  <a:pt x="125" y="91"/>
                </a:cubicBezTo>
                <a:cubicBezTo>
                  <a:pt x="125" y="95"/>
                  <a:pt x="122" y="98"/>
                  <a:pt x="118" y="98"/>
                </a:cubicBezTo>
                <a:cubicBezTo>
                  <a:pt x="6" y="98"/>
                  <a:pt x="6" y="98"/>
                  <a:pt x="6" y="98"/>
                </a:cubicBezTo>
                <a:cubicBezTo>
                  <a:pt x="3" y="98"/>
                  <a:pt x="0" y="95"/>
                  <a:pt x="0" y="91"/>
                </a:cubicBezTo>
                <a:cubicBezTo>
                  <a:pt x="0" y="54"/>
                  <a:pt x="0" y="54"/>
                  <a:pt x="0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5" y="62"/>
                  <a:pt x="55" y="62"/>
                  <a:pt x="55" y="62"/>
                </a:cubicBezTo>
                <a:cubicBezTo>
                  <a:pt x="55" y="64"/>
                  <a:pt x="57" y="66"/>
                  <a:pt x="59" y="66"/>
                </a:cubicBezTo>
                <a:cubicBezTo>
                  <a:pt x="66" y="66"/>
                  <a:pt x="66" y="66"/>
                  <a:pt x="66" y="66"/>
                </a:cubicBezTo>
                <a:cubicBezTo>
                  <a:pt x="68" y="66"/>
                  <a:pt x="69" y="64"/>
                  <a:pt x="69" y="62"/>
                </a:cubicBezTo>
                <a:cubicBezTo>
                  <a:pt x="69" y="54"/>
                  <a:pt x="69" y="54"/>
                  <a:pt x="69" y="54"/>
                </a:cubicBezTo>
                <a:cubicBezTo>
                  <a:pt x="125" y="54"/>
                  <a:pt x="125" y="54"/>
                  <a:pt x="125" y="54"/>
                </a:cubicBezTo>
                <a:close/>
                <a:moveTo>
                  <a:pt x="50" y="19"/>
                </a:moveTo>
                <a:cubicBezTo>
                  <a:pt x="75" y="19"/>
                  <a:pt x="75" y="19"/>
                  <a:pt x="75" y="19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9"/>
                  <a:pt x="73" y="8"/>
                  <a:pt x="72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1" y="8"/>
                  <a:pt x="50" y="9"/>
                  <a:pt x="50" y="11"/>
                </a:cubicBezTo>
                <a:cubicBezTo>
                  <a:pt x="50" y="19"/>
                  <a:pt x="50" y="19"/>
                  <a:pt x="50" y="19"/>
                </a:cubicBezTo>
                <a:close/>
                <a:moveTo>
                  <a:pt x="6" y="19"/>
                </a:moveTo>
                <a:cubicBezTo>
                  <a:pt x="43" y="19"/>
                  <a:pt x="43" y="19"/>
                  <a:pt x="43" y="19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5"/>
                  <a:pt x="47" y="0"/>
                  <a:pt x="53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7" y="0"/>
                  <a:pt x="82" y="5"/>
                  <a:pt x="82" y="11"/>
                </a:cubicBezTo>
                <a:cubicBezTo>
                  <a:pt x="82" y="19"/>
                  <a:pt x="82" y="19"/>
                  <a:pt x="82" y="19"/>
                </a:cubicBezTo>
                <a:cubicBezTo>
                  <a:pt x="118" y="19"/>
                  <a:pt x="118" y="19"/>
                  <a:pt x="118" y="19"/>
                </a:cubicBezTo>
                <a:cubicBezTo>
                  <a:pt x="122" y="19"/>
                  <a:pt x="125" y="22"/>
                  <a:pt x="125" y="26"/>
                </a:cubicBezTo>
                <a:cubicBezTo>
                  <a:pt x="125" y="47"/>
                  <a:pt x="125" y="47"/>
                  <a:pt x="125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2"/>
                  <a:pt x="3" y="19"/>
                  <a:pt x="6" y="19"/>
                </a:cubicBezTo>
                <a:cubicBezTo>
                  <a:pt x="6" y="19"/>
                  <a:pt x="6" y="19"/>
                  <a:pt x="6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Freeform 16"/>
          <p:cNvSpPr/>
          <p:nvPr/>
        </p:nvSpPr>
        <p:spPr>
          <a:xfrm>
            <a:off x="4065480" y="4959360"/>
            <a:ext cx="381240" cy="382680"/>
          </a:xfrm>
          <a:custGeom>
            <a:avLst/>
            <a:gdLst>
              <a:gd name="textAreaLeft" fmla="*/ 0 w 381240"/>
              <a:gd name="textAreaRight" fmla="*/ 381600 w 3812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43" h="144">
                <a:moveTo>
                  <a:pt x="70" y="40"/>
                </a:moveTo>
                <a:cubicBezTo>
                  <a:pt x="75" y="41"/>
                  <a:pt x="80" y="42"/>
                  <a:pt x="84" y="45"/>
                </a:cubicBezTo>
                <a:cubicBezTo>
                  <a:pt x="79" y="50"/>
                  <a:pt x="79" y="50"/>
                  <a:pt x="79" y="50"/>
                </a:cubicBezTo>
                <a:cubicBezTo>
                  <a:pt x="76" y="49"/>
                  <a:pt x="73" y="48"/>
                  <a:pt x="70" y="47"/>
                </a:cubicBezTo>
                <a:cubicBezTo>
                  <a:pt x="70" y="61"/>
                  <a:pt x="70" y="61"/>
                  <a:pt x="70" y="61"/>
                </a:cubicBezTo>
                <a:cubicBezTo>
                  <a:pt x="72" y="62"/>
                  <a:pt x="74" y="63"/>
                  <a:pt x="75" y="64"/>
                </a:cubicBezTo>
                <a:cubicBezTo>
                  <a:pt x="106" y="32"/>
                  <a:pt x="106" y="32"/>
                  <a:pt x="106" y="32"/>
                </a:cubicBezTo>
                <a:cubicBezTo>
                  <a:pt x="105" y="18"/>
                  <a:pt x="105" y="18"/>
                  <a:pt x="105" y="18"/>
                </a:cubicBezTo>
                <a:cubicBezTo>
                  <a:pt x="123" y="0"/>
                  <a:pt x="123" y="0"/>
                  <a:pt x="123" y="0"/>
                </a:cubicBezTo>
                <a:cubicBezTo>
                  <a:pt x="125" y="19"/>
                  <a:pt x="125" y="19"/>
                  <a:pt x="125" y="19"/>
                </a:cubicBezTo>
                <a:cubicBezTo>
                  <a:pt x="143" y="21"/>
                  <a:pt x="143" y="21"/>
                  <a:pt x="143" y="21"/>
                </a:cubicBezTo>
                <a:cubicBezTo>
                  <a:pt x="125" y="39"/>
                  <a:pt x="125" y="39"/>
                  <a:pt x="125" y="39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80" y="68"/>
                  <a:pt x="80" y="68"/>
                  <a:pt x="80" y="68"/>
                </a:cubicBezTo>
                <a:cubicBezTo>
                  <a:pt x="81" y="70"/>
                  <a:pt x="82" y="72"/>
                  <a:pt x="82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0"/>
                  <a:pt x="95" y="67"/>
                  <a:pt x="94" y="65"/>
                </a:cubicBezTo>
                <a:cubicBezTo>
                  <a:pt x="99" y="59"/>
                  <a:pt x="99" y="59"/>
                  <a:pt x="99" y="59"/>
                </a:cubicBezTo>
                <a:cubicBezTo>
                  <a:pt x="101" y="64"/>
                  <a:pt x="103" y="69"/>
                  <a:pt x="103" y="74"/>
                </a:cubicBezTo>
                <a:cubicBezTo>
                  <a:pt x="117" y="74"/>
                  <a:pt x="117" y="74"/>
                  <a:pt x="117" y="74"/>
                </a:cubicBezTo>
                <a:cubicBezTo>
                  <a:pt x="116" y="65"/>
                  <a:pt x="114" y="56"/>
                  <a:pt x="109" y="49"/>
                </a:cubicBezTo>
                <a:cubicBezTo>
                  <a:pt x="114" y="44"/>
                  <a:pt x="114" y="44"/>
                  <a:pt x="114" y="44"/>
                </a:cubicBezTo>
                <a:cubicBezTo>
                  <a:pt x="114" y="45"/>
                  <a:pt x="114" y="45"/>
                  <a:pt x="114" y="45"/>
                </a:cubicBezTo>
                <a:cubicBezTo>
                  <a:pt x="120" y="53"/>
                  <a:pt x="123" y="63"/>
                  <a:pt x="124" y="74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81"/>
                  <a:pt x="133" y="81"/>
                  <a:pt x="133" y="81"/>
                </a:cubicBezTo>
                <a:cubicBezTo>
                  <a:pt x="124" y="81"/>
                  <a:pt x="124" y="81"/>
                  <a:pt x="124" y="81"/>
                </a:cubicBezTo>
                <a:cubicBezTo>
                  <a:pt x="122" y="110"/>
                  <a:pt x="99" y="133"/>
                  <a:pt x="70" y="135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34" y="133"/>
                  <a:pt x="11" y="110"/>
                  <a:pt x="9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74"/>
                  <a:pt x="0" y="74"/>
                  <a:pt x="0" y="74"/>
                </a:cubicBezTo>
                <a:cubicBezTo>
                  <a:pt x="9" y="74"/>
                  <a:pt x="9" y="74"/>
                  <a:pt x="9" y="74"/>
                </a:cubicBezTo>
                <a:cubicBezTo>
                  <a:pt x="11" y="45"/>
                  <a:pt x="34" y="21"/>
                  <a:pt x="63" y="20"/>
                </a:cubicBezTo>
                <a:cubicBezTo>
                  <a:pt x="63" y="10"/>
                  <a:pt x="63" y="10"/>
                  <a:pt x="63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0" y="20"/>
                  <a:pt x="70" y="20"/>
                  <a:pt x="70" y="20"/>
                </a:cubicBezTo>
                <a:cubicBezTo>
                  <a:pt x="81" y="20"/>
                  <a:pt x="91" y="24"/>
                  <a:pt x="99" y="30"/>
                </a:cubicBezTo>
                <a:cubicBezTo>
                  <a:pt x="99" y="30"/>
                  <a:pt x="99" y="30"/>
                  <a:pt x="99" y="30"/>
                </a:cubicBezTo>
                <a:cubicBezTo>
                  <a:pt x="94" y="35"/>
                  <a:pt x="94" y="35"/>
                  <a:pt x="94" y="35"/>
                </a:cubicBezTo>
                <a:cubicBezTo>
                  <a:pt x="87" y="30"/>
                  <a:pt x="79" y="27"/>
                  <a:pt x="70" y="27"/>
                </a:cubicBezTo>
                <a:cubicBezTo>
                  <a:pt x="70" y="40"/>
                  <a:pt x="70" y="40"/>
                  <a:pt x="70" y="40"/>
                </a:cubicBezTo>
                <a:close/>
                <a:moveTo>
                  <a:pt x="82" y="81"/>
                </a:moveTo>
                <a:cubicBezTo>
                  <a:pt x="81" y="87"/>
                  <a:pt x="76" y="92"/>
                  <a:pt x="70" y="93"/>
                </a:cubicBezTo>
                <a:cubicBezTo>
                  <a:pt x="70" y="107"/>
                  <a:pt x="70" y="107"/>
                  <a:pt x="70" y="107"/>
                </a:cubicBezTo>
                <a:cubicBezTo>
                  <a:pt x="84" y="105"/>
                  <a:pt x="95" y="94"/>
                  <a:pt x="96" y="81"/>
                </a:cubicBezTo>
                <a:cubicBezTo>
                  <a:pt x="82" y="81"/>
                  <a:pt x="82" y="81"/>
                  <a:pt x="82" y="81"/>
                </a:cubicBezTo>
                <a:close/>
                <a:moveTo>
                  <a:pt x="63" y="93"/>
                </a:moveTo>
                <a:cubicBezTo>
                  <a:pt x="57" y="92"/>
                  <a:pt x="52" y="87"/>
                  <a:pt x="51" y="81"/>
                </a:cubicBezTo>
                <a:cubicBezTo>
                  <a:pt x="37" y="81"/>
                  <a:pt x="37" y="81"/>
                  <a:pt x="37" y="81"/>
                </a:cubicBezTo>
                <a:cubicBezTo>
                  <a:pt x="38" y="94"/>
                  <a:pt x="49" y="105"/>
                  <a:pt x="63" y="107"/>
                </a:cubicBezTo>
                <a:cubicBezTo>
                  <a:pt x="63" y="93"/>
                  <a:pt x="63" y="93"/>
                  <a:pt x="63" y="93"/>
                </a:cubicBezTo>
                <a:close/>
                <a:moveTo>
                  <a:pt x="51" y="74"/>
                </a:moveTo>
                <a:cubicBezTo>
                  <a:pt x="52" y="68"/>
                  <a:pt x="57" y="63"/>
                  <a:pt x="63" y="61"/>
                </a:cubicBezTo>
                <a:cubicBezTo>
                  <a:pt x="63" y="47"/>
                  <a:pt x="63" y="47"/>
                  <a:pt x="63" y="47"/>
                </a:cubicBezTo>
                <a:cubicBezTo>
                  <a:pt x="49" y="49"/>
                  <a:pt x="38" y="60"/>
                  <a:pt x="37" y="74"/>
                </a:cubicBezTo>
                <a:cubicBezTo>
                  <a:pt x="51" y="74"/>
                  <a:pt x="51" y="74"/>
                  <a:pt x="51" y="74"/>
                </a:cubicBezTo>
                <a:close/>
                <a:moveTo>
                  <a:pt x="63" y="27"/>
                </a:moveTo>
                <a:cubicBezTo>
                  <a:pt x="38" y="28"/>
                  <a:pt x="18" y="49"/>
                  <a:pt x="16" y="74"/>
                </a:cubicBezTo>
                <a:cubicBezTo>
                  <a:pt x="30" y="74"/>
                  <a:pt x="30" y="74"/>
                  <a:pt x="30" y="74"/>
                </a:cubicBezTo>
                <a:cubicBezTo>
                  <a:pt x="31" y="56"/>
                  <a:pt x="45" y="42"/>
                  <a:pt x="63" y="40"/>
                </a:cubicBezTo>
                <a:cubicBezTo>
                  <a:pt x="63" y="27"/>
                  <a:pt x="63" y="27"/>
                  <a:pt x="63" y="27"/>
                </a:cubicBezTo>
                <a:close/>
                <a:moveTo>
                  <a:pt x="63" y="128"/>
                </a:moveTo>
                <a:cubicBezTo>
                  <a:pt x="63" y="114"/>
                  <a:pt x="63" y="114"/>
                  <a:pt x="63" y="114"/>
                </a:cubicBezTo>
                <a:cubicBezTo>
                  <a:pt x="45" y="112"/>
                  <a:pt x="31" y="98"/>
                  <a:pt x="30" y="81"/>
                </a:cubicBezTo>
                <a:cubicBezTo>
                  <a:pt x="16" y="81"/>
                  <a:pt x="16" y="81"/>
                  <a:pt x="16" y="81"/>
                </a:cubicBezTo>
                <a:cubicBezTo>
                  <a:pt x="18" y="106"/>
                  <a:pt x="38" y="126"/>
                  <a:pt x="63" y="128"/>
                </a:cubicBezTo>
                <a:close/>
                <a:moveTo>
                  <a:pt x="70" y="114"/>
                </a:moveTo>
                <a:cubicBezTo>
                  <a:pt x="70" y="128"/>
                  <a:pt x="70" y="128"/>
                  <a:pt x="70" y="128"/>
                </a:cubicBezTo>
                <a:cubicBezTo>
                  <a:pt x="95" y="126"/>
                  <a:pt x="115" y="106"/>
                  <a:pt x="117" y="81"/>
                </a:cubicBezTo>
                <a:cubicBezTo>
                  <a:pt x="103" y="81"/>
                  <a:pt x="103" y="81"/>
                  <a:pt x="103" y="81"/>
                </a:cubicBezTo>
                <a:cubicBezTo>
                  <a:pt x="102" y="98"/>
                  <a:pt x="88" y="112"/>
                  <a:pt x="70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7" name="Freeform 17"/>
          <p:cNvSpPr/>
          <p:nvPr/>
        </p:nvSpPr>
        <p:spPr>
          <a:xfrm>
            <a:off x="4718160" y="4959360"/>
            <a:ext cx="244440" cy="404640"/>
          </a:xfrm>
          <a:custGeom>
            <a:avLst/>
            <a:gdLst>
              <a:gd name="textAreaLeft" fmla="*/ 0 w 244440"/>
              <a:gd name="textAreaRight" fmla="*/ 244800 w 24444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92" h="153">
                <a:moveTo>
                  <a:pt x="46" y="70"/>
                </a:moveTo>
                <a:cubicBezTo>
                  <a:pt x="69" y="70"/>
                  <a:pt x="88" y="88"/>
                  <a:pt x="88" y="111"/>
                </a:cubicBezTo>
                <a:cubicBezTo>
                  <a:pt x="88" y="134"/>
                  <a:pt x="69" y="153"/>
                  <a:pt x="46" y="153"/>
                </a:cubicBezTo>
                <a:cubicBezTo>
                  <a:pt x="23" y="153"/>
                  <a:pt x="4" y="134"/>
                  <a:pt x="4" y="111"/>
                </a:cubicBezTo>
                <a:cubicBezTo>
                  <a:pt x="4" y="88"/>
                  <a:pt x="23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lose/>
                <a:moveTo>
                  <a:pt x="46" y="79"/>
                </a:moveTo>
                <a:cubicBezTo>
                  <a:pt x="64" y="79"/>
                  <a:pt x="78" y="94"/>
                  <a:pt x="78" y="111"/>
                </a:cubicBezTo>
                <a:cubicBezTo>
                  <a:pt x="78" y="129"/>
                  <a:pt x="64" y="143"/>
                  <a:pt x="46" y="143"/>
                </a:cubicBezTo>
                <a:cubicBezTo>
                  <a:pt x="29" y="143"/>
                  <a:pt x="14" y="129"/>
                  <a:pt x="14" y="111"/>
                </a:cubicBezTo>
                <a:cubicBezTo>
                  <a:pt x="14" y="94"/>
                  <a:pt x="29" y="79"/>
                  <a:pt x="46" y="79"/>
                </a:cubicBezTo>
                <a:cubicBezTo>
                  <a:pt x="46" y="79"/>
                  <a:pt x="46" y="79"/>
                  <a:pt x="46" y="79"/>
                </a:cubicBezTo>
                <a:close/>
                <a:moveTo>
                  <a:pt x="46" y="81"/>
                </a:moveTo>
                <a:cubicBezTo>
                  <a:pt x="53" y="102"/>
                  <a:pt x="53" y="102"/>
                  <a:pt x="53" y="102"/>
                </a:cubicBezTo>
                <a:cubicBezTo>
                  <a:pt x="75" y="102"/>
                  <a:pt x="75" y="102"/>
                  <a:pt x="75" y="102"/>
                </a:cubicBezTo>
                <a:cubicBezTo>
                  <a:pt x="57" y="115"/>
                  <a:pt x="57" y="115"/>
                  <a:pt x="57" y="115"/>
                </a:cubicBezTo>
                <a:cubicBezTo>
                  <a:pt x="64" y="136"/>
                  <a:pt x="64" y="136"/>
                  <a:pt x="64" y="136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28" y="136"/>
                  <a:pt x="28" y="136"/>
                  <a:pt x="28" y="136"/>
                </a:cubicBezTo>
                <a:cubicBezTo>
                  <a:pt x="35" y="115"/>
                  <a:pt x="35" y="115"/>
                  <a:pt x="35" y="115"/>
                </a:cubicBezTo>
                <a:cubicBezTo>
                  <a:pt x="17" y="102"/>
                  <a:pt x="17" y="102"/>
                  <a:pt x="17" y="10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46" y="81"/>
                  <a:pt x="46" y="81"/>
                  <a:pt x="46" y="81"/>
                </a:cubicBezTo>
                <a:close/>
                <a:moveTo>
                  <a:pt x="0" y="0"/>
                </a:moveTo>
                <a:cubicBezTo>
                  <a:pt x="15" y="0"/>
                  <a:pt x="15" y="0"/>
                  <a:pt x="15" y="0"/>
                </a:cubicBezTo>
                <a:cubicBezTo>
                  <a:pt x="15" y="45"/>
                  <a:pt x="15" y="45"/>
                  <a:pt x="15" y="45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25" y="0"/>
                </a:moveTo>
                <a:cubicBezTo>
                  <a:pt x="67" y="0"/>
                  <a:pt x="67" y="0"/>
                  <a:pt x="67" y="0"/>
                </a:cubicBezTo>
                <a:cubicBezTo>
                  <a:pt x="67" y="53"/>
                  <a:pt x="67" y="53"/>
                  <a:pt x="67" y="53"/>
                </a:cubicBezTo>
                <a:cubicBezTo>
                  <a:pt x="46" y="70"/>
                  <a:pt x="46" y="70"/>
                  <a:pt x="46" y="70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0"/>
                  <a:pt x="25" y="0"/>
                  <a:pt x="25" y="0"/>
                </a:cubicBezTo>
                <a:close/>
                <a:moveTo>
                  <a:pt x="77" y="0"/>
                </a:moveTo>
                <a:cubicBezTo>
                  <a:pt x="92" y="0"/>
                  <a:pt x="92" y="0"/>
                  <a:pt x="92" y="0"/>
                </a:cubicBezTo>
                <a:cubicBezTo>
                  <a:pt x="92" y="34"/>
                  <a:pt x="92" y="34"/>
                  <a:pt x="92" y="34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0"/>
                  <a:pt x="77" y="0"/>
                  <a:pt x="7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8" name="文本框 28"/>
          <p:cNvSpPr/>
          <p:nvPr/>
        </p:nvSpPr>
        <p:spPr>
          <a:xfrm>
            <a:off x="3005640" y="340200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林敏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文本框 29"/>
          <p:cNvSpPr/>
          <p:nvPr/>
        </p:nvSpPr>
        <p:spPr>
          <a:xfrm>
            <a:off x="5235840" y="34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设计六年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文本框 30"/>
          <p:cNvSpPr/>
          <p:nvPr/>
        </p:nvSpPr>
        <p:spPr>
          <a:xfrm>
            <a:off x="3159720" y="4105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专注专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文本框 31"/>
          <p:cNvSpPr/>
          <p:nvPr/>
        </p:nvSpPr>
        <p:spPr>
          <a:xfrm>
            <a:off x="5235840" y="4105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免费分享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思维，创造，创新，灵感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任意多边形 42"/>
          <p:cNvSpPr/>
          <p:nvPr/>
        </p:nvSpPr>
        <p:spPr>
          <a:xfrm>
            <a:off x="2897280" y="3630600"/>
            <a:ext cx="1968480" cy="2281320"/>
          </a:xfrm>
          <a:prstGeom prst="pie">
            <a:avLst/>
          </a:prstGeom>
          <a:solidFill>
            <a:srgbClr val="ec3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福田河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4" name="任意多边形 45"/>
          <p:cNvSpPr/>
          <p:nvPr/>
        </p:nvSpPr>
        <p:spPr>
          <a:xfrm>
            <a:off x="4865760" y="3630600"/>
            <a:ext cx="1966680" cy="2281320"/>
          </a:xfrm>
          <a:prstGeom prst="pi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麻城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5" name="任意多边形 34"/>
          <p:cNvSpPr/>
          <p:nvPr/>
        </p:nvSpPr>
        <p:spPr>
          <a:xfrm>
            <a:off x="3881520" y="1846440"/>
            <a:ext cx="1966680" cy="2280960"/>
          </a:xfrm>
          <a:prstGeom prst="pie">
            <a:avLst/>
          </a:prstGeom>
          <a:solidFill>
            <a:srgbClr val="f3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湖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Freeform 74"/>
          <p:cNvSpPr/>
          <p:nvPr/>
        </p:nvSpPr>
        <p:spPr>
          <a:xfrm>
            <a:off x="5648400" y="1817640"/>
            <a:ext cx="368280" cy="422280"/>
          </a:xfrm>
          <a:custGeom>
            <a:avLst/>
            <a:gdLst>
              <a:gd name="textAreaLeft" fmla="*/ 0 w 368280"/>
              <a:gd name="textAreaRight" fmla="*/ 368640 w 36828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93" h="336">
                <a:moveTo>
                  <a:pt x="0" y="85"/>
                </a:moveTo>
                <a:lnTo>
                  <a:pt x="144" y="0"/>
                </a:lnTo>
                <a:lnTo>
                  <a:pt x="291" y="80"/>
                </a:lnTo>
                <a:lnTo>
                  <a:pt x="293" y="249"/>
                </a:lnTo>
                <a:lnTo>
                  <a:pt x="149" y="336"/>
                </a:lnTo>
                <a:lnTo>
                  <a:pt x="2" y="253"/>
                </a:lnTo>
                <a:lnTo>
                  <a:pt x="0" y="85"/>
                </a:lnTo>
                <a:close/>
              </a:path>
            </a:pathLst>
          </a:custGeom>
          <a:solidFill>
            <a:srgbClr val="e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7" name="组合 6"/>
          <p:cNvGrpSpPr/>
          <p:nvPr/>
        </p:nvGrpSpPr>
        <p:grpSpPr>
          <a:xfrm>
            <a:off x="5716440" y="1913040"/>
            <a:ext cx="228600" cy="204840"/>
            <a:chOff x="5716440" y="1913040"/>
            <a:chExt cx="228600" cy="204840"/>
          </a:xfrm>
        </p:grpSpPr>
        <p:sp>
          <p:nvSpPr>
            <p:cNvPr id="328" name="Freeform 75"/>
            <p:cNvSpPr/>
            <p:nvPr/>
          </p:nvSpPr>
          <p:spPr>
            <a:xfrm>
              <a:off x="5737680" y="1950480"/>
              <a:ext cx="188640" cy="167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64" h="56">
                  <a:moveTo>
                    <a:pt x="34" y="1"/>
                  </a:moveTo>
                  <a:cubicBezTo>
                    <a:pt x="33" y="0"/>
                    <a:pt x="30" y="0"/>
                    <a:pt x="28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2" y="17"/>
                    <a:pt x="0" y="19"/>
                    <a:pt x="0" y="21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2" y="56"/>
                    <a:pt x="4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21" y="56"/>
                    <a:pt x="22" y="54"/>
                    <a:pt x="22" y="53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2" y="36"/>
                    <a:pt x="24" y="35"/>
                    <a:pt x="26" y="35"/>
                  </a:cubicBezTo>
                  <a:cubicBezTo>
                    <a:pt x="39" y="35"/>
                    <a:pt x="39" y="35"/>
                    <a:pt x="39" y="35"/>
                  </a:cubicBezTo>
                  <a:cubicBezTo>
                    <a:pt x="40" y="35"/>
                    <a:pt x="42" y="36"/>
                    <a:pt x="42" y="38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42" y="54"/>
                    <a:pt x="44" y="56"/>
                    <a:pt x="46" y="56"/>
                  </a:cubicBezTo>
                  <a:cubicBezTo>
                    <a:pt x="60" y="56"/>
                    <a:pt x="60" y="56"/>
                    <a:pt x="60" y="56"/>
                  </a:cubicBezTo>
                  <a:cubicBezTo>
                    <a:pt x="62" y="56"/>
                    <a:pt x="64" y="54"/>
                    <a:pt x="64" y="53"/>
                  </a:cubicBezTo>
                  <a:cubicBezTo>
                    <a:pt x="64" y="21"/>
                    <a:pt x="64" y="21"/>
                    <a:pt x="64" y="21"/>
                  </a:cubicBezTo>
                  <a:cubicBezTo>
                    <a:pt x="64" y="19"/>
                    <a:pt x="62" y="17"/>
                    <a:pt x="61" y="16"/>
                  </a:cubicBezTo>
                  <a:lnTo>
                    <a:pt x="3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76"/>
            <p:cNvSpPr/>
            <p:nvPr/>
          </p:nvSpPr>
          <p:spPr>
            <a:xfrm>
              <a:off x="5716440" y="1913040"/>
              <a:ext cx="228600" cy="76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680"/>
                <a:gd name="textAreaBottom" fmla="*/ 76680 h 76680"/>
              </a:gdLst>
              <a:ahLst/>
              <a:rect l="textAreaLeft" t="textAreaTop" r="textAreaRight" b="textAreaBottom"/>
              <a:pathLst>
                <a:path w="77" h="26">
                  <a:moveTo>
                    <a:pt x="76" y="25"/>
                  </a:moveTo>
                  <a:cubicBezTo>
                    <a:pt x="76" y="26"/>
                    <a:pt x="74" y="26"/>
                    <a:pt x="72" y="25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39" y="6"/>
                    <a:pt x="37" y="6"/>
                    <a:pt x="35" y="7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26"/>
                    <a:pt x="2" y="26"/>
                    <a:pt x="1" y="25"/>
                  </a:cubicBezTo>
                  <a:cubicBezTo>
                    <a:pt x="0" y="24"/>
                    <a:pt x="1" y="22"/>
                    <a:pt x="3" y="2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7" y="1"/>
                    <a:pt x="39" y="0"/>
                    <a:pt x="41" y="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76" y="22"/>
                    <a:pt x="77" y="24"/>
                    <a:pt x="76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0" name="Freeform 77"/>
          <p:cNvSpPr/>
          <p:nvPr/>
        </p:nvSpPr>
        <p:spPr>
          <a:xfrm>
            <a:off x="5413320" y="5888160"/>
            <a:ext cx="368280" cy="422280"/>
          </a:xfrm>
          <a:custGeom>
            <a:avLst/>
            <a:gdLst>
              <a:gd name="textAreaLeft" fmla="*/ 0 w 368280"/>
              <a:gd name="textAreaRight" fmla="*/ 368640 w 36828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94" h="336">
                <a:moveTo>
                  <a:pt x="0" y="87"/>
                </a:moveTo>
                <a:lnTo>
                  <a:pt x="145" y="0"/>
                </a:lnTo>
                <a:lnTo>
                  <a:pt x="292" y="82"/>
                </a:lnTo>
                <a:lnTo>
                  <a:pt x="294" y="250"/>
                </a:lnTo>
                <a:lnTo>
                  <a:pt x="152" y="336"/>
                </a:lnTo>
                <a:lnTo>
                  <a:pt x="5" y="255"/>
                </a:lnTo>
                <a:lnTo>
                  <a:pt x="0" y="87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1" name="组合 10"/>
          <p:cNvGrpSpPr/>
          <p:nvPr/>
        </p:nvGrpSpPr>
        <p:grpSpPr>
          <a:xfrm>
            <a:off x="5467320" y="5989680"/>
            <a:ext cx="249120" cy="260280"/>
            <a:chOff x="5467320" y="5989680"/>
            <a:chExt cx="249120" cy="260280"/>
          </a:xfrm>
        </p:grpSpPr>
        <p:sp>
          <p:nvSpPr>
            <p:cNvPr id="332" name="Freeform 78"/>
            <p:cNvSpPr/>
            <p:nvPr/>
          </p:nvSpPr>
          <p:spPr>
            <a:xfrm>
              <a:off x="5467320" y="6006960"/>
              <a:ext cx="222840" cy="24300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75" h="82">
                  <a:moveTo>
                    <a:pt x="59" y="44"/>
                  </a:moveTo>
                  <a:cubicBezTo>
                    <a:pt x="59" y="44"/>
                    <a:pt x="53" y="55"/>
                    <a:pt x="38" y="40"/>
                  </a:cubicBezTo>
                  <a:cubicBezTo>
                    <a:pt x="23" y="23"/>
                    <a:pt x="35" y="18"/>
                    <a:pt x="35" y="1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0" y="18"/>
                    <a:pt x="28" y="49"/>
                  </a:cubicBezTo>
                  <a:cubicBezTo>
                    <a:pt x="58" y="82"/>
                    <a:pt x="75" y="63"/>
                    <a:pt x="75" y="63"/>
                  </a:cubicBezTo>
                  <a:lnTo>
                    <a:pt x="59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79"/>
            <p:cNvSpPr/>
            <p:nvPr/>
          </p:nvSpPr>
          <p:spPr>
            <a:xfrm>
              <a:off x="5653800" y="6119640"/>
              <a:ext cx="62640" cy="687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50" h="55">
                  <a:moveTo>
                    <a:pt x="50" y="45"/>
                  </a:moveTo>
                  <a:lnTo>
                    <a:pt x="38" y="55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5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80"/>
            <p:cNvSpPr/>
            <p:nvPr/>
          </p:nvSpPr>
          <p:spPr>
            <a:xfrm>
              <a:off x="5535000" y="5989680"/>
              <a:ext cx="60120" cy="651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8" h="52">
                  <a:moveTo>
                    <a:pt x="48" y="43"/>
                  </a:moveTo>
                  <a:lnTo>
                    <a:pt x="38" y="52"/>
                  </a:lnTo>
                  <a:lnTo>
                    <a:pt x="0" y="9"/>
                  </a:lnTo>
                  <a:lnTo>
                    <a:pt x="10" y="0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5" name="Freeform 81"/>
          <p:cNvSpPr/>
          <p:nvPr/>
        </p:nvSpPr>
        <p:spPr>
          <a:xfrm>
            <a:off x="2685960" y="3627360"/>
            <a:ext cx="368280" cy="420840"/>
          </a:xfrm>
          <a:custGeom>
            <a:avLst/>
            <a:gdLst>
              <a:gd name="textAreaLeft" fmla="*/ 0 w 368280"/>
              <a:gd name="textAreaRight" fmla="*/ 368640 w 3682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94" h="336">
                <a:moveTo>
                  <a:pt x="0" y="85"/>
                </a:moveTo>
                <a:lnTo>
                  <a:pt x="144" y="0"/>
                </a:lnTo>
                <a:lnTo>
                  <a:pt x="291" y="80"/>
                </a:lnTo>
                <a:lnTo>
                  <a:pt x="294" y="248"/>
                </a:lnTo>
                <a:lnTo>
                  <a:pt x="152" y="336"/>
                </a:lnTo>
                <a:lnTo>
                  <a:pt x="5" y="253"/>
                </a:lnTo>
                <a:lnTo>
                  <a:pt x="0" y="85"/>
                </a:lnTo>
                <a:close/>
              </a:path>
            </a:pathLst>
          </a:custGeom>
          <a:solidFill>
            <a:srgbClr val="de39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6" name="组合 15"/>
          <p:cNvGrpSpPr/>
          <p:nvPr/>
        </p:nvGrpSpPr>
        <p:grpSpPr>
          <a:xfrm>
            <a:off x="2757600" y="3767040"/>
            <a:ext cx="226800" cy="138240"/>
            <a:chOff x="2757600" y="3767040"/>
            <a:chExt cx="226800" cy="138240"/>
          </a:xfrm>
        </p:grpSpPr>
        <p:sp>
          <p:nvSpPr>
            <p:cNvPr id="337" name="Freeform 82"/>
            <p:cNvSpPr/>
            <p:nvPr/>
          </p:nvSpPr>
          <p:spPr>
            <a:xfrm>
              <a:off x="2768760" y="3767040"/>
              <a:ext cx="203040" cy="56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68" h="19">
                  <a:moveTo>
                    <a:pt x="39" y="18"/>
                  </a:moveTo>
                  <a:cubicBezTo>
                    <a:pt x="68" y="1"/>
                    <a:pt x="68" y="1"/>
                    <a:pt x="68" y="1"/>
                  </a:cubicBezTo>
                  <a:cubicBezTo>
                    <a:pt x="68" y="0"/>
                    <a:pt x="67" y="0"/>
                    <a:pt x="66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0"/>
                    <a:pt x="0" y="1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9"/>
                    <a:pt x="36" y="19"/>
                    <a:pt x="3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83"/>
            <p:cNvSpPr/>
            <p:nvPr/>
          </p:nvSpPr>
          <p:spPr>
            <a:xfrm>
              <a:off x="2757600" y="3781800"/>
              <a:ext cx="226800" cy="123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6" h="42">
                  <a:moveTo>
                    <a:pt x="45" y="18"/>
                  </a:moveTo>
                  <a:cubicBezTo>
                    <a:pt x="43" y="19"/>
                    <a:pt x="41" y="20"/>
                    <a:pt x="38" y="20"/>
                  </a:cubicBezTo>
                  <a:cubicBezTo>
                    <a:pt x="36" y="20"/>
                    <a:pt x="34" y="19"/>
                    <a:pt x="32" y="18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40"/>
                    <a:pt x="3" y="42"/>
                    <a:pt x="7" y="42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73" y="42"/>
                    <a:pt x="76" y="40"/>
                    <a:pt x="76" y="38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76" y="1"/>
                    <a:pt x="76" y="0"/>
                    <a:pt x="76" y="0"/>
                  </a:cubicBezTo>
                  <a:lnTo>
                    <a:pt x="4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9" name="文本框 20"/>
          <p:cNvSpPr/>
          <p:nvPr/>
        </p:nvSpPr>
        <p:spPr>
          <a:xfrm>
            <a:off x="1019160" y="367344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任意多边形 21"/>
          <p:cNvSpPr/>
          <p:nvPr/>
        </p:nvSpPr>
        <p:spPr>
          <a:xfrm rot="16200000">
            <a:off x="5603040" y="2891520"/>
            <a:ext cx="492120" cy="1966680"/>
          </a:xfrm>
          <a:custGeom>
            <a:avLst/>
            <a:gdLst>
              <a:gd name="textAreaLeft" fmla="*/ 0 w 492120"/>
              <a:gd name="textAreaRight" fmla="*/ 492480 w 492120"/>
              <a:gd name="textAreaTop" fmla="*/ 0 h 1966680"/>
              <a:gd name="textAreaBottom" fmla="*/ 1967040 h 196668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1" name="任意多边形 22"/>
          <p:cNvSpPr/>
          <p:nvPr/>
        </p:nvSpPr>
        <p:spPr>
          <a:xfrm rot="16200000">
            <a:off x="3635280" y="2891880"/>
            <a:ext cx="492120" cy="1968480"/>
          </a:xfrm>
          <a:custGeom>
            <a:avLst/>
            <a:gdLst>
              <a:gd name="textAreaLeft" fmla="*/ 0 w 492120"/>
              <a:gd name="textAreaRight" fmla="*/ 492480 w 49212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任意多边形 23"/>
          <p:cNvSpPr/>
          <p:nvPr/>
        </p:nvSpPr>
        <p:spPr>
          <a:xfrm flipV="1" rot="5400000">
            <a:off x="4618800" y="2896920"/>
            <a:ext cx="492120" cy="1966680"/>
          </a:xfrm>
          <a:custGeom>
            <a:avLst/>
            <a:gdLst>
              <a:gd name="textAreaLeft" fmla="*/ 0 w 492120"/>
              <a:gd name="textAreaRight" fmla="*/ 492480 w 492120"/>
              <a:gd name="textAreaTop" fmla="*/ -360 h 1966680"/>
              <a:gd name="textAreaBottom" fmla="*/ 1966680 h 1966680"/>
            </a:gdLst>
            <a:ahLst/>
            <a:rect l="textAreaLeft" t="textAreaTop" r="textAreaRight" b="textAreaBottom"/>
            <a:pathLst>
              <a:path w="623528" h="2490148">
                <a:moveTo>
                  <a:pt x="623528" y="1245074"/>
                </a:moveTo>
                <a:lnTo>
                  <a:pt x="991" y="2490148"/>
                </a:lnTo>
                <a:lnTo>
                  <a:pt x="0" y="2490148"/>
                </a:lnTo>
                <a:lnTo>
                  <a:pt x="0" y="0"/>
                </a:lnTo>
                <a:lnTo>
                  <a:pt x="991" y="0"/>
                </a:lnTo>
                <a:lnTo>
                  <a:pt x="623528" y="1245074"/>
                </a:lnTo>
                <a:close/>
              </a:path>
            </a:pathLst>
          </a:custGeom>
          <a:solidFill>
            <a:srgbClr val="0d0d0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文本框 24"/>
          <p:cNvSpPr/>
          <p:nvPr/>
        </p:nvSpPr>
        <p:spPr>
          <a:xfrm>
            <a:off x="4521240" y="1873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1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文本框 25"/>
          <p:cNvSpPr/>
          <p:nvPr/>
        </p:nvSpPr>
        <p:spPr>
          <a:xfrm>
            <a:off x="5496120" y="52484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3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5" name="文本框 26"/>
          <p:cNvSpPr/>
          <p:nvPr/>
        </p:nvSpPr>
        <p:spPr>
          <a:xfrm>
            <a:off x="3537000" y="52484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02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6" name="文本框 35"/>
          <p:cNvSpPr/>
          <p:nvPr/>
        </p:nvSpPr>
        <p:spPr>
          <a:xfrm>
            <a:off x="6105600" y="185112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文本框 36"/>
          <p:cNvSpPr/>
          <p:nvPr/>
        </p:nvSpPr>
        <p:spPr>
          <a:xfrm>
            <a:off x="5904000" y="5916600"/>
            <a:ext cx="16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专注设计</a:t>
            </a: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年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富士康任职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5"/>
          <p:cNvSpPr/>
          <p:nvPr/>
        </p:nvSpPr>
        <p:spPr>
          <a:xfrm>
            <a:off x="7219800" y="2759040"/>
            <a:ext cx="244800" cy="300240"/>
          </a:xfrm>
          <a:custGeom>
            <a:avLst/>
            <a:gdLst>
              <a:gd name="textAreaLeft" fmla="*/ 0 w 244800"/>
              <a:gd name="textAreaRight" fmla="*/ 245160 w 2448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92" h="220">
                <a:moveTo>
                  <a:pt x="192" y="40"/>
                </a:moveTo>
                <a:lnTo>
                  <a:pt x="24" y="0"/>
                </a:lnTo>
                <a:lnTo>
                  <a:pt x="14" y="106"/>
                </a:lnTo>
                <a:lnTo>
                  <a:pt x="2" y="212"/>
                </a:lnTo>
                <a:lnTo>
                  <a:pt x="0" y="220"/>
                </a:lnTo>
                <a:lnTo>
                  <a:pt x="192" y="178"/>
                </a:lnTo>
                <a:lnTo>
                  <a:pt x="192" y="4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Freeform 6"/>
          <p:cNvSpPr/>
          <p:nvPr/>
        </p:nvSpPr>
        <p:spPr>
          <a:xfrm>
            <a:off x="6002280" y="2557440"/>
            <a:ext cx="1252440" cy="67788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5046"/>
                </a:solidFill>
                <a:latin typeface="微软雅黑"/>
                <a:ea typeface="微软雅黑"/>
              </a:rPr>
              <a:t>75%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1217520" y="2557440"/>
            <a:ext cx="5315040" cy="677880"/>
          </a:xfrm>
          <a:prstGeom prst="pie">
            <a:avLst/>
          </a:prstGeom>
          <a:solidFill>
            <a:srgbClr val="f28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" name="Freeform 8"/>
          <p:cNvSpPr/>
          <p:nvPr/>
        </p:nvSpPr>
        <p:spPr>
          <a:xfrm>
            <a:off x="6443640" y="3551400"/>
            <a:ext cx="201600" cy="296640"/>
          </a:xfrm>
          <a:custGeom>
            <a:avLst/>
            <a:gdLst>
              <a:gd name="textAreaLeft" fmla="*/ 0 w 201600"/>
              <a:gd name="textAreaRight" fmla="*/ 201960 w 2016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48" h="218">
                <a:moveTo>
                  <a:pt x="148" y="38"/>
                </a:moveTo>
                <a:lnTo>
                  <a:pt x="18" y="0"/>
                </a:lnTo>
                <a:lnTo>
                  <a:pt x="10" y="104"/>
                </a:lnTo>
                <a:lnTo>
                  <a:pt x="0" y="212"/>
                </a:lnTo>
                <a:lnTo>
                  <a:pt x="0" y="218"/>
                </a:lnTo>
                <a:lnTo>
                  <a:pt x="148" y="176"/>
                </a:lnTo>
                <a:lnTo>
                  <a:pt x="148" y="38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Freeform 9"/>
          <p:cNvSpPr/>
          <p:nvPr/>
        </p:nvSpPr>
        <p:spPr>
          <a:xfrm>
            <a:off x="5305320" y="3349800"/>
            <a:ext cx="1163880" cy="6793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5046"/>
                </a:solidFill>
                <a:latin typeface="微软雅黑"/>
                <a:ea typeface="微软雅黑"/>
              </a:rPr>
              <a:t>60%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Freeform 10"/>
          <p:cNvSpPr/>
          <p:nvPr/>
        </p:nvSpPr>
        <p:spPr>
          <a:xfrm>
            <a:off x="1217520" y="3349800"/>
            <a:ext cx="4599000" cy="679320"/>
          </a:xfrm>
          <a:prstGeom prst="pie">
            <a:avLst/>
          </a:prstGeom>
          <a:solidFill>
            <a:srgbClr val="d77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Freeform 11"/>
          <p:cNvSpPr/>
          <p:nvPr/>
        </p:nvSpPr>
        <p:spPr>
          <a:xfrm>
            <a:off x="5487840" y="4341960"/>
            <a:ext cx="152640" cy="298440"/>
          </a:xfrm>
          <a:custGeom>
            <a:avLst/>
            <a:gdLst>
              <a:gd name="textAreaLeft" fmla="*/ 0 w 152640"/>
              <a:gd name="textAreaRight" fmla="*/ 153000 w 1526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12" h="220">
                <a:moveTo>
                  <a:pt x="112" y="40"/>
                </a:moveTo>
                <a:lnTo>
                  <a:pt x="14" y="0"/>
                </a:lnTo>
                <a:lnTo>
                  <a:pt x="8" y="106"/>
                </a:lnTo>
                <a:lnTo>
                  <a:pt x="0" y="212"/>
                </a:lnTo>
                <a:lnTo>
                  <a:pt x="0" y="220"/>
                </a:lnTo>
                <a:lnTo>
                  <a:pt x="112" y="178"/>
                </a:lnTo>
                <a:lnTo>
                  <a:pt x="112" y="4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Freeform 12"/>
          <p:cNvSpPr/>
          <p:nvPr/>
        </p:nvSpPr>
        <p:spPr>
          <a:xfrm>
            <a:off x="4616280" y="4127400"/>
            <a:ext cx="890640" cy="6937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5046"/>
                </a:solidFill>
                <a:latin typeface="微软雅黑"/>
                <a:ea typeface="微软雅黑"/>
              </a:rPr>
              <a:t>45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7" name="Freeform 13"/>
          <p:cNvSpPr/>
          <p:nvPr/>
        </p:nvSpPr>
        <p:spPr>
          <a:xfrm>
            <a:off x="1217520" y="4140360"/>
            <a:ext cx="3803760" cy="680760"/>
          </a:xfrm>
          <a:prstGeom prst="pie">
            <a:avLst/>
          </a:prstGeom>
          <a:solidFill>
            <a:srgbClr val="f054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8" name="Freeform 11"/>
          <p:cNvSpPr/>
          <p:nvPr/>
        </p:nvSpPr>
        <p:spPr>
          <a:xfrm>
            <a:off x="4869000" y="5133960"/>
            <a:ext cx="152280" cy="299880"/>
          </a:xfrm>
          <a:custGeom>
            <a:avLst/>
            <a:gdLst>
              <a:gd name="textAreaLeft" fmla="*/ 0 w 152280"/>
              <a:gd name="textAreaRight" fmla="*/ 152640 w 1522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12" h="220">
                <a:moveTo>
                  <a:pt x="112" y="40"/>
                </a:moveTo>
                <a:lnTo>
                  <a:pt x="14" y="0"/>
                </a:lnTo>
                <a:lnTo>
                  <a:pt x="8" y="106"/>
                </a:lnTo>
                <a:lnTo>
                  <a:pt x="0" y="212"/>
                </a:lnTo>
                <a:lnTo>
                  <a:pt x="0" y="220"/>
                </a:lnTo>
                <a:lnTo>
                  <a:pt x="112" y="178"/>
                </a:lnTo>
                <a:lnTo>
                  <a:pt x="112" y="4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Freeform 12"/>
          <p:cNvSpPr/>
          <p:nvPr/>
        </p:nvSpPr>
        <p:spPr>
          <a:xfrm>
            <a:off x="3997440" y="4932360"/>
            <a:ext cx="890640" cy="681120"/>
          </a:xfrm>
          <a:prstGeom prst="pie">
            <a:avLst/>
          </a:prstGeom>
          <a:solidFill>
            <a:srgbClr val="f9c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5046"/>
                </a:solidFill>
                <a:latin typeface="微软雅黑"/>
                <a:ea typeface="微软雅黑"/>
              </a:rPr>
              <a:t>35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Freeform 13"/>
          <p:cNvSpPr/>
          <p:nvPr/>
        </p:nvSpPr>
        <p:spPr>
          <a:xfrm>
            <a:off x="1217520" y="4932360"/>
            <a:ext cx="3162240" cy="681120"/>
          </a:xfrm>
          <a:prstGeom prst="pie">
            <a:avLst/>
          </a:prstGeom>
          <a:solidFill>
            <a:srgbClr val="c1a1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在深圳，等你来点击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50" autoRev="1" fill="remov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250" autoRev="1" fill="remov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250" autoRev="1" fill="remov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50" autoRev="1" fill="remove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" dur="250" autoRev="1" fill="remove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" dur="250" autoRev="1" fill="remove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f2f"/>
                </a:solidFill>
                <a:latin typeface="微软雅黑"/>
              </a:rPr>
              <a:t>请在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此处</a:t>
            </a:r>
            <a:r>
              <a:rPr b="1" lang="zh-CN" sz="3200" spc="-1" strike="noStrike">
                <a:solidFill>
                  <a:srgbClr val="cb9ce5"/>
                </a:solidFill>
                <a:latin typeface="微软雅黑"/>
              </a:rPr>
              <a:t>输入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</a:rPr>
              <a:t>您的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标题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63" name="圆角矩形 19"/>
          <p:cNvSpPr/>
          <p:nvPr/>
        </p:nvSpPr>
        <p:spPr>
          <a:xfrm rot="2700000">
            <a:off x="1314720" y="2940480"/>
            <a:ext cx="1094040" cy="1095480"/>
          </a:xfrm>
          <a:custGeom>
            <a:avLst/>
            <a:gdLst>
              <a:gd name="textAreaLeft" fmla="*/ 53280 w 1094040"/>
              <a:gd name="textAreaRight" fmla="*/ 1040760 w 109404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0c413"/>
              </a:gs>
              <a:gs pos="100000">
                <a:srgbClr val="6c93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" name="圆角矩形 20"/>
          <p:cNvSpPr/>
          <p:nvPr/>
        </p:nvSpPr>
        <p:spPr>
          <a:xfrm rot="3891600">
            <a:off x="1314000" y="2388960"/>
            <a:ext cx="1095120" cy="1095480"/>
          </a:xfrm>
          <a:custGeom>
            <a:avLst/>
            <a:gdLst>
              <a:gd name="textAreaLeft" fmla="*/ 53280 w 1095120"/>
              <a:gd name="textAreaRight" fmla="*/ 1041840 w 109512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5" name="文本框 21"/>
          <p:cNvSpPr/>
          <p:nvPr/>
        </p:nvSpPr>
        <p:spPr>
          <a:xfrm>
            <a:off x="100980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圆角矩形 22"/>
          <p:cNvSpPr/>
          <p:nvPr/>
        </p:nvSpPr>
        <p:spPr>
          <a:xfrm rot="2700000">
            <a:off x="3175200" y="2485080"/>
            <a:ext cx="1093680" cy="1095480"/>
          </a:xfrm>
          <a:custGeom>
            <a:avLst/>
            <a:gdLst>
              <a:gd name="textAreaLeft" fmla="*/ 53280 w 1093680"/>
              <a:gd name="textAreaRight" fmla="*/ 1040400 w 1093680"/>
              <a:gd name="textAreaTop" fmla="*/ 53280 h 1095480"/>
              <a:gd name="textAreaBottom" fmla="*/ 1042200 h 1095480"/>
            </a:gdLst>
            <a:ahLst/>
            <a:rect l="textAreaLeft" t="textAreaTop" r="textAreaRight" b="textAreaBottom"/>
            <a:pathLst>
              <a:path w="21600" h="21636">
                <a:moveTo>
                  <a:pt x="3600" y="0"/>
                </a:moveTo>
                <a:arcTo wR="3600" hR="3600" stAng="16200000" swAng="-5400000"/>
                <a:lnTo>
                  <a:pt x="0" y="18036"/>
                </a:lnTo>
                <a:arcTo wR="3600" hR="3600" stAng="10800000" swAng="-5400000"/>
                <a:lnTo>
                  <a:pt x="18000" y="21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abd3d"/>
              </a:gs>
              <a:gs pos="100000">
                <a:srgbClr val="8b8d2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7" name="圆角矩形 23"/>
          <p:cNvSpPr/>
          <p:nvPr/>
        </p:nvSpPr>
        <p:spPr>
          <a:xfrm rot="1513800">
            <a:off x="3174840" y="2933640"/>
            <a:ext cx="1095480" cy="109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3438360" y="3219480"/>
            <a:ext cx="568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圆角矩形 26"/>
          <p:cNvSpPr/>
          <p:nvPr/>
        </p:nvSpPr>
        <p:spPr>
          <a:xfrm rot="2700000">
            <a:off x="5035680" y="2959200"/>
            <a:ext cx="1095120" cy="109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ab48"/>
              </a:gs>
              <a:gs pos="100000">
                <a:srgbClr val="b7862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0" name="圆角矩形 27"/>
          <p:cNvSpPr/>
          <p:nvPr/>
        </p:nvSpPr>
        <p:spPr>
          <a:xfrm rot="4881600">
            <a:off x="5034600" y="2429640"/>
            <a:ext cx="1095480" cy="1093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1" name="圆角矩形 29"/>
          <p:cNvSpPr/>
          <p:nvPr/>
        </p:nvSpPr>
        <p:spPr>
          <a:xfrm rot="2700000">
            <a:off x="6895440" y="2546640"/>
            <a:ext cx="1095480" cy="1093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8a4b"/>
              </a:gs>
              <a:gs pos="100000">
                <a:srgbClr val="5067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" name="圆角矩形 30"/>
          <p:cNvSpPr/>
          <p:nvPr/>
        </p:nvSpPr>
        <p:spPr>
          <a:xfrm rot="278400">
            <a:off x="6896160" y="3018960"/>
            <a:ext cx="1093680" cy="1094040"/>
          </a:xfrm>
          <a:custGeom>
            <a:avLst/>
            <a:gdLst>
              <a:gd name="textAreaLeft" fmla="*/ 53280 w 1093680"/>
              <a:gd name="textAreaRight" fmla="*/ 1040400 w 1093680"/>
              <a:gd name="textAreaTop" fmla="*/ 53280 h 1094040"/>
              <a:gd name="textAreaBottom" fmla="*/ 1040760 h 10940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KSO_Shape"/>
          <p:cNvSpPr/>
          <p:nvPr/>
        </p:nvSpPr>
        <p:spPr>
          <a:xfrm>
            <a:off x="1604880" y="2687760"/>
            <a:ext cx="505080" cy="468360"/>
          </a:xfrm>
          <a:custGeom>
            <a:avLst/>
            <a:gdLst>
              <a:gd name="textAreaLeft" fmla="*/ 0 w 505080"/>
              <a:gd name="textAreaRight" fmla="*/ 505440 w 5050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90c4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4" name="KSO_Shape"/>
          <p:cNvSpPr/>
          <p:nvPr/>
        </p:nvSpPr>
        <p:spPr>
          <a:xfrm>
            <a:off x="3514680" y="3321000"/>
            <a:ext cx="414360" cy="318960"/>
          </a:xfrm>
          <a:custGeom>
            <a:avLst/>
            <a:gdLst>
              <a:gd name="textAreaLeft" fmla="*/ 0 w 414360"/>
              <a:gd name="textAreaRight" fmla="*/ 414720 w 41436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bab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5" name="KSO_Shape"/>
          <p:cNvSpPr/>
          <p:nvPr/>
        </p:nvSpPr>
        <p:spPr>
          <a:xfrm>
            <a:off x="5432400" y="2743200"/>
            <a:ext cx="300240" cy="512640"/>
          </a:xfrm>
          <a:custGeom>
            <a:avLst/>
            <a:gdLst>
              <a:gd name="textAreaLeft" fmla="*/ 0 w 300240"/>
              <a:gd name="textAreaRight" fmla="*/ 300600 w 30024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559792" h="955625">
                <a:moveTo>
                  <a:pt x="279896" y="194422"/>
                </a:moveTo>
                <a:cubicBezTo>
                  <a:pt x="168660" y="194422"/>
                  <a:pt x="78485" y="284596"/>
                  <a:pt x="78485" y="395833"/>
                </a:cubicBezTo>
                <a:cubicBezTo>
                  <a:pt x="78485" y="507069"/>
                  <a:pt x="168660" y="597244"/>
                  <a:pt x="279896" y="597244"/>
                </a:cubicBezTo>
                <a:cubicBezTo>
                  <a:pt x="391133" y="597244"/>
                  <a:pt x="481307" y="507069"/>
                  <a:pt x="481307" y="395833"/>
                </a:cubicBezTo>
                <a:cubicBezTo>
                  <a:pt x="481307" y="284596"/>
                  <a:pt x="391133" y="194422"/>
                  <a:pt x="279896" y="194422"/>
                </a:cubicBezTo>
                <a:close/>
                <a:moveTo>
                  <a:pt x="279896" y="0"/>
                </a:moveTo>
                <a:cubicBezTo>
                  <a:pt x="381198" y="-1"/>
                  <a:pt x="482501" y="38646"/>
                  <a:pt x="559792" y="115937"/>
                </a:cubicBezTo>
                <a:cubicBezTo>
                  <a:pt x="714375" y="270519"/>
                  <a:pt x="714375" y="521146"/>
                  <a:pt x="559792" y="675729"/>
                </a:cubicBezTo>
                <a:lnTo>
                  <a:pt x="279896" y="955625"/>
                </a:lnTo>
                <a:lnTo>
                  <a:pt x="0" y="675729"/>
                </a:lnTo>
                <a:cubicBezTo>
                  <a:pt x="-154583" y="521146"/>
                  <a:pt x="-154583" y="270519"/>
                  <a:pt x="0" y="115937"/>
                </a:cubicBezTo>
                <a:cubicBezTo>
                  <a:pt x="77291" y="38646"/>
                  <a:pt x="178594" y="-1"/>
                  <a:pt x="279896" y="0"/>
                </a:cubicBezTo>
                <a:close/>
              </a:path>
            </a:pathLst>
          </a:custGeom>
          <a:solidFill>
            <a:srgbClr val="dca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240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KSO_Shape"/>
          <p:cNvSpPr/>
          <p:nvPr/>
        </p:nvSpPr>
        <p:spPr>
          <a:xfrm>
            <a:off x="7262640" y="3322800"/>
            <a:ext cx="358920" cy="487080"/>
          </a:xfrm>
          <a:custGeom>
            <a:avLst/>
            <a:gdLst>
              <a:gd name="textAreaLeft" fmla="*/ 0 w 358920"/>
              <a:gd name="textAreaRight" fmla="*/ 359280 w 35892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2092325" h="2844800">
                <a:moveTo>
                  <a:pt x="1912938" y="2620962"/>
                </a:moveTo>
                <a:lnTo>
                  <a:pt x="2055813" y="2620962"/>
                </a:lnTo>
                <a:lnTo>
                  <a:pt x="2000568" y="2832470"/>
                </a:lnTo>
                <a:lnTo>
                  <a:pt x="1998663" y="2836264"/>
                </a:lnTo>
                <a:lnTo>
                  <a:pt x="1996441" y="2838793"/>
                </a:lnTo>
                <a:lnTo>
                  <a:pt x="1994218" y="2841006"/>
                </a:lnTo>
                <a:lnTo>
                  <a:pt x="1991678" y="2842587"/>
                </a:lnTo>
                <a:lnTo>
                  <a:pt x="1989456" y="2844168"/>
                </a:lnTo>
                <a:lnTo>
                  <a:pt x="1986916" y="2844484"/>
                </a:lnTo>
                <a:lnTo>
                  <a:pt x="1984693" y="2844800"/>
                </a:lnTo>
                <a:lnTo>
                  <a:pt x="1982153" y="2844484"/>
                </a:lnTo>
                <a:lnTo>
                  <a:pt x="1979931" y="2844168"/>
                </a:lnTo>
                <a:lnTo>
                  <a:pt x="1977708" y="2843219"/>
                </a:lnTo>
                <a:lnTo>
                  <a:pt x="1975486" y="2841955"/>
                </a:lnTo>
                <a:lnTo>
                  <a:pt x="1973581" y="2840690"/>
                </a:lnTo>
                <a:lnTo>
                  <a:pt x="1971993" y="2838793"/>
                </a:lnTo>
                <a:lnTo>
                  <a:pt x="1970406" y="2836896"/>
                </a:lnTo>
                <a:lnTo>
                  <a:pt x="1969453" y="2834683"/>
                </a:lnTo>
                <a:lnTo>
                  <a:pt x="1968501" y="2833102"/>
                </a:lnTo>
                <a:lnTo>
                  <a:pt x="1912938" y="2620962"/>
                </a:lnTo>
                <a:close/>
                <a:moveTo>
                  <a:pt x="1156018" y="2488248"/>
                </a:moveTo>
                <a:lnTo>
                  <a:pt x="1156018" y="2633663"/>
                </a:lnTo>
                <a:lnTo>
                  <a:pt x="1552258" y="2633663"/>
                </a:lnTo>
                <a:lnTo>
                  <a:pt x="1552258" y="2488248"/>
                </a:lnTo>
                <a:lnTo>
                  <a:pt x="1156018" y="2488248"/>
                </a:lnTo>
                <a:close/>
                <a:moveTo>
                  <a:pt x="154940" y="2488248"/>
                </a:moveTo>
                <a:lnTo>
                  <a:pt x="154940" y="2633663"/>
                </a:lnTo>
                <a:lnTo>
                  <a:pt x="550862" y="2633663"/>
                </a:lnTo>
                <a:lnTo>
                  <a:pt x="550862" y="2488248"/>
                </a:lnTo>
                <a:lnTo>
                  <a:pt x="154940" y="2488248"/>
                </a:lnTo>
                <a:close/>
                <a:moveTo>
                  <a:pt x="1876425" y="1765300"/>
                </a:moveTo>
                <a:lnTo>
                  <a:pt x="2092325" y="1765300"/>
                </a:lnTo>
                <a:lnTo>
                  <a:pt x="2092325" y="2439353"/>
                </a:lnTo>
                <a:lnTo>
                  <a:pt x="2092325" y="2449831"/>
                </a:lnTo>
                <a:lnTo>
                  <a:pt x="2091693" y="2460308"/>
                </a:lnTo>
                <a:lnTo>
                  <a:pt x="2091061" y="2470151"/>
                </a:lnTo>
                <a:lnTo>
                  <a:pt x="2089796" y="2479993"/>
                </a:lnTo>
                <a:lnTo>
                  <a:pt x="2088848" y="2488883"/>
                </a:lnTo>
                <a:lnTo>
                  <a:pt x="2086951" y="2497773"/>
                </a:lnTo>
                <a:lnTo>
                  <a:pt x="2085055" y="2506346"/>
                </a:lnTo>
                <a:lnTo>
                  <a:pt x="2082842" y="2513966"/>
                </a:lnTo>
                <a:lnTo>
                  <a:pt x="2082526" y="2517458"/>
                </a:lnTo>
                <a:lnTo>
                  <a:pt x="2070198" y="2563813"/>
                </a:lnTo>
                <a:lnTo>
                  <a:pt x="1898553" y="2563813"/>
                </a:lnTo>
                <a:lnTo>
                  <a:pt x="1886541" y="2517458"/>
                </a:lnTo>
                <a:lnTo>
                  <a:pt x="1886225" y="2513966"/>
                </a:lnTo>
                <a:lnTo>
                  <a:pt x="1883696" y="2506346"/>
                </a:lnTo>
                <a:lnTo>
                  <a:pt x="1882115" y="2497773"/>
                </a:lnTo>
                <a:lnTo>
                  <a:pt x="1880219" y="2488883"/>
                </a:lnTo>
                <a:lnTo>
                  <a:pt x="1878954" y="2479993"/>
                </a:lnTo>
                <a:lnTo>
                  <a:pt x="1878006" y="2470151"/>
                </a:lnTo>
                <a:lnTo>
                  <a:pt x="1876741" y="2460308"/>
                </a:lnTo>
                <a:lnTo>
                  <a:pt x="1876425" y="2450148"/>
                </a:lnTo>
                <a:lnTo>
                  <a:pt x="1876425" y="2439353"/>
                </a:lnTo>
                <a:lnTo>
                  <a:pt x="1876425" y="1765300"/>
                </a:lnTo>
                <a:close/>
                <a:moveTo>
                  <a:pt x="375975" y="1550987"/>
                </a:moveTo>
                <a:lnTo>
                  <a:pt x="586369" y="1550987"/>
                </a:lnTo>
                <a:lnTo>
                  <a:pt x="588597" y="1551305"/>
                </a:lnTo>
                <a:lnTo>
                  <a:pt x="590825" y="1551305"/>
                </a:lnTo>
                <a:lnTo>
                  <a:pt x="594963" y="1552894"/>
                </a:lnTo>
                <a:lnTo>
                  <a:pt x="598782" y="1554483"/>
                </a:lnTo>
                <a:lnTo>
                  <a:pt x="601647" y="1557343"/>
                </a:lnTo>
                <a:lnTo>
                  <a:pt x="604193" y="1560521"/>
                </a:lnTo>
                <a:lnTo>
                  <a:pt x="606740" y="1564334"/>
                </a:lnTo>
                <a:lnTo>
                  <a:pt x="607694" y="1568466"/>
                </a:lnTo>
                <a:lnTo>
                  <a:pt x="608013" y="1570690"/>
                </a:lnTo>
                <a:lnTo>
                  <a:pt x="608013" y="1572915"/>
                </a:lnTo>
                <a:lnTo>
                  <a:pt x="608013" y="1878628"/>
                </a:lnTo>
                <a:lnTo>
                  <a:pt x="608013" y="1880852"/>
                </a:lnTo>
                <a:lnTo>
                  <a:pt x="607694" y="1882759"/>
                </a:lnTo>
                <a:lnTo>
                  <a:pt x="606740" y="1886572"/>
                </a:lnTo>
                <a:lnTo>
                  <a:pt x="604193" y="1890386"/>
                </a:lnTo>
                <a:lnTo>
                  <a:pt x="601647" y="1893881"/>
                </a:lnTo>
                <a:lnTo>
                  <a:pt x="598782" y="1896424"/>
                </a:lnTo>
                <a:lnTo>
                  <a:pt x="594963" y="1898648"/>
                </a:lnTo>
                <a:lnTo>
                  <a:pt x="590825" y="1899602"/>
                </a:lnTo>
                <a:lnTo>
                  <a:pt x="588597" y="1900237"/>
                </a:lnTo>
                <a:lnTo>
                  <a:pt x="586369" y="1900237"/>
                </a:lnTo>
                <a:lnTo>
                  <a:pt x="375975" y="1900237"/>
                </a:lnTo>
                <a:lnTo>
                  <a:pt x="373747" y="1900237"/>
                </a:lnTo>
                <a:lnTo>
                  <a:pt x="371519" y="1899602"/>
                </a:lnTo>
                <a:lnTo>
                  <a:pt x="367381" y="1898648"/>
                </a:lnTo>
                <a:lnTo>
                  <a:pt x="363880" y="1896424"/>
                </a:lnTo>
                <a:lnTo>
                  <a:pt x="360379" y="1893881"/>
                </a:lnTo>
                <a:lnTo>
                  <a:pt x="357832" y="1890386"/>
                </a:lnTo>
                <a:lnTo>
                  <a:pt x="355604" y="1886572"/>
                </a:lnTo>
                <a:lnTo>
                  <a:pt x="354331" y="1882759"/>
                </a:lnTo>
                <a:lnTo>
                  <a:pt x="354013" y="1880852"/>
                </a:lnTo>
                <a:lnTo>
                  <a:pt x="354013" y="1878628"/>
                </a:lnTo>
                <a:lnTo>
                  <a:pt x="354013" y="1572915"/>
                </a:lnTo>
                <a:lnTo>
                  <a:pt x="354013" y="1570690"/>
                </a:lnTo>
                <a:lnTo>
                  <a:pt x="354331" y="1568466"/>
                </a:lnTo>
                <a:lnTo>
                  <a:pt x="355604" y="1564334"/>
                </a:lnTo>
                <a:lnTo>
                  <a:pt x="357832" y="1560521"/>
                </a:lnTo>
                <a:lnTo>
                  <a:pt x="360379" y="1557343"/>
                </a:lnTo>
                <a:lnTo>
                  <a:pt x="363880" y="1554483"/>
                </a:lnTo>
                <a:lnTo>
                  <a:pt x="367381" y="1552894"/>
                </a:lnTo>
                <a:lnTo>
                  <a:pt x="371519" y="1551305"/>
                </a:lnTo>
                <a:lnTo>
                  <a:pt x="373747" y="1551305"/>
                </a:lnTo>
                <a:lnTo>
                  <a:pt x="375975" y="1550987"/>
                </a:lnTo>
                <a:close/>
                <a:moveTo>
                  <a:pt x="742022" y="1444625"/>
                </a:moveTo>
                <a:lnTo>
                  <a:pt x="744248" y="1444625"/>
                </a:lnTo>
                <a:lnTo>
                  <a:pt x="954696" y="1444625"/>
                </a:lnTo>
                <a:lnTo>
                  <a:pt x="956603" y="1444625"/>
                </a:lnTo>
                <a:lnTo>
                  <a:pt x="958828" y="1445262"/>
                </a:lnTo>
                <a:lnTo>
                  <a:pt x="962961" y="1446216"/>
                </a:lnTo>
                <a:lnTo>
                  <a:pt x="966776" y="1448443"/>
                </a:lnTo>
                <a:lnTo>
                  <a:pt x="969955" y="1450989"/>
                </a:lnTo>
                <a:lnTo>
                  <a:pt x="972498" y="1454170"/>
                </a:lnTo>
                <a:lnTo>
                  <a:pt x="974405" y="1457670"/>
                </a:lnTo>
                <a:lnTo>
                  <a:pt x="975995" y="1461806"/>
                </a:lnTo>
                <a:lnTo>
                  <a:pt x="976313" y="1464033"/>
                </a:lnTo>
                <a:lnTo>
                  <a:pt x="976313" y="1466261"/>
                </a:lnTo>
                <a:lnTo>
                  <a:pt x="976313" y="1878603"/>
                </a:lnTo>
                <a:lnTo>
                  <a:pt x="976313" y="1880830"/>
                </a:lnTo>
                <a:lnTo>
                  <a:pt x="975995" y="1882739"/>
                </a:lnTo>
                <a:lnTo>
                  <a:pt x="974405" y="1886557"/>
                </a:lnTo>
                <a:lnTo>
                  <a:pt x="972498" y="1890375"/>
                </a:lnTo>
                <a:lnTo>
                  <a:pt x="969955" y="1893875"/>
                </a:lnTo>
                <a:lnTo>
                  <a:pt x="966776" y="1896420"/>
                </a:lnTo>
                <a:lnTo>
                  <a:pt x="962961" y="1898647"/>
                </a:lnTo>
                <a:lnTo>
                  <a:pt x="958828" y="1899602"/>
                </a:lnTo>
                <a:lnTo>
                  <a:pt x="956603" y="1900238"/>
                </a:lnTo>
                <a:lnTo>
                  <a:pt x="954696" y="1900238"/>
                </a:lnTo>
                <a:lnTo>
                  <a:pt x="744248" y="1900238"/>
                </a:lnTo>
                <a:lnTo>
                  <a:pt x="742022" y="1900238"/>
                </a:lnTo>
                <a:lnTo>
                  <a:pt x="739797" y="1899602"/>
                </a:lnTo>
                <a:lnTo>
                  <a:pt x="735664" y="1898647"/>
                </a:lnTo>
                <a:lnTo>
                  <a:pt x="731850" y="1896420"/>
                </a:lnTo>
                <a:lnTo>
                  <a:pt x="728989" y="1893875"/>
                </a:lnTo>
                <a:lnTo>
                  <a:pt x="726445" y="1890375"/>
                </a:lnTo>
                <a:lnTo>
                  <a:pt x="724220" y="1886557"/>
                </a:lnTo>
                <a:lnTo>
                  <a:pt x="722949" y="1882739"/>
                </a:lnTo>
                <a:lnTo>
                  <a:pt x="722631" y="1880830"/>
                </a:lnTo>
                <a:lnTo>
                  <a:pt x="722313" y="1878603"/>
                </a:lnTo>
                <a:lnTo>
                  <a:pt x="722313" y="1466261"/>
                </a:lnTo>
                <a:lnTo>
                  <a:pt x="722631" y="1464033"/>
                </a:lnTo>
                <a:lnTo>
                  <a:pt x="722949" y="1461806"/>
                </a:lnTo>
                <a:lnTo>
                  <a:pt x="724220" y="1457670"/>
                </a:lnTo>
                <a:lnTo>
                  <a:pt x="726445" y="1454170"/>
                </a:lnTo>
                <a:lnTo>
                  <a:pt x="728989" y="1450989"/>
                </a:lnTo>
                <a:lnTo>
                  <a:pt x="731850" y="1448443"/>
                </a:lnTo>
                <a:lnTo>
                  <a:pt x="735664" y="1446216"/>
                </a:lnTo>
                <a:lnTo>
                  <a:pt x="739797" y="1445262"/>
                </a:lnTo>
                <a:lnTo>
                  <a:pt x="742022" y="1444625"/>
                </a:lnTo>
                <a:close/>
                <a:moveTo>
                  <a:pt x="1111786" y="1225550"/>
                </a:moveTo>
                <a:lnTo>
                  <a:pt x="1113998" y="1225550"/>
                </a:lnTo>
                <a:lnTo>
                  <a:pt x="1322815" y="1225550"/>
                </a:lnTo>
                <a:lnTo>
                  <a:pt x="1325027" y="1225550"/>
                </a:lnTo>
                <a:lnTo>
                  <a:pt x="1327238" y="1225868"/>
                </a:lnTo>
                <a:lnTo>
                  <a:pt x="1331345" y="1227139"/>
                </a:lnTo>
                <a:lnTo>
                  <a:pt x="1335136" y="1229364"/>
                </a:lnTo>
                <a:lnTo>
                  <a:pt x="1337979" y="1231906"/>
                </a:lnTo>
                <a:lnTo>
                  <a:pt x="1340822" y="1235084"/>
                </a:lnTo>
                <a:lnTo>
                  <a:pt x="1342718" y="1238898"/>
                </a:lnTo>
                <a:lnTo>
                  <a:pt x="1343981" y="1243029"/>
                </a:lnTo>
                <a:lnTo>
                  <a:pt x="1344297" y="1245254"/>
                </a:lnTo>
                <a:lnTo>
                  <a:pt x="1344613" y="1247478"/>
                </a:lnTo>
                <a:lnTo>
                  <a:pt x="1344613" y="1878628"/>
                </a:lnTo>
                <a:lnTo>
                  <a:pt x="1344297" y="1880852"/>
                </a:lnTo>
                <a:lnTo>
                  <a:pt x="1343981" y="1882759"/>
                </a:lnTo>
                <a:lnTo>
                  <a:pt x="1342718" y="1886573"/>
                </a:lnTo>
                <a:lnTo>
                  <a:pt x="1340822" y="1890386"/>
                </a:lnTo>
                <a:lnTo>
                  <a:pt x="1337979" y="1893882"/>
                </a:lnTo>
                <a:lnTo>
                  <a:pt x="1335136" y="1896425"/>
                </a:lnTo>
                <a:lnTo>
                  <a:pt x="1331345" y="1898649"/>
                </a:lnTo>
                <a:lnTo>
                  <a:pt x="1327238" y="1899603"/>
                </a:lnTo>
                <a:lnTo>
                  <a:pt x="1325027" y="1900238"/>
                </a:lnTo>
                <a:lnTo>
                  <a:pt x="1322815" y="1900238"/>
                </a:lnTo>
                <a:lnTo>
                  <a:pt x="1113998" y="1900238"/>
                </a:lnTo>
                <a:lnTo>
                  <a:pt x="1111786" y="1900238"/>
                </a:lnTo>
                <a:lnTo>
                  <a:pt x="1109575" y="1899603"/>
                </a:lnTo>
                <a:lnTo>
                  <a:pt x="1105468" y="1898649"/>
                </a:lnTo>
                <a:lnTo>
                  <a:pt x="1101677" y="1896425"/>
                </a:lnTo>
                <a:lnTo>
                  <a:pt x="1098834" y="1893882"/>
                </a:lnTo>
                <a:lnTo>
                  <a:pt x="1095991" y="1890386"/>
                </a:lnTo>
                <a:lnTo>
                  <a:pt x="1094095" y="1886573"/>
                </a:lnTo>
                <a:lnTo>
                  <a:pt x="1092832" y="1882759"/>
                </a:lnTo>
                <a:lnTo>
                  <a:pt x="1092516" y="1880852"/>
                </a:lnTo>
                <a:lnTo>
                  <a:pt x="1092200" y="1878628"/>
                </a:lnTo>
                <a:lnTo>
                  <a:pt x="1092200" y="1247478"/>
                </a:lnTo>
                <a:lnTo>
                  <a:pt x="1092516" y="1245254"/>
                </a:lnTo>
                <a:lnTo>
                  <a:pt x="1092832" y="1243029"/>
                </a:lnTo>
                <a:lnTo>
                  <a:pt x="1094095" y="1238898"/>
                </a:lnTo>
                <a:lnTo>
                  <a:pt x="1095991" y="1235084"/>
                </a:lnTo>
                <a:lnTo>
                  <a:pt x="1098834" y="1231906"/>
                </a:lnTo>
                <a:lnTo>
                  <a:pt x="1101677" y="1229364"/>
                </a:lnTo>
                <a:lnTo>
                  <a:pt x="1105468" y="1227139"/>
                </a:lnTo>
                <a:lnTo>
                  <a:pt x="1109575" y="1225868"/>
                </a:lnTo>
                <a:lnTo>
                  <a:pt x="1111786" y="1225550"/>
                </a:lnTo>
                <a:close/>
                <a:moveTo>
                  <a:pt x="1876425" y="912812"/>
                </a:moveTo>
                <a:lnTo>
                  <a:pt x="2092325" y="912812"/>
                </a:lnTo>
                <a:lnTo>
                  <a:pt x="2092325" y="1709737"/>
                </a:lnTo>
                <a:lnTo>
                  <a:pt x="1876425" y="1709737"/>
                </a:lnTo>
                <a:lnTo>
                  <a:pt x="1876425" y="912812"/>
                </a:lnTo>
                <a:close/>
                <a:moveTo>
                  <a:pt x="1350011" y="644525"/>
                </a:moveTo>
                <a:lnTo>
                  <a:pt x="1362394" y="722630"/>
                </a:lnTo>
                <a:lnTo>
                  <a:pt x="1412876" y="1040448"/>
                </a:lnTo>
                <a:lnTo>
                  <a:pt x="1292861" y="1059498"/>
                </a:lnTo>
                <a:lnTo>
                  <a:pt x="1267779" y="902653"/>
                </a:lnTo>
                <a:lnTo>
                  <a:pt x="1258571" y="922020"/>
                </a:lnTo>
                <a:lnTo>
                  <a:pt x="1249363" y="941070"/>
                </a:lnTo>
                <a:lnTo>
                  <a:pt x="1239203" y="959485"/>
                </a:lnTo>
                <a:lnTo>
                  <a:pt x="1229361" y="977583"/>
                </a:lnTo>
                <a:lnTo>
                  <a:pt x="1219201" y="995045"/>
                </a:lnTo>
                <a:lnTo>
                  <a:pt x="1208723" y="1012190"/>
                </a:lnTo>
                <a:lnTo>
                  <a:pt x="1197928" y="1029018"/>
                </a:lnTo>
                <a:lnTo>
                  <a:pt x="1186816" y="1045210"/>
                </a:lnTo>
                <a:lnTo>
                  <a:pt x="1175703" y="1061403"/>
                </a:lnTo>
                <a:lnTo>
                  <a:pt x="1164273" y="1076961"/>
                </a:lnTo>
                <a:lnTo>
                  <a:pt x="1152843" y="1091883"/>
                </a:lnTo>
                <a:lnTo>
                  <a:pt x="1141096" y="1106806"/>
                </a:lnTo>
                <a:lnTo>
                  <a:pt x="1129031" y="1120776"/>
                </a:lnTo>
                <a:lnTo>
                  <a:pt x="1116966" y="1134428"/>
                </a:lnTo>
                <a:lnTo>
                  <a:pt x="1104901" y="1147763"/>
                </a:lnTo>
                <a:lnTo>
                  <a:pt x="1092201" y="1161416"/>
                </a:lnTo>
                <a:lnTo>
                  <a:pt x="1076961" y="1176656"/>
                </a:lnTo>
                <a:lnTo>
                  <a:pt x="1061721" y="1190943"/>
                </a:lnTo>
                <a:lnTo>
                  <a:pt x="1046163" y="1205231"/>
                </a:lnTo>
                <a:lnTo>
                  <a:pt x="1029971" y="1218883"/>
                </a:lnTo>
                <a:lnTo>
                  <a:pt x="1014096" y="1231901"/>
                </a:lnTo>
                <a:lnTo>
                  <a:pt x="998221" y="1244283"/>
                </a:lnTo>
                <a:lnTo>
                  <a:pt x="982346" y="1256348"/>
                </a:lnTo>
                <a:lnTo>
                  <a:pt x="965836" y="1267778"/>
                </a:lnTo>
                <a:lnTo>
                  <a:pt x="949643" y="1278573"/>
                </a:lnTo>
                <a:lnTo>
                  <a:pt x="933133" y="1289368"/>
                </a:lnTo>
                <a:lnTo>
                  <a:pt x="916306" y="1299528"/>
                </a:lnTo>
                <a:lnTo>
                  <a:pt x="900113" y="1309053"/>
                </a:lnTo>
                <a:lnTo>
                  <a:pt x="883603" y="1317943"/>
                </a:lnTo>
                <a:lnTo>
                  <a:pt x="867093" y="1326833"/>
                </a:lnTo>
                <a:lnTo>
                  <a:pt x="850583" y="1335088"/>
                </a:lnTo>
                <a:lnTo>
                  <a:pt x="834073" y="1343026"/>
                </a:lnTo>
                <a:lnTo>
                  <a:pt x="817563" y="1350328"/>
                </a:lnTo>
                <a:lnTo>
                  <a:pt x="801370" y="1357313"/>
                </a:lnTo>
                <a:lnTo>
                  <a:pt x="784860" y="1363981"/>
                </a:lnTo>
                <a:lnTo>
                  <a:pt x="768668" y="1370331"/>
                </a:lnTo>
                <a:lnTo>
                  <a:pt x="752475" y="1376363"/>
                </a:lnTo>
                <a:lnTo>
                  <a:pt x="736600" y="1382078"/>
                </a:lnTo>
                <a:lnTo>
                  <a:pt x="720725" y="1387158"/>
                </a:lnTo>
                <a:lnTo>
                  <a:pt x="704533" y="1391921"/>
                </a:lnTo>
                <a:lnTo>
                  <a:pt x="688975" y="1396366"/>
                </a:lnTo>
                <a:lnTo>
                  <a:pt x="673735" y="1400493"/>
                </a:lnTo>
                <a:lnTo>
                  <a:pt x="658178" y="1404621"/>
                </a:lnTo>
                <a:lnTo>
                  <a:pt x="643255" y="1408431"/>
                </a:lnTo>
                <a:lnTo>
                  <a:pt x="613728" y="1414781"/>
                </a:lnTo>
                <a:lnTo>
                  <a:pt x="585153" y="1420178"/>
                </a:lnTo>
                <a:lnTo>
                  <a:pt x="557530" y="1424623"/>
                </a:lnTo>
                <a:lnTo>
                  <a:pt x="530860" y="1428433"/>
                </a:lnTo>
                <a:lnTo>
                  <a:pt x="505460" y="1430973"/>
                </a:lnTo>
                <a:lnTo>
                  <a:pt x="481648" y="1433196"/>
                </a:lnTo>
                <a:lnTo>
                  <a:pt x="459423" y="1434783"/>
                </a:lnTo>
                <a:lnTo>
                  <a:pt x="438150" y="1435736"/>
                </a:lnTo>
                <a:lnTo>
                  <a:pt x="419100" y="1436371"/>
                </a:lnTo>
                <a:lnTo>
                  <a:pt x="401638" y="1436688"/>
                </a:lnTo>
                <a:lnTo>
                  <a:pt x="385445" y="1436371"/>
                </a:lnTo>
                <a:lnTo>
                  <a:pt x="371793" y="1435736"/>
                </a:lnTo>
                <a:lnTo>
                  <a:pt x="350838" y="1434783"/>
                </a:lnTo>
                <a:lnTo>
                  <a:pt x="350838" y="1313181"/>
                </a:lnTo>
                <a:lnTo>
                  <a:pt x="352425" y="1313181"/>
                </a:lnTo>
                <a:lnTo>
                  <a:pt x="362585" y="1314133"/>
                </a:lnTo>
                <a:lnTo>
                  <a:pt x="378778" y="1314768"/>
                </a:lnTo>
                <a:lnTo>
                  <a:pt x="401638" y="1315086"/>
                </a:lnTo>
                <a:lnTo>
                  <a:pt x="425133" y="1314768"/>
                </a:lnTo>
                <a:lnTo>
                  <a:pt x="452438" y="1313498"/>
                </a:lnTo>
                <a:lnTo>
                  <a:pt x="467360" y="1312546"/>
                </a:lnTo>
                <a:lnTo>
                  <a:pt x="482918" y="1311276"/>
                </a:lnTo>
                <a:lnTo>
                  <a:pt x="499110" y="1309371"/>
                </a:lnTo>
                <a:lnTo>
                  <a:pt x="515938" y="1307783"/>
                </a:lnTo>
                <a:lnTo>
                  <a:pt x="533718" y="1305561"/>
                </a:lnTo>
                <a:lnTo>
                  <a:pt x="551498" y="1302386"/>
                </a:lnTo>
                <a:lnTo>
                  <a:pt x="570548" y="1299528"/>
                </a:lnTo>
                <a:lnTo>
                  <a:pt x="589598" y="1295718"/>
                </a:lnTo>
                <a:lnTo>
                  <a:pt x="609283" y="1291591"/>
                </a:lnTo>
                <a:lnTo>
                  <a:pt x="628968" y="1286828"/>
                </a:lnTo>
                <a:lnTo>
                  <a:pt x="649288" y="1281431"/>
                </a:lnTo>
                <a:lnTo>
                  <a:pt x="670243" y="1275716"/>
                </a:lnTo>
                <a:lnTo>
                  <a:pt x="690880" y="1269048"/>
                </a:lnTo>
                <a:lnTo>
                  <a:pt x="711835" y="1262063"/>
                </a:lnTo>
                <a:lnTo>
                  <a:pt x="733425" y="1253808"/>
                </a:lnTo>
                <a:lnTo>
                  <a:pt x="754380" y="1245236"/>
                </a:lnTo>
                <a:lnTo>
                  <a:pt x="775970" y="1236028"/>
                </a:lnTo>
                <a:lnTo>
                  <a:pt x="797243" y="1225868"/>
                </a:lnTo>
                <a:lnTo>
                  <a:pt x="818833" y="1215073"/>
                </a:lnTo>
                <a:lnTo>
                  <a:pt x="840423" y="1203326"/>
                </a:lnTo>
                <a:lnTo>
                  <a:pt x="861378" y="1190943"/>
                </a:lnTo>
                <a:lnTo>
                  <a:pt x="882651" y="1177291"/>
                </a:lnTo>
                <a:lnTo>
                  <a:pt x="903923" y="1163003"/>
                </a:lnTo>
                <a:lnTo>
                  <a:pt x="914083" y="1155383"/>
                </a:lnTo>
                <a:lnTo>
                  <a:pt x="924561" y="1147446"/>
                </a:lnTo>
                <a:lnTo>
                  <a:pt x="935038" y="1139826"/>
                </a:lnTo>
                <a:lnTo>
                  <a:pt x="945516" y="1131571"/>
                </a:lnTo>
                <a:lnTo>
                  <a:pt x="955358" y="1122998"/>
                </a:lnTo>
                <a:lnTo>
                  <a:pt x="965518" y="1114108"/>
                </a:lnTo>
                <a:lnTo>
                  <a:pt x="975996" y="1105218"/>
                </a:lnTo>
                <a:lnTo>
                  <a:pt x="985521" y="1096011"/>
                </a:lnTo>
                <a:lnTo>
                  <a:pt x="995681" y="1086168"/>
                </a:lnTo>
                <a:lnTo>
                  <a:pt x="1005206" y="1076326"/>
                </a:lnTo>
                <a:lnTo>
                  <a:pt x="1016001" y="1065531"/>
                </a:lnTo>
                <a:lnTo>
                  <a:pt x="1026478" y="1053783"/>
                </a:lnTo>
                <a:lnTo>
                  <a:pt x="1036956" y="1042035"/>
                </a:lnTo>
                <a:lnTo>
                  <a:pt x="1046798" y="1029970"/>
                </a:lnTo>
                <a:lnTo>
                  <a:pt x="1056958" y="1017588"/>
                </a:lnTo>
                <a:lnTo>
                  <a:pt x="1066801" y="1004888"/>
                </a:lnTo>
                <a:lnTo>
                  <a:pt x="1076643" y="991553"/>
                </a:lnTo>
                <a:lnTo>
                  <a:pt x="1086168" y="977583"/>
                </a:lnTo>
                <a:lnTo>
                  <a:pt x="1095376" y="963930"/>
                </a:lnTo>
                <a:lnTo>
                  <a:pt x="1104901" y="949643"/>
                </a:lnTo>
                <a:lnTo>
                  <a:pt x="1113791" y="934720"/>
                </a:lnTo>
                <a:lnTo>
                  <a:pt x="1122681" y="919798"/>
                </a:lnTo>
                <a:lnTo>
                  <a:pt x="1131571" y="904240"/>
                </a:lnTo>
                <a:lnTo>
                  <a:pt x="1140143" y="888048"/>
                </a:lnTo>
                <a:lnTo>
                  <a:pt x="1148398" y="871855"/>
                </a:lnTo>
                <a:lnTo>
                  <a:pt x="1156336" y="854710"/>
                </a:lnTo>
                <a:lnTo>
                  <a:pt x="1120141" y="868363"/>
                </a:lnTo>
                <a:lnTo>
                  <a:pt x="1083946" y="882015"/>
                </a:lnTo>
                <a:lnTo>
                  <a:pt x="1048068" y="895985"/>
                </a:lnTo>
                <a:lnTo>
                  <a:pt x="1029653" y="903288"/>
                </a:lnTo>
                <a:lnTo>
                  <a:pt x="1011873" y="911225"/>
                </a:lnTo>
                <a:lnTo>
                  <a:pt x="963931" y="799465"/>
                </a:lnTo>
                <a:lnTo>
                  <a:pt x="984886" y="790892"/>
                </a:lnTo>
                <a:lnTo>
                  <a:pt x="1005206" y="782320"/>
                </a:lnTo>
                <a:lnTo>
                  <a:pt x="1046163" y="766762"/>
                </a:lnTo>
                <a:lnTo>
                  <a:pt x="1085851" y="751522"/>
                </a:lnTo>
                <a:lnTo>
                  <a:pt x="1124903" y="736917"/>
                </a:lnTo>
                <a:lnTo>
                  <a:pt x="1163956" y="722630"/>
                </a:lnTo>
                <a:lnTo>
                  <a:pt x="1202056" y="708025"/>
                </a:lnTo>
                <a:lnTo>
                  <a:pt x="1240156" y="692785"/>
                </a:lnTo>
                <a:lnTo>
                  <a:pt x="1258889" y="684530"/>
                </a:lnTo>
                <a:lnTo>
                  <a:pt x="1277939" y="676275"/>
                </a:lnTo>
                <a:lnTo>
                  <a:pt x="1350011" y="644525"/>
                </a:lnTo>
                <a:close/>
                <a:moveTo>
                  <a:pt x="1975682" y="604837"/>
                </a:moveTo>
                <a:lnTo>
                  <a:pt x="1984533" y="604837"/>
                </a:lnTo>
                <a:lnTo>
                  <a:pt x="1993068" y="604837"/>
                </a:lnTo>
                <a:lnTo>
                  <a:pt x="2001603" y="605788"/>
                </a:lnTo>
                <a:lnTo>
                  <a:pt x="2009506" y="606739"/>
                </a:lnTo>
                <a:lnTo>
                  <a:pt x="2017408" y="608642"/>
                </a:lnTo>
                <a:lnTo>
                  <a:pt x="2024995" y="610862"/>
                </a:lnTo>
                <a:lnTo>
                  <a:pt x="2032581" y="614350"/>
                </a:lnTo>
                <a:lnTo>
                  <a:pt x="2036375" y="615935"/>
                </a:lnTo>
                <a:lnTo>
                  <a:pt x="2039536" y="618472"/>
                </a:lnTo>
                <a:lnTo>
                  <a:pt x="2043329" y="620692"/>
                </a:lnTo>
                <a:lnTo>
                  <a:pt x="2046490" y="623229"/>
                </a:lnTo>
                <a:lnTo>
                  <a:pt x="2049651" y="626083"/>
                </a:lnTo>
                <a:lnTo>
                  <a:pt x="2052812" y="629571"/>
                </a:lnTo>
                <a:lnTo>
                  <a:pt x="2055973" y="632742"/>
                </a:lnTo>
                <a:lnTo>
                  <a:pt x="2058818" y="636547"/>
                </a:lnTo>
                <a:lnTo>
                  <a:pt x="2061663" y="640669"/>
                </a:lnTo>
                <a:lnTo>
                  <a:pt x="2064508" y="645109"/>
                </a:lnTo>
                <a:lnTo>
                  <a:pt x="2067037" y="649865"/>
                </a:lnTo>
                <a:lnTo>
                  <a:pt x="2069566" y="654622"/>
                </a:lnTo>
                <a:lnTo>
                  <a:pt x="2072094" y="660330"/>
                </a:lnTo>
                <a:lnTo>
                  <a:pt x="2074307" y="665720"/>
                </a:lnTo>
                <a:lnTo>
                  <a:pt x="2076520" y="672062"/>
                </a:lnTo>
                <a:lnTo>
                  <a:pt x="2078417" y="678404"/>
                </a:lnTo>
                <a:lnTo>
                  <a:pt x="2080313" y="685381"/>
                </a:lnTo>
                <a:lnTo>
                  <a:pt x="2082210" y="692674"/>
                </a:lnTo>
                <a:lnTo>
                  <a:pt x="2085371" y="708529"/>
                </a:lnTo>
                <a:lnTo>
                  <a:pt x="2086951" y="714871"/>
                </a:lnTo>
                <a:lnTo>
                  <a:pt x="2088532" y="719628"/>
                </a:lnTo>
                <a:lnTo>
                  <a:pt x="2090745" y="727555"/>
                </a:lnTo>
                <a:lnTo>
                  <a:pt x="2091377" y="731360"/>
                </a:lnTo>
                <a:lnTo>
                  <a:pt x="2092009" y="736434"/>
                </a:lnTo>
                <a:lnTo>
                  <a:pt x="2092325" y="742776"/>
                </a:lnTo>
                <a:lnTo>
                  <a:pt x="2092325" y="750704"/>
                </a:lnTo>
                <a:lnTo>
                  <a:pt x="2092325" y="857250"/>
                </a:lnTo>
                <a:lnTo>
                  <a:pt x="1876425" y="857250"/>
                </a:lnTo>
                <a:lnTo>
                  <a:pt x="1876425" y="750704"/>
                </a:lnTo>
                <a:lnTo>
                  <a:pt x="1876425" y="742776"/>
                </a:lnTo>
                <a:lnTo>
                  <a:pt x="1876741" y="736434"/>
                </a:lnTo>
                <a:lnTo>
                  <a:pt x="1877690" y="731360"/>
                </a:lnTo>
                <a:lnTo>
                  <a:pt x="1878322" y="727555"/>
                </a:lnTo>
                <a:lnTo>
                  <a:pt x="1880535" y="719628"/>
                </a:lnTo>
                <a:lnTo>
                  <a:pt x="1882115" y="714871"/>
                </a:lnTo>
                <a:lnTo>
                  <a:pt x="1883380" y="708529"/>
                </a:lnTo>
                <a:lnTo>
                  <a:pt x="1886857" y="692674"/>
                </a:lnTo>
                <a:lnTo>
                  <a:pt x="1888753" y="685381"/>
                </a:lnTo>
                <a:lnTo>
                  <a:pt x="1890650" y="678404"/>
                </a:lnTo>
                <a:lnTo>
                  <a:pt x="1892231" y="672062"/>
                </a:lnTo>
                <a:lnTo>
                  <a:pt x="1894443" y="665720"/>
                </a:lnTo>
                <a:lnTo>
                  <a:pt x="1896656" y="660330"/>
                </a:lnTo>
                <a:lnTo>
                  <a:pt x="1899501" y="654622"/>
                </a:lnTo>
                <a:lnTo>
                  <a:pt x="1901714" y="649865"/>
                </a:lnTo>
                <a:lnTo>
                  <a:pt x="1904243" y="645109"/>
                </a:lnTo>
                <a:lnTo>
                  <a:pt x="1907087" y="640669"/>
                </a:lnTo>
                <a:lnTo>
                  <a:pt x="1910249" y="636547"/>
                </a:lnTo>
                <a:lnTo>
                  <a:pt x="1912777" y="632742"/>
                </a:lnTo>
                <a:lnTo>
                  <a:pt x="1915938" y="629571"/>
                </a:lnTo>
                <a:lnTo>
                  <a:pt x="1919099" y="626083"/>
                </a:lnTo>
                <a:lnTo>
                  <a:pt x="1922261" y="623229"/>
                </a:lnTo>
                <a:lnTo>
                  <a:pt x="1925738" y="620692"/>
                </a:lnTo>
                <a:lnTo>
                  <a:pt x="1928899" y="618472"/>
                </a:lnTo>
                <a:lnTo>
                  <a:pt x="1932692" y="615935"/>
                </a:lnTo>
                <a:lnTo>
                  <a:pt x="1935853" y="614350"/>
                </a:lnTo>
                <a:lnTo>
                  <a:pt x="1939646" y="612447"/>
                </a:lnTo>
                <a:lnTo>
                  <a:pt x="1943440" y="610862"/>
                </a:lnTo>
                <a:lnTo>
                  <a:pt x="1951026" y="608642"/>
                </a:lnTo>
                <a:lnTo>
                  <a:pt x="1959245" y="606739"/>
                </a:lnTo>
                <a:lnTo>
                  <a:pt x="1967464" y="605788"/>
                </a:lnTo>
                <a:lnTo>
                  <a:pt x="1975682" y="604837"/>
                </a:lnTo>
                <a:close/>
                <a:moveTo>
                  <a:pt x="154940" y="259715"/>
                </a:moveTo>
                <a:lnTo>
                  <a:pt x="154940" y="2241868"/>
                </a:lnTo>
                <a:lnTo>
                  <a:pt x="1552258" y="2241868"/>
                </a:lnTo>
                <a:lnTo>
                  <a:pt x="1552258" y="259715"/>
                </a:lnTo>
                <a:lnTo>
                  <a:pt x="154940" y="259715"/>
                </a:lnTo>
                <a:close/>
                <a:moveTo>
                  <a:pt x="201612" y="0"/>
                </a:moveTo>
                <a:lnTo>
                  <a:pt x="1504951" y="0"/>
                </a:lnTo>
                <a:lnTo>
                  <a:pt x="1515428" y="317"/>
                </a:lnTo>
                <a:lnTo>
                  <a:pt x="1525906" y="952"/>
                </a:lnTo>
                <a:lnTo>
                  <a:pt x="1535748" y="2222"/>
                </a:lnTo>
                <a:lnTo>
                  <a:pt x="1545591" y="3810"/>
                </a:lnTo>
                <a:lnTo>
                  <a:pt x="1555116" y="5715"/>
                </a:lnTo>
                <a:lnTo>
                  <a:pt x="1564958" y="8572"/>
                </a:lnTo>
                <a:lnTo>
                  <a:pt x="1574166" y="11430"/>
                </a:lnTo>
                <a:lnTo>
                  <a:pt x="1583373" y="15240"/>
                </a:lnTo>
                <a:lnTo>
                  <a:pt x="1592263" y="18732"/>
                </a:lnTo>
                <a:lnTo>
                  <a:pt x="1600836" y="22860"/>
                </a:lnTo>
                <a:lnTo>
                  <a:pt x="1609408" y="27305"/>
                </a:lnTo>
                <a:lnTo>
                  <a:pt x="1617663" y="32702"/>
                </a:lnTo>
                <a:lnTo>
                  <a:pt x="1625283" y="37782"/>
                </a:lnTo>
                <a:lnTo>
                  <a:pt x="1633221" y="43497"/>
                </a:lnTo>
                <a:lnTo>
                  <a:pt x="1640206" y="49212"/>
                </a:lnTo>
                <a:lnTo>
                  <a:pt x="1647191" y="55562"/>
                </a:lnTo>
                <a:lnTo>
                  <a:pt x="1653858" y="62230"/>
                </a:lnTo>
                <a:lnTo>
                  <a:pt x="1660208" y="69215"/>
                </a:lnTo>
                <a:lnTo>
                  <a:pt x="1666558" y="76517"/>
                </a:lnTo>
                <a:lnTo>
                  <a:pt x="1672273" y="83820"/>
                </a:lnTo>
                <a:lnTo>
                  <a:pt x="1677353" y="91757"/>
                </a:lnTo>
                <a:lnTo>
                  <a:pt x="1682116" y="99377"/>
                </a:lnTo>
                <a:lnTo>
                  <a:pt x="1686561" y="107632"/>
                </a:lnTo>
                <a:lnTo>
                  <a:pt x="1690688" y="116205"/>
                </a:lnTo>
                <a:lnTo>
                  <a:pt x="1694498" y="124777"/>
                </a:lnTo>
                <a:lnTo>
                  <a:pt x="1697356" y="133667"/>
                </a:lnTo>
                <a:lnTo>
                  <a:pt x="1700531" y="142557"/>
                </a:lnTo>
                <a:lnTo>
                  <a:pt x="1702753" y="151447"/>
                </a:lnTo>
                <a:lnTo>
                  <a:pt x="1704023" y="160972"/>
                </a:lnTo>
                <a:lnTo>
                  <a:pt x="1705611" y="170497"/>
                </a:lnTo>
                <a:lnTo>
                  <a:pt x="1706246" y="180022"/>
                </a:lnTo>
                <a:lnTo>
                  <a:pt x="1706563" y="189865"/>
                </a:lnTo>
                <a:lnTo>
                  <a:pt x="1706563" y="2654935"/>
                </a:lnTo>
                <a:lnTo>
                  <a:pt x="1706246" y="2664460"/>
                </a:lnTo>
                <a:lnTo>
                  <a:pt x="1705611" y="2674303"/>
                </a:lnTo>
                <a:lnTo>
                  <a:pt x="1704023" y="2683828"/>
                </a:lnTo>
                <a:lnTo>
                  <a:pt x="1702753" y="2693353"/>
                </a:lnTo>
                <a:lnTo>
                  <a:pt x="1700531" y="2702560"/>
                </a:lnTo>
                <a:lnTo>
                  <a:pt x="1697356" y="2711450"/>
                </a:lnTo>
                <a:lnTo>
                  <a:pt x="1694498" y="2720023"/>
                </a:lnTo>
                <a:lnTo>
                  <a:pt x="1690688" y="2728913"/>
                </a:lnTo>
                <a:lnTo>
                  <a:pt x="1686561" y="2737168"/>
                </a:lnTo>
                <a:lnTo>
                  <a:pt x="1682116" y="2745105"/>
                </a:lnTo>
                <a:lnTo>
                  <a:pt x="1677353" y="2753360"/>
                </a:lnTo>
                <a:lnTo>
                  <a:pt x="1672273" y="2760980"/>
                </a:lnTo>
                <a:lnTo>
                  <a:pt x="1666558" y="2768283"/>
                </a:lnTo>
                <a:lnTo>
                  <a:pt x="1660208" y="2775585"/>
                </a:lnTo>
                <a:lnTo>
                  <a:pt x="1653858" y="2782253"/>
                </a:lnTo>
                <a:lnTo>
                  <a:pt x="1647191" y="2788920"/>
                </a:lnTo>
                <a:lnTo>
                  <a:pt x="1640206" y="2795270"/>
                </a:lnTo>
                <a:lnTo>
                  <a:pt x="1633221" y="2801303"/>
                </a:lnTo>
                <a:lnTo>
                  <a:pt x="1625283" y="2807018"/>
                </a:lnTo>
                <a:lnTo>
                  <a:pt x="1617663" y="2812098"/>
                </a:lnTo>
                <a:lnTo>
                  <a:pt x="1609408" y="2817178"/>
                </a:lnTo>
                <a:lnTo>
                  <a:pt x="1600836" y="2821623"/>
                </a:lnTo>
                <a:lnTo>
                  <a:pt x="1592263" y="2825750"/>
                </a:lnTo>
                <a:lnTo>
                  <a:pt x="1583373" y="2829878"/>
                </a:lnTo>
                <a:lnTo>
                  <a:pt x="1574166" y="2833370"/>
                </a:lnTo>
                <a:lnTo>
                  <a:pt x="1564958" y="2836228"/>
                </a:lnTo>
                <a:lnTo>
                  <a:pt x="1555116" y="2838768"/>
                </a:lnTo>
                <a:lnTo>
                  <a:pt x="1545591" y="2840673"/>
                </a:lnTo>
                <a:lnTo>
                  <a:pt x="1535748" y="2842578"/>
                </a:lnTo>
                <a:lnTo>
                  <a:pt x="1525906" y="2843848"/>
                </a:lnTo>
                <a:lnTo>
                  <a:pt x="1515428" y="2844483"/>
                </a:lnTo>
                <a:lnTo>
                  <a:pt x="1504951" y="2844800"/>
                </a:lnTo>
                <a:lnTo>
                  <a:pt x="201612" y="2844800"/>
                </a:lnTo>
                <a:lnTo>
                  <a:pt x="191135" y="2844483"/>
                </a:lnTo>
                <a:lnTo>
                  <a:pt x="180975" y="2843848"/>
                </a:lnTo>
                <a:lnTo>
                  <a:pt x="170815" y="2842578"/>
                </a:lnTo>
                <a:lnTo>
                  <a:pt x="161290" y="2840673"/>
                </a:lnTo>
                <a:lnTo>
                  <a:pt x="151447" y="2838768"/>
                </a:lnTo>
                <a:lnTo>
                  <a:pt x="141922" y="2836228"/>
                </a:lnTo>
                <a:lnTo>
                  <a:pt x="132715" y="2833370"/>
                </a:lnTo>
                <a:lnTo>
                  <a:pt x="123190" y="2829878"/>
                </a:lnTo>
                <a:lnTo>
                  <a:pt x="114300" y="2825750"/>
                </a:lnTo>
                <a:lnTo>
                  <a:pt x="105727" y="2821623"/>
                </a:lnTo>
                <a:lnTo>
                  <a:pt x="97155" y="2817178"/>
                </a:lnTo>
                <a:lnTo>
                  <a:pt x="89217" y="2812098"/>
                </a:lnTo>
                <a:lnTo>
                  <a:pt x="81280" y="2807018"/>
                </a:lnTo>
                <a:lnTo>
                  <a:pt x="73660" y="2801303"/>
                </a:lnTo>
                <a:lnTo>
                  <a:pt x="66357" y="2795270"/>
                </a:lnTo>
                <a:lnTo>
                  <a:pt x="59372" y="2788920"/>
                </a:lnTo>
                <a:lnTo>
                  <a:pt x="52705" y="2782253"/>
                </a:lnTo>
                <a:lnTo>
                  <a:pt x="46355" y="2775585"/>
                </a:lnTo>
                <a:lnTo>
                  <a:pt x="40322" y="2768283"/>
                </a:lnTo>
                <a:lnTo>
                  <a:pt x="34607" y="2760980"/>
                </a:lnTo>
                <a:lnTo>
                  <a:pt x="29210" y="2753360"/>
                </a:lnTo>
                <a:lnTo>
                  <a:pt x="24447" y="2745105"/>
                </a:lnTo>
                <a:lnTo>
                  <a:pt x="20002" y="2737168"/>
                </a:lnTo>
                <a:lnTo>
                  <a:pt x="15875" y="2728913"/>
                </a:lnTo>
                <a:lnTo>
                  <a:pt x="12065" y="2720023"/>
                </a:lnTo>
                <a:lnTo>
                  <a:pt x="9207" y="2711450"/>
                </a:lnTo>
                <a:lnTo>
                  <a:pt x="6667" y="2702560"/>
                </a:lnTo>
                <a:lnTo>
                  <a:pt x="4127" y="2693353"/>
                </a:lnTo>
                <a:lnTo>
                  <a:pt x="2540" y="2683828"/>
                </a:lnTo>
                <a:lnTo>
                  <a:pt x="952" y="2674303"/>
                </a:lnTo>
                <a:lnTo>
                  <a:pt x="317" y="2664460"/>
                </a:lnTo>
                <a:lnTo>
                  <a:pt x="0" y="2654935"/>
                </a:lnTo>
                <a:lnTo>
                  <a:pt x="0" y="189865"/>
                </a:lnTo>
                <a:lnTo>
                  <a:pt x="317" y="180022"/>
                </a:lnTo>
                <a:lnTo>
                  <a:pt x="952" y="170497"/>
                </a:lnTo>
                <a:lnTo>
                  <a:pt x="2540" y="160972"/>
                </a:lnTo>
                <a:lnTo>
                  <a:pt x="4127" y="151447"/>
                </a:lnTo>
                <a:lnTo>
                  <a:pt x="6667" y="142557"/>
                </a:lnTo>
                <a:lnTo>
                  <a:pt x="9207" y="133667"/>
                </a:lnTo>
                <a:lnTo>
                  <a:pt x="12065" y="124777"/>
                </a:lnTo>
                <a:lnTo>
                  <a:pt x="15875" y="116205"/>
                </a:lnTo>
                <a:lnTo>
                  <a:pt x="20002" y="107632"/>
                </a:lnTo>
                <a:lnTo>
                  <a:pt x="24447" y="99377"/>
                </a:lnTo>
                <a:lnTo>
                  <a:pt x="29210" y="91757"/>
                </a:lnTo>
                <a:lnTo>
                  <a:pt x="34607" y="83820"/>
                </a:lnTo>
                <a:lnTo>
                  <a:pt x="40322" y="76517"/>
                </a:lnTo>
                <a:lnTo>
                  <a:pt x="46355" y="69215"/>
                </a:lnTo>
                <a:lnTo>
                  <a:pt x="52705" y="62230"/>
                </a:lnTo>
                <a:lnTo>
                  <a:pt x="59372" y="55562"/>
                </a:lnTo>
                <a:lnTo>
                  <a:pt x="66357" y="49212"/>
                </a:lnTo>
                <a:lnTo>
                  <a:pt x="73660" y="43497"/>
                </a:lnTo>
                <a:lnTo>
                  <a:pt x="81280" y="37782"/>
                </a:lnTo>
                <a:lnTo>
                  <a:pt x="89217" y="32702"/>
                </a:lnTo>
                <a:lnTo>
                  <a:pt x="97155" y="27305"/>
                </a:lnTo>
                <a:lnTo>
                  <a:pt x="105727" y="22860"/>
                </a:lnTo>
                <a:lnTo>
                  <a:pt x="114300" y="18732"/>
                </a:lnTo>
                <a:lnTo>
                  <a:pt x="123190" y="15240"/>
                </a:lnTo>
                <a:lnTo>
                  <a:pt x="132715" y="11430"/>
                </a:lnTo>
                <a:lnTo>
                  <a:pt x="141922" y="8572"/>
                </a:lnTo>
                <a:lnTo>
                  <a:pt x="151447" y="5715"/>
                </a:lnTo>
                <a:lnTo>
                  <a:pt x="161290" y="3810"/>
                </a:lnTo>
                <a:lnTo>
                  <a:pt x="170815" y="2222"/>
                </a:lnTo>
                <a:lnTo>
                  <a:pt x="180975" y="952"/>
                </a:lnTo>
                <a:lnTo>
                  <a:pt x="191135" y="317"/>
                </a:lnTo>
                <a:lnTo>
                  <a:pt x="201612" y="0"/>
                </a:lnTo>
                <a:close/>
              </a:path>
            </a:pathLst>
          </a:custGeom>
          <a:solidFill>
            <a:srgbClr val="90c4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文本框 21"/>
          <p:cNvSpPr/>
          <p:nvPr/>
        </p:nvSpPr>
        <p:spPr>
          <a:xfrm>
            <a:off x="293832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8" name="文本框 21"/>
          <p:cNvSpPr/>
          <p:nvPr/>
        </p:nvSpPr>
        <p:spPr>
          <a:xfrm>
            <a:off x="480852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文本框 21"/>
          <p:cNvSpPr/>
          <p:nvPr/>
        </p:nvSpPr>
        <p:spPr>
          <a:xfrm>
            <a:off x="6769080" y="4371840"/>
            <a:ext cx="17049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6f71"/>
                </a:solidFill>
                <a:latin typeface="幼圆"/>
                <a:ea typeface="幼圆"/>
              </a:rPr>
              <a:t>量身定制，高大上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任意多边形 47"/>
          <p:cNvSpPr/>
          <p:nvPr/>
        </p:nvSpPr>
        <p:spPr>
          <a:xfrm>
            <a:off x="3649680" y="5153040"/>
            <a:ext cx="185760" cy="480960"/>
          </a:xfrm>
          <a:custGeom>
            <a:avLst/>
            <a:gdLst>
              <a:gd name="textAreaLeft" fmla="*/ 0 w 185760"/>
              <a:gd name="textAreaRight" fmla="*/ 186120 w 1857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48195" h="640080">
                <a:moveTo>
                  <a:pt x="0" y="0"/>
                </a:moveTo>
                <a:lnTo>
                  <a:pt x="0" y="391885"/>
                </a:lnTo>
                <a:lnTo>
                  <a:pt x="248195" y="640080"/>
                </a:lnTo>
              </a:path>
            </a:pathLst>
          </a:custGeom>
          <a:noFill/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1" name="任意多边形 54"/>
          <p:cNvSpPr/>
          <p:nvPr/>
        </p:nvSpPr>
        <p:spPr>
          <a:xfrm>
            <a:off x="4346640" y="5153040"/>
            <a:ext cx="185760" cy="480960"/>
          </a:xfrm>
          <a:custGeom>
            <a:avLst/>
            <a:gdLst>
              <a:gd name="textAreaLeft" fmla="*/ 0 w 185760"/>
              <a:gd name="textAreaRight" fmla="*/ 186120 w 1857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48195" h="640080">
                <a:moveTo>
                  <a:pt x="0" y="0"/>
                </a:moveTo>
                <a:lnTo>
                  <a:pt x="0" y="391885"/>
                </a:lnTo>
                <a:lnTo>
                  <a:pt x="248195" y="640080"/>
                </a:lnTo>
              </a:path>
            </a:pathLst>
          </a:custGeom>
          <a:noFill/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2" name="任意多边形 57"/>
          <p:cNvSpPr/>
          <p:nvPr/>
        </p:nvSpPr>
        <p:spPr>
          <a:xfrm>
            <a:off x="5041800" y="5153040"/>
            <a:ext cx="187560" cy="480960"/>
          </a:xfrm>
          <a:custGeom>
            <a:avLst/>
            <a:gdLst>
              <a:gd name="textAreaLeft" fmla="*/ 0 w 187560"/>
              <a:gd name="textAreaRight" fmla="*/ 187920 w 1875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48195" h="640080">
                <a:moveTo>
                  <a:pt x="0" y="0"/>
                </a:moveTo>
                <a:lnTo>
                  <a:pt x="0" y="391885"/>
                </a:lnTo>
                <a:lnTo>
                  <a:pt x="248195" y="640080"/>
                </a:lnTo>
              </a:path>
            </a:pathLst>
          </a:custGeom>
          <a:noFill/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任意多边形 60"/>
          <p:cNvSpPr/>
          <p:nvPr/>
        </p:nvSpPr>
        <p:spPr>
          <a:xfrm>
            <a:off x="5738760" y="5153040"/>
            <a:ext cx="187200" cy="480960"/>
          </a:xfrm>
          <a:custGeom>
            <a:avLst/>
            <a:gdLst>
              <a:gd name="textAreaLeft" fmla="*/ 0 w 187200"/>
              <a:gd name="textAreaRight" fmla="*/ 187560 w 1872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48195" h="640080">
                <a:moveTo>
                  <a:pt x="0" y="0"/>
                </a:moveTo>
                <a:lnTo>
                  <a:pt x="0" y="391885"/>
                </a:lnTo>
                <a:lnTo>
                  <a:pt x="248195" y="640080"/>
                </a:lnTo>
              </a:path>
            </a:pathLst>
          </a:custGeom>
          <a:noFill/>
          <a:ln w="255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等腰三角形 33"/>
          <p:cNvSpPr/>
          <p:nvPr/>
        </p:nvSpPr>
        <p:spPr>
          <a:xfrm rot="16200000">
            <a:off x="1535760" y="4407480"/>
            <a:ext cx="1727280" cy="1297080"/>
          </a:xfrm>
          <a:prstGeom prst="triangle">
            <a:avLst>
              <a:gd name="adj" fmla="val 50000"/>
            </a:avLst>
          </a:pr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椭圆 34"/>
          <p:cNvSpPr/>
          <p:nvPr/>
        </p:nvSpPr>
        <p:spPr>
          <a:xfrm>
            <a:off x="2516040" y="4651200"/>
            <a:ext cx="325440" cy="3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椭圆 35"/>
          <p:cNvSpPr/>
          <p:nvPr/>
        </p:nvSpPr>
        <p:spPr>
          <a:xfrm>
            <a:off x="2583000" y="4722840"/>
            <a:ext cx="182520" cy="18252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椭圆 36"/>
          <p:cNvSpPr/>
          <p:nvPr/>
        </p:nvSpPr>
        <p:spPr>
          <a:xfrm>
            <a:off x="270504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矩形 37"/>
          <p:cNvSpPr/>
          <p:nvPr/>
        </p:nvSpPr>
        <p:spPr>
          <a:xfrm>
            <a:off x="2994120" y="5022720"/>
            <a:ext cx="3617640" cy="147600"/>
          </a:xfrm>
          <a:prstGeom prst="rect">
            <a:avLst/>
          </a:pr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等腰三角形 7"/>
          <p:cNvSpPr/>
          <p:nvPr/>
        </p:nvSpPr>
        <p:spPr>
          <a:xfrm rot="16200000">
            <a:off x="6410160" y="4719240"/>
            <a:ext cx="1157400" cy="75420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1541765" h="1005412">
                <a:moveTo>
                  <a:pt x="1541765" y="1005412"/>
                </a:moveTo>
                <a:lnTo>
                  <a:pt x="0" y="1005412"/>
                </a:lnTo>
                <a:lnTo>
                  <a:pt x="670275" y="0"/>
                </a:lnTo>
                <a:lnTo>
                  <a:pt x="871491" y="0"/>
                </a:lnTo>
                <a:lnTo>
                  <a:pt x="1541765" y="1005412"/>
                </a:lnTo>
                <a:close/>
              </a:path>
            </a:pathLst>
          </a:custGeom>
          <a:solidFill>
            <a:srgbClr val="2c7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0" name="矩形 39"/>
          <p:cNvSpPr/>
          <p:nvPr/>
        </p:nvSpPr>
        <p:spPr>
          <a:xfrm>
            <a:off x="3479760" y="4216320"/>
            <a:ext cx="378000" cy="782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矩形 40"/>
          <p:cNvSpPr/>
          <p:nvPr/>
        </p:nvSpPr>
        <p:spPr>
          <a:xfrm>
            <a:off x="3479760" y="4832280"/>
            <a:ext cx="378000" cy="18108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矩形 41"/>
          <p:cNvSpPr/>
          <p:nvPr/>
        </p:nvSpPr>
        <p:spPr>
          <a:xfrm>
            <a:off x="4181400" y="3838680"/>
            <a:ext cx="379440" cy="116028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" name="矩形 42"/>
          <p:cNvSpPr/>
          <p:nvPr/>
        </p:nvSpPr>
        <p:spPr>
          <a:xfrm>
            <a:off x="4181400" y="4638600"/>
            <a:ext cx="379440" cy="36036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矩形 43"/>
          <p:cNvSpPr/>
          <p:nvPr/>
        </p:nvSpPr>
        <p:spPr>
          <a:xfrm>
            <a:off x="4888080" y="3441600"/>
            <a:ext cx="377640" cy="1557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矩形 44"/>
          <p:cNvSpPr/>
          <p:nvPr/>
        </p:nvSpPr>
        <p:spPr>
          <a:xfrm>
            <a:off x="4888080" y="4098960"/>
            <a:ext cx="377640" cy="90000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矩形 45"/>
          <p:cNvSpPr/>
          <p:nvPr/>
        </p:nvSpPr>
        <p:spPr>
          <a:xfrm>
            <a:off x="5640480" y="3117960"/>
            <a:ext cx="377640" cy="18810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" name="矩形 46"/>
          <p:cNvSpPr/>
          <p:nvPr/>
        </p:nvSpPr>
        <p:spPr>
          <a:xfrm>
            <a:off x="5640480" y="3740040"/>
            <a:ext cx="377640" cy="12589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8" name="TextBox 48"/>
          <p:cNvSpPr/>
          <p:nvPr/>
        </p:nvSpPr>
        <p:spPr>
          <a:xfrm flipH="1">
            <a:off x="3397320" y="3957480"/>
            <a:ext cx="568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1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TextBox 49"/>
          <p:cNvSpPr/>
          <p:nvPr/>
        </p:nvSpPr>
        <p:spPr>
          <a:xfrm flipH="1">
            <a:off x="4085640" y="3579840"/>
            <a:ext cx="569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2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0" name="TextBox 50"/>
          <p:cNvSpPr/>
          <p:nvPr/>
        </p:nvSpPr>
        <p:spPr>
          <a:xfrm flipH="1">
            <a:off x="4822920" y="3178080"/>
            <a:ext cx="568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5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" name="TextBox 51"/>
          <p:cNvSpPr/>
          <p:nvPr/>
        </p:nvSpPr>
        <p:spPr>
          <a:xfrm flipH="1">
            <a:off x="5566680" y="2844720"/>
            <a:ext cx="56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70%</a:t>
            </a:r>
            <a:endParaRPr b="0" lang="en-US" sz="13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2" name="TextBox 52"/>
          <p:cNvSpPr/>
          <p:nvPr/>
        </p:nvSpPr>
        <p:spPr>
          <a:xfrm flipH="1" rot="2514600">
            <a:off x="365076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3" name="椭圆 53"/>
          <p:cNvSpPr/>
          <p:nvPr/>
        </p:nvSpPr>
        <p:spPr>
          <a:xfrm>
            <a:off x="340200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TextBox 55"/>
          <p:cNvSpPr/>
          <p:nvPr/>
        </p:nvSpPr>
        <p:spPr>
          <a:xfrm flipH="1" rot="2514600">
            <a:off x="434772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" name="椭圆 56"/>
          <p:cNvSpPr/>
          <p:nvPr/>
        </p:nvSpPr>
        <p:spPr>
          <a:xfrm>
            <a:off x="4098960" y="4950000"/>
            <a:ext cx="493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 flipH="1" rot="2514600">
            <a:off x="504468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7" name="椭圆 59"/>
          <p:cNvSpPr/>
          <p:nvPr/>
        </p:nvSpPr>
        <p:spPr>
          <a:xfrm>
            <a:off x="4795920" y="4950000"/>
            <a:ext cx="4896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8" name="TextBox 61"/>
          <p:cNvSpPr/>
          <p:nvPr/>
        </p:nvSpPr>
        <p:spPr>
          <a:xfrm flipH="1" rot="2514600">
            <a:off x="5741640" y="6001920"/>
            <a:ext cx="1441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c7494"/>
                </a:solidFill>
                <a:latin typeface="Arial Rounded MT Bold"/>
                <a:ea typeface="微软雅黑"/>
              </a:rPr>
              <a:t>此处输入标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椭圆 62"/>
          <p:cNvSpPr/>
          <p:nvPr/>
        </p:nvSpPr>
        <p:spPr>
          <a:xfrm>
            <a:off x="2670120" y="4786200"/>
            <a:ext cx="49320" cy="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直接连接符 66"/>
          <p:cNvSpPr/>
          <p:nvPr/>
        </p:nvSpPr>
        <p:spPr>
          <a:xfrm>
            <a:off x="0" y="1427040"/>
            <a:ext cx="4680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1" name="直接连接符 67"/>
          <p:cNvSpPr/>
          <p:nvPr/>
        </p:nvSpPr>
        <p:spPr>
          <a:xfrm>
            <a:off x="4464000" y="2494080"/>
            <a:ext cx="4680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公司盈利图表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-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样本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13" name="TextBox 76"/>
          <p:cNvSpPr/>
          <p:nvPr/>
        </p:nvSpPr>
        <p:spPr>
          <a:xfrm>
            <a:off x="628560" y="1461960"/>
            <a:ext cx="78868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请在此处输入您的文字，或者复制您的文字粘贴到此处，并且在粘贴后选择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“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仅文字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”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。请在此处输入您的文字，或者复制您的文字粘贴到此处，并且在粘贴后选择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“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仅文字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”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。请在此处输入您的文字，或者复制您的文字粘贴到此处，并且在粘贴后选择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“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仅文字</a:t>
            </a:r>
            <a:r>
              <a:rPr b="0" lang="zh-CN" sz="1400" spc="-1" strike="noStrike">
                <a:solidFill>
                  <a:srgbClr val="6f6f6f"/>
                </a:solidFill>
                <a:latin typeface="Arial"/>
                <a:ea typeface="幼圆"/>
              </a:rPr>
              <a:t>”</a:t>
            </a:r>
            <a:r>
              <a:rPr b="0" lang="zh-CN" sz="1400" spc="-1" strike="noStrike">
                <a:solidFill>
                  <a:srgbClr val="6f6f6f"/>
                </a:solidFill>
                <a:latin typeface="幼圆"/>
                <a:ea typeface="幼圆"/>
              </a:rPr>
              <a:t>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013E-761D-40DF-927E-261050104BEA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5" name="文本框 12"/>
          <p:cNvSpPr/>
          <p:nvPr/>
        </p:nvSpPr>
        <p:spPr>
          <a:xfrm>
            <a:off x="6464160" y="0"/>
            <a:ext cx="2268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5f5f5f"/>
                </a:solidFill>
                <a:latin typeface="Impact"/>
                <a:ea typeface="Orbitron"/>
              </a:rPr>
              <a:t>3</a:t>
            </a:r>
            <a:endParaRPr b="0" lang="en-US" sz="28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6" name="文本框 13"/>
          <p:cNvSpPr/>
          <p:nvPr/>
        </p:nvSpPr>
        <p:spPr>
          <a:xfrm>
            <a:off x="4956120" y="3176640"/>
            <a:ext cx="2052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Impact"/>
                <a:ea typeface="华文隶书"/>
              </a:rPr>
              <a:t>Chapter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直接连接符 4"/>
          <p:cNvSpPr/>
          <p:nvPr/>
        </p:nvSpPr>
        <p:spPr>
          <a:xfrm>
            <a:off x="3548160" y="4119480"/>
            <a:ext cx="4243320" cy="180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椭圆 12"/>
          <p:cNvSpPr/>
          <p:nvPr/>
        </p:nvSpPr>
        <p:spPr>
          <a:xfrm rot="2088000">
            <a:off x="1044360" y="2665080"/>
            <a:ext cx="2368440" cy="2646360"/>
          </a:xfrm>
          <a:custGeom>
            <a:avLst/>
            <a:gdLst>
              <a:gd name="textAreaLeft" fmla="*/ 0 w 2368440"/>
              <a:gd name="textAreaRight" fmla="*/ 2368800 w 2368440"/>
              <a:gd name="textAreaTop" fmla="*/ 0 h 2646360"/>
              <a:gd name="textAreaBottom" fmla="*/ 2646720 h 2646360"/>
            </a:gdLst>
            <a:ahLst/>
            <a:rect l="textAreaLeft" t="textAreaTop" r="textAreaRight" b="textAreaBottom"/>
            <a:pathLst>
              <a:path w="4532669" h="4746399">
                <a:moveTo>
                  <a:pt x="2520296" y="0"/>
                </a:moveTo>
                <a:cubicBezTo>
                  <a:pt x="3343805" y="0"/>
                  <a:pt x="4075065" y="394967"/>
                  <a:pt x="4532669" y="1007541"/>
                </a:cubicBezTo>
                <a:cubicBezTo>
                  <a:pt x="4076090" y="478227"/>
                  <a:pt x="3398381" y="144047"/>
                  <a:pt x="2642202" y="144047"/>
                </a:cubicBezTo>
                <a:cubicBezTo>
                  <a:pt x="1262492" y="144047"/>
                  <a:pt x="144016" y="1256566"/>
                  <a:pt x="144016" y="2628928"/>
                </a:cubicBezTo>
                <a:cubicBezTo>
                  <a:pt x="144016" y="3525963"/>
                  <a:pt x="621884" y="4311981"/>
                  <a:pt x="1339718" y="4746399"/>
                </a:cubicBezTo>
                <a:cubicBezTo>
                  <a:pt x="542520" y="4323888"/>
                  <a:pt x="0" y="3485448"/>
                  <a:pt x="0" y="2520296"/>
                </a:cubicBezTo>
                <a:cubicBezTo>
                  <a:pt x="0" y="1128375"/>
                  <a:pt x="1128375" y="0"/>
                  <a:pt x="252029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椭圆 14"/>
          <p:cNvSpPr/>
          <p:nvPr/>
        </p:nvSpPr>
        <p:spPr>
          <a:xfrm rot="19574400">
            <a:off x="1681200" y="3209760"/>
            <a:ext cx="1365120" cy="2471760"/>
          </a:xfrm>
          <a:custGeom>
            <a:avLst/>
            <a:gdLst/>
            <a:ahLst/>
            <a:rect l="l" t="t" r="r" b="b"/>
            <a:pathLst>
              <a:path w="3506582" h="6341948">
                <a:moveTo>
                  <a:pt x="3240360" y="0"/>
                </a:moveTo>
                <a:cubicBezTo>
                  <a:pt x="3330025" y="0"/>
                  <a:pt x="3418839" y="3642"/>
                  <a:pt x="3506582" y="11780"/>
                </a:cubicBezTo>
                <a:cubicBezTo>
                  <a:pt x="1772732" y="148098"/>
                  <a:pt x="408933" y="1587041"/>
                  <a:pt x="408933" y="3341898"/>
                </a:cubicBezTo>
                <a:cubicBezTo>
                  <a:pt x="408933" y="4661317"/>
                  <a:pt x="1179894" y="5802148"/>
                  <a:pt x="2301104" y="6341948"/>
                </a:cubicBezTo>
                <a:cubicBezTo>
                  <a:pt x="969445" y="5939773"/>
                  <a:pt x="0" y="4703279"/>
                  <a:pt x="0" y="3240360"/>
                </a:cubicBezTo>
                <a:cubicBezTo>
                  <a:pt x="0" y="1450759"/>
                  <a:pt x="1450759" y="0"/>
                  <a:pt x="3240360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椭圆 12"/>
          <p:cNvSpPr/>
          <p:nvPr/>
        </p:nvSpPr>
        <p:spPr>
          <a:xfrm>
            <a:off x="1392120" y="2711520"/>
            <a:ext cx="2633760" cy="2759040"/>
          </a:xfrm>
          <a:custGeom>
            <a:avLst/>
            <a:gdLst>
              <a:gd name="textAreaLeft" fmla="*/ 0 w 2633760"/>
              <a:gd name="textAreaRight" fmla="*/ 2634120 w 2633760"/>
              <a:gd name="textAreaTop" fmla="*/ 0 h 2759040"/>
              <a:gd name="textAreaBottom" fmla="*/ 2759400 h 2759040"/>
            </a:gdLst>
            <a:ahLst/>
            <a:rect l="textAreaLeft" t="textAreaTop" r="textAreaRight" b="textAreaBottom"/>
            <a:pathLst>
              <a:path w="4532669" h="4746399">
                <a:moveTo>
                  <a:pt x="2520296" y="0"/>
                </a:moveTo>
                <a:cubicBezTo>
                  <a:pt x="3343805" y="0"/>
                  <a:pt x="4075065" y="394967"/>
                  <a:pt x="4532669" y="1007541"/>
                </a:cubicBezTo>
                <a:cubicBezTo>
                  <a:pt x="4076090" y="478227"/>
                  <a:pt x="3398381" y="144047"/>
                  <a:pt x="2642202" y="144047"/>
                </a:cubicBezTo>
                <a:cubicBezTo>
                  <a:pt x="1262492" y="144047"/>
                  <a:pt x="144016" y="1256566"/>
                  <a:pt x="144016" y="2628928"/>
                </a:cubicBezTo>
                <a:cubicBezTo>
                  <a:pt x="144016" y="3525963"/>
                  <a:pt x="621884" y="4311981"/>
                  <a:pt x="1339718" y="4746399"/>
                </a:cubicBezTo>
                <a:cubicBezTo>
                  <a:pt x="542520" y="4323888"/>
                  <a:pt x="0" y="3485448"/>
                  <a:pt x="0" y="2520296"/>
                </a:cubicBezTo>
                <a:cubicBezTo>
                  <a:pt x="0" y="1128375"/>
                  <a:pt x="1128375" y="0"/>
                  <a:pt x="252029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椭圆 1"/>
          <p:cNvSpPr/>
          <p:nvPr/>
        </p:nvSpPr>
        <p:spPr>
          <a:xfrm>
            <a:off x="1860480" y="3152880"/>
            <a:ext cx="1979640" cy="1979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2" name="椭圆 2"/>
          <p:cNvSpPr/>
          <p:nvPr/>
        </p:nvSpPr>
        <p:spPr>
          <a:xfrm>
            <a:off x="1911240" y="3368520"/>
            <a:ext cx="1751040" cy="1751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54545"/>
                </a:solidFill>
                <a:latin typeface="微软雅黑"/>
                <a:ea typeface="微软雅黑"/>
              </a:rPr>
              <a:t>仪表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3" name="椭圆 3"/>
          <p:cNvSpPr/>
          <p:nvPr/>
        </p:nvSpPr>
        <p:spPr>
          <a:xfrm>
            <a:off x="1704960" y="1695600"/>
            <a:ext cx="1457280" cy="1457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椭圆 4"/>
          <p:cNvSpPr/>
          <p:nvPr/>
        </p:nvSpPr>
        <p:spPr>
          <a:xfrm>
            <a:off x="1781280" y="1881360"/>
            <a:ext cx="1271520" cy="12715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54545"/>
                </a:solidFill>
                <a:latin typeface="微软雅黑"/>
                <a:ea typeface="微软雅黑"/>
              </a:rPr>
              <a:t>视觉信号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55</a:t>
            </a:r>
            <a:r>
              <a:rPr b="0" lang="en-US" sz="2000" spc="-1" strike="noStrike">
                <a:solidFill>
                  <a:srgbClr val="454545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椭圆 7"/>
          <p:cNvSpPr/>
          <p:nvPr/>
        </p:nvSpPr>
        <p:spPr>
          <a:xfrm>
            <a:off x="3735360" y="2789280"/>
            <a:ext cx="1301760" cy="1301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椭圆 8"/>
          <p:cNvSpPr/>
          <p:nvPr/>
        </p:nvSpPr>
        <p:spPr>
          <a:xfrm>
            <a:off x="3803760" y="2955960"/>
            <a:ext cx="1136520" cy="11350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54545"/>
                </a:solidFill>
                <a:latin typeface="微软雅黑"/>
                <a:ea typeface="微软雅黑"/>
              </a:rPr>
              <a:t>声音信号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38</a:t>
            </a:r>
            <a:r>
              <a:rPr b="0" lang="en-US" sz="1800" spc="-1" strike="noStrike">
                <a:solidFill>
                  <a:srgbClr val="454545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椭圆 10"/>
          <p:cNvSpPr/>
          <p:nvPr/>
        </p:nvSpPr>
        <p:spPr>
          <a:xfrm>
            <a:off x="3475080" y="4768920"/>
            <a:ext cx="1041480" cy="1041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椭圆 11"/>
          <p:cNvSpPr/>
          <p:nvPr/>
        </p:nvSpPr>
        <p:spPr>
          <a:xfrm>
            <a:off x="3530520" y="4900680"/>
            <a:ext cx="908280" cy="9097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54545"/>
                </a:solidFill>
                <a:latin typeface="微软雅黑"/>
                <a:ea typeface="微软雅黑"/>
              </a:rPr>
              <a:t>语言信号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%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仪表的重要性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5403-29AC-43B2-89A5-D047BF01D1F0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Oval 114"/>
          <p:cNvSpPr/>
          <p:nvPr/>
        </p:nvSpPr>
        <p:spPr>
          <a:xfrm>
            <a:off x="4130640" y="3543480"/>
            <a:ext cx="920880" cy="9223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Freeform 6"/>
          <p:cNvSpPr/>
          <p:nvPr/>
        </p:nvSpPr>
        <p:spPr>
          <a:xfrm>
            <a:off x="4591080" y="2776680"/>
            <a:ext cx="2106720" cy="2017440"/>
          </a:xfrm>
          <a:prstGeom prst="pie">
            <a:avLst/>
          </a:prstGeom>
          <a:solidFill>
            <a:srgbClr val="3aa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3435480" y="1874880"/>
            <a:ext cx="2127240" cy="2128680"/>
          </a:xfrm>
          <a:prstGeom prst="pie">
            <a:avLst/>
          </a:prstGeom>
          <a:solidFill>
            <a:srgbClr val="cf3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Freeform 13"/>
          <p:cNvSpPr/>
          <p:nvPr/>
        </p:nvSpPr>
        <p:spPr>
          <a:xfrm>
            <a:off x="2463840" y="3156120"/>
            <a:ext cx="2127240" cy="2058840"/>
          </a:xfrm>
          <a:prstGeom prst="pie">
            <a:avLst/>
          </a:prstGeom>
          <a:solidFill>
            <a:srgbClr val="007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Freeform 9"/>
          <p:cNvSpPr/>
          <p:nvPr/>
        </p:nvSpPr>
        <p:spPr>
          <a:xfrm>
            <a:off x="3754440" y="4003560"/>
            <a:ext cx="2043000" cy="2121120"/>
          </a:xfrm>
          <a:prstGeom prst="pie">
            <a:avLst/>
          </a:prstGeom>
          <a:solidFill>
            <a:srgbClr val="ff8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同志们，输入标题试试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4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4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标题 1"/>
          <p:cNvSpPr/>
          <p:nvPr/>
        </p:nvSpPr>
        <p:spPr>
          <a:xfrm>
            <a:off x="838080" y="365040"/>
            <a:ext cx="790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33"/>
                </a:solidFill>
                <a:latin typeface="幼圆"/>
                <a:ea typeface="幼圆"/>
              </a:rPr>
              <a:t>目录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矩形 2"/>
          <p:cNvSpPr/>
          <p:nvPr/>
        </p:nvSpPr>
        <p:spPr>
          <a:xfrm>
            <a:off x="657360" y="547560"/>
            <a:ext cx="99720" cy="4971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5064120" y="2036880"/>
            <a:ext cx="425520" cy="4269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5064120" y="4694400"/>
            <a:ext cx="425520" cy="4269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064120" y="2922480"/>
            <a:ext cx="425520" cy="42732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064120" y="3808440"/>
            <a:ext cx="425520" cy="42696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2408400" y="4272120"/>
            <a:ext cx="204480" cy="193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 rot="21021000">
            <a:off x="3327480" y="4105080"/>
            <a:ext cx="147600" cy="14760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 rot="900000">
            <a:off x="3596760" y="4184640"/>
            <a:ext cx="114480" cy="12528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 rot="1632000">
            <a:off x="1206000" y="4236840"/>
            <a:ext cx="115920" cy="1155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 rot="19632600">
            <a:off x="2977920" y="4133880"/>
            <a:ext cx="115920" cy="11592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矩形 16"/>
          <p:cNvSpPr/>
          <p:nvPr/>
        </p:nvSpPr>
        <p:spPr>
          <a:xfrm>
            <a:off x="1009800" y="4021200"/>
            <a:ext cx="63360" cy="6336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矩形 17"/>
          <p:cNvSpPr/>
          <p:nvPr/>
        </p:nvSpPr>
        <p:spPr>
          <a:xfrm rot="20673600">
            <a:off x="4221000" y="4223880"/>
            <a:ext cx="152640" cy="15084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矩形 18"/>
          <p:cNvSpPr/>
          <p:nvPr/>
        </p:nvSpPr>
        <p:spPr>
          <a:xfrm>
            <a:off x="3281400" y="4343400"/>
            <a:ext cx="63360" cy="6336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矩形 19"/>
          <p:cNvSpPr/>
          <p:nvPr/>
        </p:nvSpPr>
        <p:spPr>
          <a:xfrm rot="762000">
            <a:off x="1685880" y="4222440"/>
            <a:ext cx="139680" cy="14112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矩形 20"/>
          <p:cNvSpPr/>
          <p:nvPr/>
        </p:nvSpPr>
        <p:spPr>
          <a:xfrm rot="18900000">
            <a:off x="3951360" y="4057200"/>
            <a:ext cx="66600" cy="716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矩形 21"/>
          <p:cNvSpPr/>
          <p:nvPr/>
        </p:nvSpPr>
        <p:spPr>
          <a:xfrm rot="900000">
            <a:off x="2442960" y="4184640"/>
            <a:ext cx="91800" cy="10008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矩形 22"/>
          <p:cNvSpPr/>
          <p:nvPr/>
        </p:nvSpPr>
        <p:spPr>
          <a:xfrm rot="1800000">
            <a:off x="1639800" y="4037040"/>
            <a:ext cx="63720" cy="6336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矩形 23"/>
          <p:cNvSpPr/>
          <p:nvPr/>
        </p:nvSpPr>
        <p:spPr>
          <a:xfrm rot="20171400">
            <a:off x="1166400" y="2825640"/>
            <a:ext cx="744480" cy="739800"/>
          </a:xfrm>
          <a:prstGeom prst="rect">
            <a:avLst/>
          </a:prstGeom>
          <a:solidFill>
            <a:srgbClr val="d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矩形 24"/>
          <p:cNvSpPr/>
          <p:nvPr/>
        </p:nvSpPr>
        <p:spPr>
          <a:xfrm rot="1102800">
            <a:off x="3604680" y="2787120"/>
            <a:ext cx="765360" cy="765360"/>
          </a:xfrm>
          <a:prstGeom prst="rect">
            <a:avLst/>
          </a:prstGeom>
          <a:solidFill>
            <a:srgbClr val="c02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矩形 25"/>
          <p:cNvSpPr/>
          <p:nvPr/>
        </p:nvSpPr>
        <p:spPr>
          <a:xfrm rot="815400">
            <a:off x="2006280" y="2733840"/>
            <a:ext cx="752400" cy="750600"/>
          </a:xfrm>
          <a:prstGeom prst="rect">
            <a:avLst/>
          </a:prstGeom>
          <a:solidFill>
            <a:srgbClr val="c0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矩形 26"/>
          <p:cNvSpPr/>
          <p:nvPr/>
        </p:nvSpPr>
        <p:spPr>
          <a:xfrm rot="20015400">
            <a:off x="2879280" y="2817360"/>
            <a:ext cx="714600" cy="714600"/>
          </a:xfrm>
          <a:prstGeom prst="rect">
            <a:avLst/>
          </a:prstGeom>
          <a:solidFill>
            <a:srgbClr val="e2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椭圆 27"/>
          <p:cNvSpPr/>
          <p:nvPr/>
        </p:nvSpPr>
        <p:spPr>
          <a:xfrm>
            <a:off x="1374840" y="4184640"/>
            <a:ext cx="225360" cy="24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椭圆 28"/>
          <p:cNvSpPr/>
          <p:nvPr/>
        </p:nvSpPr>
        <p:spPr>
          <a:xfrm>
            <a:off x="1882800" y="4044960"/>
            <a:ext cx="223920" cy="24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椭圆 29"/>
          <p:cNvSpPr/>
          <p:nvPr/>
        </p:nvSpPr>
        <p:spPr>
          <a:xfrm>
            <a:off x="2746440" y="3873600"/>
            <a:ext cx="266760" cy="3124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椭圆 30"/>
          <p:cNvSpPr/>
          <p:nvPr/>
        </p:nvSpPr>
        <p:spPr>
          <a:xfrm>
            <a:off x="3613320" y="4317840"/>
            <a:ext cx="225360" cy="2494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986-2EAA-4B9C-A946-2CC24297121C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直接连接符 444"/>
          <p:cNvSpPr/>
          <p:nvPr/>
        </p:nvSpPr>
        <p:spPr>
          <a:xfrm>
            <a:off x="294948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直接连接符 445"/>
          <p:cNvSpPr/>
          <p:nvPr/>
        </p:nvSpPr>
        <p:spPr>
          <a:xfrm>
            <a:off x="380052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直接连接符 446"/>
          <p:cNvSpPr/>
          <p:nvPr/>
        </p:nvSpPr>
        <p:spPr>
          <a:xfrm>
            <a:off x="465120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直接连接符 447"/>
          <p:cNvSpPr/>
          <p:nvPr/>
        </p:nvSpPr>
        <p:spPr>
          <a:xfrm>
            <a:off x="5502240" y="2222640"/>
            <a:ext cx="0" cy="2484360"/>
          </a:xfrm>
          <a:prstGeom prst="line">
            <a:avLst/>
          </a:prstGeom>
          <a:ln w="648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文本框 1344"/>
          <p:cNvSpPr/>
          <p:nvPr/>
        </p:nvSpPr>
        <p:spPr>
          <a:xfrm>
            <a:off x="6581880" y="23320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100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4" name="文本框 367"/>
          <p:cNvSpPr/>
          <p:nvPr/>
        </p:nvSpPr>
        <p:spPr>
          <a:xfrm>
            <a:off x="6581880" y="271296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88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5" name="文本框 369"/>
          <p:cNvSpPr/>
          <p:nvPr/>
        </p:nvSpPr>
        <p:spPr>
          <a:xfrm>
            <a:off x="6581880" y="30942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75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" name="文本框 371"/>
          <p:cNvSpPr/>
          <p:nvPr/>
        </p:nvSpPr>
        <p:spPr>
          <a:xfrm>
            <a:off x="6581880" y="347508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58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文本框 373"/>
          <p:cNvSpPr/>
          <p:nvPr/>
        </p:nvSpPr>
        <p:spPr>
          <a:xfrm>
            <a:off x="6581880" y="385596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45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文本框 375"/>
          <p:cNvSpPr/>
          <p:nvPr/>
        </p:nvSpPr>
        <p:spPr>
          <a:xfrm>
            <a:off x="6581880" y="423720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华文细黑"/>
                <a:ea typeface="华文细黑"/>
              </a:rPr>
              <a:t>30</a:t>
            </a:r>
            <a:r>
              <a:rPr b="0" lang="en-US" sz="1200" spc="-1" strike="noStrike">
                <a:solidFill>
                  <a:srgbClr val="333333"/>
                </a:solidFill>
                <a:latin typeface="华文细黑"/>
                <a:ea typeface="华文细黑"/>
              </a:rPr>
              <a:t>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矩形 7"/>
          <p:cNvSpPr/>
          <p:nvPr/>
        </p:nvSpPr>
        <p:spPr>
          <a:xfrm>
            <a:off x="1692360" y="5010120"/>
            <a:ext cx="5651280" cy="1052640"/>
          </a:xfrm>
          <a:prstGeom prst="pie">
            <a:avLst/>
          </a:prstGeom>
          <a:noFill/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幼圆"/>
                <a:ea typeface="幼圆"/>
              </a:rPr>
              <a:t>请在此处输入您的文本或者复制您的文本粘贴到此处，请在此处输入您的文本或者复制您的文本粘贴到此处。请在此处输入您的文本或者复制您的文本粘贴到此处。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" name="任意多边形 48"/>
          <p:cNvSpPr/>
          <p:nvPr/>
        </p:nvSpPr>
        <p:spPr>
          <a:xfrm>
            <a:off x="1692360" y="2376360"/>
            <a:ext cx="279360" cy="2606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1" name="任意多边形 49"/>
          <p:cNvSpPr/>
          <p:nvPr/>
        </p:nvSpPr>
        <p:spPr>
          <a:xfrm>
            <a:off x="1692360" y="275760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2" name="任意多边形 50"/>
          <p:cNvSpPr/>
          <p:nvPr/>
        </p:nvSpPr>
        <p:spPr>
          <a:xfrm>
            <a:off x="1692360" y="313848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C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任意多边形 51"/>
          <p:cNvSpPr/>
          <p:nvPr/>
        </p:nvSpPr>
        <p:spPr>
          <a:xfrm>
            <a:off x="1692360" y="3519360"/>
            <a:ext cx="279360" cy="26064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任意多边形 52"/>
          <p:cNvSpPr/>
          <p:nvPr/>
        </p:nvSpPr>
        <p:spPr>
          <a:xfrm>
            <a:off x="1692360" y="390060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5" name="任意多边形 53"/>
          <p:cNvSpPr/>
          <p:nvPr/>
        </p:nvSpPr>
        <p:spPr>
          <a:xfrm>
            <a:off x="1692360" y="4281480"/>
            <a:ext cx="279360" cy="2602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2" descr=""/>
          <p:cNvPicPr/>
          <p:nvPr/>
        </p:nvPicPr>
        <p:blipFill>
          <a:blip r:embed="rId1"/>
          <a:stretch/>
        </p:blipFill>
        <p:spPr>
          <a:xfrm>
            <a:off x="1260360" y="936720"/>
            <a:ext cx="2735280" cy="4091040"/>
          </a:xfrm>
          <a:prstGeom prst="rect">
            <a:avLst/>
          </a:prstGeom>
          <a:ln w="0">
            <a:noFill/>
          </a:ln>
        </p:spPr>
      </p:pic>
      <p:sp>
        <p:nvSpPr>
          <p:cNvPr id="457" name="TextBox 3"/>
          <p:cNvSpPr/>
          <p:nvPr/>
        </p:nvSpPr>
        <p:spPr>
          <a:xfrm>
            <a:off x="4861080" y="1989000"/>
            <a:ext cx="37432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对不起，我来晚了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如青花瓷般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9c81"/>
                </a:solidFill>
                <a:latin typeface="微软雅黑"/>
                <a:ea typeface="微软雅黑"/>
              </a:rPr>
              <a:t>韵味</a:t>
            </a:r>
            <a:r>
              <a:rPr b="0" lang="zh-CN" sz="2500" spc="-1" strike="noStrike">
                <a:solidFill>
                  <a:srgbClr val="5f5f5f"/>
                </a:solidFill>
                <a:latin typeface="微软雅黑"/>
                <a:ea typeface="微软雅黑"/>
              </a:rPr>
              <a:t>飘扬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组合 10"/>
          <p:cNvGrpSpPr/>
          <p:nvPr/>
        </p:nvGrpSpPr>
        <p:grpSpPr>
          <a:xfrm>
            <a:off x="-6480" y="896760"/>
            <a:ext cx="9136080" cy="5499360"/>
            <a:chOff x="-6480" y="896760"/>
            <a:chExt cx="9136080" cy="5499360"/>
          </a:xfrm>
        </p:grpSpPr>
        <p:pic>
          <p:nvPicPr>
            <p:cNvPr id="459" name="Picture 2" descr="C:\Users\Administrator\Desktop\sim-404291.jpg"/>
            <p:cNvPicPr/>
            <p:nvPr/>
          </p:nvPicPr>
          <p:blipFill>
            <a:blip r:embed="rId1"/>
            <a:stretch/>
          </p:blipFill>
          <p:spPr>
            <a:xfrm>
              <a:off x="-6480" y="896760"/>
              <a:ext cx="9136080" cy="547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" descr=""/>
            <p:cNvPicPr/>
            <p:nvPr/>
          </p:nvPicPr>
          <p:blipFill>
            <a:blip r:embed="rId2"/>
            <a:stretch/>
          </p:blipFill>
          <p:spPr>
            <a:xfrm>
              <a:off x="-5760" y="929880"/>
              <a:ext cx="9119520" cy="54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2" descr=""/>
            <p:cNvPicPr/>
            <p:nvPr/>
          </p:nvPicPr>
          <p:blipFill>
            <a:blip r:embed="rId3"/>
            <a:stretch/>
          </p:blipFill>
          <p:spPr>
            <a:xfrm>
              <a:off x="580320" y="1400040"/>
              <a:ext cx="7409880" cy="44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TextBox 11"/>
          <p:cNvSpPr/>
          <p:nvPr/>
        </p:nvSpPr>
        <p:spPr>
          <a:xfrm>
            <a:off x="14400" y="58680"/>
            <a:ext cx="9111960" cy="846720"/>
          </a:xfrm>
          <a:prstGeom prst="rect">
            <a:avLst/>
          </a:prstGeom>
          <a:solidFill>
            <a:srgbClr val="bfbfb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Arial"/>
                <a:ea typeface="微软雅黑"/>
              </a:rPr>
              <a:t>磨砂效果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2670120"/>
            <a:ext cx="9144000" cy="851040"/>
          </a:xfrm>
          <a:prstGeom prst="rect">
            <a:avLst/>
          </a:prstGeom>
          <a:solidFill>
            <a:srgbClr val="ecc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0" y="3648240"/>
            <a:ext cx="9144000" cy="717480"/>
          </a:xfrm>
          <a:prstGeom prst="rect">
            <a:avLst/>
          </a:prstGeom>
          <a:solidFill>
            <a:srgbClr val="fac9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幼圆"/>
                <a:ea typeface="幼圆"/>
              </a:rPr>
              <a:t>世界那么大，我想去看看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椭圆 3"/>
          <p:cNvSpPr/>
          <p:nvPr/>
        </p:nvSpPr>
        <p:spPr>
          <a:xfrm>
            <a:off x="5641920" y="1849320"/>
            <a:ext cx="2414520" cy="2414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文本框 13"/>
          <p:cNvSpPr/>
          <p:nvPr/>
        </p:nvSpPr>
        <p:spPr>
          <a:xfrm>
            <a:off x="657360" y="2719440"/>
            <a:ext cx="33811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Chapter</a:t>
            </a:r>
            <a:r>
              <a:rPr b="1" lang="zh-CN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Baskerville Old Face"/>
                <a:ea typeface="华文隶书"/>
              </a:rPr>
              <a:t>1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任意多边形 2"/>
          <p:cNvSpPr/>
          <p:nvPr/>
        </p:nvSpPr>
        <p:spPr>
          <a:xfrm>
            <a:off x="2940120" y="2860560"/>
            <a:ext cx="1533600" cy="1051200"/>
          </a:xfrm>
          <a:prstGeom prst="pie">
            <a:avLst/>
          </a:prstGeom>
          <a:solidFill>
            <a:srgbClr val="e49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林敏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文本框 47"/>
          <p:cNvSpPr/>
          <p:nvPr/>
        </p:nvSpPr>
        <p:spPr>
          <a:xfrm>
            <a:off x="706320" y="2300400"/>
            <a:ext cx="2233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请尊重原创，劳动成果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来之不易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任意多边形 4"/>
          <p:cNvSpPr/>
          <p:nvPr/>
        </p:nvSpPr>
        <p:spPr>
          <a:xfrm>
            <a:off x="2940120" y="4060800"/>
            <a:ext cx="1533600" cy="1050840"/>
          </a:xfrm>
          <a:prstGeom prst="pie">
            <a:avLst/>
          </a:prstGeom>
          <a:solidFill>
            <a:srgbClr val="89a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任意多边形 5"/>
          <p:cNvSpPr/>
          <p:nvPr/>
        </p:nvSpPr>
        <p:spPr>
          <a:xfrm>
            <a:off x="4665600" y="2860560"/>
            <a:ext cx="1533600" cy="1051200"/>
          </a:xfrm>
          <a:prstGeom prst="pie">
            <a:avLst/>
          </a:prstGeom>
          <a:solidFill>
            <a:srgbClr val="ed6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原创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任意多边形 6"/>
          <p:cNvSpPr/>
          <p:nvPr/>
        </p:nvSpPr>
        <p:spPr>
          <a:xfrm>
            <a:off x="4665600" y="4032360"/>
            <a:ext cx="1533600" cy="1050840"/>
          </a:xfrm>
          <a:prstGeom prst="pie">
            <a:avLst/>
          </a:prstGeom>
          <a:solidFill>
            <a:srgbClr val="5087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设计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文本框 54"/>
          <p:cNvSpPr/>
          <p:nvPr/>
        </p:nvSpPr>
        <p:spPr>
          <a:xfrm>
            <a:off x="6199200" y="2300400"/>
            <a:ext cx="22334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林敏</a:t>
            </a:r>
            <a:r>
              <a:rPr b="0" lang="en-US" sz="1600" spc="-1" strike="noStrike">
                <a:solidFill>
                  <a:srgbClr val="868686"/>
                </a:solidFill>
                <a:latin typeface="幼圆"/>
                <a:ea typeface="幼圆"/>
              </a:rPr>
              <a:t>PPT</a:t>
            </a: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设计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为原创而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文本框 55"/>
          <p:cNvSpPr/>
          <p:nvPr/>
        </p:nvSpPr>
        <p:spPr>
          <a:xfrm>
            <a:off x="706320" y="4548240"/>
            <a:ext cx="2233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企业报告，商务模版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创新各异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文本框 56"/>
          <p:cNvSpPr/>
          <p:nvPr/>
        </p:nvSpPr>
        <p:spPr>
          <a:xfrm>
            <a:off x="6199200" y="4592520"/>
            <a:ext cx="22334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文笔飞扬的时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68686"/>
                </a:solidFill>
                <a:latin typeface="幼圆"/>
                <a:ea typeface="幼圆"/>
              </a:rPr>
              <a:t>我是快乐的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椭圆 10"/>
          <p:cNvSpPr/>
          <p:nvPr/>
        </p:nvSpPr>
        <p:spPr>
          <a:xfrm>
            <a:off x="3932280" y="3305160"/>
            <a:ext cx="1274760" cy="12747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8" name="组合 16"/>
          <p:cNvGrpSpPr/>
          <p:nvPr/>
        </p:nvGrpSpPr>
        <p:grpSpPr>
          <a:xfrm>
            <a:off x="425520" y="339840"/>
            <a:ext cx="8292960" cy="2520720"/>
            <a:chOff x="425520" y="339840"/>
            <a:chExt cx="8292960" cy="2520720"/>
          </a:xfrm>
        </p:grpSpPr>
        <p:grpSp>
          <p:nvGrpSpPr>
            <p:cNvPr id="99" name="组合 12"/>
            <p:cNvGrpSpPr/>
            <p:nvPr/>
          </p:nvGrpSpPr>
          <p:grpSpPr>
            <a:xfrm>
              <a:off x="425520" y="339840"/>
              <a:ext cx="8292960" cy="2066760"/>
              <a:chOff x="425520" y="339840"/>
              <a:chExt cx="8292960" cy="2066760"/>
            </a:xfrm>
          </p:grpSpPr>
          <p:sp>
            <p:nvSpPr>
              <p:cNvPr id="100" name="标题 1"/>
              <p:cNvSpPr/>
              <p:nvPr/>
            </p:nvSpPr>
            <p:spPr>
              <a:xfrm>
                <a:off x="425520" y="339840"/>
                <a:ext cx="8292960" cy="6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200" spc="-1" strike="noStrike">
                    <a:solidFill>
                      <a:srgbClr val="dc5c31"/>
                    </a:solidFill>
                    <a:latin typeface="微软雅黑"/>
                    <a:ea typeface="微软雅黑"/>
                  </a:rPr>
                  <a:t>让每一次</a:t>
                </a:r>
                <a:r>
                  <a:rPr b="1" i="1" lang="zh-CN" sz="4800" spc="-1" strike="noStrike">
                    <a:solidFill>
                      <a:srgbClr val="8530b5"/>
                    </a:solidFill>
                    <a:latin typeface="方正藏体简体"/>
                    <a:ea typeface="方正藏体简体"/>
                  </a:rPr>
                  <a:t>亮相</a:t>
                </a:r>
                <a:r>
                  <a:rPr b="1" i="1" lang="zh-CN" sz="3200" spc="-1" strike="noStrike">
                    <a:solidFill>
                      <a:srgbClr val="dc5c31"/>
                    </a:solidFill>
                    <a:latin typeface="微软雅黑"/>
                    <a:ea typeface="微软雅黑"/>
                  </a:rPr>
                  <a:t>，都新潮</a:t>
                </a:r>
                <a:r>
                  <a:rPr b="1" i="1" lang="zh-CN" sz="5800" spc="-1" strike="noStrike">
                    <a:solidFill>
                      <a:srgbClr val="2f2f2f"/>
                    </a:solidFill>
                    <a:latin typeface="書體坊顏體㊣"/>
                    <a:ea typeface="書體坊顏體㊣"/>
                  </a:rPr>
                  <a:t>澎湃</a:t>
                </a:r>
                <a:endParaRPr b="0" lang="en-US" sz="5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" name="矩形 11"/>
              <p:cNvSpPr/>
              <p:nvPr/>
            </p:nvSpPr>
            <p:spPr>
              <a:xfrm>
                <a:off x="5983200" y="979200"/>
                <a:ext cx="72000" cy="1427400"/>
              </a:xfrm>
              <a:prstGeom prst="rect">
                <a:avLst/>
              </a:pr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02" name="矩形 14"/>
            <p:cNvSpPr/>
            <p:nvPr/>
          </p:nvSpPr>
          <p:spPr>
            <a:xfrm>
              <a:off x="5983200" y="2644560"/>
              <a:ext cx="72000" cy="2160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" name="矩形 15"/>
            <p:cNvSpPr/>
            <p:nvPr/>
          </p:nvSpPr>
          <p:spPr>
            <a:xfrm>
              <a:off x="5983200" y="2439000"/>
              <a:ext cx="72000" cy="10800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 spd="slow" advTm="2000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250" autoRev="1" fill="remove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remov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remove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remove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钱包那么小，哪里也去不了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5" name="Freeform 15"/>
          <p:cNvSpPr/>
          <p:nvPr/>
        </p:nvSpPr>
        <p:spPr>
          <a:xfrm>
            <a:off x="4486320" y="4335480"/>
            <a:ext cx="890640" cy="880920"/>
          </a:xfrm>
          <a:custGeom>
            <a:avLst/>
            <a:gdLst>
              <a:gd name="textAreaLeft" fmla="*/ 0 w 890640"/>
              <a:gd name="textAreaRight" fmla="*/ 891000 w 89064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95" h="94">
                <a:moveTo>
                  <a:pt x="54" y="94"/>
                </a:moveTo>
                <a:cubicBezTo>
                  <a:pt x="56" y="81"/>
                  <a:pt x="56" y="81"/>
                  <a:pt x="56" y="81"/>
                </a:cubicBezTo>
                <a:cubicBezTo>
                  <a:pt x="66" y="78"/>
                  <a:pt x="66" y="78"/>
                  <a:pt x="66" y="78"/>
                </a:cubicBezTo>
                <a:cubicBezTo>
                  <a:pt x="76" y="85"/>
                  <a:pt x="76" y="85"/>
                  <a:pt x="76" y="85"/>
                </a:cubicBezTo>
                <a:cubicBezTo>
                  <a:pt x="86" y="75"/>
                  <a:pt x="86" y="75"/>
                  <a:pt x="86" y="75"/>
                </a:cubicBezTo>
                <a:cubicBezTo>
                  <a:pt x="78" y="65"/>
                  <a:pt x="78" y="65"/>
                  <a:pt x="78" y="65"/>
                </a:cubicBezTo>
                <a:cubicBezTo>
                  <a:pt x="82" y="56"/>
                  <a:pt x="82" y="56"/>
                  <a:pt x="82" y="56"/>
                </a:cubicBezTo>
                <a:cubicBezTo>
                  <a:pt x="95" y="54"/>
                  <a:pt x="95" y="54"/>
                  <a:pt x="95" y="54"/>
                </a:cubicBezTo>
                <a:cubicBezTo>
                  <a:pt x="95" y="40"/>
                  <a:pt x="95" y="40"/>
                  <a:pt x="95" y="40"/>
                </a:cubicBezTo>
                <a:cubicBezTo>
                  <a:pt x="82" y="38"/>
                  <a:pt x="82" y="38"/>
                  <a:pt x="82" y="38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1"/>
                  <a:pt x="80" y="31"/>
                  <a:pt x="80" y="31"/>
                </a:cubicBezTo>
                <a:cubicBezTo>
                  <a:pt x="80" y="31"/>
                  <a:pt x="80" y="31"/>
                  <a:pt x="80" y="31"/>
                </a:cubicBezTo>
                <a:cubicBezTo>
                  <a:pt x="78" y="29"/>
                  <a:pt x="78" y="29"/>
                  <a:pt x="78" y="29"/>
                </a:cubicBezTo>
                <a:cubicBezTo>
                  <a:pt x="86" y="18"/>
                  <a:pt x="86" y="18"/>
                  <a:pt x="86" y="18"/>
                </a:cubicBezTo>
                <a:cubicBezTo>
                  <a:pt x="76" y="9"/>
                  <a:pt x="76" y="9"/>
                  <a:pt x="76" y="9"/>
                </a:cubicBezTo>
                <a:cubicBezTo>
                  <a:pt x="66" y="16"/>
                  <a:pt x="66" y="16"/>
                  <a:pt x="66" y="16"/>
                </a:cubicBezTo>
                <a:cubicBezTo>
                  <a:pt x="56" y="12"/>
                  <a:pt x="56" y="12"/>
                  <a:pt x="56" y="12"/>
                </a:cubicBezTo>
                <a:cubicBezTo>
                  <a:pt x="54" y="0"/>
                  <a:pt x="54" y="0"/>
                  <a:pt x="54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38" y="12"/>
                  <a:pt x="38" y="12"/>
                  <a:pt x="38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19" y="9"/>
                  <a:pt x="19" y="9"/>
                  <a:pt x="19" y="9"/>
                </a:cubicBezTo>
                <a:cubicBezTo>
                  <a:pt x="9" y="18"/>
                  <a:pt x="9" y="18"/>
                  <a:pt x="9" y="18"/>
                </a:cubicBezTo>
                <a:cubicBezTo>
                  <a:pt x="17" y="29"/>
                  <a:pt x="17" y="29"/>
                  <a:pt x="17" y="29"/>
                </a:cubicBezTo>
                <a:cubicBezTo>
                  <a:pt x="13" y="38"/>
                  <a:pt x="13" y="38"/>
                  <a:pt x="13" y="3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54"/>
                  <a:pt x="0" y="54"/>
                  <a:pt x="0" y="54"/>
                </a:cubicBezTo>
                <a:cubicBezTo>
                  <a:pt x="13" y="56"/>
                  <a:pt x="13" y="56"/>
                  <a:pt x="13" y="56"/>
                </a:cubicBezTo>
                <a:cubicBezTo>
                  <a:pt x="16" y="65"/>
                  <a:pt x="16" y="65"/>
                  <a:pt x="16" y="65"/>
                </a:cubicBezTo>
                <a:cubicBezTo>
                  <a:pt x="9" y="75"/>
                  <a:pt x="9" y="75"/>
                  <a:pt x="9" y="75"/>
                </a:cubicBezTo>
                <a:cubicBezTo>
                  <a:pt x="19" y="85"/>
                  <a:pt x="19" y="85"/>
                  <a:pt x="19" y="85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1" y="94"/>
                  <a:pt x="41" y="94"/>
                  <a:pt x="41" y="94"/>
                </a:cubicBezTo>
                <a:cubicBezTo>
                  <a:pt x="54" y="94"/>
                  <a:pt x="54" y="94"/>
                  <a:pt x="54" y="94"/>
                </a:cubicBezTo>
                <a:close/>
                <a:moveTo>
                  <a:pt x="72" y="43"/>
                </a:moveTo>
                <a:cubicBezTo>
                  <a:pt x="74" y="57"/>
                  <a:pt x="65" y="70"/>
                  <a:pt x="51" y="72"/>
                </a:cubicBezTo>
                <a:cubicBezTo>
                  <a:pt x="37" y="74"/>
                  <a:pt x="24" y="64"/>
                  <a:pt x="22" y="50"/>
                </a:cubicBezTo>
                <a:cubicBezTo>
                  <a:pt x="21" y="36"/>
                  <a:pt x="30" y="24"/>
                  <a:pt x="44" y="22"/>
                </a:cubicBezTo>
                <a:cubicBezTo>
                  <a:pt x="48" y="21"/>
                  <a:pt x="52" y="22"/>
                  <a:pt x="56" y="23"/>
                </a:cubicBezTo>
                <a:cubicBezTo>
                  <a:pt x="56" y="23"/>
                  <a:pt x="56" y="23"/>
                  <a:pt x="56" y="23"/>
                </a:cubicBezTo>
                <a:cubicBezTo>
                  <a:pt x="59" y="24"/>
                  <a:pt x="63" y="26"/>
                  <a:pt x="65" y="29"/>
                </a:cubicBezTo>
                <a:cubicBezTo>
                  <a:pt x="67" y="30"/>
                  <a:pt x="68" y="32"/>
                  <a:pt x="69" y="34"/>
                </a:cubicBezTo>
                <a:cubicBezTo>
                  <a:pt x="71" y="37"/>
                  <a:pt x="72" y="40"/>
                  <a:pt x="72" y="43"/>
                </a:cubicBezTo>
                <a:close/>
              </a:path>
            </a:pathLst>
          </a:custGeom>
          <a:solidFill>
            <a:srgbClr val="d0a9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Freeform 16"/>
          <p:cNvSpPr/>
          <p:nvPr/>
        </p:nvSpPr>
        <p:spPr>
          <a:xfrm>
            <a:off x="4786200" y="4597560"/>
            <a:ext cx="290520" cy="328320"/>
          </a:xfrm>
          <a:custGeom>
            <a:avLst/>
            <a:gdLst>
              <a:gd name="textAreaLeft" fmla="*/ 0 w 290520"/>
              <a:gd name="textAreaRight" fmla="*/ 290880 w 29052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31" h="35">
                <a:moveTo>
                  <a:pt x="15" y="0"/>
                </a:moveTo>
                <a:cubicBezTo>
                  <a:pt x="20" y="0"/>
                  <a:pt x="24" y="4"/>
                  <a:pt x="24" y="8"/>
                </a:cubicBezTo>
                <a:cubicBezTo>
                  <a:pt x="24" y="13"/>
                  <a:pt x="20" y="17"/>
                  <a:pt x="15" y="17"/>
                </a:cubicBezTo>
                <a:cubicBezTo>
                  <a:pt x="11" y="17"/>
                  <a:pt x="7" y="13"/>
                  <a:pt x="7" y="8"/>
                </a:cubicBezTo>
                <a:cubicBezTo>
                  <a:pt x="7" y="4"/>
                  <a:pt x="11" y="0"/>
                  <a:pt x="15" y="0"/>
                </a:cubicBezTo>
                <a:close/>
                <a:moveTo>
                  <a:pt x="6" y="19"/>
                </a:moveTo>
                <a:cubicBezTo>
                  <a:pt x="10" y="19"/>
                  <a:pt x="10" y="19"/>
                  <a:pt x="10" y="19"/>
                </a:cubicBezTo>
                <a:cubicBezTo>
                  <a:pt x="14" y="24"/>
                  <a:pt x="14" y="24"/>
                  <a:pt x="14" y="24"/>
                </a:cubicBezTo>
                <a:cubicBezTo>
                  <a:pt x="15" y="26"/>
                  <a:pt x="16" y="26"/>
                  <a:pt x="17" y="24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8" y="19"/>
                  <a:pt x="31" y="21"/>
                  <a:pt x="31" y="25"/>
                </a:cubicBezTo>
                <a:cubicBezTo>
                  <a:pt x="31" y="35"/>
                  <a:pt x="31" y="35"/>
                  <a:pt x="31" y="35"/>
                </a:cubicBezTo>
                <a:cubicBezTo>
                  <a:pt x="26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9"/>
                  <a:pt x="6" y="19"/>
                </a:cubicBezTo>
                <a:close/>
              </a:path>
            </a:pathLst>
          </a:cu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Freeform 17"/>
          <p:cNvSpPr/>
          <p:nvPr/>
        </p:nvSpPr>
        <p:spPr>
          <a:xfrm>
            <a:off x="4486320" y="2327400"/>
            <a:ext cx="880920" cy="892080"/>
          </a:xfrm>
          <a:custGeom>
            <a:avLst/>
            <a:gdLst>
              <a:gd name="textAreaLeft" fmla="*/ 0 w 880920"/>
              <a:gd name="textAreaRight" fmla="*/ 881280 w 88092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94" h="95">
                <a:moveTo>
                  <a:pt x="54" y="95"/>
                </a:moveTo>
                <a:cubicBezTo>
                  <a:pt x="56" y="82"/>
                  <a:pt x="56" y="82"/>
                  <a:pt x="56" y="82"/>
                </a:cubicBezTo>
                <a:cubicBezTo>
                  <a:pt x="65" y="78"/>
                  <a:pt x="65" y="78"/>
                  <a:pt x="65" y="78"/>
                </a:cubicBezTo>
                <a:cubicBezTo>
                  <a:pt x="75" y="86"/>
                  <a:pt x="75" y="86"/>
                  <a:pt x="75" y="86"/>
                </a:cubicBezTo>
                <a:cubicBezTo>
                  <a:pt x="85" y="76"/>
                  <a:pt x="85" y="76"/>
                  <a:pt x="85" y="76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56"/>
                  <a:pt x="82" y="56"/>
                  <a:pt x="82" y="56"/>
                </a:cubicBezTo>
                <a:cubicBezTo>
                  <a:pt x="94" y="54"/>
                  <a:pt x="94" y="54"/>
                  <a:pt x="94" y="54"/>
                </a:cubicBezTo>
                <a:cubicBezTo>
                  <a:pt x="94" y="41"/>
                  <a:pt x="94" y="41"/>
                  <a:pt x="94" y="41"/>
                </a:cubicBezTo>
                <a:cubicBezTo>
                  <a:pt x="82" y="38"/>
                  <a:pt x="82" y="38"/>
                  <a:pt x="82" y="38"/>
                </a:cubicBezTo>
                <a:cubicBezTo>
                  <a:pt x="81" y="37"/>
                  <a:pt x="81" y="37"/>
                  <a:pt x="81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79" y="32"/>
                  <a:pt x="79" y="32"/>
                  <a:pt x="79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78" y="29"/>
                  <a:pt x="78" y="29"/>
                  <a:pt x="78" y="29"/>
                </a:cubicBezTo>
                <a:cubicBezTo>
                  <a:pt x="85" y="19"/>
                  <a:pt x="85" y="19"/>
                  <a:pt x="85" y="19"/>
                </a:cubicBezTo>
                <a:cubicBezTo>
                  <a:pt x="75" y="9"/>
                  <a:pt x="75" y="9"/>
                  <a:pt x="75" y="9"/>
                </a:cubicBezTo>
                <a:cubicBezTo>
                  <a:pt x="65" y="16"/>
                  <a:pt x="65" y="16"/>
                  <a:pt x="65" y="16"/>
                </a:cubicBezTo>
                <a:cubicBezTo>
                  <a:pt x="56" y="13"/>
                  <a:pt x="56" y="13"/>
                  <a:pt x="56" y="13"/>
                </a:cubicBezTo>
                <a:cubicBezTo>
                  <a:pt x="54" y="0"/>
                  <a:pt x="54" y="0"/>
                  <a:pt x="5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3"/>
                  <a:pt x="38" y="13"/>
                  <a:pt x="38" y="13"/>
                </a:cubicBezTo>
                <a:cubicBezTo>
                  <a:pt x="29" y="16"/>
                  <a:pt x="29" y="16"/>
                  <a:pt x="29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9" y="19"/>
                  <a:pt x="9" y="19"/>
                  <a:pt x="9" y="19"/>
                </a:cubicBezTo>
                <a:cubicBezTo>
                  <a:pt x="16" y="29"/>
                  <a:pt x="16" y="29"/>
                  <a:pt x="16" y="29"/>
                </a:cubicBezTo>
                <a:cubicBezTo>
                  <a:pt x="12" y="38"/>
                  <a:pt x="12" y="38"/>
                  <a:pt x="12" y="3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56"/>
                  <a:pt x="12" y="56"/>
                  <a:pt x="12" y="56"/>
                </a:cubicBezTo>
                <a:cubicBezTo>
                  <a:pt x="16" y="66"/>
                  <a:pt x="16" y="66"/>
                  <a:pt x="16" y="66"/>
                </a:cubicBezTo>
                <a:cubicBezTo>
                  <a:pt x="9" y="76"/>
                  <a:pt x="9" y="76"/>
                  <a:pt x="9" y="76"/>
                </a:cubicBezTo>
                <a:cubicBezTo>
                  <a:pt x="18" y="86"/>
                  <a:pt x="18" y="86"/>
                  <a:pt x="18" y="86"/>
                </a:cubicBezTo>
                <a:cubicBezTo>
                  <a:pt x="29" y="78"/>
                  <a:pt x="29" y="78"/>
                  <a:pt x="29" y="78"/>
                </a:cubicBezTo>
                <a:cubicBezTo>
                  <a:pt x="38" y="82"/>
                  <a:pt x="38" y="82"/>
                  <a:pt x="38" y="82"/>
                </a:cubicBezTo>
                <a:cubicBezTo>
                  <a:pt x="40" y="95"/>
                  <a:pt x="40" y="95"/>
                  <a:pt x="40" y="95"/>
                </a:cubicBezTo>
                <a:cubicBezTo>
                  <a:pt x="54" y="95"/>
                  <a:pt x="54" y="95"/>
                  <a:pt x="54" y="95"/>
                </a:cubicBezTo>
                <a:close/>
                <a:moveTo>
                  <a:pt x="72" y="44"/>
                </a:moveTo>
                <a:cubicBezTo>
                  <a:pt x="74" y="58"/>
                  <a:pt x="64" y="71"/>
                  <a:pt x="50" y="72"/>
                </a:cubicBezTo>
                <a:cubicBezTo>
                  <a:pt x="37" y="74"/>
                  <a:pt x="24" y="65"/>
                  <a:pt x="22" y="51"/>
                </a:cubicBezTo>
                <a:cubicBezTo>
                  <a:pt x="20" y="37"/>
                  <a:pt x="30" y="24"/>
                  <a:pt x="44" y="22"/>
                </a:cubicBezTo>
                <a:cubicBezTo>
                  <a:pt x="48" y="22"/>
                  <a:pt x="52" y="22"/>
                  <a:pt x="55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59" y="25"/>
                  <a:pt x="62" y="27"/>
                  <a:pt x="65" y="30"/>
                </a:cubicBezTo>
                <a:cubicBezTo>
                  <a:pt x="66" y="31"/>
                  <a:pt x="68" y="33"/>
                  <a:pt x="69" y="35"/>
                </a:cubicBezTo>
                <a:cubicBezTo>
                  <a:pt x="70" y="38"/>
                  <a:pt x="72" y="41"/>
                  <a:pt x="72" y="44"/>
                </a:cubicBezTo>
                <a:close/>
              </a:path>
            </a:pathLst>
          </a:cu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Freeform 18"/>
          <p:cNvSpPr/>
          <p:nvPr/>
        </p:nvSpPr>
        <p:spPr>
          <a:xfrm>
            <a:off x="4786200" y="2600280"/>
            <a:ext cx="281160" cy="327240"/>
          </a:xfrm>
          <a:custGeom>
            <a:avLst/>
            <a:gdLst>
              <a:gd name="textAreaLeft" fmla="*/ 0 w 281160"/>
              <a:gd name="textAreaRight" fmla="*/ 281520 w 28116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30" h="35">
                <a:moveTo>
                  <a:pt x="15" y="0"/>
                </a:moveTo>
                <a:cubicBezTo>
                  <a:pt x="20" y="0"/>
                  <a:pt x="23" y="3"/>
                  <a:pt x="23" y="8"/>
                </a:cubicBezTo>
                <a:cubicBezTo>
                  <a:pt x="23" y="13"/>
                  <a:pt x="20" y="16"/>
                  <a:pt x="15" y="16"/>
                </a:cubicBezTo>
                <a:cubicBezTo>
                  <a:pt x="10" y="16"/>
                  <a:pt x="7" y="13"/>
                  <a:pt x="7" y="8"/>
                </a:cubicBezTo>
                <a:cubicBezTo>
                  <a:pt x="7" y="3"/>
                  <a:pt x="10" y="0"/>
                  <a:pt x="15" y="0"/>
                </a:cubicBezTo>
                <a:close/>
                <a:moveTo>
                  <a:pt x="6" y="18"/>
                </a:moveTo>
                <a:cubicBezTo>
                  <a:pt x="10" y="18"/>
                  <a:pt x="10" y="18"/>
                  <a:pt x="10" y="18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6"/>
                  <a:pt x="16" y="26"/>
                  <a:pt x="17" y="24"/>
                </a:cubicBezTo>
                <a:cubicBezTo>
                  <a:pt x="20" y="18"/>
                  <a:pt x="20" y="18"/>
                  <a:pt x="20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7" y="18"/>
                  <a:pt x="30" y="21"/>
                  <a:pt x="30" y="25"/>
                </a:cubicBezTo>
                <a:cubicBezTo>
                  <a:pt x="30" y="35"/>
                  <a:pt x="30" y="35"/>
                  <a:pt x="30" y="35"/>
                </a:cubicBezTo>
                <a:cubicBezTo>
                  <a:pt x="25" y="35"/>
                  <a:pt x="5" y="35"/>
                  <a:pt x="0" y="3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6" y="18"/>
                </a:cubicBezTo>
                <a:close/>
              </a:path>
            </a:pathLst>
          </a:cu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Freeform 19"/>
          <p:cNvSpPr/>
          <p:nvPr/>
        </p:nvSpPr>
        <p:spPr>
          <a:xfrm>
            <a:off x="3562200" y="3040200"/>
            <a:ext cx="1462320" cy="146340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156" h="156">
                <a:moveTo>
                  <a:pt x="89" y="156"/>
                </a:moveTo>
                <a:cubicBezTo>
                  <a:pt x="93" y="135"/>
                  <a:pt x="93" y="135"/>
                  <a:pt x="93" y="135"/>
                </a:cubicBezTo>
                <a:cubicBezTo>
                  <a:pt x="108" y="129"/>
                  <a:pt x="108" y="129"/>
                  <a:pt x="108" y="129"/>
                </a:cubicBezTo>
                <a:cubicBezTo>
                  <a:pt x="125" y="141"/>
                  <a:pt x="125" y="141"/>
                  <a:pt x="125" y="141"/>
                </a:cubicBezTo>
                <a:cubicBezTo>
                  <a:pt x="141" y="125"/>
                  <a:pt x="141" y="125"/>
                  <a:pt x="141" y="125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5" y="93"/>
                  <a:pt x="135" y="93"/>
                  <a:pt x="135" y="93"/>
                </a:cubicBezTo>
                <a:cubicBezTo>
                  <a:pt x="156" y="89"/>
                  <a:pt x="156" y="89"/>
                  <a:pt x="156" y="89"/>
                </a:cubicBezTo>
                <a:cubicBezTo>
                  <a:pt x="156" y="67"/>
                  <a:pt x="156" y="67"/>
                  <a:pt x="156" y="67"/>
                </a:cubicBezTo>
                <a:cubicBezTo>
                  <a:pt x="135" y="63"/>
                  <a:pt x="135" y="63"/>
                  <a:pt x="135" y="63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5" y="62"/>
                  <a:pt x="135" y="62"/>
                  <a:pt x="135" y="62"/>
                </a:cubicBezTo>
                <a:cubicBezTo>
                  <a:pt x="132" y="56"/>
                  <a:pt x="132" y="56"/>
                  <a:pt x="132" y="56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31" y="53"/>
                  <a:pt x="131" y="53"/>
                  <a:pt x="131" y="53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41" y="31"/>
                  <a:pt x="141" y="31"/>
                  <a:pt x="141" y="31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93" y="21"/>
                  <a:pt x="93" y="21"/>
                  <a:pt x="93" y="21"/>
                </a:cubicBezTo>
                <a:cubicBezTo>
                  <a:pt x="89" y="0"/>
                  <a:pt x="89" y="0"/>
                  <a:pt x="89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21"/>
                  <a:pt x="63" y="21"/>
                  <a:pt x="63" y="21"/>
                </a:cubicBezTo>
                <a:cubicBezTo>
                  <a:pt x="48" y="27"/>
                  <a:pt x="48" y="27"/>
                  <a:pt x="48" y="27"/>
                </a:cubicBezTo>
                <a:cubicBezTo>
                  <a:pt x="31" y="15"/>
                  <a:pt x="31" y="15"/>
                  <a:pt x="31" y="15"/>
                </a:cubicBezTo>
                <a:cubicBezTo>
                  <a:pt x="15" y="31"/>
                  <a:pt x="15" y="31"/>
                  <a:pt x="15" y="31"/>
                </a:cubicBezTo>
                <a:cubicBezTo>
                  <a:pt x="27" y="48"/>
                  <a:pt x="27" y="48"/>
                  <a:pt x="27" y="48"/>
                </a:cubicBezTo>
                <a:cubicBezTo>
                  <a:pt x="21" y="63"/>
                  <a:pt x="21" y="63"/>
                  <a:pt x="21" y="63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89"/>
                  <a:pt x="0" y="89"/>
                  <a:pt x="0" y="89"/>
                </a:cubicBezTo>
                <a:cubicBezTo>
                  <a:pt x="21" y="93"/>
                  <a:pt x="21" y="93"/>
                  <a:pt x="21" y="93"/>
                </a:cubicBezTo>
                <a:cubicBezTo>
                  <a:pt x="27" y="108"/>
                  <a:pt x="27" y="108"/>
                  <a:pt x="27" y="108"/>
                </a:cubicBezTo>
                <a:cubicBezTo>
                  <a:pt x="15" y="125"/>
                  <a:pt x="15" y="125"/>
                  <a:pt x="15" y="125"/>
                </a:cubicBezTo>
                <a:cubicBezTo>
                  <a:pt x="31" y="141"/>
                  <a:pt x="31" y="141"/>
                  <a:pt x="31" y="141"/>
                </a:cubicBezTo>
                <a:cubicBezTo>
                  <a:pt x="48" y="129"/>
                  <a:pt x="48" y="129"/>
                  <a:pt x="48" y="129"/>
                </a:cubicBezTo>
                <a:cubicBezTo>
                  <a:pt x="63" y="135"/>
                  <a:pt x="63" y="135"/>
                  <a:pt x="63" y="135"/>
                </a:cubicBezTo>
                <a:cubicBezTo>
                  <a:pt x="67" y="156"/>
                  <a:pt x="67" y="156"/>
                  <a:pt x="67" y="156"/>
                </a:cubicBezTo>
                <a:cubicBezTo>
                  <a:pt x="89" y="156"/>
                  <a:pt x="89" y="156"/>
                  <a:pt x="89" y="156"/>
                </a:cubicBezTo>
                <a:close/>
                <a:moveTo>
                  <a:pt x="119" y="72"/>
                </a:moveTo>
                <a:cubicBezTo>
                  <a:pt x="122" y="95"/>
                  <a:pt x="106" y="116"/>
                  <a:pt x="84" y="119"/>
                </a:cubicBezTo>
                <a:cubicBezTo>
                  <a:pt x="61" y="122"/>
                  <a:pt x="40" y="106"/>
                  <a:pt x="37" y="84"/>
                </a:cubicBezTo>
                <a:cubicBezTo>
                  <a:pt x="34" y="61"/>
                  <a:pt x="50" y="40"/>
                  <a:pt x="72" y="37"/>
                </a:cubicBezTo>
                <a:cubicBezTo>
                  <a:pt x="79" y="36"/>
                  <a:pt x="86" y="37"/>
                  <a:pt x="92" y="39"/>
                </a:cubicBezTo>
                <a:cubicBezTo>
                  <a:pt x="92" y="39"/>
                  <a:pt x="92" y="39"/>
                  <a:pt x="92" y="39"/>
                </a:cubicBezTo>
                <a:cubicBezTo>
                  <a:pt x="98" y="41"/>
                  <a:pt x="103" y="44"/>
                  <a:pt x="107" y="49"/>
                </a:cubicBezTo>
                <a:cubicBezTo>
                  <a:pt x="110" y="51"/>
                  <a:pt x="112" y="54"/>
                  <a:pt x="114" y="57"/>
                </a:cubicBezTo>
                <a:cubicBezTo>
                  <a:pt x="117" y="62"/>
                  <a:pt x="119" y="67"/>
                  <a:pt x="119" y="72"/>
                </a:cubicBezTo>
                <a:close/>
              </a:path>
            </a:pathLst>
          </a:cu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Freeform 20"/>
          <p:cNvSpPr/>
          <p:nvPr/>
        </p:nvSpPr>
        <p:spPr>
          <a:xfrm>
            <a:off x="4059360" y="3481560"/>
            <a:ext cx="468360" cy="544320"/>
          </a:xfrm>
          <a:custGeom>
            <a:avLst/>
            <a:gdLst>
              <a:gd name="textAreaLeft" fmla="*/ 0 w 468360"/>
              <a:gd name="textAreaRight" fmla="*/ 468720 w 4683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50" h="58">
                <a:moveTo>
                  <a:pt x="25" y="0"/>
                </a:moveTo>
                <a:cubicBezTo>
                  <a:pt x="33" y="0"/>
                  <a:pt x="39" y="6"/>
                  <a:pt x="39" y="14"/>
                </a:cubicBezTo>
                <a:cubicBezTo>
                  <a:pt x="39" y="21"/>
                  <a:pt x="33" y="28"/>
                  <a:pt x="25" y="28"/>
                </a:cubicBezTo>
                <a:cubicBezTo>
                  <a:pt x="17" y="28"/>
                  <a:pt x="11" y="21"/>
                  <a:pt x="11" y="14"/>
                </a:cubicBezTo>
                <a:cubicBezTo>
                  <a:pt x="11" y="6"/>
                  <a:pt x="17" y="0"/>
                  <a:pt x="25" y="0"/>
                </a:cubicBezTo>
                <a:close/>
                <a:moveTo>
                  <a:pt x="10" y="31"/>
                </a:moveTo>
                <a:cubicBezTo>
                  <a:pt x="16" y="31"/>
                  <a:pt x="16" y="31"/>
                  <a:pt x="16" y="31"/>
                </a:cubicBezTo>
                <a:cubicBezTo>
                  <a:pt x="22" y="40"/>
                  <a:pt x="22" y="40"/>
                  <a:pt x="22" y="40"/>
                </a:cubicBezTo>
                <a:cubicBezTo>
                  <a:pt x="24" y="43"/>
                  <a:pt x="26" y="43"/>
                  <a:pt x="28" y="40"/>
                </a:cubicBezTo>
                <a:cubicBezTo>
                  <a:pt x="34" y="31"/>
                  <a:pt x="34" y="31"/>
                  <a:pt x="34" y="31"/>
                </a:cubicBezTo>
                <a:cubicBezTo>
                  <a:pt x="40" y="31"/>
                  <a:pt x="40" y="31"/>
                  <a:pt x="40" y="31"/>
                </a:cubicBezTo>
                <a:cubicBezTo>
                  <a:pt x="45" y="31"/>
                  <a:pt x="50" y="36"/>
                  <a:pt x="50" y="41"/>
                </a:cubicBezTo>
                <a:cubicBezTo>
                  <a:pt x="50" y="58"/>
                  <a:pt x="50" y="58"/>
                  <a:pt x="50" y="58"/>
                </a:cubicBezTo>
                <a:cubicBezTo>
                  <a:pt x="42" y="58"/>
                  <a:pt x="8" y="58"/>
                  <a:pt x="0" y="58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36"/>
                  <a:pt x="5" y="31"/>
                  <a:pt x="10" y="31"/>
                </a:cubicBezTo>
                <a:close/>
              </a:path>
            </a:pathLst>
          </a:cu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任意多边形 20"/>
          <p:cNvSpPr/>
          <p:nvPr/>
        </p:nvSpPr>
        <p:spPr>
          <a:xfrm flipV="1">
            <a:off x="5234040" y="2211840"/>
            <a:ext cx="2917800" cy="227160"/>
          </a:xfrm>
          <a:custGeom>
            <a:avLst/>
            <a:gdLst>
              <a:gd name="textAreaLeft" fmla="*/ 0 w 2917800"/>
              <a:gd name="textAreaRight" fmla="*/ 2918160 w 2917800"/>
              <a:gd name="textAreaTop" fmla="*/ -360 h 227160"/>
              <a:gd name="textAreaBottom" fmla="*/ 227160 h 227160"/>
            </a:gdLst>
            <a:ahLst/>
            <a:rect l="textAreaLeft" t="textAreaTop" r="textAreaRight" b="textAreaBottom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任意多边形 21"/>
          <p:cNvSpPr/>
          <p:nvPr/>
        </p:nvSpPr>
        <p:spPr>
          <a:xfrm>
            <a:off x="5234040" y="5100480"/>
            <a:ext cx="2917800" cy="225720"/>
          </a:xfrm>
          <a:custGeom>
            <a:avLst/>
            <a:gdLst>
              <a:gd name="textAreaLeft" fmla="*/ 0 w 2917800"/>
              <a:gd name="textAreaRight" fmla="*/ 2918160 w 291780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任意多边形 22"/>
          <p:cNvSpPr/>
          <p:nvPr/>
        </p:nvSpPr>
        <p:spPr>
          <a:xfrm flipH="1">
            <a:off x="645480" y="3772080"/>
            <a:ext cx="2917800" cy="226800"/>
          </a:xfrm>
          <a:custGeom>
            <a:avLst/>
            <a:gdLst>
              <a:gd name="textAreaLeft" fmla="*/ -360 w 2917800"/>
              <a:gd name="textAreaRight" fmla="*/ 2917800 w 29178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575098" h="226882">
                <a:moveTo>
                  <a:pt x="0" y="0"/>
                </a:moveTo>
                <a:lnTo>
                  <a:pt x="226882" y="226882"/>
                </a:lnTo>
                <a:lnTo>
                  <a:pt x="3575098" y="226882"/>
                </a:lnTo>
              </a:path>
            </a:pathLst>
          </a:cu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矩形 26"/>
          <p:cNvSpPr/>
          <p:nvPr/>
        </p:nvSpPr>
        <p:spPr>
          <a:xfrm>
            <a:off x="933480" y="342684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风格要创新的话，首先要突破局限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矩形 27"/>
          <p:cNvSpPr/>
          <p:nvPr/>
        </p:nvSpPr>
        <p:spPr>
          <a:xfrm>
            <a:off x="5478480" y="238140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不要一味的套用模版，这样很难有所提高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矩形 28"/>
          <p:cNvSpPr/>
          <p:nvPr/>
        </p:nvSpPr>
        <p:spPr>
          <a:xfrm>
            <a:off x="5478480" y="4757400"/>
            <a:ext cx="238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6b6b"/>
                </a:solidFill>
                <a:latin typeface="幼圆"/>
                <a:ea typeface="幼圆"/>
              </a:rPr>
              <a:t>量身定制请进群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pull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13"/>
          <p:cNvSpPr/>
          <p:nvPr/>
        </p:nvSpPr>
        <p:spPr>
          <a:xfrm>
            <a:off x="1969920" y="2455920"/>
            <a:ext cx="79092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69ca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3438360" y="2455920"/>
            <a:ext cx="79236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e84a1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6383160" y="2455920"/>
            <a:ext cx="79092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4b4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4911840" y="2455920"/>
            <a:ext cx="792000" cy="792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4b575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任意多边形 31"/>
          <p:cNvSpPr/>
          <p:nvPr/>
        </p:nvSpPr>
        <p:spPr>
          <a:xfrm>
            <a:off x="1706400" y="2190600"/>
            <a:ext cx="1312920" cy="355284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3552840"/>
              <a:gd name="textAreaBottom" fmla="*/ 3553200 h 3552840"/>
            </a:gdLst>
            <a:ahLst/>
            <a:rect l="textAreaLeft" t="textAreaTop" r="textAreaRight" b="textAreaBottom"/>
            <a:pathLst>
              <a:path w="1313001" h="3552826">
                <a:moveTo>
                  <a:pt x="659518" y="166539"/>
                </a:moveTo>
                <a:cubicBezTo>
                  <a:pt x="386587" y="166539"/>
                  <a:pt x="165332" y="388064"/>
                  <a:pt x="165332" y="661328"/>
                </a:cubicBezTo>
                <a:cubicBezTo>
                  <a:pt x="165332" y="934592"/>
                  <a:pt x="386587" y="1156117"/>
                  <a:pt x="659518" y="1156117"/>
                </a:cubicBezTo>
                <a:cubicBezTo>
                  <a:pt x="932449" y="1156117"/>
                  <a:pt x="1153704" y="934592"/>
                  <a:pt x="1153704" y="661328"/>
                </a:cubicBezTo>
                <a:cubicBezTo>
                  <a:pt x="1153704" y="388064"/>
                  <a:pt x="932449" y="166539"/>
                  <a:pt x="659518" y="166539"/>
                </a:cubicBezTo>
                <a:close/>
                <a:moveTo>
                  <a:pt x="656501" y="0"/>
                </a:moveTo>
                <a:cubicBezTo>
                  <a:pt x="1016149" y="0"/>
                  <a:pt x="1313001" y="297499"/>
                  <a:pt x="1313001" y="657931"/>
                </a:cubicBezTo>
                <a:cubicBezTo>
                  <a:pt x="1313001" y="3552826"/>
                  <a:pt x="1313001" y="3552826"/>
                  <a:pt x="1313001" y="3552826"/>
                </a:cubicBezTo>
                <a:cubicBezTo>
                  <a:pt x="0" y="3552826"/>
                  <a:pt x="0" y="3552826"/>
                  <a:pt x="0" y="3552826"/>
                </a:cubicBezTo>
                <a:cubicBezTo>
                  <a:pt x="0" y="657931"/>
                  <a:pt x="0" y="657931"/>
                  <a:pt x="0" y="657931"/>
                </a:cubicBezTo>
                <a:cubicBezTo>
                  <a:pt x="0" y="297499"/>
                  <a:pt x="296852" y="0"/>
                  <a:pt x="656501" y="0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任意多边形 32"/>
          <p:cNvSpPr/>
          <p:nvPr/>
        </p:nvSpPr>
        <p:spPr>
          <a:xfrm>
            <a:off x="3178080" y="2190600"/>
            <a:ext cx="1314720" cy="355284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3552840"/>
              <a:gd name="textAreaBottom" fmla="*/ 3553200 h 3552840"/>
            </a:gdLst>
            <a:ahLst/>
            <a:rect l="textAreaLeft" t="textAreaTop" r="textAreaRight" b="textAreaBottom"/>
            <a:pathLst>
              <a:path w="1314208" h="3552826">
                <a:moveTo>
                  <a:pt x="657105" y="166539"/>
                </a:moveTo>
                <a:cubicBezTo>
                  <a:pt x="386173" y="166539"/>
                  <a:pt x="166539" y="388064"/>
                  <a:pt x="166539" y="661328"/>
                </a:cubicBezTo>
                <a:cubicBezTo>
                  <a:pt x="166539" y="934592"/>
                  <a:pt x="386173" y="1156117"/>
                  <a:pt x="657105" y="1156117"/>
                </a:cubicBezTo>
                <a:cubicBezTo>
                  <a:pt x="928037" y="1156117"/>
                  <a:pt x="1147671" y="934592"/>
                  <a:pt x="1147671" y="661328"/>
                </a:cubicBezTo>
                <a:cubicBezTo>
                  <a:pt x="1147671" y="388064"/>
                  <a:pt x="928037" y="166539"/>
                  <a:pt x="657105" y="166539"/>
                </a:cubicBezTo>
                <a:close/>
                <a:moveTo>
                  <a:pt x="657104" y="0"/>
                </a:moveTo>
                <a:cubicBezTo>
                  <a:pt x="1017083" y="0"/>
                  <a:pt x="1314208" y="297499"/>
                  <a:pt x="1314208" y="657931"/>
                </a:cubicBezTo>
                <a:cubicBezTo>
                  <a:pt x="1314208" y="1641966"/>
                  <a:pt x="1314208" y="2568791"/>
                  <a:pt x="1314208" y="3552826"/>
                </a:cubicBezTo>
                <a:cubicBezTo>
                  <a:pt x="874234" y="3552826"/>
                  <a:pt x="439974" y="3552826"/>
                  <a:pt x="0" y="3552826"/>
                </a:cubicBezTo>
                <a:cubicBezTo>
                  <a:pt x="0" y="2568791"/>
                  <a:pt x="0" y="1641966"/>
                  <a:pt x="0" y="657931"/>
                </a:cubicBezTo>
                <a:cubicBezTo>
                  <a:pt x="0" y="297499"/>
                  <a:pt x="297125" y="0"/>
                  <a:pt x="657104" y="0"/>
                </a:cubicBezTo>
                <a:close/>
              </a:path>
            </a:pathLst>
          </a:custGeom>
          <a:solidFill>
            <a:srgbClr val="4b57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任意多边形 34"/>
          <p:cNvSpPr/>
          <p:nvPr/>
        </p:nvSpPr>
        <p:spPr>
          <a:xfrm>
            <a:off x="4651200" y="2190600"/>
            <a:ext cx="1312920" cy="355284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3552840"/>
              <a:gd name="textAreaBottom" fmla="*/ 3553200 h 3552840"/>
            </a:gdLst>
            <a:ahLst/>
            <a:rect l="textAreaLeft" t="textAreaTop" r="textAreaRight" b="textAreaBottom"/>
            <a:pathLst>
              <a:path w="1313001" h="3552826">
                <a:moveTo>
                  <a:pt x="656501" y="166539"/>
                </a:moveTo>
                <a:cubicBezTo>
                  <a:pt x="385236" y="166539"/>
                  <a:pt x="165332" y="388064"/>
                  <a:pt x="165332" y="661328"/>
                </a:cubicBezTo>
                <a:cubicBezTo>
                  <a:pt x="165332" y="934592"/>
                  <a:pt x="385236" y="1156117"/>
                  <a:pt x="656501" y="1156117"/>
                </a:cubicBezTo>
                <a:cubicBezTo>
                  <a:pt x="927766" y="1156117"/>
                  <a:pt x="1147670" y="934592"/>
                  <a:pt x="1147670" y="661328"/>
                </a:cubicBezTo>
                <a:cubicBezTo>
                  <a:pt x="1147670" y="388064"/>
                  <a:pt x="927766" y="166539"/>
                  <a:pt x="656501" y="166539"/>
                </a:cubicBezTo>
                <a:close/>
                <a:moveTo>
                  <a:pt x="656501" y="0"/>
                </a:moveTo>
                <a:cubicBezTo>
                  <a:pt x="1016149" y="0"/>
                  <a:pt x="1313001" y="297499"/>
                  <a:pt x="1313001" y="657931"/>
                </a:cubicBezTo>
                <a:cubicBezTo>
                  <a:pt x="1313001" y="1641966"/>
                  <a:pt x="1313001" y="2568791"/>
                  <a:pt x="1313001" y="3552826"/>
                </a:cubicBezTo>
                <a:cubicBezTo>
                  <a:pt x="873431" y="3552826"/>
                  <a:pt x="439570" y="3552826"/>
                  <a:pt x="0" y="3552826"/>
                </a:cubicBezTo>
                <a:cubicBezTo>
                  <a:pt x="0" y="2568791"/>
                  <a:pt x="0" y="1641966"/>
                  <a:pt x="0" y="657931"/>
                </a:cubicBezTo>
                <a:cubicBezTo>
                  <a:pt x="0" y="297499"/>
                  <a:pt x="296853" y="0"/>
                  <a:pt x="656501" y="0"/>
                </a:cubicBezTo>
                <a:close/>
              </a:path>
            </a:pathLst>
          </a:cu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任意多边形 35"/>
          <p:cNvSpPr/>
          <p:nvPr/>
        </p:nvSpPr>
        <p:spPr>
          <a:xfrm>
            <a:off x="6124680" y="2190600"/>
            <a:ext cx="1312920" cy="3552840"/>
          </a:xfrm>
          <a:custGeom>
            <a:avLst/>
            <a:gdLst>
              <a:gd name="textAreaLeft" fmla="*/ 0 w 1312920"/>
              <a:gd name="textAreaRight" fmla="*/ 1313280 w 1312920"/>
              <a:gd name="textAreaTop" fmla="*/ 0 h 3552840"/>
              <a:gd name="textAreaBottom" fmla="*/ 3553200 h 3552840"/>
            </a:gdLst>
            <a:ahLst/>
            <a:rect l="textAreaLeft" t="textAreaTop" r="textAreaRight" b="textAreaBottom"/>
            <a:pathLst>
              <a:path w="1313001" h="3552826">
                <a:moveTo>
                  <a:pt x="653484" y="166539"/>
                </a:moveTo>
                <a:cubicBezTo>
                  <a:pt x="380553" y="166539"/>
                  <a:pt x="159298" y="388064"/>
                  <a:pt x="159298" y="661328"/>
                </a:cubicBezTo>
                <a:cubicBezTo>
                  <a:pt x="159298" y="934592"/>
                  <a:pt x="380553" y="1156117"/>
                  <a:pt x="653484" y="1156117"/>
                </a:cubicBezTo>
                <a:cubicBezTo>
                  <a:pt x="926415" y="1156117"/>
                  <a:pt x="1147670" y="934592"/>
                  <a:pt x="1147670" y="661328"/>
                </a:cubicBezTo>
                <a:cubicBezTo>
                  <a:pt x="1147670" y="388064"/>
                  <a:pt x="926415" y="166539"/>
                  <a:pt x="653484" y="166539"/>
                </a:cubicBezTo>
                <a:close/>
                <a:moveTo>
                  <a:pt x="656501" y="0"/>
                </a:moveTo>
                <a:cubicBezTo>
                  <a:pt x="1016149" y="0"/>
                  <a:pt x="1313001" y="297499"/>
                  <a:pt x="1313001" y="657931"/>
                </a:cubicBezTo>
                <a:cubicBezTo>
                  <a:pt x="1313001" y="3552826"/>
                  <a:pt x="1313001" y="3552826"/>
                  <a:pt x="1313001" y="3552826"/>
                </a:cubicBezTo>
                <a:cubicBezTo>
                  <a:pt x="0" y="3552826"/>
                  <a:pt x="0" y="3552826"/>
                  <a:pt x="0" y="3552826"/>
                </a:cubicBezTo>
                <a:cubicBezTo>
                  <a:pt x="0" y="657931"/>
                  <a:pt x="0" y="657931"/>
                  <a:pt x="0" y="657931"/>
                </a:cubicBezTo>
                <a:cubicBezTo>
                  <a:pt x="0" y="297499"/>
                  <a:pt x="296853" y="0"/>
                  <a:pt x="656501" y="0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224000" bIns="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6748560" y="2682720"/>
            <a:ext cx="290520" cy="204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41" h="170">
                <a:moveTo>
                  <a:pt x="0" y="0"/>
                </a:moveTo>
                <a:lnTo>
                  <a:pt x="241" y="0"/>
                </a:lnTo>
                <a:lnTo>
                  <a:pt x="241" y="170"/>
                </a:lnTo>
                <a:lnTo>
                  <a:pt x="0" y="170"/>
                </a:lnTo>
                <a:lnTo>
                  <a:pt x="0" y="0"/>
                </a:lnTo>
                <a:close/>
                <a:moveTo>
                  <a:pt x="33" y="71"/>
                </a:moveTo>
                <a:lnTo>
                  <a:pt x="33" y="33"/>
                </a:lnTo>
                <a:lnTo>
                  <a:pt x="208" y="33"/>
                </a:lnTo>
                <a:lnTo>
                  <a:pt x="33" y="71"/>
                </a:lnTo>
                <a:close/>
                <a:moveTo>
                  <a:pt x="33" y="104"/>
                </a:moveTo>
                <a:lnTo>
                  <a:pt x="33" y="71"/>
                </a:lnTo>
                <a:lnTo>
                  <a:pt x="175" y="71"/>
                </a:lnTo>
                <a:lnTo>
                  <a:pt x="33" y="104"/>
                </a:lnTo>
                <a:close/>
                <a:moveTo>
                  <a:pt x="33" y="142"/>
                </a:moveTo>
                <a:lnTo>
                  <a:pt x="33" y="104"/>
                </a:lnTo>
                <a:lnTo>
                  <a:pt x="132" y="104"/>
                </a:lnTo>
                <a:lnTo>
                  <a:pt x="33" y="142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6518160" y="2733840"/>
            <a:ext cx="520920" cy="298440"/>
          </a:xfrm>
          <a:custGeom>
            <a:avLst/>
            <a:gdLst>
              <a:gd name="textAreaLeft" fmla="*/ 0 w 520920"/>
              <a:gd name="textAreaRight" fmla="*/ 521280 w 520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91" h="52">
                <a:moveTo>
                  <a:pt x="18" y="34"/>
                </a:moveTo>
                <a:cubicBezTo>
                  <a:pt x="23" y="34"/>
                  <a:pt x="27" y="38"/>
                  <a:pt x="27" y="43"/>
                </a:cubicBezTo>
                <a:cubicBezTo>
                  <a:pt x="27" y="48"/>
                  <a:pt x="23" y="52"/>
                  <a:pt x="18" y="52"/>
                </a:cubicBezTo>
                <a:cubicBezTo>
                  <a:pt x="13" y="52"/>
                  <a:pt x="9" y="48"/>
                  <a:pt x="9" y="43"/>
                </a:cubicBezTo>
                <a:cubicBezTo>
                  <a:pt x="9" y="38"/>
                  <a:pt x="13" y="34"/>
                  <a:pt x="18" y="34"/>
                </a:cubicBezTo>
                <a:close/>
                <a:moveTo>
                  <a:pt x="2" y="41"/>
                </a:moveTo>
                <a:cubicBezTo>
                  <a:pt x="4" y="41"/>
                  <a:pt x="4" y="41"/>
                  <a:pt x="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6" y="36"/>
                  <a:pt x="11" y="31"/>
                  <a:pt x="18" y="31"/>
                </a:cubicBezTo>
                <a:cubicBezTo>
                  <a:pt x="24" y="31"/>
                  <a:pt x="29" y="36"/>
                  <a:pt x="30" y="41"/>
                </a:cubicBezTo>
                <a:cubicBezTo>
                  <a:pt x="58" y="41"/>
                  <a:pt x="58" y="41"/>
                  <a:pt x="58" y="41"/>
                </a:cubicBezTo>
                <a:cubicBezTo>
                  <a:pt x="58" y="36"/>
                  <a:pt x="64" y="31"/>
                  <a:pt x="70" y="31"/>
                </a:cubicBezTo>
                <a:cubicBezTo>
                  <a:pt x="76" y="31"/>
                  <a:pt x="81" y="36"/>
                  <a:pt x="82" y="41"/>
                </a:cubicBezTo>
                <a:cubicBezTo>
                  <a:pt x="91" y="41"/>
                  <a:pt x="91" y="41"/>
                  <a:pt x="91" y="41"/>
                </a:cubicBezTo>
                <a:cubicBezTo>
                  <a:pt x="91" y="27"/>
                  <a:pt x="91" y="27"/>
                  <a:pt x="91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37" y="0"/>
                  <a:pt x="37" y="0"/>
                  <a:pt x="3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7"/>
                  <a:pt x="2" y="27"/>
                  <a:pt x="2" y="27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5"/>
                  <a:pt x="2" y="35"/>
                  <a:pt x="2" y="35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41"/>
                  <a:pt x="0" y="41"/>
                  <a:pt x="0" y="41"/>
                </a:cubicBezTo>
                <a:cubicBezTo>
                  <a:pt x="2" y="41"/>
                  <a:pt x="2" y="41"/>
                  <a:pt x="2" y="41"/>
                </a:cubicBezTo>
                <a:close/>
                <a:moveTo>
                  <a:pt x="18" y="39"/>
                </a:moveTo>
                <a:cubicBezTo>
                  <a:pt x="20" y="39"/>
                  <a:pt x="22" y="41"/>
                  <a:pt x="22" y="43"/>
                </a:cubicBezTo>
                <a:cubicBezTo>
                  <a:pt x="22" y="46"/>
                  <a:pt x="20" y="48"/>
                  <a:pt x="18" y="48"/>
                </a:cubicBezTo>
                <a:cubicBezTo>
                  <a:pt x="15" y="48"/>
                  <a:pt x="13" y="46"/>
                  <a:pt x="13" y="43"/>
                </a:cubicBezTo>
                <a:cubicBezTo>
                  <a:pt x="13" y="41"/>
                  <a:pt x="15" y="39"/>
                  <a:pt x="18" y="39"/>
                </a:cubicBezTo>
                <a:close/>
                <a:moveTo>
                  <a:pt x="70" y="34"/>
                </a:moveTo>
                <a:cubicBezTo>
                  <a:pt x="75" y="34"/>
                  <a:pt x="79" y="38"/>
                  <a:pt x="79" y="43"/>
                </a:cubicBezTo>
                <a:cubicBezTo>
                  <a:pt x="79" y="48"/>
                  <a:pt x="75" y="52"/>
                  <a:pt x="70" y="52"/>
                </a:cubicBezTo>
                <a:cubicBezTo>
                  <a:pt x="65" y="52"/>
                  <a:pt x="61" y="48"/>
                  <a:pt x="61" y="43"/>
                </a:cubicBezTo>
                <a:cubicBezTo>
                  <a:pt x="61" y="38"/>
                  <a:pt x="65" y="34"/>
                  <a:pt x="70" y="34"/>
                </a:cubicBezTo>
                <a:close/>
                <a:moveTo>
                  <a:pt x="70" y="39"/>
                </a:moveTo>
                <a:cubicBezTo>
                  <a:pt x="72" y="39"/>
                  <a:pt x="74" y="41"/>
                  <a:pt x="74" y="43"/>
                </a:cubicBezTo>
                <a:cubicBezTo>
                  <a:pt x="74" y="46"/>
                  <a:pt x="72" y="48"/>
                  <a:pt x="70" y="48"/>
                </a:cubicBezTo>
                <a:cubicBezTo>
                  <a:pt x="67" y="48"/>
                  <a:pt x="66" y="46"/>
                  <a:pt x="66" y="43"/>
                </a:cubicBezTo>
                <a:cubicBezTo>
                  <a:pt x="66" y="41"/>
                  <a:pt x="67" y="39"/>
                  <a:pt x="70" y="39"/>
                </a:cubicBezTo>
                <a:close/>
                <a:moveTo>
                  <a:pt x="5" y="18"/>
                </a:moveTo>
                <a:cubicBezTo>
                  <a:pt x="12" y="18"/>
                  <a:pt x="12" y="18"/>
                  <a:pt x="12" y="18"/>
                </a:cubicBezTo>
                <a:cubicBezTo>
                  <a:pt x="12" y="5"/>
                  <a:pt x="12" y="5"/>
                  <a:pt x="12" y="5"/>
                </a:cubicBezTo>
                <a:cubicBezTo>
                  <a:pt x="5" y="18"/>
                  <a:pt x="5" y="18"/>
                  <a:pt x="5" y="18"/>
                </a:cubicBezTo>
                <a:close/>
                <a:moveTo>
                  <a:pt x="15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5"/>
                  <a:pt x="27" y="5"/>
                  <a:pt x="27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18"/>
                  <a:pt x="15" y="18"/>
                  <a:pt x="15" y="18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Freeform 23"/>
          <p:cNvSpPr/>
          <p:nvPr/>
        </p:nvSpPr>
        <p:spPr>
          <a:xfrm>
            <a:off x="5079960" y="2630520"/>
            <a:ext cx="428760" cy="423720"/>
          </a:xfrm>
          <a:custGeom>
            <a:avLst/>
            <a:gdLst>
              <a:gd name="textAreaLeft" fmla="*/ 0 w 428760"/>
              <a:gd name="textAreaRight" fmla="*/ 429120 w 4287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55" h="351">
                <a:moveTo>
                  <a:pt x="345" y="48"/>
                </a:moveTo>
                <a:lnTo>
                  <a:pt x="345" y="48"/>
                </a:lnTo>
                <a:lnTo>
                  <a:pt x="355" y="76"/>
                </a:lnTo>
                <a:lnTo>
                  <a:pt x="312" y="123"/>
                </a:lnTo>
                <a:lnTo>
                  <a:pt x="279" y="114"/>
                </a:lnTo>
                <a:lnTo>
                  <a:pt x="114" y="275"/>
                </a:lnTo>
                <a:lnTo>
                  <a:pt x="114" y="280"/>
                </a:lnTo>
                <a:lnTo>
                  <a:pt x="123" y="313"/>
                </a:lnTo>
                <a:lnTo>
                  <a:pt x="76" y="351"/>
                </a:lnTo>
                <a:lnTo>
                  <a:pt x="47" y="346"/>
                </a:lnTo>
                <a:lnTo>
                  <a:pt x="47" y="341"/>
                </a:lnTo>
                <a:lnTo>
                  <a:pt x="80" y="313"/>
                </a:lnTo>
                <a:lnTo>
                  <a:pt x="66" y="289"/>
                </a:lnTo>
                <a:lnTo>
                  <a:pt x="43" y="275"/>
                </a:lnTo>
                <a:lnTo>
                  <a:pt x="14" y="308"/>
                </a:lnTo>
                <a:lnTo>
                  <a:pt x="9" y="308"/>
                </a:lnTo>
                <a:lnTo>
                  <a:pt x="0" y="275"/>
                </a:lnTo>
                <a:lnTo>
                  <a:pt x="43" y="232"/>
                </a:lnTo>
                <a:lnTo>
                  <a:pt x="76" y="242"/>
                </a:lnTo>
                <a:lnTo>
                  <a:pt x="80" y="242"/>
                </a:lnTo>
                <a:lnTo>
                  <a:pt x="241" y="81"/>
                </a:lnTo>
                <a:lnTo>
                  <a:pt x="241" y="76"/>
                </a:lnTo>
                <a:lnTo>
                  <a:pt x="232" y="43"/>
                </a:lnTo>
                <a:lnTo>
                  <a:pt x="279" y="0"/>
                </a:lnTo>
                <a:lnTo>
                  <a:pt x="308" y="10"/>
                </a:lnTo>
                <a:lnTo>
                  <a:pt x="274" y="43"/>
                </a:lnTo>
                <a:lnTo>
                  <a:pt x="289" y="67"/>
                </a:lnTo>
                <a:lnTo>
                  <a:pt x="312" y="81"/>
                </a:lnTo>
                <a:lnTo>
                  <a:pt x="345" y="48"/>
                </a:ln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Freeform 24"/>
          <p:cNvSpPr/>
          <p:nvPr/>
        </p:nvSpPr>
        <p:spPr>
          <a:xfrm>
            <a:off x="5102280" y="2637000"/>
            <a:ext cx="433440" cy="434880"/>
          </a:xfrm>
          <a:custGeom>
            <a:avLst/>
            <a:gdLst>
              <a:gd name="textAreaLeft" fmla="*/ 0 w 433440"/>
              <a:gd name="textAreaRight" fmla="*/ 433800 w 43344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6" h="76">
                <a:moveTo>
                  <a:pt x="21" y="18"/>
                </a:moveTo>
                <a:cubicBezTo>
                  <a:pt x="46" y="43"/>
                  <a:pt x="46" y="43"/>
                  <a:pt x="46" y="43"/>
                </a:cubicBezTo>
                <a:cubicBezTo>
                  <a:pt x="52" y="37"/>
                  <a:pt x="52" y="37"/>
                  <a:pt x="52" y="37"/>
                </a:cubicBezTo>
                <a:cubicBezTo>
                  <a:pt x="55" y="40"/>
                  <a:pt x="55" y="40"/>
                  <a:pt x="55" y="40"/>
                </a:cubicBezTo>
                <a:cubicBezTo>
                  <a:pt x="53" y="42"/>
                  <a:pt x="53" y="42"/>
                  <a:pt x="53" y="42"/>
                </a:cubicBezTo>
                <a:cubicBezTo>
                  <a:pt x="74" y="63"/>
                  <a:pt x="74" y="63"/>
                  <a:pt x="74" y="63"/>
                </a:cubicBezTo>
                <a:cubicBezTo>
                  <a:pt x="76" y="65"/>
                  <a:pt x="76" y="70"/>
                  <a:pt x="73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70" y="76"/>
                  <a:pt x="65" y="76"/>
                  <a:pt x="63" y="74"/>
                </a:cubicBezTo>
                <a:cubicBezTo>
                  <a:pt x="56" y="67"/>
                  <a:pt x="49" y="60"/>
                  <a:pt x="42" y="53"/>
                </a:cubicBezTo>
                <a:cubicBezTo>
                  <a:pt x="40" y="55"/>
                  <a:pt x="40" y="55"/>
                  <a:pt x="40" y="55"/>
                </a:cubicBezTo>
                <a:cubicBezTo>
                  <a:pt x="37" y="52"/>
                  <a:pt x="37" y="52"/>
                  <a:pt x="37" y="52"/>
                </a:cubicBezTo>
                <a:cubicBezTo>
                  <a:pt x="43" y="46"/>
                  <a:pt x="43" y="46"/>
                  <a:pt x="43" y="46"/>
                </a:cubicBezTo>
                <a:cubicBezTo>
                  <a:pt x="18" y="21"/>
                  <a:pt x="18" y="21"/>
                  <a:pt x="18" y="21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9"/>
                  <a:pt x="0" y="9"/>
                  <a:pt x="0" y="9"/>
                </a:cubicBezTo>
                <a:cubicBezTo>
                  <a:pt x="9" y="0"/>
                  <a:pt x="9" y="0"/>
                  <a:pt x="9" y="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8"/>
                  <a:pt x="21" y="18"/>
                  <a:pt x="21" y="18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Freeform 25"/>
          <p:cNvSpPr/>
          <p:nvPr/>
        </p:nvSpPr>
        <p:spPr>
          <a:xfrm>
            <a:off x="2243160" y="2602080"/>
            <a:ext cx="250920" cy="137880"/>
          </a:xfrm>
          <a:custGeom>
            <a:avLst/>
            <a:gdLst>
              <a:gd name="textAreaLeft" fmla="*/ 0 w 250920"/>
              <a:gd name="textAreaRight" fmla="*/ 251280 w 25092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208" h="114">
                <a:moveTo>
                  <a:pt x="170" y="0"/>
                </a:moveTo>
                <a:lnTo>
                  <a:pt x="208" y="114"/>
                </a:lnTo>
                <a:lnTo>
                  <a:pt x="18" y="114"/>
                </a:lnTo>
                <a:lnTo>
                  <a:pt x="0" y="62"/>
                </a:lnTo>
                <a:lnTo>
                  <a:pt x="170" y="0"/>
                </a:ln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Freeform 26"/>
          <p:cNvSpPr/>
          <p:nvPr/>
        </p:nvSpPr>
        <p:spPr>
          <a:xfrm>
            <a:off x="2065320" y="2676600"/>
            <a:ext cx="507960" cy="430200"/>
          </a:xfrm>
          <a:custGeom>
            <a:avLst/>
            <a:gdLst>
              <a:gd name="textAreaLeft" fmla="*/ 0 w 507960"/>
              <a:gd name="textAreaRight" fmla="*/ 508320 w 5079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9" h="75">
                <a:moveTo>
                  <a:pt x="32" y="41"/>
                </a:moveTo>
                <a:cubicBezTo>
                  <a:pt x="43" y="41"/>
                  <a:pt x="43" y="41"/>
                  <a:pt x="43" y="41"/>
                </a:cubicBezTo>
                <a:cubicBezTo>
                  <a:pt x="43" y="39"/>
                  <a:pt x="43" y="37"/>
                  <a:pt x="42" y="36"/>
                </a:cubicBezTo>
                <a:cubicBezTo>
                  <a:pt x="38" y="36"/>
                  <a:pt x="34" y="36"/>
                  <a:pt x="30" y="36"/>
                </a:cubicBezTo>
                <a:cubicBezTo>
                  <a:pt x="31" y="37"/>
                  <a:pt x="31" y="39"/>
                  <a:pt x="32" y="41"/>
                </a:cubicBezTo>
                <a:close/>
                <a:moveTo>
                  <a:pt x="0" y="0"/>
                </a:moveTo>
                <a:cubicBezTo>
                  <a:pt x="12" y="0"/>
                  <a:pt x="12" y="0"/>
                  <a:pt x="12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7" y="1"/>
                  <a:pt x="17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3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9" y="4"/>
                  <a:pt x="19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9" y="4"/>
                  <a:pt x="19" y="5"/>
                  <a:pt x="19" y="5"/>
                </a:cubicBezTo>
                <a:cubicBezTo>
                  <a:pt x="20" y="8"/>
                  <a:pt x="21" y="10"/>
                  <a:pt x="22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44" y="13"/>
                  <a:pt x="44" y="13"/>
                  <a:pt x="44" y="13"/>
                </a:cubicBezTo>
                <a:cubicBezTo>
                  <a:pt x="62" y="13"/>
                  <a:pt x="62" y="13"/>
                  <a:pt x="62" y="13"/>
                </a:cubicBezTo>
                <a:cubicBezTo>
                  <a:pt x="67" y="13"/>
                  <a:pt x="67" y="13"/>
                  <a:pt x="67" y="13"/>
                </a:cubicBezTo>
                <a:cubicBezTo>
                  <a:pt x="84" y="13"/>
                  <a:pt x="84" y="13"/>
                  <a:pt x="84" y="13"/>
                </a:cubicBezTo>
                <a:cubicBezTo>
                  <a:pt x="85" y="13"/>
                  <a:pt x="85" y="13"/>
                  <a:pt x="85" y="13"/>
                </a:cubicBezTo>
                <a:cubicBezTo>
                  <a:pt x="89" y="13"/>
                  <a:pt x="89" y="13"/>
                  <a:pt x="89" y="13"/>
                </a:cubicBezTo>
                <a:cubicBezTo>
                  <a:pt x="85" y="24"/>
                  <a:pt x="81" y="34"/>
                  <a:pt x="77" y="45"/>
                </a:cubicBezTo>
                <a:cubicBezTo>
                  <a:pt x="74" y="45"/>
                  <a:pt x="74" y="45"/>
                  <a:pt x="74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8" y="45"/>
                  <a:pt x="48" y="45"/>
                  <a:pt x="48" y="45"/>
                </a:cubicBezTo>
                <a:cubicBezTo>
                  <a:pt x="44" y="45"/>
                  <a:pt x="44" y="45"/>
                  <a:pt x="44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4" y="48"/>
                  <a:pt x="35" y="51"/>
                  <a:pt x="36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3" y="58"/>
                  <a:pt x="73" y="58"/>
                  <a:pt x="73" y="58"/>
                </a:cubicBezTo>
                <a:cubicBezTo>
                  <a:pt x="38" y="58"/>
                  <a:pt x="38" y="58"/>
                  <a:pt x="38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3" y="58"/>
                  <a:pt x="33" y="58"/>
                </a:cubicBezTo>
                <a:cubicBezTo>
                  <a:pt x="32" y="54"/>
                  <a:pt x="30" y="50"/>
                  <a:pt x="29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4" y="32"/>
                  <a:pt x="19" y="18"/>
                  <a:pt x="14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lose/>
                <a:moveTo>
                  <a:pt x="67" y="63"/>
                </a:moveTo>
                <a:cubicBezTo>
                  <a:pt x="69" y="63"/>
                  <a:pt x="71" y="65"/>
                  <a:pt x="71" y="67"/>
                </a:cubicBezTo>
                <a:cubicBezTo>
                  <a:pt x="71" y="69"/>
                  <a:pt x="69" y="70"/>
                  <a:pt x="67" y="70"/>
                </a:cubicBezTo>
                <a:cubicBezTo>
                  <a:pt x="65" y="70"/>
                  <a:pt x="63" y="69"/>
                  <a:pt x="63" y="67"/>
                </a:cubicBezTo>
                <a:cubicBezTo>
                  <a:pt x="63" y="65"/>
                  <a:pt x="65" y="63"/>
                  <a:pt x="67" y="63"/>
                </a:cubicBezTo>
                <a:close/>
                <a:moveTo>
                  <a:pt x="67" y="59"/>
                </a:moveTo>
                <a:cubicBezTo>
                  <a:pt x="71" y="59"/>
                  <a:pt x="75" y="62"/>
                  <a:pt x="75" y="67"/>
                </a:cubicBezTo>
                <a:cubicBezTo>
                  <a:pt x="75" y="71"/>
                  <a:pt x="71" y="75"/>
                  <a:pt x="67" y="75"/>
                </a:cubicBezTo>
                <a:cubicBezTo>
                  <a:pt x="63" y="75"/>
                  <a:pt x="59" y="71"/>
                  <a:pt x="59" y="67"/>
                </a:cubicBezTo>
                <a:cubicBezTo>
                  <a:pt x="59" y="62"/>
                  <a:pt x="63" y="59"/>
                  <a:pt x="67" y="59"/>
                </a:cubicBezTo>
                <a:close/>
                <a:moveTo>
                  <a:pt x="25" y="21"/>
                </a:moveTo>
                <a:cubicBezTo>
                  <a:pt x="25" y="21"/>
                  <a:pt x="25" y="21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5" y="21"/>
                  <a:pt x="25" y="21"/>
                  <a:pt x="25" y="21"/>
                </a:cubicBezTo>
                <a:close/>
                <a:moveTo>
                  <a:pt x="25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30" y="22"/>
                  <a:pt x="35" y="22"/>
                  <a:pt x="40" y="22"/>
                </a:cubicBezTo>
                <a:cubicBezTo>
                  <a:pt x="40" y="21"/>
                  <a:pt x="40" y="19"/>
                  <a:pt x="40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8"/>
                  <a:pt x="23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19"/>
                  <a:pt x="24" y="19"/>
                </a:cubicBezTo>
                <a:cubicBezTo>
                  <a:pt x="24" y="19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22"/>
                  <a:pt x="25" y="22"/>
                  <a:pt x="25" y="22"/>
                </a:cubicBezTo>
                <a:close/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8" y="29"/>
                  <a:pt x="28" y="30"/>
                  <a:pt x="28" y="31"/>
                </a:cubicBezTo>
                <a:cubicBezTo>
                  <a:pt x="33" y="31"/>
                  <a:pt x="37" y="31"/>
                  <a:pt x="42" y="31"/>
                </a:cubicBezTo>
                <a:cubicBezTo>
                  <a:pt x="41" y="30"/>
                  <a:pt x="41" y="28"/>
                  <a:pt x="41" y="27"/>
                </a:cubicBezTo>
                <a:cubicBezTo>
                  <a:pt x="36" y="27"/>
                  <a:pt x="31" y="27"/>
                  <a:pt x="27" y="27"/>
                </a:cubicBezTo>
                <a:close/>
                <a:moveTo>
                  <a:pt x="17" y="0"/>
                </a:moveTo>
                <a:cubicBezTo>
                  <a:pt x="17" y="0"/>
                  <a:pt x="17" y="1"/>
                  <a:pt x="17" y="1"/>
                </a:cubicBezTo>
                <a:cubicBezTo>
                  <a:pt x="17" y="0"/>
                  <a:pt x="17" y="0"/>
                  <a:pt x="17" y="0"/>
                </a:cubicBezTo>
                <a:close/>
                <a:moveTo>
                  <a:pt x="18" y="2"/>
                </a:move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lose/>
                <a:moveTo>
                  <a:pt x="18" y="2"/>
                </a:moveTo>
                <a:cubicBezTo>
                  <a:pt x="18" y="2"/>
                  <a:pt x="18" y="2"/>
                  <a:pt x="18" y="2"/>
                </a:cubicBezTo>
                <a:cubicBezTo>
                  <a:pt x="18" y="2"/>
                  <a:pt x="18" y="2"/>
                  <a:pt x="18" y="2"/>
                </a:cubicBezTo>
                <a:close/>
                <a:moveTo>
                  <a:pt x="18" y="4"/>
                </a:moveTo>
                <a:cubicBezTo>
                  <a:pt x="18" y="4"/>
                  <a:pt x="19" y="4"/>
                  <a:pt x="19" y="4"/>
                </a:cubicBezTo>
                <a:cubicBezTo>
                  <a:pt x="18" y="4"/>
                  <a:pt x="18" y="4"/>
                  <a:pt x="18" y="4"/>
                </a:cubicBezTo>
                <a:close/>
                <a:moveTo>
                  <a:pt x="39" y="63"/>
                </a:moveTo>
                <a:cubicBezTo>
                  <a:pt x="41" y="63"/>
                  <a:pt x="42" y="65"/>
                  <a:pt x="42" y="67"/>
                </a:cubicBezTo>
                <a:cubicBezTo>
                  <a:pt x="42" y="69"/>
                  <a:pt x="41" y="70"/>
                  <a:pt x="39" y="70"/>
                </a:cubicBezTo>
                <a:cubicBezTo>
                  <a:pt x="37" y="70"/>
                  <a:pt x="35" y="69"/>
                  <a:pt x="35" y="67"/>
                </a:cubicBezTo>
                <a:cubicBezTo>
                  <a:pt x="35" y="65"/>
                  <a:pt x="37" y="63"/>
                  <a:pt x="39" y="63"/>
                </a:cubicBezTo>
                <a:close/>
                <a:moveTo>
                  <a:pt x="39" y="59"/>
                </a:moveTo>
                <a:cubicBezTo>
                  <a:pt x="43" y="59"/>
                  <a:pt x="46" y="62"/>
                  <a:pt x="46" y="67"/>
                </a:cubicBezTo>
                <a:cubicBezTo>
                  <a:pt x="46" y="71"/>
                  <a:pt x="43" y="75"/>
                  <a:pt x="39" y="75"/>
                </a:cubicBezTo>
                <a:cubicBezTo>
                  <a:pt x="34" y="75"/>
                  <a:pt x="31" y="71"/>
                  <a:pt x="31" y="67"/>
                </a:cubicBezTo>
                <a:cubicBezTo>
                  <a:pt x="31" y="62"/>
                  <a:pt x="34" y="59"/>
                  <a:pt x="39" y="59"/>
                </a:cubicBezTo>
                <a:close/>
                <a:moveTo>
                  <a:pt x="47" y="41"/>
                </a:moveTo>
                <a:cubicBezTo>
                  <a:pt x="58" y="41"/>
                  <a:pt x="58" y="41"/>
                  <a:pt x="58" y="41"/>
                </a:cubicBezTo>
                <a:cubicBezTo>
                  <a:pt x="58" y="39"/>
                  <a:pt x="59" y="37"/>
                  <a:pt x="59" y="36"/>
                </a:cubicBezTo>
                <a:cubicBezTo>
                  <a:pt x="55" y="36"/>
                  <a:pt x="51" y="36"/>
                  <a:pt x="47" y="36"/>
                </a:cubicBezTo>
                <a:cubicBezTo>
                  <a:pt x="47" y="37"/>
                  <a:pt x="47" y="39"/>
                  <a:pt x="47" y="41"/>
                </a:cubicBezTo>
                <a:close/>
                <a:moveTo>
                  <a:pt x="63" y="41"/>
                </a:moveTo>
                <a:cubicBezTo>
                  <a:pt x="74" y="41"/>
                  <a:pt x="74" y="41"/>
                  <a:pt x="74" y="41"/>
                </a:cubicBezTo>
                <a:cubicBezTo>
                  <a:pt x="75" y="39"/>
                  <a:pt x="75" y="37"/>
                  <a:pt x="76" y="36"/>
                </a:cubicBezTo>
                <a:cubicBezTo>
                  <a:pt x="72" y="36"/>
                  <a:pt x="68" y="36"/>
                  <a:pt x="63" y="36"/>
                </a:cubicBezTo>
                <a:cubicBezTo>
                  <a:pt x="63" y="37"/>
                  <a:pt x="63" y="39"/>
                  <a:pt x="63" y="41"/>
                </a:cubicBezTo>
                <a:close/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7" y="27"/>
                  <a:pt x="27" y="27"/>
                </a:cubicBezTo>
                <a:close/>
                <a:moveTo>
                  <a:pt x="25" y="21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5" y="21"/>
                  <a:pt x="25" y="21"/>
                </a:cubicBezTo>
                <a:close/>
                <a:moveTo>
                  <a:pt x="25" y="22"/>
                </a:moveTo>
                <a:cubicBezTo>
                  <a:pt x="25" y="22"/>
                  <a:pt x="25" y="22"/>
                  <a:pt x="25" y="22"/>
                </a:cubicBezTo>
                <a:cubicBezTo>
                  <a:pt x="25" y="22"/>
                  <a:pt x="25" y="22"/>
                  <a:pt x="25" y="22"/>
                </a:cubicBezTo>
                <a:close/>
                <a:moveTo>
                  <a:pt x="44" y="17"/>
                </a:moveTo>
                <a:cubicBezTo>
                  <a:pt x="44" y="19"/>
                  <a:pt x="45" y="21"/>
                  <a:pt x="45" y="22"/>
                </a:cubicBezTo>
                <a:cubicBezTo>
                  <a:pt x="50" y="22"/>
                  <a:pt x="55" y="22"/>
                  <a:pt x="61" y="22"/>
                </a:cubicBezTo>
                <a:cubicBezTo>
                  <a:pt x="61" y="21"/>
                  <a:pt x="61" y="19"/>
                  <a:pt x="61" y="17"/>
                </a:cubicBezTo>
                <a:cubicBezTo>
                  <a:pt x="44" y="17"/>
                  <a:pt x="44" y="17"/>
                  <a:pt x="44" y="17"/>
                </a:cubicBezTo>
                <a:close/>
                <a:moveTo>
                  <a:pt x="46" y="27"/>
                </a:moveTo>
                <a:cubicBezTo>
                  <a:pt x="46" y="28"/>
                  <a:pt x="46" y="30"/>
                  <a:pt x="46" y="31"/>
                </a:cubicBezTo>
                <a:cubicBezTo>
                  <a:pt x="51" y="31"/>
                  <a:pt x="55" y="31"/>
                  <a:pt x="59" y="31"/>
                </a:cubicBezTo>
                <a:cubicBezTo>
                  <a:pt x="60" y="30"/>
                  <a:pt x="60" y="28"/>
                  <a:pt x="60" y="27"/>
                </a:cubicBezTo>
                <a:cubicBezTo>
                  <a:pt x="55" y="27"/>
                  <a:pt x="50" y="27"/>
                  <a:pt x="46" y="27"/>
                </a:cubicBezTo>
                <a:close/>
                <a:moveTo>
                  <a:pt x="64" y="31"/>
                </a:moveTo>
                <a:cubicBezTo>
                  <a:pt x="64" y="30"/>
                  <a:pt x="64" y="28"/>
                  <a:pt x="65" y="27"/>
                </a:cubicBezTo>
                <a:cubicBezTo>
                  <a:pt x="70" y="27"/>
                  <a:pt x="74" y="27"/>
                  <a:pt x="79" y="27"/>
                </a:cubicBezTo>
                <a:cubicBezTo>
                  <a:pt x="78" y="28"/>
                  <a:pt x="78" y="30"/>
                  <a:pt x="77" y="31"/>
                </a:cubicBezTo>
                <a:cubicBezTo>
                  <a:pt x="73" y="31"/>
                  <a:pt x="69" y="31"/>
                  <a:pt x="64" y="31"/>
                </a:cubicBezTo>
                <a:close/>
                <a:moveTo>
                  <a:pt x="65" y="22"/>
                </a:moveTo>
                <a:cubicBezTo>
                  <a:pt x="65" y="21"/>
                  <a:pt x="66" y="19"/>
                  <a:pt x="66" y="17"/>
                </a:cubicBezTo>
                <a:cubicBezTo>
                  <a:pt x="82" y="17"/>
                  <a:pt x="82" y="17"/>
                  <a:pt x="82" y="17"/>
                </a:cubicBezTo>
                <a:cubicBezTo>
                  <a:pt x="82" y="19"/>
                  <a:pt x="81" y="21"/>
                  <a:pt x="81" y="22"/>
                </a:cubicBezTo>
                <a:cubicBezTo>
                  <a:pt x="76" y="22"/>
                  <a:pt x="71" y="22"/>
                  <a:pt x="65" y="22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Freeform 27"/>
          <p:cNvSpPr/>
          <p:nvPr/>
        </p:nvSpPr>
        <p:spPr>
          <a:xfrm>
            <a:off x="3624120" y="2854440"/>
            <a:ext cx="427320" cy="193680"/>
          </a:xfrm>
          <a:custGeom>
            <a:avLst/>
            <a:gdLst>
              <a:gd name="textAreaLeft" fmla="*/ 0 w 427320"/>
              <a:gd name="textAreaRight" fmla="*/ 427680 w 4273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5" h="34">
                <a:moveTo>
                  <a:pt x="0" y="16"/>
                </a:moveTo>
                <a:cubicBezTo>
                  <a:pt x="0" y="11"/>
                  <a:pt x="2" y="7"/>
                  <a:pt x="7" y="5"/>
                </a:cubicBezTo>
                <a:cubicBezTo>
                  <a:pt x="25" y="0"/>
                  <a:pt x="25" y="0"/>
                  <a:pt x="25" y="0"/>
                </a:cubicBezTo>
                <a:cubicBezTo>
                  <a:pt x="37" y="21"/>
                  <a:pt x="37" y="21"/>
                  <a:pt x="37" y="21"/>
                </a:cubicBezTo>
                <a:cubicBezTo>
                  <a:pt x="50" y="0"/>
                  <a:pt x="50" y="0"/>
                  <a:pt x="50" y="0"/>
                </a:cubicBezTo>
                <a:cubicBezTo>
                  <a:pt x="67" y="5"/>
                  <a:pt x="67" y="5"/>
                  <a:pt x="67" y="5"/>
                </a:cubicBezTo>
                <a:cubicBezTo>
                  <a:pt x="72" y="7"/>
                  <a:pt x="75" y="11"/>
                  <a:pt x="75" y="16"/>
                </a:cubicBezTo>
                <a:cubicBezTo>
                  <a:pt x="75" y="34"/>
                  <a:pt x="75" y="34"/>
                  <a:pt x="75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369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Freeform 28"/>
          <p:cNvSpPr/>
          <p:nvPr/>
        </p:nvSpPr>
        <p:spPr>
          <a:xfrm>
            <a:off x="3738600" y="2620800"/>
            <a:ext cx="200160" cy="233640"/>
          </a:xfrm>
          <a:custGeom>
            <a:avLst/>
            <a:gdLst>
              <a:gd name="textAreaLeft" fmla="*/ 0 w 200160"/>
              <a:gd name="textAreaRight" fmla="*/ 200520 w 20016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5" h="41">
                <a:moveTo>
                  <a:pt x="17" y="41"/>
                </a:moveTo>
                <a:cubicBezTo>
                  <a:pt x="12" y="41"/>
                  <a:pt x="8" y="37"/>
                  <a:pt x="5" y="32"/>
                </a:cubicBezTo>
                <a:cubicBezTo>
                  <a:pt x="1" y="26"/>
                  <a:pt x="0" y="18"/>
                  <a:pt x="1" y="12"/>
                </a:cubicBezTo>
                <a:cubicBezTo>
                  <a:pt x="3" y="5"/>
                  <a:pt x="8" y="0"/>
                  <a:pt x="17" y="0"/>
                </a:cubicBezTo>
                <a:cubicBezTo>
                  <a:pt x="26" y="0"/>
                  <a:pt x="31" y="5"/>
                  <a:pt x="33" y="12"/>
                </a:cubicBezTo>
                <a:cubicBezTo>
                  <a:pt x="35" y="18"/>
                  <a:pt x="33" y="26"/>
                  <a:pt x="29" y="32"/>
                </a:cubicBezTo>
                <a:cubicBezTo>
                  <a:pt x="26" y="37"/>
                  <a:pt x="22" y="41"/>
                  <a:pt x="17" y="41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Freeform 29"/>
          <p:cNvSpPr/>
          <p:nvPr/>
        </p:nvSpPr>
        <p:spPr>
          <a:xfrm>
            <a:off x="3903840" y="2957400"/>
            <a:ext cx="85680" cy="57240"/>
          </a:xfrm>
          <a:custGeom>
            <a:avLst/>
            <a:gdLst>
              <a:gd name="textAreaLeft" fmla="*/ 0 w 85680"/>
              <a:gd name="textAreaRight" fmla="*/ 86040 w 85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10">
                <a:moveTo>
                  <a:pt x="2" y="0"/>
                </a:moveTo>
                <a:cubicBezTo>
                  <a:pt x="14" y="0"/>
                  <a:pt x="14" y="0"/>
                  <a:pt x="14" y="0"/>
                </a:cubicBezTo>
                <a:cubicBezTo>
                  <a:pt x="15" y="0"/>
                  <a:pt x="15" y="1"/>
                  <a:pt x="15" y="2"/>
                </a:cubicBezTo>
                <a:cubicBezTo>
                  <a:pt x="15" y="8"/>
                  <a:pt x="15" y="8"/>
                  <a:pt x="15" y="8"/>
                </a:cubicBezTo>
                <a:cubicBezTo>
                  <a:pt x="15" y="9"/>
                  <a:pt x="15" y="10"/>
                  <a:pt x="14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lose/>
              </a:path>
            </a:pathLst>
          </a:custGeom>
          <a:solidFill>
            <a:srgbClr val="e84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40"/>
          <p:cNvSpPr/>
          <p:nvPr/>
        </p:nvSpPr>
        <p:spPr>
          <a:xfrm>
            <a:off x="594684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20" y="412"/>
                  <a:pt x="1020" y="412"/>
                  <a:pt x="1020" y="412"/>
                </a:cubicBez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a143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5945040" y="2314440"/>
            <a:ext cx="2117880" cy="190368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020" y="412"/>
                </a:move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20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4ba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Freeform 42"/>
          <p:cNvSpPr/>
          <p:nvPr/>
        </p:nvSpPr>
        <p:spPr>
          <a:xfrm>
            <a:off x="4299120" y="2314440"/>
            <a:ext cx="2117520" cy="1903680"/>
          </a:xfrm>
          <a:custGeom>
            <a:avLst/>
            <a:gdLst>
              <a:gd name="textAreaLeft" fmla="*/ 0 w 2117520"/>
              <a:gd name="textAreaRight" fmla="*/ 2117880 w 211752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19" y="412"/>
                  <a:pt x="1019" y="412"/>
                  <a:pt x="1019" y="412"/>
                </a:cubicBezTo>
                <a:cubicBezTo>
                  <a:pt x="971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1" y="853"/>
                  <a:pt x="1019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a143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Freeform 43"/>
          <p:cNvSpPr/>
          <p:nvPr/>
        </p:nvSpPr>
        <p:spPr>
          <a:xfrm>
            <a:off x="429912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019" y="412"/>
                </a:moveTo>
                <a:cubicBezTo>
                  <a:pt x="971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1" y="853"/>
                  <a:pt x="1019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19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265104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8" h="1030">
                <a:moveTo>
                  <a:pt x="1148" y="515"/>
                </a:moveTo>
                <a:cubicBezTo>
                  <a:pt x="1019" y="412"/>
                  <a:pt x="1019" y="412"/>
                  <a:pt x="1019" y="412"/>
                </a:cubicBezTo>
                <a:cubicBezTo>
                  <a:pt x="971" y="177"/>
                  <a:pt x="763" y="0"/>
                  <a:pt x="515" y="0"/>
                </a:cubicBezTo>
                <a:cubicBezTo>
                  <a:pt x="230" y="0"/>
                  <a:pt x="0" y="231"/>
                  <a:pt x="0" y="515"/>
                </a:cubicBezTo>
                <a:cubicBezTo>
                  <a:pt x="0" y="799"/>
                  <a:pt x="230" y="1030"/>
                  <a:pt x="515" y="1030"/>
                </a:cubicBezTo>
                <a:cubicBezTo>
                  <a:pt x="763" y="1030"/>
                  <a:pt x="971" y="853"/>
                  <a:pt x="1019" y="618"/>
                </a:cubicBezTo>
                <a:lnTo>
                  <a:pt x="1148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a143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Freeform 45"/>
          <p:cNvSpPr/>
          <p:nvPr/>
        </p:nvSpPr>
        <p:spPr>
          <a:xfrm>
            <a:off x="265104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8" h="1030">
                <a:moveTo>
                  <a:pt x="1019" y="412"/>
                </a:moveTo>
                <a:cubicBezTo>
                  <a:pt x="971" y="177"/>
                  <a:pt x="763" y="0"/>
                  <a:pt x="515" y="0"/>
                </a:cubicBezTo>
                <a:cubicBezTo>
                  <a:pt x="230" y="0"/>
                  <a:pt x="0" y="231"/>
                  <a:pt x="0" y="515"/>
                </a:cubicBezTo>
                <a:cubicBezTo>
                  <a:pt x="0" y="799"/>
                  <a:pt x="230" y="1030"/>
                  <a:pt x="515" y="1030"/>
                </a:cubicBezTo>
                <a:cubicBezTo>
                  <a:pt x="763" y="1030"/>
                  <a:pt x="971" y="853"/>
                  <a:pt x="1019" y="618"/>
                </a:cubicBezTo>
                <a:cubicBezTo>
                  <a:pt x="1148" y="515"/>
                  <a:pt x="1148" y="515"/>
                  <a:pt x="1148" y="515"/>
                </a:cubicBezTo>
                <a:lnTo>
                  <a:pt x="1019" y="412"/>
                </a:lnTo>
                <a:close/>
                <a:moveTo>
                  <a:pt x="515" y="979"/>
                </a:moveTo>
                <a:cubicBezTo>
                  <a:pt x="258" y="979"/>
                  <a:pt x="51" y="771"/>
                  <a:pt x="51" y="515"/>
                </a:cubicBezTo>
                <a:cubicBezTo>
                  <a:pt x="51" y="259"/>
                  <a:pt x="258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f369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993600" y="2314440"/>
            <a:ext cx="2114640" cy="19051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149" h="1030">
                <a:moveTo>
                  <a:pt x="1149" y="515"/>
                </a:moveTo>
                <a:cubicBezTo>
                  <a:pt x="1020" y="412"/>
                  <a:pt x="1020" y="412"/>
                  <a:pt x="1020" y="412"/>
                </a:cubicBez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lnTo>
                  <a:pt x="1149" y="515"/>
                </a:lnTo>
                <a:close/>
              </a:path>
            </a:pathLst>
          </a:custGeom>
          <a:gradFill rotWithShape="0">
            <a:gsLst>
              <a:gs pos="0">
                <a:srgbClr val="d9d9da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a1432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Freeform 48"/>
          <p:cNvSpPr/>
          <p:nvPr/>
        </p:nvSpPr>
        <p:spPr>
          <a:xfrm>
            <a:off x="3425760" y="2725560"/>
            <a:ext cx="509760" cy="509760"/>
          </a:xfrm>
          <a:custGeom>
            <a:avLst/>
            <a:gdLst>
              <a:gd name="textAreaLeft" fmla="*/ 0 w 509760"/>
              <a:gd name="textAreaRight" fmla="*/ 510120 w 509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52" h="152">
                <a:moveTo>
                  <a:pt x="152" y="88"/>
                </a:moveTo>
                <a:cubicBezTo>
                  <a:pt x="152" y="64"/>
                  <a:pt x="152" y="64"/>
                  <a:pt x="152" y="64"/>
                </a:cubicBezTo>
                <a:cubicBezTo>
                  <a:pt x="138" y="64"/>
                  <a:pt x="138" y="64"/>
                  <a:pt x="138" y="64"/>
                </a:cubicBezTo>
                <a:cubicBezTo>
                  <a:pt x="136" y="55"/>
                  <a:pt x="133" y="47"/>
                  <a:pt x="128" y="40"/>
                </a:cubicBezTo>
                <a:cubicBezTo>
                  <a:pt x="138" y="31"/>
                  <a:pt x="138" y="31"/>
                  <a:pt x="138" y="31"/>
                </a:cubicBezTo>
                <a:cubicBezTo>
                  <a:pt x="121" y="14"/>
                  <a:pt x="121" y="14"/>
                  <a:pt x="121" y="14"/>
                </a:cubicBezTo>
                <a:cubicBezTo>
                  <a:pt x="111" y="24"/>
                  <a:pt x="111" y="24"/>
                  <a:pt x="111" y="24"/>
                </a:cubicBezTo>
                <a:cubicBezTo>
                  <a:pt x="104" y="19"/>
                  <a:pt x="96" y="16"/>
                  <a:pt x="88" y="14"/>
                </a:cubicBezTo>
                <a:cubicBezTo>
                  <a:pt x="88" y="0"/>
                  <a:pt x="88" y="0"/>
                  <a:pt x="88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4"/>
                  <a:pt x="64" y="14"/>
                  <a:pt x="64" y="14"/>
                </a:cubicBezTo>
                <a:cubicBezTo>
                  <a:pt x="56" y="16"/>
                  <a:pt x="48" y="19"/>
                  <a:pt x="41" y="24"/>
                </a:cubicBezTo>
                <a:cubicBezTo>
                  <a:pt x="31" y="14"/>
                  <a:pt x="31" y="14"/>
                  <a:pt x="31" y="14"/>
                </a:cubicBezTo>
                <a:cubicBezTo>
                  <a:pt x="14" y="31"/>
                  <a:pt x="14" y="31"/>
                  <a:pt x="14" y="31"/>
                </a:cubicBezTo>
                <a:cubicBezTo>
                  <a:pt x="24" y="40"/>
                  <a:pt x="24" y="40"/>
                  <a:pt x="24" y="40"/>
                </a:cubicBezTo>
                <a:cubicBezTo>
                  <a:pt x="19" y="47"/>
                  <a:pt x="16" y="55"/>
                  <a:pt x="14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88"/>
                  <a:pt x="0" y="88"/>
                  <a:pt x="0" y="88"/>
                </a:cubicBezTo>
                <a:cubicBezTo>
                  <a:pt x="14" y="88"/>
                  <a:pt x="14" y="88"/>
                  <a:pt x="14" y="88"/>
                </a:cubicBezTo>
                <a:cubicBezTo>
                  <a:pt x="16" y="96"/>
                  <a:pt x="19" y="104"/>
                  <a:pt x="24" y="111"/>
                </a:cubicBezTo>
                <a:cubicBezTo>
                  <a:pt x="14" y="121"/>
                  <a:pt x="14" y="121"/>
                  <a:pt x="14" y="121"/>
                </a:cubicBezTo>
                <a:cubicBezTo>
                  <a:pt x="31" y="138"/>
                  <a:pt x="31" y="138"/>
                  <a:pt x="31" y="138"/>
                </a:cubicBezTo>
                <a:cubicBezTo>
                  <a:pt x="41" y="128"/>
                  <a:pt x="41" y="128"/>
                  <a:pt x="41" y="128"/>
                </a:cubicBezTo>
                <a:cubicBezTo>
                  <a:pt x="48" y="133"/>
                  <a:pt x="56" y="136"/>
                  <a:pt x="64" y="138"/>
                </a:cubicBezTo>
                <a:cubicBezTo>
                  <a:pt x="64" y="152"/>
                  <a:pt x="64" y="152"/>
                  <a:pt x="64" y="152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38"/>
                  <a:pt x="88" y="138"/>
                  <a:pt x="88" y="138"/>
                </a:cubicBezTo>
                <a:cubicBezTo>
                  <a:pt x="96" y="136"/>
                  <a:pt x="104" y="133"/>
                  <a:pt x="111" y="128"/>
                </a:cubicBezTo>
                <a:cubicBezTo>
                  <a:pt x="121" y="138"/>
                  <a:pt x="121" y="138"/>
                  <a:pt x="121" y="138"/>
                </a:cubicBezTo>
                <a:cubicBezTo>
                  <a:pt x="138" y="121"/>
                  <a:pt x="138" y="121"/>
                  <a:pt x="138" y="121"/>
                </a:cubicBezTo>
                <a:cubicBezTo>
                  <a:pt x="128" y="111"/>
                  <a:pt x="128" y="111"/>
                  <a:pt x="128" y="111"/>
                </a:cubicBezTo>
                <a:cubicBezTo>
                  <a:pt x="133" y="104"/>
                  <a:pt x="136" y="96"/>
                  <a:pt x="138" y="88"/>
                </a:cubicBezTo>
                <a:lnTo>
                  <a:pt x="152" y="88"/>
                </a:lnTo>
                <a:close/>
                <a:moveTo>
                  <a:pt x="76" y="115"/>
                </a:moveTo>
                <a:cubicBezTo>
                  <a:pt x="54" y="115"/>
                  <a:pt x="37" y="98"/>
                  <a:pt x="37" y="76"/>
                </a:cubicBezTo>
                <a:cubicBezTo>
                  <a:pt x="37" y="54"/>
                  <a:pt x="54" y="37"/>
                  <a:pt x="76" y="37"/>
                </a:cubicBezTo>
                <a:cubicBezTo>
                  <a:pt x="98" y="37"/>
                  <a:pt x="115" y="54"/>
                  <a:pt x="115" y="76"/>
                </a:cubicBezTo>
                <a:cubicBezTo>
                  <a:pt x="115" y="98"/>
                  <a:pt x="98" y="115"/>
                  <a:pt x="76" y="115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Freeform 49"/>
          <p:cNvSpPr/>
          <p:nvPr/>
        </p:nvSpPr>
        <p:spPr>
          <a:xfrm>
            <a:off x="5076720" y="2752560"/>
            <a:ext cx="480960" cy="427320"/>
          </a:xfrm>
          <a:custGeom>
            <a:avLst/>
            <a:gdLst>
              <a:gd name="textAreaLeft" fmla="*/ 0 w 480960"/>
              <a:gd name="textAreaRight" fmla="*/ 481320 w 48096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144" h="127">
                <a:moveTo>
                  <a:pt x="29" y="53"/>
                </a:moveTo>
                <a:cubicBezTo>
                  <a:pt x="34" y="60"/>
                  <a:pt x="39" y="66"/>
                  <a:pt x="45" y="72"/>
                </a:cubicBezTo>
                <a:cubicBezTo>
                  <a:pt x="51" y="68"/>
                  <a:pt x="58" y="63"/>
                  <a:pt x="65" y="58"/>
                </a:cubicBezTo>
                <a:cubicBezTo>
                  <a:pt x="59" y="52"/>
                  <a:pt x="54" y="46"/>
                  <a:pt x="50" y="39"/>
                </a:cubicBezTo>
                <a:cubicBezTo>
                  <a:pt x="65" y="29"/>
                  <a:pt x="65" y="29"/>
                  <a:pt x="65" y="29"/>
                </a:cubicBezTo>
                <a:cubicBezTo>
                  <a:pt x="8" y="0"/>
                  <a:pt x="8" y="0"/>
                  <a:pt x="8" y="0"/>
                </a:cubicBezTo>
                <a:cubicBezTo>
                  <a:pt x="13" y="63"/>
                  <a:pt x="13" y="63"/>
                  <a:pt x="13" y="63"/>
                </a:cubicBezTo>
                <a:lnTo>
                  <a:pt x="29" y="53"/>
                </a:lnTo>
                <a:close/>
                <a:moveTo>
                  <a:pt x="115" y="53"/>
                </a:moveTo>
                <a:cubicBezTo>
                  <a:pt x="131" y="63"/>
                  <a:pt x="131" y="63"/>
                  <a:pt x="131" y="63"/>
                </a:cubicBezTo>
                <a:cubicBezTo>
                  <a:pt x="136" y="0"/>
                  <a:pt x="136" y="0"/>
                  <a:pt x="136" y="0"/>
                </a:cubicBezTo>
                <a:cubicBezTo>
                  <a:pt x="80" y="29"/>
                  <a:pt x="80" y="29"/>
                  <a:pt x="80" y="29"/>
                </a:cubicBezTo>
                <a:cubicBezTo>
                  <a:pt x="95" y="39"/>
                  <a:pt x="95" y="39"/>
                  <a:pt x="95" y="39"/>
                </a:cubicBezTo>
                <a:cubicBezTo>
                  <a:pt x="61" y="90"/>
                  <a:pt x="1" y="103"/>
                  <a:pt x="0" y="103"/>
                </a:cubicBezTo>
                <a:cubicBezTo>
                  <a:pt x="5" y="127"/>
                  <a:pt x="5" y="127"/>
                  <a:pt x="5" y="127"/>
                </a:cubicBezTo>
                <a:cubicBezTo>
                  <a:pt x="8" y="127"/>
                  <a:pt x="75" y="112"/>
                  <a:pt x="115" y="53"/>
                </a:cubicBezTo>
                <a:close/>
                <a:moveTo>
                  <a:pt x="101" y="86"/>
                </a:moveTo>
                <a:cubicBezTo>
                  <a:pt x="95" y="92"/>
                  <a:pt x="88" y="98"/>
                  <a:pt x="81" y="103"/>
                </a:cubicBezTo>
                <a:cubicBezTo>
                  <a:pt x="111" y="121"/>
                  <a:pt x="137" y="127"/>
                  <a:pt x="139" y="127"/>
                </a:cubicBezTo>
                <a:cubicBezTo>
                  <a:pt x="144" y="103"/>
                  <a:pt x="144" y="103"/>
                  <a:pt x="144" y="103"/>
                </a:cubicBezTo>
                <a:cubicBezTo>
                  <a:pt x="144" y="103"/>
                  <a:pt x="124" y="99"/>
                  <a:pt x="101" y="86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Freeform 50"/>
          <p:cNvSpPr/>
          <p:nvPr/>
        </p:nvSpPr>
        <p:spPr>
          <a:xfrm>
            <a:off x="6751800" y="2747880"/>
            <a:ext cx="399960" cy="470160"/>
          </a:xfrm>
          <a:custGeom>
            <a:avLst/>
            <a:gdLst>
              <a:gd name="textAreaLeft" fmla="*/ 0 w 399960"/>
              <a:gd name="textAreaRight" fmla="*/ 400320 w 39996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20" h="140">
                <a:moveTo>
                  <a:pt x="74" y="39"/>
                </a:moveTo>
                <a:cubicBezTo>
                  <a:pt x="78" y="35"/>
                  <a:pt x="82" y="29"/>
                  <a:pt x="82" y="22"/>
                </a:cubicBezTo>
                <a:cubicBezTo>
                  <a:pt x="82" y="10"/>
                  <a:pt x="72" y="0"/>
                  <a:pt x="60" y="0"/>
                </a:cubicBezTo>
                <a:cubicBezTo>
                  <a:pt x="48" y="0"/>
                  <a:pt x="38" y="10"/>
                  <a:pt x="38" y="22"/>
                </a:cubicBezTo>
                <a:cubicBezTo>
                  <a:pt x="38" y="29"/>
                  <a:pt x="42" y="35"/>
                  <a:pt x="46" y="39"/>
                </a:cubicBezTo>
                <a:cubicBezTo>
                  <a:pt x="24" y="46"/>
                  <a:pt x="0" y="91"/>
                  <a:pt x="8" y="98"/>
                </a:cubicBezTo>
                <a:cubicBezTo>
                  <a:pt x="15" y="105"/>
                  <a:pt x="27" y="91"/>
                  <a:pt x="37" y="78"/>
                </a:cubicBezTo>
                <a:cubicBezTo>
                  <a:pt x="32" y="99"/>
                  <a:pt x="27" y="121"/>
                  <a:pt x="25" y="140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45" y="129"/>
                  <a:pt x="52" y="114"/>
                  <a:pt x="60" y="114"/>
                </a:cubicBezTo>
                <a:cubicBezTo>
                  <a:pt x="68" y="114"/>
                  <a:pt x="75" y="129"/>
                  <a:pt x="75" y="140"/>
                </a:cubicBezTo>
                <a:cubicBezTo>
                  <a:pt x="95" y="140"/>
                  <a:pt x="95" y="140"/>
                  <a:pt x="95" y="140"/>
                </a:cubicBezTo>
                <a:cubicBezTo>
                  <a:pt x="93" y="121"/>
                  <a:pt x="88" y="99"/>
                  <a:pt x="83" y="78"/>
                </a:cubicBezTo>
                <a:cubicBezTo>
                  <a:pt x="93" y="91"/>
                  <a:pt x="105" y="105"/>
                  <a:pt x="112" y="98"/>
                </a:cubicBezTo>
                <a:cubicBezTo>
                  <a:pt x="120" y="91"/>
                  <a:pt x="96" y="46"/>
                  <a:pt x="74" y="39"/>
                </a:cubicBez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Freeform 51"/>
          <p:cNvSpPr/>
          <p:nvPr/>
        </p:nvSpPr>
        <p:spPr>
          <a:xfrm>
            <a:off x="1530360" y="2757600"/>
            <a:ext cx="949320" cy="450720"/>
          </a:xfrm>
          <a:custGeom>
            <a:avLst/>
            <a:gdLst>
              <a:gd name="textAreaLeft" fmla="*/ 0 w 949320"/>
              <a:gd name="textAreaRight" fmla="*/ 949680 w 94932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584" h="278">
                <a:moveTo>
                  <a:pt x="584" y="0"/>
                </a:moveTo>
                <a:lnTo>
                  <a:pt x="449" y="31"/>
                </a:lnTo>
                <a:lnTo>
                  <a:pt x="469" y="62"/>
                </a:lnTo>
                <a:lnTo>
                  <a:pt x="278" y="200"/>
                </a:lnTo>
                <a:lnTo>
                  <a:pt x="214" y="116"/>
                </a:lnTo>
                <a:lnTo>
                  <a:pt x="204" y="101"/>
                </a:lnTo>
                <a:lnTo>
                  <a:pt x="190" y="112"/>
                </a:lnTo>
                <a:lnTo>
                  <a:pt x="0" y="250"/>
                </a:lnTo>
                <a:lnTo>
                  <a:pt x="21" y="278"/>
                </a:lnTo>
                <a:lnTo>
                  <a:pt x="196" y="151"/>
                </a:lnTo>
                <a:lnTo>
                  <a:pt x="260" y="237"/>
                </a:lnTo>
                <a:lnTo>
                  <a:pt x="270" y="252"/>
                </a:lnTo>
                <a:lnTo>
                  <a:pt x="284" y="241"/>
                </a:lnTo>
                <a:lnTo>
                  <a:pt x="490" y="91"/>
                </a:lnTo>
                <a:lnTo>
                  <a:pt x="512" y="120"/>
                </a:lnTo>
                <a:lnTo>
                  <a:pt x="584" y="0"/>
                </a:ln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Freeform 47"/>
          <p:cNvSpPr/>
          <p:nvPr/>
        </p:nvSpPr>
        <p:spPr>
          <a:xfrm>
            <a:off x="1001880" y="2314440"/>
            <a:ext cx="2116080" cy="1903680"/>
          </a:xfrm>
          <a:custGeom>
            <a:avLst/>
            <a:gdLst>
              <a:gd name="textAreaLeft" fmla="*/ 0 w 2116080"/>
              <a:gd name="textAreaRight" fmla="*/ 2116440 w 211608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149" h="1030">
                <a:moveTo>
                  <a:pt x="1020" y="412"/>
                </a:moveTo>
                <a:cubicBezTo>
                  <a:pt x="972" y="177"/>
                  <a:pt x="764" y="0"/>
                  <a:pt x="515" y="0"/>
                </a:cubicBezTo>
                <a:cubicBezTo>
                  <a:pt x="231" y="0"/>
                  <a:pt x="0" y="231"/>
                  <a:pt x="0" y="515"/>
                </a:cubicBezTo>
                <a:cubicBezTo>
                  <a:pt x="0" y="799"/>
                  <a:pt x="231" y="1030"/>
                  <a:pt x="515" y="1030"/>
                </a:cubicBezTo>
                <a:cubicBezTo>
                  <a:pt x="764" y="1030"/>
                  <a:pt x="972" y="853"/>
                  <a:pt x="1020" y="618"/>
                </a:cubicBezTo>
                <a:cubicBezTo>
                  <a:pt x="1149" y="515"/>
                  <a:pt x="1149" y="515"/>
                  <a:pt x="1149" y="515"/>
                </a:cubicBezTo>
                <a:lnTo>
                  <a:pt x="1020" y="412"/>
                </a:lnTo>
                <a:close/>
                <a:moveTo>
                  <a:pt x="515" y="979"/>
                </a:moveTo>
                <a:cubicBezTo>
                  <a:pt x="259" y="979"/>
                  <a:pt x="51" y="771"/>
                  <a:pt x="51" y="515"/>
                </a:cubicBezTo>
                <a:cubicBezTo>
                  <a:pt x="51" y="259"/>
                  <a:pt x="259" y="51"/>
                  <a:pt x="515" y="51"/>
                </a:cubicBezTo>
                <a:cubicBezTo>
                  <a:pt x="771" y="51"/>
                  <a:pt x="979" y="259"/>
                  <a:pt x="979" y="515"/>
                </a:cubicBezTo>
                <a:cubicBezTo>
                  <a:pt x="979" y="771"/>
                  <a:pt x="771" y="979"/>
                  <a:pt x="515" y="979"/>
                </a:cubicBezTo>
                <a:close/>
              </a:path>
            </a:pathLst>
          </a:custGeom>
          <a:solidFill>
            <a:srgbClr val="f6a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文本框 26"/>
          <p:cNvSpPr/>
          <p:nvPr/>
        </p:nvSpPr>
        <p:spPr>
          <a:xfrm>
            <a:off x="124812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1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文本框 27"/>
          <p:cNvSpPr/>
          <p:nvPr/>
        </p:nvSpPr>
        <p:spPr>
          <a:xfrm>
            <a:off x="295236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2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文本框 28"/>
          <p:cNvSpPr/>
          <p:nvPr/>
        </p:nvSpPr>
        <p:spPr>
          <a:xfrm>
            <a:off x="463824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3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文本框 29"/>
          <p:cNvSpPr/>
          <p:nvPr/>
        </p:nvSpPr>
        <p:spPr>
          <a:xfrm>
            <a:off x="6311520" y="324468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5e5e"/>
                </a:solidFill>
                <a:latin typeface="Impact"/>
                <a:ea typeface="宋体"/>
              </a:rPr>
              <a:t>Step 4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任意多边形 8"/>
          <p:cNvSpPr/>
          <p:nvPr/>
        </p:nvSpPr>
        <p:spPr>
          <a:xfrm>
            <a:off x="7481880" y="4121280"/>
            <a:ext cx="154080" cy="187200"/>
          </a:xfrm>
          <a:custGeom>
            <a:avLst/>
            <a:gdLst>
              <a:gd name="textAreaLeft" fmla="*/ 0 w 154080"/>
              <a:gd name="textAreaRight" fmla="*/ 154440 w 154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88741" h="348541">
                <a:moveTo>
                  <a:pt x="144371" y="49418"/>
                </a:moveTo>
                <a:cubicBezTo>
                  <a:pt x="91930" y="49418"/>
                  <a:pt x="49418" y="91930"/>
                  <a:pt x="49418" y="144371"/>
                </a:cubicBezTo>
                <a:cubicBezTo>
                  <a:pt x="49418" y="196811"/>
                  <a:pt x="91930" y="239323"/>
                  <a:pt x="144371" y="239323"/>
                </a:cubicBezTo>
                <a:cubicBezTo>
                  <a:pt x="196811" y="239323"/>
                  <a:pt x="239323" y="196811"/>
                  <a:pt x="239323" y="144371"/>
                </a:cubicBezTo>
                <a:cubicBezTo>
                  <a:pt x="239323" y="91930"/>
                  <a:pt x="196811" y="49418"/>
                  <a:pt x="144371" y="49418"/>
                </a:cubicBezTo>
                <a:close/>
                <a:moveTo>
                  <a:pt x="144371" y="0"/>
                </a:moveTo>
                <a:cubicBezTo>
                  <a:pt x="181318" y="-1"/>
                  <a:pt x="218266" y="14095"/>
                  <a:pt x="246456" y="42285"/>
                </a:cubicBezTo>
                <a:cubicBezTo>
                  <a:pt x="302836" y="98665"/>
                  <a:pt x="302836" y="190075"/>
                  <a:pt x="246456" y="246455"/>
                </a:cubicBezTo>
                <a:lnTo>
                  <a:pt x="144371" y="348541"/>
                </a:lnTo>
                <a:lnTo>
                  <a:pt x="42285" y="246455"/>
                </a:lnTo>
                <a:cubicBezTo>
                  <a:pt x="-14095" y="190075"/>
                  <a:pt x="-14095" y="98665"/>
                  <a:pt x="42285" y="42285"/>
                </a:cubicBezTo>
                <a:cubicBezTo>
                  <a:pt x="70475" y="14095"/>
                  <a:pt x="107423" y="-1"/>
                  <a:pt x="144371" y="0"/>
                </a:cubicBezTo>
                <a:close/>
              </a:path>
            </a:pathLst>
          </a:custGeom>
          <a:solidFill>
            <a:srgbClr val="ee9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4581360" y="2620800"/>
            <a:ext cx="1940040" cy="1654200"/>
          </a:xfrm>
          <a:custGeom>
            <a:avLst/>
            <a:gdLst>
              <a:gd name="textAreaLeft" fmla="*/ 0 w 1940040"/>
              <a:gd name="textAreaRight" fmla="*/ 1940400 w 1940040"/>
              <a:gd name="textAreaTop" fmla="*/ 0 h 1654200"/>
              <a:gd name="textAreaBottom" fmla="*/ 1654560 h 1654200"/>
            </a:gdLst>
            <a:ahLst/>
            <a:rect l="textAreaLeft" t="textAreaTop" r="textAreaRight" b="textAreaBottom"/>
            <a:pathLst>
              <a:path w="1428" h="1218">
                <a:moveTo>
                  <a:pt x="1398" y="128"/>
                </a:moveTo>
                <a:lnTo>
                  <a:pt x="1394" y="112"/>
                </a:lnTo>
                <a:lnTo>
                  <a:pt x="1378" y="86"/>
                </a:lnTo>
                <a:lnTo>
                  <a:pt x="1366" y="80"/>
                </a:lnTo>
                <a:lnTo>
                  <a:pt x="1354" y="86"/>
                </a:lnTo>
                <a:lnTo>
                  <a:pt x="1348" y="100"/>
                </a:lnTo>
                <a:lnTo>
                  <a:pt x="1346" y="102"/>
                </a:lnTo>
                <a:lnTo>
                  <a:pt x="1346" y="102"/>
                </a:lnTo>
                <a:lnTo>
                  <a:pt x="1344" y="102"/>
                </a:lnTo>
                <a:lnTo>
                  <a:pt x="1322" y="106"/>
                </a:lnTo>
                <a:lnTo>
                  <a:pt x="1322" y="106"/>
                </a:lnTo>
                <a:lnTo>
                  <a:pt x="1318" y="108"/>
                </a:lnTo>
                <a:lnTo>
                  <a:pt x="1316" y="112"/>
                </a:lnTo>
                <a:lnTo>
                  <a:pt x="1310" y="116"/>
                </a:lnTo>
                <a:lnTo>
                  <a:pt x="1298" y="126"/>
                </a:lnTo>
                <a:lnTo>
                  <a:pt x="1296" y="128"/>
                </a:lnTo>
                <a:lnTo>
                  <a:pt x="1286" y="130"/>
                </a:lnTo>
                <a:lnTo>
                  <a:pt x="1286" y="130"/>
                </a:lnTo>
                <a:lnTo>
                  <a:pt x="1276" y="126"/>
                </a:lnTo>
                <a:lnTo>
                  <a:pt x="1264" y="118"/>
                </a:lnTo>
                <a:lnTo>
                  <a:pt x="1262" y="116"/>
                </a:lnTo>
                <a:lnTo>
                  <a:pt x="1262" y="116"/>
                </a:lnTo>
                <a:lnTo>
                  <a:pt x="1244" y="96"/>
                </a:lnTo>
                <a:lnTo>
                  <a:pt x="1240" y="90"/>
                </a:lnTo>
                <a:lnTo>
                  <a:pt x="1238" y="84"/>
                </a:lnTo>
                <a:lnTo>
                  <a:pt x="1238" y="62"/>
                </a:lnTo>
                <a:lnTo>
                  <a:pt x="1238" y="62"/>
                </a:lnTo>
                <a:lnTo>
                  <a:pt x="1238" y="60"/>
                </a:lnTo>
                <a:lnTo>
                  <a:pt x="1242" y="56"/>
                </a:lnTo>
                <a:lnTo>
                  <a:pt x="1218" y="48"/>
                </a:lnTo>
                <a:lnTo>
                  <a:pt x="1218" y="56"/>
                </a:lnTo>
                <a:lnTo>
                  <a:pt x="1218" y="56"/>
                </a:lnTo>
                <a:lnTo>
                  <a:pt x="1216" y="60"/>
                </a:lnTo>
                <a:lnTo>
                  <a:pt x="1210" y="64"/>
                </a:lnTo>
                <a:lnTo>
                  <a:pt x="1202" y="68"/>
                </a:lnTo>
                <a:lnTo>
                  <a:pt x="1200" y="68"/>
                </a:lnTo>
                <a:lnTo>
                  <a:pt x="1200" y="66"/>
                </a:lnTo>
                <a:lnTo>
                  <a:pt x="1188" y="64"/>
                </a:lnTo>
                <a:lnTo>
                  <a:pt x="1190" y="72"/>
                </a:lnTo>
                <a:lnTo>
                  <a:pt x="1170" y="60"/>
                </a:lnTo>
                <a:lnTo>
                  <a:pt x="1168" y="60"/>
                </a:lnTo>
                <a:lnTo>
                  <a:pt x="1168" y="58"/>
                </a:lnTo>
                <a:lnTo>
                  <a:pt x="1168" y="58"/>
                </a:lnTo>
                <a:lnTo>
                  <a:pt x="1168" y="58"/>
                </a:lnTo>
                <a:lnTo>
                  <a:pt x="1164" y="46"/>
                </a:lnTo>
                <a:lnTo>
                  <a:pt x="1162" y="32"/>
                </a:lnTo>
                <a:lnTo>
                  <a:pt x="1162" y="32"/>
                </a:lnTo>
                <a:lnTo>
                  <a:pt x="1164" y="22"/>
                </a:lnTo>
                <a:lnTo>
                  <a:pt x="1166" y="16"/>
                </a:lnTo>
                <a:lnTo>
                  <a:pt x="1172" y="6"/>
                </a:lnTo>
                <a:lnTo>
                  <a:pt x="1170" y="0"/>
                </a:lnTo>
                <a:lnTo>
                  <a:pt x="1150" y="2"/>
                </a:lnTo>
                <a:lnTo>
                  <a:pt x="1150" y="2"/>
                </a:lnTo>
                <a:lnTo>
                  <a:pt x="1142" y="4"/>
                </a:lnTo>
                <a:lnTo>
                  <a:pt x="1136" y="8"/>
                </a:lnTo>
                <a:lnTo>
                  <a:pt x="1132" y="14"/>
                </a:lnTo>
                <a:lnTo>
                  <a:pt x="1128" y="22"/>
                </a:lnTo>
                <a:lnTo>
                  <a:pt x="1128" y="22"/>
                </a:lnTo>
                <a:lnTo>
                  <a:pt x="1128" y="22"/>
                </a:lnTo>
                <a:lnTo>
                  <a:pt x="1116" y="40"/>
                </a:lnTo>
                <a:lnTo>
                  <a:pt x="1128" y="40"/>
                </a:lnTo>
                <a:lnTo>
                  <a:pt x="1128" y="40"/>
                </a:lnTo>
                <a:lnTo>
                  <a:pt x="1130" y="40"/>
                </a:lnTo>
                <a:lnTo>
                  <a:pt x="1130" y="40"/>
                </a:lnTo>
                <a:lnTo>
                  <a:pt x="1140" y="44"/>
                </a:lnTo>
                <a:lnTo>
                  <a:pt x="1142" y="44"/>
                </a:lnTo>
                <a:lnTo>
                  <a:pt x="1142" y="46"/>
                </a:lnTo>
                <a:lnTo>
                  <a:pt x="1142" y="48"/>
                </a:lnTo>
                <a:lnTo>
                  <a:pt x="1144" y="64"/>
                </a:lnTo>
                <a:lnTo>
                  <a:pt x="1150" y="80"/>
                </a:lnTo>
                <a:lnTo>
                  <a:pt x="1150" y="82"/>
                </a:lnTo>
                <a:lnTo>
                  <a:pt x="1150" y="82"/>
                </a:lnTo>
                <a:lnTo>
                  <a:pt x="1150" y="84"/>
                </a:lnTo>
                <a:lnTo>
                  <a:pt x="1122" y="136"/>
                </a:lnTo>
                <a:lnTo>
                  <a:pt x="1122" y="136"/>
                </a:lnTo>
                <a:lnTo>
                  <a:pt x="1120" y="142"/>
                </a:lnTo>
                <a:lnTo>
                  <a:pt x="1118" y="154"/>
                </a:lnTo>
                <a:lnTo>
                  <a:pt x="1114" y="190"/>
                </a:lnTo>
                <a:lnTo>
                  <a:pt x="1114" y="192"/>
                </a:lnTo>
                <a:lnTo>
                  <a:pt x="1104" y="212"/>
                </a:lnTo>
                <a:lnTo>
                  <a:pt x="1110" y="220"/>
                </a:lnTo>
                <a:lnTo>
                  <a:pt x="1110" y="222"/>
                </a:lnTo>
                <a:lnTo>
                  <a:pt x="1110" y="222"/>
                </a:lnTo>
                <a:lnTo>
                  <a:pt x="1110" y="236"/>
                </a:lnTo>
                <a:lnTo>
                  <a:pt x="1110" y="242"/>
                </a:lnTo>
                <a:lnTo>
                  <a:pt x="1108" y="244"/>
                </a:lnTo>
                <a:lnTo>
                  <a:pt x="1106" y="244"/>
                </a:lnTo>
                <a:lnTo>
                  <a:pt x="1106" y="244"/>
                </a:lnTo>
                <a:lnTo>
                  <a:pt x="1098" y="250"/>
                </a:lnTo>
                <a:lnTo>
                  <a:pt x="1088" y="262"/>
                </a:lnTo>
                <a:lnTo>
                  <a:pt x="1052" y="302"/>
                </a:lnTo>
                <a:lnTo>
                  <a:pt x="1050" y="304"/>
                </a:lnTo>
                <a:lnTo>
                  <a:pt x="1048" y="304"/>
                </a:lnTo>
                <a:lnTo>
                  <a:pt x="1046" y="302"/>
                </a:lnTo>
                <a:lnTo>
                  <a:pt x="1046" y="302"/>
                </a:lnTo>
                <a:lnTo>
                  <a:pt x="1030" y="292"/>
                </a:lnTo>
                <a:lnTo>
                  <a:pt x="1020" y="282"/>
                </a:lnTo>
                <a:lnTo>
                  <a:pt x="1020" y="282"/>
                </a:lnTo>
                <a:lnTo>
                  <a:pt x="1014" y="280"/>
                </a:lnTo>
                <a:lnTo>
                  <a:pt x="1008" y="278"/>
                </a:lnTo>
                <a:lnTo>
                  <a:pt x="982" y="276"/>
                </a:lnTo>
                <a:lnTo>
                  <a:pt x="982" y="314"/>
                </a:lnTo>
                <a:lnTo>
                  <a:pt x="982" y="314"/>
                </a:lnTo>
                <a:lnTo>
                  <a:pt x="966" y="384"/>
                </a:lnTo>
                <a:lnTo>
                  <a:pt x="966" y="384"/>
                </a:lnTo>
                <a:lnTo>
                  <a:pt x="964" y="392"/>
                </a:lnTo>
                <a:lnTo>
                  <a:pt x="964" y="402"/>
                </a:lnTo>
                <a:lnTo>
                  <a:pt x="962" y="432"/>
                </a:lnTo>
                <a:lnTo>
                  <a:pt x="968" y="440"/>
                </a:lnTo>
                <a:lnTo>
                  <a:pt x="974" y="430"/>
                </a:lnTo>
                <a:lnTo>
                  <a:pt x="974" y="430"/>
                </a:lnTo>
                <a:lnTo>
                  <a:pt x="974" y="428"/>
                </a:lnTo>
                <a:lnTo>
                  <a:pt x="994" y="420"/>
                </a:lnTo>
                <a:lnTo>
                  <a:pt x="1044" y="428"/>
                </a:lnTo>
                <a:lnTo>
                  <a:pt x="1050" y="420"/>
                </a:lnTo>
                <a:lnTo>
                  <a:pt x="1058" y="408"/>
                </a:lnTo>
                <a:lnTo>
                  <a:pt x="1058" y="408"/>
                </a:lnTo>
                <a:lnTo>
                  <a:pt x="1058" y="408"/>
                </a:lnTo>
                <a:lnTo>
                  <a:pt x="1060" y="406"/>
                </a:lnTo>
                <a:lnTo>
                  <a:pt x="1080" y="402"/>
                </a:lnTo>
                <a:lnTo>
                  <a:pt x="1106" y="400"/>
                </a:lnTo>
                <a:lnTo>
                  <a:pt x="1106" y="400"/>
                </a:lnTo>
                <a:lnTo>
                  <a:pt x="1112" y="404"/>
                </a:lnTo>
                <a:lnTo>
                  <a:pt x="1120" y="410"/>
                </a:lnTo>
                <a:lnTo>
                  <a:pt x="1136" y="428"/>
                </a:lnTo>
                <a:lnTo>
                  <a:pt x="1136" y="428"/>
                </a:lnTo>
                <a:lnTo>
                  <a:pt x="1158" y="440"/>
                </a:lnTo>
                <a:lnTo>
                  <a:pt x="1174" y="452"/>
                </a:lnTo>
                <a:lnTo>
                  <a:pt x="1184" y="462"/>
                </a:lnTo>
                <a:lnTo>
                  <a:pt x="1190" y="472"/>
                </a:lnTo>
                <a:lnTo>
                  <a:pt x="1190" y="472"/>
                </a:lnTo>
                <a:lnTo>
                  <a:pt x="1192" y="480"/>
                </a:lnTo>
                <a:lnTo>
                  <a:pt x="1190" y="488"/>
                </a:lnTo>
                <a:lnTo>
                  <a:pt x="1190" y="488"/>
                </a:lnTo>
                <a:lnTo>
                  <a:pt x="1186" y="492"/>
                </a:lnTo>
                <a:lnTo>
                  <a:pt x="1184" y="496"/>
                </a:lnTo>
                <a:lnTo>
                  <a:pt x="1174" y="498"/>
                </a:lnTo>
                <a:lnTo>
                  <a:pt x="1172" y="498"/>
                </a:lnTo>
                <a:lnTo>
                  <a:pt x="1172" y="498"/>
                </a:lnTo>
                <a:lnTo>
                  <a:pt x="1126" y="498"/>
                </a:lnTo>
                <a:lnTo>
                  <a:pt x="1112" y="498"/>
                </a:lnTo>
                <a:lnTo>
                  <a:pt x="1102" y="500"/>
                </a:lnTo>
                <a:lnTo>
                  <a:pt x="1084" y="512"/>
                </a:lnTo>
                <a:lnTo>
                  <a:pt x="1084" y="512"/>
                </a:lnTo>
                <a:lnTo>
                  <a:pt x="1054" y="532"/>
                </a:lnTo>
                <a:lnTo>
                  <a:pt x="1042" y="536"/>
                </a:lnTo>
                <a:lnTo>
                  <a:pt x="1034" y="538"/>
                </a:lnTo>
                <a:lnTo>
                  <a:pt x="1018" y="540"/>
                </a:lnTo>
                <a:lnTo>
                  <a:pt x="1010" y="580"/>
                </a:lnTo>
                <a:lnTo>
                  <a:pt x="1010" y="580"/>
                </a:lnTo>
                <a:lnTo>
                  <a:pt x="1004" y="596"/>
                </a:lnTo>
                <a:lnTo>
                  <a:pt x="1000" y="602"/>
                </a:lnTo>
                <a:lnTo>
                  <a:pt x="996" y="606"/>
                </a:lnTo>
                <a:lnTo>
                  <a:pt x="996" y="606"/>
                </a:lnTo>
                <a:lnTo>
                  <a:pt x="990" y="610"/>
                </a:lnTo>
                <a:lnTo>
                  <a:pt x="984" y="614"/>
                </a:lnTo>
                <a:lnTo>
                  <a:pt x="966" y="620"/>
                </a:lnTo>
                <a:lnTo>
                  <a:pt x="966" y="620"/>
                </a:lnTo>
                <a:lnTo>
                  <a:pt x="956" y="622"/>
                </a:lnTo>
                <a:lnTo>
                  <a:pt x="946" y="626"/>
                </a:lnTo>
                <a:lnTo>
                  <a:pt x="926" y="634"/>
                </a:lnTo>
                <a:lnTo>
                  <a:pt x="914" y="664"/>
                </a:lnTo>
                <a:lnTo>
                  <a:pt x="912" y="664"/>
                </a:lnTo>
                <a:lnTo>
                  <a:pt x="912" y="664"/>
                </a:lnTo>
                <a:lnTo>
                  <a:pt x="910" y="664"/>
                </a:lnTo>
                <a:lnTo>
                  <a:pt x="874" y="680"/>
                </a:lnTo>
                <a:lnTo>
                  <a:pt x="872" y="680"/>
                </a:lnTo>
                <a:lnTo>
                  <a:pt x="854" y="676"/>
                </a:lnTo>
                <a:lnTo>
                  <a:pt x="854" y="676"/>
                </a:lnTo>
                <a:lnTo>
                  <a:pt x="834" y="670"/>
                </a:lnTo>
                <a:lnTo>
                  <a:pt x="820" y="664"/>
                </a:lnTo>
                <a:lnTo>
                  <a:pt x="820" y="664"/>
                </a:lnTo>
                <a:lnTo>
                  <a:pt x="814" y="662"/>
                </a:lnTo>
                <a:lnTo>
                  <a:pt x="806" y="660"/>
                </a:lnTo>
                <a:lnTo>
                  <a:pt x="798" y="660"/>
                </a:lnTo>
                <a:lnTo>
                  <a:pt x="790" y="662"/>
                </a:lnTo>
                <a:lnTo>
                  <a:pt x="790" y="662"/>
                </a:lnTo>
                <a:lnTo>
                  <a:pt x="784" y="672"/>
                </a:lnTo>
                <a:lnTo>
                  <a:pt x="778" y="684"/>
                </a:lnTo>
                <a:lnTo>
                  <a:pt x="776" y="698"/>
                </a:lnTo>
                <a:lnTo>
                  <a:pt x="776" y="710"/>
                </a:lnTo>
                <a:lnTo>
                  <a:pt x="776" y="710"/>
                </a:lnTo>
                <a:lnTo>
                  <a:pt x="778" y="722"/>
                </a:lnTo>
                <a:lnTo>
                  <a:pt x="782" y="728"/>
                </a:lnTo>
                <a:lnTo>
                  <a:pt x="786" y="728"/>
                </a:lnTo>
                <a:lnTo>
                  <a:pt x="794" y="724"/>
                </a:lnTo>
                <a:lnTo>
                  <a:pt x="794" y="748"/>
                </a:lnTo>
                <a:lnTo>
                  <a:pt x="794" y="748"/>
                </a:lnTo>
                <a:lnTo>
                  <a:pt x="794" y="756"/>
                </a:lnTo>
                <a:lnTo>
                  <a:pt x="792" y="760"/>
                </a:lnTo>
                <a:lnTo>
                  <a:pt x="790" y="764"/>
                </a:lnTo>
                <a:lnTo>
                  <a:pt x="786" y="768"/>
                </a:lnTo>
                <a:lnTo>
                  <a:pt x="786" y="768"/>
                </a:lnTo>
                <a:lnTo>
                  <a:pt x="776" y="774"/>
                </a:lnTo>
                <a:lnTo>
                  <a:pt x="764" y="778"/>
                </a:lnTo>
                <a:lnTo>
                  <a:pt x="758" y="780"/>
                </a:lnTo>
                <a:lnTo>
                  <a:pt x="758" y="780"/>
                </a:lnTo>
                <a:lnTo>
                  <a:pt x="750" y="786"/>
                </a:lnTo>
                <a:lnTo>
                  <a:pt x="738" y="798"/>
                </a:lnTo>
                <a:lnTo>
                  <a:pt x="724" y="818"/>
                </a:lnTo>
                <a:lnTo>
                  <a:pt x="708" y="844"/>
                </a:lnTo>
                <a:lnTo>
                  <a:pt x="708" y="844"/>
                </a:lnTo>
                <a:lnTo>
                  <a:pt x="706" y="844"/>
                </a:lnTo>
                <a:lnTo>
                  <a:pt x="682" y="860"/>
                </a:lnTo>
                <a:lnTo>
                  <a:pt x="682" y="860"/>
                </a:lnTo>
                <a:lnTo>
                  <a:pt x="688" y="860"/>
                </a:lnTo>
                <a:lnTo>
                  <a:pt x="688" y="862"/>
                </a:lnTo>
                <a:lnTo>
                  <a:pt x="688" y="864"/>
                </a:lnTo>
                <a:lnTo>
                  <a:pt x="688" y="864"/>
                </a:lnTo>
                <a:lnTo>
                  <a:pt x="686" y="868"/>
                </a:lnTo>
                <a:lnTo>
                  <a:pt x="678" y="868"/>
                </a:lnTo>
                <a:lnTo>
                  <a:pt x="610" y="868"/>
                </a:lnTo>
                <a:lnTo>
                  <a:pt x="610" y="868"/>
                </a:lnTo>
                <a:lnTo>
                  <a:pt x="584" y="868"/>
                </a:lnTo>
                <a:lnTo>
                  <a:pt x="558" y="870"/>
                </a:lnTo>
                <a:lnTo>
                  <a:pt x="532" y="874"/>
                </a:lnTo>
                <a:lnTo>
                  <a:pt x="510" y="882"/>
                </a:lnTo>
                <a:lnTo>
                  <a:pt x="488" y="890"/>
                </a:lnTo>
                <a:lnTo>
                  <a:pt x="468" y="900"/>
                </a:lnTo>
                <a:lnTo>
                  <a:pt x="450" y="914"/>
                </a:lnTo>
                <a:lnTo>
                  <a:pt x="434" y="928"/>
                </a:lnTo>
                <a:lnTo>
                  <a:pt x="432" y="930"/>
                </a:lnTo>
                <a:lnTo>
                  <a:pt x="430" y="930"/>
                </a:lnTo>
                <a:lnTo>
                  <a:pt x="430" y="930"/>
                </a:lnTo>
                <a:lnTo>
                  <a:pt x="402" y="934"/>
                </a:lnTo>
                <a:lnTo>
                  <a:pt x="400" y="934"/>
                </a:lnTo>
                <a:lnTo>
                  <a:pt x="398" y="934"/>
                </a:lnTo>
                <a:lnTo>
                  <a:pt x="390" y="916"/>
                </a:lnTo>
                <a:lnTo>
                  <a:pt x="362" y="922"/>
                </a:lnTo>
                <a:lnTo>
                  <a:pt x="362" y="922"/>
                </a:lnTo>
                <a:lnTo>
                  <a:pt x="350" y="922"/>
                </a:lnTo>
                <a:lnTo>
                  <a:pt x="336" y="920"/>
                </a:lnTo>
                <a:lnTo>
                  <a:pt x="320" y="916"/>
                </a:lnTo>
                <a:lnTo>
                  <a:pt x="304" y="908"/>
                </a:lnTo>
                <a:lnTo>
                  <a:pt x="304" y="908"/>
                </a:lnTo>
                <a:lnTo>
                  <a:pt x="290" y="900"/>
                </a:lnTo>
                <a:lnTo>
                  <a:pt x="274" y="892"/>
                </a:lnTo>
                <a:lnTo>
                  <a:pt x="246" y="872"/>
                </a:lnTo>
                <a:lnTo>
                  <a:pt x="246" y="872"/>
                </a:lnTo>
                <a:lnTo>
                  <a:pt x="238" y="866"/>
                </a:lnTo>
                <a:lnTo>
                  <a:pt x="226" y="860"/>
                </a:lnTo>
                <a:lnTo>
                  <a:pt x="214" y="856"/>
                </a:lnTo>
                <a:lnTo>
                  <a:pt x="202" y="854"/>
                </a:lnTo>
                <a:lnTo>
                  <a:pt x="176" y="852"/>
                </a:lnTo>
                <a:lnTo>
                  <a:pt x="148" y="856"/>
                </a:lnTo>
                <a:lnTo>
                  <a:pt x="148" y="856"/>
                </a:lnTo>
                <a:lnTo>
                  <a:pt x="116" y="858"/>
                </a:lnTo>
                <a:lnTo>
                  <a:pt x="86" y="856"/>
                </a:lnTo>
                <a:lnTo>
                  <a:pt x="86" y="856"/>
                </a:lnTo>
                <a:lnTo>
                  <a:pt x="68" y="854"/>
                </a:lnTo>
                <a:lnTo>
                  <a:pt x="48" y="852"/>
                </a:lnTo>
                <a:lnTo>
                  <a:pt x="2" y="838"/>
                </a:lnTo>
                <a:lnTo>
                  <a:pt x="0" y="844"/>
                </a:lnTo>
                <a:lnTo>
                  <a:pt x="0" y="844"/>
                </a:lnTo>
                <a:lnTo>
                  <a:pt x="2" y="844"/>
                </a:lnTo>
                <a:lnTo>
                  <a:pt x="2" y="844"/>
                </a:lnTo>
                <a:lnTo>
                  <a:pt x="2" y="844"/>
                </a:lnTo>
                <a:lnTo>
                  <a:pt x="2" y="852"/>
                </a:lnTo>
                <a:lnTo>
                  <a:pt x="10" y="868"/>
                </a:lnTo>
                <a:lnTo>
                  <a:pt x="26" y="888"/>
                </a:lnTo>
                <a:lnTo>
                  <a:pt x="28" y="892"/>
                </a:lnTo>
                <a:lnTo>
                  <a:pt x="24" y="906"/>
                </a:lnTo>
                <a:lnTo>
                  <a:pt x="24" y="908"/>
                </a:lnTo>
                <a:lnTo>
                  <a:pt x="24" y="908"/>
                </a:lnTo>
                <a:lnTo>
                  <a:pt x="14" y="920"/>
                </a:lnTo>
                <a:lnTo>
                  <a:pt x="24" y="930"/>
                </a:lnTo>
                <a:lnTo>
                  <a:pt x="24" y="930"/>
                </a:lnTo>
                <a:lnTo>
                  <a:pt x="30" y="936"/>
                </a:lnTo>
                <a:lnTo>
                  <a:pt x="30" y="940"/>
                </a:lnTo>
                <a:lnTo>
                  <a:pt x="34" y="956"/>
                </a:lnTo>
                <a:lnTo>
                  <a:pt x="46" y="968"/>
                </a:lnTo>
                <a:lnTo>
                  <a:pt x="46" y="970"/>
                </a:lnTo>
                <a:lnTo>
                  <a:pt x="46" y="980"/>
                </a:lnTo>
                <a:lnTo>
                  <a:pt x="46" y="988"/>
                </a:lnTo>
                <a:lnTo>
                  <a:pt x="54" y="994"/>
                </a:lnTo>
                <a:lnTo>
                  <a:pt x="58" y="992"/>
                </a:lnTo>
                <a:lnTo>
                  <a:pt x="60" y="990"/>
                </a:lnTo>
                <a:lnTo>
                  <a:pt x="60" y="990"/>
                </a:lnTo>
                <a:lnTo>
                  <a:pt x="64" y="982"/>
                </a:lnTo>
                <a:lnTo>
                  <a:pt x="72" y="980"/>
                </a:lnTo>
                <a:lnTo>
                  <a:pt x="78" y="976"/>
                </a:lnTo>
                <a:lnTo>
                  <a:pt x="120" y="972"/>
                </a:lnTo>
                <a:lnTo>
                  <a:pt x="138" y="966"/>
                </a:lnTo>
                <a:lnTo>
                  <a:pt x="138" y="966"/>
                </a:lnTo>
                <a:lnTo>
                  <a:pt x="142" y="964"/>
                </a:lnTo>
                <a:lnTo>
                  <a:pt x="150" y="984"/>
                </a:lnTo>
                <a:lnTo>
                  <a:pt x="150" y="984"/>
                </a:lnTo>
                <a:lnTo>
                  <a:pt x="150" y="984"/>
                </a:lnTo>
                <a:lnTo>
                  <a:pt x="150" y="984"/>
                </a:lnTo>
                <a:lnTo>
                  <a:pt x="150" y="990"/>
                </a:lnTo>
                <a:lnTo>
                  <a:pt x="148" y="996"/>
                </a:lnTo>
                <a:lnTo>
                  <a:pt x="126" y="1028"/>
                </a:lnTo>
                <a:lnTo>
                  <a:pt x="126" y="1034"/>
                </a:lnTo>
                <a:lnTo>
                  <a:pt x="138" y="1044"/>
                </a:lnTo>
                <a:lnTo>
                  <a:pt x="148" y="1052"/>
                </a:lnTo>
                <a:lnTo>
                  <a:pt x="148" y="1052"/>
                </a:lnTo>
                <a:lnTo>
                  <a:pt x="148" y="1052"/>
                </a:lnTo>
                <a:lnTo>
                  <a:pt x="156" y="1060"/>
                </a:lnTo>
                <a:lnTo>
                  <a:pt x="162" y="1064"/>
                </a:lnTo>
                <a:lnTo>
                  <a:pt x="162" y="1064"/>
                </a:lnTo>
                <a:lnTo>
                  <a:pt x="170" y="1068"/>
                </a:lnTo>
                <a:lnTo>
                  <a:pt x="178" y="1076"/>
                </a:lnTo>
                <a:lnTo>
                  <a:pt x="178" y="1078"/>
                </a:lnTo>
                <a:lnTo>
                  <a:pt x="186" y="1082"/>
                </a:lnTo>
                <a:lnTo>
                  <a:pt x="190" y="1082"/>
                </a:lnTo>
                <a:lnTo>
                  <a:pt x="190" y="1082"/>
                </a:lnTo>
                <a:lnTo>
                  <a:pt x="192" y="1092"/>
                </a:lnTo>
                <a:lnTo>
                  <a:pt x="192" y="1092"/>
                </a:lnTo>
                <a:lnTo>
                  <a:pt x="194" y="1100"/>
                </a:lnTo>
                <a:lnTo>
                  <a:pt x="196" y="1112"/>
                </a:lnTo>
                <a:lnTo>
                  <a:pt x="216" y="1116"/>
                </a:lnTo>
                <a:lnTo>
                  <a:pt x="218" y="1116"/>
                </a:lnTo>
                <a:lnTo>
                  <a:pt x="218" y="1116"/>
                </a:lnTo>
                <a:lnTo>
                  <a:pt x="218" y="1118"/>
                </a:lnTo>
                <a:lnTo>
                  <a:pt x="220" y="1120"/>
                </a:lnTo>
                <a:lnTo>
                  <a:pt x="226" y="1130"/>
                </a:lnTo>
                <a:lnTo>
                  <a:pt x="242" y="1136"/>
                </a:lnTo>
                <a:lnTo>
                  <a:pt x="252" y="1130"/>
                </a:lnTo>
                <a:lnTo>
                  <a:pt x="250" y="1124"/>
                </a:lnTo>
                <a:lnTo>
                  <a:pt x="240" y="1114"/>
                </a:lnTo>
                <a:lnTo>
                  <a:pt x="242" y="1112"/>
                </a:lnTo>
                <a:lnTo>
                  <a:pt x="242" y="1112"/>
                </a:lnTo>
                <a:lnTo>
                  <a:pt x="250" y="1094"/>
                </a:lnTo>
                <a:lnTo>
                  <a:pt x="270" y="1094"/>
                </a:lnTo>
                <a:lnTo>
                  <a:pt x="270" y="1096"/>
                </a:lnTo>
                <a:lnTo>
                  <a:pt x="298" y="1104"/>
                </a:lnTo>
                <a:lnTo>
                  <a:pt x="314" y="1102"/>
                </a:lnTo>
                <a:lnTo>
                  <a:pt x="326" y="1092"/>
                </a:lnTo>
                <a:lnTo>
                  <a:pt x="326" y="1092"/>
                </a:lnTo>
                <a:lnTo>
                  <a:pt x="334" y="1080"/>
                </a:lnTo>
                <a:lnTo>
                  <a:pt x="342" y="1074"/>
                </a:lnTo>
                <a:lnTo>
                  <a:pt x="348" y="1070"/>
                </a:lnTo>
                <a:lnTo>
                  <a:pt x="354" y="1072"/>
                </a:lnTo>
                <a:lnTo>
                  <a:pt x="360" y="1070"/>
                </a:lnTo>
                <a:lnTo>
                  <a:pt x="360" y="1070"/>
                </a:lnTo>
                <a:lnTo>
                  <a:pt x="368" y="1072"/>
                </a:lnTo>
                <a:lnTo>
                  <a:pt x="374" y="1072"/>
                </a:lnTo>
                <a:lnTo>
                  <a:pt x="374" y="1072"/>
                </a:lnTo>
                <a:lnTo>
                  <a:pt x="374" y="1076"/>
                </a:lnTo>
                <a:lnTo>
                  <a:pt x="374" y="1076"/>
                </a:lnTo>
                <a:lnTo>
                  <a:pt x="378" y="1084"/>
                </a:lnTo>
                <a:lnTo>
                  <a:pt x="382" y="1096"/>
                </a:lnTo>
                <a:lnTo>
                  <a:pt x="382" y="1096"/>
                </a:lnTo>
                <a:lnTo>
                  <a:pt x="382" y="1096"/>
                </a:lnTo>
                <a:lnTo>
                  <a:pt x="386" y="1108"/>
                </a:lnTo>
                <a:lnTo>
                  <a:pt x="386" y="1110"/>
                </a:lnTo>
                <a:lnTo>
                  <a:pt x="382" y="1124"/>
                </a:lnTo>
                <a:lnTo>
                  <a:pt x="382" y="1124"/>
                </a:lnTo>
                <a:lnTo>
                  <a:pt x="382" y="1124"/>
                </a:lnTo>
                <a:lnTo>
                  <a:pt x="382" y="1124"/>
                </a:lnTo>
                <a:lnTo>
                  <a:pt x="368" y="1140"/>
                </a:lnTo>
                <a:lnTo>
                  <a:pt x="366" y="1142"/>
                </a:lnTo>
                <a:lnTo>
                  <a:pt x="366" y="1142"/>
                </a:lnTo>
                <a:lnTo>
                  <a:pt x="338" y="1154"/>
                </a:lnTo>
                <a:lnTo>
                  <a:pt x="334" y="1162"/>
                </a:lnTo>
                <a:lnTo>
                  <a:pt x="330" y="1186"/>
                </a:lnTo>
                <a:lnTo>
                  <a:pt x="332" y="1196"/>
                </a:lnTo>
                <a:lnTo>
                  <a:pt x="340" y="1208"/>
                </a:lnTo>
                <a:lnTo>
                  <a:pt x="342" y="1212"/>
                </a:lnTo>
                <a:lnTo>
                  <a:pt x="352" y="1218"/>
                </a:lnTo>
                <a:lnTo>
                  <a:pt x="386" y="1218"/>
                </a:lnTo>
                <a:lnTo>
                  <a:pt x="414" y="1214"/>
                </a:lnTo>
                <a:lnTo>
                  <a:pt x="418" y="1210"/>
                </a:lnTo>
                <a:lnTo>
                  <a:pt x="418" y="1210"/>
                </a:lnTo>
                <a:lnTo>
                  <a:pt x="424" y="1204"/>
                </a:lnTo>
                <a:lnTo>
                  <a:pt x="428" y="1204"/>
                </a:lnTo>
                <a:lnTo>
                  <a:pt x="448" y="1206"/>
                </a:lnTo>
                <a:lnTo>
                  <a:pt x="450" y="1204"/>
                </a:lnTo>
                <a:lnTo>
                  <a:pt x="450" y="1204"/>
                </a:lnTo>
                <a:lnTo>
                  <a:pt x="448" y="1196"/>
                </a:lnTo>
                <a:lnTo>
                  <a:pt x="450" y="1188"/>
                </a:lnTo>
                <a:lnTo>
                  <a:pt x="458" y="1174"/>
                </a:lnTo>
                <a:lnTo>
                  <a:pt x="458" y="1148"/>
                </a:lnTo>
                <a:lnTo>
                  <a:pt x="458" y="1148"/>
                </a:lnTo>
                <a:lnTo>
                  <a:pt x="474" y="1106"/>
                </a:lnTo>
                <a:lnTo>
                  <a:pt x="474" y="1106"/>
                </a:lnTo>
                <a:lnTo>
                  <a:pt x="474" y="1104"/>
                </a:lnTo>
                <a:lnTo>
                  <a:pt x="474" y="1104"/>
                </a:lnTo>
                <a:lnTo>
                  <a:pt x="474" y="1104"/>
                </a:lnTo>
                <a:lnTo>
                  <a:pt x="500" y="1084"/>
                </a:lnTo>
                <a:lnTo>
                  <a:pt x="502" y="1082"/>
                </a:lnTo>
                <a:lnTo>
                  <a:pt x="522" y="1092"/>
                </a:lnTo>
                <a:lnTo>
                  <a:pt x="522" y="1092"/>
                </a:lnTo>
                <a:lnTo>
                  <a:pt x="522" y="1092"/>
                </a:lnTo>
                <a:lnTo>
                  <a:pt x="536" y="1102"/>
                </a:lnTo>
                <a:lnTo>
                  <a:pt x="538" y="1108"/>
                </a:lnTo>
                <a:lnTo>
                  <a:pt x="540" y="1110"/>
                </a:lnTo>
                <a:lnTo>
                  <a:pt x="538" y="1128"/>
                </a:lnTo>
                <a:lnTo>
                  <a:pt x="530" y="1140"/>
                </a:lnTo>
                <a:lnTo>
                  <a:pt x="526" y="1156"/>
                </a:lnTo>
                <a:lnTo>
                  <a:pt x="526" y="1172"/>
                </a:lnTo>
                <a:lnTo>
                  <a:pt x="530" y="1180"/>
                </a:lnTo>
                <a:lnTo>
                  <a:pt x="538" y="1180"/>
                </a:lnTo>
                <a:lnTo>
                  <a:pt x="540" y="1180"/>
                </a:lnTo>
                <a:lnTo>
                  <a:pt x="552" y="1180"/>
                </a:lnTo>
                <a:lnTo>
                  <a:pt x="552" y="1180"/>
                </a:lnTo>
                <a:lnTo>
                  <a:pt x="556" y="1182"/>
                </a:lnTo>
                <a:lnTo>
                  <a:pt x="560" y="1186"/>
                </a:lnTo>
                <a:lnTo>
                  <a:pt x="566" y="1196"/>
                </a:lnTo>
                <a:lnTo>
                  <a:pt x="572" y="1200"/>
                </a:lnTo>
                <a:lnTo>
                  <a:pt x="574" y="1200"/>
                </a:lnTo>
                <a:lnTo>
                  <a:pt x="574" y="1200"/>
                </a:lnTo>
                <a:lnTo>
                  <a:pt x="574" y="1200"/>
                </a:lnTo>
                <a:lnTo>
                  <a:pt x="602" y="1212"/>
                </a:lnTo>
                <a:lnTo>
                  <a:pt x="614" y="1216"/>
                </a:lnTo>
                <a:lnTo>
                  <a:pt x="630" y="1214"/>
                </a:lnTo>
                <a:lnTo>
                  <a:pt x="638" y="1204"/>
                </a:lnTo>
                <a:lnTo>
                  <a:pt x="646" y="1164"/>
                </a:lnTo>
                <a:lnTo>
                  <a:pt x="648" y="1144"/>
                </a:lnTo>
                <a:lnTo>
                  <a:pt x="648" y="1142"/>
                </a:lnTo>
                <a:lnTo>
                  <a:pt x="650" y="1140"/>
                </a:lnTo>
                <a:lnTo>
                  <a:pt x="650" y="1140"/>
                </a:lnTo>
                <a:lnTo>
                  <a:pt x="666" y="1128"/>
                </a:lnTo>
                <a:lnTo>
                  <a:pt x="674" y="1116"/>
                </a:lnTo>
                <a:lnTo>
                  <a:pt x="674" y="1116"/>
                </a:lnTo>
                <a:lnTo>
                  <a:pt x="690" y="1108"/>
                </a:lnTo>
                <a:lnTo>
                  <a:pt x="700" y="1102"/>
                </a:lnTo>
                <a:lnTo>
                  <a:pt x="712" y="1098"/>
                </a:lnTo>
                <a:lnTo>
                  <a:pt x="706" y="1074"/>
                </a:lnTo>
                <a:lnTo>
                  <a:pt x="734" y="1076"/>
                </a:lnTo>
                <a:lnTo>
                  <a:pt x="734" y="1076"/>
                </a:lnTo>
                <a:lnTo>
                  <a:pt x="734" y="1078"/>
                </a:lnTo>
                <a:lnTo>
                  <a:pt x="734" y="1078"/>
                </a:lnTo>
                <a:lnTo>
                  <a:pt x="748" y="1084"/>
                </a:lnTo>
                <a:lnTo>
                  <a:pt x="748" y="1084"/>
                </a:lnTo>
                <a:lnTo>
                  <a:pt x="748" y="1082"/>
                </a:lnTo>
                <a:lnTo>
                  <a:pt x="752" y="1068"/>
                </a:lnTo>
                <a:lnTo>
                  <a:pt x="752" y="1064"/>
                </a:lnTo>
                <a:lnTo>
                  <a:pt x="754" y="1066"/>
                </a:lnTo>
                <a:lnTo>
                  <a:pt x="756" y="1066"/>
                </a:lnTo>
                <a:lnTo>
                  <a:pt x="768" y="1068"/>
                </a:lnTo>
                <a:lnTo>
                  <a:pt x="774" y="1068"/>
                </a:lnTo>
                <a:lnTo>
                  <a:pt x="786" y="1056"/>
                </a:lnTo>
                <a:lnTo>
                  <a:pt x="788" y="1056"/>
                </a:lnTo>
                <a:lnTo>
                  <a:pt x="788" y="1054"/>
                </a:lnTo>
                <a:lnTo>
                  <a:pt x="790" y="1054"/>
                </a:lnTo>
                <a:lnTo>
                  <a:pt x="806" y="1052"/>
                </a:lnTo>
                <a:lnTo>
                  <a:pt x="818" y="1038"/>
                </a:lnTo>
                <a:lnTo>
                  <a:pt x="826" y="1028"/>
                </a:lnTo>
                <a:lnTo>
                  <a:pt x="826" y="1016"/>
                </a:lnTo>
                <a:lnTo>
                  <a:pt x="826" y="1016"/>
                </a:lnTo>
                <a:lnTo>
                  <a:pt x="828" y="1010"/>
                </a:lnTo>
                <a:lnTo>
                  <a:pt x="834" y="1004"/>
                </a:lnTo>
                <a:lnTo>
                  <a:pt x="834" y="1004"/>
                </a:lnTo>
                <a:lnTo>
                  <a:pt x="834" y="1004"/>
                </a:lnTo>
                <a:lnTo>
                  <a:pt x="836" y="1004"/>
                </a:lnTo>
                <a:lnTo>
                  <a:pt x="850" y="1006"/>
                </a:lnTo>
                <a:lnTo>
                  <a:pt x="858" y="1002"/>
                </a:lnTo>
                <a:lnTo>
                  <a:pt x="860" y="992"/>
                </a:lnTo>
                <a:lnTo>
                  <a:pt x="876" y="986"/>
                </a:lnTo>
                <a:lnTo>
                  <a:pt x="876" y="986"/>
                </a:lnTo>
                <a:lnTo>
                  <a:pt x="878" y="986"/>
                </a:lnTo>
                <a:lnTo>
                  <a:pt x="878" y="986"/>
                </a:lnTo>
                <a:lnTo>
                  <a:pt x="898" y="988"/>
                </a:lnTo>
                <a:lnTo>
                  <a:pt x="914" y="984"/>
                </a:lnTo>
                <a:lnTo>
                  <a:pt x="922" y="976"/>
                </a:lnTo>
                <a:lnTo>
                  <a:pt x="930" y="962"/>
                </a:lnTo>
                <a:lnTo>
                  <a:pt x="918" y="950"/>
                </a:lnTo>
                <a:lnTo>
                  <a:pt x="918" y="948"/>
                </a:lnTo>
                <a:lnTo>
                  <a:pt x="918" y="948"/>
                </a:lnTo>
                <a:lnTo>
                  <a:pt x="914" y="940"/>
                </a:lnTo>
                <a:lnTo>
                  <a:pt x="914" y="940"/>
                </a:lnTo>
                <a:lnTo>
                  <a:pt x="912" y="924"/>
                </a:lnTo>
                <a:lnTo>
                  <a:pt x="912" y="924"/>
                </a:lnTo>
                <a:lnTo>
                  <a:pt x="918" y="912"/>
                </a:lnTo>
                <a:lnTo>
                  <a:pt x="918" y="912"/>
                </a:lnTo>
                <a:lnTo>
                  <a:pt x="920" y="904"/>
                </a:lnTo>
                <a:lnTo>
                  <a:pt x="928" y="896"/>
                </a:lnTo>
                <a:lnTo>
                  <a:pt x="936" y="878"/>
                </a:lnTo>
                <a:lnTo>
                  <a:pt x="936" y="876"/>
                </a:lnTo>
                <a:lnTo>
                  <a:pt x="938" y="876"/>
                </a:lnTo>
                <a:lnTo>
                  <a:pt x="946" y="864"/>
                </a:lnTo>
                <a:lnTo>
                  <a:pt x="958" y="840"/>
                </a:lnTo>
                <a:lnTo>
                  <a:pt x="968" y="856"/>
                </a:lnTo>
                <a:lnTo>
                  <a:pt x="970" y="856"/>
                </a:lnTo>
                <a:lnTo>
                  <a:pt x="970" y="858"/>
                </a:lnTo>
                <a:lnTo>
                  <a:pt x="974" y="874"/>
                </a:lnTo>
                <a:lnTo>
                  <a:pt x="974" y="874"/>
                </a:lnTo>
                <a:lnTo>
                  <a:pt x="976" y="890"/>
                </a:lnTo>
                <a:lnTo>
                  <a:pt x="986" y="896"/>
                </a:lnTo>
                <a:lnTo>
                  <a:pt x="988" y="896"/>
                </a:lnTo>
                <a:lnTo>
                  <a:pt x="988" y="896"/>
                </a:lnTo>
                <a:lnTo>
                  <a:pt x="988" y="896"/>
                </a:lnTo>
                <a:lnTo>
                  <a:pt x="990" y="896"/>
                </a:lnTo>
                <a:lnTo>
                  <a:pt x="992" y="896"/>
                </a:lnTo>
                <a:lnTo>
                  <a:pt x="1002" y="880"/>
                </a:lnTo>
                <a:lnTo>
                  <a:pt x="1006" y="864"/>
                </a:lnTo>
                <a:lnTo>
                  <a:pt x="1010" y="864"/>
                </a:lnTo>
                <a:lnTo>
                  <a:pt x="1012" y="864"/>
                </a:lnTo>
                <a:lnTo>
                  <a:pt x="1034" y="872"/>
                </a:lnTo>
                <a:lnTo>
                  <a:pt x="1046" y="864"/>
                </a:lnTo>
                <a:lnTo>
                  <a:pt x="1046" y="864"/>
                </a:lnTo>
                <a:lnTo>
                  <a:pt x="1048" y="864"/>
                </a:lnTo>
                <a:lnTo>
                  <a:pt x="1060" y="862"/>
                </a:lnTo>
                <a:lnTo>
                  <a:pt x="1068" y="848"/>
                </a:lnTo>
                <a:lnTo>
                  <a:pt x="1068" y="832"/>
                </a:lnTo>
                <a:lnTo>
                  <a:pt x="1074" y="806"/>
                </a:lnTo>
                <a:lnTo>
                  <a:pt x="1074" y="808"/>
                </a:lnTo>
                <a:lnTo>
                  <a:pt x="1078" y="808"/>
                </a:lnTo>
                <a:lnTo>
                  <a:pt x="1094" y="812"/>
                </a:lnTo>
                <a:lnTo>
                  <a:pt x="1102" y="796"/>
                </a:lnTo>
                <a:lnTo>
                  <a:pt x="1104" y="796"/>
                </a:lnTo>
                <a:lnTo>
                  <a:pt x="1106" y="796"/>
                </a:lnTo>
                <a:lnTo>
                  <a:pt x="1122" y="796"/>
                </a:lnTo>
                <a:lnTo>
                  <a:pt x="1124" y="796"/>
                </a:lnTo>
                <a:lnTo>
                  <a:pt x="1124" y="796"/>
                </a:lnTo>
                <a:lnTo>
                  <a:pt x="1126" y="796"/>
                </a:lnTo>
                <a:lnTo>
                  <a:pt x="1134" y="808"/>
                </a:lnTo>
                <a:lnTo>
                  <a:pt x="1134" y="808"/>
                </a:lnTo>
                <a:lnTo>
                  <a:pt x="1134" y="810"/>
                </a:lnTo>
                <a:lnTo>
                  <a:pt x="1134" y="812"/>
                </a:lnTo>
                <a:lnTo>
                  <a:pt x="1136" y="828"/>
                </a:lnTo>
                <a:lnTo>
                  <a:pt x="1144" y="834"/>
                </a:lnTo>
                <a:lnTo>
                  <a:pt x="1154" y="824"/>
                </a:lnTo>
                <a:lnTo>
                  <a:pt x="1158" y="828"/>
                </a:lnTo>
                <a:lnTo>
                  <a:pt x="1158" y="828"/>
                </a:lnTo>
                <a:lnTo>
                  <a:pt x="1162" y="834"/>
                </a:lnTo>
                <a:lnTo>
                  <a:pt x="1162" y="840"/>
                </a:lnTo>
                <a:lnTo>
                  <a:pt x="1162" y="854"/>
                </a:lnTo>
                <a:lnTo>
                  <a:pt x="1158" y="868"/>
                </a:lnTo>
                <a:lnTo>
                  <a:pt x="1162" y="876"/>
                </a:lnTo>
                <a:lnTo>
                  <a:pt x="1170" y="884"/>
                </a:lnTo>
                <a:lnTo>
                  <a:pt x="1202" y="888"/>
                </a:lnTo>
                <a:lnTo>
                  <a:pt x="1204" y="890"/>
                </a:lnTo>
                <a:lnTo>
                  <a:pt x="1204" y="890"/>
                </a:lnTo>
                <a:lnTo>
                  <a:pt x="1206" y="890"/>
                </a:lnTo>
                <a:lnTo>
                  <a:pt x="1206" y="890"/>
                </a:lnTo>
                <a:lnTo>
                  <a:pt x="1208" y="892"/>
                </a:lnTo>
                <a:lnTo>
                  <a:pt x="1218" y="880"/>
                </a:lnTo>
                <a:lnTo>
                  <a:pt x="1218" y="880"/>
                </a:lnTo>
                <a:lnTo>
                  <a:pt x="1226" y="872"/>
                </a:lnTo>
                <a:lnTo>
                  <a:pt x="1222" y="860"/>
                </a:lnTo>
                <a:lnTo>
                  <a:pt x="1214" y="808"/>
                </a:lnTo>
                <a:lnTo>
                  <a:pt x="1238" y="820"/>
                </a:lnTo>
                <a:lnTo>
                  <a:pt x="1238" y="820"/>
                </a:lnTo>
                <a:lnTo>
                  <a:pt x="1238" y="820"/>
                </a:lnTo>
                <a:lnTo>
                  <a:pt x="1250" y="832"/>
                </a:lnTo>
                <a:lnTo>
                  <a:pt x="1256" y="838"/>
                </a:lnTo>
                <a:lnTo>
                  <a:pt x="1266" y="832"/>
                </a:lnTo>
                <a:lnTo>
                  <a:pt x="1298" y="796"/>
                </a:lnTo>
                <a:lnTo>
                  <a:pt x="1298" y="796"/>
                </a:lnTo>
                <a:lnTo>
                  <a:pt x="1300" y="796"/>
                </a:lnTo>
                <a:lnTo>
                  <a:pt x="1312" y="786"/>
                </a:lnTo>
                <a:lnTo>
                  <a:pt x="1326" y="768"/>
                </a:lnTo>
                <a:lnTo>
                  <a:pt x="1326" y="766"/>
                </a:lnTo>
                <a:lnTo>
                  <a:pt x="1344" y="770"/>
                </a:lnTo>
                <a:lnTo>
                  <a:pt x="1354" y="770"/>
                </a:lnTo>
                <a:lnTo>
                  <a:pt x="1354" y="770"/>
                </a:lnTo>
                <a:lnTo>
                  <a:pt x="1354" y="762"/>
                </a:lnTo>
                <a:lnTo>
                  <a:pt x="1356" y="756"/>
                </a:lnTo>
                <a:lnTo>
                  <a:pt x="1370" y="740"/>
                </a:lnTo>
                <a:lnTo>
                  <a:pt x="1374" y="736"/>
                </a:lnTo>
                <a:lnTo>
                  <a:pt x="1390" y="742"/>
                </a:lnTo>
                <a:lnTo>
                  <a:pt x="1408" y="740"/>
                </a:lnTo>
                <a:lnTo>
                  <a:pt x="1422" y="726"/>
                </a:lnTo>
                <a:lnTo>
                  <a:pt x="1428" y="714"/>
                </a:lnTo>
                <a:lnTo>
                  <a:pt x="1424" y="708"/>
                </a:lnTo>
                <a:lnTo>
                  <a:pt x="1412" y="714"/>
                </a:lnTo>
                <a:lnTo>
                  <a:pt x="1412" y="712"/>
                </a:lnTo>
                <a:lnTo>
                  <a:pt x="1410" y="712"/>
                </a:lnTo>
                <a:lnTo>
                  <a:pt x="1396" y="700"/>
                </a:lnTo>
                <a:lnTo>
                  <a:pt x="1396" y="698"/>
                </a:lnTo>
                <a:lnTo>
                  <a:pt x="1402" y="676"/>
                </a:lnTo>
                <a:lnTo>
                  <a:pt x="1402" y="660"/>
                </a:lnTo>
                <a:lnTo>
                  <a:pt x="1398" y="648"/>
                </a:lnTo>
                <a:lnTo>
                  <a:pt x="1388" y="644"/>
                </a:lnTo>
                <a:lnTo>
                  <a:pt x="1388" y="642"/>
                </a:lnTo>
                <a:lnTo>
                  <a:pt x="1386" y="642"/>
                </a:lnTo>
                <a:lnTo>
                  <a:pt x="1386" y="640"/>
                </a:lnTo>
                <a:lnTo>
                  <a:pt x="1376" y="622"/>
                </a:lnTo>
                <a:lnTo>
                  <a:pt x="1374" y="620"/>
                </a:lnTo>
                <a:lnTo>
                  <a:pt x="1362" y="636"/>
                </a:lnTo>
                <a:lnTo>
                  <a:pt x="1348" y="644"/>
                </a:lnTo>
                <a:lnTo>
                  <a:pt x="1344" y="646"/>
                </a:lnTo>
                <a:lnTo>
                  <a:pt x="1344" y="644"/>
                </a:lnTo>
                <a:lnTo>
                  <a:pt x="1342" y="644"/>
                </a:lnTo>
                <a:lnTo>
                  <a:pt x="1328" y="630"/>
                </a:lnTo>
                <a:lnTo>
                  <a:pt x="1328" y="628"/>
                </a:lnTo>
                <a:lnTo>
                  <a:pt x="1318" y="606"/>
                </a:lnTo>
                <a:lnTo>
                  <a:pt x="1318" y="606"/>
                </a:lnTo>
                <a:lnTo>
                  <a:pt x="1314" y="590"/>
                </a:lnTo>
                <a:lnTo>
                  <a:pt x="1314" y="588"/>
                </a:lnTo>
                <a:lnTo>
                  <a:pt x="1314" y="588"/>
                </a:lnTo>
                <a:lnTo>
                  <a:pt x="1314" y="564"/>
                </a:lnTo>
                <a:lnTo>
                  <a:pt x="1312" y="550"/>
                </a:lnTo>
                <a:lnTo>
                  <a:pt x="1300" y="546"/>
                </a:lnTo>
                <a:lnTo>
                  <a:pt x="1300" y="546"/>
                </a:lnTo>
                <a:lnTo>
                  <a:pt x="1300" y="546"/>
                </a:lnTo>
                <a:lnTo>
                  <a:pt x="1274" y="526"/>
                </a:lnTo>
                <a:lnTo>
                  <a:pt x="1276" y="524"/>
                </a:lnTo>
                <a:lnTo>
                  <a:pt x="1288" y="510"/>
                </a:lnTo>
                <a:lnTo>
                  <a:pt x="1288" y="510"/>
                </a:lnTo>
                <a:lnTo>
                  <a:pt x="1288" y="508"/>
                </a:lnTo>
                <a:lnTo>
                  <a:pt x="1290" y="508"/>
                </a:lnTo>
                <a:lnTo>
                  <a:pt x="1290" y="508"/>
                </a:lnTo>
                <a:lnTo>
                  <a:pt x="1302" y="508"/>
                </a:lnTo>
                <a:lnTo>
                  <a:pt x="1304" y="508"/>
                </a:lnTo>
                <a:lnTo>
                  <a:pt x="1304" y="508"/>
                </a:lnTo>
                <a:lnTo>
                  <a:pt x="1310" y="510"/>
                </a:lnTo>
                <a:lnTo>
                  <a:pt x="1314" y="514"/>
                </a:lnTo>
                <a:lnTo>
                  <a:pt x="1326" y="522"/>
                </a:lnTo>
                <a:lnTo>
                  <a:pt x="1338" y="512"/>
                </a:lnTo>
                <a:lnTo>
                  <a:pt x="1346" y="500"/>
                </a:lnTo>
                <a:lnTo>
                  <a:pt x="1346" y="490"/>
                </a:lnTo>
                <a:lnTo>
                  <a:pt x="1344" y="464"/>
                </a:lnTo>
                <a:lnTo>
                  <a:pt x="1342" y="454"/>
                </a:lnTo>
                <a:lnTo>
                  <a:pt x="1324" y="452"/>
                </a:lnTo>
                <a:lnTo>
                  <a:pt x="1324" y="440"/>
                </a:lnTo>
                <a:lnTo>
                  <a:pt x="1308" y="420"/>
                </a:lnTo>
                <a:lnTo>
                  <a:pt x="1306" y="420"/>
                </a:lnTo>
                <a:lnTo>
                  <a:pt x="1298" y="406"/>
                </a:lnTo>
                <a:lnTo>
                  <a:pt x="1298" y="404"/>
                </a:lnTo>
                <a:lnTo>
                  <a:pt x="1298" y="402"/>
                </a:lnTo>
                <a:lnTo>
                  <a:pt x="1298" y="402"/>
                </a:lnTo>
                <a:lnTo>
                  <a:pt x="1314" y="380"/>
                </a:lnTo>
                <a:lnTo>
                  <a:pt x="1314" y="378"/>
                </a:lnTo>
                <a:lnTo>
                  <a:pt x="1316" y="378"/>
                </a:lnTo>
                <a:lnTo>
                  <a:pt x="1316" y="376"/>
                </a:lnTo>
                <a:lnTo>
                  <a:pt x="1318" y="376"/>
                </a:lnTo>
                <a:lnTo>
                  <a:pt x="1324" y="376"/>
                </a:lnTo>
                <a:lnTo>
                  <a:pt x="1334" y="368"/>
                </a:lnTo>
                <a:lnTo>
                  <a:pt x="1344" y="336"/>
                </a:lnTo>
                <a:lnTo>
                  <a:pt x="1344" y="336"/>
                </a:lnTo>
                <a:lnTo>
                  <a:pt x="1344" y="336"/>
                </a:lnTo>
                <a:lnTo>
                  <a:pt x="1358" y="322"/>
                </a:lnTo>
                <a:lnTo>
                  <a:pt x="1358" y="320"/>
                </a:lnTo>
                <a:lnTo>
                  <a:pt x="1358" y="320"/>
                </a:lnTo>
                <a:lnTo>
                  <a:pt x="1358" y="320"/>
                </a:lnTo>
                <a:lnTo>
                  <a:pt x="1374" y="316"/>
                </a:lnTo>
                <a:lnTo>
                  <a:pt x="1374" y="318"/>
                </a:lnTo>
                <a:lnTo>
                  <a:pt x="1382" y="326"/>
                </a:lnTo>
                <a:lnTo>
                  <a:pt x="1386" y="328"/>
                </a:lnTo>
                <a:lnTo>
                  <a:pt x="1392" y="302"/>
                </a:lnTo>
                <a:lnTo>
                  <a:pt x="1386" y="284"/>
                </a:lnTo>
                <a:lnTo>
                  <a:pt x="1386" y="284"/>
                </a:lnTo>
                <a:lnTo>
                  <a:pt x="1386" y="282"/>
                </a:lnTo>
                <a:lnTo>
                  <a:pt x="1388" y="262"/>
                </a:lnTo>
                <a:lnTo>
                  <a:pt x="1388" y="260"/>
                </a:lnTo>
                <a:lnTo>
                  <a:pt x="1398" y="250"/>
                </a:lnTo>
                <a:lnTo>
                  <a:pt x="1404" y="240"/>
                </a:lnTo>
                <a:lnTo>
                  <a:pt x="1404" y="230"/>
                </a:lnTo>
                <a:lnTo>
                  <a:pt x="1404" y="230"/>
                </a:lnTo>
                <a:lnTo>
                  <a:pt x="1402" y="220"/>
                </a:lnTo>
                <a:lnTo>
                  <a:pt x="1398" y="204"/>
                </a:lnTo>
                <a:lnTo>
                  <a:pt x="1398" y="204"/>
                </a:lnTo>
                <a:lnTo>
                  <a:pt x="1398" y="204"/>
                </a:lnTo>
                <a:lnTo>
                  <a:pt x="1398" y="186"/>
                </a:lnTo>
                <a:lnTo>
                  <a:pt x="1398" y="184"/>
                </a:lnTo>
                <a:lnTo>
                  <a:pt x="1402" y="168"/>
                </a:lnTo>
                <a:lnTo>
                  <a:pt x="1402" y="168"/>
                </a:lnTo>
                <a:lnTo>
                  <a:pt x="1398" y="158"/>
                </a:lnTo>
                <a:lnTo>
                  <a:pt x="1396" y="152"/>
                </a:lnTo>
                <a:lnTo>
                  <a:pt x="1398" y="12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4210200" y="3740040"/>
            <a:ext cx="1238040" cy="104796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047960"/>
              <a:gd name="textAreaBottom" fmla="*/ 1048320 h 1047960"/>
            </a:gdLst>
            <a:ahLst/>
            <a:rect l="textAreaLeft" t="textAreaTop" r="textAreaRight" b="textAreaBottom"/>
            <a:pathLst>
              <a:path w="912" h="772">
                <a:moveTo>
                  <a:pt x="542" y="280"/>
                </a:moveTo>
                <a:lnTo>
                  <a:pt x="530" y="280"/>
                </a:lnTo>
                <a:lnTo>
                  <a:pt x="526" y="288"/>
                </a:lnTo>
                <a:lnTo>
                  <a:pt x="532" y="296"/>
                </a:lnTo>
                <a:lnTo>
                  <a:pt x="532" y="296"/>
                </a:lnTo>
                <a:lnTo>
                  <a:pt x="532" y="296"/>
                </a:lnTo>
                <a:lnTo>
                  <a:pt x="536" y="308"/>
                </a:lnTo>
                <a:lnTo>
                  <a:pt x="536" y="308"/>
                </a:lnTo>
                <a:lnTo>
                  <a:pt x="536" y="310"/>
                </a:lnTo>
                <a:lnTo>
                  <a:pt x="536" y="312"/>
                </a:lnTo>
                <a:lnTo>
                  <a:pt x="518" y="320"/>
                </a:lnTo>
                <a:lnTo>
                  <a:pt x="516" y="320"/>
                </a:lnTo>
                <a:lnTo>
                  <a:pt x="516" y="320"/>
                </a:lnTo>
                <a:lnTo>
                  <a:pt x="516" y="320"/>
                </a:lnTo>
                <a:lnTo>
                  <a:pt x="516" y="320"/>
                </a:lnTo>
                <a:lnTo>
                  <a:pt x="516" y="320"/>
                </a:lnTo>
                <a:lnTo>
                  <a:pt x="506" y="320"/>
                </a:lnTo>
                <a:lnTo>
                  <a:pt x="500" y="316"/>
                </a:lnTo>
                <a:lnTo>
                  <a:pt x="494" y="314"/>
                </a:lnTo>
                <a:lnTo>
                  <a:pt x="492" y="310"/>
                </a:lnTo>
                <a:lnTo>
                  <a:pt x="488" y="300"/>
                </a:lnTo>
                <a:lnTo>
                  <a:pt x="464" y="296"/>
                </a:lnTo>
                <a:lnTo>
                  <a:pt x="456" y="264"/>
                </a:lnTo>
                <a:lnTo>
                  <a:pt x="456" y="264"/>
                </a:lnTo>
                <a:lnTo>
                  <a:pt x="450" y="262"/>
                </a:lnTo>
                <a:lnTo>
                  <a:pt x="446" y="258"/>
                </a:lnTo>
                <a:lnTo>
                  <a:pt x="444" y="256"/>
                </a:lnTo>
                <a:lnTo>
                  <a:pt x="444" y="256"/>
                </a:lnTo>
                <a:lnTo>
                  <a:pt x="440" y="250"/>
                </a:lnTo>
                <a:lnTo>
                  <a:pt x="432" y="248"/>
                </a:lnTo>
                <a:lnTo>
                  <a:pt x="432" y="248"/>
                </a:lnTo>
                <a:lnTo>
                  <a:pt x="424" y="242"/>
                </a:lnTo>
                <a:lnTo>
                  <a:pt x="416" y="232"/>
                </a:lnTo>
                <a:lnTo>
                  <a:pt x="406" y="228"/>
                </a:lnTo>
                <a:lnTo>
                  <a:pt x="406" y="228"/>
                </a:lnTo>
                <a:lnTo>
                  <a:pt x="406" y="228"/>
                </a:lnTo>
                <a:lnTo>
                  <a:pt x="406" y="228"/>
                </a:lnTo>
                <a:lnTo>
                  <a:pt x="392" y="214"/>
                </a:lnTo>
                <a:lnTo>
                  <a:pt x="392" y="214"/>
                </a:lnTo>
                <a:lnTo>
                  <a:pt x="390" y="204"/>
                </a:lnTo>
                <a:lnTo>
                  <a:pt x="390" y="202"/>
                </a:lnTo>
                <a:lnTo>
                  <a:pt x="416" y="168"/>
                </a:lnTo>
                <a:lnTo>
                  <a:pt x="416" y="168"/>
                </a:lnTo>
                <a:lnTo>
                  <a:pt x="416" y="164"/>
                </a:lnTo>
                <a:lnTo>
                  <a:pt x="416" y="162"/>
                </a:lnTo>
                <a:lnTo>
                  <a:pt x="412" y="152"/>
                </a:lnTo>
                <a:lnTo>
                  <a:pt x="398" y="156"/>
                </a:lnTo>
                <a:lnTo>
                  <a:pt x="396" y="156"/>
                </a:lnTo>
                <a:lnTo>
                  <a:pt x="396" y="158"/>
                </a:lnTo>
                <a:lnTo>
                  <a:pt x="396" y="158"/>
                </a:lnTo>
                <a:lnTo>
                  <a:pt x="360" y="160"/>
                </a:lnTo>
                <a:lnTo>
                  <a:pt x="348" y="164"/>
                </a:lnTo>
                <a:lnTo>
                  <a:pt x="342" y="168"/>
                </a:lnTo>
                <a:lnTo>
                  <a:pt x="340" y="172"/>
                </a:lnTo>
                <a:lnTo>
                  <a:pt x="340" y="172"/>
                </a:lnTo>
                <a:lnTo>
                  <a:pt x="334" y="178"/>
                </a:lnTo>
                <a:lnTo>
                  <a:pt x="330" y="178"/>
                </a:lnTo>
                <a:lnTo>
                  <a:pt x="324" y="178"/>
                </a:lnTo>
                <a:lnTo>
                  <a:pt x="324" y="178"/>
                </a:lnTo>
                <a:lnTo>
                  <a:pt x="324" y="176"/>
                </a:lnTo>
                <a:lnTo>
                  <a:pt x="312" y="168"/>
                </a:lnTo>
                <a:lnTo>
                  <a:pt x="312" y="148"/>
                </a:lnTo>
                <a:lnTo>
                  <a:pt x="312" y="148"/>
                </a:lnTo>
                <a:lnTo>
                  <a:pt x="304" y="142"/>
                </a:lnTo>
                <a:lnTo>
                  <a:pt x="300" y="134"/>
                </a:lnTo>
                <a:lnTo>
                  <a:pt x="296" y="116"/>
                </a:lnTo>
                <a:lnTo>
                  <a:pt x="288" y="108"/>
                </a:lnTo>
                <a:lnTo>
                  <a:pt x="280" y="100"/>
                </a:lnTo>
                <a:lnTo>
                  <a:pt x="276" y="98"/>
                </a:lnTo>
                <a:lnTo>
                  <a:pt x="290" y="80"/>
                </a:lnTo>
                <a:lnTo>
                  <a:pt x="292" y="68"/>
                </a:lnTo>
                <a:lnTo>
                  <a:pt x="276" y="48"/>
                </a:lnTo>
                <a:lnTo>
                  <a:pt x="276" y="48"/>
                </a:lnTo>
                <a:lnTo>
                  <a:pt x="276" y="48"/>
                </a:lnTo>
                <a:lnTo>
                  <a:pt x="268" y="32"/>
                </a:lnTo>
                <a:lnTo>
                  <a:pt x="268" y="32"/>
                </a:lnTo>
                <a:lnTo>
                  <a:pt x="268" y="32"/>
                </a:lnTo>
                <a:lnTo>
                  <a:pt x="268" y="24"/>
                </a:lnTo>
                <a:lnTo>
                  <a:pt x="256" y="16"/>
                </a:lnTo>
                <a:lnTo>
                  <a:pt x="256" y="14"/>
                </a:lnTo>
                <a:lnTo>
                  <a:pt x="256" y="14"/>
                </a:lnTo>
                <a:lnTo>
                  <a:pt x="256" y="14"/>
                </a:lnTo>
                <a:lnTo>
                  <a:pt x="246" y="2"/>
                </a:lnTo>
                <a:lnTo>
                  <a:pt x="232" y="0"/>
                </a:lnTo>
                <a:lnTo>
                  <a:pt x="216" y="4"/>
                </a:lnTo>
                <a:lnTo>
                  <a:pt x="212" y="8"/>
                </a:lnTo>
                <a:lnTo>
                  <a:pt x="210" y="30"/>
                </a:lnTo>
                <a:lnTo>
                  <a:pt x="210" y="56"/>
                </a:lnTo>
                <a:lnTo>
                  <a:pt x="208" y="56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92" y="62"/>
                </a:lnTo>
                <a:lnTo>
                  <a:pt x="178" y="64"/>
                </a:lnTo>
                <a:lnTo>
                  <a:pt x="178" y="64"/>
                </a:lnTo>
                <a:lnTo>
                  <a:pt x="168" y="70"/>
                </a:lnTo>
                <a:lnTo>
                  <a:pt x="154" y="74"/>
                </a:lnTo>
                <a:lnTo>
                  <a:pt x="152" y="76"/>
                </a:lnTo>
                <a:lnTo>
                  <a:pt x="152" y="76"/>
                </a:lnTo>
                <a:lnTo>
                  <a:pt x="152" y="76"/>
                </a:lnTo>
                <a:lnTo>
                  <a:pt x="124" y="68"/>
                </a:lnTo>
                <a:lnTo>
                  <a:pt x="114" y="80"/>
                </a:lnTo>
                <a:lnTo>
                  <a:pt x="114" y="80"/>
                </a:lnTo>
                <a:lnTo>
                  <a:pt x="108" y="86"/>
                </a:lnTo>
                <a:lnTo>
                  <a:pt x="98" y="88"/>
                </a:lnTo>
                <a:lnTo>
                  <a:pt x="82" y="102"/>
                </a:lnTo>
                <a:lnTo>
                  <a:pt x="72" y="116"/>
                </a:lnTo>
                <a:lnTo>
                  <a:pt x="72" y="116"/>
                </a:lnTo>
                <a:lnTo>
                  <a:pt x="72" y="118"/>
                </a:lnTo>
                <a:lnTo>
                  <a:pt x="72" y="118"/>
                </a:lnTo>
                <a:lnTo>
                  <a:pt x="66" y="128"/>
                </a:lnTo>
                <a:lnTo>
                  <a:pt x="60" y="132"/>
                </a:lnTo>
                <a:lnTo>
                  <a:pt x="50" y="144"/>
                </a:lnTo>
                <a:lnTo>
                  <a:pt x="50" y="146"/>
                </a:lnTo>
                <a:lnTo>
                  <a:pt x="50" y="146"/>
                </a:lnTo>
                <a:lnTo>
                  <a:pt x="44" y="150"/>
                </a:lnTo>
                <a:lnTo>
                  <a:pt x="44" y="150"/>
                </a:lnTo>
                <a:lnTo>
                  <a:pt x="32" y="152"/>
                </a:lnTo>
                <a:lnTo>
                  <a:pt x="12" y="152"/>
                </a:lnTo>
                <a:lnTo>
                  <a:pt x="8" y="158"/>
                </a:lnTo>
                <a:lnTo>
                  <a:pt x="0" y="172"/>
                </a:lnTo>
                <a:lnTo>
                  <a:pt x="4" y="184"/>
                </a:lnTo>
                <a:lnTo>
                  <a:pt x="2" y="216"/>
                </a:lnTo>
                <a:lnTo>
                  <a:pt x="8" y="224"/>
                </a:lnTo>
                <a:lnTo>
                  <a:pt x="8" y="226"/>
                </a:lnTo>
                <a:lnTo>
                  <a:pt x="10" y="232"/>
                </a:lnTo>
                <a:lnTo>
                  <a:pt x="22" y="232"/>
                </a:lnTo>
                <a:lnTo>
                  <a:pt x="40" y="236"/>
                </a:lnTo>
                <a:lnTo>
                  <a:pt x="66" y="238"/>
                </a:lnTo>
                <a:lnTo>
                  <a:pt x="76" y="236"/>
                </a:lnTo>
                <a:lnTo>
                  <a:pt x="78" y="236"/>
                </a:lnTo>
                <a:lnTo>
                  <a:pt x="80" y="236"/>
                </a:lnTo>
                <a:lnTo>
                  <a:pt x="100" y="244"/>
                </a:lnTo>
                <a:lnTo>
                  <a:pt x="100" y="244"/>
                </a:lnTo>
                <a:lnTo>
                  <a:pt x="102" y="244"/>
                </a:lnTo>
                <a:lnTo>
                  <a:pt x="112" y="254"/>
                </a:lnTo>
                <a:lnTo>
                  <a:pt x="136" y="262"/>
                </a:lnTo>
                <a:lnTo>
                  <a:pt x="138" y="262"/>
                </a:lnTo>
                <a:lnTo>
                  <a:pt x="154" y="272"/>
                </a:lnTo>
                <a:lnTo>
                  <a:pt x="192" y="308"/>
                </a:lnTo>
                <a:lnTo>
                  <a:pt x="210" y="316"/>
                </a:lnTo>
                <a:lnTo>
                  <a:pt x="218" y="312"/>
                </a:lnTo>
                <a:lnTo>
                  <a:pt x="224" y="300"/>
                </a:lnTo>
                <a:lnTo>
                  <a:pt x="220" y="278"/>
                </a:lnTo>
                <a:lnTo>
                  <a:pt x="220" y="278"/>
                </a:lnTo>
                <a:lnTo>
                  <a:pt x="222" y="274"/>
                </a:lnTo>
                <a:lnTo>
                  <a:pt x="224" y="270"/>
                </a:lnTo>
                <a:lnTo>
                  <a:pt x="236" y="264"/>
                </a:lnTo>
                <a:lnTo>
                  <a:pt x="236" y="262"/>
                </a:lnTo>
                <a:lnTo>
                  <a:pt x="286" y="292"/>
                </a:lnTo>
                <a:lnTo>
                  <a:pt x="292" y="290"/>
                </a:lnTo>
                <a:lnTo>
                  <a:pt x="302" y="284"/>
                </a:lnTo>
                <a:lnTo>
                  <a:pt x="304" y="284"/>
                </a:lnTo>
                <a:lnTo>
                  <a:pt x="310" y="284"/>
                </a:lnTo>
                <a:lnTo>
                  <a:pt x="320" y="276"/>
                </a:lnTo>
                <a:lnTo>
                  <a:pt x="322" y="276"/>
                </a:lnTo>
                <a:lnTo>
                  <a:pt x="324" y="276"/>
                </a:lnTo>
                <a:lnTo>
                  <a:pt x="352" y="296"/>
                </a:lnTo>
                <a:lnTo>
                  <a:pt x="354" y="298"/>
                </a:lnTo>
                <a:lnTo>
                  <a:pt x="372" y="312"/>
                </a:lnTo>
                <a:lnTo>
                  <a:pt x="372" y="312"/>
                </a:lnTo>
                <a:lnTo>
                  <a:pt x="380" y="320"/>
                </a:lnTo>
                <a:lnTo>
                  <a:pt x="388" y="330"/>
                </a:lnTo>
                <a:lnTo>
                  <a:pt x="398" y="340"/>
                </a:lnTo>
                <a:lnTo>
                  <a:pt x="404" y="338"/>
                </a:lnTo>
                <a:lnTo>
                  <a:pt x="412" y="324"/>
                </a:lnTo>
                <a:lnTo>
                  <a:pt x="430" y="336"/>
                </a:lnTo>
                <a:lnTo>
                  <a:pt x="430" y="336"/>
                </a:lnTo>
                <a:lnTo>
                  <a:pt x="432" y="336"/>
                </a:lnTo>
                <a:lnTo>
                  <a:pt x="432" y="336"/>
                </a:lnTo>
                <a:lnTo>
                  <a:pt x="444" y="352"/>
                </a:lnTo>
                <a:lnTo>
                  <a:pt x="480" y="380"/>
                </a:lnTo>
                <a:lnTo>
                  <a:pt x="480" y="380"/>
                </a:lnTo>
                <a:lnTo>
                  <a:pt x="492" y="392"/>
                </a:lnTo>
                <a:lnTo>
                  <a:pt x="522" y="382"/>
                </a:lnTo>
                <a:lnTo>
                  <a:pt x="524" y="406"/>
                </a:lnTo>
                <a:lnTo>
                  <a:pt x="538" y="420"/>
                </a:lnTo>
                <a:lnTo>
                  <a:pt x="538" y="420"/>
                </a:lnTo>
                <a:lnTo>
                  <a:pt x="538" y="420"/>
                </a:lnTo>
                <a:lnTo>
                  <a:pt x="548" y="436"/>
                </a:lnTo>
                <a:lnTo>
                  <a:pt x="548" y="438"/>
                </a:lnTo>
                <a:lnTo>
                  <a:pt x="548" y="438"/>
                </a:lnTo>
                <a:lnTo>
                  <a:pt x="548" y="440"/>
                </a:lnTo>
                <a:lnTo>
                  <a:pt x="560" y="494"/>
                </a:lnTo>
                <a:lnTo>
                  <a:pt x="572" y="516"/>
                </a:lnTo>
                <a:lnTo>
                  <a:pt x="556" y="558"/>
                </a:lnTo>
                <a:lnTo>
                  <a:pt x="556" y="560"/>
                </a:lnTo>
                <a:lnTo>
                  <a:pt x="544" y="564"/>
                </a:lnTo>
                <a:lnTo>
                  <a:pt x="544" y="576"/>
                </a:lnTo>
                <a:lnTo>
                  <a:pt x="542" y="576"/>
                </a:lnTo>
                <a:lnTo>
                  <a:pt x="528" y="598"/>
                </a:lnTo>
                <a:lnTo>
                  <a:pt x="528" y="598"/>
                </a:lnTo>
                <a:lnTo>
                  <a:pt x="508" y="600"/>
                </a:lnTo>
                <a:lnTo>
                  <a:pt x="488" y="616"/>
                </a:lnTo>
                <a:lnTo>
                  <a:pt x="488" y="616"/>
                </a:lnTo>
                <a:lnTo>
                  <a:pt x="494" y="620"/>
                </a:lnTo>
                <a:lnTo>
                  <a:pt x="500" y="622"/>
                </a:lnTo>
                <a:lnTo>
                  <a:pt x="500" y="622"/>
                </a:lnTo>
                <a:lnTo>
                  <a:pt x="504" y="626"/>
                </a:lnTo>
                <a:lnTo>
                  <a:pt x="508" y="630"/>
                </a:lnTo>
                <a:lnTo>
                  <a:pt x="508" y="634"/>
                </a:lnTo>
                <a:lnTo>
                  <a:pt x="504" y="642"/>
                </a:lnTo>
                <a:lnTo>
                  <a:pt x="504" y="644"/>
                </a:lnTo>
                <a:lnTo>
                  <a:pt x="492" y="656"/>
                </a:lnTo>
                <a:lnTo>
                  <a:pt x="490" y="656"/>
                </a:lnTo>
                <a:lnTo>
                  <a:pt x="490" y="658"/>
                </a:lnTo>
                <a:lnTo>
                  <a:pt x="488" y="658"/>
                </a:lnTo>
                <a:lnTo>
                  <a:pt x="488" y="658"/>
                </a:lnTo>
                <a:lnTo>
                  <a:pt x="450" y="652"/>
                </a:lnTo>
                <a:lnTo>
                  <a:pt x="448" y="666"/>
                </a:lnTo>
                <a:lnTo>
                  <a:pt x="452" y="696"/>
                </a:lnTo>
                <a:lnTo>
                  <a:pt x="484" y="708"/>
                </a:lnTo>
                <a:lnTo>
                  <a:pt x="484" y="710"/>
                </a:lnTo>
                <a:lnTo>
                  <a:pt x="484" y="710"/>
                </a:lnTo>
                <a:lnTo>
                  <a:pt x="496" y="706"/>
                </a:lnTo>
                <a:lnTo>
                  <a:pt x="498" y="706"/>
                </a:lnTo>
                <a:lnTo>
                  <a:pt x="500" y="704"/>
                </a:lnTo>
                <a:lnTo>
                  <a:pt x="500" y="706"/>
                </a:lnTo>
                <a:lnTo>
                  <a:pt x="500" y="706"/>
                </a:lnTo>
                <a:lnTo>
                  <a:pt x="510" y="712"/>
                </a:lnTo>
                <a:lnTo>
                  <a:pt x="524" y="712"/>
                </a:lnTo>
                <a:lnTo>
                  <a:pt x="528" y="710"/>
                </a:lnTo>
                <a:lnTo>
                  <a:pt x="524" y="696"/>
                </a:lnTo>
                <a:lnTo>
                  <a:pt x="524" y="696"/>
                </a:lnTo>
                <a:lnTo>
                  <a:pt x="524" y="696"/>
                </a:lnTo>
                <a:lnTo>
                  <a:pt x="520" y="680"/>
                </a:lnTo>
                <a:lnTo>
                  <a:pt x="520" y="678"/>
                </a:lnTo>
                <a:lnTo>
                  <a:pt x="520" y="676"/>
                </a:lnTo>
                <a:lnTo>
                  <a:pt x="520" y="676"/>
                </a:lnTo>
                <a:lnTo>
                  <a:pt x="520" y="676"/>
                </a:lnTo>
                <a:lnTo>
                  <a:pt x="526" y="670"/>
                </a:lnTo>
                <a:lnTo>
                  <a:pt x="528" y="668"/>
                </a:lnTo>
                <a:lnTo>
                  <a:pt x="528" y="668"/>
                </a:lnTo>
                <a:lnTo>
                  <a:pt x="528" y="668"/>
                </a:lnTo>
                <a:lnTo>
                  <a:pt x="536" y="656"/>
                </a:lnTo>
                <a:lnTo>
                  <a:pt x="538" y="654"/>
                </a:lnTo>
                <a:lnTo>
                  <a:pt x="552" y="644"/>
                </a:lnTo>
                <a:lnTo>
                  <a:pt x="552" y="644"/>
                </a:lnTo>
                <a:lnTo>
                  <a:pt x="552" y="642"/>
                </a:lnTo>
                <a:lnTo>
                  <a:pt x="554" y="642"/>
                </a:lnTo>
                <a:lnTo>
                  <a:pt x="554" y="642"/>
                </a:lnTo>
                <a:lnTo>
                  <a:pt x="572" y="640"/>
                </a:lnTo>
                <a:lnTo>
                  <a:pt x="572" y="644"/>
                </a:lnTo>
                <a:lnTo>
                  <a:pt x="572" y="644"/>
                </a:lnTo>
                <a:lnTo>
                  <a:pt x="572" y="656"/>
                </a:lnTo>
                <a:lnTo>
                  <a:pt x="576" y="664"/>
                </a:lnTo>
                <a:lnTo>
                  <a:pt x="580" y="674"/>
                </a:lnTo>
                <a:lnTo>
                  <a:pt x="596" y="684"/>
                </a:lnTo>
                <a:lnTo>
                  <a:pt x="640" y="688"/>
                </a:lnTo>
                <a:lnTo>
                  <a:pt x="642" y="688"/>
                </a:lnTo>
                <a:lnTo>
                  <a:pt x="644" y="688"/>
                </a:lnTo>
                <a:lnTo>
                  <a:pt x="644" y="690"/>
                </a:lnTo>
                <a:lnTo>
                  <a:pt x="644" y="692"/>
                </a:lnTo>
                <a:lnTo>
                  <a:pt x="644" y="706"/>
                </a:lnTo>
                <a:lnTo>
                  <a:pt x="656" y="720"/>
                </a:lnTo>
                <a:lnTo>
                  <a:pt x="666" y="724"/>
                </a:lnTo>
                <a:lnTo>
                  <a:pt x="668" y="724"/>
                </a:lnTo>
                <a:lnTo>
                  <a:pt x="668" y="724"/>
                </a:lnTo>
                <a:lnTo>
                  <a:pt x="668" y="726"/>
                </a:lnTo>
                <a:lnTo>
                  <a:pt x="668" y="732"/>
                </a:lnTo>
                <a:lnTo>
                  <a:pt x="668" y="740"/>
                </a:lnTo>
                <a:lnTo>
                  <a:pt x="664" y="756"/>
                </a:lnTo>
                <a:lnTo>
                  <a:pt x="670" y="760"/>
                </a:lnTo>
                <a:lnTo>
                  <a:pt x="670" y="760"/>
                </a:lnTo>
                <a:lnTo>
                  <a:pt x="678" y="760"/>
                </a:lnTo>
                <a:lnTo>
                  <a:pt x="684" y="762"/>
                </a:lnTo>
                <a:lnTo>
                  <a:pt x="688" y="764"/>
                </a:lnTo>
                <a:lnTo>
                  <a:pt x="706" y="772"/>
                </a:lnTo>
                <a:lnTo>
                  <a:pt x="716" y="764"/>
                </a:lnTo>
                <a:lnTo>
                  <a:pt x="728" y="750"/>
                </a:lnTo>
                <a:lnTo>
                  <a:pt x="730" y="744"/>
                </a:lnTo>
                <a:lnTo>
                  <a:pt x="730" y="744"/>
                </a:lnTo>
                <a:lnTo>
                  <a:pt x="732" y="742"/>
                </a:lnTo>
                <a:lnTo>
                  <a:pt x="734" y="740"/>
                </a:lnTo>
                <a:lnTo>
                  <a:pt x="734" y="740"/>
                </a:lnTo>
                <a:lnTo>
                  <a:pt x="730" y="722"/>
                </a:lnTo>
                <a:lnTo>
                  <a:pt x="728" y="714"/>
                </a:lnTo>
                <a:lnTo>
                  <a:pt x="728" y="712"/>
                </a:lnTo>
                <a:lnTo>
                  <a:pt x="728" y="712"/>
                </a:lnTo>
                <a:lnTo>
                  <a:pt x="728" y="712"/>
                </a:lnTo>
                <a:lnTo>
                  <a:pt x="728" y="710"/>
                </a:lnTo>
                <a:lnTo>
                  <a:pt x="736" y="700"/>
                </a:lnTo>
                <a:lnTo>
                  <a:pt x="736" y="700"/>
                </a:lnTo>
                <a:lnTo>
                  <a:pt x="736" y="700"/>
                </a:lnTo>
                <a:lnTo>
                  <a:pt x="748" y="690"/>
                </a:lnTo>
                <a:lnTo>
                  <a:pt x="750" y="690"/>
                </a:lnTo>
                <a:lnTo>
                  <a:pt x="776" y="690"/>
                </a:lnTo>
                <a:lnTo>
                  <a:pt x="780" y="688"/>
                </a:lnTo>
                <a:lnTo>
                  <a:pt x="780" y="676"/>
                </a:lnTo>
                <a:lnTo>
                  <a:pt x="776" y="664"/>
                </a:lnTo>
                <a:lnTo>
                  <a:pt x="766" y="648"/>
                </a:lnTo>
                <a:lnTo>
                  <a:pt x="766" y="648"/>
                </a:lnTo>
                <a:lnTo>
                  <a:pt x="766" y="648"/>
                </a:lnTo>
                <a:lnTo>
                  <a:pt x="766" y="628"/>
                </a:lnTo>
                <a:lnTo>
                  <a:pt x="766" y="626"/>
                </a:lnTo>
                <a:lnTo>
                  <a:pt x="766" y="626"/>
                </a:lnTo>
                <a:lnTo>
                  <a:pt x="770" y="614"/>
                </a:lnTo>
                <a:lnTo>
                  <a:pt x="770" y="614"/>
                </a:lnTo>
                <a:lnTo>
                  <a:pt x="772" y="614"/>
                </a:lnTo>
                <a:lnTo>
                  <a:pt x="772" y="614"/>
                </a:lnTo>
                <a:lnTo>
                  <a:pt x="792" y="582"/>
                </a:lnTo>
                <a:lnTo>
                  <a:pt x="794" y="582"/>
                </a:lnTo>
                <a:lnTo>
                  <a:pt x="794" y="582"/>
                </a:lnTo>
                <a:lnTo>
                  <a:pt x="796" y="580"/>
                </a:lnTo>
                <a:lnTo>
                  <a:pt x="800" y="580"/>
                </a:lnTo>
                <a:lnTo>
                  <a:pt x="808" y="582"/>
                </a:lnTo>
                <a:lnTo>
                  <a:pt x="828" y="592"/>
                </a:lnTo>
                <a:lnTo>
                  <a:pt x="840" y="596"/>
                </a:lnTo>
                <a:lnTo>
                  <a:pt x="840" y="590"/>
                </a:lnTo>
                <a:lnTo>
                  <a:pt x="838" y="588"/>
                </a:lnTo>
                <a:lnTo>
                  <a:pt x="838" y="586"/>
                </a:lnTo>
                <a:lnTo>
                  <a:pt x="838" y="586"/>
                </a:lnTo>
                <a:lnTo>
                  <a:pt x="840" y="580"/>
                </a:lnTo>
                <a:lnTo>
                  <a:pt x="846" y="572"/>
                </a:lnTo>
                <a:lnTo>
                  <a:pt x="860" y="562"/>
                </a:lnTo>
                <a:lnTo>
                  <a:pt x="860" y="562"/>
                </a:lnTo>
                <a:lnTo>
                  <a:pt x="860" y="562"/>
                </a:lnTo>
                <a:lnTo>
                  <a:pt x="860" y="560"/>
                </a:lnTo>
                <a:lnTo>
                  <a:pt x="860" y="560"/>
                </a:lnTo>
                <a:lnTo>
                  <a:pt x="876" y="556"/>
                </a:lnTo>
                <a:lnTo>
                  <a:pt x="890" y="556"/>
                </a:lnTo>
                <a:lnTo>
                  <a:pt x="892" y="556"/>
                </a:lnTo>
                <a:lnTo>
                  <a:pt x="892" y="556"/>
                </a:lnTo>
                <a:lnTo>
                  <a:pt x="900" y="556"/>
                </a:lnTo>
                <a:lnTo>
                  <a:pt x="904" y="536"/>
                </a:lnTo>
                <a:lnTo>
                  <a:pt x="904" y="524"/>
                </a:lnTo>
                <a:lnTo>
                  <a:pt x="904" y="524"/>
                </a:lnTo>
                <a:lnTo>
                  <a:pt x="906" y="512"/>
                </a:lnTo>
                <a:lnTo>
                  <a:pt x="906" y="510"/>
                </a:lnTo>
                <a:lnTo>
                  <a:pt x="908" y="508"/>
                </a:lnTo>
                <a:lnTo>
                  <a:pt x="912" y="496"/>
                </a:lnTo>
                <a:lnTo>
                  <a:pt x="906" y="488"/>
                </a:lnTo>
                <a:lnTo>
                  <a:pt x="896" y="480"/>
                </a:lnTo>
                <a:lnTo>
                  <a:pt x="876" y="476"/>
                </a:lnTo>
                <a:lnTo>
                  <a:pt x="876" y="476"/>
                </a:lnTo>
                <a:lnTo>
                  <a:pt x="868" y="472"/>
                </a:lnTo>
                <a:lnTo>
                  <a:pt x="852" y="460"/>
                </a:lnTo>
                <a:lnTo>
                  <a:pt x="840" y="456"/>
                </a:lnTo>
                <a:lnTo>
                  <a:pt x="840" y="456"/>
                </a:lnTo>
                <a:lnTo>
                  <a:pt x="840" y="454"/>
                </a:lnTo>
                <a:lnTo>
                  <a:pt x="824" y="436"/>
                </a:lnTo>
                <a:lnTo>
                  <a:pt x="812" y="436"/>
                </a:lnTo>
                <a:lnTo>
                  <a:pt x="810" y="436"/>
                </a:lnTo>
                <a:lnTo>
                  <a:pt x="810" y="436"/>
                </a:lnTo>
                <a:lnTo>
                  <a:pt x="798" y="430"/>
                </a:lnTo>
                <a:lnTo>
                  <a:pt x="790" y="440"/>
                </a:lnTo>
                <a:lnTo>
                  <a:pt x="788" y="476"/>
                </a:lnTo>
                <a:lnTo>
                  <a:pt x="792" y="492"/>
                </a:lnTo>
                <a:lnTo>
                  <a:pt x="796" y="492"/>
                </a:lnTo>
                <a:lnTo>
                  <a:pt x="798" y="492"/>
                </a:lnTo>
                <a:lnTo>
                  <a:pt x="808" y="496"/>
                </a:lnTo>
                <a:lnTo>
                  <a:pt x="808" y="496"/>
                </a:lnTo>
                <a:lnTo>
                  <a:pt x="808" y="496"/>
                </a:lnTo>
                <a:lnTo>
                  <a:pt x="814" y="510"/>
                </a:lnTo>
                <a:lnTo>
                  <a:pt x="816" y="510"/>
                </a:lnTo>
                <a:lnTo>
                  <a:pt x="816" y="512"/>
                </a:lnTo>
                <a:lnTo>
                  <a:pt x="816" y="512"/>
                </a:lnTo>
                <a:lnTo>
                  <a:pt x="816" y="512"/>
                </a:lnTo>
                <a:lnTo>
                  <a:pt x="812" y="536"/>
                </a:lnTo>
                <a:lnTo>
                  <a:pt x="812" y="538"/>
                </a:lnTo>
                <a:lnTo>
                  <a:pt x="812" y="540"/>
                </a:lnTo>
                <a:lnTo>
                  <a:pt x="812" y="540"/>
                </a:lnTo>
                <a:lnTo>
                  <a:pt x="812" y="540"/>
                </a:lnTo>
                <a:lnTo>
                  <a:pt x="800" y="546"/>
                </a:lnTo>
                <a:lnTo>
                  <a:pt x="798" y="548"/>
                </a:lnTo>
                <a:lnTo>
                  <a:pt x="798" y="546"/>
                </a:lnTo>
                <a:lnTo>
                  <a:pt x="796" y="546"/>
                </a:lnTo>
                <a:lnTo>
                  <a:pt x="792" y="544"/>
                </a:lnTo>
                <a:lnTo>
                  <a:pt x="778" y="550"/>
                </a:lnTo>
                <a:lnTo>
                  <a:pt x="778" y="550"/>
                </a:lnTo>
                <a:lnTo>
                  <a:pt x="778" y="552"/>
                </a:lnTo>
                <a:lnTo>
                  <a:pt x="780" y="552"/>
                </a:lnTo>
                <a:lnTo>
                  <a:pt x="782" y="574"/>
                </a:lnTo>
                <a:lnTo>
                  <a:pt x="782" y="574"/>
                </a:lnTo>
                <a:lnTo>
                  <a:pt x="780" y="578"/>
                </a:lnTo>
                <a:lnTo>
                  <a:pt x="776" y="580"/>
                </a:lnTo>
                <a:lnTo>
                  <a:pt x="768" y="580"/>
                </a:lnTo>
                <a:lnTo>
                  <a:pt x="768" y="580"/>
                </a:lnTo>
                <a:lnTo>
                  <a:pt x="762" y="578"/>
                </a:lnTo>
                <a:lnTo>
                  <a:pt x="758" y="576"/>
                </a:lnTo>
                <a:lnTo>
                  <a:pt x="748" y="568"/>
                </a:lnTo>
                <a:lnTo>
                  <a:pt x="748" y="568"/>
                </a:lnTo>
                <a:lnTo>
                  <a:pt x="746" y="568"/>
                </a:lnTo>
                <a:lnTo>
                  <a:pt x="746" y="566"/>
                </a:lnTo>
                <a:lnTo>
                  <a:pt x="740" y="552"/>
                </a:lnTo>
                <a:lnTo>
                  <a:pt x="740" y="552"/>
                </a:lnTo>
                <a:lnTo>
                  <a:pt x="736" y="550"/>
                </a:lnTo>
                <a:lnTo>
                  <a:pt x="728" y="546"/>
                </a:lnTo>
                <a:lnTo>
                  <a:pt x="726" y="546"/>
                </a:lnTo>
                <a:lnTo>
                  <a:pt x="726" y="546"/>
                </a:lnTo>
                <a:lnTo>
                  <a:pt x="714" y="538"/>
                </a:lnTo>
                <a:lnTo>
                  <a:pt x="712" y="538"/>
                </a:lnTo>
                <a:lnTo>
                  <a:pt x="712" y="536"/>
                </a:lnTo>
                <a:lnTo>
                  <a:pt x="712" y="536"/>
                </a:lnTo>
                <a:lnTo>
                  <a:pt x="710" y="524"/>
                </a:lnTo>
                <a:lnTo>
                  <a:pt x="712" y="512"/>
                </a:lnTo>
                <a:lnTo>
                  <a:pt x="712" y="512"/>
                </a:lnTo>
                <a:lnTo>
                  <a:pt x="712" y="512"/>
                </a:lnTo>
                <a:lnTo>
                  <a:pt x="712" y="512"/>
                </a:lnTo>
                <a:lnTo>
                  <a:pt x="716" y="506"/>
                </a:lnTo>
                <a:lnTo>
                  <a:pt x="716" y="502"/>
                </a:lnTo>
                <a:lnTo>
                  <a:pt x="712" y="488"/>
                </a:lnTo>
                <a:lnTo>
                  <a:pt x="700" y="478"/>
                </a:lnTo>
                <a:lnTo>
                  <a:pt x="700" y="476"/>
                </a:lnTo>
                <a:lnTo>
                  <a:pt x="698" y="444"/>
                </a:lnTo>
                <a:lnTo>
                  <a:pt x="690" y="436"/>
                </a:lnTo>
                <a:lnTo>
                  <a:pt x="688" y="436"/>
                </a:lnTo>
                <a:lnTo>
                  <a:pt x="688" y="434"/>
                </a:lnTo>
                <a:lnTo>
                  <a:pt x="688" y="434"/>
                </a:lnTo>
                <a:lnTo>
                  <a:pt x="682" y="420"/>
                </a:lnTo>
                <a:lnTo>
                  <a:pt x="652" y="416"/>
                </a:lnTo>
                <a:lnTo>
                  <a:pt x="652" y="416"/>
                </a:lnTo>
                <a:lnTo>
                  <a:pt x="644" y="410"/>
                </a:lnTo>
                <a:lnTo>
                  <a:pt x="638" y="402"/>
                </a:lnTo>
                <a:lnTo>
                  <a:pt x="624" y="402"/>
                </a:lnTo>
                <a:lnTo>
                  <a:pt x="624" y="402"/>
                </a:lnTo>
                <a:lnTo>
                  <a:pt x="618" y="398"/>
                </a:lnTo>
                <a:lnTo>
                  <a:pt x="610" y="392"/>
                </a:lnTo>
                <a:lnTo>
                  <a:pt x="608" y="390"/>
                </a:lnTo>
                <a:lnTo>
                  <a:pt x="608" y="390"/>
                </a:lnTo>
                <a:lnTo>
                  <a:pt x="604" y="384"/>
                </a:lnTo>
                <a:lnTo>
                  <a:pt x="598" y="376"/>
                </a:lnTo>
                <a:lnTo>
                  <a:pt x="598" y="376"/>
                </a:lnTo>
                <a:lnTo>
                  <a:pt x="598" y="376"/>
                </a:lnTo>
                <a:lnTo>
                  <a:pt x="596" y="362"/>
                </a:lnTo>
                <a:lnTo>
                  <a:pt x="596" y="362"/>
                </a:lnTo>
                <a:lnTo>
                  <a:pt x="596" y="362"/>
                </a:lnTo>
                <a:lnTo>
                  <a:pt x="596" y="360"/>
                </a:lnTo>
                <a:lnTo>
                  <a:pt x="596" y="360"/>
                </a:lnTo>
                <a:lnTo>
                  <a:pt x="600" y="336"/>
                </a:lnTo>
                <a:lnTo>
                  <a:pt x="600" y="336"/>
                </a:lnTo>
                <a:lnTo>
                  <a:pt x="604" y="324"/>
                </a:lnTo>
                <a:lnTo>
                  <a:pt x="604" y="324"/>
                </a:lnTo>
                <a:lnTo>
                  <a:pt x="604" y="324"/>
                </a:lnTo>
                <a:lnTo>
                  <a:pt x="606" y="324"/>
                </a:lnTo>
                <a:lnTo>
                  <a:pt x="636" y="310"/>
                </a:lnTo>
                <a:lnTo>
                  <a:pt x="648" y="296"/>
                </a:lnTo>
                <a:lnTo>
                  <a:pt x="650" y="284"/>
                </a:lnTo>
                <a:lnTo>
                  <a:pt x="648" y="276"/>
                </a:lnTo>
                <a:lnTo>
                  <a:pt x="648" y="276"/>
                </a:lnTo>
                <a:lnTo>
                  <a:pt x="644" y="262"/>
                </a:lnTo>
                <a:lnTo>
                  <a:pt x="640" y="254"/>
                </a:lnTo>
                <a:lnTo>
                  <a:pt x="634" y="256"/>
                </a:lnTo>
                <a:lnTo>
                  <a:pt x="624" y="254"/>
                </a:lnTo>
                <a:lnTo>
                  <a:pt x="624" y="254"/>
                </a:lnTo>
                <a:lnTo>
                  <a:pt x="616" y="260"/>
                </a:lnTo>
                <a:lnTo>
                  <a:pt x="606" y="272"/>
                </a:lnTo>
                <a:lnTo>
                  <a:pt x="592" y="286"/>
                </a:lnTo>
                <a:lnTo>
                  <a:pt x="592" y="286"/>
                </a:lnTo>
                <a:lnTo>
                  <a:pt x="590" y="286"/>
                </a:lnTo>
                <a:lnTo>
                  <a:pt x="590" y="286"/>
                </a:lnTo>
                <a:lnTo>
                  <a:pt x="578" y="290"/>
                </a:lnTo>
                <a:lnTo>
                  <a:pt x="568" y="288"/>
                </a:lnTo>
                <a:lnTo>
                  <a:pt x="542" y="28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5089680" y="4103640"/>
            <a:ext cx="250560" cy="412920"/>
          </a:xfrm>
          <a:custGeom>
            <a:avLst/>
            <a:gdLst>
              <a:gd name="textAreaLeft" fmla="*/ 0 w 250560"/>
              <a:gd name="textAreaRight" fmla="*/ 250920 w 25056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84" h="304">
                <a:moveTo>
                  <a:pt x="108" y="18"/>
                </a:moveTo>
                <a:lnTo>
                  <a:pt x="92" y="58"/>
                </a:lnTo>
                <a:lnTo>
                  <a:pt x="92" y="84"/>
                </a:lnTo>
                <a:lnTo>
                  <a:pt x="92" y="86"/>
                </a:lnTo>
                <a:lnTo>
                  <a:pt x="84" y="100"/>
                </a:lnTo>
                <a:lnTo>
                  <a:pt x="84" y="108"/>
                </a:lnTo>
                <a:lnTo>
                  <a:pt x="84" y="108"/>
                </a:lnTo>
                <a:lnTo>
                  <a:pt x="84" y="112"/>
                </a:lnTo>
                <a:lnTo>
                  <a:pt x="82" y="116"/>
                </a:lnTo>
                <a:lnTo>
                  <a:pt x="80" y="120"/>
                </a:lnTo>
                <a:lnTo>
                  <a:pt x="76" y="122"/>
                </a:lnTo>
                <a:lnTo>
                  <a:pt x="76" y="124"/>
                </a:lnTo>
                <a:lnTo>
                  <a:pt x="74" y="124"/>
                </a:lnTo>
                <a:lnTo>
                  <a:pt x="74" y="122"/>
                </a:lnTo>
                <a:lnTo>
                  <a:pt x="54" y="120"/>
                </a:lnTo>
                <a:lnTo>
                  <a:pt x="44" y="130"/>
                </a:lnTo>
                <a:lnTo>
                  <a:pt x="12" y="134"/>
                </a:lnTo>
                <a:lnTo>
                  <a:pt x="12" y="134"/>
                </a:lnTo>
                <a:lnTo>
                  <a:pt x="0" y="134"/>
                </a:lnTo>
                <a:lnTo>
                  <a:pt x="8" y="140"/>
                </a:lnTo>
                <a:lnTo>
                  <a:pt x="36" y="144"/>
                </a:lnTo>
                <a:lnTo>
                  <a:pt x="38" y="144"/>
                </a:lnTo>
                <a:lnTo>
                  <a:pt x="40" y="144"/>
                </a:lnTo>
                <a:lnTo>
                  <a:pt x="40" y="144"/>
                </a:lnTo>
                <a:lnTo>
                  <a:pt x="40" y="144"/>
                </a:lnTo>
                <a:lnTo>
                  <a:pt x="48" y="162"/>
                </a:lnTo>
                <a:lnTo>
                  <a:pt x="56" y="168"/>
                </a:lnTo>
                <a:lnTo>
                  <a:pt x="56" y="168"/>
                </a:lnTo>
                <a:lnTo>
                  <a:pt x="60" y="174"/>
                </a:lnTo>
                <a:lnTo>
                  <a:pt x="60" y="184"/>
                </a:lnTo>
                <a:lnTo>
                  <a:pt x="60" y="206"/>
                </a:lnTo>
                <a:lnTo>
                  <a:pt x="70" y="216"/>
                </a:lnTo>
                <a:lnTo>
                  <a:pt x="72" y="216"/>
                </a:lnTo>
                <a:lnTo>
                  <a:pt x="72" y="216"/>
                </a:lnTo>
                <a:lnTo>
                  <a:pt x="72" y="216"/>
                </a:lnTo>
                <a:lnTo>
                  <a:pt x="76" y="232"/>
                </a:lnTo>
                <a:lnTo>
                  <a:pt x="76" y="240"/>
                </a:lnTo>
                <a:lnTo>
                  <a:pt x="72" y="248"/>
                </a:lnTo>
                <a:lnTo>
                  <a:pt x="70" y="256"/>
                </a:lnTo>
                <a:lnTo>
                  <a:pt x="72" y="264"/>
                </a:lnTo>
                <a:lnTo>
                  <a:pt x="82" y="270"/>
                </a:lnTo>
                <a:lnTo>
                  <a:pt x="82" y="270"/>
                </a:lnTo>
                <a:lnTo>
                  <a:pt x="94" y="276"/>
                </a:lnTo>
                <a:lnTo>
                  <a:pt x="100" y="280"/>
                </a:lnTo>
                <a:lnTo>
                  <a:pt x="106" y="292"/>
                </a:lnTo>
                <a:lnTo>
                  <a:pt x="106" y="292"/>
                </a:lnTo>
                <a:lnTo>
                  <a:pt x="114" y="298"/>
                </a:lnTo>
                <a:lnTo>
                  <a:pt x="116" y="302"/>
                </a:lnTo>
                <a:lnTo>
                  <a:pt x="124" y="304"/>
                </a:lnTo>
                <a:lnTo>
                  <a:pt x="124" y="304"/>
                </a:lnTo>
                <a:lnTo>
                  <a:pt x="122" y="288"/>
                </a:lnTo>
                <a:lnTo>
                  <a:pt x="122" y="288"/>
                </a:lnTo>
                <a:lnTo>
                  <a:pt x="122" y="282"/>
                </a:lnTo>
                <a:lnTo>
                  <a:pt x="122" y="278"/>
                </a:lnTo>
                <a:lnTo>
                  <a:pt x="122" y="278"/>
                </a:lnTo>
                <a:lnTo>
                  <a:pt x="126" y="274"/>
                </a:lnTo>
                <a:lnTo>
                  <a:pt x="128" y="272"/>
                </a:lnTo>
                <a:lnTo>
                  <a:pt x="140" y="268"/>
                </a:lnTo>
                <a:lnTo>
                  <a:pt x="140" y="268"/>
                </a:lnTo>
                <a:lnTo>
                  <a:pt x="142" y="268"/>
                </a:lnTo>
                <a:lnTo>
                  <a:pt x="142" y="268"/>
                </a:lnTo>
                <a:lnTo>
                  <a:pt x="144" y="268"/>
                </a:lnTo>
                <a:lnTo>
                  <a:pt x="148" y="270"/>
                </a:lnTo>
                <a:lnTo>
                  <a:pt x="156" y="266"/>
                </a:lnTo>
                <a:lnTo>
                  <a:pt x="156" y="264"/>
                </a:lnTo>
                <a:lnTo>
                  <a:pt x="158" y="244"/>
                </a:lnTo>
                <a:lnTo>
                  <a:pt x="154" y="236"/>
                </a:lnTo>
                <a:lnTo>
                  <a:pt x="148" y="232"/>
                </a:lnTo>
                <a:lnTo>
                  <a:pt x="140" y="232"/>
                </a:lnTo>
                <a:lnTo>
                  <a:pt x="138" y="232"/>
                </a:lnTo>
                <a:lnTo>
                  <a:pt x="136" y="230"/>
                </a:lnTo>
                <a:lnTo>
                  <a:pt x="132" y="210"/>
                </a:lnTo>
                <a:lnTo>
                  <a:pt x="134" y="168"/>
                </a:lnTo>
                <a:lnTo>
                  <a:pt x="136" y="168"/>
                </a:lnTo>
                <a:lnTo>
                  <a:pt x="148" y="150"/>
                </a:lnTo>
                <a:lnTo>
                  <a:pt x="164" y="160"/>
                </a:lnTo>
                <a:lnTo>
                  <a:pt x="176" y="160"/>
                </a:lnTo>
                <a:lnTo>
                  <a:pt x="184" y="108"/>
                </a:lnTo>
                <a:lnTo>
                  <a:pt x="184" y="108"/>
                </a:lnTo>
                <a:lnTo>
                  <a:pt x="180" y="100"/>
                </a:lnTo>
                <a:lnTo>
                  <a:pt x="174" y="96"/>
                </a:lnTo>
                <a:lnTo>
                  <a:pt x="168" y="96"/>
                </a:lnTo>
                <a:lnTo>
                  <a:pt x="168" y="96"/>
                </a:lnTo>
                <a:lnTo>
                  <a:pt x="166" y="96"/>
                </a:lnTo>
                <a:lnTo>
                  <a:pt x="154" y="98"/>
                </a:lnTo>
                <a:lnTo>
                  <a:pt x="152" y="96"/>
                </a:lnTo>
                <a:lnTo>
                  <a:pt x="152" y="96"/>
                </a:lnTo>
                <a:lnTo>
                  <a:pt x="144" y="84"/>
                </a:lnTo>
                <a:lnTo>
                  <a:pt x="144" y="84"/>
                </a:lnTo>
                <a:lnTo>
                  <a:pt x="142" y="84"/>
                </a:lnTo>
                <a:lnTo>
                  <a:pt x="142" y="64"/>
                </a:lnTo>
                <a:lnTo>
                  <a:pt x="146" y="52"/>
                </a:lnTo>
                <a:lnTo>
                  <a:pt x="148" y="48"/>
                </a:lnTo>
                <a:lnTo>
                  <a:pt x="148" y="48"/>
                </a:lnTo>
                <a:lnTo>
                  <a:pt x="150" y="42"/>
                </a:lnTo>
                <a:lnTo>
                  <a:pt x="152" y="36"/>
                </a:lnTo>
                <a:lnTo>
                  <a:pt x="156" y="32"/>
                </a:lnTo>
                <a:lnTo>
                  <a:pt x="156" y="20"/>
                </a:lnTo>
                <a:lnTo>
                  <a:pt x="144" y="8"/>
                </a:lnTo>
                <a:lnTo>
                  <a:pt x="128" y="0"/>
                </a:lnTo>
                <a:lnTo>
                  <a:pt x="108" y="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2724120" y="3017880"/>
            <a:ext cx="1771560" cy="13381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338120"/>
              <a:gd name="textAreaBottom" fmla="*/ 1338480 h 133812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e56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3873600" y="4068720"/>
            <a:ext cx="1101600" cy="78912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436" y="7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56" y="18"/>
                </a:lnTo>
                <a:lnTo>
                  <a:pt x="356" y="18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96" y="20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98" y="90"/>
                </a:lnTo>
                <a:lnTo>
                  <a:pt x="110" y="102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198"/>
                </a:lnTo>
                <a:lnTo>
                  <a:pt x="112" y="198"/>
                </a:lnTo>
                <a:lnTo>
                  <a:pt x="112" y="204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60" y="210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4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16" y="512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66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4"/>
                </a:lnTo>
                <a:lnTo>
                  <a:pt x="444" y="552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52" y="522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68" y="462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598" y="498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92" y="458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8"/>
                </a:lnTo>
                <a:lnTo>
                  <a:pt x="764" y="166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42" y="106"/>
                </a:lnTo>
                <a:lnTo>
                  <a:pt x="616" y="78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60" y="52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4" y="54"/>
                </a:lnTo>
                <a:lnTo>
                  <a:pt x="542" y="56"/>
                </a:lnTo>
                <a:lnTo>
                  <a:pt x="542" y="56"/>
                </a:lnTo>
                <a:lnTo>
                  <a:pt x="530" y="58"/>
                </a:lnTo>
                <a:lnTo>
                  <a:pt x="530" y="58"/>
                </a:lnTo>
                <a:lnTo>
                  <a:pt x="484" y="30"/>
                </a:lnTo>
                <a:lnTo>
                  <a:pt x="484" y="3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4505400" y="4622760"/>
            <a:ext cx="954000" cy="836640"/>
          </a:xfrm>
          <a:custGeom>
            <a:avLst/>
            <a:gdLst>
              <a:gd name="textAreaLeft" fmla="*/ 0 w 954000"/>
              <a:gd name="textAreaRight" fmla="*/ 954360 w 954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Freeform 11"/>
          <p:cNvSpPr/>
          <p:nvPr/>
        </p:nvSpPr>
        <p:spPr>
          <a:xfrm>
            <a:off x="2922480" y="4282920"/>
            <a:ext cx="1704960" cy="103680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1256" h="764">
                <a:moveTo>
                  <a:pt x="152" y="4"/>
                </a:moveTo>
                <a:lnTo>
                  <a:pt x="152" y="4"/>
                </a:lnTo>
                <a:lnTo>
                  <a:pt x="152" y="4"/>
                </a:lnTo>
                <a:lnTo>
                  <a:pt x="146" y="14"/>
                </a:lnTo>
                <a:lnTo>
                  <a:pt x="138" y="22"/>
                </a:lnTo>
                <a:lnTo>
                  <a:pt x="138" y="22"/>
                </a:lnTo>
                <a:lnTo>
                  <a:pt x="132" y="26"/>
                </a:lnTo>
                <a:lnTo>
                  <a:pt x="132" y="32"/>
                </a:lnTo>
                <a:lnTo>
                  <a:pt x="132" y="36"/>
                </a:lnTo>
                <a:lnTo>
                  <a:pt x="132" y="36"/>
                </a:lnTo>
                <a:lnTo>
                  <a:pt x="130" y="44"/>
                </a:lnTo>
                <a:lnTo>
                  <a:pt x="122" y="56"/>
                </a:lnTo>
                <a:lnTo>
                  <a:pt x="122" y="60"/>
                </a:lnTo>
                <a:lnTo>
                  <a:pt x="122" y="60"/>
                </a:lnTo>
                <a:lnTo>
                  <a:pt x="118" y="62"/>
                </a:lnTo>
                <a:lnTo>
                  <a:pt x="112" y="64"/>
                </a:lnTo>
                <a:lnTo>
                  <a:pt x="66" y="58"/>
                </a:lnTo>
                <a:lnTo>
                  <a:pt x="66" y="58"/>
                </a:lnTo>
                <a:lnTo>
                  <a:pt x="62" y="68"/>
                </a:lnTo>
                <a:lnTo>
                  <a:pt x="62" y="70"/>
                </a:lnTo>
                <a:lnTo>
                  <a:pt x="62" y="70"/>
                </a:lnTo>
                <a:lnTo>
                  <a:pt x="62" y="70"/>
                </a:lnTo>
                <a:lnTo>
                  <a:pt x="62" y="70"/>
                </a:lnTo>
                <a:lnTo>
                  <a:pt x="48" y="92"/>
                </a:lnTo>
                <a:lnTo>
                  <a:pt x="42" y="100"/>
                </a:lnTo>
                <a:lnTo>
                  <a:pt x="40" y="108"/>
                </a:lnTo>
                <a:lnTo>
                  <a:pt x="40" y="108"/>
                </a:lnTo>
                <a:lnTo>
                  <a:pt x="42" y="112"/>
                </a:lnTo>
                <a:lnTo>
                  <a:pt x="44" y="122"/>
                </a:lnTo>
                <a:lnTo>
                  <a:pt x="56" y="150"/>
                </a:lnTo>
                <a:lnTo>
                  <a:pt x="62" y="168"/>
                </a:lnTo>
                <a:lnTo>
                  <a:pt x="62" y="168"/>
                </a:lnTo>
                <a:lnTo>
                  <a:pt x="64" y="174"/>
                </a:lnTo>
                <a:lnTo>
                  <a:pt x="64" y="180"/>
                </a:lnTo>
                <a:lnTo>
                  <a:pt x="60" y="188"/>
                </a:lnTo>
                <a:lnTo>
                  <a:pt x="56" y="196"/>
                </a:lnTo>
                <a:lnTo>
                  <a:pt x="42" y="210"/>
                </a:lnTo>
                <a:lnTo>
                  <a:pt x="18" y="210"/>
                </a:lnTo>
                <a:lnTo>
                  <a:pt x="12" y="184"/>
                </a:lnTo>
                <a:lnTo>
                  <a:pt x="6" y="216"/>
                </a:lnTo>
                <a:lnTo>
                  <a:pt x="16" y="232"/>
                </a:lnTo>
                <a:lnTo>
                  <a:pt x="16" y="232"/>
                </a:lnTo>
                <a:lnTo>
                  <a:pt x="16" y="236"/>
                </a:lnTo>
                <a:lnTo>
                  <a:pt x="16" y="238"/>
                </a:lnTo>
                <a:lnTo>
                  <a:pt x="16" y="238"/>
                </a:lnTo>
                <a:lnTo>
                  <a:pt x="10" y="246"/>
                </a:lnTo>
                <a:lnTo>
                  <a:pt x="2" y="262"/>
                </a:lnTo>
                <a:lnTo>
                  <a:pt x="2" y="262"/>
                </a:lnTo>
                <a:lnTo>
                  <a:pt x="0" y="272"/>
                </a:lnTo>
                <a:lnTo>
                  <a:pt x="0" y="280"/>
                </a:lnTo>
                <a:lnTo>
                  <a:pt x="4" y="290"/>
                </a:lnTo>
                <a:lnTo>
                  <a:pt x="10" y="300"/>
                </a:lnTo>
                <a:lnTo>
                  <a:pt x="28" y="300"/>
                </a:lnTo>
                <a:lnTo>
                  <a:pt x="28" y="300"/>
                </a:lnTo>
                <a:lnTo>
                  <a:pt x="34" y="302"/>
                </a:lnTo>
                <a:lnTo>
                  <a:pt x="42" y="308"/>
                </a:lnTo>
                <a:lnTo>
                  <a:pt x="58" y="330"/>
                </a:lnTo>
                <a:lnTo>
                  <a:pt x="60" y="332"/>
                </a:lnTo>
                <a:lnTo>
                  <a:pt x="60" y="332"/>
                </a:lnTo>
                <a:lnTo>
                  <a:pt x="60" y="332"/>
                </a:lnTo>
                <a:lnTo>
                  <a:pt x="62" y="338"/>
                </a:lnTo>
                <a:lnTo>
                  <a:pt x="66" y="344"/>
                </a:lnTo>
                <a:lnTo>
                  <a:pt x="108" y="384"/>
                </a:lnTo>
                <a:lnTo>
                  <a:pt x="108" y="384"/>
                </a:lnTo>
                <a:lnTo>
                  <a:pt x="128" y="408"/>
                </a:lnTo>
                <a:lnTo>
                  <a:pt x="138" y="408"/>
                </a:lnTo>
                <a:lnTo>
                  <a:pt x="150" y="386"/>
                </a:lnTo>
                <a:lnTo>
                  <a:pt x="152" y="384"/>
                </a:lnTo>
                <a:lnTo>
                  <a:pt x="152" y="384"/>
                </a:lnTo>
                <a:lnTo>
                  <a:pt x="182" y="392"/>
                </a:lnTo>
                <a:lnTo>
                  <a:pt x="182" y="392"/>
                </a:lnTo>
                <a:lnTo>
                  <a:pt x="182" y="394"/>
                </a:lnTo>
                <a:lnTo>
                  <a:pt x="186" y="414"/>
                </a:lnTo>
                <a:lnTo>
                  <a:pt x="222" y="454"/>
                </a:lnTo>
                <a:lnTo>
                  <a:pt x="234" y="460"/>
                </a:lnTo>
                <a:lnTo>
                  <a:pt x="234" y="460"/>
                </a:lnTo>
                <a:lnTo>
                  <a:pt x="240" y="464"/>
                </a:lnTo>
                <a:lnTo>
                  <a:pt x="240" y="464"/>
                </a:lnTo>
                <a:lnTo>
                  <a:pt x="268" y="504"/>
                </a:lnTo>
                <a:lnTo>
                  <a:pt x="288" y="500"/>
                </a:lnTo>
                <a:lnTo>
                  <a:pt x="290" y="500"/>
                </a:lnTo>
                <a:lnTo>
                  <a:pt x="292" y="500"/>
                </a:lnTo>
                <a:lnTo>
                  <a:pt x="292" y="502"/>
                </a:lnTo>
                <a:lnTo>
                  <a:pt x="294" y="504"/>
                </a:lnTo>
                <a:lnTo>
                  <a:pt x="312" y="542"/>
                </a:lnTo>
                <a:lnTo>
                  <a:pt x="334" y="556"/>
                </a:lnTo>
                <a:lnTo>
                  <a:pt x="352" y="560"/>
                </a:lnTo>
                <a:lnTo>
                  <a:pt x="362" y="584"/>
                </a:lnTo>
                <a:lnTo>
                  <a:pt x="376" y="584"/>
                </a:lnTo>
                <a:lnTo>
                  <a:pt x="376" y="586"/>
                </a:lnTo>
                <a:lnTo>
                  <a:pt x="376" y="586"/>
                </a:lnTo>
                <a:lnTo>
                  <a:pt x="404" y="602"/>
                </a:lnTo>
                <a:lnTo>
                  <a:pt x="404" y="602"/>
                </a:lnTo>
                <a:lnTo>
                  <a:pt x="404" y="602"/>
                </a:lnTo>
                <a:lnTo>
                  <a:pt x="406" y="604"/>
                </a:lnTo>
                <a:lnTo>
                  <a:pt x="426" y="628"/>
                </a:lnTo>
                <a:lnTo>
                  <a:pt x="456" y="624"/>
                </a:lnTo>
                <a:lnTo>
                  <a:pt x="458" y="624"/>
                </a:lnTo>
                <a:lnTo>
                  <a:pt x="470" y="628"/>
                </a:lnTo>
                <a:lnTo>
                  <a:pt x="470" y="628"/>
                </a:lnTo>
                <a:lnTo>
                  <a:pt x="490" y="644"/>
                </a:lnTo>
                <a:lnTo>
                  <a:pt x="524" y="648"/>
                </a:lnTo>
                <a:lnTo>
                  <a:pt x="544" y="644"/>
                </a:lnTo>
                <a:lnTo>
                  <a:pt x="544" y="644"/>
                </a:lnTo>
                <a:lnTo>
                  <a:pt x="544" y="644"/>
                </a:lnTo>
                <a:lnTo>
                  <a:pt x="564" y="642"/>
                </a:lnTo>
                <a:lnTo>
                  <a:pt x="580" y="642"/>
                </a:lnTo>
                <a:lnTo>
                  <a:pt x="590" y="644"/>
                </a:lnTo>
                <a:lnTo>
                  <a:pt x="596" y="648"/>
                </a:lnTo>
                <a:lnTo>
                  <a:pt x="596" y="648"/>
                </a:lnTo>
                <a:lnTo>
                  <a:pt x="598" y="654"/>
                </a:lnTo>
                <a:lnTo>
                  <a:pt x="598" y="658"/>
                </a:lnTo>
                <a:lnTo>
                  <a:pt x="594" y="664"/>
                </a:lnTo>
                <a:lnTo>
                  <a:pt x="588" y="670"/>
                </a:lnTo>
                <a:lnTo>
                  <a:pt x="580" y="678"/>
                </a:lnTo>
                <a:lnTo>
                  <a:pt x="580" y="678"/>
                </a:lnTo>
                <a:lnTo>
                  <a:pt x="580" y="682"/>
                </a:lnTo>
                <a:lnTo>
                  <a:pt x="582" y="686"/>
                </a:lnTo>
                <a:lnTo>
                  <a:pt x="586" y="692"/>
                </a:lnTo>
                <a:lnTo>
                  <a:pt x="592" y="698"/>
                </a:lnTo>
                <a:lnTo>
                  <a:pt x="592" y="700"/>
                </a:lnTo>
                <a:lnTo>
                  <a:pt x="592" y="700"/>
                </a:lnTo>
                <a:lnTo>
                  <a:pt x="598" y="704"/>
                </a:lnTo>
                <a:lnTo>
                  <a:pt x="600" y="702"/>
                </a:lnTo>
                <a:lnTo>
                  <a:pt x="600" y="702"/>
                </a:lnTo>
                <a:lnTo>
                  <a:pt x="616" y="676"/>
                </a:lnTo>
                <a:lnTo>
                  <a:pt x="628" y="658"/>
                </a:lnTo>
                <a:lnTo>
                  <a:pt x="638" y="646"/>
                </a:lnTo>
                <a:lnTo>
                  <a:pt x="648" y="640"/>
                </a:lnTo>
                <a:lnTo>
                  <a:pt x="648" y="640"/>
                </a:lnTo>
                <a:lnTo>
                  <a:pt x="654" y="638"/>
                </a:lnTo>
                <a:lnTo>
                  <a:pt x="660" y="638"/>
                </a:lnTo>
                <a:lnTo>
                  <a:pt x="676" y="644"/>
                </a:lnTo>
                <a:lnTo>
                  <a:pt x="698" y="654"/>
                </a:lnTo>
                <a:lnTo>
                  <a:pt x="724" y="670"/>
                </a:lnTo>
                <a:lnTo>
                  <a:pt x="772" y="678"/>
                </a:lnTo>
                <a:lnTo>
                  <a:pt x="772" y="680"/>
                </a:lnTo>
                <a:lnTo>
                  <a:pt x="772" y="682"/>
                </a:lnTo>
                <a:lnTo>
                  <a:pt x="768" y="704"/>
                </a:lnTo>
                <a:lnTo>
                  <a:pt x="792" y="708"/>
                </a:lnTo>
                <a:lnTo>
                  <a:pt x="792" y="738"/>
                </a:lnTo>
                <a:lnTo>
                  <a:pt x="792" y="738"/>
                </a:lnTo>
                <a:lnTo>
                  <a:pt x="802" y="754"/>
                </a:lnTo>
                <a:lnTo>
                  <a:pt x="808" y="762"/>
                </a:lnTo>
                <a:lnTo>
                  <a:pt x="808" y="762"/>
                </a:lnTo>
                <a:lnTo>
                  <a:pt x="816" y="764"/>
                </a:lnTo>
                <a:lnTo>
                  <a:pt x="830" y="764"/>
                </a:lnTo>
                <a:lnTo>
                  <a:pt x="880" y="762"/>
                </a:lnTo>
                <a:lnTo>
                  <a:pt x="904" y="748"/>
                </a:lnTo>
                <a:lnTo>
                  <a:pt x="928" y="716"/>
                </a:lnTo>
                <a:lnTo>
                  <a:pt x="956" y="714"/>
                </a:lnTo>
                <a:lnTo>
                  <a:pt x="970" y="710"/>
                </a:lnTo>
                <a:lnTo>
                  <a:pt x="1022" y="680"/>
                </a:lnTo>
                <a:lnTo>
                  <a:pt x="1024" y="680"/>
                </a:lnTo>
                <a:lnTo>
                  <a:pt x="1024" y="680"/>
                </a:lnTo>
                <a:lnTo>
                  <a:pt x="1024" y="680"/>
                </a:lnTo>
                <a:lnTo>
                  <a:pt x="1024" y="680"/>
                </a:lnTo>
                <a:lnTo>
                  <a:pt x="1060" y="676"/>
                </a:lnTo>
                <a:lnTo>
                  <a:pt x="1070" y="678"/>
                </a:lnTo>
                <a:lnTo>
                  <a:pt x="1076" y="680"/>
                </a:lnTo>
                <a:lnTo>
                  <a:pt x="1112" y="708"/>
                </a:lnTo>
                <a:lnTo>
                  <a:pt x="1122" y="712"/>
                </a:lnTo>
                <a:lnTo>
                  <a:pt x="1124" y="714"/>
                </a:lnTo>
                <a:lnTo>
                  <a:pt x="1136" y="720"/>
                </a:lnTo>
                <a:lnTo>
                  <a:pt x="1138" y="720"/>
                </a:lnTo>
                <a:lnTo>
                  <a:pt x="1138" y="718"/>
                </a:lnTo>
                <a:lnTo>
                  <a:pt x="1138" y="716"/>
                </a:lnTo>
                <a:lnTo>
                  <a:pt x="1138" y="716"/>
                </a:lnTo>
                <a:lnTo>
                  <a:pt x="1138" y="716"/>
                </a:lnTo>
                <a:lnTo>
                  <a:pt x="1144" y="692"/>
                </a:lnTo>
                <a:lnTo>
                  <a:pt x="1144" y="692"/>
                </a:lnTo>
                <a:lnTo>
                  <a:pt x="1142" y="682"/>
                </a:lnTo>
                <a:lnTo>
                  <a:pt x="1144" y="674"/>
                </a:lnTo>
                <a:lnTo>
                  <a:pt x="1144" y="674"/>
                </a:lnTo>
                <a:lnTo>
                  <a:pt x="1148" y="668"/>
                </a:lnTo>
                <a:lnTo>
                  <a:pt x="1156" y="666"/>
                </a:lnTo>
                <a:lnTo>
                  <a:pt x="1156" y="666"/>
                </a:lnTo>
                <a:lnTo>
                  <a:pt x="1164" y="666"/>
                </a:lnTo>
                <a:lnTo>
                  <a:pt x="1172" y="672"/>
                </a:lnTo>
                <a:lnTo>
                  <a:pt x="1182" y="682"/>
                </a:lnTo>
                <a:lnTo>
                  <a:pt x="1190" y="696"/>
                </a:lnTo>
                <a:lnTo>
                  <a:pt x="1192" y="696"/>
                </a:lnTo>
                <a:lnTo>
                  <a:pt x="1192" y="696"/>
                </a:lnTo>
                <a:lnTo>
                  <a:pt x="1212" y="688"/>
                </a:lnTo>
                <a:lnTo>
                  <a:pt x="1212" y="688"/>
                </a:lnTo>
                <a:lnTo>
                  <a:pt x="1214" y="686"/>
                </a:lnTo>
                <a:lnTo>
                  <a:pt x="1216" y="684"/>
                </a:lnTo>
                <a:lnTo>
                  <a:pt x="1218" y="680"/>
                </a:lnTo>
                <a:lnTo>
                  <a:pt x="1214" y="664"/>
                </a:lnTo>
                <a:lnTo>
                  <a:pt x="1214" y="664"/>
                </a:lnTo>
                <a:lnTo>
                  <a:pt x="1214" y="664"/>
                </a:lnTo>
                <a:lnTo>
                  <a:pt x="1214" y="660"/>
                </a:lnTo>
                <a:lnTo>
                  <a:pt x="1214" y="656"/>
                </a:lnTo>
                <a:lnTo>
                  <a:pt x="1216" y="652"/>
                </a:lnTo>
                <a:lnTo>
                  <a:pt x="1220" y="650"/>
                </a:lnTo>
                <a:lnTo>
                  <a:pt x="1228" y="644"/>
                </a:lnTo>
                <a:lnTo>
                  <a:pt x="1244" y="624"/>
                </a:lnTo>
                <a:lnTo>
                  <a:pt x="1256" y="598"/>
                </a:lnTo>
                <a:lnTo>
                  <a:pt x="1256" y="598"/>
                </a:lnTo>
                <a:lnTo>
                  <a:pt x="1250" y="586"/>
                </a:lnTo>
                <a:lnTo>
                  <a:pt x="1246" y="576"/>
                </a:lnTo>
                <a:lnTo>
                  <a:pt x="1246" y="568"/>
                </a:lnTo>
                <a:lnTo>
                  <a:pt x="1246" y="562"/>
                </a:lnTo>
                <a:lnTo>
                  <a:pt x="1248" y="540"/>
                </a:lnTo>
                <a:lnTo>
                  <a:pt x="1248" y="540"/>
                </a:lnTo>
                <a:lnTo>
                  <a:pt x="1244" y="528"/>
                </a:lnTo>
                <a:lnTo>
                  <a:pt x="1242" y="518"/>
                </a:lnTo>
                <a:lnTo>
                  <a:pt x="1242" y="518"/>
                </a:lnTo>
                <a:lnTo>
                  <a:pt x="1240" y="510"/>
                </a:lnTo>
                <a:lnTo>
                  <a:pt x="1232" y="498"/>
                </a:lnTo>
                <a:lnTo>
                  <a:pt x="1232" y="498"/>
                </a:lnTo>
                <a:lnTo>
                  <a:pt x="1232" y="496"/>
                </a:lnTo>
                <a:lnTo>
                  <a:pt x="1228" y="468"/>
                </a:lnTo>
                <a:lnTo>
                  <a:pt x="1228" y="468"/>
                </a:lnTo>
                <a:lnTo>
                  <a:pt x="1228" y="458"/>
                </a:lnTo>
                <a:lnTo>
                  <a:pt x="1228" y="448"/>
                </a:lnTo>
                <a:lnTo>
                  <a:pt x="1228" y="448"/>
                </a:lnTo>
                <a:lnTo>
                  <a:pt x="1220" y="440"/>
                </a:lnTo>
                <a:lnTo>
                  <a:pt x="1214" y="432"/>
                </a:lnTo>
                <a:lnTo>
                  <a:pt x="1202" y="416"/>
                </a:lnTo>
                <a:lnTo>
                  <a:pt x="1200" y="414"/>
                </a:lnTo>
                <a:lnTo>
                  <a:pt x="1200" y="412"/>
                </a:lnTo>
                <a:lnTo>
                  <a:pt x="1200" y="412"/>
                </a:lnTo>
                <a:lnTo>
                  <a:pt x="1196" y="392"/>
                </a:lnTo>
                <a:lnTo>
                  <a:pt x="1184" y="382"/>
                </a:lnTo>
                <a:lnTo>
                  <a:pt x="1184" y="384"/>
                </a:lnTo>
                <a:lnTo>
                  <a:pt x="1162" y="364"/>
                </a:lnTo>
                <a:lnTo>
                  <a:pt x="1162" y="366"/>
                </a:lnTo>
                <a:lnTo>
                  <a:pt x="1164" y="392"/>
                </a:lnTo>
                <a:lnTo>
                  <a:pt x="1164" y="392"/>
                </a:lnTo>
                <a:lnTo>
                  <a:pt x="1164" y="394"/>
                </a:lnTo>
                <a:lnTo>
                  <a:pt x="1152" y="400"/>
                </a:lnTo>
                <a:lnTo>
                  <a:pt x="1152" y="416"/>
                </a:lnTo>
                <a:lnTo>
                  <a:pt x="1152" y="418"/>
                </a:lnTo>
                <a:lnTo>
                  <a:pt x="1124" y="428"/>
                </a:lnTo>
                <a:lnTo>
                  <a:pt x="1114" y="406"/>
                </a:lnTo>
                <a:lnTo>
                  <a:pt x="1108" y="404"/>
                </a:lnTo>
                <a:lnTo>
                  <a:pt x="1100" y="414"/>
                </a:lnTo>
                <a:lnTo>
                  <a:pt x="1094" y="430"/>
                </a:lnTo>
                <a:lnTo>
                  <a:pt x="1074" y="436"/>
                </a:lnTo>
                <a:lnTo>
                  <a:pt x="1062" y="428"/>
                </a:lnTo>
                <a:lnTo>
                  <a:pt x="1046" y="422"/>
                </a:lnTo>
                <a:lnTo>
                  <a:pt x="1042" y="400"/>
                </a:lnTo>
                <a:lnTo>
                  <a:pt x="1036" y="386"/>
                </a:lnTo>
                <a:lnTo>
                  <a:pt x="1026" y="382"/>
                </a:lnTo>
                <a:lnTo>
                  <a:pt x="1024" y="380"/>
                </a:lnTo>
                <a:lnTo>
                  <a:pt x="1018" y="372"/>
                </a:lnTo>
                <a:lnTo>
                  <a:pt x="1018" y="372"/>
                </a:lnTo>
                <a:lnTo>
                  <a:pt x="1010" y="360"/>
                </a:lnTo>
                <a:lnTo>
                  <a:pt x="1000" y="344"/>
                </a:lnTo>
                <a:lnTo>
                  <a:pt x="990" y="344"/>
                </a:lnTo>
                <a:lnTo>
                  <a:pt x="974" y="350"/>
                </a:lnTo>
                <a:lnTo>
                  <a:pt x="972" y="352"/>
                </a:lnTo>
                <a:lnTo>
                  <a:pt x="932" y="348"/>
                </a:lnTo>
                <a:lnTo>
                  <a:pt x="900" y="342"/>
                </a:lnTo>
                <a:lnTo>
                  <a:pt x="900" y="342"/>
                </a:lnTo>
                <a:lnTo>
                  <a:pt x="884" y="332"/>
                </a:lnTo>
                <a:lnTo>
                  <a:pt x="860" y="324"/>
                </a:lnTo>
                <a:lnTo>
                  <a:pt x="860" y="324"/>
                </a:lnTo>
                <a:lnTo>
                  <a:pt x="838" y="318"/>
                </a:lnTo>
                <a:lnTo>
                  <a:pt x="832" y="314"/>
                </a:lnTo>
                <a:lnTo>
                  <a:pt x="828" y="312"/>
                </a:lnTo>
                <a:lnTo>
                  <a:pt x="824" y="308"/>
                </a:lnTo>
                <a:lnTo>
                  <a:pt x="820" y="308"/>
                </a:lnTo>
                <a:lnTo>
                  <a:pt x="804" y="300"/>
                </a:lnTo>
                <a:lnTo>
                  <a:pt x="804" y="298"/>
                </a:lnTo>
                <a:lnTo>
                  <a:pt x="804" y="298"/>
                </a:lnTo>
                <a:lnTo>
                  <a:pt x="796" y="290"/>
                </a:lnTo>
                <a:lnTo>
                  <a:pt x="794" y="282"/>
                </a:lnTo>
                <a:lnTo>
                  <a:pt x="788" y="272"/>
                </a:lnTo>
                <a:lnTo>
                  <a:pt x="776" y="268"/>
                </a:lnTo>
                <a:lnTo>
                  <a:pt x="772" y="270"/>
                </a:lnTo>
                <a:lnTo>
                  <a:pt x="768" y="274"/>
                </a:lnTo>
                <a:lnTo>
                  <a:pt x="766" y="276"/>
                </a:lnTo>
                <a:lnTo>
                  <a:pt x="766" y="276"/>
                </a:lnTo>
                <a:lnTo>
                  <a:pt x="760" y="280"/>
                </a:lnTo>
                <a:lnTo>
                  <a:pt x="756" y="280"/>
                </a:lnTo>
                <a:lnTo>
                  <a:pt x="756" y="280"/>
                </a:lnTo>
                <a:lnTo>
                  <a:pt x="750" y="282"/>
                </a:lnTo>
                <a:lnTo>
                  <a:pt x="746" y="280"/>
                </a:lnTo>
                <a:lnTo>
                  <a:pt x="740" y="276"/>
                </a:lnTo>
                <a:lnTo>
                  <a:pt x="736" y="272"/>
                </a:lnTo>
                <a:lnTo>
                  <a:pt x="720" y="256"/>
                </a:lnTo>
                <a:lnTo>
                  <a:pt x="720" y="256"/>
                </a:lnTo>
                <a:lnTo>
                  <a:pt x="714" y="246"/>
                </a:lnTo>
                <a:lnTo>
                  <a:pt x="708" y="238"/>
                </a:lnTo>
                <a:lnTo>
                  <a:pt x="704" y="232"/>
                </a:lnTo>
                <a:lnTo>
                  <a:pt x="704" y="232"/>
                </a:lnTo>
                <a:lnTo>
                  <a:pt x="698" y="224"/>
                </a:lnTo>
                <a:lnTo>
                  <a:pt x="692" y="216"/>
                </a:lnTo>
                <a:lnTo>
                  <a:pt x="692" y="216"/>
                </a:lnTo>
                <a:lnTo>
                  <a:pt x="690" y="206"/>
                </a:lnTo>
                <a:lnTo>
                  <a:pt x="692" y="196"/>
                </a:lnTo>
                <a:lnTo>
                  <a:pt x="692" y="196"/>
                </a:lnTo>
                <a:lnTo>
                  <a:pt x="692" y="196"/>
                </a:lnTo>
                <a:lnTo>
                  <a:pt x="702" y="178"/>
                </a:lnTo>
                <a:lnTo>
                  <a:pt x="708" y="160"/>
                </a:lnTo>
                <a:lnTo>
                  <a:pt x="710" y="148"/>
                </a:lnTo>
                <a:lnTo>
                  <a:pt x="706" y="128"/>
                </a:lnTo>
                <a:lnTo>
                  <a:pt x="694" y="118"/>
                </a:lnTo>
                <a:lnTo>
                  <a:pt x="696" y="104"/>
                </a:lnTo>
                <a:lnTo>
                  <a:pt x="696" y="104"/>
                </a:lnTo>
                <a:lnTo>
                  <a:pt x="698" y="96"/>
                </a:lnTo>
                <a:lnTo>
                  <a:pt x="700" y="90"/>
                </a:lnTo>
                <a:lnTo>
                  <a:pt x="704" y="86"/>
                </a:lnTo>
                <a:lnTo>
                  <a:pt x="708" y="84"/>
                </a:lnTo>
                <a:lnTo>
                  <a:pt x="708" y="84"/>
                </a:lnTo>
                <a:lnTo>
                  <a:pt x="712" y="84"/>
                </a:lnTo>
                <a:lnTo>
                  <a:pt x="712" y="80"/>
                </a:lnTo>
                <a:lnTo>
                  <a:pt x="712" y="78"/>
                </a:lnTo>
                <a:lnTo>
                  <a:pt x="712" y="62"/>
                </a:lnTo>
                <a:lnTo>
                  <a:pt x="712" y="62"/>
                </a:lnTo>
                <a:lnTo>
                  <a:pt x="712" y="62"/>
                </a:lnTo>
                <a:lnTo>
                  <a:pt x="712" y="44"/>
                </a:lnTo>
                <a:lnTo>
                  <a:pt x="712" y="44"/>
                </a:lnTo>
                <a:lnTo>
                  <a:pt x="710" y="42"/>
                </a:lnTo>
                <a:lnTo>
                  <a:pt x="710" y="42"/>
                </a:lnTo>
                <a:lnTo>
                  <a:pt x="710" y="42"/>
                </a:lnTo>
                <a:lnTo>
                  <a:pt x="708" y="40"/>
                </a:lnTo>
                <a:lnTo>
                  <a:pt x="708" y="40"/>
                </a:lnTo>
                <a:lnTo>
                  <a:pt x="706" y="40"/>
                </a:lnTo>
                <a:lnTo>
                  <a:pt x="692" y="30"/>
                </a:lnTo>
                <a:lnTo>
                  <a:pt x="692" y="30"/>
                </a:lnTo>
                <a:lnTo>
                  <a:pt x="692" y="30"/>
                </a:lnTo>
                <a:lnTo>
                  <a:pt x="680" y="20"/>
                </a:lnTo>
                <a:lnTo>
                  <a:pt x="642" y="14"/>
                </a:lnTo>
                <a:lnTo>
                  <a:pt x="642" y="14"/>
                </a:lnTo>
                <a:lnTo>
                  <a:pt x="630" y="4"/>
                </a:lnTo>
                <a:lnTo>
                  <a:pt x="608" y="4"/>
                </a:lnTo>
                <a:lnTo>
                  <a:pt x="608" y="4"/>
                </a:lnTo>
                <a:lnTo>
                  <a:pt x="602" y="6"/>
                </a:lnTo>
                <a:lnTo>
                  <a:pt x="596" y="10"/>
                </a:lnTo>
                <a:lnTo>
                  <a:pt x="594" y="10"/>
                </a:lnTo>
                <a:lnTo>
                  <a:pt x="576" y="16"/>
                </a:lnTo>
                <a:lnTo>
                  <a:pt x="532" y="16"/>
                </a:lnTo>
                <a:lnTo>
                  <a:pt x="532" y="16"/>
                </a:lnTo>
                <a:lnTo>
                  <a:pt x="524" y="20"/>
                </a:lnTo>
                <a:lnTo>
                  <a:pt x="518" y="24"/>
                </a:lnTo>
                <a:lnTo>
                  <a:pt x="518" y="24"/>
                </a:lnTo>
                <a:lnTo>
                  <a:pt x="508" y="28"/>
                </a:lnTo>
                <a:lnTo>
                  <a:pt x="492" y="34"/>
                </a:lnTo>
                <a:lnTo>
                  <a:pt x="472" y="40"/>
                </a:lnTo>
                <a:lnTo>
                  <a:pt x="472" y="40"/>
                </a:lnTo>
                <a:lnTo>
                  <a:pt x="470" y="40"/>
                </a:lnTo>
                <a:lnTo>
                  <a:pt x="440" y="36"/>
                </a:lnTo>
                <a:lnTo>
                  <a:pt x="438" y="36"/>
                </a:lnTo>
                <a:lnTo>
                  <a:pt x="438" y="36"/>
                </a:lnTo>
                <a:lnTo>
                  <a:pt x="438" y="36"/>
                </a:lnTo>
                <a:lnTo>
                  <a:pt x="428" y="36"/>
                </a:lnTo>
                <a:lnTo>
                  <a:pt x="410" y="40"/>
                </a:lnTo>
                <a:lnTo>
                  <a:pt x="374" y="44"/>
                </a:lnTo>
                <a:lnTo>
                  <a:pt x="374" y="44"/>
                </a:lnTo>
                <a:lnTo>
                  <a:pt x="372" y="44"/>
                </a:lnTo>
                <a:lnTo>
                  <a:pt x="356" y="36"/>
                </a:lnTo>
                <a:lnTo>
                  <a:pt x="340" y="36"/>
                </a:lnTo>
                <a:lnTo>
                  <a:pt x="340" y="36"/>
                </a:lnTo>
                <a:lnTo>
                  <a:pt x="330" y="32"/>
                </a:lnTo>
                <a:lnTo>
                  <a:pt x="320" y="20"/>
                </a:lnTo>
                <a:lnTo>
                  <a:pt x="318" y="20"/>
                </a:lnTo>
                <a:lnTo>
                  <a:pt x="318" y="20"/>
                </a:lnTo>
                <a:lnTo>
                  <a:pt x="316" y="12"/>
                </a:lnTo>
                <a:lnTo>
                  <a:pt x="314" y="8"/>
                </a:lnTo>
                <a:lnTo>
                  <a:pt x="310" y="4"/>
                </a:lnTo>
                <a:lnTo>
                  <a:pt x="302" y="0"/>
                </a:lnTo>
                <a:lnTo>
                  <a:pt x="296" y="8"/>
                </a:lnTo>
                <a:lnTo>
                  <a:pt x="296" y="8"/>
                </a:lnTo>
                <a:lnTo>
                  <a:pt x="270" y="20"/>
                </a:lnTo>
                <a:lnTo>
                  <a:pt x="268" y="20"/>
                </a:lnTo>
                <a:lnTo>
                  <a:pt x="268" y="20"/>
                </a:lnTo>
                <a:lnTo>
                  <a:pt x="236" y="22"/>
                </a:lnTo>
                <a:lnTo>
                  <a:pt x="236" y="22"/>
                </a:lnTo>
                <a:lnTo>
                  <a:pt x="226" y="20"/>
                </a:lnTo>
                <a:lnTo>
                  <a:pt x="210" y="16"/>
                </a:lnTo>
                <a:lnTo>
                  <a:pt x="184" y="12"/>
                </a:lnTo>
                <a:lnTo>
                  <a:pt x="182" y="12"/>
                </a:lnTo>
                <a:lnTo>
                  <a:pt x="182" y="12"/>
                </a:lnTo>
                <a:lnTo>
                  <a:pt x="166" y="4"/>
                </a:lnTo>
                <a:lnTo>
                  <a:pt x="152" y="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Freeform 12"/>
          <p:cNvSpPr/>
          <p:nvPr/>
        </p:nvSpPr>
        <p:spPr>
          <a:xfrm>
            <a:off x="4476600" y="5146560"/>
            <a:ext cx="771840" cy="803520"/>
          </a:xfrm>
          <a:custGeom>
            <a:avLst/>
            <a:gdLst>
              <a:gd name="textAreaLeft" fmla="*/ 0 w 771840"/>
              <a:gd name="textAreaRight" fmla="*/ 772200 w 771840"/>
              <a:gd name="textAreaTop" fmla="*/ 0 h 803520"/>
              <a:gd name="textAreaBottom" fmla="*/ 803880 h 803520"/>
            </a:gdLst>
            <a:ahLst/>
            <a:rect l="textAreaLeft" t="textAreaTop" r="textAreaRight" b="textAreaBottom"/>
            <a:pathLst>
              <a:path w="568" h="592">
                <a:moveTo>
                  <a:pt x="4" y="364"/>
                </a:moveTo>
                <a:lnTo>
                  <a:pt x="0" y="374"/>
                </a:lnTo>
                <a:lnTo>
                  <a:pt x="0" y="374"/>
                </a:lnTo>
                <a:lnTo>
                  <a:pt x="10" y="372"/>
                </a:lnTo>
                <a:lnTo>
                  <a:pt x="18" y="366"/>
                </a:lnTo>
                <a:lnTo>
                  <a:pt x="20" y="364"/>
                </a:lnTo>
                <a:lnTo>
                  <a:pt x="20" y="364"/>
                </a:lnTo>
                <a:lnTo>
                  <a:pt x="52" y="360"/>
                </a:lnTo>
                <a:lnTo>
                  <a:pt x="74" y="350"/>
                </a:lnTo>
                <a:lnTo>
                  <a:pt x="82" y="362"/>
                </a:lnTo>
                <a:lnTo>
                  <a:pt x="84" y="362"/>
                </a:lnTo>
                <a:lnTo>
                  <a:pt x="74" y="378"/>
                </a:lnTo>
                <a:lnTo>
                  <a:pt x="84" y="388"/>
                </a:lnTo>
                <a:lnTo>
                  <a:pt x="84" y="390"/>
                </a:lnTo>
                <a:lnTo>
                  <a:pt x="84" y="392"/>
                </a:lnTo>
                <a:lnTo>
                  <a:pt x="76" y="426"/>
                </a:lnTo>
                <a:lnTo>
                  <a:pt x="98" y="440"/>
                </a:lnTo>
                <a:lnTo>
                  <a:pt x="136" y="442"/>
                </a:lnTo>
                <a:lnTo>
                  <a:pt x="130" y="450"/>
                </a:lnTo>
                <a:lnTo>
                  <a:pt x="130" y="450"/>
                </a:lnTo>
                <a:lnTo>
                  <a:pt x="104" y="486"/>
                </a:lnTo>
                <a:lnTo>
                  <a:pt x="98" y="496"/>
                </a:lnTo>
                <a:lnTo>
                  <a:pt x="96" y="502"/>
                </a:lnTo>
                <a:lnTo>
                  <a:pt x="110" y="506"/>
                </a:lnTo>
                <a:lnTo>
                  <a:pt x="110" y="506"/>
                </a:lnTo>
                <a:lnTo>
                  <a:pt x="122" y="508"/>
                </a:lnTo>
                <a:lnTo>
                  <a:pt x="132" y="510"/>
                </a:lnTo>
                <a:lnTo>
                  <a:pt x="140" y="516"/>
                </a:lnTo>
                <a:lnTo>
                  <a:pt x="144" y="520"/>
                </a:lnTo>
                <a:lnTo>
                  <a:pt x="144" y="520"/>
                </a:lnTo>
                <a:lnTo>
                  <a:pt x="152" y="534"/>
                </a:lnTo>
                <a:lnTo>
                  <a:pt x="158" y="550"/>
                </a:lnTo>
                <a:lnTo>
                  <a:pt x="180" y="562"/>
                </a:lnTo>
                <a:lnTo>
                  <a:pt x="192" y="564"/>
                </a:lnTo>
                <a:lnTo>
                  <a:pt x="220" y="540"/>
                </a:lnTo>
                <a:lnTo>
                  <a:pt x="236" y="562"/>
                </a:lnTo>
                <a:lnTo>
                  <a:pt x="236" y="564"/>
                </a:lnTo>
                <a:lnTo>
                  <a:pt x="236" y="564"/>
                </a:lnTo>
                <a:lnTo>
                  <a:pt x="236" y="564"/>
                </a:lnTo>
                <a:lnTo>
                  <a:pt x="240" y="584"/>
                </a:lnTo>
                <a:lnTo>
                  <a:pt x="252" y="586"/>
                </a:lnTo>
                <a:lnTo>
                  <a:pt x="252" y="586"/>
                </a:lnTo>
                <a:lnTo>
                  <a:pt x="272" y="592"/>
                </a:lnTo>
                <a:lnTo>
                  <a:pt x="276" y="592"/>
                </a:lnTo>
                <a:lnTo>
                  <a:pt x="276" y="590"/>
                </a:lnTo>
                <a:lnTo>
                  <a:pt x="272" y="570"/>
                </a:lnTo>
                <a:lnTo>
                  <a:pt x="272" y="568"/>
                </a:lnTo>
                <a:lnTo>
                  <a:pt x="262" y="522"/>
                </a:lnTo>
                <a:lnTo>
                  <a:pt x="262" y="520"/>
                </a:lnTo>
                <a:lnTo>
                  <a:pt x="268" y="488"/>
                </a:lnTo>
                <a:lnTo>
                  <a:pt x="270" y="488"/>
                </a:lnTo>
                <a:lnTo>
                  <a:pt x="272" y="488"/>
                </a:lnTo>
                <a:lnTo>
                  <a:pt x="294" y="490"/>
                </a:lnTo>
                <a:lnTo>
                  <a:pt x="320" y="470"/>
                </a:lnTo>
                <a:lnTo>
                  <a:pt x="324" y="472"/>
                </a:lnTo>
                <a:lnTo>
                  <a:pt x="324" y="472"/>
                </a:lnTo>
                <a:lnTo>
                  <a:pt x="342" y="486"/>
                </a:lnTo>
                <a:lnTo>
                  <a:pt x="352" y="498"/>
                </a:lnTo>
                <a:lnTo>
                  <a:pt x="352" y="498"/>
                </a:lnTo>
                <a:lnTo>
                  <a:pt x="362" y="490"/>
                </a:lnTo>
                <a:lnTo>
                  <a:pt x="378" y="474"/>
                </a:lnTo>
                <a:lnTo>
                  <a:pt x="378" y="472"/>
                </a:lnTo>
                <a:lnTo>
                  <a:pt x="380" y="472"/>
                </a:lnTo>
                <a:lnTo>
                  <a:pt x="420" y="482"/>
                </a:lnTo>
                <a:lnTo>
                  <a:pt x="438" y="468"/>
                </a:lnTo>
                <a:lnTo>
                  <a:pt x="438" y="466"/>
                </a:lnTo>
                <a:lnTo>
                  <a:pt x="440" y="466"/>
                </a:lnTo>
                <a:lnTo>
                  <a:pt x="440" y="466"/>
                </a:lnTo>
                <a:lnTo>
                  <a:pt x="440" y="466"/>
                </a:lnTo>
                <a:lnTo>
                  <a:pt x="458" y="470"/>
                </a:lnTo>
                <a:lnTo>
                  <a:pt x="512" y="422"/>
                </a:lnTo>
                <a:lnTo>
                  <a:pt x="528" y="426"/>
                </a:lnTo>
                <a:lnTo>
                  <a:pt x="528" y="426"/>
                </a:lnTo>
                <a:lnTo>
                  <a:pt x="530" y="428"/>
                </a:lnTo>
                <a:lnTo>
                  <a:pt x="530" y="428"/>
                </a:lnTo>
                <a:lnTo>
                  <a:pt x="532" y="428"/>
                </a:lnTo>
                <a:lnTo>
                  <a:pt x="536" y="436"/>
                </a:lnTo>
                <a:lnTo>
                  <a:pt x="540" y="432"/>
                </a:lnTo>
                <a:lnTo>
                  <a:pt x="540" y="432"/>
                </a:lnTo>
                <a:lnTo>
                  <a:pt x="540" y="430"/>
                </a:lnTo>
                <a:lnTo>
                  <a:pt x="540" y="430"/>
                </a:lnTo>
                <a:lnTo>
                  <a:pt x="556" y="422"/>
                </a:lnTo>
                <a:lnTo>
                  <a:pt x="568" y="410"/>
                </a:lnTo>
                <a:lnTo>
                  <a:pt x="566" y="386"/>
                </a:lnTo>
                <a:lnTo>
                  <a:pt x="564" y="382"/>
                </a:lnTo>
                <a:lnTo>
                  <a:pt x="548" y="388"/>
                </a:lnTo>
                <a:lnTo>
                  <a:pt x="548" y="388"/>
                </a:lnTo>
                <a:lnTo>
                  <a:pt x="548" y="388"/>
                </a:lnTo>
                <a:lnTo>
                  <a:pt x="542" y="392"/>
                </a:lnTo>
                <a:lnTo>
                  <a:pt x="534" y="392"/>
                </a:lnTo>
                <a:lnTo>
                  <a:pt x="516" y="392"/>
                </a:lnTo>
                <a:lnTo>
                  <a:pt x="516" y="392"/>
                </a:lnTo>
                <a:lnTo>
                  <a:pt x="510" y="390"/>
                </a:lnTo>
                <a:lnTo>
                  <a:pt x="504" y="386"/>
                </a:lnTo>
                <a:lnTo>
                  <a:pt x="504" y="360"/>
                </a:lnTo>
                <a:lnTo>
                  <a:pt x="504" y="360"/>
                </a:lnTo>
                <a:lnTo>
                  <a:pt x="496" y="358"/>
                </a:lnTo>
                <a:lnTo>
                  <a:pt x="492" y="356"/>
                </a:lnTo>
                <a:lnTo>
                  <a:pt x="488" y="358"/>
                </a:lnTo>
                <a:lnTo>
                  <a:pt x="484" y="360"/>
                </a:lnTo>
                <a:lnTo>
                  <a:pt x="472" y="364"/>
                </a:lnTo>
                <a:lnTo>
                  <a:pt x="468" y="364"/>
                </a:lnTo>
                <a:lnTo>
                  <a:pt x="468" y="362"/>
                </a:lnTo>
                <a:lnTo>
                  <a:pt x="462" y="350"/>
                </a:lnTo>
                <a:lnTo>
                  <a:pt x="460" y="340"/>
                </a:lnTo>
                <a:lnTo>
                  <a:pt x="460" y="340"/>
                </a:lnTo>
                <a:lnTo>
                  <a:pt x="468" y="310"/>
                </a:lnTo>
                <a:lnTo>
                  <a:pt x="468" y="310"/>
                </a:lnTo>
                <a:lnTo>
                  <a:pt x="468" y="310"/>
                </a:lnTo>
                <a:lnTo>
                  <a:pt x="468" y="308"/>
                </a:lnTo>
                <a:lnTo>
                  <a:pt x="476" y="294"/>
                </a:lnTo>
                <a:lnTo>
                  <a:pt x="452" y="274"/>
                </a:lnTo>
                <a:lnTo>
                  <a:pt x="452" y="272"/>
                </a:lnTo>
                <a:lnTo>
                  <a:pt x="452" y="272"/>
                </a:lnTo>
                <a:lnTo>
                  <a:pt x="452" y="248"/>
                </a:lnTo>
                <a:lnTo>
                  <a:pt x="452" y="248"/>
                </a:lnTo>
                <a:lnTo>
                  <a:pt x="464" y="212"/>
                </a:lnTo>
                <a:lnTo>
                  <a:pt x="456" y="192"/>
                </a:lnTo>
                <a:lnTo>
                  <a:pt x="450" y="190"/>
                </a:lnTo>
                <a:lnTo>
                  <a:pt x="440" y="190"/>
                </a:lnTo>
                <a:lnTo>
                  <a:pt x="432" y="204"/>
                </a:lnTo>
                <a:lnTo>
                  <a:pt x="420" y="196"/>
                </a:lnTo>
                <a:lnTo>
                  <a:pt x="410" y="190"/>
                </a:lnTo>
                <a:lnTo>
                  <a:pt x="400" y="168"/>
                </a:lnTo>
                <a:lnTo>
                  <a:pt x="400" y="168"/>
                </a:lnTo>
                <a:lnTo>
                  <a:pt x="400" y="168"/>
                </a:lnTo>
                <a:lnTo>
                  <a:pt x="398" y="152"/>
                </a:lnTo>
                <a:lnTo>
                  <a:pt x="398" y="150"/>
                </a:lnTo>
                <a:lnTo>
                  <a:pt x="396" y="148"/>
                </a:lnTo>
                <a:lnTo>
                  <a:pt x="400" y="148"/>
                </a:lnTo>
                <a:lnTo>
                  <a:pt x="410" y="132"/>
                </a:lnTo>
                <a:lnTo>
                  <a:pt x="412" y="132"/>
                </a:lnTo>
                <a:lnTo>
                  <a:pt x="412" y="132"/>
                </a:lnTo>
                <a:lnTo>
                  <a:pt x="412" y="132"/>
                </a:lnTo>
                <a:lnTo>
                  <a:pt x="420" y="130"/>
                </a:lnTo>
                <a:lnTo>
                  <a:pt x="430" y="128"/>
                </a:lnTo>
                <a:lnTo>
                  <a:pt x="472" y="126"/>
                </a:lnTo>
                <a:lnTo>
                  <a:pt x="472" y="126"/>
                </a:lnTo>
                <a:lnTo>
                  <a:pt x="478" y="128"/>
                </a:lnTo>
                <a:lnTo>
                  <a:pt x="480" y="128"/>
                </a:lnTo>
                <a:lnTo>
                  <a:pt x="486" y="132"/>
                </a:lnTo>
                <a:lnTo>
                  <a:pt x="496" y="126"/>
                </a:lnTo>
                <a:lnTo>
                  <a:pt x="506" y="120"/>
                </a:lnTo>
                <a:lnTo>
                  <a:pt x="512" y="112"/>
                </a:lnTo>
                <a:lnTo>
                  <a:pt x="512" y="108"/>
                </a:lnTo>
                <a:lnTo>
                  <a:pt x="512" y="90"/>
                </a:lnTo>
                <a:lnTo>
                  <a:pt x="502" y="88"/>
                </a:lnTo>
                <a:lnTo>
                  <a:pt x="486" y="94"/>
                </a:lnTo>
                <a:lnTo>
                  <a:pt x="486" y="94"/>
                </a:lnTo>
                <a:lnTo>
                  <a:pt x="478" y="100"/>
                </a:lnTo>
                <a:lnTo>
                  <a:pt x="474" y="102"/>
                </a:lnTo>
                <a:lnTo>
                  <a:pt x="470" y="104"/>
                </a:lnTo>
                <a:lnTo>
                  <a:pt x="470" y="104"/>
                </a:lnTo>
                <a:lnTo>
                  <a:pt x="466" y="102"/>
                </a:lnTo>
                <a:lnTo>
                  <a:pt x="462" y="100"/>
                </a:lnTo>
                <a:lnTo>
                  <a:pt x="454" y="90"/>
                </a:lnTo>
                <a:lnTo>
                  <a:pt x="454" y="90"/>
                </a:lnTo>
                <a:lnTo>
                  <a:pt x="454" y="90"/>
                </a:lnTo>
                <a:lnTo>
                  <a:pt x="454" y="88"/>
                </a:lnTo>
                <a:lnTo>
                  <a:pt x="452" y="78"/>
                </a:lnTo>
                <a:lnTo>
                  <a:pt x="452" y="76"/>
                </a:lnTo>
                <a:lnTo>
                  <a:pt x="454" y="66"/>
                </a:lnTo>
                <a:lnTo>
                  <a:pt x="444" y="44"/>
                </a:lnTo>
                <a:lnTo>
                  <a:pt x="428" y="48"/>
                </a:lnTo>
                <a:lnTo>
                  <a:pt x="420" y="56"/>
                </a:lnTo>
                <a:lnTo>
                  <a:pt x="424" y="80"/>
                </a:lnTo>
                <a:lnTo>
                  <a:pt x="396" y="68"/>
                </a:lnTo>
                <a:lnTo>
                  <a:pt x="404" y="82"/>
                </a:lnTo>
                <a:lnTo>
                  <a:pt x="404" y="82"/>
                </a:lnTo>
                <a:lnTo>
                  <a:pt x="404" y="84"/>
                </a:lnTo>
                <a:lnTo>
                  <a:pt x="402" y="100"/>
                </a:lnTo>
                <a:lnTo>
                  <a:pt x="402" y="102"/>
                </a:lnTo>
                <a:lnTo>
                  <a:pt x="400" y="102"/>
                </a:lnTo>
                <a:lnTo>
                  <a:pt x="386" y="124"/>
                </a:lnTo>
                <a:lnTo>
                  <a:pt x="386" y="124"/>
                </a:lnTo>
                <a:lnTo>
                  <a:pt x="360" y="138"/>
                </a:lnTo>
                <a:lnTo>
                  <a:pt x="358" y="152"/>
                </a:lnTo>
                <a:lnTo>
                  <a:pt x="358" y="152"/>
                </a:lnTo>
                <a:lnTo>
                  <a:pt x="360" y="160"/>
                </a:lnTo>
                <a:lnTo>
                  <a:pt x="364" y="170"/>
                </a:lnTo>
                <a:lnTo>
                  <a:pt x="366" y="170"/>
                </a:lnTo>
                <a:lnTo>
                  <a:pt x="366" y="172"/>
                </a:lnTo>
                <a:lnTo>
                  <a:pt x="368" y="192"/>
                </a:lnTo>
                <a:lnTo>
                  <a:pt x="368" y="194"/>
                </a:lnTo>
                <a:lnTo>
                  <a:pt x="366" y="196"/>
                </a:lnTo>
                <a:lnTo>
                  <a:pt x="356" y="208"/>
                </a:lnTo>
                <a:lnTo>
                  <a:pt x="356" y="208"/>
                </a:lnTo>
                <a:lnTo>
                  <a:pt x="356" y="208"/>
                </a:lnTo>
                <a:lnTo>
                  <a:pt x="356" y="208"/>
                </a:lnTo>
                <a:lnTo>
                  <a:pt x="348" y="214"/>
                </a:lnTo>
                <a:lnTo>
                  <a:pt x="348" y="214"/>
                </a:lnTo>
                <a:lnTo>
                  <a:pt x="346" y="214"/>
                </a:lnTo>
                <a:lnTo>
                  <a:pt x="346" y="214"/>
                </a:lnTo>
                <a:lnTo>
                  <a:pt x="344" y="214"/>
                </a:lnTo>
                <a:lnTo>
                  <a:pt x="326" y="210"/>
                </a:lnTo>
                <a:lnTo>
                  <a:pt x="326" y="210"/>
                </a:lnTo>
                <a:lnTo>
                  <a:pt x="322" y="210"/>
                </a:lnTo>
                <a:lnTo>
                  <a:pt x="316" y="214"/>
                </a:lnTo>
                <a:lnTo>
                  <a:pt x="308" y="224"/>
                </a:lnTo>
                <a:lnTo>
                  <a:pt x="300" y="232"/>
                </a:lnTo>
                <a:lnTo>
                  <a:pt x="300" y="232"/>
                </a:lnTo>
                <a:lnTo>
                  <a:pt x="298" y="236"/>
                </a:lnTo>
                <a:lnTo>
                  <a:pt x="294" y="238"/>
                </a:lnTo>
                <a:lnTo>
                  <a:pt x="288" y="240"/>
                </a:lnTo>
                <a:lnTo>
                  <a:pt x="282" y="238"/>
                </a:lnTo>
                <a:lnTo>
                  <a:pt x="282" y="238"/>
                </a:lnTo>
                <a:lnTo>
                  <a:pt x="280" y="238"/>
                </a:lnTo>
                <a:lnTo>
                  <a:pt x="278" y="234"/>
                </a:lnTo>
                <a:lnTo>
                  <a:pt x="276" y="230"/>
                </a:lnTo>
                <a:lnTo>
                  <a:pt x="276" y="224"/>
                </a:lnTo>
                <a:lnTo>
                  <a:pt x="276" y="220"/>
                </a:lnTo>
                <a:lnTo>
                  <a:pt x="276" y="214"/>
                </a:lnTo>
                <a:lnTo>
                  <a:pt x="272" y="218"/>
                </a:lnTo>
                <a:lnTo>
                  <a:pt x="272" y="218"/>
                </a:lnTo>
                <a:lnTo>
                  <a:pt x="270" y="220"/>
                </a:lnTo>
                <a:lnTo>
                  <a:pt x="264" y="222"/>
                </a:lnTo>
                <a:lnTo>
                  <a:pt x="264" y="222"/>
                </a:lnTo>
                <a:lnTo>
                  <a:pt x="260" y="218"/>
                </a:lnTo>
                <a:lnTo>
                  <a:pt x="258" y="212"/>
                </a:lnTo>
                <a:lnTo>
                  <a:pt x="258" y="212"/>
                </a:lnTo>
                <a:lnTo>
                  <a:pt x="256" y="192"/>
                </a:lnTo>
                <a:lnTo>
                  <a:pt x="252" y="176"/>
                </a:lnTo>
                <a:lnTo>
                  <a:pt x="244" y="168"/>
                </a:lnTo>
                <a:lnTo>
                  <a:pt x="244" y="168"/>
                </a:lnTo>
                <a:lnTo>
                  <a:pt x="244" y="166"/>
                </a:lnTo>
                <a:lnTo>
                  <a:pt x="226" y="128"/>
                </a:lnTo>
                <a:lnTo>
                  <a:pt x="226" y="128"/>
                </a:lnTo>
                <a:lnTo>
                  <a:pt x="220" y="116"/>
                </a:lnTo>
                <a:lnTo>
                  <a:pt x="220" y="116"/>
                </a:lnTo>
                <a:lnTo>
                  <a:pt x="220" y="116"/>
                </a:lnTo>
                <a:lnTo>
                  <a:pt x="220" y="114"/>
                </a:lnTo>
                <a:lnTo>
                  <a:pt x="216" y="94"/>
                </a:lnTo>
                <a:lnTo>
                  <a:pt x="214" y="90"/>
                </a:lnTo>
                <a:lnTo>
                  <a:pt x="212" y="92"/>
                </a:lnTo>
                <a:lnTo>
                  <a:pt x="212" y="92"/>
                </a:lnTo>
                <a:lnTo>
                  <a:pt x="204" y="100"/>
                </a:lnTo>
                <a:lnTo>
                  <a:pt x="200" y="104"/>
                </a:lnTo>
                <a:lnTo>
                  <a:pt x="200" y="104"/>
                </a:lnTo>
                <a:lnTo>
                  <a:pt x="196" y="102"/>
                </a:lnTo>
                <a:lnTo>
                  <a:pt x="188" y="96"/>
                </a:lnTo>
                <a:lnTo>
                  <a:pt x="176" y="90"/>
                </a:lnTo>
                <a:lnTo>
                  <a:pt x="174" y="88"/>
                </a:lnTo>
                <a:lnTo>
                  <a:pt x="172" y="88"/>
                </a:lnTo>
                <a:lnTo>
                  <a:pt x="172" y="88"/>
                </a:lnTo>
                <a:lnTo>
                  <a:pt x="172" y="86"/>
                </a:lnTo>
                <a:lnTo>
                  <a:pt x="172" y="70"/>
                </a:lnTo>
                <a:lnTo>
                  <a:pt x="172" y="70"/>
                </a:lnTo>
                <a:lnTo>
                  <a:pt x="168" y="58"/>
                </a:lnTo>
                <a:lnTo>
                  <a:pt x="162" y="42"/>
                </a:lnTo>
                <a:lnTo>
                  <a:pt x="156" y="42"/>
                </a:lnTo>
                <a:lnTo>
                  <a:pt x="156" y="42"/>
                </a:lnTo>
                <a:lnTo>
                  <a:pt x="156" y="50"/>
                </a:lnTo>
                <a:lnTo>
                  <a:pt x="154" y="58"/>
                </a:lnTo>
                <a:lnTo>
                  <a:pt x="154" y="58"/>
                </a:lnTo>
                <a:lnTo>
                  <a:pt x="150" y="64"/>
                </a:lnTo>
                <a:lnTo>
                  <a:pt x="144" y="70"/>
                </a:lnTo>
                <a:lnTo>
                  <a:pt x="144" y="70"/>
                </a:lnTo>
                <a:lnTo>
                  <a:pt x="142" y="78"/>
                </a:lnTo>
                <a:lnTo>
                  <a:pt x="138" y="82"/>
                </a:lnTo>
                <a:lnTo>
                  <a:pt x="138" y="82"/>
                </a:lnTo>
                <a:lnTo>
                  <a:pt x="134" y="86"/>
                </a:lnTo>
                <a:lnTo>
                  <a:pt x="130" y="86"/>
                </a:lnTo>
                <a:lnTo>
                  <a:pt x="128" y="86"/>
                </a:lnTo>
                <a:lnTo>
                  <a:pt x="124" y="84"/>
                </a:lnTo>
                <a:lnTo>
                  <a:pt x="122" y="84"/>
                </a:lnTo>
                <a:lnTo>
                  <a:pt x="122" y="84"/>
                </a:lnTo>
                <a:lnTo>
                  <a:pt x="118" y="82"/>
                </a:lnTo>
                <a:lnTo>
                  <a:pt x="118" y="78"/>
                </a:lnTo>
                <a:lnTo>
                  <a:pt x="116" y="66"/>
                </a:lnTo>
                <a:lnTo>
                  <a:pt x="116" y="62"/>
                </a:lnTo>
                <a:lnTo>
                  <a:pt x="106" y="56"/>
                </a:lnTo>
                <a:lnTo>
                  <a:pt x="106" y="56"/>
                </a:lnTo>
                <a:lnTo>
                  <a:pt x="104" y="54"/>
                </a:lnTo>
                <a:lnTo>
                  <a:pt x="102" y="50"/>
                </a:lnTo>
                <a:lnTo>
                  <a:pt x="100" y="42"/>
                </a:lnTo>
                <a:lnTo>
                  <a:pt x="104" y="6"/>
                </a:lnTo>
                <a:lnTo>
                  <a:pt x="102" y="0"/>
                </a:lnTo>
                <a:lnTo>
                  <a:pt x="88" y="14"/>
                </a:lnTo>
                <a:lnTo>
                  <a:pt x="80" y="20"/>
                </a:lnTo>
                <a:lnTo>
                  <a:pt x="78" y="26"/>
                </a:lnTo>
                <a:lnTo>
                  <a:pt x="78" y="26"/>
                </a:lnTo>
                <a:lnTo>
                  <a:pt x="82" y="36"/>
                </a:lnTo>
                <a:lnTo>
                  <a:pt x="82" y="44"/>
                </a:lnTo>
                <a:lnTo>
                  <a:pt x="82" y="44"/>
                </a:lnTo>
                <a:lnTo>
                  <a:pt x="82" y="48"/>
                </a:lnTo>
                <a:lnTo>
                  <a:pt x="80" y="54"/>
                </a:lnTo>
                <a:lnTo>
                  <a:pt x="76" y="58"/>
                </a:lnTo>
                <a:lnTo>
                  <a:pt x="72" y="60"/>
                </a:lnTo>
                <a:lnTo>
                  <a:pt x="56" y="66"/>
                </a:lnTo>
                <a:lnTo>
                  <a:pt x="52" y="68"/>
                </a:lnTo>
                <a:lnTo>
                  <a:pt x="52" y="74"/>
                </a:lnTo>
                <a:lnTo>
                  <a:pt x="52" y="96"/>
                </a:lnTo>
                <a:lnTo>
                  <a:pt x="52" y="96"/>
                </a:lnTo>
                <a:lnTo>
                  <a:pt x="54" y="104"/>
                </a:lnTo>
                <a:lnTo>
                  <a:pt x="54" y="106"/>
                </a:lnTo>
                <a:lnTo>
                  <a:pt x="56" y="108"/>
                </a:lnTo>
                <a:lnTo>
                  <a:pt x="56" y="108"/>
                </a:lnTo>
                <a:lnTo>
                  <a:pt x="64" y="108"/>
                </a:lnTo>
                <a:lnTo>
                  <a:pt x="68" y="108"/>
                </a:lnTo>
                <a:lnTo>
                  <a:pt x="72" y="106"/>
                </a:lnTo>
                <a:lnTo>
                  <a:pt x="76" y="104"/>
                </a:lnTo>
                <a:lnTo>
                  <a:pt x="92" y="138"/>
                </a:lnTo>
                <a:lnTo>
                  <a:pt x="92" y="140"/>
                </a:lnTo>
                <a:lnTo>
                  <a:pt x="92" y="140"/>
                </a:lnTo>
                <a:lnTo>
                  <a:pt x="92" y="140"/>
                </a:lnTo>
                <a:lnTo>
                  <a:pt x="92" y="140"/>
                </a:lnTo>
                <a:lnTo>
                  <a:pt x="88" y="184"/>
                </a:lnTo>
                <a:lnTo>
                  <a:pt x="82" y="216"/>
                </a:lnTo>
                <a:lnTo>
                  <a:pt x="78" y="238"/>
                </a:lnTo>
                <a:lnTo>
                  <a:pt x="72" y="250"/>
                </a:lnTo>
                <a:lnTo>
                  <a:pt x="72" y="250"/>
                </a:lnTo>
                <a:lnTo>
                  <a:pt x="68" y="254"/>
                </a:lnTo>
                <a:lnTo>
                  <a:pt x="62" y="256"/>
                </a:lnTo>
                <a:lnTo>
                  <a:pt x="62" y="256"/>
                </a:lnTo>
                <a:lnTo>
                  <a:pt x="54" y="254"/>
                </a:lnTo>
                <a:lnTo>
                  <a:pt x="48" y="252"/>
                </a:lnTo>
                <a:lnTo>
                  <a:pt x="48" y="252"/>
                </a:lnTo>
                <a:lnTo>
                  <a:pt x="22" y="298"/>
                </a:lnTo>
                <a:lnTo>
                  <a:pt x="12" y="312"/>
                </a:lnTo>
                <a:lnTo>
                  <a:pt x="6" y="318"/>
                </a:lnTo>
                <a:lnTo>
                  <a:pt x="8" y="318"/>
                </a:lnTo>
                <a:lnTo>
                  <a:pt x="8" y="318"/>
                </a:lnTo>
                <a:lnTo>
                  <a:pt x="6" y="320"/>
                </a:lnTo>
                <a:lnTo>
                  <a:pt x="4" y="326"/>
                </a:lnTo>
                <a:lnTo>
                  <a:pt x="4" y="348"/>
                </a:lnTo>
                <a:lnTo>
                  <a:pt x="8" y="352"/>
                </a:lnTo>
                <a:lnTo>
                  <a:pt x="10" y="352"/>
                </a:lnTo>
                <a:lnTo>
                  <a:pt x="12" y="354"/>
                </a:lnTo>
                <a:lnTo>
                  <a:pt x="4" y="36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Freeform 13"/>
          <p:cNvSpPr/>
          <p:nvPr/>
        </p:nvSpPr>
        <p:spPr>
          <a:xfrm>
            <a:off x="5030640" y="5135400"/>
            <a:ext cx="520920" cy="451080"/>
          </a:xfrm>
          <a:custGeom>
            <a:avLst/>
            <a:gdLst>
              <a:gd name="textAreaLeft" fmla="*/ 0 w 520920"/>
              <a:gd name="textAreaRight" fmla="*/ 521280 w 52092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384" h="332">
                <a:moveTo>
                  <a:pt x="300" y="6"/>
                </a:moveTo>
                <a:lnTo>
                  <a:pt x="296" y="4"/>
                </a:lnTo>
                <a:lnTo>
                  <a:pt x="288" y="8"/>
                </a:lnTo>
                <a:lnTo>
                  <a:pt x="284" y="14"/>
                </a:lnTo>
                <a:lnTo>
                  <a:pt x="284" y="14"/>
                </a:lnTo>
                <a:lnTo>
                  <a:pt x="280" y="22"/>
                </a:lnTo>
                <a:lnTo>
                  <a:pt x="276" y="24"/>
                </a:lnTo>
                <a:lnTo>
                  <a:pt x="272" y="26"/>
                </a:lnTo>
                <a:lnTo>
                  <a:pt x="272" y="26"/>
                </a:lnTo>
                <a:lnTo>
                  <a:pt x="268" y="24"/>
                </a:lnTo>
                <a:lnTo>
                  <a:pt x="264" y="20"/>
                </a:lnTo>
                <a:lnTo>
                  <a:pt x="262" y="20"/>
                </a:lnTo>
                <a:lnTo>
                  <a:pt x="262" y="20"/>
                </a:lnTo>
                <a:lnTo>
                  <a:pt x="262" y="20"/>
                </a:lnTo>
                <a:lnTo>
                  <a:pt x="260" y="12"/>
                </a:lnTo>
                <a:lnTo>
                  <a:pt x="260" y="10"/>
                </a:lnTo>
                <a:lnTo>
                  <a:pt x="258" y="0"/>
                </a:lnTo>
                <a:lnTo>
                  <a:pt x="254" y="0"/>
                </a:lnTo>
                <a:lnTo>
                  <a:pt x="252" y="0"/>
                </a:lnTo>
                <a:lnTo>
                  <a:pt x="250" y="8"/>
                </a:lnTo>
                <a:lnTo>
                  <a:pt x="250" y="20"/>
                </a:lnTo>
                <a:lnTo>
                  <a:pt x="250" y="20"/>
                </a:lnTo>
                <a:lnTo>
                  <a:pt x="248" y="20"/>
                </a:lnTo>
                <a:lnTo>
                  <a:pt x="240" y="34"/>
                </a:lnTo>
                <a:lnTo>
                  <a:pt x="238" y="36"/>
                </a:lnTo>
                <a:lnTo>
                  <a:pt x="236" y="36"/>
                </a:lnTo>
                <a:lnTo>
                  <a:pt x="216" y="34"/>
                </a:lnTo>
                <a:lnTo>
                  <a:pt x="216" y="34"/>
                </a:lnTo>
                <a:lnTo>
                  <a:pt x="216" y="34"/>
                </a:lnTo>
                <a:lnTo>
                  <a:pt x="216" y="34"/>
                </a:lnTo>
                <a:lnTo>
                  <a:pt x="216" y="36"/>
                </a:lnTo>
                <a:lnTo>
                  <a:pt x="208" y="44"/>
                </a:lnTo>
                <a:lnTo>
                  <a:pt x="212" y="50"/>
                </a:lnTo>
                <a:lnTo>
                  <a:pt x="212" y="50"/>
                </a:lnTo>
                <a:lnTo>
                  <a:pt x="206" y="58"/>
                </a:lnTo>
                <a:lnTo>
                  <a:pt x="188" y="58"/>
                </a:lnTo>
                <a:lnTo>
                  <a:pt x="188" y="56"/>
                </a:lnTo>
                <a:lnTo>
                  <a:pt x="188" y="54"/>
                </a:lnTo>
                <a:lnTo>
                  <a:pt x="184" y="52"/>
                </a:lnTo>
                <a:lnTo>
                  <a:pt x="182" y="58"/>
                </a:lnTo>
                <a:lnTo>
                  <a:pt x="180" y="60"/>
                </a:lnTo>
                <a:lnTo>
                  <a:pt x="168" y="60"/>
                </a:lnTo>
                <a:lnTo>
                  <a:pt x="168" y="60"/>
                </a:lnTo>
                <a:lnTo>
                  <a:pt x="160" y="54"/>
                </a:lnTo>
                <a:lnTo>
                  <a:pt x="160" y="52"/>
                </a:lnTo>
                <a:lnTo>
                  <a:pt x="160" y="52"/>
                </a:lnTo>
                <a:lnTo>
                  <a:pt x="160" y="52"/>
                </a:lnTo>
                <a:lnTo>
                  <a:pt x="160" y="50"/>
                </a:lnTo>
                <a:lnTo>
                  <a:pt x="146" y="48"/>
                </a:lnTo>
                <a:lnTo>
                  <a:pt x="136" y="52"/>
                </a:lnTo>
                <a:lnTo>
                  <a:pt x="132" y="56"/>
                </a:lnTo>
                <a:lnTo>
                  <a:pt x="148" y="74"/>
                </a:lnTo>
                <a:lnTo>
                  <a:pt x="168" y="80"/>
                </a:lnTo>
                <a:lnTo>
                  <a:pt x="168" y="80"/>
                </a:lnTo>
                <a:lnTo>
                  <a:pt x="168" y="80"/>
                </a:lnTo>
                <a:lnTo>
                  <a:pt x="170" y="82"/>
                </a:lnTo>
                <a:lnTo>
                  <a:pt x="180" y="92"/>
                </a:lnTo>
                <a:lnTo>
                  <a:pt x="176" y="108"/>
                </a:lnTo>
                <a:lnTo>
                  <a:pt x="176" y="108"/>
                </a:lnTo>
                <a:lnTo>
                  <a:pt x="176" y="110"/>
                </a:lnTo>
                <a:lnTo>
                  <a:pt x="176" y="110"/>
                </a:lnTo>
                <a:lnTo>
                  <a:pt x="162" y="120"/>
                </a:lnTo>
                <a:lnTo>
                  <a:pt x="162" y="122"/>
                </a:lnTo>
                <a:lnTo>
                  <a:pt x="160" y="122"/>
                </a:lnTo>
                <a:lnTo>
                  <a:pt x="138" y="128"/>
                </a:lnTo>
                <a:lnTo>
                  <a:pt x="138" y="128"/>
                </a:lnTo>
                <a:lnTo>
                  <a:pt x="124" y="130"/>
                </a:lnTo>
                <a:lnTo>
                  <a:pt x="124" y="130"/>
                </a:lnTo>
                <a:lnTo>
                  <a:pt x="124" y="130"/>
                </a:lnTo>
                <a:lnTo>
                  <a:pt x="124" y="130"/>
                </a:lnTo>
                <a:lnTo>
                  <a:pt x="124" y="130"/>
                </a:lnTo>
                <a:lnTo>
                  <a:pt x="114" y="126"/>
                </a:lnTo>
                <a:lnTo>
                  <a:pt x="110" y="126"/>
                </a:lnTo>
                <a:lnTo>
                  <a:pt x="104" y="134"/>
                </a:lnTo>
                <a:lnTo>
                  <a:pt x="104" y="134"/>
                </a:lnTo>
                <a:lnTo>
                  <a:pt x="104" y="134"/>
                </a:lnTo>
                <a:lnTo>
                  <a:pt x="94" y="142"/>
                </a:lnTo>
                <a:lnTo>
                  <a:pt x="92" y="142"/>
                </a:lnTo>
                <a:lnTo>
                  <a:pt x="92" y="142"/>
                </a:lnTo>
                <a:lnTo>
                  <a:pt x="78" y="148"/>
                </a:lnTo>
                <a:lnTo>
                  <a:pt x="78" y="148"/>
                </a:lnTo>
                <a:lnTo>
                  <a:pt x="60" y="142"/>
                </a:lnTo>
                <a:lnTo>
                  <a:pt x="24" y="144"/>
                </a:lnTo>
                <a:lnTo>
                  <a:pt x="16" y="146"/>
                </a:lnTo>
                <a:lnTo>
                  <a:pt x="16" y="148"/>
                </a:lnTo>
                <a:lnTo>
                  <a:pt x="8" y="148"/>
                </a:lnTo>
                <a:lnTo>
                  <a:pt x="0" y="160"/>
                </a:lnTo>
                <a:lnTo>
                  <a:pt x="0" y="172"/>
                </a:lnTo>
                <a:lnTo>
                  <a:pt x="8" y="192"/>
                </a:lnTo>
                <a:lnTo>
                  <a:pt x="18" y="196"/>
                </a:lnTo>
                <a:lnTo>
                  <a:pt x="18" y="196"/>
                </a:lnTo>
                <a:lnTo>
                  <a:pt x="18" y="196"/>
                </a:lnTo>
                <a:lnTo>
                  <a:pt x="22" y="200"/>
                </a:lnTo>
                <a:lnTo>
                  <a:pt x="28" y="192"/>
                </a:lnTo>
                <a:lnTo>
                  <a:pt x="28" y="190"/>
                </a:lnTo>
                <a:lnTo>
                  <a:pt x="28" y="190"/>
                </a:lnTo>
                <a:lnTo>
                  <a:pt x="30" y="190"/>
                </a:lnTo>
                <a:lnTo>
                  <a:pt x="42" y="188"/>
                </a:lnTo>
                <a:lnTo>
                  <a:pt x="44" y="188"/>
                </a:lnTo>
                <a:lnTo>
                  <a:pt x="44" y="188"/>
                </a:lnTo>
                <a:lnTo>
                  <a:pt x="56" y="192"/>
                </a:lnTo>
                <a:lnTo>
                  <a:pt x="68" y="220"/>
                </a:lnTo>
                <a:lnTo>
                  <a:pt x="66" y="220"/>
                </a:lnTo>
                <a:lnTo>
                  <a:pt x="66" y="220"/>
                </a:lnTo>
                <a:lnTo>
                  <a:pt x="62" y="236"/>
                </a:lnTo>
                <a:lnTo>
                  <a:pt x="62" y="236"/>
                </a:lnTo>
                <a:lnTo>
                  <a:pt x="58" y="244"/>
                </a:lnTo>
                <a:lnTo>
                  <a:pt x="58" y="246"/>
                </a:lnTo>
                <a:lnTo>
                  <a:pt x="52" y="260"/>
                </a:lnTo>
                <a:lnTo>
                  <a:pt x="52" y="276"/>
                </a:lnTo>
                <a:lnTo>
                  <a:pt x="62" y="286"/>
                </a:lnTo>
                <a:lnTo>
                  <a:pt x="62" y="286"/>
                </a:lnTo>
                <a:lnTo>
                  <a:pt x="76" y="296"/>
                </a:lnTo>
                <a:lnTo>
                  <a:pt x="76" y="298"/>
                </a:lnTo>
                <a:lnTo>
                  <a:pt x="78" y="298"/>
                </a:lnTo>
                <a:lnTo>
                  <a:pt x="68" y="320"/>
                </a:lnTo>
                <a:lnTo>
                  <a:pt x="66" y="332"/>
                </a:lnTo>
                <a:lnTo>
                  <a:pt x="68" y="330"/>
                </a:lnTo>
                <a:lnTo>
                  <a:pt x="70" y="330"/>
                </a:lnTo>
                <a:lnTo>
                  <a:pt x="78" y="326"/>
                </a:lnTo>
                <a:lnTo>
                  <a:pt x="92" y="318"/>
                </a:lnTo>
                <a:lnTo>
                  <a:pt x="92" y="318"/>
                </a:lnTo>
                <a:lnTo>
                  <a:pt x="108" y="320"/>
                </a:lnTo>
                <a:lnTo>
                  <a:pt x="110" y="320"/>
                </a:lnTo>
                <a:lnTo>
                  <a:pt x="110" y="320"/>
                </a:lnTo>
                <a:lnTo>
                  <a:pt x="134" y="330"/>
                </a:lnTo>
                <a:lnTo>
                  <a:pt x="160" y="330"/>
                </a:lnTo>
                <a:lnTo>
                  <a:pt x="168" y="320"/>
                </a:lnTo>
                <a:lnTo>
                  <a:pt x="168" y="320"/>
                </a:lnTo>
                <a:lnTo>
                  <a:pt x="168" y="320"/>
                </a:lnTo>
                <a:lnTo>
                  <a:pt x="182" y="312"/>
                </a:lnTo>
                <a:lnTo>
                  <a:pt x="196" y="302"/>
                </a:lnTo>
                <a:lnTo>
                  <a:pt x="196" y="300"/>
                </a:lnTo>
                <a:lnTo>
                  <a:pt x="196" y="300"/>
                </a:lnTo>
                <a:lnTo>
                  <a:pt x="206" y="298"/>
                </a:lnTo>
                <a:lnTo>
                  <a:pt x="216" y="290"/>
                </a:lnTo>
                <a:lnTo>
                  <a:pt x="228" y="274"/>
                </a:lnTo>
                <a:lnTo>
                  <a:pt x="246" y="280"/>
                </a:lnTo>
                <a:lnTo>
                  <a:pt x="248" y="280"/>
                </a:lnTo>
                <a:lnTo>
                  <a:pt x="248" y="282"/>
                </a:lnTo>
                <a:lnTo>
                  <a:pt x="248" y="282"/>
                </a:lnTo>
                <a:lnTo>
                  <a:pt x="248" y="282"/>
                </a:lnTo>
                <a:lnTo>
                  <a:pt x="252" y="290"/>
                </a:lnTo>
                <a:lnTo>
                  <a:pt x="256" y="292"/>
                </a:lnTo>
                <a:lnTo>
                  <a:pt x="266" y="292"/>
                </a:lnTo>
                <a:lnTo>
                  <a:pt x="268" y="292"/>
                </a:lnTo>
                <a:lnTo>
                  <a:pt x="274" y="292"/>
                </a:lnTo>
                <a:lnTo>
                  <a:pt x="276" y="292"/>
                </a:lnTo>
                <a:lnTo>
                  <a:pt x="276" y="294"/>
                </a:lnTo>
                <a:lnTo>
                  <a:pt x="288" y="298"/>
                </a:lnTo>
                <a:lnTo>
                  <a:pt x="292" y="298"/>
                </a:lnTo>
                <a:lnTo>
                  <a:pt x="294" y="296"/>
                </a:lnTo>
                <a:lnTo>
                  <a:pt x="296" y="290"/>
                </a:lnTo>
                <a:lnTo>
                  <a:pt x="296" y="290"/>
                </a:lnTo>
                <a:lnTo>
                  <a:pt x="296" y="288"/>
                </a:lnTo>
                <a:lnTo>
                  <a:pt x="296" y="288"/>
                </a:lnTo>
                <a:lnTo>
                  <a:pt x="296" y="288"/>
                </a:lnTo>
                <a:lnTo>
                  <a:pt x="302" y="284"/>
                </a:lnTo>
                <a:lnTo>
                  <a:pt x="302" y="284"/>
                </a:lnTo>
                <a:lnTo>
                  <a:pt x="312" y="276"/>
                </a:lnTo>
                <a:lnTo>
                  <a:pt x="312" y="276"/>
                </a:lnTo>
                <a:lnTo>
                  <a:pt x="312" y="276"/>
                </a:lnTo>
                <a:lnTo>
                  <a:pt x="314" y="276"/>
                </a:lnTo>
                <a:lnTo>
                  <a:pt x="322" y="276"/>
                </a:lnTo>
                <a:lnTo>
                  <a:pt x="322" y="276"/>
                </a:lnTo>
                <a:lnTo>
                  <a:pt x="324" y="268"/>
                </a:lnTo>
                <a:lnTo>
                  <a:pt x="330" y="262"/>
                </a:lnTo>
                <a:lnTo>
                  <a:pt x="330" y="262"/>
                </a:lnTo>
                <a:lnTo>
                  <a:pt x="336" y="258"/>
                </a:lnTo>
                <a:lnTo>
                  <a:pt x="342" y="256"/>
                </a:lnTo>
                <a:lnTo>
                  <a:pt x="346" y="252"/>
                </a:lnTo>
                <a:lnTo>
                  <a:pt x="348" y="252"/>
                </a:lnTo>
                <a:lnTo>
                  <a:pt x="348" y="252"/>
                </a:lnTo>
                <a:lnTo>
                  <a:pt x="352" y="248"/>
                </a:lnTo>
                <a:lnTo>
                  <a:pt x="352" y="248"/>
                </a:lnTo>
                <a:lnTo>
                  <a:pt x="352" y="248"/>
                </a:lnTo>
                <a:lnTo>
                  <a:pt x="352" y="246"/>
                </a:lnTo>
                <a:lnTo>
                  <a:pt x="354" y="246"/>
                </a:lnTo>
                <a:lnTo>
                  <a:pt x="366" y="244"/>
                </a:lnTo>
                <a:lnTo>
                  <a:pt x="374" y="244"/>
                </a:lnTo>
                <a:lnTo>
                  <a:pt x="376" y="240"/>
                </a:lnTo>
                <a:lnTo>
                  <a:pt x="380" y="236"/>
                </a:lnTo>
                <a:lnTo>
                  <a:pt x="380" y="236"/>
                </a:lnTo>
                <a:lnTo>
                  <a:pt x="384" y="228"/>
                </a:lnTo>
                <a:lnTo>
                  <a:pt x="382" y="228"/>
                </a:lnTo>
                <a:lnTo>
                  <a:pt x="382" y="228"/>
                </a:lnTo>
                <a:lnTo>
                  <a:pt x="376" y="218"/>
                </a:lnTo>
                <a:lnTo>
                  <a:pt x="372" y="206"/>
                </a:lnTo>
                <a:lnTo>
                  <a:pt x="372" y="206"/>
                </a:lnTo>
                <a:lnTo>
                  <a:pt x="372" y="206"/>
                </a:lnTo>
                <a:lnTo>
                  <a:pt x="372" y="206"/>
                </a:lnTo>
                <a:lnTo>
                  <a:pt x="372" y="204"/>
                </a:lnTo>
                <a:lnTo>
                  <a:pt x="376" y="188"/>
                </a:lnTo>
                <a:lnTo>
                  <a:pt x="376" y="188"/>
                </a:lnTo>
                <a:lnTo>
                  <a:pt x="376" y="180"/>
                </a:lnTo>
                <a:lnTo>
                  <a:pt x="380" y="174"/>
                </a:lnTo>
                <a:lnTo>
                  <a:pt x="380" y="160"/>
                </a:lnTo>
                <a:lnTo>
                  <a:pt x="380" y="160"/>
                </a:lnTo>
                <a:lnTo>
                  <a:pt x="378" y="158"/>
                </a:lnTo>
                <a:lnTo>
                  <a:pt x="372" y="156"/>
                </a:lnTo>
                <a:lnTo>
                  <a:pt x="348" y="166"/>
                </a:lnTo>
                <a:lnTo>
                  <a:pt x="348" y="140"/>
                </a:lnTo>
                <a:lnTo>
                  <a:pt x="348" y="140"/>
                </a:lnTo>
                <a:lnTo>
                  <a:pt x="350" y="136"/>
                </a:lnTo>
                <a:lnTo>
                  <a:pt x="356" y="132"/>
                </a:lnTo>
                <a:lnTo>
                  <a:pt x="372" y="120"/>
                </a:lnTo>
                <a:lnTo>
                  <a:pt x="366" y="92"/>
                </a:lnTo>
                <a:lnTo>
                  <a:pt x="366" y="92"/>
                </a:lnTo>
                <a:lnTo>
                  <a:pt x="366" y="84"/>
                </a:lnTo>
                <a:lnTo>
                  <a:pt x="366" y="78"/>
                </a:lnTo>
                <a:lnTo>
                  <a:pt x="368" y="74"/>
                </a:lnTo>
                <a:lnTo>
                  <a:pt x="372" y="68"/>
                </a:lnTo>
                <a:lnTo>
                  <a:pt x="372" y="64"/>
                </a:lnTo>
                <a:lnTo>
                  <a:pt x="364" y="64"/>
                </a:lnTo>
                <a:lnTo>
                  <a:pt x="360" y="64"/>
                </a:lnTo>
                <a:lnTo>
                  <a:pt x="356" y="76"/>
                </a:lnTo>
                <a:lnTo>
                  <a:pt x="356" y="76"/>
                </a:lnTo>
                <a:lnTo>
                  <a:pt x="352" y="80"/>
                </a:lnTo>
                <a:lnTo>
                  <a:pt x="348" y="82"/>
                </a:lnTo>
                <a:lnTo>
                  <a:pt x="346" y="82"/>
                </a:lnTo>
                <a:lnTo>
                  <a:pt x="338" y="76"/>
                </a:lnTo>
                <a:lnTo>
                  <a:pt x="336" y="76"/>
                </a:lnTo>
                <a:lnTo>
                  <a:pt x="336" y="76"/>
                </a:lnTo>
                <a:lnTo>
                  <a:pt x="336" y="76"/>
                </a:lnTo>
                <a:lnTo>
                  <a:pt x="336" y="74"/>
                </a:lnTo>
                <a:lnTo>
                  <a:pt x="334" y="68"/>
                </a:lnTo>
                <a:lnTo>
                  <a:pt x="332" y="60"/>
                </a:lnTo>
                <a:lnTo>
                  <a:pt x="332" y="60"/>
                </a:lnTo>
                <a:lnTo>
                  <a:pt x="332" y="60"/>
                </a:lnTo>
                <a:lnTo>
                  <a:pt x="332" y="64"/>
                </a:lnTo>
                <a:lnTo>
                  <a:pt x="316" y="64"/>
                </a:lnTo>
                <a:lnTo>
                  <a:pt x="316" y="60"/>
                </a:lnTo>
                <a:lnTo>
                  <a:pt x="312" y="52"/>
                </a:lnTo>
                <a:lnTo>
                  <a:pt x="312" y="40"/>
                </a:lnTo>
                <a:lnTo>
                  <a:pt x="304" y="24"/>
                </a:lnTo>
                <a:lnTo>
                  <a:pt x="304" y="12"/>
                </a:lnTo>
                <a:lnTo>
                  <a:pt x="300" y="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Freeform 14"/>
          <p:cNvSpPr/>
          <p:nvPr/>
        </p:nvSpPr>
        <p:spPr>
          <a:xfrm>
            <a:off x="5114880" y="5411880"/>
            <a:ext cx="681120" cy="519120"/>
          </a:xfrm>
          <a:custGeom>
            <a:avLst/>
            <a:gdLst>
              <a:gd name="textAreaLeft" fmla="*/ 0 w 681120"/>
              <a:gd name="textAreaRight" fmla="*/ 681480 w 68112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502" h="382">
                <a:moveTo>
                  <a:pt x="402" y="8"/>
                </a:moveTo>
                <a:lnTo>
                  <a:pt x="402" y="10"/>
                </a:lnTo>
                <a:lnTo>
                  <a:pt x="404" y="12"/>
                </a:lnTo>
                <a:lnTo>
                  <a:pt x="394" y="28"/>
                </a:lnTo>
                <a:lnTo>
                  <a:pt x="394" y="28"/>
                </a:lnTo>
                <a:lnTo>
                  <a:pt x="386" y="34"/>
                </a:lnTo>
                <a:lnTo>
                  <a:pt x="378" y="36"/>
                </a:lnTo>
                <a:lnTo>
                  <a:pt x="376" y="36"/>
                </a:lnTo>
                <a:lnTo>
                  <a:pt x="368" y="30"/>
                </a:lnTo>
                <a:lnTo>
                  <a:pt x="360" y="32"/>
                </a:lnTo>
                <a:lnTo>
                  <a:pt x="344" y="44"/>
                </a:lnTo>
                <a:lnTo>
                  <a:pt x="344" y="44"/>
                </a:lnTo>
                <a:lnTo>
                  <a:pt x="340" y="44"/>
                </a:lnTo>
                <a:lnTo>
                  <a:pt x="336" y="42"/>
                </a:lnTo>
                <a:lnTo>
                  <a:pt x="328" y="32"/>
                </a:lnTo>
                <a:lnTo>
                  <a:pt x="322" y="42"/>
                </a:lnTo>
                <a:lnTo>
                  <a:pt x="322" y="42"/>
                </a:lnTo>
                <a:lnTo>
                  <a:pt x="322" y="42"/>
                </a:lnTo>
                <a:lnTo>
                  <a:pt x="322" y="42"/>
                </a:lnTo>
                <a:lnTo>
                  <a:pt x="322" y="42"/>
                </a:lnTo>
                <a:lnTo>
                  <a:pt x="316" y="48"/>
                </a:lnTo>
                <a:lnTo>
                  <a:pt x="306" y="48"/>
                </a:lnTo>
                <a:lnTo>
                  <a:pt x="294" y="52"/>
                </a:lnTo>
                <a:lnTo>
                  <a:pt x="282" y="60"/>
                </a:lnTo>
                <a:lnTo>
                  <a:pt x="278" y="60"/>
                </a:lnTo>
                <a:lnTo>
                  <a:pt x="274" y="64"/>
                </a:lnTo>
                <a:lnTo>
                  <a:pt x="274" y="64"/>
                </a:lnTo>
                <a:lnTo>
                  <a:pt x="270" y="70"/>
                </a:lnTo>
                <a:lnTo>
                  <a:pt x="270" y="72"/>
                </a:lnTo>
                <a:lnTo>
                  <a:pt x="270" y="74"/>
                </a:lnTo>
                <a:lnTo>
                  <a:pt x="276" y="82"/>
                </a:lnTo>
                <a:lnTo>
                  <a:pt x="254" y="80"/>
                </a:lnTo>
                <a:lnTo>
                  <a:pt x="242" y="90"/>
                </a:lnTo>
                <a:lnTo>
                  <a:pt x="240" y="94"/>
                </a:lnTo>
                <a:lnTo>
                  <a:pt x="240" y="94"/>
                </a:lnTo>
                <a:lnTo>
                  <a:pt x="238" y="100"/>
                </a:lnTo>
                <a:lnTo>
                  <a:pt x="236" y="102"/>
                </a:lnTo>
                <a:lnTo>
                  <a:pt x="236" y="102"/>
                </a:lnTo>
                <a:lnTo>
                  <a:pt x="224" y="102"/>
                </a:lnTo>
                <a:lnTo>
                  <a:pt x="210" y="96"/>
                </a:lnTo>
                <a:lnTo>
                  <a:pt x="206" y="96"/>
                </a:lnTo>
                <a:lnTo>
                  <a:pt x="194" y="98"/>
                </a:lnTo>
                <a:lnTo>
                  <a:pt x="194" y="98"/>
                </a:lnTo>
                <a:lnTo>
                  <a:pt x="190" y="96"/>
                </a:lnTo>
                <a:lnTo>
                  <a:pt x="186" y="94"/>
                </a:lnTo>
                <a:lnTo>
                  <a:pt x="178" y="84"/>
                </a:lnTo>
                <a:lnTo>
                  <a:pt x="170" y="80"/>
                </a:lnTo>
                <a:lnTo>
                  <a:pt x="162" y="92"/>
                </a:lnTo>
                <a:lnTo>
                  <a:pt x="162" y="92"/>
                </a:lnTo>
                <a:lnTo>
                  <a:pt x="160" y="92"/>
                </a:lnTo>
                <a:lnTo>
                  <a:pt x="150" y="100"/>
                </a:lnTo>
                <a:lnTo>
                  <a:pt x="148" y="100"/>
                </a:lnTo>
                <a:lnTo>
                  <a:pt x="148" y="102"/>
                </a:lnTo>
                <a:lnTo>
                  <a:pt x="146" y="102"/>
                </a:lnTo>
                <a:lnTo>
                  <a:pt x="138" y="104"/>
                </a:lnTo>
                <a:lnTo>
                  <a:pt x="126" y="116"/>
                </a:lnTo>
                <a:lnTo>
                  <a:pt x="126" y="116"/>
                </a:lnTo>
                <a:lnTo>
                  <a:pt x="112" y="122"/>
                </a:lnTo>
                <a:lnTo>
                  <a:pt x="102" y="134"/>
                </a:lnTo>
                <a:lnTo>
                  <a:pt x="70" y="134"/>
                </a:lnTo>
                <a:lnTo>
                  <a:pt x="70" y="134"/>
                </a:lnTo>
                <a:lnTo>
                  <a:pt x="46" y="124"/>
                </a:lnTo>
                <a:lnTo>
                  <a:pt x="32" y="124"/>
                </a:lnTo>
                <a:lnTo>
                  <a:pt x="20" y="130"/>
                </a:lnTo>
                <a:lnTo>
                  <a:pt x="18" y="130"/>
                </a:lnTo>
                <a:lnTo>
                  <a:pt x="18" y="130"/>
                </a:lnTo>
                <a:lnTo>
                  <a:pt x="10" y="132"/>
                </a:lnTo>
                <a:lnTo>
                  <a:pt x="10" y="132"/>
                </a:lnTo>
                <a:lnTo>
                  <a:pt x="2" y="138"/>
                </a:lnTo>
                <a:lnTo>
                  <a:pt x="0" y="142"/>
                </a:lnTo>
                <a:lnTo>
                  <a:pt x="0" y="152"/>
                </a:lnTo>
                <a:lnTo>
                  <a:pt x="4" y="158"/>
                </a:lnTo>
                <a:lnTo>
                  <a:pt x="22" y="152"/>
                </a:lnTo>
                <a:lnTo>
                  <a:pt x="22" y="152"/>
                </a:lnTo>
                <a:lnTo>
                  <a:pt x="30" y="154"/>
                </a:lnTo>
                <a:lnTo>
                  <a:pt x="40" y="158"/>
                </a:lnTo>
                <a:lnTo>
                  <a:pt x="42" y="158"/>
                </a:lnTo>
                <a:lnTo>
                  <a:pt x="42" y="160"/>
                </a:lnTo>
                <a:lnTo>
                  <a:pt x="42" y="186"/>
                </a:lnTo>
                <a:lnTo>
                  <a:pt x="46" y="188"/>
                </a:lnTo>
                <a:lnTo>
                  <a:pt x="64" y="188"/>
                </a:lnTo>
                <a:lnTo>
                  <a:pt x="74" y="184"/>
                </a:lnTo>
                <a:lnTo>
                  <a:pt x="76" y="184"/>
                </a:lnTo>
                <a:lnTo>
                  <a:pt x="76" y="184"/>
                </a:lnTo>
                <a:lnTo>
                  <a:pt x="86" y="180"/>
                </a:lnTo>
                <a:lnTo>
                  <a:pt x="94" y="176"/>
                </a:lnTo>
                <a:lnTo>
                  <a:pt x="98" y="176"/>
                </a:lnTo>
                <a:lnTo>
                  <a:pt x="100" y="178"/>
                </a:lnTo>
                <a:lnTo>
                  <a:pt x="104" y="188"/>
                </a:lnTo>
                <a:lnTo>
                  <a:pt x="104" y="188"/>
                </a:lnTo>
                <a:lnTo>
                  <a:pt x="106" y="216"/>
                </a:lnTo>
                <a:lnTo>
                  <a:pt x="106" y="218"/>
                </a:lnTo>
                <a:lnTo>
                  <a:pt x="92" y="232"/>
                </a:lnTo>
                <a:lnTo>
                  <a:pt x="92" y="232"/>
                </a:lnTo>
                <a:lnTo>
                  <a:pt x="92" y="234"/>
                </a:lnTo>
                <a:lnTo>
                  <a:pt x="74" y="242"/>
                </a:lnTo>
                <a:lnTo>
                  <a:pt x="70" y="248"/>
                </a:lnTo>
                <a:lnTo>
                  <a:pt x="72" y="252"/>
                </a:lnTo>
                <a:lnTo>
                  <a:pt x="106" y="256"/>
                </a:lnTo>
                <a:lnTo>
                  <a:pt x="106" y="256"/>
                </a:lnTo>
                <a:lnTo>
                  <a:pt x="106" y="256"/>
                </a:lnTo>
                <a:lnTo>
                  <a:pt x="108" y="258"/>
                </a:lnTo>
                <a:lnTo>
                  <a:pt x="122" y="266"/>
                </a:lnTo>
                <a:lnTo>
                  <a:pt x="152" y="264"/>
                </a:lnTo>
                <a:lnTo>
                  <a:pt x="152" y="268"/>
                </a:lnTo>
                <a:lnTo>
                  <a:pt x="154" y="284"/>
                </a:lnTo>
                <a:lnTo>
                  <a:pt x="154" y="286"/>
                </a:lnTo>
                <a:lnTo>
                  <a:pt x="154" y="286"/>
                </a:lnTo>
                <a:lnTo>
                  <a:pt x="140" y="300"/>
                </a:lnTo>
                <a:lnTo>
                  <a:pt x="140" y="300"/>
                </a:lnTo>
                <a:lnTo>
                  <a:pt x="140" y="312"/>
                </a:lnTo>
                <a:lnTo>
                  <a:pt x="142" y="320"/>
                </a:lnTo>
                <a:lnTo>
                  <a:pt x="144" y="326"/>
                </a:lnTo>
                <a:lnTo>
                  <a:pt x="150" y="330"/>
                </a:lnTo>
                <a:lnTo>
                  <a:pt x="174" y="344"/>
                </a:lnTo>
                <a:lnTo>
                  <a:pt x="194" y="356"/>
                </a:lnTo>
                <a:lnTo>
                  <a:pt x="212" y="348"/>
                </a:lnTo>
                <a:lnTo>
                  <a:pt x="214" y="348"/>
                </a:lnTo>
                <a:lnTo>
                  <a:pt x="214" y="348"/>
                </a:lnTo>
                <a:lnTo>
                  <a:pt x="216" y="348"/>
                </a:lnTo>
                <a:lnTo>
                  <a:pt x="242" y="368"/>
                </a:lnTo>
                <a:lnTo>
                  <a:pt x="246" y="368"/>
                </a:lnTo>
                <a:lnTo>
                  <a:pt x="252" y="360"/>
                </a:lnTo>
                <a:lnTo>
                  <a:pt x="254" y="360"/>
                </a:lnTo>
                <a:lnTo>
                  <a:pt x="254" y="358"/>
                </a:lnTo>
                <a:lnTo>
                  <a:pt x="254" y="358"/>
                </a:lnTo>
                <a:lnTo>
                  <a:pt x="256" y="358"/>
                </a:lnTo>
                <a:lnTo>
                  <a:pt x="270" y="360"/>
                </a:lnTo>
                <a:lnTo>
                  <a:pt x="274" y="334"/>
                </a:lnTo>
                <a:lnTo>
                  <a:pt x="294" y="368"/>
                </a:lnTo>
                <a:lnTo>
                  <a:pt x="310" y="370"/>
                </a:lnTo>
                <a:lnTo>
                  <a:pt x="312" y="370"/>
                </a:lnTo>
                <a:lnTo>
                  <a:pt x="314" y="370"/>
                </a:lnTo>
                <a:lnTo>
                  <a:pt x="314" y="372"/>
                </a:lnTo>
                <a:lnTo>
                  <a:pt x="314" y="382"/>
                </a:lnTo>
                <a:lnTo>
                  <a:pt x="320" y="380"/>
                </a:lnTo>
                <a:lnTo>
                  <a:pt x="346" y="346"/>
                </a:lnTo>
                <a:lnTo>
                  <a:pt x="358" y="362"/>
                </a:lnTo>
                <a:lnTo>
                  <a:pt x="358" y="356"/>
                </a:lnTo>
                <a:lnTo>
                  <a:pt x="358" y="356"/>
                </a:lnTo>
                <a:lnTo>
                  <a:pt x="358" y="356"/>
                </a:lnTo>
                <a:lnTo>
                  <a:pt x="358" y="356"/>
                </a:lnTo>
                <a:lnTo>
                  <a:pt x="366" y="340"/>
                </a:lnTo>
                <a:lnTo>
                  <a:pt x="372" y="328"/>
                </a:lnTo>
                <a:lnTo>
                  <a:pt x="392" y="328"/>
                </a:lnTo>
                <a:lnTo>
                  <a:pt x="396" y="304"/>
                </a:lnTo>
                <a:lnTo>
                  <a:pt x="398" y="304"/>
                </a:lnTo>
                <a:lnTo>
                  <a:pt x="400" y="306"/>
                </a:lnTo>
                <a:lnTo>
                  <a:pt x="414" y="308"/>
                </a:lnTo>
                <a:lnTo>
                  <a:pt x="416" y="300"/>
                </a:lnTo>
                <a:lnTo>
                  <a:pt x="410" y="288"/>
                </a:lnTo>
                <a:lnTo>
                  <a:pt x="410" y="286"/>
                </a:lnTo>
                <a:lnTo>
                  <a:pt x="414" y="276"/>
                </a:lnTo>
                <a:lnTo>
                  <a:pt x="414" y="276"/>
                </a:lnTo>
                <a:lnTo>
                  <a:pt x="414" y="274"/>
                </a:lnTo>
                <a:lnTo>
                  <a:pt x="416" y="274"/>
                </a:lnTo>
                <a:lnTo>
                  <a:pt x="416" y="274"/>
                </a:lnTo>
                <a:lnTo>
                  <a:pt x="458" y="252"/>
                </a:lnTo>
                <a:lnTo>
                  <a:pt x="456" y="230"/>
                </a:lnTo>
                <a:lnTo>
                  <a:pt x="456" y="230"/>
                </a:lnTo>
                <a:lnTo>
                  <a:pt x="456" y="228"/>
                </a:lnTo>
                <a:lnTo>
                  <a:pt x="464" y="212"/>
                </a:lnTo>
                <a:lnTo>
                  <a:pt x="466" y="210"/>
                </a:lnTo>
                <a:lnTo>
                  <a:pt x="466" y="210"/>
                </a:lnTo>
                <a:lnTo>
                  <a:pt x="478" y="180"/>
                </a:lnTo>
                <a:lnTo>
                  <a:pt x="478" y="180"/>
                </a:lnTo>
                <a:lnTo>
                  <a:pt x="478" y="180"/>
                </a:lnTo>
                <a:lnTo>
                  <a:pt x="490" y="168"/>
                </a:lnTo>
                <a:lnTo>
                  <a:pt x="496" y="156"/>
                </a:lnTo>
                <a:lnTo>
                  <a:pt x="496" y="156"/>
                </a:lnTo>
                <a:lnTo>
                  <a:pt x="496" y="156"/>
                </a:lnTo>
                <a:lnTo>
                  <a:pt x="502" y="146"/>
                </a:lnTo>
                <a:lnTo>
                  <a:pt x="496" y="134"/>
                </a:lnTo>
                <a:lnTo>
                  <a:pt x="496" y="132"/>
                </a:lnTo>
                <a:lnTo>
                  <a:pt x="496" y="132"/>
                </a:lnTo>
                <a:lnTo>
                  <a:pt x="496" y="120"/>
                </a:lnTo>
                <a:lnTo>
                  <a:pt x="490" y="120"/>
                </a:lnTo>
                <a:lnTo>
                  <a:pt x="478" y="126"/>
                </a:lnTo>
                <a:lnTo>
                  <a:pt x="478" y="126"/>
                </a:lnTo>
                <a:lnTo>
                  <a:pt x="472" y="128"/>
                </a:lnTo>
                <a:lnTo>
                  <a:pt x="468" y="128"/>
                </a:lnTo>
                <a:lnTo>
                  <a:pt x="460" y="126"/>
                </a:lnTo>
                <a:lnTo>
                  <a:pt x="454" y="122"/>
                </a:lnTo>
                <a:lnTo>
                  <a:pt x="454" y="122"/>
                </a:lnTo>
                <a:lnTo>
                  <a:pt x="452" y="118"/>
                </a:lnTo>
                <a:lnTo>
                  <a:pt x="450" y="114"/>
                </a:lnTo>
                <a:lnTo>
                  <a:pt x="452" y="98"/>
                </a:lnTo>
                <a:lnTo>
                  <a:pt x="446" y="98"/>
                </a:lnTo>
                <a:lnTo>
                  <a:pt x="442" y="102"/>
                </a:lnTo>
                <a:lnTo>
                  <a:pt x="442" y="102"/>
                </a:lnTo>
                <a:lnTo>
                  <a:pt x="432" y="112"/>
                </a:lnTo>
                <a:lnTo>
                  <a:pt x="428" y="114"/>
                </a:lnTo>
                <a:lnTo>
                  <a:pt x="428" y="114"/>
                </a:lnTo>
                <a:lnTo>
                  <a:pt x="424" y="114"/>
                </a:lnTo>
                <a:lnTo>
                  <a:pt x="424" y="114"/>
                </a:lnTo>
                <a:lnTo>
                  <a:pt x="422" y="108"/>
                </a:lnTo>
                <a:lnTo>
                  <a:pt x="422" y="100"/>
                </a:lnTo>
                <a:lnTo>
                  <a:pt x="422" y="100"/>
                </a:lnTo>
                <a:lnTo>
                  <a:pt x="422" y="92"/>
                </a:lnTo>
                <a:lnTo>
                  <a:pt x="424" y="88"/>
                </a:lnTo>
                <a:lnTo>
                  <a:pt x="424" y="88"/>
                </a:lnTo>
                <a:lnTo>
                  <a:pt x="426" y="86"/>
                </a:lnTo>
                <a:lnTo>
                  <a:pt x="428" y="86"/>
                </a:lnTo>
                <a:lnTo>
                  <a:pt x="444" y="58"/>
                </a:lnTo>
                <a:lnTo>
                  <a:pt x="448" y="48"/>
                </a:lnTo>
                <a:lnTo>
                  <a:pt x="450" y="36"/>
                </a:lnTo>
                <a:lnTo>
                  <a:pt x="442" y="28"/>
                </a:lnTo>
                <a:lnTo>
                  <a:pt x="442" y="28"/>
                </a:lnTo>
                <a:lnTo>
                  <a:pt x="440" y="22"/>
                </a:lnTo>
                <a:lnTo>
                  <a:pt x="440" y="12"/>
                </a:lnTo>
                <a:lnTo>
                  <a:pt x="440" y="8"/>
                </a:lnTo>
                <a:lnTo>
                  <a:pt x="440" y="8"/>
                </a:lnTo>
                <a:lnTo>
                  <a:pt x="438" y="4"/>
                </a:lnTo>
                <a:lnTo>
                  <a:pt x="434" y="0"/>
                </a:lnTo>
                <a:lnTo>
                  <a:pt x="434" y="0"/>
                </a:lnTo>
                <a:lnTo>
                  <a:pt x="432" y="2"/>
                </a:lnTo>
                <a:lnTo>
                  <a:pt x="432" y="2"/>
                </a:lnTo>
                <a:lnTo>
                  <a:pt x="430" y="6"/>
                </a:lnTo>
                <a:lnTo>
                  <a:pt x="426" y="8"/>
                </a:lnTo>
                <a:lnTo>
                  <a:pt x="422" y="10"/>
                </a:lnTo>
                <a:lnTo>
                  <a:pt x="416" y="8"/>
                </a:lnTo>
                <a:lnTo>
                  <a:pt x="416" y="8"/>
                </a:lnTo>
                <a:lnTo>
                  <a:pt x="410" y="8"/>
                </a:lnTo>
                <a:lnTo>
                  <a:pt x="402" y="8"/>
                </a:lnTo>
                <a:lnTo>
                  <a:pt x="402" y="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>
            <a:off x="5210280" y="4842000"/>
            <a:ext cx="385560" cy="392040"/>
          </a:xfrm>
          <a:custGeom>
            <a:avLst/>
            <a:gdLst>
              <a:gd name="textAreaLeft" fmla="*/ 0 w 385560"/>
              <a:gd name="textAreaRight" fmla="*/ 385920 w 38556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284" h="288">
                <a:moveTo>
                  <a:pt x="284" y="58"/>
                </a:moveTo>
                <a:lnTo>
                  <a:pt x="278" y="44"/>
                </a:lnTo>
                <a:lnTo>
                  <a:pt x="268" y="32"/>
                </a:lnTo>
                <a:lnTo>
                  <a:pt x="260" y="30"/>
                </a:lnTo>
                <a:lnTo>
                  <a:pt x="258" y="30"/>
                </a:lnTo>
                <a:lnTo>
                  <a:pt x="258" y="28"/>
                </a:lnTo>
                <a:lnTo>
                  <a:pt x="258" y="28"/>
                </a:lnTo>
                <a:lnTo>
                  <a:pt x="250" y="24"/>
                </a:lnTo>
                <a:lnTo>
                  <a:pt x="250" y="24"/>
                </a:lnTo>
                <a:lnTo>
                  <a:pt x="248" y="24"/>
                </a:lnTo>
                <a:lnTo>
                  <a:pt x="244" y="26"/>
                </a:lnTo>
                <a:lnTo>
                  <a:pt x="234" y="28"/>
                </a:lnTo>
                <a:lnTo>
                  <a:pt x="234" y="28"/>
                </a:lnTo>
                <a:lnTo>
                  <a:pt x="232" y="26"/>
                </a:lnTo>
                <a:lnTo>
                  <a:pt x="222" y="22"/>
                </a:lnTo>
                <a:lnTo>
                  <a:pt x="222" y="22"/>
                </a:lnTo>
                <a:lnTo>
                  <a:pt x="220" y="22"/>
                </a:lnTo>
                <a:lnTo>
                  <a:pt x="220" y="20"/>
                </a:lnTo>
                <a:lnTo>
                  <a:pt x="220" y="20"/>
                </a:lnTo>
                <a:lnTo>
                  <a:pt x="212" y="12"/>
                </a:lnTo>
                <a:lnTo>
                  <a:pt x="204" y="4"/>
                </a:lnTo>
                <a:lnTo>
                  <a:pt x="196" y="0"/>
                </a:lnTo>
                <a:lnTo>
                  <a:pt x="188" y="8"/>
                </a:lnTo>
                <a:lnTo>
                  <a:pt x="176" y="16"/>
                </a:lnTo>
                <a:lnTo>
                  <a:pt x="172" y="40"/>
                </a:lnTo>
                <a:lnTo>
                  <a:pt x="172" y="40"/>
                </a:lnTo>
                <a:lnTo>
                  <a:pt x="172" y="40"/>
                </a:lnTo>
                <a:lnTo>
                  <a:pt x="162" y="58"/>
                </a:lnTo>
                <a:lnTo>
                  <a:pt x="162" y="60"/>
                </a:lnTo>
                <a:lnTo>
                  <a:pt x="162" y="60"/>
                </a:lnTo>
                <a:lnTo>
                  <a:pt x="154" y="68"/>
                </a:lnTo>
                <a:lnTo>
                  <a:pt x="144" y="86"/>
                </a:lnTo>
                <a:lnTo>
                  <a:pt x="144" y="86"/>
                </a:lnTo>
                <a:lnTo>
                  <a:pt x="144" y="88"/>
                </a:lnTo>
                <a:lnTo>
                  <a:pt x="144" y="88"/>
                </a:lnTo>
                <a:lnTo>
                  <a:pt x="124" y="104"/>
                </a:lnTo>
                <a:lnTo>
                  <a:pt x="116" y="118"/>
                </a:lnTo>
                <a:lnTo>
                  <a:pt x="116" y="118"/>
                </a:lnTo>
                <a:lnTo>
                  <a:pt x="114" y="120"/>
                </a:lnTo>
                <a:lnTo>
                  <a:pt x="110" y="124"/>
                </a:lnTo>
                <a:lnTo>
                  <a:pt x="96" y="132"/>
                </a:lnTo>
                <a:lnTo>
                  <a:pt x="88" y="144"/>
                </a:lnTo>
                <a:lnTo>
                  <a:pt x="88" y="144"/>
                </a:lnTo>
                <a:lnTo>
                  <a:pt x="74" y="164"/>
                </a:lnTo>
                <a:lnTo>
                  <a:pt x="72" y="164"/>
                </a:lnTo>
                <a:lnTo>
                  <a:pt x="72" y="164"/>
                </a:lnTo>
                <a:lnTo>
                  <a:pt x="72" y="164"/>
                </a:lnTo>
                <a:lnTo>
                  <a:pt x="8" y="160"/>
                </a:lnTo>
                <a:lnTo>
                  <a:pt x="0" y="168"/>
                </a:lnTo>
                <a:lnTo>
                  <a:pt x="0" y="180"/>
                </a:lnTo>
                <a:lnTo>
                  <a:pt x="6" y="208"/>
                </a:lnTo>
                <a:lnTo>
                  <a:pt x="20" y="226"/>
                </a:lnTo>
                <a:lnTo>
                  <a:pt x="32" y="232"/>
                </a:lnTo>
                <a:lnTo>
                  <a:pt x="32" y="234"/>
                </a:lnTo>
                <a:lnTo>
                  <a:pt x="32" y="234"/>
                </a:lnTo>
                <a:lnTo>
                  <a:pt x="32" y="234"/>
                </a:lnTo>
                <a:lnTo>
                  <a:pt x="32" y="234"/>
                </a:lnTo>
                <a:lnTo>
                  <a:pt x="40" y="244"/>
                </a:lnTo>
                <a:lnTo>
                  <a:pt x="42" y="252"/>
                </a:lnTo>
                <a:lnTo>
                  <a:pt x="42" y="262"/>
                </a:lnTo>
                <a:lnTo>
                  <a:pt x="38" y="266"/>
                </a:lnTo>
                <a:lnTo>
                  <a:pt x="40" y="268"/>
                </a:lnTo>
                <a:lnTo>
                  <a:pt x="44" y="268"/>
                </a:lnTo>
                <a:lnTo>
                  <a:pt x="48" y="258"/>
                </a:lnTo>
                <a:lnTo>
                  <a:pt x="50" y="258"/>
                </a:lnTo>
                <a:lnTo>
                  <a:pt x="62" y="262"/>
                </a:lnTo>
                <a:lnTo>
                  <a:pt x="64" y="266"/>
                </a:lnTo>
                <a:lnTo>
                  <a:pt x="70" y="266"/>
                </a:lnTo>
                <a:lnTo>
                  <a:pt x="70" y="266"/>
                </a:lnTo>
                <a:lnTo>
                  <a:pt x="68" y="260"/>
                </a:lnTo>
                <a:lnTo>
                  <a:pt x="68" y="260"/>
                </a:lnTo>
                <a:lnTo>
                  <a:pt x="76" y="246"/>
                </a:lnTo>
                <a:lnTo>
                  <a:pt x="76" y="246"/>
                </a:lnTo>
                <a:lnTo>
                  <a:pt x="78" y="244"/>
                </a:lnTo>
                <a:lnTo>
                  <a:pt x="80" y="242"/>
                </a:lnTo>
                <a:lnTo>
                  <a:pt x="88" y="242"/>
                </a:lnTo>
                <a:lnTo>
                  <a:pt x="102" y="242"/>
                </a:lnTo>
                <a:lnTo>
                  <a:pt x="110" y="232"/>
                </a:lnTo>
                <a:lnTo>
                  <a:pt x="110" y="222"/>
                </a:lnTo>
                <a:lnTo>
                  <a:pt x="112" y="212"/>
                </a:lnTo>
                <a:lnTo>
                  <a:pt x="112" y="212"/>
                </a:lnTo>
                <a:lnTo>
                  <a:pt x="114" y="210"/>
                </a:lnTo>
                <a:lnTo>
                  <a:pt x="114" y="210"/>
                </a:lnTo>
                <a:lnTo>
                  <a:pt x="120" y="206"/>
                </a:lnTo>
                <a:lnTo>
                  <a:pt x="120" y="206"/>
                </a:lnTo>
                <a:lnTo>
                  <a:pt x="120" y="206"/>
                </a:lnTo>
                <a:lnTo>
                  <a:pt x="122" y="206"/>
                </a:lnTo>
                <a:lnTo>
                  <a:pt x="134" y="208"/>
                </a:lnTo>
                <a:lnTo>
                  <a:pt x="134" y="210"/>
                </a:lnTo>
                <a:lnTo>
                  <a:pt x="136" y="220"/>
                </a:lnTo>
                <a:lnTo>
                  <a:pt x="136" y="224"/>
                </a:lnTo>
                <a:lnTo>
                  <a:pt x="138" y="232"/>
                </a:lnTo>
                <a:lnTo>
                  <a:pt x="140" y="232"/>
                </a:lnTo>
                <a:lnTo>
                  <a:pt x="144" y="226"/>
                </a:lnTo>
                <a:lnTo>
                  <a:pt x="144" y="226"/>
                </a:lnTo>
                <a:lnTo>
                  <a:pt x="152" y="216"/>
                </a:lnTo>
                <a:lnTo>
                  <a:pt x="152" y="216"/>
                </a:lnTo>
                <a:lnTo>
                  <a:pt x="160" y="212"/>
                </a:lnTo>
                <a:lnTo>
                  <a:pt x="162" y="212"/>
                </a:lnTo>
                <a:lnTo>
                  <a:pt x="162" y="210"/>
                </a:lnTo>
                <a:lnTo>
                  <a:pt x="172" y="214"/>
                </a:lnTo>
                <a:lnTo>
                  <a:pt x="174" y="214"/>
                </a:lnTo>
                <a:lnTo>
                  <a:pt x="176" y="214"/>
                </a:lnTo>
                <a:lnTo>
                  <a:pt x="180" y="226"/>
                </a:lnTo>
                <a:lnTo>
                  <a:pt x="180" y="236"/>
                </a:lnTo>
                <a:lnTo>
                  <a:pt x="188" y="252"/>
                </a:lnTo>
                <a:lnTo>
                  <a:pt x="188" y="252"/>
                </a:lnTo>
                <a:lnTo>
                  <a:pt x="188" y="254"/>
                </a:lnTo>
                <a:lnTo>
                  <a:pt x="188" y="264"/>
                </a:lnTo>
                <a:lnTo>
                  <a:pt x="192" y="270"/>
                </a:lnTo>
                <a:lnTo>
                  <a:pt x="194" y="270"/>
                </a:lnTo>
                <a:lnTo>
                  <a:pt x="196" y="266"/>
                </a:lnTo>
                <a:lnTo>
                  <a:pt x="198" y="264"/>
                </a:lnTo>
                <a:lnTo>
                  <a:pt x="208" y="270"/>
                </a:lnTo>
                <a:lnTo>
                  <a:pt x="208" y="270"/>
                </a:lnTo>
                <a:lnTo>
                  <a:pt x="208" y="270"/>
                </a:lnTo>
                <a:lnTo>
                  <a:pt x="208" y="272"/>
                </a:lnTo>
                <a:lnTo>
                  <a:pt x="208" y="272"/>
                </a:lnTo>
                <a:lnTo>
                  <a:pt x="212" y="286"/>
                </a:lnTo>
                <a:lnTo>
                  <a:pt x="216" y="288"/>
                </a:lnTo>
                <a:lnTo>
                  <a:pt x="216" y="286"/>
                </a:lnTo>
                <a:lnTo>
                  <a:pt x="220" y="276"/>
                </a:lnTo>
                <a:lnTo>
                  <a:pt x="220" y="276"/>
                </a:lnTo>
                <a:lnTo>
                  <a:pt x="222" y="274"/>
                </a:lnTo>
                <a:lnTo>
                  <a:pt x="222" y="274"/>
                </a:lnTo>
                <a:lnTo>
                  <a:pt x="224" y="274"/>
                </a:lnTo>
                <a:lnTo>
                  <a:pt x="228" y="270"/>
                </a:lnTo>
                <a:lnTo>
                  <a:pt x="230" y="270"/>
                </a:lnTo>
                <a:lnTo>
                  <a:pt x="230" y="270"/>
                </a:lnTo>
                <a:lnTo>
                  <a:pt x="236" y="270"/>
                </a:lnTo>
                <a:lnTo>
                  <a:pt x="236" y="266"/>
                </a:lnTo>
                <a:lnTo>
                  <a:pt x="236" y="264"/>
                </a:lnTo>
                <a:lnTo>
                  <a:pt x="232" y="226"/>
                </a:lnTo>
                <a:lnTo>
                  <a:pt x="216" y="202"/>
                </a:lnTo>
                <a:lnTo>
                  <a:pt x="188" y="168"/>
                </a:lnTo>
                <a:lnTo>
                  <a:pt x="186" y="168"/>
                </a:lnTo>
                <a:lnTo>
                  <a:pt x="184" y="146"/>
                </a:lnTo>
                <a:lnTo>
                  <a:pt x="176" y="128"/>
                </a:lnTo>
                <a:lnTo>
                  <a:pt x="176" y="128"/>
                </a:lnTo>
                <a:lnTo>
                  <a:pt x="174" y="128"/>
                </a:lnTo>
                <a:lnTo>
                  <a:pt x="174" y="128"/>
                </a:lnTo>
                <a:lnTo>
                  <a:pt x="176" y="126"/>
                </a:lnTo>
                <a:lnTo>
                  <a:pt x="180" y="104"/>
                </a:lnTo>
                <a:lnTo>
                  <a:pt x="182" y="104"/>
                </a:lnTo>
                <a:lnTo>
                  <a:pt x="184" y="104"/>
                </a:lnTo>
                <a:lnTo>
                  <a:pt x="234" y="102"/>
                </a:lnTo>
                <a:lnTo>
                  <a:pt x="260" y="88"/>
                </a:lnTo>
                <a:lnTo>
                  <a:pt x="260" y="88"/>
                </a:lnTo>
                <a:lnTo>
                  <a:pt x="262" y="86"/>
                </a:lnTo>
                <a:lnTo>
                  <a:pt x="262" y="86"/>
                </a:lnTo>
                <a:lnTo>
                  <a:pt x="274" y="82"/>
                </a:lnTo>
                <a:lnTo>
                  <a:pt x="278" y="78"/>
                </a:lnTo>
                <a:lnTo>
                  <a:pt x="280" y="76"/>
                </a:lnTo>
                <a:lnTo>
                  <a:pt x="280" y="76"/>
                </a:lnTo>
                <a:lnTo>
                  <a:pt x="282" y="68"/>
                </a:lnTo>
                <a:lnTo>
                  <a:pt x="284" y="58"/>
                </a:lnTo>
                <a:lnTo>
                  <a:pt x="284" y="5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>
            <a:off x="5210280" y="4081320"/>
            <a:ext cx="439560" cy="785880"/>
          </a:xfrm>
          <a:custGeom>
            <a:avLst/>
            <a:gdLst>
              <a:gd name="textAreaLeft" fmla="*/ 0 w 439560"/>
              <a:gd name="textAreaRight" fmla="*/ 439920 w 4395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324" h="578">
                <a:moveTo>
                  <a:pt x="108" y="132"/>
                </a:moveTo>
                <a:lnTo>
                  <a:pt x="104" y="130"/>
                </a:lnTo>
                <a:lnTo>
                  <a:pt x="96" y="180"/>
                </a:lnTo>
                <a:lnTo>
                  <a:pt x="108" y="196"/>
                </a:lnTo>
                <a:lnTo>
                  <a:pt x="122" y="200"/>
                </a:lnTo>
                <a:lnTo>
                  <a:pt x="122" y="200"/>
                </a:lnTo>
                <a:lnTo>
                  <a:pt x="122" y="200"/>
                </a:lnTo>
                <a:lnTo>
                  <a:pt x="124" y="202"/>
                </a:lnTo>
                <a:lnTo>
                  <a:pt x="140" y="216"/>
                </a:lnTo>
                <a:lnTo>
                  <a:pt x="164" y="220"/>
                </a:lnTo>
                <a:lnTo>
                  <a:pt x="164" y="220"/>
                </a:lnTo>
                <a:lnTo>
                  <a:pt x="176" y="228"/>
                </a:lnTo>
                <a:lnTo>
                  <a:pt x="176" y="228"/>
                </a:lnTo>
                <a:lnTo>
                  <a:pt x="176" y="228"/>
                </a:lnTo>
                <a:lnTo>
                  <a:pt x="176" y="230"/>
                </a:lnTo>
                <a:lnTo>
                  <a:pt x="186" y="244"/>
                </a:lnTo>
                <a:lnTo>
                  <a:pt x="188" y="244"/>
                </a:lnTo>
                <a:lnTo>
                  <a:pt x="186" y="246"/>
                </a:lnTo>
                <a:lnTo>
                  <a:pt x="178" y="260"/>
                </a:lnTo>
                <a:lnTo>
                  <a:pt x="178" y="260"/>
                </a:lnTo>
                <a:lnTo>
                  <a:pt x="178" y="264"/>
                </a:lnTo>
                <a:lnTo>
                  <a:pt x="176" y="272"/>
                </a:lnTo>
                <a:lnTo>
                  <a:pt x="178" y="272"/>
                </a:lnTo>
                <a:lnTo>
                  <a:pt x="178" y="286"/>
                </a:lnTo>
                <a:lnTo>
                  <a:pt x="176" y="288"/>
                </a:lnTo>
                <a:lnTo>
                  <a:pt x="176" y="288"/>
                </a:lnTo>
                <a:lnTo>
                  <a:pt x="170" y="312"/>
                </a:lnTo>
                <a:lnTo>
                  <a:pt x="168" y="316"/>
                </a:lnTo>
                <a:lnTo>
                  <a:pt x="168" y="316"/>
                </a:lnTo>
                <a:lnTo>
                  <a:pt x="164" y="314"/>
                </a:lnTo>
                <a:lnTo>
                  <a:pt x="154" y="312"/>
                </a:lnTo>
                <a:lnTo>
                  <a:pt x="140" y="312"/>
                </a:lnTo>
                <a:lnTo>
                  <a:pt x="128" y="316"/>
                </a:lnTo>
                <a:lnTo>
                  <a:pt x="116" y="328"/>
                </a:lnTo>
                <a:lnTo>
                  <a:pt x="112" y="332"/>
                </a:lnTo>
                <a:lnTo>
                  <a:pt x="130" y="340"/>
                </a:lnTo>
                <a:lnTo>
                  <a:pt x="128" y="344"/>
                </a:lnTo>
                <a:lnTo>
                  <a:pt x="128" y="344"/>
                </a:lnTo>
                <a:lnTo>
                  <a:pt x="124" y="350"/>
                </a:lnTo>
                <a:lnTo>
                  <a:pt x="116" y="354"/>
                </a:lnTo>
                <a:lnTo>
                  <a:pt x="106" y="354"/>
                </a:lnTo>
                <a:lnTo>
                  <a:pt x="88" y="348"/>
                </a:lnTo>
                <a:lnTo>
                  <a:pt x="88" y="348"/>
                </a:lnTo>
                <a:lnTo>
                  <a:pt x="88" y="348"/>
                </a:lnTo>
                <a:lnTo>
                  <a:pt x="70" y="338"/>
                </a:lnTo>
                <a:lnTo>
                  <a:pt x="64" y="338"/>
                </a:lnTo>
                <a:lnTo>
                  <a:pt x="44" y="366"/>
                </a:lnTo>
                <a:lnTo>
                  <a:pt x="40" y="376"/>
                </a:lnTo>
                <a:lnTo>
                  <a:pt x="40" y="392"/>
                </a:lnTo>
                <a:lnTo>
                  <a:pt x="48" y="406"/>
                </a:lnTo>
                <a:lnTo>
                  <a:pt x="48" y="408"/>
                </a:lnTo>
                <a:lnTo>
                  <a:pt x="48" y="408"/>
                </a:lnTo>
                <a:lnTo>
                  <a:pt x="48" y="408"/>
                </a:lnTo>
                <a:lnTo>
                  <a:pt x="52" y="420"/>
                </a:lnTo>
                <a:lnTo>
                  <a:pt x="52" y="422"/>
                </a:lnTo>
                <a:lnTo>
                  <a:pt x="52" y="440"/>
                </a:lnTo>
                <a:lnTo>
                  <a:pt x="52" y="442"/>
                </a:lnTo>
                <a:lnTo>
                  <a:pt x="54" y="444"/>
                </a:lnTo>
                <a:lnTo>
                  <a:pt x="40" y="446"/>
                </a:lnTo>
                <a:lnTo>
                  <a:pt x="16" y="446"/>
                </a:lnTo>
                <a:lnTo>
                  <a:pt x="6" y="454"/>
                </a:lnTo>
                <a:lnTo>
                  <a:pt x="0" y="462"/>
                </a:lnTo>
                <a:lnTo>
                  <a:pt x="2" y="462"/>
                </a:lnTo>
                <a:lnTo>
                  <a:pt x="6" y="486"/>
                </a:lnTo>
                <a:lnTo>
                  <a:pt x="8" y="486"/>
                </a:lnTo>
                <a:lnTo>
                  <a:pt x="8" y="496"/>
                </a:lnTo>
                <a:lnTo>
                  <a:pt x="12" y="508"/>
                </a:lnTo>
                <a:lnTo>
                  <a:pt x="30" y="518"/>
                </a:lnTo>
                <a:lnTo>
                  <a:pt x="54" y="512"/>
                </a:lnTo>
                <a:lnTo>
                  <a:pt x="66" y="504"/>
                </a:lnTo>
                <a:lnTo>
                  <a:pt x="68" y="504"/>
                </a:lnTo>
                <a:lnTo>
                  <a:pt x="80" y="504"/>
                </a:lnTo>
                <a:lnTo>
                  <a:pt x="86" y="520"/>
                </a:lnTo>
                <a:lnTo>
                  <a:pt x="86" y="520"/>
                </a:lnTo>
                <a:lnTo>
                  <a:pt x="92" y="526"/>
                </a:lnTo>
                <a:lnTo>
                  <a:pt x="94" y="532"/>
                </a:lnTo>
                <a:lnTo>
                  <a:pt x="100" y="532"/>
                </a:lnTo>
                <a:lnTo>
                  <a:pt x="102" y="532"/>
                </a:lnTo>
                <a:lnTo>
                  <a:pt x="104" y="532"/>
                </a:lnTo>
                <a:lnTo>
                  <a:pt x="104" y="530"/>
                </a:lnTo>
                <a:lnTo>
                  <a:pt x="116" y="520"/>
                </a:lnTo>
                <a:lnTo>
                  <a:pt x="126" y="540"/>
                </a:lnTo>
                <a:lnTo>
                  <a:pt x="136" y="546"/>
                </a:lnTo>
                <a:lnTo>
                  <a:pt x="152" y="546"/>
                </a:lnTo>
                <a:lnTo>
                  <a:pt x="164" y="544"/>
                </a:lnTo>
                <a:lnTo>
                  <a:pt x="168" y="544"/>
                </a:lnTo>
                <a:lnTo>
                  <a:pt x="196" y="548"/>
                </a:lnTo>
                <a:lnTo>
                  <a:pt x="196" y="548"/>
                </a:lnTo>
                <a:lnTo>
                  <a:pt x="196" y="550"/>
                </a:lnTo>
                <a:lnTo>
                  <a:pt x="208" y="556"/>
                </a:lnTo>
                <a:lnTo>
                  <a:pt x="208" y="556"/>
                </a:lnTo>
                <a:lnTo>
                  <a:pt x="208" y="556"/>
                </a:lnTo>
                <a:lnTo>
                  <a:pt x="208" y="558"/>
                </a:lnTo>
                <a:lnTo>
                  <a:pt x="220" y="566"/>
                </a:lnTo>
                <a:lnTo>
                  <a:pt x="220" y="566"/>
                </a:lnTo>
                <a:lnTo>
                  <a:pt x="226" y="574"/>
                </a:lnTo>
                <a:lnTo>
                  <a:pt x="234" y="578"/>
                </a:lnTo>
                <a:lnTo>
                  <a:pt x="248" y="576"/>
                </a:lnTo>
                <a:lnTo>
                  <a:pt x="248" y="560"/>
                </a:lnTo>
                <a:lnTo>
                  <a:pt x="240" y="548"/>
                </a:lnTo>
                <a:lnTo>
                  <a:pt x="240" y="548"/>
                </a:lnTo>
                <a:lnTo>
                  <a:pt x="240" y="548"/>
                </a:lnTo>
                <a:lnTo>
                  <a:pt x="236" y="526"/>
                </a:lnTo>
                <a:lnTo>
                  <a:pt x="246" y="516"/>
                </a:lnTo>
                <a:lnTo>
                  <a:pt x="248" y="514"/>
                </a:lnTo>
                <a:lnTo>
                  <a:pt x="248" y="514"/>
                </a:lnTo>
                <a:lnTo>
                  <a:pt x="258" y="512"/>
                </a:lnTo>
                <a:lnTo>
                  <a:pt x="268" y="512"/>
                </a:lnTo>
                <a:lnTo>
                  <a:pt x="272" y="508"/>
                </a:lnTo>
                <a:lnTo>
                  <a:pt x="264" y="500"/>
                </a:lnTo>
                <a:lnTo>
                  <a:pt x="242" y="484"/>
                </a:lnTo>
                <a:lnTo>
                  <a:pt x="236" y="476"/>
                </a:lnTo>
                <a:lnTo>
                  <a:pt x="236" y="476"/>
                </a:lnTo>
                <a:lnTo>
                  <a:pt x="234" y="474"/>
                </a:lnTo>
                <a:lnTo>
                  <a:pt x="236" y="472"/>
                </a:lnTo>
                <a:lnTo>
                  <a:pt x="242" y="460"/>
                </a:lnTo>
                <a:lnTo>
                  <a:pt x="244" y="462"/>
                </a:lnTo>
                <a:lnTo>
                  <a:pt x="260" y="466"/>
                </a:lnTo>
                <a:lnTo>
                  <a:pt x="302" y="464"/>
                </a:lnTo>
                <a:lnTo>
                  <a:pt x="302" y="466"/>
                </a:lnTo>
                <a:lnTo>
                  <a:pt x="304" y="466"/>
                </a:lnTo>
                <a:lnTo>
                  <a:pt x="316" y="470"/>
                </a:lnTo>
                <a:lnTo>
                  <a:pt x="324" y="462"/>
                </a:lnTo>
                <a:lnTo>
                  <a:pt x="320" y="438"/>
                </a:lnTo>
                <a:lnTo>
                  <a:pt x="304" y="428"/>
                </a:lnTo>
                <a:lnTo>
                  <a:pt x="304" y="428"/>
                </a:lnTo>
                <a:lnTo>
                  <a:pt x="300" y="424"/>
                </a:lnTo>
                <a:lnTo>
                  <a:pt x="296" y="420"/>
                </a:lnTo>
                <a:lnTo>
                  <a:pt x="292" y="410"/>
                </a:lnTo>
                <a:lnTo>
                  <a:pt x="290" y="394"/>
                </a:lnTo>
                <a:lnTo>
                  <a:pt x="290" y="374"/>
                </a:lnTo>
                <a:lnTo>
                  <a:pt x="276" y="368"/>
                </a:lnTo>
                <a:lnTo>
                  <a:pt x="276" y="368"/>
                </a:lnTo>
                <a:lnTo>
                  <a:pt x="274" y="368"/>
                </a:lnTo>
                <a:lnTo>
                  <a:pt x="274" y="366"/>
                </a:lnTo>
                <a:lnTo>
                  <a:pt x="274" y="364"/>
                </a:lnTo>
                <a:lnTo>
                  <a:pt x="272" y="344"/>
                </a:lnTo>
                <a:lnTo>
                  <a:pt x="288" y="262"/>
                </a:lnTo>
                <a:lnTo>
                  <a:pt x="288" y="262"/>
                </a:lnTo>
                <a:lnTo>
                  <a:pt x="280" y="232"/>
                </a:lnTo>
                <a:lnTo>
                  <a:pt x="278" y="214"/>
                </a:lnTo>
                <a:lnTo>
                  <a:pt x="276" y="190"/>
                </a:lnTo>
                <a:lnTo>
                  <a:pt x="278" y="164"/>
                </a:lnTo>
                <a:lnTo>
                  <a:pt x="278" y="162"/>
                </a:lnTo>
                <a:lnTo>
                  <a:pt x="280" y="160"/>
                </a:lnTo>
                <a:lnTo>
                  <a:pt x="280" y="160"/>
                </a:lnTo>
                <a:lnTo>
                  <a:pt x="296" y="148"/>
                </a:lnTo>
                <a:lnTo>
                  <a:pt x="296" y="136"/>
                </a:lnTo>
                <a:lnTo>
                  <a:pt x="296" y="136"/>
                </a:lnTo>
                <a:lnTo>
                  <a:pt x="294" y="130"/>
                </a:lnTo>
                <a:lnTo>
                  <a:pt x="290" y="122"/>
                </a:lnTo>
                <a:lnTo>
                  <a:pt x="280" y="110"/>
                </a:lnTo>
                <a:lnTo>
                  <a:pt x="278" y="110"/>
                </a:lnTo>
                <a:lnTo>
                  <a:pt x="278" y="108"/>
                </a:lnTo>
                <a:lnTo>
                  <a:pt x="276" y="88"/>
                </a:lnTo>
                <a:lnTo>
                  <a:pt x="276" y="88"/>
                </a:lnTo>
                <a:lnTo>
                  <a:pt x="276" y="88"/>
                </a:lnTo>
                <a:lnTo>
                  <a:pt x="276" y="86"/>
                </a:lnTo>
                <a:lnTo>
                  <a:pt x="276" y="86"/>
                </a:lnTo>
                <a:lnTo>
                  <a:pt x="298" y="60"/>
                </a:lnTo>
                <a:lnTo>
                  <a:pt x="298" y="48"/>
                </a:lnTo>
                <a:lnTo>
                  <a:pt x="292" y="36"/>
                </a:lnTo>
                <a:lnTo>
                  <a:pt x="292" y="36"/>
                </a:lnTo>
                <a:lnTo>
                  <a:pt x="290" y="34"/>
                </a:lnTo>
                <a:lnTo>
                  <a:pt x="300" y="20"/>
                </a:lnTo>
                <a:lnTo>
                  <a:pt x="300" y="20"/>
                </a:lnTo>
                <a:lnTo>
                  <a:pt x="302" y="20"/>
                </a:lnTo>
                <a:lnTo>
                  <a:pt x="312" y="12"/>
                </a:lnTo>
                <a:lnTo>
                  <a:pt x="312" y="0"/>
                </a:lnTo>
                <a:lnTo>
                  <a:pt x="306" y="0"/>
                </a:lnTo>
                <a:lnTo>
                  <a:pt x="296" y="0"/>
                </a:lnTo>
                <a:lnTo>
                  <a:pt x="292" y="18"/>
                </a:lnTo>
                <a:lnTo>
                  <a:pt x="290" y="18"/>
                </a:lnTo>
                <a:lnTo>
                  <a:pt x="268" y="10"/>
                </a:lnTo>
                <a:lnTo>
                  <a:pt x="256" y="8"/>
                </a:lnTo>
                <a:lnTo>
                  <a:pt x="260" y="28"/>
                </a:lnTo>
                <a:lnTo>
                  <a:pt x="244" y="32"/>
                </a:lnTo>
                <a:lnTo>
                  <a:pt x="218" y="46"/>
                </a:lnTo>
                <a:lnTo>
                  <a:pt x="210" y="56"/>
                </a:lnTo>
                <a:lnTo>
                  <a:pt x="210" y="56"/>
                </a:lnTo>
                <a:lnTo>
                  <a:pt x="210" y="58"/>
                </a:lnTo>
                <a:lnTo>
                  <a:pt x="208" y="58"/>
                </a:lnTo>
                <a:lnTo>
                  <a:pt x="196" y="70"/>
                </a:lnTo>
                <a:lnTo>
                  <a:pt x="192" y="88"/>
                </a:lnTo>
                <a:lnTo>
                  <a:pt x="192" y="90"/>
                </a:lnTo>
                <a:lnTo>
                  <a:pt x="186" y="118"/>
                </a:lnTo>
                <a:lnTo>
                  <a:pt x="186" y="118"/>
                </a:lnTo>
                <a:lnTo>
                  <a:pt x="184" y="130"/>
                </a:lnTo>
                <a:lnTo>
                  <a:pt x="184" y="132"/>
                </a:lnTo>
                <a:lnTo>
                  <a:pt x="184" y="132"/>
                </a:lnTo>
                <a:lnTo>
                  <a:pt x="182" y="132"/>
                </a:lnTo>
                <a:lnTo>
                  <a:pt x="174" y="144"/>
                </a:lnTo>
                <a:lnTo>
                  <a:pt x="172" y="144"/>
                </a:lnTo>
                <a:lnTo>
                  <a:pt x="172" y="144"/>
                </a:lnTo>
                <a:lnTo>
                  <a:pt x="172" y="146"/>
                </a:lnTo>
                <a:lnTo>
                  <a:pt x="172" y="146"/>
                </a:lnTo>
                <a:lnTo>
                  <a:pt x="152" y="148"/>
                </a:lnTo>
                <a:lnTo>
                  <a:pt x="152" y="148"/>
                </a:lnTo>
                <a:lnTo>
                  <a:pt x="152" y="148"/>
                </a:lnTo>
                <a:lnTo>
                  <a:pt x="152" y="148"/>
                </a:lnTo>
                <a:lnTo>
                  <a:pt x="152" y="148"/>
                </a:lnTo>
                <a:lnTo>
                  <a:pt x="122" y="138"/>
                </a:lnTo>
                <a:lnTo>
                  <a:pt x="122" y="138"/>
                </a:lnTo>
                <a:lnTo>
                  <a:pt x="108" y="13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Freeform 17"/>
          <p:cNvSpPr/>
          <p:nvPr/>
        </p:nvSpPr>
        <p:spPr>
          <a:xfrm>
            <a:off x="5589720" y="3935520"/>
            <a:ext cx="293400" cy="642960"/>
          </a:xfrm>
          <a:custGeom>
            <a:avLst/>
            <a:gdLst>
              <a:gd name="textAreaLeft" fmla="*/ 0 w 293400"/>
              <a:gd name="textAreaRight" fmla="*/ 293760 w 293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16" h="474">
                <a:moveTo>
                  <a:pt x="202" y="24"/>
                </a:moveTo>
                <a:lnTo>
                  <a:pt x="204" y="20"/>
                </a:lnTo>
                <a:lnTo>
                  <a:pt x="200" y="8"/>
                </a:lnTo>
                <a:lnTo>
                  <a:pt x="194" y="0"/>
                </a:lnTo>
                <a:lnTo>
                  <a:pt x="188" y="12"/>
                </a:lnTo>
                <a:lnTo>
                  <a:pt x="188" y="12"/>
                </a:lnTo>
                <a:lnTo>
                  <a:pt x="188" y="12"/>
                </a:lnTo>
                <a:lnTo>
                  <a:pt x="188" y="12"/>
                </a:lnTo>
                <a:lnTo>
                  <a:pt x="176" y="24"/>
                </a:lnTo>
                <a:lnTo>
                  <a:pt x="176" y="24"/>
                </a:lnTo>
                <a:lnTo>
                  <a:pt x="176" y="24"/>
                </a:lnTo>
                <a:lnTo>
                  <a:pt x="174" y="24"/>
                </a:lnTo>
                <a:lnTo>
                  <a:pt x="156" y="30"/>
                </a:lnTo>
                <a:lnTo>
                  <a:pt x="154" y="30"/>
                </a:lnTo>
                <a:lnTo>
                  <a:pt x="136" y="28"/>
                </a:lnTo>
                <a:lnTo>
                  <a:pt x="124" y="30"/>
                </a:lnTo>
                <a:lnTo>
                  <a:pt x="122" y="40"/>
                </a:lnTo>
                <a:lnTo>
                  <a:pt x="122" y="40"/>
                </a:lnTo>
                <a:lnTo>
                  <a:pt x="122" y="40"/>
                </a:lnTo>
                <a:lnTo>
                  <a:pt x="112" y="46"/>
                </a:lnTo>
                <a:lnTo>
                  <a:pt x="112" y="48"/>
                </a:lnTo>
                <a:lnTo>
                  <a:pt x="110" y="48"/>
                </a:lnTo>
                <a:lnTo>
                  <a:pt x="94" y="46"/>
                </a:lnTo>
                <a:lnTo>
                  <a:pt x="92" y="48"/>
                </a:lnTo>
                <a:lnTo>
                  <a:pt x="92" y="64"/>
                </a:lnTo>
                <a:lnTo>
                  <a:pt x="92" y="64"/>
                </a:lnTo>
                <a:lnTo>
                  <a:pt x="84" y="76"/>
                </a:lnTo>
                <a:lnTo>
                  <a:pt x="84" y="76"/>
                </a:lnTo>
                <a:lnTo>
                  <a:pt x="84" y="76"/>
                </a:lnTo>
                <a:lnTo>
                  <a:pt x="82" y="76"/>
                </a:lnTo>
                <a:lnTo>
                  <a:pt x="68" y="92"/>
                </a:lnTo>
                <a:lnTo>
                  <a:pt x="66" y="92"/>
                </a:lnTo>
                <a:lnTo>
                  <a:pt x="66" y="92"/>
                </a:lnTo>
                <a:lnTo>
                  <a:pt x="50" y="96"/>
                </a:lnTo>
                <a:lnTo>
                  <a:pt x="40" y="106"/>
                </a:lnTo>
                <a:lnTo>
                  <a:pt x="42" y="120"/>
                </a:lnTo>
                <a:lnTo>
                  <a:pt x="42" y="124"/>
                </a:lnTo>
                <a:lnTo>
                  <a:pt x="40" y="124"/>
                </a:lnTo>
                <a:lnTo>
                  <a:pt x="28" y="136"/>
                </a:lnTo>
                <a:lnTo>
                  <a:pt x="20" y="144"/>
                </a:lnTo>
                <a:lnTo>
                  <a:pt x="26" y="154"/>
                </a:lnTo>
                <a:lnTo>
                  <a:pt x="26" y="154"/>
                </a:lnTo>
                <a:lnTo>
                  <a:pt x="26" y="156"/>
                </a:lnTo>
                <a:lnTo>
                  <a:pt x="26" y="170"/>
                </a:lnTo>
                <a:lnTo>
                  <a:pt x="26" y="170"/>
                </a:lnTo>
                <a:lnTo>
                  <a:pt x="26" y="172"/>
                </a:lnTo>
                <a:lnTo>
                  <a:pt x="16" y="184"/>
                </a:lnTo>
                <a:lnTo>
                  <a:pt x="16" y="184"/>
                </a:lnTo>
                <a:lnTo>
                  <a:pt x="4" y="198"/>
                </a:lnTo>
                <a:lnTo>
                  <a:pt x="6" y="214"/>
                </a:lnTo>
                <a:lnTo>
                  <a:pt x="16" y="224"/>
                </a:lnTo>
                <a:lnTo>
                  <a:pt x="16" y="224"/>
                </a:lnTo>
                <a:lnTo>
                  <a:pt x="16" y="224"/>
                </a:lnTo>
                <a:lnTo>
                  <a:pt x="16" y="224"/>
                </a:lnTo>
                <a:lnTo>
                  <a:pt x="22" y="236"/>
                </a:lnTo>
                <a:lnTo>
                  <a:pt x="24" y="244"/>
                </a:lnTo>
                <a:lnTo>
                  <a:pt x="24" y="262"/>
                </a:lnTo>
                <a:lnTo>
                  <a:pt x="24" y="262"/>
                </a:lnTo>
                <a:lnTo>
                  <a:pt x="22" y="264"/>
                </a:lnTo>
                <a:lnTo>
                  <a:pt x="6" y="276"/>
                </a:lnTo>
                <a:lnTo>
                  <a:pt x="4" y="300"/>
                </a:lnTo>
                <a:lnTo>
                  <a:pt x="6" y="324"/>
                </a:lnTo>
                <a:lnTo>
                  <a:pt x="6" y="324"/>
                </a:lnTo>
                <a:lnTo>
                  <a:pt x="10" y="340"/>
                </a:lnTo>
                <a:lnTo>
                  <a:pt x="18" y="368"/>
                </a:lnTo>
                <a:lnTo>
                  <a:pt x="18" y="370"/>
                </a:lnTo>
                <a:lnTo>
                  <a:pt x="18" y="372"/>
                </a:lnTo>
                <a:lnTo>
                  <a:pt x="0" y="452"/>
                </a:lnTo>
                <a:lnTo>
                  <a:pt x="2" y="468"/>
                </a:lnTo>
                <a:lnTo>
                  <a:pt x="14" y="474"/>
                </a:lnTo>
                <a:lnTo>
                  <a:pt x="32" y="456"/>
                </a:lnTo>
                <a:lnTo>
                  <a:pt x="32" y="456"/>
                </a:lnTo>
                <a:lnTo>
                  <a:pt x="34" y="456"/>
                </a:lnTo>
                <a:lnTo>
                  <a:pt x="96" y="432"/>
                </a:lnTo>
                <a:lnTo>
                  <a:pt x="112" y="416"/>
                </a:lnTo>
                <a:lnTo>
                  <a:pt x="112" y="416"/>
                </a:lnTo>
                <a:lnTo>
                  <a:pt x="114" y="416"/>
                </a:lnTo>
                <a:lnTo>
                  <a:pt x="116" y="416"/>
                </a:lnTo>
                <a:lnTo>
                  <a:pt x="150" y="420"/>
                </a:lnTo>
                <a:lnTo>
                  <a:pt x="150" y="420"/>
                </a:lnTo>
                <a:lnTo>
                  <a:pt x="162" y="416"/>
                </a:lnTo>
                <a:lnTo>
                  <a:pt x="180" y="408"/>
                </a:lnTo>
                <a:lnTo>
                  <a:pt x="180" y="392"/>
                </a:lnTo>
                <a:lnTo>
                  <a:pt x="182" y="392"/>
                </a:lnTo>
                <a:lnTo>
                  <a:pt x="182" y="392"/>
                </a:lnTo>
                <a:lnTo>
                  <a:pt x="192" y="382"/>
                </a:lnTo>
                <a:lnTo>
                  <a:pt x="190" y="372"/>
                </a:lnTo>
                <a:lnTo>
                  <a:pt x="190" y="372"/>
                </a:lnTo>
                <a:lnTo>
                  <a:pt x="190" y="370"/>
                </a:lnTo>
                <a:lnTo>
                  <a:pt x="190" y="368"/>
                </a:lnTo>
                <a:lnTo>
                  <a:pt x="190" y="368"/>
                </a:lnTo>
                <a:lnTo>
                  <a:pt x="190" y="368"/>
                </a:lnTo>
                <a:lnTo>
                  <a:pt x="194" y="364"/>
                </a:lnTo>
                <a:lnTo>
                  <a:pt x="192" y="360"/>
                </a:lnTo>
                <a:lnTo>
                  <a:pt x="192" y="360"/>
                </a:lnTo>
                <a:lnTo>
                  <a:pt x="190" y="356"/>
                </a:lnTo>
                <a:lnTo>
                  <a:pt x="190" y="352"/>
                </a:lnTo>
                <a:lnTo>
                  <a:pt x="194" y="340"/>
                </a:lnTo>
                <a:lnTo>
                  <a:pt x="198" y="336"/>
                </a:lnTo>
                <a:lnTo>
                  <a:pt x="198" y="336"/>
                </a:lnTo>
                <a:lnTo>
                  <a:pt x="196" y="324"/>
                </a:lnTo>
                <a:lnTo>
                  <a:pt x="184" y="310"/>
                </a:lnTo>
                <a:lnTo>
                  <a:pt x="184" y="310"/>
                </a:lnTo>
                <a:lnTo>
                  <a:pt x="182" y="306"/>
                </a:lnTo>
                <a:lnTo>
                  <a:pt x="180" y="302"/>
                </a:lnTo>
                <a:lnTo>
                  <a:pt x="180" y="298"/>
                </a:lnTo>
                <a:lnTo>
                  <a:pt x="182" y="294"/>
                </a:lnTo>
                <a:lnTo>
                  <a:pt x="182" y="294"/>
                </a:lnTo>
                <a:lnTo>
                  <a:pt x="184" y="288"/>
                </a:lnTo>
                <a:lnTo>
                  <a:pt x="190" y="280"/>
                </a:lnTo>
                <a:lnTo>
                  <a:pt x="192" y="268"/>
                </a:lnTo>
                <a:lnTo>
                  <a:pt x="192" y="268"/>
                </a:lnTo>
                <a:lnTo>
                  <a:pt x="192" y="268"/>
                </a:lnTo>
                <a:lnTo>
                  <a:pt x="202" y="248"/>
                </a:lnTo>
                <a:lnTo>
                  <a:pt x="204" y="240"/>
                </a:lnTo>
                <a:lnTo>
                  <a:pt x="216" y="216"/>
                </a:lnTo>
                <a:lnTo>
                  <a:pt x="208" y="200"/>
                </a:lnTo>
                <a:lnTo>
                  <a:pt x="184" y="184"/>
                </a:lnTo>
                <a:lnTo>
                  <a:pt x="182" y="184"/>
                </a:lnTo>
                <a:lnTo>
                  <a:pt x="182" y="184"/>
                </a:lnTo>
                <a:lnTo>
                  <a:pt x="182" y="184"/>
                </a:lnTo>
                <a:lnTo>
                  <a:pt x="176" y="170"/>
                </a:lnTo>
                <a:lnTo>
                  <a:pt x="176" y="170"/>
                </a:lnTo>
                <a:lnTo>
                  <a:pt x="176" y="168"/>
                </a:lnTo>
                <a:lnTo>
                  <a:pt x="180" y="146"/>
                </a:lnTo>
                <a:lnTo>
                  <a:pt x="180" y="146"/>
                </a:lnTo>
                <a:lnTo>
                  <a:pt x="180" y="146"/>
                </a:lnTo>
                <a:lnTo>
                  <a:pt x="184" y="130"/>
                </a:lnTo>
                <a:lnTo>
                  <a:pt x="184" y="130"/>
                </a:lnTo>
                <a:lnTo>
                  <a:pt x="184" y="122"/>
                </a:lnTo>
                <a:lnTo>
                  <a:pt x="188" y="116"/>
                </a:lnTo>
                <a:lnTo>
                  <a:pt x="188" y="116"/>
                </a:lnTo>
                <a:lnTo>
                  <a:pt x="190" y="114"/>
                </a:lnTo>
                <a:lnTo>
                  <a:pt x="194" y="114"/>
                </a:lnTo>
                <a:lnTo>
                  <a:pt x="208" y="112"/>
                </a:lnTo>
                <a:lnTo>
                  <a:pt x="212" y="102"/>
                </a:lnTo>
                <a:lnTo>
                  <a:pt x="216" y="76"/>
                </a:lnTo>
                <a:lnTo>
                  <a:pt x="214" y="66"/>
                </a:lnTo>
                <a:lnTo>
                  <a:pt x="200" y="64"/>
                </a:lnTo>
                <a:lnTo>
                  <a:pt x="200" y="64"/>
                </a:lnTo>
                <a:lnTo>
                  <a:pt x="200" y="64"/>
                </a:lnTo>
                <a:lnTo>
                  <a:pt x="184" y="56"/>
                </a:lnTo>
                <a:lnTo>
                  <a:pt x="182" y="54"/>
                </a:lnTo>
                <a:lnTo>
                  <a:pt x="182" y="52"/>
                </a:lnTo>
                <a:lnTo>
                  <a:pt x="182" y="52"/>
                </a:lnTo>
                <a:lnTo>
                  <a:pt x="180" y="32"/>
                </a:lnTo>
                <a:lnTo>
                  <a:pt x="180" y="32"/>
                </a:lnTo>
                <a:lnTo>
                  <a:pt x="180" y="28"/>
                </a:lnTo>
                <a:lnTo>
                  <a:pt x="202" y="2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Freeform 18"/>
          <p:cNvSpPr/>
          <p:nvPr/>
        </p:nvSpPr>
        <p:spPr>
          <a:xfrm>
            <a:off x="5513400" y="5032440"/>
            <a:ext cx="466560" cy="542880"/>
          </a:xfrm>
          <a:custGeom>
            <a:avLst/>
            <a:gdLst>
              <a:gd name="textAreaLeft" fmla="*/ 0 w 466560"/>
              <a:gd name="textAreaRight" fmla="*/ 466920 w 4665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44" h="400">
                <a:moveTo>
                  <a:pt x="300" y="68"/>
                </a:moveTo>
                <a:lnTo>
                  <a:pt x="300" y="68"/>
                </a:lnTo>
                <a:lnTo>
                  <a:pt x="300" y="68"/>
                </a:lnTo>
                <a:lnTo>
                  <a:pt x="300" y="66"/>
                </a:lnTo>
                <a:lnTo>
                  <a:pt x="292" y="54"/>
                </a:lnTo>
                <a:lnTo>
                  <a:pt x="292" y="52"/>
                </a:lnTo>
                <a:lnTo>
                  <a:pt x="292" y="52"/>
                </a:lnTo>
                <a:lnTo>
                  <a:pt x="294" y="32"/>
                </a:lnTo>
                <a:lnTo>
                  <a:pt x="294" y="32"/>
                </a:lnTo>
                <a:lnTo>
                  <a:pt x="292" y="28"/>
                </a:lnTo>
                <a:lnTo>
                  <a:pt x="286" y="24"/>
                </a:lnTo>
                <a:lnTo>
                  <a:pt x="282" y="24"/>
                </a:lnTo>
                <a:lnTo>
                  <a:pt x="274" y="34"/>
                </a:lnTo>
                <a:lnTo>
                  <a:pt x="272" y="34"/>
                </a:lnTo>
                <a:lnTo>
                  <a:pt x="272" y="34"/>
                </a:lnTo>
                <a:lnTo>
                  <a:pt x="252" y="44"/>
                </a:lnTo>
                <a:lnTo>
                  <a:pt x="250" y="30"/>
                </a:lnTo>
                <a:lnTo>
                  <a:pt x="250" y="28"/>
                </a:lnTo>
                <a:lnTo>
                  <a:pt x="252" y="22"/>
                </a:lnTo>
                <a:lnTo>
                  <a:pt x="250" y="14"/>
                </a:lnTo>
                <a:lnTo>
                  <a:pt x="248" y="12"/>
                </a:lnTo>
                <a:lnTo>
                  <a:pt x="244" y="20"/>
                </a:lnTo>
                <a:lnTo>
                  <a:pt x="244" y="20"/>
                </a:lnTo>
                <a:lnTo>
                  <a:pt x="244" y="20"/>
                </a:lnTo>
                <a:lnTo>
                  <a:pt x="218" y="42"/>
                </a:lnTo>
                <a:lnTo>
                  <a:pt x="218" y="44"/>
                </a:lnTo>
                <a:lnTo>
                  <a:pt x="216" y="44"/>
                </a:lnTo>
                <a:lnTo>
                  <a:pt x="216" y="44"/>
                </a:lnTo>
                <a:lnTo>
                  <a:pt x="214" y="44"/>
                </a:lnTo>
                <a:lnTo>
                  <a:pt x="206" y="40"/>
                </a:lnTo>
                <a:lnTo>
                  <a:pt x="206" y="40"/>
                </a:lnTo>
                <a:lnTo>
                  <a:pt x="198" y="32"/>
                </a:lnTo>
                <a:lnTo>
                  <a:pt x="184" y="28"/>
                </a:lnTo>
                <a:lnTo>
                  <a:pt x="184" y="28"/>
                </a:lnTo>
                <a:lnTo>
                  <a:pt x="184" y="26"/>
                </a:lnTo>
                <a:lnTo>
                  <a:pt x="176" y="20"/>
                </a:lnTo>
                <a:lnTo>
                  <a:pt x="150" y="16"/>
                </a:lnTo>
                <a:lnTo>
                  <a:pt x="150" y="16"/>
                </a:lnTo>
                <a:lnTo>
                  <a:pt x="148" y="16"/>
                </a:lnTo>
                <a:lnTo>
                  <a:pt x="132" y="6"/>
                </a:lnTo>
                <a:lnTo>
                  <a:pt x="132" y="8"/>
                </a:lnTo>
                <a:lnTo>
                  <a:pt x="118" y="0"/>
                </a:lnTo>
                <a:lnTo>
                  <a:pt x="100" y="0"/>
                </a:lnTo>
                <a:lnTo>
                  <a:pt x="94" y="0"/>
                </a:lnTo>
                <a:lnTo>
                  <a:pt x="100" y="30"/>
                </a:lnTo>
                <a:lnTo>
                  <a:pt x="96" y="30"/>
                </a:lnTo>
                <a:lnTo>
                  <a:pt x="80" y="32"/>
                </a:lnTo>
                <a:lnTo>
                  <a:pt x="70" y="32"/>
                </a:lnTo>
                <a:lnTo>
                  <a:pt x="68" y="32"/>
                </a:lnTo>
                <a:lnTo>
                  <a:pt x="68" y="32"/>
                </a:lnTo>
                <a:lnTo>
                  <a:pt x="60" y="24"/>
                </a:lnTo>
                <a:lnTo>
                  <a:pt x="44" y="32"/>
                </a:lnTo>
                <a:lnTo>
                  <a:pt x="28" y="52"/>
                </a:lnTo>
                <a:lnTo>
                  <a:pt x="16" y="86"/>
                </a:lnTo>
                <a:lnTo>
                  <a:pt x="20" y="124"/>
                </a:lnTo>
                <a:lnTo>
                  <a:pt x="26" y="144"/>
                </a:lnTo>
                <a:lnTo>
                  <a:pt x="26" y="144"/>
                </a:lnTo>
                <a:lnTo>
                  <a:pt x="26" y="148"/>
                </a:lnTo>
                <a:lnTo>
                  <a:pt x="24" y="150"/>
                </a:lnTo>
                <a:lnTo>
                  <a:pt x="24" y="150"/>
                </a:lnTo>
                <a:lnTo>
                  <a:pt x="20" y="152"/>
                </a:lnTo>
                <a:lnTo>
                  <a:pt x="20" y="156"/>
                </a:lnTo>
                <a:lnTo>
                  <a:pt x="18" y="166"/>
                </a:lnTo>
                <a:lnTo>
                  <a:pt x="26" y="198"/>
                </a:lnTo>
                <a:lnTo>
                  <a:pt x="24" y="200"/>
                </a:lnTo>
                <a:lnTo>
                  <a:pt x="24" y="200"/>
                </a:lnTo>
                <a:lnTo>
                  <a:pt x="8" y="210"/>
                </a:lnTo>
                <a:lnTo>
                  <a:pt x="4" y="214"/>
                </a:lnTo>
                <a:lnTo>
                  <a:pt x="2" y="218"/>
                </a:lnTo>
                <a:lnTo>
                  <a:pt x="0" y="228"/>
                </a:lnTo>
                <a:lnTo>
                  <a:pt x="14" y="224"/>
                </a:lnTo>
                <a:lnTo>
                  <a:pt x="14" y="222"/>
                </a:lnTo>
                <a:lnTo>
                  <a:pt x="16" y="222"/>
                </a:lnTo>
                <a:lnTo>
                  <a:pt x="16" y="222"/>
                </a:lnTo>
                <a:lnTo>
                  <a:pt x="22" y="224"/>
                </a:lnTo>
                <a:lnTo>
                  <a:pt x="26" y="226"/>
                </a:lnTo>
                <a:lnTo>
                  <a:pt x="30" y="228"/>
                </a:lnTo>
                <a:lnTo>
                  <a:pt x="32" y="234"/>
                </a:lnTo>
                <a:lnTo>
                  <a:pt x="34" y="252"/>
                </a:lnTo>
                <a:lnTo>
                  <a:pt x="32" y="254"/>
                </a:lnTo>
                <a:lnTo>
                  <a:pt x="32" y="256"/>
                </a:lnTo>
                <a:lnTo>
                  <a:pt x="32" y="256"/>
                </a:lnTo>
                <a:lnTo>
                  <a:pt x="28" y="260"/>
                </a:lnTo>
                <a:lnTo>
                  <a:pt x="28" y="264"/>
                </a:lnTo>
                <a:lnTo>
                  <a:pt x="24" y="282"/>
                </a:lnTo>
                <a:lnTo>
                  <a:pt x="24" y="282"/>
                </a:lnTo>
                <a:lnTo>
                  <a:pt x="28" y="290"/>
                </a:lnTo>
                <a:lnTo>
                  <a:pt x="32" y="296"/>
                </a:lnTo>
                <a:lnTo>
                  <a:pt x="48" y="316"/>
                </a:lnTo>
                <a:lnTo>
                  <a:pt x="64" y="304"/>
                </a:lnTo>
                <a:lnTo>
                  <a:pt x="76" y="302"/>
                </a:lnTo>
                <a:lnTo>
                  <a:pt x="76" y="302"/>
                </a:lnTo>
                <a:lnTo>
                  <a:pt x="76" y="304"/>
                </a:lnTo>
                <a:lnTo>
                  <a:pt x="84" y="306"/>
                </a:lnTo>
                <a:lnTo>
                  <a:pt x="84" y="306"/>
                </a:lnTo>
                <a:lnTo>
                  <a:pt x="88" y="306"/>
                </a:lnTo>
                <a:lnTo>
                  <a:pt x="92" y="302"/>
                </a:lnTo>
                <a:lnTo>
                  <a:pt x="100" y="292"/>
                </a:lnTo>
                <a:lnTo>
                  <a:pt x="98" y="286"/>
                </a:lnTo>
                <a:lnTo>
                  <a:pt x="98" y="286"/>
                </a:lnTo>
                <a:lnTo>
                  <a:pt x="100" y="282"/>
                </a:lnTo>
                <a:lnTo>
                  <a:pt x="104" y="280"/>
                </a:lnTo>
                <a:lnTo>
                  <a:pt x="124" y="280"/>
                </a:lnTo>
                <a:lnTo>
                  <a:pt x="124" y="280"/>
                </a:lnTo>
                <a:lnTo>
                  <a:pt x="128" y="280"/>
                </a:lnTo>
                <a:lnTo>
                  <a:pt x="130" y="280"/>
                </a:lnTo>
                <a:lnTo>
                  <a:pt x="130" y="280"/>
                </a:lnTo>
                <a:lnTo>
                  <a:pt x="134" y="274"/>
                </a:lnTo>
                <a:lnTo>
                  <a:pt x="136" y="270"/>
                </a:lnTo>
                <a:lnTo>
                  <a:pt x="136" y="270"/>
                </a:lnTo>
                <a:lnTo>
                  <a:pt x="142" y="270"/>
                </a:lnTo>
                <a:lnTo>
                  <a:pt x="146" y="272"/>
                </a:lnTo>
                <a:lnTo>
                  <a:pt x="146" y="272"/>
                </a:lnTo>
                <a:lnTo>
                  <a:pt x="152" y="280"/>
                </a:lnTo>
                <a:lnTo>
                  <a:pt x="154" y="284"/>
                </a:lnTo>
                <a:lnTo>
                  <a:pt x="156" y="288"/>
                </a:lnTo>
                <a:lnTo>
                  <a:pt x="154" y="302"/>
                </a:lnTo>
                <a:lnTo>
                  <a:pt x="156" y="304"/>
                </a:lnTo>
                <a:lnTo>
                  <a:pt x="156" y="304"/>
                </a:lnTo>
                <a:lnTo>
                  <a:pt x="162" y="310"/>
                </a:lnTo>
                <a:lnTo>
                  <a:pt x="164" y="316"/>
                </a:lnTo>
                <a:lnTo>
                  <a:pt x="162" y="330"/>
                </a:lnTo>
                <a:lnTo>
                  <a:pt x="162" y="330"/>
                </a:lnTo>
                <a:lnTo>
                  <a:pt x="158" y="340"/>
                </a:lnTo>
                <a:lnTo>
                  <a:pt x="154" y="344"/>
                </a:lnTo>
                <a:lnTo>
                  <a:pt x="154" y="344"/>
                </a:lnTo>
                <a:lnTo>
                  <a:pt x="142" y="370"/>
                </a:lnTo>
                <a:lnTo>
                  <a:pt x="146" y="372"/>
                </a:lnTo>
                <a:lnTo>
                  <a:pt x="164" y="372"/>
                </a:lnTo>
                <a:lnTo>
                  <a:pt x="168" y="374"/>
                </a:lnTo>
                <a:lnTo>
                  <a:pt x="168" y="376"/>
                </a:lnTo>
                <a:lnTo>
                  <a:pt x="168" y="376"/>
                </a:lnTo>
                <a:lnTo>
                  <a:pt x="164" y="388"/>
                </a:lnTo>
                <a:lnTo>
                  <a:pt x="164" y="394"/>
                </a:lnTo>
                <a:lnTo>
                  <a:pt x="164" y="394"/>
                </a:lnTo>
                <a:lnTo>
                  <a:pt x="172" y="398"/>
                </a:lnTo>
                <a:lnTo>
                  <a:pt x="176" y="400"/>
                </a:lnTo>
                <a:lnTo>
                  <a:pt x="178" y="398"/>
                </a:lnTo>
                <a:lnTo>
                  <a:pt x="188" y="394"/>
                </a:lnTo>
                <a:lnTo>
                  <a:pt x="194" y="392"/>
                </a:lnTo>
                <a:lnTo>
                  <a:pt x="204" y="392"/>
                </a:lnTo>
                <a:lnTo>
                  <a:pt x="216" y="380"/>
                </a:lnTo>
                <a:lnTo>
                  <a:pt x="216" y="366"/>
                </a:lnTo>
                <a:lnTo>
                  <a:pt x="216" y="366"/>
                </a:lnTo>
                <a:lnTo>
                  <a:pt x="216" y="360"/>
                </a:lnTo>
                <a:lnTo>
                  <a:pt x="216" y="356"/>
                </a:lnTo>
                <a:lnTo>
                  <a:pt x="216" y="356"/>
                </a:lnTo>
                <a:lnTo>
                  <a:pt x="220" y="354"/>
                </a:lnTo>
                <a:lnTo>
                  <a:pt x="224" y="354"/>
                </a:lnTo>
                <a:lnTo>
                  <a:pt x="230" y="356"/>
                </a:lnTo>
                <a:lnTo>
                  <a:pt x="236" y="360"/>
                </a:lnTo>
                <a:lnTo>
                  <a:pt x="256" y="372"/>
                </a:lnTo>
                <a:lnTo>
                  <a:pt x="256" y="372"/>
                </a:lnTo>
                <a:lnTo>
                  <a:pt x="264" y="376"/>
                </a:lnTo>
                <a:lnTo>
                  <a:pt x="270" y="378"/>
                </a:lnTo>
                <a:lnTo>
                  <a:pt x="270" y="376"/>
                </a:lnTo>
                <a:lnTo>
                  <a:pt x="270" y="376"/>
                </a:lnTo>
                <a:lnTo>
                  <a:pt x="270" y="370"/>
                </a:lnTo>
                <a:lnTo>
                  <a:pt x="266" y="360"/>
                </a:lnTo>
                <a:lnTo>
                  <a:pt x="256" y="344"/>
                </a:lnTo>
                <a:lnTo>
                  <a:pt x="256" y="342"/>
                </a:lnTo>
                <a:lnTo>
                  <a:pt x="256" y="342"/>
                </a:lnTo>
                <a:lnTo>
                  <a:pt x="256" y="340"/>
                </a:lnTo>
                <a:lnTo>
                  <a:pt x="256" y="340"/>
                </a:lnTo>
                <a:lnTo>
                  <a:pt x="264" y="332"/>
                </a:lnTo>
                <a:lnTo>
                  <a:pt x="274" y="326"/>
                </a:lnTo>
                <a:lnTo>
                  <a:pt x="282" y="324"/>
                </a:lnTo>
                <a:lnTo>
                  <a:pt x="292" y="326"/>
                </a:lnTo>
                <a:lnTo>
                  <a:pt x="320" y="340"/>
                </a:lnTo>
                <a:lnTo>
                  <a:pt x="332" y="332"/>
                </a:lnTo>
                <a:lnTo>
                  <a:pt x="334" y="332"/>
                </a:lnTo>
                <a:lnTo>
                  <a:pt x="334" y="330"/>
                </a:lnTo>
                <a:lnTo>
                  <a:pt x="334" y="330"/>
                </a:lnTo>
                <a:lnTo>
                  <a:pt x="332" y="328"/>
                </a:lnTo>
                <a:lnTo>
                  <a:pt x="332" y="328"/>
                </a:lnTo>
                <a:lnTo>
                  <a:pt x="334" y="326"/>
                </a:lnTo>
                <a:lnTo>
                  <a:pt x="334" y="326"/>
                </a:lnTo>
                <a:lnTo>
                  <a:pt x="340" y="314"/>
                </a:lnTo>
                <a:lnTo>
                  <a:pt x="344" y="304"/>
                </a:lnTo>
                <a:lnTo>
                  <a:pt x="344" y="298"/>
                </a:lnTo>
                <a:lnTo>
                  <a:pt x="344" y="292"/>
                </a:lnTo>
                <a:lnTo>
                  <a:pt x="344" y="292"/>
                </a:lnTo>
                <a:lnTo>
                  <a:pt x="338" y="286"/>
                </a:lnTo>
                <a:lnTo>
                  <a:pt x="334" y="284"/>
                </a:lnTo>
                <a:lnTo>
                  <a:pt x="332" y="284"/>
                </a:lnTo>
                <a:lnTo>
                  <a:pt x="330" y="276"/>
                </a:lnTo>
                <a:lnTo>
                  <a:pt x="332" y="276"/>
                </a:lnTo>
                <a:lnTo>
                  <a:pt x="332" y="276"/>
                </a:lnTo>
                <a:lnTo>
                  <a:pt x="338" y="272"/>
                </a:lnTo>
                <a:lnTo>
                  <a:pt x="340" y="268"/>
                </a:lnTo>
                <a:lnTo>
                  <a:pt x="338" y="264"/>
                </a:lnTo>
                <a:lnTo>
                  <a:pt x="326" y="252"/>
                </a:lnTo>
                <a:lnTo>
                  <a:pt x="326" y="252"/>
                </a:lnTo>
                <a:lnTo>
                  <a:pt x="326" y="250"/>
                </a:lnTo>
                <a:lnTo>
                  <a:pt x="320" y="232"/>
                </a:lnTo>
                <a:lnTo>
                  <a:pt x="320" y="232"/>
                </a:lnTo>
                <a:lnTo>
                  <a:pt x="316" y="214"/>
                </a:lnTo>
                <a:lnTo>
                  <a:pt x="316" y="196"/>
                </a:lnTo>
                <a:lnTo>
                  <a:pt x="316" y="188"/>
                </a:lnTo>
                <a:lnTo>
                  <a:pt x="308" y="196"/>
                </a:lnTo>
                <a:lnTo>
                  <a:pt x="302" y="204"/>
                </a:lnTo>
                <a:lnTo>
                  <a:pt x="300" y="170"/>
                </a:lnTo>
                <a:lnTo>
                  <a:pt x="300" y="170"/>
                </a:lnTo>
                <a:lnTo>
                  <a:pt x="300" y="168"/>
                </a:lnTo>
                <a:lnTo>
                  <a:pt x="300" y="168"/>
                </a:lnTo>
                <a:lnTo>
                  <a:pt x="300" y="168"/>
                </a:lnTo>
                <a:lnTo>
                  <a:pt x="322" y="138"/>
                </a:lnTo>
                <a:lnTo>
                  <a:pt x="334" y="124"/>
                </a:lnTo>
                <a:lnTo>
                  <a:pt x="326" y="100"/>
                </a:lnTo>
                <a:lnTo>
                  <a:pt x="326" y="100"/>
                </a:lnTo>
                <a:lnTo>
                  <a:pt x="322" y="76"/>
                </a:lnTo>
                <a:lnTo>
                  <a:pt x="308" y="70"/>
                </a:lnTo>
                <a:lnTo>
                  <a:pt x="300" y="6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Freeform 19"/>
          <p:cNvSpPr/>
          <p:nvPr/>
        </p:nvSpPr>
        <p:spPr>
          <a:xfrm>
            <a:off x="5459400" y="4719600"/>
            <a:ext cx="662040" cy="415800"/>
          </a:xfrm>
          <a:custGeom>
            <a:avLst/>
            <a:gdLst>
              <a:gd name="textAreaLeft" fmla="*/ 0 w 662040"/>
              <a:gd name="textAreaRight" fmla="*/ 662400 w 66204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86" y="24"/>
                </a:lnTo>
                <a:lnTo>
                  <a:pt x="86" y="24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0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2" y="130"/>
                </a:lnTo>
                <a:lnTo>
                  <a:pt x="102" y="130"/>
                </a:lnTo>
                <a:lnTo>
                  <a:pt x="108" y="146"/>
                </a:lnTo>
                <a:lnTo>
                  <a:pt x="108" y="146"/>
                </a:lnTo>
                <a:lnTo>
                  <a:pt x="108" y="146"/>
                </a:lnTo>
                <a:lnTo>
                  <a:pt x="108" y="15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40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52" y="302"/>
                </a:lnTo>
                <a:lnTo>
                  <a:pt x="60" y="278"/>
                </a:lnTo>
                <a:lnTo>
                  <a:pt x="60" y="278"/>
                </a:lnTo>
                <a:lnTo>
                  <a:pt x="60" y="276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0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42" y="254"/>
                </a:lnTo>
                <a:lnTo>
                  <a:pt x="242" y="254"/>
                </a:lnTo>
                <a:lnTo>
                  <a:pt x="242" y="254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74" y="6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605560" y="5483160"/>
            <a:ext cx="690480" cy="546120"/>
          </a:xfrm>
          <a:custGeom>
            <a:avLst/>
            <a:gdLst>
              <a:gd name="textAreaLeft" fmla="*/ 0 w 690480"/>
              <a:gd name="textAreaRight" fmla="*/ 690840 w 6904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508" h="402">
                <a:moveTo>
                  <a:pt x="476" y="138"/>
                </a:moveTo>
                <a:lnTo>
                  <a:pt x="476" y="138"/>
                </a:lnTo>
                <a:lnTo>
                  <a:pt x="484" y="134"/>
                </a:lnTo>
                <a:lnTo>
                  <a:pt x="488" y="130"/>
                </a:lnTo>
                <a:lnTo>
                  <a:pt x="488" y="128"/>
                </a:lnTo>
                <a:lnTo>
                  <a:pt x="490" y="126"/>
                </a:lnTo>
                <a:lnTo>
                  <a:pt x="492" y="126"/>
                </a:lnTo>
                <a:lnTo>
                  <a:pt x="508" y="126"/>
                </a:lnTo>
                <a:lnTo>
                  <a:pt x="508" y="116"/>
                </a:lnTo>
                <a:lnTo>
                  <a:pt x="502" y="114"/>
                </a:lnTo>
                <a:lnTo>
                  <a:pt x="496" y="110"/>
                </a:lnTo>
                <a:lnTo>
                  <a:pt x="472" y="88"/>
                </a:lnTo>
                <a:lnTo>
                  <a:pt x="460" y="58"/>
                </a:lnTo>
                <a:lnTo>
                  <a:pt x="446" y="44"/>
                </a:lnTo>
                <a:lnTo>
                  <a:pt x="424" y="42"/>
                </a:lnTo>
                <a:lnTo>
                  <a:pt x="406" y="44"/>
                </a:lnTo>
                <a:lnTo>
                  <a:pt x="402" y="44"/>
                </a:lnTo>
                <a:lnTo>
                  <a:pt x="404" y="54"/>
                </a:lnTo>
                <a:lnTo>
                  <a:pt x="404" y="56"/>
                </a:lnTo>
                <a:lnTo>
                  <a:pt x="404" y="58"/>
                </a:lnTo>
                <a:lnTo>
                  <a:pt x="400" y="58"/>
                </a:lnTo>
                <a:lnTo>
                  <a:pt x="388" y="64"/>
                </a:lnTo>
                <a:lnTo>
                  <a:pt x="386" y="62"/>
                </a:lnTo>
                <a:lnTo>
                  <a:pt x="372" y="50"/>
                </a:lnTo>
                <a:lnTo>
                  <a:pt x="368" y="50"/>
                </a:lnTo>
                <a:lnTo>
                  <a:pt x="364" y="50"/>
                </a:lnTo>
                <a:lnTo>
                  <a:pt x="332" y="64"/>
                </a:lnTo>
                <a:lnTo>
                  <a:pt x="322" y="68"/>
                </a:lnTo>
                <a:lnTo>
                  <a:pt x="316" y="66"/>
                </a:lnTo>
                <a:lnTo>
                  <a:pt x="310" y="70"/>
                </a:lnTo>
                <a:lnTo>
                  <a:pt x="304" y="76"/>
                </a:lnTo>
                <a:lnTo>
                  <a:pt x="300" y="80"/>
                </a:lnTo>
                <a:lnTo>
                  <a:pt x="298" y="76"/>
                </a:lnTo>
                <a:lnTo>
                  <a:pt x="288" y="66"/>
                </a:lnTo>
                <a:lnTo>
                  <a:pt x="286" y="62"/>
                </a:lnTo>
                <a:lnTo>
                  <a:pt x="286" y="58"/>
                </a:lnTo>
                <a:lnTo>
                  <a:pt x="290" y="50"/>
                </a:lnTo>
                <a:lnTo>
                  <a:pt x="300" y="38"/>
                </a:lnTo>
                <a:lnTo>
                  <a:pt x="314" y="22"/>
                </a:lnTo>
                <a:lnTo>
                  <a:pt x="318" y="16"/>
                </a:lnTo>
                <a:lnTo>
                  <a:pt x="316" y="12"/>
                </a:lnTo>
                <a:lnTo>
                  <a:pt x="312" y="12"/>
                </a:lnTo>
                <a:lnTo>
                  <a:pt x="308" y="14"/>
                </a:lnTo>
                <a:lnTo>
                  <a:pt x="298" y="20"/>
                </a:lnTo>
                <a:lnTo>
                  <a:pt x="288" y="26"/>
                </a:lnTo>
                <a:lnTo>
                  <a:pt x="282" y="28"/>
                </a:lnTo>
                <a:lnTo>
                  <a:pt x="280" y="26"/>
                </a:lnTo>
                <a:lnTo>
                  <a:pt x="278" y="20"/>
                </a:lnTo>
                <a:lnTo>
                  <a:pt x="276" y="20"/>
                </a:lnTo>
                <a:lnTo>
                  <a:pt x="270" y="6"/>
                </a:lnTo>
                <a:lnTo>
                  <a:pt x="254" y="16"/>
                </a:lnTo>
                <a:lnTo>
                  <a:pt x="252" y="18"/>
                </a:lnTo>
                <a:lnTo>
                  <a:pt x="252" y="16"/>
                </a:lnTo>
                <a:lnTo>
                  <a:pt x="236" y="8"/>
                </a:lnTo>
                <a:lnTo>
                  <a:pt x="220" y="2"/>
                </a:lnTo>
                <a:lnTo>
                  <a:pt x="214" y="0"/>
                </a:lnTo>
                <a:lnTo>
                  <a:pt x="208" y="2"/>
                </a:lnTo>
                <a:lnTo>
                  <a:pt x="204" y="6"/>
                </a:lnTo>
                <a:lnTo>
                  <a:pt x="198" y="12"/>
                </a:lnTo>
                <a:lnTo>
                  <a:pt x="204" y="24"/>
                </a:lnTo>
                <a:lnTo>
                  <a:pt x="210" y="38"/>
                </a:lnTo>
                <a:lnTo>
                  <a:pt x="210" y="44"/>
                </a:lnTo>
                <a:lnTo>
                  <a:pt x="210" y="48"/>
                </a:lnTo>
                <a:lnTo>
                  <a:pt x="208" y="52"/>
                </a:lnTo>
                <a:lnTo>
                  <a:pt x="204" y="54"/>
                </a:lnTo>
                <a:lnTo>
                  <a:pt x="200" y="54"/>
                </a:lnTo>
                <a:lnTo>
                  <a:pt x="194" y="54"/>
                </a:lnTo>
                <a:lnTo>
                  <a:pt x="188" y="50"/>
                </a:lnTo>
                <a:lnTo>
                  <a:pt x="182" y="46"/>
                </a:lnTo>
                <a:lnTo>
                  <a:pt x="164" y="36"/>
                </a:lnTo>
                <a:lnTo>
                  <a:pt x="156" y="32"/>
                </a:lnTo>
                <a:lnTo>
                  <a:pt x="156" y="34"/>
                </a:lnTo>
                <a:lnTo>
                  <a:pt x="156" y="52"/>
                </a:lnTo>
                <a:lnTo>
                  <a:pt x="144" y="66"/>
                </a:lnTo>
                <a:lnTo>
                  <a:pt x="144" y="80"/>
                </a:lnTo>
                <a:lnTo>
                  <a:pt x="148" y="94"/>
                </a:lnTo>
                <a:lnTo>
                  <a:pt x="150" y="94"/>
                </a:lnTo>
                <a:lnTo>
                  <a:pt x="140" y="108"/>
                </a:lnTo>
                <a:lnTo>
                  <a:pt x="136" y="120"/>
                </a:lnTo>
                <a:lnTo>
                  <a:pt x="136" y="122"/>
                </a:lnTo>
                <a:lnTo>
                  <a:pt x="124" y="134"/>
                </a:lnTo>
                <a:lnTo>
                  <a:pt x="104" y="180"/>
                </a:lnTo>
                <a:lnTo>
                  <a:pt x="104" y="204"/>
                </a:lnTo>
                <a:lnTo>
                  <a:pt x="60" y="230"/>
                </a:lnTo>
                <a:lnTo>
                  <a:pt x="58" y="234"/>
                </a:lnTo>
                <a:lnTo>
                  <a:pt x="64" y="248"/>
                </a:lnTo>
                <a:lnTo>
                  <a:pt x="60" y="266"/>
                </a:lnTo>
                <a:lnTo>
                  <a:pt x="42" y="264"/>
                </a:lnTo>
                <a:lnTo>
                  <a:pt x="38" y="284"/>
                </a:lnTo>
                <a:lnTo>
                  <a:pt x="16" y="284"/>
                </a:lnTo>
                <a:lnTo>
                  <a:pt x="10" y="292"/>
                </a:lnTo>
                <a:lnTo>
                  <a:pt x="4" y="306"/>
                </a:lnTo>
                <a:lnTo>
                  <a:pt x="0" y="356"/>
                </a:lnTo>
                <a:lnTo>
                  <a:pt x="4" y="368"/>
                </a:lnTo>
                <a:lnTo>
                  <a:pt x="6" y="368"/>
                </a:lnTo>
                <a:lnTo>
                  <a:pt x="6" y="380"/>
                </a:lnTo>
                <a:lnTo>
                  <a:pt x="16" y="392"/>
                </a:lnTo>
                <a:lnTo>
                  <a:pt x="16" y="402"/>
                </a:lnTo>
                <a:lnTo>
                  <a:pt x="42" y="400"/>
                </a:lnTo>
                <a:lnTo>
                  <a:pt x="44" y="398"/>
                </a:lnTo>
                <a:lnTo>
                  <a:pt x="44" y="396"/>
                </a:lnTo>
                <a:lnTo>
                  <a:pt x="52" y="388"/>
                </a:lnTo>
                <a:lnTo>
                  <a:pt x="36" y="372"/>
                </a:lnTo>
                <a:lnTo>
                  <a:pt x="34" y="372"/>
                </a:lnTo>
                <a:lnTo>
                  <a:pt x="24" y="364"/>
                </a:lnTo>
                <a:lnTo>
                  <a:pt x="24" y="362"/>
                </a:lnTo>
                <a:lnTo>
                  <a:pt x="24" y="346"/>
                </a:lnTo>
                <a:lnTo>
                  <a:pt x="36" y="346"/>
                </a:lnTo>
                <a:lnTo>
                  <a:pt x="38" y="340"/>
                </a:lnTo>
                <a:lnTo>
                  <a:pt x="32" y="324"/>
                </a:lnTo>
                <a:lnTo>
                  <a:pt x="64" y="324"/>
                </a:lnTo>
                <a:lnTo>
                  <a:pt x="120" y="298"/>
                </a:lnTo>
                <a:lnTo>
                  <a:pt x="126" y="286"/>
                </a:lnTo>
                <a:lnTo>
                  <a:pt x="128" y="282"/>
                </a:lnTo>
                <a:lnTo>
                  <a:pt x="140" y="288"/>
                </a:lnTo>
                <a:lnTo>
                  <a:pt x="140" y="290"/>
                </a:lnTo>
                <a:lnTo>
                  <a:pt x="146" y="296"/>
                </a:lnTo>
                <a:lnTo>
                  <a:pt x="152" y="294"/>
                </a:lnTo>
                <a:lnTo>
                  <a:pt x="150" y="282"/>
                </a:lnTo>
                <a:lnTo>
                  <a:pt x="168" y="282"/>
                </a:lnTo>
                <a:lnTo>
                  <a:pt x="186" y="286"/>
                </a:lnTo>
                <a:lnTo>
                  <a:pt x="192" y="274"/>
                </a:lnTo>
                <a:lnTo>
                  <a:pt x="194" y="272"/>
                </a:lnTo>
                <a:lnTo>
                  <a:pt x="196" y="272"/>
                </a:lnTo>
                <a:lnTo>
                  <a:pt x="214" y="266"/>
                </a:lnTo>
                <a:lnTo>
                  <a:pt x="218" y="238"/>
                </a:lnTo>
                <a:lnTo>
                  <a:pt x="238" y="256"/>
                </a:lnTo>
                <a:lnTo>
                  <a:pt x="246" y="256"/>
                </a:lnTo>
                <a:lnTo>
                  <a:pt x="250" y="252"/>
                </a:lnTo>
                <a:lnTo>
                  <a:pt x="248" y="192"/>
                </a:lnTo>
                <a:lnTo>
                  <a:pt x="248" y="190"/>
                </a:lnTo>
                <a:lnTo>
                  <a:pt x="248" y="186"/>
                </a:lnTo>
                <a:lnTo>
                  <a:pt x="260" y="188"/>
                </a:lnTo>
                <a:lnTo>
                  <a:pt x="262" y="188"/>
                </a:lnTo>
                <a:lnTo>
                  <a:pt x="264" y="190"/>
                </a:lnTo>
                <a:lnTo>
                  <a:pt x="286" y="230"/>
                </a:lnTo>
                <a:lnTo>
                  <a:pt x="312" y="226"/>
                </a:lnTo>
                <a:lnTo>
                  <a:pt x="318" y="224"/>
                </a:lnTo>
                <a:lnTo>
                  <a:pt x="322" y="216"/>
                </a:lnTo>
                <a:lnTo>
                  <a:pt x="314" y="208"/>
                </a:lnTo>
                <a:lnTo>
                  <a:pt x="312" y="206"/>
                </a:lnTo>
                <a:lnTo>
                  <a:pt x="330" y="200"/>
                </a:lnTo>
                <a:lnTo>
                  <a:pt x="332" y="198"/>
                </a:lnTo>
                <a:lnTo>
                  <a:pt x="340" y="206"/>
                </a:lnTo>
                <a:lnTo>
                  <a:pt x="346" y="202"/>
                </a:lnTo>
                <a:lnTo>
                  <a:pt x="346" y="190"/>
                </a:lnTo>
                <a:lnTo>
                  <a:pt x="350" y="190"/>
                </a:lnTo>
                <a:lnTo>
                  <a:pt x="364" y="190"/>
                </a:lnTo>
                <a:lnTo>
                  <a:pt x="370" y="192"/>
                </a:lnTo>
                <a:lnTo>
                  <a:pt x="376" y="194"/>
                </a:lnTo>
                <a:lnTo>
                  <a:pt x="382" y="198"/>
                </a:lnTo>
                <a:lnTo>
                  <a:pt x="386" y="202"/>
                </a:lnTo>
                <a:lnTo>
                  <a:pt x="388" y="206"/>
                </a:lnTo>
                <a:lnTo>
                  <a:pt x="392" y="186"/>
                </a:lnTo>
                <a:lnTo>
                  <a:pt x="396" y="184"/>
                </a:lnTo>
                <a:lnTo>
                  <a:pt x="400" y="182"/>
                </a:lnTo>
                <a:lnTo>
                  <a:pt x="406" y="182"/>
                </a:lnTo>
                <a:lnTo>
                  <a:pt x="412" y="184"/>
                </a:lnTo>
                <a:lnTo>
                  <a:pt x="414" y="186"/>
                </a:lnTo>
                <a:lnTo>
                  <a:pt x="414" y="188"/>
                </a:lnTo>
                <a:lnTo>
                  <a:pt x="418" y="188"/>
                </a:lnTo>
                <a:lnTo>
                  <a:pt x="432" y="180"/>
                </a:lnTo>
                <a:lnTo>
                  <a:pt x="460" y="160"/>
                </a:lnTo>
                <a:lnTo>
                  <a:pt x="460" y="152"/>
                </a:lnTo>
                <a:lnTo>
                  <a:pt x="464" y="146"/>
                </a:lnTo>
                <a:lnTo>
                  <a:pt x="470" y="140"/>
                </a:lnTo>
                <a:lnTo>
                  <a:pt x="476" y="138"/>
                </a:lnTo>
                <a:close/>
              </a:path>
            </a:pathLst>
          </a:custGeom>
          <a:solidFill>
            <a:srgbClr val="dd3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Freeform 21"/>
          <p:cNvSpPr/>
          <p:nvPr/>
        </p:nvSpPr>
        <p:spPr>
          <a:xfrm>
            <a:off x="5932440" y="5010120"/>
            <a:ext cx="412920" cy="561960"/>
          </a:xfrm>
          <a:custGeom>
            <a:avLst/>
            <a:gdLst>
              <a:gd name="textAreaLeft" fmla="*/ 0 w 412920"/>
              <a:gd name="textAreaRight" fmla="*/ 413280 w 4129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304" h="414">
                <a:moveTo>
                  <a:pt x="240" y="16"/>
                </a:moveTo>
                <a:lnTo>
                  <a:pt x="238" y="16"/>
                </a:lnTo>
                <a:lnTo>
                  <a:pt x="220" y="0"/>
                </a:lnTo>
                <a:lnTo>
                  <a:pt x="212" y="6"/>
                </a:lnTo>
                <a:lnTo>
                  <a:pt x="212" y="6"/>
                </a:lnTo>
                <a:lnTo>
                  <a:pt x="206" y="16"/>
                </a:lnTo>
                <a:lnTo>
                  <a:pt x="200" y="24"/>
                </a:lnTo>
                <a:lnTo>
                  <a:pt x="192" y="28"/>
                </a:lnTo>
                <a:lnTo>
                  <a:pt x="184" y="32"/>
                </a:lnTo>
                <a:lnTo>
                  <a:pt x="184" y="32"/>
                </a:lnTo>
                <a:lnTo>
                  <a:pt x="180" y="34"/>
                </a:lnTo>
                <a:lnTo>
                  <a:pt x="176" y="32"/>
                </a:lnTo>
                <a:lnTo>
                  <a:pt x="176" y="32"/>
                </a:lnTo>
                <a:lnTo>
                  <a:pt x="174" y="28"/>
                </a:lnTo>
                <a:lnTo>
                  <a:pt x="174" y="22"/>
                </a:lnTo>
                <a:lnTo>
                  <a:pt x="180" y="4"/>
                </a:lnTo>
                <a:lnTo>
                  <a:pt x="152" y="22"/>
                </a:lnTo>
                <a:lnTo>
                  <a:pt x="152" y="24"/>
                </a:lnTo>
                <a:lnTo>
                  <a:pt x="152" y="24"/>
                </a:lnTo>
                <a:lnTo>
                  <a:pt x="128" y="24"/>
                </a:lnTo>
                <a:lnTo>
                  <a:pt x="108" y="34"/>
                </a:lnTo>
                <a:lnTo>
                  <a:pt x="108" y="36"/>
                </a:lnTo>
                <a:lnTo>
                  <a:pt x="84" y="36"/>
                </a:lnTo>
                <a:lnTo>
                  <a:pt x="72" y="42"/>
                </a:lnTo>
                <a:lnTo>
                  <a:pt x="68" y="54"/>
                </a:lnTo>
                <a:lnTo>
                  <a:pt x="66" y="56"/>
                </a:lnTo>
                <a:lnTo>
                  <a:pt x="40" y="56"/>
                </a:lnTo>
                <a:lnTo>
                  <a:pt x="40" y="56"/>
                </a:lnTo>
                <a:lnTo>
                  <a:pt x="34" y="56"/>
                </a:lnTo>
                <a:lnTo>
                  <a:pt x="28" y="62"/>
                </a:lnTo>
                <a:lnTo>
                  <a:pt x="8" y="80"/>
                </a:lnTo>
                <a:lnTo>
                  <a:pt x="8" y="80"/>
                </a:lnTo>
                <a:lnTo>
                  <a:pt x="16" y="84"/>
                </a:lnTo>
                <a:lnTo>
                  <a:pt x="20" y="88"/>
                </a:lnTo>
                <a:lnTo>
                  <a:pt x="22" y="94"/>
                </a:lnTo>
                <a:lnTo>
                  <a:pt x="22" y="92"/>
                </a:lnTo>
                <a:lnTo>
                  <a:pt x="34" y="138"/>
                </a:lnTo>
                <a:lnTo>
                  <a:pt x="34" y="138"/>
                </a:lnTo>
                <a:lnTo>
                  <a:pt x="34" y="140"/>
                </a:lnTo>
                <a:lnTo>
                  <a:pt x="34" y="144"/>
                </a:lnTo>
                <a:lnTo>
                  <a:pt x="34" y="144"/>
                </a:lnTo>
                <a:lnTo>
                  <a:pt x="32" y="144"/>
                </a:lnTo>
                <a:lnTo>
                  <a:pt x="32" y="144"/>
                </a:lnTo>
                <a:lnTo>
                  <a:pt x="0" y="188"/>
                </a:lnTo>
                <a:lnTo>
                  <a:pt x="0" y="200"/>
                </a:lnTo>
                <a:lnTo>
                  <a:pt x="0" y="200"/>
                </a:lnTo>
                <a:lnTo>
                  <a:pt x="8" y="196"/>
                </a:lnTo>
                <a:lnTo>
                  <a:pt x="12" y="196"/>
                </a:lnTo>
                <a:lnTo>
                  <a:pt x="12" y="196"/>
                </a:lnTo>
                <a:lnTo>
                  <a:pt x="16" y="198"/>
                </a:lnTo>
                <a:lnTo>
                  <a:pt x="18" y="202"/>
                </a:lnTo>
                <a:lnTo>
                  <a:pt x="16" y="214"/>
                </a:lnTo>
                <a:lnTo>
                  <a:pt x="16" y="214"/>
                </a:lnTo>
                <a:lnTo>
                  <a:pt x="16" y="226"/>
                </a:lnTo>
                <a:lnTo>
                  <a:pt x="18" y="238"/>
                </a:lnTo>
                <a:lnTo>
                  <a:pt x="20" y="250"/>
                </a:lnTo>
                <a:lnTo>
                  <a:pt x="24" y="262"/>
                </a:lnTo>
                <a:lnTo>
                  <a:pt x="36" y="274"/>
                </a:lnTo>
                <a:lnTo>
                  <a:pt x="36" y="274"/>
                </a:lnTo>
                <a:lnTo>
                  <a:pt x="40" y="280"/>
                </a:lnTo>
                <a:lnTo>
                  <a:pt x="40" y="286"/>
                </a:lnTo>
                <a:lnTo>
                  <a:pt x="36" y="294"/>
                </a:lnTo>
                <a:lnTo>
                  <a:pt x="42" y="304"/>
                </a:lnTo>
                <a:lnTo>
                  <a:pt x="42" y="304"/>
                </a:lnTo>
                <a:lnTo>
                  <a:pt x="44" y="310"/>
                </a:lnTo>
                <a:lnTo>
                  <a:pt x="44" y="320"/>
                </a:lnTo>
                <a:lnTo>
                  <a:pt x="40" y="330"/>
                </a:lnTo>
                <a:lnTo>
                  <a:pt x="34" y="344"/>
                </a:lnTo>
                <a:lnTo>
                  <a:pt x="44" y="362"/>
                </a:lnTo>
                <a:lnTo>
                  <a:pt x="46" y="366"/>
                </a:lnTo>
                <a:lnTo>
                  <a:pt x="52" y="362"/>
                </a:lnTo>
                <a:lnTo>
                  <a:pt x="52" y="362"/>
                </a:lnTo>
                <a:lnTo>
                  <a:pt x="60" y="356"/>
                </a:lnTo>
                <a:lnTo>
                  <a:pt x="66" y="352"/>
                </a:lnTo>
                <a:lnTo>
                  <a:pt x="72" y="352"/>
                </a:lnTo>
                <a:lnTo>
                  <a:pt x="78" y="352"/>
                </a:lnTo>
                <a:lnTo>
                  <a:pt x="78" y="352"/>
                </a:lnTo>
                <a:lnTo>
                  <a:pt x="84" y="356"/>
                </a:lnTo>
                <a:lnTo>
                  <a:pt x="86" y="362"/>
                </a:lnTo>
                <a:lnTo>
                  <a:pt x="86" y="362"/>
                </a:lnTo>
                <a:lnTo>
                  <a:pt x="86" y="366"/>
                </a:lnTo>
                <a:lnTo>
                  <a:pt x="82" y="374"/>
                </a:lnTo>
                <a:lnTo>
                  <a:pt x="66" y="392"/>
                </a:lnTo>
                <a:lnTo>
                  <a:pt x="56" y="406"/>
                </a:lnTo>
                <a:lnTo>
                  <a:pt x="60" y="414"/>
                </a:lnTo>
                <a:lnTo>
                  <a:pt x="60" y="414"/>
                </a:lnTo>
                <a:lnTo>
                  <a:pt x="72" y="408"/>
                </a:lnTo>
                <a:lnTo>
                  <a:pt x="76" y="406"/>
                </a:lnTo>
                <a:lnTo>
                  <a:pt x="80" y="406"/>
                </a:lnTo>
                <a:lnTo>
                  <a:pt x="80" y="406"/>
                </a:lnTo>
                <a:lnTo>
                  <a:pt x="94" y="402"/>
                </a:lnTo>
                <a:lnTo>
                  <a:pt x="120" y="390"/>
                </a:lnTo>
                <a:lnTo>
                  <a:pt x="120" y="390"/>
                </a:lnTo>
                <a:lnTo>
                  <a:pt x="126" y="388"/>
                </a:lnTo>
                <a:lnTo>
                  <a:pt x="134" y="390"/>
                </a:lnTo>
                <a:lnTo>
                  <a:pt x="142" y="394"/>
                </a:lnTo>
                <a:lnTo>
                  <a:pt x="150" y="402"/>
                </a:lnTo>
                <a:lnTo>
                  <a:pt x="154" y="400"/>
                </a:lnTo>
                <a:lnTo>
                  <a:pt x="154" y="390"/>
                </a:lnTo>
                <a:lnTo>
                  <a:pt x="152" y="388"/>
                </a:lnTo>
                <a:lnTo>
                  <a:pt x="152" y="388"/>
                </a:lnTo>
                <a:lnTo>
                  <a:pt x="152" y="384"/>
                </a:lnTo>
                <a:lnTo>
                  <a:pt x="154" y="380"/>
                </a:lnTo>
                <a:lnTo>
                  <a:pt x="150" y="366"/>
                </a:lnTo>
                <a:lnTo>
                  <a:pt x="150" y="366"/>
                </a:lnTo>
                <a:lnTo>
                  <a:pt x="150" y="362"/>
                </a:lnTo>
                <a:lnTo>
                  <a:pt x="150" y="358"/>
                </a:lnTo>
                <a:lnTo>
                  <a:pt x="150" y="358"/>
                </a:lnTo>
                <a:lnTo>
                  <a:pt x="158" y="352"/>
                </a:lnTo>
                <a:lnTo>
                  <a:pt x="166" y="346"/>
                </a:lnTo>
                <a:lnTo>
                  <a:pt x="162" y="336"/>
                </a:lnTo>
                <a:lnTo>
                  <a:pt x="162" y="336"/>
                </a:lnTo>
                <a:lnTo>
                  <a:pt x="162" y="336"/>
                </a:lnTo>
                <a:lnTo>
                  <a:pt x="162" y="334"/>
                </a:lnTo>
                <a:lnTo>
                  <a:pt x="162" y="334"/>
                </a:lnTo>
                <a:lnTo>
                  <a:pt x="166" y="328"/>
                </a:lnTo>
                <a:lnTo>
                  <a:pt x="164" y="324"/>
                </a:lnTo>
                <a:lnTo>
                  <a:pt x="164" y="324"/>
                </a:lnTo>
                <a:lnTo>
                  <a:pt x="164" y="320"/>
                </a:lnTo>
                <a:lnTo>
                  <a:pt x="164" y="316"/>
                </a:lnTo>
                <a:lnTo>
                  <a:pt x="170" y="308"/>
                </a:lnTo>
                <a:lnTo>
                  <a:pt x="180" y="300"/>
                </a:lnTo>
                <a:lnTo>
                  <a:pt x="178" y="298"/>
                </a:lnTo>
                <a:lnTo>
                  <a:pt x="176" y="296"/>
                </a:lnTo>
                <a:lnTo>
                  <a:pt x="186" y="292"/>
                </a:lnTo>
                <a:lnTo>
                  <a:pt x="186" y="278"/>
                </a:lnTo>
                <a:lnTo>
                  <a:pt x="186" y="278"/>
                </a:lnTo>
                <a:lnTo>
                  <a:pt x="186" y="274"/>
                </a:lnTo>
                <a:lnTo>
                  <a:pt x="190" y="270"/>
                </a:lnTo>
                <a:lnTo>
                  <a:pt x="194" y="266"/>
                </a:lnTo>
                <a:lnTo>
                  <a:pt x="200" y="260"/>
                </a:lnTo>
                <a:lnTo>
                  <a:pt x="206" y="256"/>
                </a:lnTo>
                <a:lnTo>
                  <a:pt x="206" y="256"/>
                </a:lnTo>
                <a:lnTo>
                  <a:pt x="194" y="242"/>
                </a:lnTo>
                <a:lnTo>
                  <a:pt x="194" y="242"/>
                </a:lnTo>
                <a:lnTo>
                  <a:pt x="192" y="238"/>
                </a:lnTo>
                <a:lnTo>
                  <a:pt x="192" y="232"/>
                </a:lnTo>
                <a:lnTo>
                  <a:pt x="194" y="228"/>
                </a:lnTo>
                <a:lnTo>
                  <a:pt x="198" y="222"/>
                </a:lnTo>
                <a:lnTo>
                  <a:pt x="198" y="220"/>
                </a:lnTo>
                <a:lnTo>
                  <a:pt x="224" y="200"/>
                </a:lnTo>
                <a:lnTo>
                  <a:pt x="224" y="194"/>
                </a:lnTo>
                <a:lnTo>
                  <a:pt x="224" y="194"/>
                </a:lnTo>
                <a:lnTo>
                  <a:pt x="222" y="192"/>
                </a:lnTo>
                <a:lnTo>
                  <a:pt x="220" y="186"/>
                </a:lnTo>
                <a:lnTo>
                  <a:pt x="220" y="178"/>
                </a:lnTo>
                <a:lnTo>
                  <a:pt x="220" y="170"/>
                </a:lnTo>
                <a:lnTo>
                  <a:pt x="220" y="170"/>
                </a:lnTo>
                <a:lnTo>
                  <a:pt x="224" y="156"/>
                </a:lnTo>
                <a:lnTo>
                  <a:pt x="230" y="146"/>
                </a:lnTo>
                <a:lnTo>
                  <a:pt x="238" y="138"/>
                </a:lnTo>
                <a:lnTo>
                  <a:pt x="250" y="136"/>
                </a:lnTo>
                <a:lnTo>
                  <a:pt x="250" y="136"/>
                </a:lnTo>
                <a:lnTo>
                  <a:pt x="252" y="136"/>
                </a:lnTo>
                <a:lnTo>
                  <a:pt x="262" y="140"/>
                </a:lnTo>
                <a:lnTo>
                  <a:pt x="272" y="140"/>
                </a:lnTo>
                <a:lnTo>
                  <a:pt x="284" y="128"/>
                </a:lnTo>
                <a:lnTo>
                  <a:pt x="284" y="128"/>
                </a:lnTo>
                <a:lnTo>
                  <a:pt x="284" y="128"/>
                </a:lnTo>
                <a:lnTo>
                  <a:pt x="284" y="128"/>
                </a:lnTo>
                <a:lnTo>
                  <a:pt x="296" y="120"/>
                </a:lnTo>
                <a:lnTo>
                  <a:pt x="296" y="108"/>
                </a:lnTo>
                <a:lnTo>
                  <a:pt x="296" y="106"/>
                </a:lnTo>
                <a:lnTo>
                  <a:pt x="296" y="104"/>
                </a:lnTo>
                <a:lnTo>
                  <a:pt x="300" y="102"/>
                </a:lnTo>
                <a:lnTo>
                  <a:pt x="304" y="98"/>
                </a:lnTo>
                <a:lnTo>
                  <a:pt x="304" y="96"/>
                </a:lnTo>
                <a:lnTo>
                  <a:pt x="296" y="84"/>
                </a:lnTo>
                <a:lnTo>
                  <a:pt x="296" y="84"/>
                </a:lnTo>
                <a:lnTo>
                  <a:pt x="286" y="68"/>
                </a:lnTo>
                <a:lnTo>
                  <a:pt x="276" y="52"/>
                </a:lnTo>
                <a:lnTo>
                  <a:pt x="276" y="52"/>
                </a:lnTo>
                <a:lnTo>
                  <a:pt x="274" y="46"/>
                </a:lnTo>
                <a:lnTo>
                  <a:pt x="274" y="40"/>
                </a:lnTo>
                <a:lnTo>
                  <a:pt x="276" y="34"/>
                </a:lnTo>
                <a:lnTo>
                  <a:pt x="280" y="28"/>
                </a:lnTo>
                <a:lnTo>
                  <a:pt x="264" y="20"/>
                </a:lnTo>
                <a:lnTo>
                  <a:pt x="240" y="1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Freeform 22"/>
          <p:cNvSpPr/>
          <p:nvPr/>
        </p:nvSpPr>
        <p:spPr>
          <a:xfrm>
            <a:off x="6146640" y="5159520"/>
            <a:ext cx="382680" cy="468000"/>
          </a:xfrm>
          <a:custGeom>
            <a:avLst/>
            <a:gdLst>
              <a:gd name="textAreaLeft" fmla="*/ 0 w 382680"/>
              <a:gd name="textAreaRight" fmla="*/ 383040 w 38268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82" h="344">
                <a:moveTo>
                  <a:pt x="146" y="14"/>
                </a:moveTo>
                <a:lnTo>
                  <a:pt x="146" y="14"/>
                </a:lnTo>
                <a:lnTo>
                  <a:pt x="132" y="24"/>
                </a:lnTo>
                <a:lnTo>
                  <a:pt x="120" y="38"/>
                </a:lnTo>
                <a:lnTo>
                  <a:pt x="118" y="38"/>
                </a:lnTo>
                <a:lnTo>
                  <a:pt x="118" y="40"/>
                </a:lnTo>
                <a:lnTo>
                  <a:pt x="102" y="40"/>
                </a:lnTo>
                <a:lnTo>
                  <a:pt x="102" y="40"/>
                </a:lnTo>
                <a:lnTo>
                  <a:pt x="92" y="34"/>
                </a:lnTo>
                <a:lnTo>
                  <a:pt x="92" y="34"/>
                </a:lnTo>
                <a:lnTo>
                  <a:pt x="84" y="38"/>
                </a:lnTo>
                <a:lnTo>
                  <a:pt x="78" y="42"/>
                </a:lnTo>
                <a:lnTo>
                  <a:pt x="74" y="50"/>
                </a:lnTo>
                <a:lnTo>
                  <a:pt x="70" y="60"/>
                </a:lnTo>
                <a:lnTo>
                  <a:pt x="70" y="74"/>
                </a:lnTo>
                <a:lnTo>
                  <a:pt x="80" y="66"/>
                </a:lnTo>
                <a:lnTo>
                  <a:pt x="74" y="92"/>
                </a:lnTo>
                <a:lnTo>
                  <a:pt x="74" y="92"/>
                </a:lnTo>
                <a:lnTo>
                  <a:pt x="74" y="94"/>
                </a:lnTo>
                <a:lnTo>
                  <a:pt x="46" y="116"/>
                </a:lnTo>
                <a:lnTo>
                  <a:pt x="46" y="116"/>
                </a:lnTo>
                <a:lnTo>
                  <a:pt x="42" y="124"/>
                </a:lnTo>
                <a:lnTo>
                  <a:pt x="42" y="128"/>
                </a:lnTo>
                <a:lnTo>
                  <a:pt x="48" y="134"/>
                </a:lnTo>
                <a:lnTo>
                  <a:pt x="48" y="134"/>
                </a:lnTo>
                <a:lnTo>
                  <a:pt x="54" y="140"/>
                </a:lnTo>
                <a:lnTo>
                  <a:pt x="56" y="142"/>
                </a:lnTo>
                <a:lnTo>
                  <a:pt x="56" y="146"/>
                </a:lnTo>
                <a:lnTo>
                  <a:pt x="56" y="146"/>
                </a:lnTo>
                <a:lnTo>
                  <a:pt x="56" y="148"/>
                </a:lnTo>
                <a:lnTo>
                  <a:pt x="54" y="152"/>
                </a:lnTo>
                <a:lnTo>
                  <a:pt x="36" y="166"/>
                </a:lnTo>
                <a:lnTo>
                  <a:pt x="36" y="166"/>
                </a:lnTo>
                <a:lnTo>
                  <a:pt x="38" y="174"/>
                </a:lnTo>
                <a:lnTo>
                  <a:pt x="36" y="184"/>
                </a:lnTo>
                <a:lnTo>
                  <a:pt x="36" y="186"/>
                </a:lnTo>
                <a:lnTo>
                  <a:pt x="36" y="186"/>
                </a:lnTo>
                <a:lnTo>
                  <a:pt x="30" y="190"/>
                </a:lnTo>
                <a:lnTo>
                  <a:pt x="30" y="190"/>
                </a:lnTo>
                <a:lnTo>
                  <a:pt x="28" y="194"/>
                </a:lnTo>
                <a:lnTo>
                  <a:pt x="24" y="200"/>
                </a:lnTo>
                <a:lnTo>
                  <a:pt x="14" y="208"/>
                </a:lnTo>
                <a:lnTo>
                  <a:pt x="14" y="210"/>
                </a:lnTo>
                <a:lnTo>
                  <a:pt x="14" y="210"/>
                </a:lnTo>
                <a:lnTo>
                  <a:pt x="16" y="216"/>
                </a:lnTo>
                <a:lnTo>
                  <a:pt x="14" y="226"/>
                </a:lnTo>
                <a:lnTo>
                  <a:pt x="14" y="226"/>
                </a:lnTo>
                <a:lnTo>
                  <a:pt x="16" y="236"/>
                </a:lnTo>
                <a:lnTo>
                  <a:pt x="16" y="238"/>
                </a:lnTo>
                <a:lnTo>
                  <a:pt x="14" y="242"/>
                </a:lnTo>
                <a:lnTo>
                  <a:pt x="6" y="250"/>
                </a:lnTo>
                <a:lnTo>
                  <a:pt x="4" y="250"/>
                </a:lnTo>
                <a:lnTo>
                  <a:pt x="0" y="252"/>
                </a:lnTo>
                <a:lnTo>
                  <a:pt x="0" y="254"/>
                </a:lnTo>
                <a:lnTo>
                  <a:pt x="6" y="272"/>
                </a:lnTo>
                <a:lnTo>
                  <a:pt x="6" y="272"/>
                </a:lnTo>
                <a:lnTo>
                  <a:pt x="6" y="272"/>
                </a:lnTo>
                <a:lnTo>
                  <a:pt x="28" y="272"/>
                </a:lnTo>
                <a:lnTo>
                  <a:pt x="50" y="272"/>
                </a:lnTo>
                <a:lnTo>
                  <a:pt x="52" y="272"/>
                </a:lnTo>
                <a:lnTo>
                  <a:pt x="52" y="274"/>
                </a:lnTo>
                <a:lnTo>
                  <a:pt x="70" y="290"/>
                </a:lnTo>
                <a:lnTo>
                  <a:pt x="70" y="292"/>
                </a:lnTo>
                <a:lnTo>
                  <a:pt x="70" y="292"/>
                </a:lnTo>
                <a:lnTo>
                  <a:pt x="82" y="322"/>
                </a:lnTo>
                <a:lnTo>
                  <a:pt x="102" y="342"/>
                </a:lnTo>
                <a:lnTo>
                  <a:pt x="112" y="344"/>
                </a:lnTo>
                <a:lnTo>
                  <a:pt x="112" y="320"/>
                </a:lnTo>
                <a:lnTo>
                  <a:pt x="132" y="340"/>
                </a:lnTo>
                <a:lnTo>
                  <a:pt x="136" y="336"/>
                </a:lnTo>
                <a:lnTo>
                  <a:pt x="150" y="306"/>
                </a:lnTo>
                <a:lnTo>
                  <a:pt x="152" y="290"/>
                </a:lnTo>
                <a:lnTo>
                  <a:pt x="154" y="290"/>
                </a:lnTo>
                <a:lnTo>
                  <a:pt x="156" y="290"/>
                </a:lnTo>
                <a:lnTo>
                  <a:pt x="172" y="292"/>
                </a:lnTo>
                <a:lnTo>
                  <a:pt x="170" y="280"/>
                </a:lnTo>
                <a:lnTo>
                  <a:pt x="170" y="278"/>
                </a:lnTo>
                <a:lnTo>
                  <a:pt x="170" y="276"/>
                </a:lnTo>
                <a:lnTo>
                  <a:pt x="174" y="276"/>
                </a:lnTo>
                <a:lnTo>
                  <a:pt x="194" y="276"/>
                </a:lnTo>
                <a:lnTo>
                  <a:pt x="194" y="276"/>
                </a:lnTo>
                <a:lnTo>
                  <a:pt x="200" y="270"/>
                </a:lnTo>
                <a:lnTo>
                  <a:pt x="204" y="262"/>
                </a:lnTo>
                <a:lnTo>
                  <a:pt x="208" y="256"/>
                </a:lnTo>
                <a:lnTo>
                  <a:pt x="208" y="250"/>
                </a:lnTo>
                <a:lnTo>
                  <a:pt x="206" y="222"/>
                </a:lnTo>
                <a:lnTo>
                  <a:pt x="222" y="226"/>
                </a:lnTo>
                <a:lnTo>
                  <a:pt x="228" y="218"/>
                </a:lnTo>
                <a:lnTo>
                  <a:pt x="220" y="210"/>
                </a:lnTo>
                <a:lnTo>
                  <a:pt x="218" y="208"/>
                </a:lnTo>
                <a:lnTo>
                  <a:pt x="234" y="192"/>
                </a:lnTo>
                <a:lnTo>
                  <a:pt x="234" y="194"/>
                </a:lnTo>
                <a:lnTo>
                  <a:pt x="236" y="194"/>
                </a:lnTo>
                <a:lnTo>
                  <a:pt x="246" y="198"/>
                </a:lnTo>
                <a:lnTo>
                  <a:pt x="246" y="196"/>
                </a:lnTo>
                <a:lnTo>
                  <a:pt x="238" y="182"/>
                </a:lnTo>
                <a:lnTo>
                  <a:pt x="242" y="180"/>
                </a:lnTo>
                <a:lnTo>
                  <a:pt x="246" y="178"/>
                </a:lnTo>
                <a:lnTo>
                  <a:pt x="244" y="172"/>
                </a:lnTo>
                <a:lnTo>
                  <a:pt x="236" y="156"/>
                </a:lnTo>
                <a:lnTo>
                  <a:pt x="238" y="156"/>
                </a:lnTo>
                <a:lnTo>
                  <a:pt x="238" y="154"/>
                </a:lnTo>
                <a:lnTo>
                  <a:pt x="260" y="142"/>
                </a:lnTo>
                <a:lnTo>
                  <a:pt x="262" y="134"/>
                </a:lnTo>
                <a:lnTo>
                  <a:pt x="262" y="134"/>
                </a:lnTo>
                <a:lnTo>
                  <a:pt x="240" y="120"/>
                </a:lnTo>
                <a:lnTo>
                  <a:pt x="236" y="116"/>
                </a:lnTo>
                <a:lnTo>
                  <a:pt x="234" y="112"/>
                </a:lnTo>
                <a:lnTo>
                  <a:pt x="234" y="112"/>
                </a:lnTo>
                <a:lnTo>
                  <a:pt x="236" y="108"/>
                </a:lnTo>
                <a:lnTo>
                  <a:pt x="242" y="108"/>
                </a:lnTo>
                <a:lnTo>
                  <a:pt x="266" y="112"/>
                </a:lnTo>
                <a:lnTo>
                  <a:pt x="266" y="98"/>
                </a:lnTo>
                <a:lnTo>
                  <a:pt x="266" y="96"/>
                </a:lnTo>
                <a:lnTo>
                  <a:pt x="278" y="84"/>
                </a:lnTo>
                <a:lnTo>
                  <a:pt x="282" y="74"/>
                </a:lnTo>
                <a:lnTo>
                  <a:pt x="282" y="74"/>
                </a:lnTo>
                <a:lnTo>
                  <a:pt x="276" y="72"/>
                </a:lnTo>
                <a:lnTo>
                  <a:pt x="270" y="66"/>
                </a:lnTo>
                <a:lnTo>
                  <a:pt x="270" y="66"/>
                </a:lnTo>
                <a:lnTo>
                  <a:pt x="270" y="64"/>
                </a:lnTo>
                <a:lnTo>
                  <a:pt x="270" y="60"/>
                </a:lnTo>
                <a:lnTo>
                  <a:pt x="270" y="58"/>
                </a:lnTo>
                <a:lnTo>
                  <a:pt x="268" y="58"/>
                </a:lnTo>
                <a:lnTo>
                  <a:pt x="266" y="58"/>
                </a:lnTo>
                <a:lnTo>
                  <a:pt x="266" y="58"/>
                </a:lnTo>
                <a:lnTo>
                  <a:pt x="262" y="62"/>
                </a:lnTo>
                <a:lnTo>
                  <a:pt x="256" y="64"/>
                </a:lnTo>
                <a:lnTo>
                  <a:pt x="256" y="64"/>
                </a:lnTo>
                <a:lnTo>
                  <a:pt x="250" y="62"/>
                </a:lnTo>
                <a:lnTo>
                  <a:pt x="244" y="62"/>
                </a:lnTo>
                <a:lnTo>
                  <a:pt x="234" y="54"/>
                </a:lnTo>
                <a:lnTo>
                  <a:pt x="234" y="54"/>
                </a:lnTo>
                <a:lnTo>
                  <a:pt x="234" y="54"/>
                </a:lnTo>
                <a:lnTo>
                  <a:pt x="226" y="42"/>
                </a:lnTo>
                <a:lnTo>
                  <a:pt x="226" y="44"/>
                </a:lnTo>
                <a:lnTo>
                  <a:pt x="226" y="44"/>
                </a:lnTo>
                <a:lnTo>
                  <a:pt x="222" y="50"/>
                </a:lnTo>
                <a:lnTo>
                  <a:pt x="216" y="58"/>
                </a:lnTo>
                <a:lnTo>
                  <a:pt x="216" y="58"/>
                </a:lnTo>
                <a:lnTo>
                  <a:pt x="208" y="60"/>
                </a:lnTo>
                <a:lnTo>
                  <a:pt x="200" y="62"/>
                </a:lnTo>
                <a:lnTo>
                  <a:pt x="194" y="62"/>
                </a:lnTo>
                <a:lnTo>
                  <a:pt x="186" y="60"/>
                </a:lnTo>
                <a:lnTo>
                  <a:pt x="186" y="60"/>
                </a:lnTo>
                <a:lnTo>
                  <a:pt x="182" y="58"/>
                </a:lnTo>
                <a:lnTo>
                  <a:pt x="178" y="54"/>
                </a:lnTo>
                <a:lnTo>
                  <a:pt x="174" y="46"/>
                </a:lnTo>
                <a:lnTo>
                  <a:pt x="170" y="30"/>
                </a:lnTo>
                <a:lnTo>
                  <a:pt x="170" y="30"/>
                </a:lnTo>
                <a:lnTo>
                  <a:pt x="166" y="12"/>
                </a:lnTo>
                <a:lnTo>
                  <a:pt x="164" y="6"/>
                </a:lnTo>
                <a:lnTo>
                  <a:pt x="160" y="2"/>
                </a:lnTo>
                <a:lnTo>
                  <a:pt x="160" y="2"/>
                </a:lnTo>
                <a:lnTo>
                  <a:pt x="154" y="0"/>
                </a:lnTo>
                <a:lnTo>
                  <a:pt x="146" y="0"/>
                </a:lnTo>
                <a:lnTo>
                  <a:pt x="148" y="14"/>
                </a:lnTo>
                <a:lnTo>
                  <a:pt x="146" y="1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Freeform 23"/>
          <p:cNvSpPr/>
          <p:nvPr/>
        </p:nvSpPr>
        <p:spPr>
          <a:xfrm>
            <a:off x="6318360" y="4863960"/>
            <a:ext cx="328680" cy="379440"/>
          </a:xfrm>
          <a:custGeom>
            <a:avLst/>
            <a:gdLst>
              <a:gd name="textAreaLeft" fmla="*/ 0 w 328680"/>
              <a:gd name="textAreaRight" fmla="*/ 329040 w 3286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242" h="280">
                <a:moveTo>
                  <a:pt x="148" y="4"/>
                </a:moveTo>
                <a:lnTo>
                  <a:pt x="148" y="4"/>
                </a:lnTo>
                <a:lnTo>
                  <a:pt x="136" y="8"/>
                </a:lnTo>
                <a:lnTo>
                  <a:pt x="126" y="12"/>
                </a:lnTo>
                <a:lnTo>
                  <a:pt x="126" y="12"/>
                </a:lnTo>
                <a:lnTo>
                  <a:pt x="116" y="10"/>
                </a:lnTo>
                <a:lnTo>
                  <a:pt x="102" y="6"/>
                </a:lnTo>
                <a:lnTo>
                  <a:pt x="84" y="4"/>
                </a:lnTo>
                <a:lnTo>
                  <a:pt x="84" y="4"/>
                </a:lnTo>
                <a:lnTo>
                  <a:pt x="78" y="6"/>
                </a:lnTo>
                <a:lnTo>
                  <a:pt x="74" y="12"/>
                </a:lnTo>
                <a:lnTo>
                  <a:pt x="62" y="28"/>
                </a:lnTo>
                <a:lnTo>
                  <a:pt x="74" y="52"/>
                </a:lnTo>
                <a:lnTo>
                  <a:pt x="54" y="64"/>
                </a:lnTo>
                <a:lnTo>
                  <a:pt x="54" y="64"/>
                </a:lnTo>
                <a:lnTo>
                  <a:pt x="38" y="60"/>
                </a:lnTo>
                <a:lnTo>
                  <a:pt x="38" y="60"/>
                </a:lnTo>
                <a:lnTo>
                  <a:pt x="44" y="74"/>
                </a:lnTo>
                <a:lnTo>
                  <a:pt x="44" y="78"/>
                </a:lnTo>
                <a:lnTo>
                  <a:pt x="44" y="82"/>
                </a:lnTo>
                <a:lnTo>
                  <a:pt x="42" y="88"/>
                </a:lnTo>
                <a:lnTo>
                  <a:pt x="42" y="88"/>
                </a:lnTo>
                <a:lnTo>
                  <a:pt x="36" y="100"/>
                </a:lnTo>
                <a:lnTo>
                  <a:pt x="32" y="106"/>
                </a:lnTo>
                <a:lnTo>
                  <a:pt x="4" y="132"/>
                </a:lnTo>
                <a:lnTo>
                  <a:pt x="10" y="136"/>
                </a:lnTo>
                <a:lnTo>
                  <a:pt x="6" y="140"/>
                </a:lnTo>
                <a:lnTo>
                  <a:pt x="6" y="140"/>
                </a:lnTo>
                <a:lnTo>
                  <a:pt x="2" y="144"/>
                </a:lnTo>
                <a:lnTo>
                  <a:pt x="0" y="148"/>
                </a:lnTo>
                <a:lnTo>
                  <a:pt x="0" y="152"/>
                </a:lnTo>
                <a:lnTo>
                  <a:pt x="0" y="156"/>
                </a:lnTo>
                <a:lnTo>
                  <a:pt x="20" y="186"/>
                </a:lnTo>
                <a:lnTo>
                  <a:pt x="20" y="186"/>
                </a:lnTo>
                <a:lnTo>
                  <a:pt x="20" y="186"/>
                </a:lnTo>
                <a:lnTo>
                  <a:pt x="30" y="202"/>
                </a:lnTo>
                <a:lnTo>
                  <a:pt x="30" y="204"/>
                </a:lnTo>
                <a:lnTo>
                  <a:pt x="30" y="204"/>
                </a:lnTo>
                <a:lnTo>
                  <a:pt x="30" y="206"/>
                </a:lnTo>
                <a:lnTo>
                  <a:pt x="30" y="208"/>
                </a:lnTo>
                <a:lnTo>
                  <a:pt x="30" y="208"/>
                </a:lnTo>
                <a:lnTo>
                  <a:pt x="28" y="210"/>
                </a:lnTo>
                <a:lnTo>
                  <a:pt x="28" y="210"/>
                </a:lnTo>
                <a:lnTo>
                  <a:pt x="34" y="210"/>
                </a:lnTo>
                <a:lnTo>
                  <a:pt x="40" y="214"/>
                </a:lnTo>
                <a:lnTo>
                  <a:pt x="40" y="214"/>
                </a:lnTo>
                <a:lnTo>
                  <a:pt x="44" y="218"/>
                </a:lnTo>
                <a:lnTo>
                  <a:pt x="48" y="224"/>
                </a:lnTo>
                <a:lnTo>
                  <a:pt x="50" y="234"/>
                </a:lnTo>
                <a:lnTo>
                  <a:pt x="52" y="246"/>
                </a:lnTo>
                <a:lnTo>
                  <a:pt x="56" y="262"/>
                </a:lnTo>
                <a:lnTo>
                  <a:pt x="56" y="262"/>
                </a:lnTo>
                <a:lnTo>
                  <a:pt x="58" y="266"/>
                </a:lnTo>
                <a:lnTo>
                  <a:pt x="64" y="270"/>
                </a:lnTo>
                <a:lnTo>
                  <a:pt x="64" y="270"/>
                </a:lnTo>
                <a:lnTo>
                  <a:pt x="68" y="272"/>
                </a:lnTo>
                <a:lnTo>
                  <a:pt x="74" y="272"/>
                </a:lnTo>
                <a:lnTo>
                  <a:pt x="80" y="270"/>
                </a:lnTo>
                <a:lnTo>
                  <a:pt x="84" y="268"/>
                </a:lnTo>
                <a:lnTo>
                  <a:pt x="84" y="268"/>
                </a:lnTo>
                <a:lnTo>
                  <a:pt x="90" y="264"/>
                </a:lnTo>
                <a:lnTo>
                  <a:pt x="90" y="260"/>
                </a:lnTo>
                <a:lnTo>
                  <a:pt x="90" y="260"/>
                </a:lnTo>
                <a:lnTo>
                  <a:pt x="90" y="258"/>
                </a:lnTo>
                <a:lnTo>
                  <a:pt x="104" y="248"/>
                </a:lnTo>
                <a:lnTo>
                  <a:pt x="104" y="250"/>
                </a:lnTo>
                <a:lnTo>
                  <a:pt x="116" y="268"/>
                </a:lnTo>
                <a:lnTo>
                  <a:pt x="116" y="268"/>
                </a:lnTo>
                <a:lnTo>
                  <a:pt x="122" y="270"/>
                </a:lnTo>
                <a:lnTo>
                  <a:pt x="130" y="272"/>
                </a:lnTo>
                <a:lnTo>
                  <a:pt x="134" y="272"/>
                </a:lnTo>
                <a:lnTo>
                  <a:pt x="134" y="272"/>
                </a:lnTo>
                <a:lnTo>
                  <a:pt x="130" y="262"/>
                </a:lnTo>
                <a:lnTo>
                  <a:pt x="146" y="268"/>
                </a:lnTo>
                <a:lnTo>
                  <a:pt x="150" y="268"/>
                </a:lnTo>
                <a:lnTo>
                  <a:pt x="150" y="268"/>
                </a:lnTo>
                <a:lnTo>
                  <a:pt x="152" y="270"/>
                </a:lnTo>
                <a:lnTo>
                  <a:pt x="166" y="280"/>
                </a:lnTo>
                <a:lnTo>
                  <a:pt x="170" y="274"/>
                </a:lnTo>
                <a:lnTo>
                  <a:pt x="168" y="248"/>
                </a:lnTo>
                <a:lnTo>
                  <a:pt x="170" y="246"/>
                </a:lnTo>
                <a:lnTo>
                  <a:pt x="170" y="246"/>
                </a:lnTo>
                <a:lnTo>
                  <a:pt x="180" y="234"/>
                </a:lnTo>
                <a:lnTo>
                  <a:pt x="180" y="234"/>
                </a:lnTo>
                <a:lnTo>
                  <a:pt x="180" y="232"/>
                </a:lnTo>
                <a:lnTo>
                  <a:pt x="176" y="226"/>
                </a:lnTo>
                <a:lnTo>
                  <a:pt x="172" y="224"/>
                </a:lnTo>
                <a:lnTo>
                  <a:pt x="174" y="222"/>
                </a:lnTo>
                <a:lnTo>
                  <a:pt x="176" y="220"/>
                </a:lnTo>
                <a:lnTo>
                  <a:pt x="178" y="220"/>
                </a:lnTo>
                <a:lnTo>
                  <a:pt x="198" y="186"/>
                </a:lnTo>
                <a:lnTo>
                  <a:pt x="200" y="188"/>
                </a:lnTo>
                <a:lnTo>
                  <a:pt x="204" y="188"/>
                </a:lnTo>
                <a:lnTo>
                  <a:pt x="204" y="188"/>
                </a:lnTo>
                <a:lnTo>
                  <a:pt x="204" y="190"/>
                </a:lnTo>
                <a:lnTo>
                  <a:pt x="204" y="204"/>
                </a:lnTo>
                <a:lnTo>
                  <a:pt x="204" y="204"/>
                </a:lnTo>
                <a:lnTo>
                  <a:pt x="228" y="184"/>
                </a:lnTo>
                <a:lnTo>
                  <a:pt x="226" y="172"/>
                </a:lnTo>
                <a:lnTo>
                  <a:pt x="222" y="172"/>
                </a:lnTo>
                <a:lnTo>
                  <a:pt x="214" y="174"/>
                </a:lnTo>
                <a:lnTo>
                  <a:pt x="228" y="136"/>
                </a:lnTo>
                <a:lnTo>
                  <a:pt x="216" y="136"/>
                </a:lnTo>
                <a:lnTo>
                  <a:pt x="216" y="136"/>
                </a:lnTo>
                <a:lnTo>
                  <a:pt x="214" y="136"/>
                </a:lnTo>
                <a:lnTo>
                  <a:pt x="214" y="134"/>
                </a:lnTo>
                <a:lnTo>
                  <a:pt x="210" y="128"/>
                </a:lnTo>
                <a:lnTo>
                  <a:pt x="210" y="128"/>
                </a:lnTo>
                <a:lnTo>
                  <a:pt x="208" y="122"/>
                </a:lnTo>
                <a:lnTo>
                  <a:pt x="210" y="116"/>
                </a:lnTo>
                <a:lnTo>
                  <a:pt x="230" y="116"/>
                </a:lnTo>
                <a:lnTo>
                  <a:pt x="242" y="116"/>
                </a:lnTo>
                <a:lnTo>
                  <a:pt x="242" y="116"/>
                </a:lnTo>
                <a:lnTo>
                  <a:pt x="240" y="106"/>
                </a:lnTo>
                <a:lnTo>
                  <a:pt x="232" y="92"/>
                </a:lnTo>
                <a:lnTo>
                  <a:pt x="216" y="86"/>
                </a:lnTo>
                <a:lnTo>
                  <a:pt x="232" y="70"/>
                </a:lnTo>
                <a:lnTo>
                  <a:pt x="232" y="66"/>
                </a:lnTo>
                <a:lnTo>
                  <a:pt x="224" y="68"/>
                </a:lnTo>
                <a:lnTo>
                  <a:pt x="220" y="68"/>
                </a:lnTo>
                <a:lnTo>
                  <a:pt x="220" y="66"/>
                </a:lnTo>
                <a:lnTo>
                  <a:pt x="220" y="66"/>
                </a:lnTo>
                <a:lnTo>
                  <a:pt x="220" y="64"/>
                </a:lnTo>
                <a:lnTo>
                  <a:pt x="220" y="64"/>
                </a:lnTo>
                <a:lnTo>
                  <a:pt x="218" y="58"/>
                </a:lnTo>
                <a:lnTo>
                  <a:pt x="214" y="54"/>
                </a:lnTo>
                <a:lnTo>
                  <a:pt x="210" y="50"/>
                </a:lnTo>
                <a:lnTo>
                  <a:pt x="204" y="48"/>
                </a:lnTo>
                <a:lnTo>
                  <a:pt x="172" y="48"/>
                </a:lnTo>
                <a:lnTo>
                  <a:pt x="160" y="64"/>
                </a:lnTo>
                <a:lnTo>
                  <a:pt x="160" y="64"/>
                </a:lnTo>
                <a:lnTo>
                  <a:pt x="156" y="64"/>
                </a:lnTo>
                <a:lnTo>
                  <a:pt x="104" y="48"/>
                </a:lnTo>
                <a:lnTo>
                  <a:pt x="154" y="36"/>
                </a:lnTo>
                <a:lnTo>
                  <a:pt x="154" y="36"/>
                </a:lnTo>
                <a:lnTo>
                  <a:pt x="158" y="34"/>
                </a:lnTo>
                <a:lnTo>
                  <a:pt x="162" y="30"/>
                </a:lnTo>
                <a:lnTo>
                  <a:pt x="178" y="12"/>
                </a:lnTo>
                <a:lnTo>
                  <a:pt x="162" y="0"/>
                </a:lnTo>
                <a:lnTo>
                  <a:pt x="148" y="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Freeform 24"/>
          <p:cNvSpPr/>
          <p:nvPr/>
        </p:nvSpPr>
        <p:spPr>
          <a:xfrm>
            <a:off x="5997600" y="4535640"/>
            <a:ext cx="414360" cy="507960"/>
          </a:xfrm>
          <a:custGeom>
            <a:avLst/>
            <a:gdLst>
              <a:gd name="textAreaLeft" fmla="*/ 0 w 414360"/>
              <a:gd name="textAreaRight" fmla="*/ 414720 w 4143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92" y="106"/>
                </a:ln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0"/>
                </a:lnTo>
                <a:lnTo>
                  <a:pt x="46" y="72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8" y="88"/>
                </a:lnTo>
                <a:lnTo>
                  <a:pt x="24" y="90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16" y="126"/>
                </a:lnTo>
                <a:lnTo>
                  <a:pt x="16" y="126"/>
                </a:lnTo>
                <a:lnTo>
                  <a:pt x="0" y="122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28" y="162"/>
                </a:lnTo>
                <a:lnTo>
                  <a:pt x="36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70" y="178"/>
                </a:lnTo>
                <a:lnTo>
                  <a:pt x="70" y="178"/>
                </a:lnTo>
                <a:lnTo>
                  <a:pt x="70" y="178"/>
                </a:lnTo>
                <a:lnTo>
                  <a:pt x="68" y="200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50" y="230"/>
                </a:lnTo>
                <a:lnTo>
                  <a:pt x="50" y="230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Freeform 25"/>
          <p:cNvSpPr/>
          <p:nvPr/>
        </p:nvSpPr>
        <p:spPr>
          <a:xfrm>
            <a:off x="6078600" y="3948120"/>
            <a:ext cx="108000" cy="158760"/>
          </a:xfrm>
          <a:custGeom>
            <a:avLst/>
            <a:gdLst>
              <a:gd name="textAreaLeft" fmla="*/ 0 w 108000"/>
              <a:gd name="textAreaRight" fmla="*/ 108360 w 108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80" h="116">
                <a:moveTo>
                  <a:pt x="46" y="2"/>
                </a:moveTo>
                <a:lnTo>
                  <a:pt x="44" y="0"/>
                </a:lnTo>
                <a:lnTo>
                  <a:pt x="44" y="0"/>
                </a:lnTo>
                <a:lnTo>
                  <a:pt x="40" y="2"/>
                </a:lnTo>
                <a:lnTo>
                  <a:pt x="38" y="4"/>
                </a:lnTo>
                <a:lnTo>
                  <a:pt x="32" y="14"/>
                </a:lnTo>
                <a:lnTo>
                  <a:pt x="28" y="12"/>
                </a:lnTo>
                <a:lnTo>
                  <a:pt x="28" y="12"/>
                </a:lnTo>
                <a:lnTo>
                  <a:pt x="28" y="14"/>
                </a:lnTo>
                <a:lnTo>
                  <a:pt x="22" y="20"/>
                </a:lnTo>
                <a:lnTo>
                  <a:pt x="18" y="22"/>
                </a:lnTo>
                <a:lnTo>
                  <a:pt x="10" y="26"/>
                </a:lnTo>
                <a:lnTo>
                  <a:pt x="8" y="32"/>
                </a:lnTo>
                <a:lnTo>
                  <a:pt x="8" y="32"/>
                </a:lnTo>
                <a:lnTo>
                  <a:pt x="8" y="44"/>
                </a:lnTo>
                <a:lnTo>
                  <a:pt x="6" y="48"/>
                </a:lnTo>
                <a:lnTo>
                  <a:pt x="4" y="50"/>
                </a:lnTo>
                <a:lnTo>
                  <a:pt x="0" y="60"/>
                </a:lnTo>
                <a:lnTo>
                  <a:pt x="0" y="60"/>
                </a:lnTo>
                <a:lnTo>
                  <a:pt x="0" y="66"/>
                </a:lnTo>
                <a:lnTo>
                  <a:pt x="0" y="78"/>
                </a:lnTo>
                <a:lnTo>
                  <a:pt x="4" y="102"/>
                </a:lnTo>
                <a:lnTo>
                  <a:pt x="4" y="102"/>
                </a:lnTo>
                <a:lnTo>
                  <a:pt x="8" y="106"/>
                </a:lnTo>
                <a:lnTo>
                  <a:pt x="18" y="112"/>
                </a:lnTo>
                <a:lnTo>
                  <a:pt x="36" y="116"/>
                </a:lnTo>
                <a:lnTo>
                  <a:pt x="36" y="116"/>
                </a:lnTo>
                <a:lnTo>
                  <a:pt x="44" y="114"/>
                </a:lnTo>
                <a:lnTo>
                  <a:pt x="54" y="110"/>
                </a:lnTo>
                <a:lnTo>
                  <a:pt x="50" y="100"/>
                </a:lnTo>
                <a:lnTo>
                  <a:pt x="50" y="98"/>
                </a:lnTo>
                <a:lnTo>
                  <a:pt x="50" y="98"/>
                </a:lnTo>
                <a:lnTo>
                  <a:pt x="52" y="90"/>
                </a:lnTo>
                <a:lnTo>
                  <a:pt x="52" y="90"/>
                </a:lnTo>
                <a:lnTo>
                  <a:pt x="60" y="74"/>
                </a:lnTo>
                <a:lnTo>
                  <a:pt x="76" y="74"/>
                </a:lnTo>
                <a:lnTo>
                  <a:pt x="80" y="74"/>
                </a:lnTo>
                <a:lnTo>
                  <a:pt x="80" y="74"/>
                </a:lnTo>
                <a:lnTo>
                  <a:pt x="74" y="64"/>
                </a:lnTo>
                <a:lnTo>
                  <a:pt x="64" y="48"/>
                </a:lnTo>
                <a:lnTo>
                  <a:pt x="58" y="40"/>
                </a:lnTo>
                <a:lnTo>
                  <a:pt x="58" y="40"/>
                </a:lnTo>
                <a:lnTo>
                  <a:pt x="54" y="30"/>
                </a:lnTo>
                <a:lnTo>
                  <a:pt x="52" y="18"/>
                </a:lnTo>
                <a:lnTo>
                  <a:pt x="52" y="18"/>
                </a:lnTo>
                <a:lnTo>
                  <a:pt x="48" y="8"/>
                </a:lnTo>
                <a:lnTo>
                  <a:pt x="46" y="2"/>
                </a:lnTo>
                <a:lnTo>
                  <a:pt x="46" y="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Freeform 26"/>
          <p:cNvSpPr/>
          <p:nvPr/>
        </p:nvSpPr>
        <p:spPr>
          <a:xfrm>
            <a:off x="5970600" y="3878280"/>
            <a:ext cx="142920" cy="1540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06" h="114">
                <a:moveTo>
                  <a:pt x="52" y="24"/>
                </a:moveTo>
                <a:lnTo>
                  <a:pt x="52" y="26"/>
                </a:lnTo>
                <a:lnTo>
                  <a:pt x="48" y="26"/>
                </a:lnTo>
                <a:lnTo>
                  <a:pt x="38" y="24"/>
                </a:lnTo>
                <a:lnTo>
                  <a:pt x="38" y="28"/>
                </a:lnTo>
                <a:lnTo>
                  <a:pt x="38" y="30"/>
                </a:lnTo>
                <a:lnTo>
                  <a:pt x="36" y="30"/>
                </a:lnTo>
                <a:lnTo>
                  <a:pt x="18" y="38"/>
                </a:lnTo>
                <a:lnTo>
                  <a:pt x="18" y="40"/>
                </a:lnTo>
                <a:lnTo>
                  <a:pt x="18" y="40"/>
                </a:lnTo>
                <a:lnTo>
                  <a:pt x="16" y="44"/>
                </a:lnTo>
                <a:lnTo>
                  <a:pt x="18" y="48"/>
                </a:lnTo>
                <a:lnTo>
                  <a:pt x="24" y="56"/>
                </a:lnTo>
                <a:lnTo>
                  <a:pt x="24" y="58"/>
                </a:lnTo>
                <a:lnTo>
                  <a:pt x="24" y="60"/>
                </a:lnTo>
                <a:lnTo>
                  <a:pt x="24" y="60"/>
                </a:lnTo>
                <a:lnTo>
                  <a:pt x="14" y="72"/>
                </a:lnTo>
                <a:lnTo>
                  <a:pt x="4" y="82"/>
                </a:lnTo>
                <a:lnTo>
                  <a:pt x="4" y="82"/>
                </a:lnTo>
                <a:lnTo>
                  <a:pt x="0" y="86"/>
                </a:lnTo>
                <a:lnTo>
                  <a:pt x="0" y="90"/>
                </a:lnTo>
                <a:lnTo>
                  <a:pt x="4" y="96"/>
                </a:lnTo>
                <a:lnTo>
                  <a:pt x="14" y="100"/>
                </a:lnTo>
                <a:lnTo>
                  <a:pt x="20" y="100"/>
                </a:lnTo>
                <a:lnTo>
                  <a:pt x="20" y="100"/>
                </a:lnTo>
                <a:lnTo>
                  <a:pt x="32" y="102"/>
                </a:lnTo>
                <a:lnTo>
                  <a:pt x="36" y="102"/>
                </a:lnTo>
                <a:lnTo>
                  <a:pt x="40" y="106"/>
                </a:lnTo>
                <a:lnTo>
                  <a:pt x="48" y="110"/>
                </a:lnTo>
                <a:lnTo>
                  <a:pt x="48" y="110"/>
                </a:lnTo>
                <a:lnTo>
                  <a:pt x="56" y="114"/>
                </a:lnTo>
                <a:lnTo>
                  <a:pt x="62" y="114"/>
                </a:lnTo>
                <a:lnTo>
                  <a:pt x="62" y="114"/>
                </a:lnTo>
                <a:lnTo>
                  <a:pt x="66" y="112"/>
                </a:lnTo>
                <a:lnTo>
                  <a:pt x="72" y="106"/>
                </a:lnTo>
                <a:lnTo>
                  <a:pt x="78" y="98"/>
                </a:lnTo>
                <a:lnTo>
                  <a:pt x="84" y="84"/>
                </a:lnTo>
                <a:lnTo>
                  <a:pt x="80" y="66"/>
                </a:lnTo>
                <a:lnTo>
                  <a:pt x="86" y="68"/>
                </a:lnTo>
                <a:lnTo>
                  <a:pt x="96" y="68"/>
                </a:lnTo>
                <a:lnTo>
                  <a:pt x="100" y="66"/>
                </a:lnTo>
                <a:lnTo>
                  <a:pt x="102" y="62"/>
                </a:lnTo>
                <a:lnTo>
                  <a:pt x="94" y="38"/>
                </a:lnTo>
                <a:lnTo>
                  <a:pt x="96" y="30"/>
                </a:lnTo>
                <a:lnTo>
                  <a:pt x="96" y="30"/>
                </a:lnTo>
                <a:lnTo>
                  <a:pt x="102" y="26"/>
                </a:lnTo>
                <a:lnTo>
                  <a:pt x="106" y="22"/>
                </a:lnTo>
                <a:lnTo>
                  <a:pt x="106" y="22"/>
                </a:lnTo>
                <a:lnTo>
                  <a:pt x="104" y="18"/>
                </a:lnTo>
                <a:lnTo>
                  <a:pt x="86" y="18"/>
                </a:lnTo>
                <a:lnTo>
                  <a:pt x="86" y="18"/>
                </a:lnTo>
                <a:lnTo>
                  <a:pt x="68" y="6"/>
                </a:lnTo>
                <a:lnTo>
                  <a:pt x="68" y="6"/>
                </a:lnTo>
                <a:lnTo>
                  <a:pt x="62" y="2"/>
                </a:lnTo>
                <a:lnTo>
                  <a:pt x="58" y="0"/>
                </a:lnTo>
                <a:lnTo>
                  <a:pt x="48" y="2"/>
                </a:lnTo>
                <a:lnTo>
                  <a:pt x="44" y="2"/>
                </a:lnTo>
                <a:lnTo>
                  <a:pt x="44" y="2"/>
                </a:lnTo>
                <a:lnTo>
                  <a:pt x="44" y="8"/>
                </a:lnTo>
                <a:lnTo>
                  <a:pt x="50" y="10"/>
                </a:lnTo>
                <a:lnTo>
                  <a:pt x="50" y="10"/>
                </a:lnTo>
                <a:lnTo>
                  <a:pt x="54" y="16"/>
                </a:lnTo>
                <a:lnTo>
                  <a:pt x="54" y="20"/>
                </a:lnTo>
                <a:lnTo>
                  <a:pt x="52" y="24"/>
                </a:lnTo>
                <a:lnTo>
                  <a:pt x="52" y="2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Freeform 27"/>
          <p:cNvSpPr/>
          <p:nvPr/>
        </p:nvSpPr>
        <p:spPr>
          <a:xfrm>
            <a:off x="6215040" y="3571920"/>
            <a:ext cx="509760" cy="485640"/>
          </a:xfrm>
          <a:custGeom>
            <a:avLst/>
            <a:gdLst>
              <a:gd name="textAreaLeft" fmla="*/ 0 w 509760"/>
              <a:gd name="textAreaRight" fmla="*/ 510120 w 509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2" y="112"/>
                </a:lnTo>
                <a:lnTo>
                  <a:pt x="90" y="116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42" y="138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4" y="220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6" y="248"/>
                </a:lnTo>
                <a:lnTo>
                  <a:pt x="48" y="248"/>
                </a:lnTo>
                <a:lnTo>
                  <a:pt x="48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12" y="224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8" y="254"/>
                </a:lnTo>
                <a:lnTo>
                  <a:pt x="184" y="268"/>
                </a:lnTo>
                <a:lnTo>
                  <a:pt x="184" y="268"/>
                </a:lnTo>
                <a:lnTo>
                  <a:pt x="184" y="270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72" y="260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26" y="208"/>
                </a:lnTo>
                <a:lnTo>
                  <a:pt x="326" y="208"/>
                </a:lnTo>
                <a:lnTo>
                  <a:pt x="376" y="156"/>
                </a:lnTo>
                <a:lnTo>
                  <a:pt x="376" y="156"/>
                </a:lnTo>
                <a:lnTo>
                  <a:pt x="372" y="128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Freeform 28"/>
          <p:cNvSpPr/>
          <p:nvPr/>
        </p:nvSpPr>
        <p:spPr>
          <a:xfrm>
            <a:off x="6327720" y="3278160"/>
            <a:ext cx="728640" cy="493920"/>
          </a:xfrm>
          <a:custGeom>
            <a:avLst/>
            <a:gdLst>
              <a:gd name="textAreaLeft" fmla="*/ 0 w 728640"/>
              <a:gd name="textAreaRight" fmla="*/ 729000 w 72864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536" h="364">
                <a:moveTo>
                  <a:pt x="104" y="18"/>
                </a:moveTo>
                <a:lnTo>
                  <a:pt x="102" y="0"/>
                </a:lnTo>
                <a:lnTo>
                  <a:pt x="94" y="6"/>
                </a:lnTo>
                <a:lnTo>
                  <a:pt x="92" y="6"/>
                </a:lnTo>
                <a:lnTo>
                  <a:pt x="74" y="12"/>
                </a:lnTo>
                <a:lnTo>
                  <a:pt x="72" y="12"/>
                </a:lnTo>
                <a:lnTo>
                  <a:pt x="70" y="10"/>
                </a:lnTo>
                <a:lnTo>
                  <a:pt x="70" y="20"/>
                </a:lnTo>
                <a:lnTo>
                  <a:pt x="68" y="20"/>
                </a:lnTo>
                <a:lnTo>
                  <a:pt x="60" y="34"/>
                </a:lnTo>
                <a:lnTo>
                  <a:pt x="58" y="34"/>
                </a:lnTo>
                <a:lnTo>
                  <a:pt x="58" y="36"/>
                </a:lnTo>
                <a:lnTo>
                  <a:pt x="58" y="36"/>
                </a:lnTo>
                <a:lnTo>
                  <a:pt x="44" y="48"/>
                </a:lnTo>
                <a:lnTo>
                  <a:pt x="42" y="48"/>
                </a:lnTo>
                <a:lnTo>
                  <a:pt x="42" y="48"/>
                </a:lnTo>
                <a:lnTo>
                  <a:pt x="40" y="48"/>
                </a:lnTo>
                <a:lnTo>
                  <a:pt x="40" y="48"/>
                </a:lnTo>
                <a:lnTo>
                  <a:pt x="28" y="40"/>
                </a:lnTo>
                <a:lnTo>
                  <a:pt x="22" y="34"/>
                </a:lnTo>
                <a:lnTo>
                  <a:pt x="22" y="34"/>
                </a:lnTo>
                <a:lnTo>
                  <a:pt x="18" y="32"/>
                </a:lnTo>
                <a:lnTo>
                  <a:pt x="8" y="34"/>
                </a:lnTo>
                <a:lnTo>
                  <a:pt x="0" y="40"/>
                </a:lnTo>
                <a:lnTo>
                  <a:pt x="18" y="54"/>
                </a:lnTo>
                <a:lnTo>
                  <a:pt x="32" y="60"/>
                </a:lnTo>
                <a:lnTo>
                  <a:pt x="32" y="60"/>
                </a:lnTo>
                <a:lnTo>
                  <a:pt x="32" y="60"/>
                </a:lnTo>
                <a:lnTo>
                  <a:pt x="34" y="62"/>
                </a:lnTo>
                <a:lnTo>
                  <a:pt x="34" y="64"/>
                </a:lnTo>
                <a:lnTo>
                  <a:pt x="36" y="80"/>
                </a:lnTo>
                <a:lnTo>
                  <a:pt x="36" y="80"/>
                </a:lnTo>
                <a:lnTo>
                  <a:pt x="36" y="104"/>
                </a:lnTo>
                <a:lnTo>
                  <a:pt x="40" y="118"/>
                </a:lnTo>
                <a:lnTo>
                  <a:pt x="50" y="140"/>
                </a:lnTo>
                <a:lnTo>
                  <a:pt x="60" y="152"/>
                </a:lnTo>
                <a:lnTo>
                  <a:pt x="70" y="144"/>
                </a:lnTo>
                <a:lnTo>
                  <a:pt x="76" y="136"/>
                </a:lnTo>
                <a:lnTo>
                  <a:pt x="76" y="136"/>
                </a:lnTo>
                <a:lnTo>
                  <a:pt x="76" y="136"/>
                </a:lnTo>
                <a:lnTo>
                  <a:pt x="88" y="122"/>
                </a:lnTo>
                <a:lnTo>
                  <a:pt x="98" y="132"/>
                </a:lnTo>
                <a:lnTo>
                  <a:pt x="98" y="132"/>
                </a:lnTo>
                <a:lnTo>
                  <a:pt x="98" y="132"/>
                </a:lnTo>
                <a:lnTo>
                  <a:pt x="98" y="132"/>
                </a:lnTo>
                <a:lnTo>
                  <a:pt x="98" y="132"/>
                </a:lnTo>
                <a:lnTo>
                  <a:pt x="108" y="152"/>
                </a:lnTo>
                <a:lnTo>
                  <a:pt x="120" y="156"/>
                </a:lnTo>
                <a:lnTo>
                  <a:pt x="126" y="176"/>
                </a:lnTo>
                <a:lnTo>
                  <a:pt x="126" y="176"/>
                </a:lnTo>
                <a:lnTo>
                  <a:pt x="126" y="176"/>
                </a:lnTo>
                <a:lnTo>
                  <a:pt x="124" y="194"/>
                </a:lnTo>
                <a:lnTo>
                  <a:pt x="124" y="196"/>
                </a:lnTo>
                <a:lnTo>
                  <a:pt x="124" y="196"/>
                </a:lnTo>
                <a:lnTo>
                  <a:pt x="120" y="212"/>
                </a:lnTo>
                <a:lnTo>
                  <a:pt x="128" y="220"/>
                </a:lnTo>
                <a:lnTo>
                  <a:pt x="138" y="214"/>
                </a:lnTo>
                <a:lnTo>
                  <a:pt x="148" y="204"/>
                </a:lnTo>
                <a:lnTo>
                  <a:pt x="150" y="206"/>
                </a:lnTo>
                <a:lnTo>
                  <a:pt x="158" y="208"/>
                </a:lnTo>
                <a:lnTo>
                  <a:pt x="158" y="208"/>
                </a:lnTo>
                <a:lnTo>
                  <a:pt x="158" y="208"/>
                </a:lnTo>
                <a:lnTo>
                  <a:pt x="168" y="218"/>
                </a:lnTo>
                <a:lnTo>
                  <a:pt x="178" y="216"/>
                </a:lnTo>
                <a:lnTo>
                  <a:pt x="178" y="216"/>
                </a:lnTo>
                <a:lnTo>
                  <a:pt x="184" y="214"/>
                </a:lnTo>
                <a:lnTo>
                  <a:pt x="188" y="216"/>
                </a:lnTo>
                <a:lnTo>
                  <a:pt x="190" y="218"/>
                </a:lnTo>
                <a:lnTo>
                  <a:pt x="192" y="220"/>
                </a:lnTo>
                <a:lnTo>
                  <a:pt x="192" y="228"/>
                </a:lnTo>
                <a:lnTo>
                  <a:pt x="194" y="228"/>
                </a:lnTo>
                <a:lnTo>
                  <a:pt x="204" y="232"/>
                </a:lnTo>
                <a:lnTo>
                  <a:pt x="210" y="222"/>
                </a:lnTo>
                <a:lnTo>
                  <a:pt x="210" y="218"/>
                </a:lnTo>
                <a:lnTo>
                  <a:pt x="210" y="218"/>
                </a:lnTo>
                <a:lnTo>
                  <a:pt x="210" y="214"/>
                </a:lnTo>
                <a:lnTo>
                  <a:pt x="212" y="210"/>
                </a:lnTo>
                <a:lnTo>
                  <a:pt x="220" y="212"/>
                </a:lnTo>
                <a:lnTo>
                  <a:pt x="220" y="212"/>
                </a:lnTo>
                <a:lnTo>
                  <a:pt x="226" y="214"/>
                </a:lnTo>
                <a:lnTo>
                  <a:pt x="230" y="218"/>
                </a:lnTo>
                <a:lnTo>
                  <a:pt x="232" y="222"/>
                </a:lnTo>
                <a:lnTo>
                  <a:pt x="232" y="228"/>
                </a:lnTo>
                <a:lnTo>
                  <a:pt x="232" y="232"/>
                </a:lnTo>
                <a:lnTo>
                  <a:pt x="232" y="242"/>
                </a:lnTo>
                <a:lnTo>
                  <a:pt x="240" y="256"/>
                </a:lnTo>
                <a:lnTo>
                  <a:pt x="250" y="266"/>
                </a:lnTo>
                <a:lnTo>
                  <a:pt x="250" y="266"/>
                </a:lnTo>
                <a:lnTo>
                  <a:pt x="256" y="272"/>
                </a:lnTo>
                <a:lnTo>
                  <a:pt x="262" y="274"/>
                </a:lnTo>
                <a:lnTo>
                  <a:pt x="264" y="274"/>
                </a:lnTo>
                <a:lnTo>
                  <a:pt x="264" y="274"/>
                </a:lnTo>
                <a:lnTo>
                  <a:pt x="266" y="278"/>
                </a:lnTo>
                <a:lnTo>
                  <a:pt x="268" y="288"/>
                </a:lnTo>
                <a:lnTo>
                  <a:pt x="268" y="324"/>
                </a:lnTo>
                <a:lnTo>
                  <a:pt x="268" y="324"/>
                </a:lnTo>
                <a:lnTo>
                  <a:pt x="270" y="328"/>
                </a:lnTo>
                <a:lnTo>
                  <a:pt x="274" y="330"/>
                </a:lnTo>
                <a:lnTo>
                  <a:pt x="276" y="330"/>
                </a:lnTo>
                <a:lnTo>
                  <a:pt x="276" y="330"/>
                </a:lnTo>
                <a:lnTo>
                  <a:pt x="282" y="330"/>
                </a:lnTo>
                <a:lnTo>
                  <a:pt x="288" y="332"/>
                </a:lnTo>
                <a:lnTo>
                  <a:pt x="290" y="334"/>
                </a:lnTo>
                <a:lnTo>
                  <a:pt x="290" y="334"/>
                </a:lnTo>
                <a:lnTo>
                  <a:pt x="294" y="338"/>
                </a:lnTo>
                <a:lnTo>
                  <a:pt x="298" y="344"/>
                </a:lnTo>
                <a:lnTo>
                  <a:pt x="300" y="364"/>
                </a:lnTo>
                <a:lnTo>
                  <a:pt x="318" y="328"/>
                </a:lnTo>
                <a:lnTo>
                  <a:pt x="318" y="328"/>
                </a:lnTo>
                <a:lnTo>
                  <a:pt x="322" y="314"/>
                </a:lnTo>
                <a:lnTo>
                  <a:pt x="326" y="304"/>
                </a:lnTo>
                <a:lnTo>
                  <a:pt x="332" y="296"/>
                </a:lnTo>
                <a:lnTo>
                  <a:pt x="338" y="294"/>
                </a:lnTo>
                <a:lnTo>
                  <a:pt x="338" y="294"/>
                </a:lnTo>
                <a:lnTo>
                  <a:pt x="344" y="294"/>
                </a:lnTo>
                <a:lnTo>
                  <a:pt x="352" y="294"/>
                </a:lnTo>
                <a:lnTo>
                  <a:pt x="372" y="304"/>
                </a:lnTo>
                <a:lnTo>
                  <a:pt x="424" y="308"/>
                </a:lnTo>
                <a:lnTo>
                  <a:pt x="424" y="296"/>
                </a:lnTo>
                <a:lnTo>
                  <a:pt x="400" y="272"/>
                </a:lnTo>
                <a:lnTo>
                  <a:pt x="400" y="272"/>
                </a:lnTo>
                <a:lnTo>
                  <a:pt x="388" y="264"/>
                </a:lnTo>
                <a:lnTo>
                  <a:pt x="386" y="262"/>
                </a:lnTo>
                <a:lnTo>
                  <a:pt x="386" y="258"/>
                </a:lnTo>
                <a:lnTo>
                  <a:pt x="404" y="260"/>
                </a:lnTo>
                <a:lnTo>
                  <a:pt x="404" y="260"/>
                </a:lnTo>
                <a:lnTo>
                  <a:pt x="412" y="260"/>
                </a:lnTo>
                <a:lnTo>
                  <a:pt x="418" y="260"/>
                </a:lnTo>
                <a:lnTo>
                  <a:pt x="424" y="260"/>
                </a:lnTo>
                <a:lnTo>
                  <a:pt x="430" y="256"/>
                </a:lnTo>
                <a:lnTo>
                  <a:pt x="436" y="252"/>
                </a:lnTo>
                <a:lnTo>
                  <a:pt x="442" y="246"/>
                </a:lnTo>
                <a:lnTo>
                  <a:pt x="452" y="228"/>
                </a:lnTo>
                <a:lnTo>
                  <a:pt x="452" y="228"/>
                </a:lnTo>
                <a:lnTo>
                  <a:pt x="454" y="228"/>
                </a:lnTo>
                <a:lnTo>
                  <a:pt x="472" y="212"/>
                </a:lnTo>
                <a:lnTo>
                  <a:pt x="474" y="174"/>
                </a:lnTo>
                <a:lnTo>
                  <a:pt x="474" y="170"/>
                </a:lnTo>
                <a:lnTo>
                  <a:pt x="476" y="170"/>
                </a:lnTo>
                <a:lnTo>
                  <a:pt x="478" y="170"/>
                </a:lnTo>
                <a:lnTo>
                  <a:pt x="492" y="168"/>
                </a:lnTo>
                <a:lnTo>
                  <a:pt x="494" y="168"/>
                </a:lnTo>
                <a:lnTo>
                  <a:pt x="496" y="168"/>
                </a:lnTo>
                <a:lnTo>
                  <a:pt x="496" y="168"/>
                </a:lnTo>
                <a:lnTo>
                  <a:pt x="524" y="198"/>
                </a:lnTo>
                <a:lnTo>
                  <a:pt x="532" y="196"/>
                </a:lnTo>
                <a:lnTo>
                  <a:pt x="532" y="190"/>
                </a:lnTo>
                <a:lnTo>
                  <a:pt x="518" y="176"/>
                </a:lnTo>
                <a:lnTo>
                  <a:pt x="516" y="174"/>
                </a:lnTo>
                <a:lnTo>
                  <a:pt x="514" y="172"/>
                </a:lnTo>
                <a:lnTo>
                  <a:pt x="536" y="158"/>
                </a:lnTo>
                <a:lnTo>
                  <a:pt x="536" y="124"/>
                </a:lnTo>
                <a:lnTo>
                  <a:pt x="526" y="126"/>
                </a:lnTo>
                <a:lnTo>
                  <a:pt x="526" y="126"/>
                </a:lnTo>
                <a:lnTo>
                  <a:pt x="524" y="126"/>
                </a:lnTo>
                <a:lnTo>
                  <a:pt x="512" y="120"/>
                </a:lnTo>
                <a:lnTo>
                  <a:pt x="512" y="120"/>
                </a:lnTo>
                <a:lnTo>
                  <a:pt x="504" y="118"/>
                </a:lnTo>
                <a:lnTo>
                  <a:pt x="492" y="110"/>
                </a:lnTo>
                <a:lnTo>
                  <a:pt x="492" y="110"/>
                </a:lnTo>
                <a:lnTo>
                  <a:pt x="486" y="106"/>
                </a:lnTo>
                <a:lnTo>
                  <a:pt x="484" y="102"/>
                </a:lnTo>
                <a:lnTo>
                  <a:pt x="484" y="104"/>
                </a:lnTo>
                <a:lnTo>
                  <a:pt x="484" y="104"/>
                </a:lnTo>
                <a:lnTo>
                  <a:pt x="482" y="108"/>
                </a:lnTo>
                <a:lnTo>
                  <a:pt x="480" y="108"/>
                </a:lnTo>
                <a:lnTo>
                  <a:pt x="480" y="108"/>
                </a:lnTo>
                <a:lnTo>
                  <a:pt x="476" y="110"/>
                </a:lnTo>
                <a:lnTo>
                  <a:pt x="470" y="112"/>
                </a:lnTo>
                <a:lnTo>
                  <a:pt x="468" y="112"/>
                </a:lnTo>
                <a:lnTo>
                  <a:pt x="468" y="110"/>
                </a:lnTo>
                <a:lnTo>
                  <a:pt x="468" y="110"/>
                </a:lnTo>
                <a:lnTo>
                  <a:pt x="456" y="102"/>
                </a:lnTo>
                <a:lnTo>
                  <a:pt x="446" y="110"/>
                </a:lnTo>
                <a:lnTo>
                  <a:pt x="446" y="110"/>
                </a:lnTo>
                <a:lnTo>
                  <a:pt x="440" y="116"/>
                </a:lnTo>
                <a:lnTo>
                  <a:pt x="438" y="120"/>
                </a:lnTo>
                <a:lnTo>
                  <a:pt x="444" y="132"/>
                </a:lnTo>
                <a:lnTo>
                  <a:pt x="444" y="132"/>
                </a:lnTo>
                <a:lnTo>
                  <a:pt x="446" y="136"/>
                </a:lnTo>
                <a:lnTo>
                  <a:pt x="444" y="138"/>
                </a:lnTo>
                <a:lnTo>
                  <a:pt x="444" y="138"/>
                </a:lnTo>
                <a:lnTo>
                  <a:pt x="440" y="142"/>
                </a:lnTo>
                <a:lnTo>
                  <a:pt x="434" y="144"/>
                </a:lnTo>
                <a:lnTo>
                  <a:pt x="428" y="146"/>
                </a:lnTo>
                <a:lnTo>
                  <a:pt x="428" y="146"/>
                </a:lnTo>
                <a:lnTo>
                  <a:pt x="422" y="148"/>
                </a:lnTo>
                <a:lnTo>
                  <a:pt x="418" y="146"/>
                </a:lnTo>
                <a:lnTo>
                  <a:pt x="416" y="144"/>
                </a:lnTo>
                <a:lnTo>
                  <a:pt x="414" y="140"/>
                </a:lnTo>
                <a:lnTo>
                  <a:pt x="392" y="120"/>
                </a:lnTo>
                <a:lnTo>
                  <a:pt x="392" y="120"/>
                </a:lnTo>
                <a:lnTo>
                  <a:pt x="382" y="114"/>
                </a:lnTo>
                <a:lnTo>
                  <a:pt x="376" y="108"/>
                </a:lnTo>
                <a:lnTo>
                  <a:pt x="376" y="108"/>
                </a:lnTo>
                <a:lnTo>
                  <a:pt x="374" y="104"/>
                </a:lnTo>
                <a:lnTo>
                  <a:pt x="374" y="100"/>
                </a:lnTo>
                <a:lnTo>
                  <a:pt x="374" y="100"/>
                </a:lnTo>
                <a:lnTo>
                  <a:pt x="372" y="92"/>
                </a:lnTo>
                <a:lnTo>
                  <a:pt x="370" y="86"/>
                </a:lnTo>
                <a:lnTo>
                  <a:pt x="366" y="88"/>
                </a:lnTo>
                <a:lnTo>
                  <a:pt x="364" y="90"/>
                </a:lnTo>
                <a:lnTo>
                  <a:pt x="364" y="90"/>
                </a:lnTo>
                <a:lnTo>
                  <a:pt x="366" y="94"/>
                </a:lnTo>
                <a:lnTo>
                  <a:pt x="368" y="98"/>
                </a:lnTo>
                <a:lnTo>
                  <a:pt x="368" y="100"/>
                </a:lnTo>
                <a:lnTo>
                  <a:pt x="370" y="100"/>
                </a:lnTo>
                <a:lnTo>
                  <a:pt x="368" y="102"/>
                </a:lnTo>
                <a:lnTo>
                  <a:pt x="358" y="120"/>
                </a:lnTo>
                <a:lnTo>
                  <a:pt x="340" y="116"/>
                </a:lnTo>
                <a:lnTo>
                  <a:pt x="336" y="114"/>
                </a:lnTo>
                <a:lnTo>
                  <a:pt x="336" y="114"/>
                </a:lnTo>
                <a:lnTo>
                  <a:pt x="336" y="112"/>
                </a:lnTo>
                <a:lnTo>
                  <a:pt x="336" y="112"/>
                </a:lnTo>
                <a:lnTo>
                  <a:pt x="336" y="106"/>
                </a:lnTo>
                <a:lnTo>
                  <a:pt x="336" y="100"/>
                </a:lnTo>
                <a:lnTo>
                  <a:pt x="332" y="94"/>
                </a:lnTo>
                <a:lnTo>
                  <a:pt x="318" y="84"/>
                </a:lnTo>
                <a:lnTo>
                  <a:pt x="316" y="82"/>
                </a:lnTo>
                <a:lnTo>
                  <a:pt x="316" y="82"/>
                </a:lnTo>
                <a:lnTo>
                  <a:pt x="314" y="84"/>
                </a:lnTo>
                <a:lnTo>
                  <a:pt x="312" y="86"/>
                </a:lnTo>
                <a:lnTo>
                  <a:pt x="298" y="84"/>
                </a:lnTo>
                <a:lnTo>
                  <a:pt x="298" y="84"/>
                </a:lnTo>
                <a:lnTo>
                  <a:pt x="292" y="82"/>
                </a:lnTo>
                <a:lnTo>
                  <a:pt x="288" y="80"/>
                </a:lnTo>
                <a:lnTo>
                  <a:pt x="288" y="80"/>
                </a:lnTo>
                <a:lnTo>
                  <a:pt x="288" y="76"/>
                </a:lnTo>
                <a:lnTo>
                  <a:pt x="288" y="70"/>
                </a:lnTo>
                <a:lnTo>
                  <a:pt x="290" y="68"/>
                </a:lnTo>
                <a:lnTo>
                  <a:pt x="284" y="56"/>
                </a:lnTo>
                <a:lnTo>
                  <a:pt x="256" y="58"/>
                </a:lnTo>
                <a:lnTo>
                  <a:pt x="256" y="58"/>
                </a:lnTo>
                <a:lnTo>
                  <a:pt x="256" y="64"/>
                </a:lnTo>
                <a:lnTo>
                  <a:pt x="254" y="68"/>
                </a:lnTo>
                <a:lnTo>
                  <a:pt x="254" y="68"/>
                </a:lnTo>
                <a:lnTo>
                  <a:pt x="252" y="70"/>
                </a:lnTo>
                <a:lnTo>
                  <a:pt x="248" y="72"/>
                </a:lnTo>
                <a:lnTo>
                  <a:pt x="248" y="72"/>
                </a:lnTo>
                <a:lnTo>
                  <a:pt x="240" y="72"/>
                </a:lnTo>
                <a:lnTo>
                  <a:pt x="234" y="68"/>
                </a:lnTo>
                <a:lnTo>
                  <a:pt x="234" y="66"/>
                </a:lnTo>
                <a:lnTo>
                  <a:pt x="234" y="66"/>
                </a:lnTo>
                <a:lnTo>
                  <a:pt x="234" y="66"/>
                </a:lnTo>
                <a:lnTo>
                  <a:pt x="226" y="56"/>
                </a:lnTo>
                <a:lnTo>
                  <a:pt x="224" y="48"/>
                </a:lnTo>
                <a:lnTo>
                  <a:pt x="220" y="40"/>
                </a:lnTo>
                <a:lnTo>
                  <a:pt x="212" y="46"/>
                </a:lnTo>
                <a:lnTo>
                  <a:pt x="212" y="46"/>
                </a:lnTo>
                <a:lnTo>
                  <a:pt x="202" y="50"/>
                </a:lnTo>
                <a:lnTo>
                  <a:pt x="200" y="50"/>
                </a:lnTo>
                <a:lnTo>
                  <a:pt x="196" y="48"/>
                </a:lnTo>
                <a:lnTo>
                  <a:pt x="194" y="46"/>
                </a:lnTo>
                <a:lnTo>
                  <a:pt x="186" y="48"/>
                </a:lnTo>
                <a:lnTo>
                  <a:pt x="164" y="54"/>
                </a:lnTo>
                <a:lnTo>
                  <a:pt x="164" y="54"/>
                </a:lnTo>
                <a:lnTo>
                  <a:pt x="158" y="58"/>
                </a:lnTo>
                <a:lnTo>
                  <a:pt x="152" y="58"/>
                </a:lnTo>
                <a:lnTo>
                  <a:pt x="150" y="58"/>
                </a:lnTo>
                <a:lnTo>
                  <a:pt x="150" y="58"/>
                </a:lnTo>
                <a:lnTo>
                  <a:pt x="140" y="56"/>
                </a:lnTo>
                <a:lnTo>
                  <a:pt x="134" y="52"/>
                </a:lnTo>
                <a:lnTo>
                  <a:pt x="120" y="42"/>
                </a:lnTo>
                <a:lnTo>
                  <a:pt x="104" y="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Freeform 29"/>
          <p:cNvSpPr/>
          <p:nvPr/>
        </p:nvSpPr>
        <p:spPr>
          <a:xfrm>
            <a:off x="6173640" y="2579760"/>
            <a:ext cx="974880" cy="885600"/>
          </a:xfrm>
          <a:custGeom>
            <a:avLst/>
            <a:gdLst>
              <a:gd name="textAreaLeft" fmla="*/ 0 w 974880"/>
              <a:gd name="textAreaRight" fmla="*/ 975240 w 9748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718" h="652">
                <a:moveTo>
                  <a:pt x="716" y="382"/>
                </a:moveTo>
                <a:lnTo>
                  <a:pt x="704" y="302"/>
                </a:lnTo>
                <a:lnTo>
                  <a:pt x="706" y="302"/>
                </a:lnTo>
                <a:lnTo>
                  <a:pt x="706" y="302"/>
                </a:lnTo>
                <a:lnTo>
                  <a:pt x="706" y="302"/>
                </a:lnTo>
                <a:lnTo>
                  <a:pt x="712" y="290"/>
                </a:lnTo>
                <a:lnTo>
                  <a:pt x="714" y="284"/>
                </a:lnTo>
                <a:lnTo>
                  <a:pt x="714" y="280"/>
                </a:lnTo>
                <a:lnTo>
                  <a:pt x="710" y="274"/>
                </a:lnTo>
                <a:lnTo>
                  <a:pt x="710" y="274"/>
                </a:lnTo>
                <a:lnTo>
                  <a:pt x="704" y="270"/>
                </a:lnTo>
                <a:lnTo>
                  <a:pt x="700" y="260"/>
                </a:lnTo>
                <a:lnTo>
                  <a:pt x="700" y="250"/>
                </a:lnTo>
                <a:lnTo>
                  <a:pt x="700" y="234"/>
                </a:lnTo>
                <a:lnTo>
                  <a:pt x="692" y="234"/>
                </a:lnTo>
                <a:lnTo>
                  <a:pt x="692" y="234"/>
                </a:lnTo>
                <a:lnTo>
                  <a:pt x="684" y="236"/>
                </a:lnTo>
                <a:lnTo>
                  <a:pt x="674" y="240"/>
                </a:lnTo>
                <a:lnTo>
                  <a:pt x="674" y="240"/>
                </a:lnTo>
                <a:lnTo>
                  <a:pt x="666" y="248"/>
                </a:lnTo>
                <a:lnTo>
                  <a:pt x="662" y="254"/>
                </a:lnTo>
                <a:lnTo>
                  <a:pt x="662" y="254"/>
                </a:lnTo>
                <a:lnTo>
                  <a:pt x="660" y="262"/>
                </a:lnTo>
                <a:lnTo>
                  <a:pt x="652" y="268"/>
                </a:lnTo>
                <a:lnTo>
                  <a:pt x="644" y="272"/>
                </a:lnTo>
                <a:lnTo>
                  <a:pt x="632" y="276"/>
                </a:lnTo>
                <a:lnTo>
                  <a:pt x="628" y="302"/>
                </a:lnTo>
                <a:lnTo>
                  <a:pt x="628" y="302"/>
                </a:lnTo>
                <a:lnTo>
                  <a:pt x="626" y="302"/>
                </a:lnTo>
                <a:lnTo>
                  <a:pt x="618" y="318"/>
                </a:lnTo>
                <a:lnTo>
                  <a:pt x="618" y="320"/>
                </a:lnTo>
                <a:lnTo>
                  <a:pt x="616" y="320"/>
                </a:lnTo>
                <a:lnTo>
                  <a:pt x="616" y="320"/>
                </a:lnTo>
                <a:lnTo>
                  <a:pt x="536" y="334"/>
                </a:lnTo>
                <a:lnTo>
                  <a:pt x="536" y="334"/>
                </a:lnTo>
                <a:lnTo>
                  <a:pt x="534" y="334"/>
                </a:lnTo>
                <a:lnTo>
                  <a:pt x="534" y="334"/>
                </a:lnTo>
                <a:lnTo>
                  <a:pt x="510" y="308"/>
                </a:lnTo>
                <a:lnTo>
                  <a:pt x="518" y="302"/>
                </a:lnTo>
                <a:lnTo>
                  <a:pt x="508" y="290"/>
                </a:lnTo>
                <a:lnTo>
                  <a:pt x="498" y="282"/>
                </a:lnTo>
                <a:lnTo>
                  <a:pt x="496" y="280"/>
                </a:lnTo>
                <a:lnTo>
                  <a:pt x="496" y="280"/>
                </a:lnTo>
                <a:lnTo>
                  <a:pt x="496" y="280"/>
                </a:lnTo>
                <a:lnTo>
                  <a:pt x="496" y="278"/>
                </a:lnTo>
                <a:lnTo>
                  <a:pt x="492" y="258"/>
                </a:lnTo>
                <a:lnTo>
                  <a:pt x="470" y="258"/>
                </a:lnTo>
                <a:lnTo>
                  <a:pt x="470" y="258"/>
                </a:lnTo>
                <a:lnTo>
                  <a:pt x="452" y="246"/>
                </a:lnTo>
                <a:lnTo>
                  <a:pt x="388" y="236"/>
                </a:lnTo>
                <a:lnTo>
                  <a:pt x="336" y="234"/>
                </a:lnTo>
                <a:lnTo>
                  <a:pt x="334" y="234"/>
                </a:lnTo>
                <a:lnTo>
                  <a:pt x="334" y="234"/>
                </a:lnTo>
                <a:lnTo>
                  <a:pt x="332" y="234"/>
                </a:lnTo>
                <a:lnTo>
                  <a:pt x="330" y="232"/>
                </a:lnTo>
                <a:lnTo>
                  <a:pt x="298" y="164"/>
                </a:lnTo>
                <a:lnTo>
                  <a:pt x="298" y="164"/>
                </a:lnTo>
                <a:lnTo>
                  <a:pt x="286" y="146"/>
                </a:lnTo>
                <a:lnTo>
                  <a:pt x="258" y="110"/>
                </a:lnTo>
                <a:lnTo>
                  <a:pt x="258" y="110"/>
                </a:lnTo>
                <a:lnTo>
                  <a:pt x="230" y="76"/>
                </a:lnTo>
                <a:lnTo>
                  <a:pt x="216" y="62"/>
                </a:lnTo>
                <a:lnTo>
                  <a:pt x="170" y="18"/>
                </a:lnTo>
                <a:lnTo>
                  <a:pt x="164" y="14"/>
                </a:lnTo>
                <a:lnTo>
                  <a:pt x="108" y="12"/>
                </a:lnTo>
                <a:lnTo>
                  <a:pt x="106" y="12"/>
                </a:lnTo>
                <a:lnTo>
                  <a:pt x="106" y="10"/>
                </a:lnTo>
                <a:lnTo>
                  <a:pt x="106" y="10"/>
                </a:lnTo>
                <a:lnTo>
                  <a:pt x="94" y="6"/>
                </a:lnTo>
                <a:lnTo>
                  <a:pt x="80" y="0"/>
                </a:lnTo>
                <a:lnTo>
                  <a:pt x="80" y="0"/>
                </a:lnTo>
                <a:lnTo>
                  <a:pt x="76" y="0"/>
                </a:lnTo>
                <a:lnTo>
                  <a:pt x="70" y="0"/>
                </a:lnTo>
                <a:lnTo>
                  <a:pt x="54" y="4"/>
                </a:lnTo>
                <a:lnTo>
                  <a:pt x="34" y="12"/>
                </a:lnTo>
                <a:lnTo>
                  <a:pt x="8" y="24"/>
                </a:lnTo>
                <a:lnTo>
                  <a:pt x="6" y="26"/>
                </a:lnTo>
                <a:lnTo>
                  <a:pt x="8" y="36"/>
                </a:lnTo>
                <a:lnTo>
                  <a:pt x="8" y="36"/>
                </a:lnTo>
                <a:lnTo>
                  <a:pt x="8" y="38"/>
                </a:lnTo>
                <a:lnTo>
                  <a:pt x="8" y="38"/>
                </a:lnTo>
                <a:lnTo>
                  <a:pt x="8" y="38"/>
                </a:lnTo>
                <a:lnTo>
                  <a:pt x="2" y="52"/>
                </a:lnTo>
                <a:lnTo>
                  <a:pt x="2" y="52"/>
                </a:lnTo>
                <a:lnTo>
                  <a:pt x="0" y="52"/>
                </a:lnTo>
                <a:lnTo>
                  <a:pt x="0" y="62"/>
                </a:lnTo>
                <a:lnTo>
                  <a:pt x="0" y="62"/>
                </a:lnTo>
                <a:lnTo>
                  <a:pt x="0" y="72"/>
                </a:lnTo>
                <a:lnTo>
                  <a:pt x="4" y="82"/>
                </a:lnTo>
                <a:lnTo>
                  <a:pt x="10" y="86"/>
                </a:lnTo>
                <a:lnTo>
                  <a:pt x="22" y="86"/>
                </a:lnTo>
                <a:lnTo>
                  <a:pt x="32" y="88"/>
                </a:lnTo>
                <a:lnTo>
                  <a:pt x="36" y="86"/>
                </a:lnTo>
                <a:lnTo>
                  <a:pt x="36" y="86"/>
                </a:lnTo>
                <a:lnTo>
                  <a:pt x="38" y="76"/>
                </a:lnTo>
                <a:lnTo>
                  <a:pt x="42" y="70"/>
                </a:lnTo>
                <a:lnTo>
                  <a:pt x="50" y="70"/>
                </a:lnTo>
                <a:lnTo>
                  <a:pt x="78" y="78"/>
                </a:lnTo>
                <a:lnTo>
                  <a:pt x="84" y="80"/>
                </a:lnTo>
                <a:lnTo>
                  <a:pt x="74" y="94"/>
                </a:lnTo>
                <a:lnTo>
                  <a:pt x="74" y="114"/>
                </a:lnTo>
                <a:lnTo>
                  <a:pt x="74" y="114"/>
                </a:lnTo>
                <a:lnTo>
                  <a:pt x="76" y="118"/>
                </a:lnTo>
                <a:lnTo>
                  <a:pt x="80" y="124"/>
                </a:lnTo>
                <a:lnTo>
                  <a:pt x="96" y="140"/>
                </a:lnTo>
                <a:lnTo>
                  <a:pt x="96" y="140"/>
                </a:lnTo>
                <a:lnTo>
                  <a:pt x="108" y="148"/>
                </a:lnTo>
                <a:lnTo>
                  <a:pt x="116" y="150"/>
                </a:lnTo>
                <a:lnTo>
                  <a:pt x="120" y="150"/>
                </a:lnTo>
                <a:lnTo>
                  <a:pt x="124" y="148"/>
                </a:lnTo>
                <a:lnTo>
                  <a:pt x="138" y="134"/>
                </a:lnTo>
                <a:lnTo>
                  <a:pt x="148" y="128"/>
                </a:lnTo>
                <a:lnTo>
                  <a:pt x="148" y="128"/>
                </a:lnTo>
                <a:lnTo>
                  <a:pt x="148" y="128"/>
                </a:lnTo>
                <a:lnTo>
                  <a:pt x="170" y="124"/>
                </a:lnTo>
                <a:lnTo>
                  <a:pt x="176" y="110"/>
                </a:lnTo>
                <a:lnTo>
                  <a:pt x="194" y="100"/>
                </a:lnTo>
                <a:lnTo>
                  <a:pt x="212" y="110"/>
                </a:lnTo>
                <a:lnTo>
                  <a:pt x="212" y="110"/>
                </a:lnTo>
                <a:lnTo>
                  <a:pt x="214" y="110"/>
                </a:lnTo>
                <a:lnTo>
                  <a:pt x="230" y="138"/>
                </a:lnTo>
                <a:lnTo>
                  <a:pt x="236" y="156"/>
                </a:lnTo>
                <a:lnTo>
                  <a:pt x="236" y="158"/>
                </a:lnTo>
                <a:lnTo>
                  <a:pt x="232" y="182"/>
                </a:lnTo>
                <a:lnTo>
                  <a:pt x="238" y="196"/>
                </a:lnTo>
                <a:lnTo>
                  <a:pt x="238" y="198"/>
                </a:lnTo>
                <a:lnTo>
                  <a:pt x="234" y="216"/>
                </a:lnTo>
                <a:lnTo>
                  <a:pt x="234" y="232"/>
                </a:lnTo>
                <a:lnTo>
                  <a:pt x="234" y="232"/>
                </a:lnTo>
                <a:lnTo>
                  <a:pt x="240" y="250"/>
                </a:lnTo>
                <a:lnTo>
                  <a:pt x="242" y="258"/>
                </a:lnTo>
                <a:lnTo>
                  <a:pt x="240" y="272"/>
                </a:lnTo>
                <a:lnTo>
                  <a:pt x="240" y="272"/>
                </a:lnTo>
                <a:lnTo>
                  <a:pt x="240" y="274"/>
                </a:lnTo>
                <a:lnTo>
                  <a:pt x="232" y="284"/>
                </a:lnTo>
                <a:lnTo>
                  <a:pt x="232" y="286"/>
                </a:lnTo>
                <a:lnTo>
                  <a:pt x="232" y="286"/>
                </a:lnTo>
                <a:lnTo>
                  <a:pt x="232" y="286"/>
                </a:lnTo>
                <a:lnTo>
                  <a:pt x="224" y="294"/>
                </a:lnTo>
                <a:lnTo>
                  <a:pt x="222" y="312"/>
                </a:lnTo>
                <a:lnTo>
                  <a:pt x="228" y="330"/>
                </a:lnTo>
                <a:lnTo>
                  <a:pt x="228" y="330"/>
                </a:lnTo>
                <a:lnTo>
                  <a:pt x="228" y="332"/>
                </a:lnTo>
                <a:lnTo>
                  <a:pt x="228" y="332"/>
                </a:lnTo>
                <a:lnTo>
                  <a:pt x="228" y="332"/>
                </a:lnTo>
                <a:lnTo>
                  <a:pt x="222" y="360"/>
                </a:lnTo>
                <a:lnTo>
                  <a:pt x="218" y="364"/>
                </a:lnTo>
                <a:lnTo>
                  <a:pt x="218" y="364"/>
                </a:lnTo>
                <a:lnTo>
                  <a:pt x="214" y="366"/>
                </a:lnTo>
                <a:lnTo>
                  <a:pt x="206" y="364"/>
                </a:lnTo>
                <a:lnTo>
                  <a:pt x="206" y="364"/>
                </a:lnTo>
                <a:lnTo>
                  <a:pt x="198" y="356"/>
                </a:lnTo>
                <a:lnTo>
                  <a:pt x="190" y="358"/>
                </a:lnTo>
                <a:lnTo>
                  <a:pt x="180" y="370"/>
                </a:lnTo>
                <a:lnTo>
                  <a:pt x="168" y="402"/>
                </a:lnTo>
                <a:lnTo>
                  <a:pt x="168" y="404"/>
                </a:lnTo>
                <a:lnTo>
                  <a:pt x="168" y="404"/>
                </a:lnTo>
                <a:lnTo>
                  <a:pt x="156" y="414"/>
                </a:lnTo>
                <a:lnTo>
                  <a:pt x="154" y="414"/>
                </a:lnTo>
                <a:lnTo>
                  <a:pt x="148" y="414"/>
                </a:lnTo>
                <a:lnTo>
                  <a:pt x="136" y="434"/>
                </a:lnTo>
                <a:lnTo>
                  <a:pt x="142" y="446"/>
                </a:lnTo>
                <a:lnTo>
                  <a:pt x="144" y="446"/>
                </a:lnTo>
                <a:lnTo>
                  <a:pt x="160" y="466"/>
                </a:lnTo>
                <a:lnTo>
                  <a:pt x="160" y="468"/>
                </a:lnTo>
                <a:lnTo>
                  <a:pt x="160" y="474"/>
                </a:lnTo>
                <a:lnTo>
                  <a:pt x="178" y="476"/>
                </a:lnTo>
                <a:lnTo>
                  <a:pt x="180" y="492"/>
                </a:lnTo>
                <a:lnTo>
                  <a:pt x="180" y="494"/>
                </a:lnTo>
                <a:lnTo>
                  <a:pt x="182" y="512"/>
                </a:lnTo>
                <a:lnTo>
                  <a:pt x="188" y="516"/>
                </a:lnTo>
                <a:lnTo>
                  <a:pt x="204" y="512"/>
                </a:lnTo>
                <a:lnTo>
                  <a:pt x="218" y="502"/>
                </a:lnTo>
                <a:lnTo>
                  <a:pt x="222" y="502"/>
                </a:lnTo>
                <a:lnTo>
                  <a:pt x="226" y="528"/>
                </a:lnTo>
                <a:lnTo>
                  <a:pt x="234" y="538"/>
                </a:lnTo>
                <a:lnTo>
                  <a:pt x="236" y="540"/>
                </a:lnTo>
                <a:lnTo>
                  <a:pt x="242" y="550"/>
                </a:lnTo>
                <a:lnTo>
                  <a:pt x="254" y="560"/>
                </a:lnTo>
                <a:lnTo>
                  <a:pt x="254" y="560"/>
                </a:lnTo>
                <a:lnTo>
                  <a:pt x="258" y="562"/>
                </a:lnTo>
                <a:lnTo>
                  <a:pt x="262" y="562"/>
                </a:lnTo>
                <a:lnTo>
                  <a:pt x="266" y="564"/>
                </a:lnTo>
                <a:lnTo>
                  <a:pt x="274" y="560"/>
                </a:lnTo>
                <a:lnTo>
                  <a:pt x="274" y="560"/>
                </a:lnTo>
                <a:lnTo>
                  <a:pt x="282" y="558"/>
                </a:lnTo>
                <a:lnTo>
                  <a:pt x="292" y="554"/>
                </a:lnTo>
                <a:lnTo>
                  <a:pt x="296" y="552"/>
                </a:lnTo>
                <a:lnTo>
                  <a:pt x="308" y="552"/>
                </a:lnTo>
                <a:lnTo>
                  <a:pt x="308" y="552"/>
                </a:lnTo>
                <a:lnTo>
                  <a:pt x="312" y="552"/>
                </a:lnTo>
                <a:lnTo>
                  <a:pt x="316" y="554"/>
                </a:lnTo>
                <a:lnTo>
                  <a:pt x="332" y="544"/>
                </a:lnTo>
                <a:lnTo>
                  <a:pt x="334" y="544"/>
                </a:lnTo>
                <a:lnTo>
                  <a:pt x="334" y="546"/>
                </a:lnTo>
                <a:lnTo>
                  <a:pt x="336" y="544"/>
                </a:lnTo>
                <a:lnTo>
                  <a:pt x="338" y="546"/>
                </a:lnTo>
                <a:lnTo>
                  <a:pt x="338" y="546"/>
                </a:lnTo>
                <a:lnTo>
                  <a:pt x="344" y="556"/>
                </a:lnTo>
                <a:lnTo>
                  <a:pt x="346" y="562"/>
                </a:lnTo>
                <a:lnTo>
                  <a:pt x="354" y="574"/>
                </a:lnTo>
                <a:lnTo>
                  <a:pt x="360" y="576"/>
                </a:lnTo>
                <a:lnTo>
                  <a:pt x="360" y="576"/>
                </a:lnTo>
                <a:lnTo>
                  <a:pt x="362" y="576"/>
                </a:lnTo>
                <a:lnTo>
                  <a:pt x="360" y="574"/>
                </a:lnTo>
                <a:lnTo>
                  <a:pt x="360" y="574"/>
                </a:lnTo>
                <a:lnTo>
                  <a:pt x="360" y="570"/>
                </a:lnTo>
                <a:lnTo>
                  <a:pt x="360" y="566"/>
                </a:lnTo>
                <a:lnTo>
                  <a:pt x="360" y="566"/>
                </a:lnTo>
                <a:lnTo>
                  <a:pt x="364" y="564"/>
                </a:lnTo>
                <a:lnTo>
                  <a:pt x="370" y="562"/>
                </a:lnTo>
                <a:lnTo>
                  <a:pt x="398" y="562"/>
                </a:lnTo>
                <a:lnTo>
                  <a:pt x="400" y="562"/>
                </a:lnTo>
                <a:lnTo>
                  <a:pt x="402" y="562"/>
                </a:lnTo>
                <a:lnTo>
                  <a:pt x="402" y="562"/>
                </a:lnTo>
                <a:lnTo>
                  <a:pt x="402" y="562"/>
                </a:lnTo>
                <a:lnTo>
                  <a:pt x="412" y="580"/>
                </a:lnTo>
                <a:lnTo>
                  <a:pt x="410" y="588"/>
                </a:lnTo>
                <a:lnTo>
                  <a:pt x="410" y="588"/>
                </a:lnTo>
                <a:lnTo>
                  <a:pt x="422" y="590"/>
                </a:lnTo>
                <a:lnTo>
                  <a:pt x="422" y="590"/>
                </a:lnTo>
                <a:lnTo>
                  <a:pt x="422" y="590"/>
                </a:lnTo>
                <a:lnTo>
                  <a:pt x="422" y="588"/>
                </a:lnTo>
                <a:lnTo>
                  <a:pt x="422" y="586"/>
                </a:lnTo>
                <a:lnTo>
                  <a:pt x="426" y="584"/>
                </a:lnTo>
                <a:lnTo>
                  <a:pt x="454" y="602"/>
                </a:lnTo>
                <a:lnTo>
                  <a:pt x="454" y="602"/>
                </a:lnTo>
                <a:lnTo>
                  <a:pt x="456" y="608"/>
                </a:lnTo>
                <a:lnTo>
                  <a:pt x="458" y="612"/>
                </a:lnTo>
                <a:lnTo>
                  <a:pt x="458" y="624"/>
                </a:lnTo>
                <a:lnTo>
                  <a:pt x="468" y="626"/>
                </a:lnTo>
                <a:lnTo>
                  <a:pt x="474" y="616"/>
                </a:lnTo>
                <a:lnTo>
                  <a:pt x="474" y="616"/>
                </a:lnTo>
                <a:lnTo>
                  <a:pt x="470" y="608"/>
                </a:lnTo>
                <a:lnTo>
                  <a:pt x="470" y="602"/>
                </a:lnTo>
                <a:lnTo>
                  <a:pt x="470" y="602"/>
                </a:lnTo>
                <a:lnTo>
                  <a:pt x="472" y="598"/>
                </a:lnTo>
                <a:lnTo>
                  <a:pt x="474" y="596"/>
                </a:lnTo>
                <a:lnTo>
                  <a:pt x="478" y="594"/>
                </a:lnTo>
                <a:lnTo>
                  <a:pt x="478" y="594"/>
                </a:lnTo>
                <a:lnTo>
                  <a:pt x="478" y="592"/>
                </a:lnTo>
                <a:lnTo>
                  <a:pt x="480" y="590"/>
                </a:lnTo>
                <a:lnTo>
                  <a:pt x="486" y="590"/>
                </a:lnTo>
                <a:lnTo>
                  <a:pt x="486" y="590"/>
                </a:lnTo>
                <a:lnTo>
                  <a:pt x="490" y="594"/>
                </a:lnTo>
                <a:lnTo>
                  <a:pt x="492" y="598"/>
                </a:lnTo>
                <a:lnTo>
                  <a:pt x="496" y="614"/>
                </a:lnTo>
                <a:lnTo>
                  <a:pt x="496" y="616"/>
                </a:lnTo>
                <a:lnTo>
                  <a:pt x="498" y="618"/>
                </a:lnTo>
                <a:lnTo>
                  <a:pt x="498" y="618"/>
                </a:lnTo>
                <a:lnTo>
                  <a:pt x="502" y="622"/>
                </a:lnTo>
                <a:lnTo>
                  <a:pt x="510" y="626"/>
                </a:lnTo>
                <a:lnTo>
                  <a:pt x="510" y="626"/>
                </a:lnTo>
                <a:lnTo>
                  <a:pt x="512" y="626"/>
                </a:lnTo>
                <a:lnTo>
                  <a:pt x="538" y="652"/>
                </a:lnTo>
                <a:lnTo>
                  <a:pt x="538" y="652"/>
                </a:lnTo>
                <a:lnTo>
                  <a:pt x="550" y="648"/>
                </a:lnTo>
                <a:lnTo>
                  <a:pt x="548" y="644"/>
                </a:lnTo>
                <a:lnTo>
                  <a:pt x="548" y="644"/>
                </a:lnTo>
                <a:lnTo>
                  <a:pt x="544" y="638"/>
                </a:lnTo>
                <a:lnTo>
                  <a:pt x="544" y="634"/>
                </a:lnTo>
                <a:lnTo>
                  <a:pt x="544" y="634"/>
                </a:lnTo>
                <a:lnTo>
                  <a:pt x="544" y="630"/>
                </a:lnTo>
                <a:lnTo>
                  <a:pt x="546" y="626"/>
                </a:lnTo>
                <a:lnTo>
                  <a:pt x="556" y="618"/>
                </a:lnTo>
                <a:lnTo>
                  <a:pt x="570" y="606"/>
                </a:lnTo>
                <a:lnTo>
                  <a:pt x="586" y="616"/>
                </a:lnTo>
                <a:lnTo>
                  <a:pt x="588" y="616"/>
                </a:lnTo>
                <a:lnTo>
                  <a:pt x="592" y="598"/>
                </a:lnTo>
                <a:lnTo>
                  <a:pt x="592" y="596"/>
                </a:lnTo>
                <a:lnTo>
                  <a:pt x="594" y="594"/>
                </a:lnTo>
                <a:lnTo>
                  <a:pt x="608" y="596"/>
                </a:lnTo>
                <a:lnTo>
                  <a:pt x="608" y="596"/>
                </a:lnTo>
                <a:lnTo>
                  <a:pt x="610" y="600"/>
                </a:lnTo>
                <a:lnTo>
                  <a:pt x="612" y="606"/>
                </a:lnTo>
                <a:lnTo>
                  <a:pt x="612" y="606"/>
                </a:lnTo>
                <a:lnTo>
                  <a:pt x="610" y="610"/>
                </a:lnTo>
                <a:lnTo>
                  <a:pt x="606" y="616"/>
                </a:lnTo>
                <a:lnTo>
                  <a:pt x="610" y="618"/>
                </a:lnTo>
                <a:lnTo>
                  <a:pt x="610" y="618"/>
                </a:lnTo>
                <a:lnTo>
                  <a:pt x="620" y="622"/>
                </a:lnTo>
                <a:lnTo>
                  <a:pt x="628" y="626"/>
                </a:lnTo>
                <a:lnTo>
                  <a:pt x="630" y="626"/>
                </a:lnTo>
                <a:lnTo>
                  <a:pt x="630" y="626"/>
                </a:lnTo>
                <a:lnTo>
                  <a:pt x="640" y="630"/>
                </a:lnTo>
                <a:lnTo>
                  <a:pt x="648" y="630"/>
                </a:lnTo>
                <a:lnTo>
                  <a:pt x="636" y="572"/>
                </a:lnTo>
                <a:lnTo>
                  <a:pt x="636" y="572"/>
                </a:lnTo>
                <a:lnTo>
                  <a:pt x="630" y="568"/>
                </a:lnTo>
                <a:lnTo>
                  <a:pt x="624" y="562"/>
                </a:lnTo>
                <a:lnTo>
                  <a:pt x="614" y="546"/>
                </a:lnTo>
                <a:lnTo>
                  <a:pt x="614" y="546"/>
                </a:lnTo>
                <a:lnTo>
                  <a:pt x="610" y="538"/>
                </a:lnTo>
                <a:lnTo>
                  <a:pt x="612" y="528"/>
                </a:lnTo>
                <a:lnTo>
                  <a:pt x="616" y="518"/>
                </a:lnTo>
                <a:lnTo>
                  <a:pt x="624" y="506"/>
                </a:lnTo>
                <a:lnTo>
                  <a:pt x="624" y="506"/>
                </a:lnTo>
                <a:lnTo>
                  <a:pt x="636" y="494"/>
                </a:lnTo>
                <a:lnTo>
                  <a:pt x="650" y="482"/>
                </a:lnTo>
                <a:lnTo>
                  <a:pt x="650" y="482"/>
                </a:lnTo>
                <a:lnTo>
                  <a:pt x="650" y="482"/>
                </a:lnTo>
                <a:lnTo>
                  <a:pt x="662" y="482"/>
                </a:lnTo>
                <a:lnTo>
                  <a:pt x="662" y="482"/>
                </a:lnTo>
                <a:lnTo>
                  <a:pt x="672" y="486"/>
                </a:lnTo>
                <a:lnTo>
                  <a:pt x="692" y="486"/>
                </a:lnTo>
                <a:lnTo>
                  <a:pt x="692" y="486"/>
                </a:lnTo>
                <a:lnTo>
                  <a:pt x="698" y="482"/>
                </a:lnTo>
                <a:lnTo>
                  <a:pt x="704" y="476"/>
                </a:lnTo>
                <a:lnTo>
                  <a:pt x="714" y="452"/>
                </a:lnTo>
                <a:lnTo>
                  <a:pt x="714" y="452"/>
                </a:lnTo>
                <a:lnTo>
                  <a:pt x="718" y="442"/>
                </a:lnTo>
                <a:lnTo>
                  <a:pt x="718" y="426"/>
                </a:lnTo>
                <a:lnTo>
                  <a:pt x="716" y="382"/>
                </a:lnTo>
                <a:lnTo>
                  <a:pt x="716" y="38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Freeform 30"/>
          <p:cNvSpPr/>
          <p:nvPr/>
        </p:nvSpPr>
        <p:spPr>
          <a:xfrm>
            <a:off x="5979960" y="4168800"/>
            <a:ext cx="590760" cy="369720"/>
          </a:xfrm>
          <a:custGeom>
            <a:avLst/>
            <a:gdLst>
              <a:gd name="textAreaLeft" fmla="*/ 0 w 590760"/>
              <a:gd name="textAreaRight" fmla="*/ 591120 w 5907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34" h="272">
                <a:moveTo>
                  <a:pt x="396" y="8"/>
                </a:moveTo>
                <a:lnTo>
                  <a:pt x="396" y="8"/>
                </a:lnTo>
                <a:lnTo>
                  <a:pt x="394" y="12"/>
                </a:lnTo>
                <a:lnTo>
                  <a:pt x="388" y="14"/>
                </a:lnTo>
                <a:lnTo>
                  <a:pt x="358" y="12"/>
                </a:lnTo>
                <a:lnTo>
                  <a:pt x="330" y="6"/>
                </a:lnTo>
                <a:lnTo>
                  <a:pt x="314" y="0"/>
                </a:lnTo>
                <a:lnTo>
                  <a:pt x="270" y="42"/>
                </a:lnTo>
                <a:lnTo>
                  <a:pt x="272" y="60"/>
                </a:lnTo>
                <a:lnTo>
                  <a:pt x="268" y="62"/>
                </a:lnTo>
                <a:lnTo>
                  <a:pt x="246" y="64"/>
                </a:lnTo>
                <a:lnTo>
                  <a:pt x="228" y="62"/>
                </a:lnTo>
                <a:lnTo>
                  <a:pt x="222" y="62"/>
                </a:lnTo>
                <a:lnTo>
                  <a:pt x="218" y="60"/>
                </a:lnTo>
                <a:lnTo>
                  <a:pt x="214" y="56"/>
                </a:lnTo>
                <a:lnTo>
                  <a:pt x="212" y="52"/>
                </a:lnTo>
                <a:lnTo>
                  <a:pt x="208" y="2"/>
                </a:lnTo>
                <a:lnTo>
                  <a:pt x="168" y="0"/>
                </a:lnTo>
                <a:lnTo>
                  <a:pt x="152" y="36"/>
                </a:lnTo>
                <a:lnTo>
                  <a:pt x="150" y="20"/>
                </a:lnTo>
                <a:lnTo>
                  <a:pt x="148" y="6"/>
                </a:lnTo>
                <a:lnTo>
                  <a:pt x="144" y="0"/>
                </a:lnTo>
                <a:lnTo>
                  <a:pt x="128" y="8"/>
                </a:lnTo>
                <a:lnTo>
                  <a:pt x="120" y="18"/>
                </a:lnTo>
                <a:lnTo>
                  <a:pt x="118" y="20"/>
                </a:lnTo>
                <a:lnTo>
                  <a:pt x="102" y="24"/>
                </a:lnTo>
                <a:lnTo>
                  <a:pt x="78" y="48"/>
                </a:lnTo>
                <a:lnTo>
                  <a:pt x="56" y="70"/>
                </a:lnTo>
                <a:lnTo>
                  <a:pt x="12" y="128"/>
                </a:lnTo>
                <a:lnTo>
                  <a:pt x="22" y="148"/>
                </a:lnTo>
                <a:lnTo>
                  <a:pt x="22" y="152"/>
                </a:lnTo>
                <a:lnTo>
                  <a:pt x="20" y="152"/>
                </a:lnTo>
                <a:lnTo>
                  <a:pt x="20" y="156"/>
                </a:lnTo>
                <a:lnTo>
                  <a:pt x="20" y="160"/>
                </a:lnTo>
                <a:lnTo>
                  <a:pt x="24" y="172"/>
                </a:lnTo>
                <a:lnTo>
                  <a:pt x="32" y="188"/>
                </a:lnTo>
                <a:lnTo>
                  <a:pt x="34" y="198"/>
                </a:lnTo>
                <a:lnTo>
                  <a:pt x="34" y="206"/>
                </a:lnTo>
                <a:lnTo>
                  <a:pt x="34" y="208"/>
                </a:lnTo>
                <a:lnTo>
                  <a:pt x="0" y="228"/>
                </a:lnTo>
                <a:lnTo>
                  <a:pt x="0" y="236"/>
                </a:lnTo>
                <a:lnTo>
                  <a:pt x="16" y="244"/>
                </a:lnTo>
                <a:lnTo>
                  <a:pt x="18" y="248"/>
                </a:lnTo>
                <a:lnTo>
                  <a:pt x="18" y="252"/>
                </a:lnTo>
                <a:lnTo>
                  <a:pt x="22" y="256"/>
                </a:lnTo>
                <a:lnTo>
                  <a:pt x="36" y="264"/>
                </a:lnTo>
                <a:lnTo>
                  <a:pt x="64" y="272"/>
                </a:lnTo>
                <a:lnTo>
                  <a:pt x="74" y="266"/>
                </a:lnTo>
                <a:lnTo>
                  <a:pt x="84" y="252"/>
                </a:lnTo>
                <a:lnTo>
                  <a:pt x="92" y="230"/>
                </a:lnTo>
                <a:lnTo>
                  <a:pt x="114" y="238"/>
                </a:lnTo>
                <a:lnTo>
                  <a:pt x="118" y="240"/>
                </a:lnTo>
                <a:lnTo>
                  <a:pt x="118" y="242"/>
                </a:lnTo>
                <a:lnTo>
                  <a:pt x="118" y="244"/>
                </a:lnTo>
                <a:lnTo>
                  <a:pt x="116" y="250"/>
                </a:lnTo>
                <a:lnTo>
                  <a:pt x="116" y="256"/>
                </a:lnTo>
                <a:lnTo>
                  <a:pt x="118" y="260"/>
                </a:lnTo>
                <a:lnTo>
                  <a:pt x="124" y="264"/>
                </a:lnTo>
                <a:lnTo>
                  <a:pt x="148" y="264"/>
                </a:lnTo>
                <a:lnTo>
                  <a:pt x="160" y="260"/>
                </a:lnTo>
                <a:lnTo>
                  <a:pt x="170" y="256"/>
                </a:lnTo>
                <a:lnTo>
                  <a:pt x="172" y="252"/>
                </a:lnTo>
                <a:lnTo>
                  <a:pt x="176" y="252"/>
                </a:lnTo>
                <a:lnTo>
                  <a:pt x="184" y="252"/>
                </a:lnTo>
                <a:lnTo>
                  <a:pt x="198" y="256"/>
                </a:lnTo>
                <a:lnTo>
                  <a:pt x="202" y="258"/>
                </a:lnTo>
                <a:lnTo>
                  <a:pt x="208" y="264"/>
                </a:lnTo>
                <a:lnTo>
                  <a:pt x="212" y="250"/>
                </a:lnTo>
                <a:lnTo>
                  <a:pt x="214" y="248"/>
                </a:lnTo>
                <a:lnTo>
                  <a:pt x="216" y="248"/>
                </a:lnTo>
                <a:lnTo>
                  <a:pt x="220" y="242"/>
                </a:lnTo>
                <a:lnTo>
                  <a:pt x="224" y="236"/>
                </a:lnTo>
                <a:lnTo>
                  <a:pt x="230" y="228"/>
                </a:lnTo>
                <a:lnTo>
                  <a:pt x="238" y="220"/>
                </a:lnTo>
                <a:lnTo>
                  <a:pt x="248" y="214"/>
                </a:lnTo>
                <a:lnTo>
                  <a:pt x="250" y="212"/>
                </a:lnTo>
                <a:lnTo>
                  <a:pt x="250" y="214"/>
                </a:lnTo>
                <a:lnTo>
                  <a:pt x="252" y="214"/>
                </a:lnTo>
                <a:lnTo>
                  <a:pt x="258" y="216"/>
                </a:lnTo>
                <a:lnTo>
                  <a:pt x="260" y="216"/>
                </a:lnTo>
                <a:lnTo>
                  <a:pt x="268" y="176"/>
                </a:lnTo>
                <a:lnTo>
                  <a:pt x="280" y="172"/>
                </a:lnTo>
                <a:lnTo>
                  <a:pt x="290" y="166"/>
                </a:lnTo>
                <a:lnTo>
                  <a:pt x="296" y="160"/>
                </a:lnTo>
                <a:lnTo>
                  <a:pt x="298" y="156"/>
                </a:lnTo>
                <a:lnTo>
                  <a:pt x="300" y="150"/>
                </a:lnTo>
                <a:lnTo>
                  <a:pt x="296" y="138"/>
                </a:lnTo>
                <a:lnTo>
                  <a:pt x="294" y="128"/>
                </a:lnTo>
                <a:lnTo>
                  <a:pt x="296" y="122"/>
                </a:lnTo>
                <a:lnTo>
                  <a:pt x="298" y="120"/>
                </a:lnTo>
                <a:lnTo>
                  <a:pt x="302" y="120"/>
                </a:lnTo>
                <a:lnTo>
                  <a:pt x="310" y="120"/>
                </a:lnTo>
                <a:lnTo>
                  <a:pt x="320" y="124"/>
                </a:lnTo>
                <a:lnTo>
                  <a:pt x="322" y="112"/>
                </a:lnTo>
                <a:lnTo>
                  <a:pt x="322" y="110"/>
                </a:lnTo>
                <a:lnTo>
                  <a:pt x="322" y="108"/>
                </a:lnTo>
                <a:lnTo>
                  <a:pt x="336" y="102"/>
                </a:lnTo>
                <a:lnTo>
                  <a:pt x="338" y="96"/>
                </a:lnTo>
                <a:lnTo>
                  <a:pt x="330" y="96"/>
                </a:lnTo>
                <a:lnTo>
                  <a:pt x="328" y="94"/>
                </a:lnTo>
                <a:lnTo>
                  <a:pt x="328" y="90"/>
                </a:lnTo>
                <a:lnTo>
                  <a:pt x="328" y="88"/>
                </a:lnTo>
                <a:lnTo>
                  <a:pt x="330" y="86"/>
                </a:lnTo>
                <a:lnTo>
                  <a:pt x="332" y="86"/>
                </a:lnTo>
                <a:lnTo>
                  <a:pt x="334" y="86"/>
                </a:lnTo>
                <a:lnTo>
                  <a:pt x="342" y="84"/>
                </a:lnTo>
                <a:lnTo>
                  <a:pt x="352" y="76"/>
                </a:lnTo>
                <a:lnTo>
                  <a:pt x="404" y="40"/>
                </a:lnTo>
                <a:lnTo>
                  <a:pt x="420" y="48"/>
                </a:lnTo>
                <a:lnTo>
                  <a:pt x="428" y="48"/>
                </a:lnTo>
                <a:lnTo>
                  <a:pt x="424" y="30"/>
                </a:lnTo>
                <a:lnTo>
                  <a:pt x="424" y="28"/>
                </a:lnTo>
                <a:lnTo>
                  <a:pt x="434" y="12"/>
                </a:lnTo>
                <a:lnTo>
                  <a:pt x="432" y="12"/>
                </a:lnTo>
                <a:lnTo>
                  <a:pt x="426" y="12"/>
                </a:lnTo>
                <a:lnTo>
                  <a:pt x="426" y="14"/>
                </a:lnTo>
                <a:lnTo>
                  <a:pt x="424" y="14"/>
                </a:lnTo>
                <a:lnTo>
                  <a:pt x="408" y="16"/>
                </a:lnTo>
                <a:lnTo>
                  <a:pt x="404" y="16"/>
                </a:lnTo>
                <a:lnTo>
                  <a:pt x="404" y="12"/>
                </a:lnTo>
                <a:lnTo>
                  <a:pt x="400" y="8"/>
                </a:lnTo>
                <a:lnTo>
                  <a:pt x="396" y="8"/>
                </a:lnTo>
                <a:close/>
              </a:path>
            </a:pathLst>
          </a:cu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Freeform 31"/>
          <p:cNvSpPr/>
          <p:nvPr/>
        </p:nvSpPr>
        <p:spPr>
          <a:xfrm>
            <a:off x="6532560" y="4754520"/>
            <a:ext cx="92160" cy="81000"/>
          </a:xfrm>
          <a:custGeom>
            <a:avLst/>
            <a:gdLst>
              <a:gd name="textAreaLeft" fmla="*/ 0 w 92160"/>
              <a:gd name="textAreaRight" fmla="*/ 92520 w 921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8" h="60">
                <a:moveTo>
                  <a:pt x="62" y="32"/>
                </a:moveTo>
                <a:lnTo>
                  <a:pt x="68" y="24"/>
                </a:lnTo>
                <a:lnTo>
                  <a:pt x="68" y="24"/>
                </a:lnTo>
                <a:lnTo>
                  <a:pt x="68" y="24"/>
                </a:lnTo>
                <a:lnTo>
                  <a:pt x="68" y="24"/>
                </a:lnTo>
                <a:lnTo>
                  <a:pt x="48" y="8"/>
                </a:lnTo>
                <a:lnTo>
                  <a:pt x="48" y="8"/>
                </a:lnTo>
                <a:lnTo>
                  <a:pt x="40" y="4"/>
                </a:lnTo>
                <a:lnTo>
                  <a:pt x="34" y="0"/>
                </a:lnTo>
                <a:lnTo>
                  <a:pt x="28" y="0"/>
                </a:lnTo>
                <a:lnTo>
                  <a:pt x="22" y="0"/>
                </a:lnTo>
                <a:lnTo>
                  <a:pt x="14" y="2"/>
                </a:lnTo>
                <a:lnTo>
                  <a:pt x="14" y="20"/>
                </a:lnTo>
                <a:lnTo>
                  <a:pt x="14" y="20"/>
                </a:lnTo>
                <a:lnTo>
                  <a:pt x="10" y="28"/>
                </a:lnTo>
                <a:lnTo>
                  <a:pt x="4" y="36"/>
                </a:lnTo>
                <a:lnTo>
                  <a:pt x="0" y="40"/>
                </a:lnTo>
                <a:lnTo>
                  <a:pt x="8" y="48"/>
                </a:lnTo>
                <a:lnTo>
                  <a:pt x="10" y="48"/>
                </a:lnTo>
                <a:lnTo>
                  <a:pt x="12" y="56"/>
                </a:lnTo>
                <a:lnTo>
                  <a:pt x="22" y="60"/>
                </a:lnTo>
                <a:lnTo>
                  <a:pt x="22" y="60"/>
                </a:lnTo>
                <a:lnTo>
                  <a:pt x="28" y="56"/>
                </a:lnTo>
                <a:lnTo>
                  <a:pt x="34" y="54"/>
                </a:lnTo>
                <a:lnTo>
                  <a:pt x="52" y="58"/>
                </a:lnTo>
                <a:lnTo>
                  <a:pt x="52" y="52"/>
                </a:lnTo>
                <a:lnTo>
                  <a:pt x="52" y="52"/>
                </a:lnTo>
                <a:lnTo>
                  <a:pt x="54" y="44"/>
                </a:lnTo>
                <a:lnTo>
                  <a:pt x="56" y="38"/>
                </a:lnTo>
                <a:lnTo>
                  <a:pt x="58" y="34"/>
                </a:lnTo>
                <a:lnTo>
                  <a:pt x="62" y="32"/>
                </a:lnTo>
                <a:lnTo>
                  <a:pt x="62" y="3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Freeform 32"/>
          <p:cNvSpPr/>
          <p:nvPr/>
        </p:nvSpPr>
        <p:spPr>
          <a:xfrm>
            <a:off x="6100920" y="4470480"/>
            <a:ext cx="512640" cy="396720"/>
          </a:xfrm>
          <a:custGeom>
            <a:avLst/>
            <a:gdLst>
              <a:gd name="textAreaLeft" fmla="*/ 0 w 512640"/>
              <a:gd name="textAreaRight" fmla="*/ 513000 w 51264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78" h="292">
                <a:moveTo>
                  <a:pt x="264" y="86"/>
                </a:moveTo>
                <a:lnTo>
                  <a:pt x="264" y="86"/>
                </a:lnTo>
                <a:lnTo>
                  <a:pt x="258" y="78"/>
                </a:lnTo>
                <a:lnTo>
                  <a:pt x="252" y="70"/>
                </a:lnTo>
                <a:lnTo>
                  <a:pt x="240" y="46"/>
                </a:lnTo>
                <a:lnTo>
                  <a:pt x="240" y="46"/>
                </a:lnTo>
                <a:lnTo>
                  <a:pt x="226" y="44"/>
                </a:lnTo>
                <a:lnTo>
                  <a:pt x="214" y="42"/>
                </a:lnTo>
                <a:lnTo>
                  <a:pt x="204" y="38"/>
                </a:lnTo>
                <a:lnTo>
                  <a:pt x="198" y="34"/>
                </a:lnTo>
                <a:lnTo>
                  <a:pt x="198" y="34"/>
                </a:lnTo>
                <a:lnTo>
                  <a:pt x="194" y="28"/>
                </a:lnTo>
                <a:lnTo>
                  <a:pt x="188" y="24"/>
                </a:lnTo>
                <a:lnTo>
                  <a:pt x="170" y="18"/>
                </a:lnTo>
                <a:lnTo>
                  <a:pt x="166" y="16"/>
                </a:lnTo>
                <a:lnTo>
                  <a:pt x="170" y="2"/>
                </a:lnTo>
                <a:lnTo>
                  <a:pt x="168" y="2"/>
                </a:lnTo>
                <a:lnTo>
                  <a:pt x="164" y="0"/>
                </a:lnTo>
                <a:lnTo>
                  <a:pt x="164" y="0"/>
                </a:lnTo>
                <a:lnTo>
                  <a:pt x="152" y="8"/>
                </a:lnTo>
                <a:lnTo>
                  <a:pt x="148" y="12"/>
                </a:lnTo>
                <a:lnTo>
                  <a:pt x="144" y="16"/>
                </a:lnTo>
                <a:lnTo>
                  <a:pt x="144" y="16"/>
                </a:lnTo>
                <a:lnTo>
                  <a:pt x="140" y="26"/>
                </a:lnTo>
                <a:lnTo>
                  <a:pt x="132" y="32"/>
                </a:lnTo>
                <a:lnTo>
                  <a:pt x="132" y="32"/>
                </a:lnTo>
                <a:lnTo>
                  <a:pt x="126" y="46"/>
                </a:lnTo>
                <a:lnTo>
                  <a:pt x="124" y="50"/>
                </a:lnTo>
                <a:lnTo>
                  <a:pt x="120" y="52"/>
                </a:lnTo>
                <a:lnTo>
                  <a:pt x="120" y="52"/>
                </a:lnTo>
                <a:lnTo>
                  <a:pt x="118" y="52"/>
                </a:lnTo>
                <a:lnTo>
                  <a:pt x="116" y="48"/>
                </a:lnTo>
                <a:lnTo>
                  <a:pt x="108" y="42"/>
                </a:lnTo>
                <a:lnTo>
                  <a:pt x="108" y="42"/>
                </a:lnTo>
                <a:lnTo>
                  <a:pt x="102" y="40"/>
                </a:lnTo>
                <a:lnTo>
                  <a:pt x="96" y="38"/>
                </a:lnTo>
                <a:lnTo>
                  <a:pt x="88" y="40"/>
                </a:lnTo>
                <a:lnTo>
                  <a:pt x="88" y="40"/>
                </a:lnTo>
                <a:lnTo>
                  <a:pt x="76" y="46"/>
                </a:lnTo>
                <a:lnTo>
                  <a:pt x="62" y="50"/>
                </a:lnTo>
                <a:lnTo>
                  <a:pt x="32" y="50"/>
                </a:lnTo>
                <a:lnTo>
                  <a:pt x="32" y="50"/>
                </a:lnTo>
                <a:lnTo>
                  <a:pt x="26" y="44"/>
                </a:lnTo>
                <a:lnTo>
                  <a:pt x="22" y="38"/>
                </a:lnTo>
                <a:lnTo>
                  <a:pt x="20" y="32"/>
                </a:lnTo>
                <a:lnTo>
                  <a:pt x="20" y="22"/>
                </a:lnTo>
                <a:lnTo>
                  <a:pt x="8" y="18"/>
                </a:lnTo>
                <a:lnTo>
                  <a:pt x="4" y="34"/>
                </a:lnTo>
                <a:lnTo>
                  <a:pt x="4" y="34"/>
                </a:lnTo>
                <a:lnTo>
                  <a:pt x="4" y="36"/>
                </a:lnTo>
                <a:lnTo>
                  <a:pt x="2" y="36"/>
                </a:lnTo>
                <a:lnTo>
                  <a:pt x="0" y="40"/>
                </a:lnTo>
                <a:lnTo>
                  <a:pt x="8" y="42"/>
                </a:lnTo>
                <a:lnTo>
                  <a:pt x="8" y="42"/>
                </a:lnTo>
                <a:lnTo>
                  <a:pt x="10" y="42"/>
                </a:lnTo>
                <a:lnTo>
                  <a:pt x="10" y="42"/>
                </a:lnTo>
                <a:lnTo>
                  <a:pt x="10" y="42"/>
                </a:lnTo>
                <a:lnTo>
                  <a:pt x="28" y="66"/>
                </a:lnTo>
                <a:lnTo>
                  <a:pt x="40" y="76"/>
                </a:lnTo>
                <a:lnTo>
                  <a:pt x="40" y="76"/>
                </a:lnTo>
                <a:lnTo>
                  <a:pt x="68" y="86"/>
                </a:lnTo>
                <a:lnTo>
                  <a:pt x="98" y="96"/>
                </a:lnTo>
                <a:lnTo>
                  <a:pt x="98" y="96"/>
                </a:lnTo>
                <a:lnTo>
                  <a:pt x="104" y="102"/>
                </a:lnTo>
                <a:lnTo>
                  <a:pt x="112" y="112"/>
                </a:lnTo>
                <a:lnTo>
                  <a:pt x="118" y="128"/>
                </a:lnTo>
                <a:lnTo>
                  <a:pt x="124" y="150"/>
                </a:lnTo>
                <a:lnTo>
                  <a:pt x="124" y="150"/>
                </a:lnTo>
                <a:lnTo>
                  <a:pt x="140" y="158"/>
                </a:lnTo>
                <a:lnTo>
                  <a:pt x="146" y="162"/>
                </a:lnTo>
                <a:lnTo>
                  <a:pt x="152" y="162"/>
                </a:lnTo>
                <a:lnTo>
                  <a:pt x="152" y="162"/>
                </a:lnTo>
                <a:lnTo>
                  <a:pt x="180" y="144"/>
                </a:lnTo>
                <a:lnTo>
                  <a:pt x="180" y="144"/>
                </a:lnTo>
                <a:lnTo>
                  <a:pt x="182" y="142"/>
                </a:lnTo>
                <a:lnTo>
                  <a:pt x="184" y="144"/>
                </a:lnTo>
                <a:lnTo>
                  <a:pt x="198" y="146"/>
                </a:lnTo>
                <a:lnTo>
                  <a:pt x="200" y="146"/>
                </a:lnTo>
                <a:lnTo>
                  <a:pt x="200" y="150"/>
                </a:lnTo>
                <a:lnTo>
                  <a:pt x="198" y="152"/>
                </a:lnTo>
                <a:lnTo>
                  <a:pt x="198" y="152"/>
                </a:lnTo>
                <a:lnTo>
                  <a:pt x="192" y="174"/>
                </a:lnTo>
                <a:lnTo>
                  <a:pt x="186" y="186"/>
                </a:lnTo>
                <a:lnTo>
                  <a:pt x="168" y="186"/>
                </a:lnTo>
                <a:lnTo>
                  <a:pt x="168" y="186"/>
                </a:lnTo>
                <a:lnTo>
                  <a:pt x="168" y="186"/>
                </a:lnTo>
                <a:lnTo>
                  <a:pt x="166" y="194"/>
                </a:lnTo>
                <a:lnTo>
                  <a:pt x="164" y="202"/>
                </a:lnTo>
                <a:lnTo>
                  <a:pt x="152" y="222"/>
                </a:lnTo>
                <a:lnTo>
                  <a:pt x="152" y="222"/>
                </a:lnTo>
                <a:lnTo>
                  <a:pt x="148" y="228"/>
                </a:lnTo>
                <a:lnTo>
                  <a:pt x="148" y="234"/>
                </a:lnTo>
                <a:lnTo>
                  <a:pt x="166" y="246"/>
                </a:lnTo>
                <a:lnTo>
                  <a:pt x="166" y="246"/>
                </a:lnTo>
                <a:lnTo>
                  <a:pt x="172" y="252"/>
                </a:lnTo>
                <a:lnTo>
                  <a:pt x="178" y="254"/>
                </a:lnTo>
                <a:lnTo>
                  <a:pt x="182" y="254"/>
                </a:lnTo>
                <a:lnTo>
                  <a:pt x="186" y="266"/>
                </a:lnTo>
                <a:lnTo>
                  <a:pt x="194" y="270"/>
                </a:lnTo>
                <a:lnTo>
                  <a:pt x="200" y="266"/>
                </a:lnTo>
                <a:lnTo>
                  <a:pt x="200" y="266"/>
                </a:lnTo>
                <a:lnTo>
                  <a:pt x="204" y="262"/>
                </a:lnTo>
                <a:lnTo>
                  <a:pt x="208" y="262"/>
                </a:lnTo>
                <a:lnTo>
                  <a:pt x="208" y="262"/>
                </a:lnTo>
                <a:lnTo>
                  <a:pt x="214" y="264"/>
                </a:lnTo>
                <a:lnTo>
                  <a:pt x="218" y="266"/>
                </a:lnTo>
                <a:lnTo>
                  <a:pt x="224" y="270"/>
                </a:lnTo>
                <a:lnTo>
                  <a:pt x="230" y="278"/>
                </a:lnTo>
                <a:lnTo>
                  <a:pt x="230" y="278"/>
                </a:lnTo>
                <a:lnTo>
                  <a:pt x="236" y="286"/>
                </a:lnTo>
                <a:lnTo>
                  <a:pt x="238" y="286"/>
                </a:lnTo>
                <a:lnTo>
                  <a:pt x="238" y="286"/>
                </a:lnTo>
                <a:lnTo>
                  <a:pt x="242" y="284"/>
                </a:lnTo>
                <a:lnTo>
                  <a:pt x="248" y="284"/>
                </a:lnTo>
                <a:lnTo>
                  <a:pt x="264" y="288"/>
                </a:lnTo>
                <a:lnTo>
                  <a:pt x="284" y="292"/>
                </a:lnTo>
                <a:lnTo>
                  <a:pt x="304" y="286"/>
                </a:lnTo>
                <a:lnTo>
                  <a:pt x="312" y="282"/>
                </a:lnTo>
                <a:lnTo>
                  <a:pt x="318" y="278"/>
                </a:lnTo>
                <a:lnTo>
                  <a:pt x="312" y="272"/>
                </a:lnTo>
                <a:lnTo>
                  <a:pt x="312" y="272"/>
                </a:lnTo>
                <a:lnTo>
                  <a:pt x="312" y="268"/>
                </a:lnTo>
                <a:lnTo>
                  <a:pt x="316" y="262"/>
                </a:lnTo>
                <a:lnTo>
                  <a:pt x="316" y="262"/>
                </a:lnTo>
                <a:lnTo>
                  <a:pt x="322" y="256"/>
                </a:lnTo>
                <a:lnTo>
                  <a:pt x="324" y="248"/>
                </a:lnTo>
                <a:lnTo>
                  <a:pt x="324" y="238"/>
                </a:lnTo>
                <a:lnTo>
                  <a:pt x="324" y="238"/>
                </a:lnTo>
                <a:lnTo>
                  <a:pt x="324" y="232"/>
                </a:lnTo>
                <a:lnTo>
                  <a:pt x="326" y="230"/>
                </a:lnTo>
                <a:lnTo>
                  <a:pt x="326" y="230"/>
                </a:lnTo>
                <a:lnTo>
                  <a:pt x="330" y="226"/>
                </a:lnTo>
                <a:lnTo>
                  <a:pt x="340" y="222"/>
                </a:lnTo>
                <a:lnTo>
                  <a:pt x="340" y="222"/>
                </a:lnTo>
                <a:lnTo>
                  <a:pt x="348" y="222"/>
                </a:lnTo>
                <a:lnTo>
                  <a:pt x="356" y="226"/>
                </a:lnTo>
                <a:lnTo>
                  <a:pt x="366" y="230"/>
                </a:lnTo>
                <a:lnTo>
                  <a:pt x="378" y="238"/>
                </a:lnTo>
                <a:lnTo>
                  <a:pt x="372" y="222"/>
                </a:lnTo>
                <a:lnTo>
                  <a:pt x="364" y="210"/>
                </a:lnTo>
                <a:lnTo>
                  <a:pt x="362" y="196"/>
                </a:lnTo>
                <a:lnTo>
                  <a:pt x="348" y="194"/>
                </a:lnTo>
                <a:lnTo>
                  <a:pt x="348" y="194"/>
                </a:lnTo>
                <a:lnTo>
                  <a:pt x="348" y="194"/>
                </a:lnTo>
                <a:lnTo>
                  <a:pt x="348" y="194"/>
                </a:lnTo>
                <a:lnTo>
                  <a:pt x="348" y="194"/>
                </a:lnTo>
                <a:lnTo>
                  <a:pt x="312" y="172"/>
                </a:lnTo>
                <a:lnTo>
                  <a:pt x="294" y="170"/>
                </a:lnTo>
                <a:lnTo>
                  <a:pt x="294" y="166"/>
                </a:lnTo>
                <a:lnTo>
                  <a:pt x="292" y="146"/>
                </a:lnTo>
                <a:lnTo>
                  <a:pt x="292" y="146"/>
                </a:lnTo>
                <a:lnTo>
                  <a:pt x="276" y="106"/>
                </a:lnTo>
                <a:lnTo>
                  <a:pt x="270" y="94"/>
                </a:lnTo>
                <a:lnTo>
                  <a:pt x="264" y="86"/>
                </a:lnTo>
                <a:lnTo>
                  <a:pt x="264" y="8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Freeform 33"/>
          <p:cNvSpPr/>
          <p:nvPr/>
        </p:nvSpPr>
        <p:spPr>
          <a:xfrm>
            <a:off x="5830920" y="3711600"/>
            <a:ext cx="477720" cy="682560"/>
          </a:xfrm>
          <a:custGeom>
            <a:avLst/>
            <a:gdLst>
              <a:gd name="textAreaLeft" fmla="*/ 0 w 477720"/>
              <a:gd name="textAreaRight" fmla="*/ 478080 w 47772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52" h="502">
                <a:moveTo>
                  <a:pt x="324" y="152"/>
                </a:moveTo>
                <a:lnTo>
                  <a:pt x="318" y="148"/>
                </a:lnTo>
                <a:lnTo>
                  <a:pt x="318" y="148"/>
                </a:lnTo>
                <a:lnTo>
                  <a:pt x="316" y="148"/>
                </a:lnTo>
                <a:lnTo>
                  <a:pt x="312" y="144"/>
                </a:lnTo>
                <a:lnTo>
                  <a:pt x="290" y="136"/>
                </a:lnTo>
                <a:lnTo>
                  <a:pt x="284" y="136"/>
                </a:lnTo>
                <a:lnTo>
                  <a:pt x="280" y="138"/>
                </a:lnTo>
                <a:lnTo>
                  <a:pt x="270" y="122"/>
                </a:lnTo>
                <a:lnTo>
                  <a:pt x="272" y="120"/>
                </a:lnTo>
                <a:lnTo>
                  <a:pt x="278" y="112"/>
                </a:lnTo>
                <a:lnTo>
                  <a:pt x="278" y="104"/>
                </a:lnTo>
                <a:lnTo>
                  <a:pt x="278" y="102"/>
                </a:lnTo>
                <a:lnTo>
                  <a:pt x="282" y="96"/>
                </a:lnTo>
                <a:lnTo>
                  <a:pt x="280" y="94"/>
                </a:lnTo>
                <a:lnTo>
                  <a:pt x="268" y="92"/>
                </a:lnTo>
                <a:lnTo>
                  <a:pt x="268" y="92"/>
                </a:lnTo>
                <a:lnTo>
                  <a:pt x="246" y="88"/>
                </a:lnTo>
                <a:lnTo>
                  <a:pt x="246" y="88"/>
                </a:lnTo>
                <a:lnTo>
                  <a:pt x="234" y="76"/>
                </a:lnTo>
                <a:lnTo>
                  <a:pt x="234" y="76"/>
                </a:lnTo>
                <a:lnTo>
                  <a:pt x="230" y="68"/>
                </a:lnTo>
                <a:lnTo>
                  <a:pt x="228" y="64"/>
                </a:lnTo>
                <a:lnTo>
                  <a:pt x="234" y="48"/>
                </a:lnTo>
                <a:lnTo>
                  <a:pt x="234" y="36"/>
                </a:lnTo>
                <a:lnTo>
                  <a:pt x="234" y="32"/>
                </a:lnTo>
                <a:lnTo>
                  <a:pt x="228" y="40"/>
                </a:lnTo>
                <a:lnTo>
                  <a:pt x="226" y="40"/>
                </a:lnTo>
                <a:lnTo>
                  <a:pt x="226" y="42"/>
                </a:lnTo>
                <a:lnTo>
                  <a:pt x="224" y="40"/>
                </a:lnTo>
                <a:lnTo>
                  <a:pt x="222" y="40"/>
                </a:lnTo>
                <a:lnTo>
                  <a:pt x="210" y="30"/>
                </a:lnTo>
                <a:lnTo>
                  <a:pt x="208" y="28"/>
                </a:lnTo>
                <a:lnTo>
                  <a:pt x="208" y="26"/>
                </a:lnTo>
                <a:lnTo>
                  <a:pt x="206" y="8"/>
                </a:lnTo>
                <a:lnTo>
                  <a:pt x="200" y="0"/>
                </a:lnTo>
                <a:lnTo>
                  <a:pt x="188" y="0"/>
                </a:lnTo>
                <a:lnTo>
                  <a:pt x="180" y="14"/>
                </a:lnTo>
                <a:lnTo>
                  <a:pt x="180" y="16"/>
                </a:lnTo>
                <a:lnTo>
                  <a:pt x="178" y="16"/>
                </a:lnTo>
                <a:lnTo>
                  <a:pt x="160" y="12"/>
                </a:lnTo>
                <a:lnTo>
                  <a:pt x="156" y="30"/>
                </a:lnTo>
                <a:lnTo>
                  <a:pt x="156" y="48"/>
                </a:lnTo>
                <a:lnTo>
                  <a:pt x="156" y="48"/>
                </a:lnTo>
                <a:lnTo>
                  <a:pt x="146" y="64"/>
                </a:lnTo>
                <a:lnTo>
                  <a:pt x="146" y="66"/>
                </a:lnTo>
                <a:lnTo>
                  <a:pt x="144" y="66"/>
                </a:lnTo>
                <a:lnTo>
                  <a:pt x="142" y="66"/>
                </a:lnTo>
                <a:lnTo>
                  <a:pt x="130" y="68"/>
                </a:lnTo>
                <a:lnTo>
                  <a:pt x="118" y="76"/>
                </a:lnTo>
                <a:lnTo>
                  <a:pt x="118" y="78"/>
                </a:lnTo>
                <a:lnTo>
                  <a:pt x="118" y="78"/>
                </a:lnTo>
                <a:lnTo>
                  <a:pt x="116" y="78"/>
                </a:lnTo>
                <a:lnTo>
                  <a:pt x="114" y="78"/>
                </a:lnTo>
                <a:lnTo>
                  <a:pt x="92" y="70"/>
                </a:lnTo>
                <a:lnTo>
                  <a:pt x="90" y="78"/>
                </a:lnTo>
                <a:lnTo>
                  <a:pt x="90" y="80"/>
                </a:lnTo>
                <a:lnTo>
                  <a:pt x="80" y="96"/>
                </a:lnTo>
                <a:lnTo>
                  <a:pt x="80" y="96"/>
                </a:lnTo>
                <a:lnTo>
                  <a:pt x="76" y="100"/>
                </a:lnTo>
                <a:lnTo>
                  <a:pt x="74" y="100"/>
                </a:lnTo>
                <a:lnTo>
                  <a:pt x="64" y="100"/>
                </a:lnTo>
                <a:lnTo>
                  <a:pt x="50" y="94"/>
                </a:lnTo>
                <a:lnTo>
                  <a:pt x="48" y="92"/>
                </a:lnTo>
                <a:lnTo>
                  <a:pt x="48" y="92"/>
                </a:lnTo>
                <a:lnTo>
                  <a:pt x="48" y="90"/>
                </a:lnTo>
                <a:lnTo>
                  <a:pt x="46" y="72"/>
                </a:lnTo>
                <a:lnTo>
                  <a:pt x="42" y="56"/>
                </a:lnTo>
                <a:lnTo>
                  <a:pt x="38" y="52"/>
                </a:lnTo>
                <a:lnTo>
                  <a:pt x="34" y="64"/>
                </a:lnTo>
                <a:lnTo>
                  <a:pt x="34" y="64"/>
                </a:lnTo>
                <a:lnTo>
                  <a:pt x="34" y="64"/>
                </a:lnTo>
                <a:lnTo>
                  <a:pt x="24" y="76"/>
                </a:lnTo>
                <a:lnTo>
                  <a:pt x="16" y="96"/>
                </a:lnTo>
                <a:lnTo>
                  <a:pt x="16" y="96"/>
                </a:lnTo>
                <a:lnTo>
                  <a:pt x="16" y="96"/>
                </a:lnTo>
                <a:lnTo>
                  <a:pt x="16" y="96"/>
                </a:lnTo>
                <a:lnTo>
                  <a:pt x="14" y="96"/>
                </a:lnTo>
                <a:lnTo>
                  <a:pt x="8" y="108"/>
                </a:lnTo>
                <a:lnTo>
                  <a:pt x="8" y="108"/>
                </a:lnTo>
                <a:lnTo>
                  <a:pt x="6" y="114"/>
                </a:lnTo>
                <a:lnTo>
                  <a:pt x="0" y="122"/>
                </a:lnTo>
                <a:lnTo>
                  <a:pt x="6" y="140"/>
                </a:lnTo>
                <a:lnTo>
                  <a:pt x="30" y="168"/>
                </a:lnTo>
                <a:lnTo>
                  <a:pt x="30" y="168"/>
                </a:lnTo>
                <a:lnTo>
                  <a:pt x="38" y="184"/>
                </a:lnTo>
                <a:lnTo>
                  <a:pt x="38" y="186"/>
                </a:lnTo>
                <a:lnTo>
                  <a:pt x="36" y="188"/>
                </a:lnTo>
                <a:lnTo>
                  <a:pt x="36" y="188"/>
                </a:lnTo>
                <a:lnTo>
                  <a:pt x="30" y="196"/>
                </a:lnTo>
                <a:lnTo>
                  <a:pt x="28" y="196"/>
                </a:lnTo>
                <a:lnTo>
                  <a:pt x="12" y="200"/>
                </a:lnTo>
                <a:lnTo>
                  <a:pt x="14" y="212"/>
                </a:lnTo>
                <a:lnTo>
                  <a:pt x="26" y="220"/>
                </a:lnTo>
                <a:lnTo>
                  <a:pt x="42" y="224"/>
                </a:lnTo>
                <a:lnTo>
                  <a:pt x="48" y="240"/>
                </a:lnTo>
                <a:lnTo>
                  <a:pt x="48" y="240"/>
                </a:lnTo>
                <a:lnTo>
                  <a:pt x="48" y="240"/>
                </a:lnTo>
                <a:lnTo>
                  <a:pt x="48" y="240"/>
                </a:lnTo>
                <a:lnTo>
                  <a:pt x="48" y="240"/>
                </a:lnTo>
                <a:lnTo>
                  <a:pt x="44" y="268"/>
                </a:lnTo>
                <a:lnTo>
                  <a:pt x="44" y="268"/>
                </a:lnTo>
                <a:lnTo>
                  <a:pt x="44" y="268"/>
                </a:lnTo>
                <a:lnTo>
                  <a:pt x="38" y="280"/>
                </a:lnTo>
                <a:lnTo>
                  <a:pt x="38" y="284"/>
                </a:lnTo>
                <a:lnTo>
                  <a:pt x="36" y="284"/>
                </a:lnTo>
                <a:lnTo>
                  <a:pt x="16" y="286"/>
                </a:lnTo>
                <a:lnTo>
                  <a:pt x="16" y="294"/>
                </a:lnTo>
                <a:lnTo>
                  <a:pt x="10" y="312"/>
                </a:lnTo>
                <a:lnTo>
                  <a:pt x="8" y="332"/>
                </a:lnTo>
                <a:lnTo>
                  <a:pt x="12" y="344"/>
                </a:lnTo>
                <a:lnTo>
                  <a:pt x="36" y="358"/>
                </a:lnTo>
                <a:lnTo>
                  <a:pt x="38" y="360"/>
                </a:lnTo>
                <a:lnTo>
                  <a:pt x="48" y="376"/>
                </a:lnTo>
                <a:lnTo>
                  <a:pt x="48" y="378"/>
                </a:lnTo>
                <a:lnTo>
                  <a:pt x="48" y="378"/>
                </a:lnTo>
                <a:lnTo>
                  <a:pt x="48" y="380"/>
                </a:lnTo>
                <a:lnTo>
                  <a:pt x="34" y="408"/>
                </a:lnTo>
                <a:lnTo>
                  <a:pt x="32" y="416"/>
                </a:lnTo>
                <a:lnTo>
                  <a:pt x="32" y="416"/>
                </a:lnTo>
                <a:lnTo>
                  <a:pt x="24" y="434"/>
                </a:lnTo>
                <a:lnTo>
                  <a:pt x="20" y="448"/>
                </a:lnTo>
                <a:lnTo>
                  <a:pt x="20" y="450"/>
                </a:lnTo>
                <a:lnTo>
                  <a:pt x="20" y="450"/>
                </a:lnTo>
                <a:lnTo>
                  <a:pt x="20" y="450"/>
                </a:lnTo>
                <a:lnTo>
                  <a:pt x="14" y="456"/>
                </a:lnTo>
                <a:lnTo>
                  <a:pt x="12" y="462"/>
                </a:lnTo>
                <a:lnTo>
                  <a:pt x="12" y="462"/>
                </a:lnTo>
                <a:lnTo>
                  <a:pt x="12" y="464"/>
                </a:lnTo>
                <a:lnTo>
                  <a:pt x="12" y="466"/>
                </a:lnTo>
                <a:lnTo>
                  <a:pt x="14" y="468"/>
                </a:lnTo>
                <a:lnTo>
                  <a:pt x="22" y="476"/>
                </a:lnTo>
                <a:lnTo>
                  <a:pt x="22" y="476"/>
                </a:lnTo>
                <a:lnTo>
                  <a:pt x="22" y="476"/>
                </a:lnTo>
                <a:lnTo>
                  <a:pt x="26" y="482"/>
                </a:lnTo>
                <a:lnTo>
                  <a:pt x="26" y="482"/>
                </a:lnTo>
                <a:lnTo>
                  <a:pt x="26" y="482"/>
                </a:lnTo>
                <a:lnTo>
                  <a:pt x="28" y="484"/>
                </a:lnTo>
                <a:lnTo>
                  <a:pt x="28" y="484"/>
                </a:lnTo>
                <a:lnTo>
                  <a:pt x="28" y="488"/>
                </a:lnTo>
                <a:lnTo>
                  <a:pt x="28" y="488"/>
                </a:lnTo>
                <a:lnTo>
                  <a:pt x="28" y="488"/>
                </a:lnTo>
                <a:lnTo>
                  <a:pt x="28" y="488"/>
                </a:lnTo>
                <a:lnTo>
                  <a:pt x="28" y="488"/>
                </a:lnTo>
                <a:lnTo>
                  <a:pt x="30" y="492"/>
                </a:lnTo>
                <a:lnTo>
                  <a:pt x="36" y="496"/>
                </a:lnTo>
                <a:lnTo>
                  <a:pt x="66" y="502"/>
                </a:lnTo>
                <a:lnTo>
                  <a:pt x="66" y="502"/>
                </a:lnTo>
                <a:lnTo>
                  <a:pt x="80" y="500"/>
                </a:lnTo>
                <a:lnTo>
                  <a:pt x="94" y="496"/>
                </a:lnTo>
                <a:lnTo>
                  <a:pt x="94" y="496"/>
                </a:lnTo>
                <a:lnTo>
                  <a:pt x="108" y="492"/>
                </a:lnTo>
                <a:lnTo>
                  <a:pt x="122" y="492"/>
                </a:lnTo>
                <a:lnTo>
                  <a:pt x="122" y="486"/>
                </a:lnTo>
                <a:lnTo>
                  <a:pt x="114" y="464"/>
                </a:lnTo>
                <a:lnTo>
                  <a:pt x="112" y="464"/>
                </a:lnTo>
                <a:lnTo>
                  <a:pt x="114" y="464"/>
                </a:lnTo>
                <a:lnTo>
                  <a:pt x="158" y="400"/>
                </a:lnTo>
                <a:lnTo>
                  <a:pt x="208" y="352"/>
                </a:lnTo>
                <a:lnTo>
                  <a:pt x="208" y="352"/>
                </a:lnTo>
                <a:lnTo>
                  <a:pt x="224" y="348"/>
                </a:lnTo>
                <a:lnTo>
                  <a:pt x="232" y="338"/>
                </a:lnTo>
                <a:lnTo>
                  <a:pt x="232" y="338"/>
                </a:lnTo>
                <a:lnTo>
                  <a:pt x="232" y="338"/>
                </a:lnTo>
                <a:lnTo>
                  <a:pt x="240" y="332"/>
                </a:lnTo>
                <a:lnTo>
                  <a:pt x="250" y="328"/>
                </a:lnTo>
                <a:lnTo>
                  <a:pt x="246" y="324"/>
                </a:lnTo>
                <a:lnTo>
                  <a:pt x="234" y="312"/>
                </a:lnTo>
                <a:lnTo>
                  <a:pt x="234" y="312"/>
                </a:lnTo>
                <a:lnTo>
                  <a:pt x="234" y="312"/>
                </a:lnTo>
                <a:lnTo>
                  <a:pt x="226" y="302"/>
                </a:lnTo>
                <a:lnTo>
                  <a:pt x="226" y="300"/>
                </a:lnTo>
                <a:lnTo>
                  <a:pt x="226" y="300"/>
                </a:lnTo>
                <a:lnTo>
                  <a:pt x="230" y="294"/>
                </a:lnTo>
                <a:lnTo>
                  <a:pt x="218" y="296"/>
                </a:lnTo>
                <a:lnTo>
                  <a:pt x="196" y="292"/>
                </a:lnTo>
                <a:lnTo>
                  <a:pt x="196" y="292"/>
                </a:lnTo>
                <a:lnTo>
                  <a:pt x="186" y="284"/>
                </a:lnTo>
                <a:lnTo>
                  <a:pt x="182" y="280"/>
                </a:lnTo>
                <a:lnTo>
                  <a:pt x="180" y="276"/>
                </a:lnTo>
                <a:lnTo>
                  <a:pt x="180" y="276"/>
                </a:lnTo>
                <a:lnTo>
                  <a:pt x="176" y="256"/>
                </a:lnTo>
                <a:lnTo>
                  <a:pt x="174" y="238"/>
                </a:lnTo>
                <a:lnTo>
                  <a:pt x="174" y="238"/>
                </a:lnTo>
                <a:lnTo>
                  <a:pt x="170" y="242"/>
                </a:lnTo>
                <a:lnTo>
                  <a:pt x="164" y="244"/>
                </a:lnTo>
                <a:lnTo>
                  <a:pt x="146" y="240"/>
                </a:lnTo>
                <a:lnTo>
                  <a:pt x="136" y="232"/>
                </a:lnTo>
                <a:lnTo>
                  <a:pt x="122" y="228"/>
                </a:lnTo>
                <a:lnTo>
                  <a:pt x="116" y="228"/>
                </a:lnTo>
                <a:lnTo>
                  <a:pt x="116" y="228"/>
                </a:lnTo>
                <a:lnTo>
                  <a:pt x="110" y="226"/>
                </a:lnTo>
                <a:lnTo>
                  <a:pt x="104" y="224"/>
                </a:lnTo>
                <a:lnTo>
                  <a:pt x="104" y="224"/>
                </a:lnTo>
                <a:lnTo>
                  <a:pt x="98" y="218"/>
                </a:lnTo>
                <a:lnTo>
                  <a:pt x="96" y="214"/>
                </a:lnTo>
                <a:lnTo>
                  <a:pt x="96" y="214"/>
                </a:lnTo>
                <a:lnTo>
                  <a:pt x="96" y="210"/>
                </a:lnTo>
                <a:lnTo>
                  <a:pt x="96" y="206"/>
                </a:lnTo>
                <a:lnTo>
                  <a:pt x="98" y="202"/>
                </a:lnTo>
                <a:lnTo>
                  <a:pt x="102" y="200"/>
                </a:lnTo>
                <a:lnTo>
                  <a:pt x="102" y="200"/>
                </a:lnTo>
                <a:lnTo>
                  <a:pt x="110" y="192"/>
                </a:lnTo>
                <a:lnTo>
                  <a:pt x="118" y="180"/>
                </a:lnTo>
                <a:lnTo>
                  <a:pt x="118" y="180"/>
                </a:lnTo>
                <a:lnTo>
                  <a:pt x="116" y="176"/>
                </a:lnTo>
                <a:lnTo>
                  <a:pt x="114" y="170"/>
                </a:lnTo>
                <a:lnTo>
                  <a:pt x="112" y="164"/>
                </a:lnTo>
                <a:lnTo>
                  <a:pt x="114" y="160"/>
                </a:lnTo>
                <a:lnTo>
                  <a:pt x="114" y="158"/>
                </a:lnTo>
                <a:lnTo>
                  <a:pt x="114" y="158"/>
                </a:lnTo>
                <a:lnTo>
                  <a:pt x="116" y="156"/>
                </a:lnTo>
                <a:lnTo>
                  <a:pt x="120" y="152"/>
                </a:lnTo>
                <a:lnTo>
                  <a:pt x="134" y="148"/>
                </a:lnTo>
                <a:lnTo>
                  <a:pt x="134" y="148"/>
                </a:lnTo>
                <a:lnTo>
                  <a:pt x="136" y="142"/>
                </a:lnTo>
                <a:lnTo>
                  <a:pt x="138" y="140"/>
                </a:lnTo>
                <a:lnTo>
                  <a:pt x="150" y="140"/>
                </a:lnTo>
                <a:lnTo>
                  <a:pt x="148" y="140"/>
                </a:lnTo>
                <a:lnTo>
                  <a:pt x="148" y="140"/>
                </a:lnTo>
                <a:lnTo>
                  <a:pt x="142" y="136"/>
                </a:lnTo>
                <a:lnTo>
                  <a:pt x="140" y="132"/>
                </a:lnTo>
                <a:lnTo>
                  <a:pt x="140" y="128"/>
                </a:lnTo>
                <a:lnTo>
                  <a:pt x="142" y="122"/>
                </a:lnTo>
                <a:lnTo>
                  <a:pt x="148" y="118"/>
                </a:lnTo>
                <a:lnTo>
                  <a:pt x="148" y="118"/>
                </a:lnTo>
                <a:lnTo>
                  <a:pt x="154" y="116"/>
                </a:lnTo>
                <a:lnTo>
                  <a:pt x="160" y="116"/>
                </a:lnTo>
                <a:lnTo>
                  <a:pt x="166" y="118"/>
                </a:lnTo>
                <a:lnTo>
                  <a:pt x="172" y="120"/>
                </a:lnTo>
                <a:lnTo>
                  <a:pt x="190" y="134"/>
                </a:lnTo>
                <a:lnTo>
                  <a:pt x="208" y="134"/>
                </a:lnTo>
                <a:lnTo>
                  <a:pt x="214" y="138"/>
                </a:lnTo>
                <a:lnTo>
                  <a:pt x="214" y="144"/>
                </a:lnTo>
                <a:lnTo>
                  <a:pt x="214" y="144"/>
                </a:lnTo>
                <a:lnTo>
                  <a:pt x="214" y="150"/>
                </a:lnTo>
                <a:lnTo>
                  <a:pt x="210" y="152"/>
                </a:lnTo>
                <a:lnTo>
                  <a:pt x="210" y="152"/>
                </a:lnTo>
                <a:lnTo>
                  <a:pt x="206" y="152"/>
                </a:lnTo>
                <a:lnTo>
                  <a:pt x="204" y="154"/>
                </a:lnTo>
                <a:lnTo>
                  <a:pt x="202" y="160"/>
                </a:lnTo>
                <a:lnTo>
                  <a:pt x="210" y="180"/>
                </a:lnTo>
                <a:lnTo>
                  <a:pt x="210" y="180"/>
                </a:lnTo>
                <a:lnTo>
                  <a:pt x="218" y="170"/>
                </a:lnTo>
                <a:lnTo>
                  <a:pt x="226" y="168"/>
                </a:lnTo>
                <a:lnTo>
                  <a:pt x="226" y="168"/>
                </a:lnTo>
                <a:lnTo>
                  <a:pt x="230" y="168"/>
                </a:lnTo>
                <a:lnTo>
                  <a:pt x="234" y="172"/>
                </a:lnTo>
                <a:lnTo>
                  <a:pt x="234" y="172"/>
                </a:lnTo>
                <a:lnTo>
                  <a:pt x="236" y="180"/>
                </a:lnTo>
                <a:lnTo>
                  <a:pt x="240" y="190"/>
                </a:lnTo>
                <a:lnTo>
                  <a:pt x="240" y="190"/>
                </a:lnTo>
                <a:lnTo>
                  <a:pt x="242" y="202"/>
                </a:lnTo>
                <a:lnTo>
                  <a:pt x="246" y="210"/>
                </a:lnTo>
                <a:lnTo>
                  <a:pt x="252" y="220"/>
                </a:lnTo>
                <a:lnTo>
                  <a:pt x="252" y="220"/>
                </a:lnTo>
                <a:lnTo>
                  <a:pt x="264" y="236"/>
                </a:lnTo>
                <a:lnTo>
                  <a:pt x="268" y="248"/>
                </a:lnTo>
                <a:lnTo>
                  <a:pt x="300" y="244"/>
                </a:lnTo>
                <a:lnTo>
                  <a:pt x="314" y="236"/>
                </a:lnTo>
                <a:lnTo>
                  <a:pt x="326" y="220"/>
                </a:lnTo>
                <a:lnTo>
                  <a:pt x="332" y="204"/>
                </a:lnTo>
                <a:lnTo>
                  <a:pt x="332" y="204"/>
                </a:lnTo>
                <a:lnTo>
                  <a:pt x="332" y="204"/>
                </a:lnTo>
                <a:lnTo>
                  <a:pt x="336" y="188"/>
                </a:lnTo>
                <a:lnTo>
                  <a:pt x="336" y="186"/>
                </a:lnTo>
                <a:lnTo>
                  <a:pt x="336" y="184"/>
                </a:lnTo>
                <a:lnTo>
                  <a:pt x="338" y="184"/>
                </a:lnTo>
                <a:lnTo>
                  <a:pt x="350" y="176"/>
                </a:lnTo>
                <a:lnTo>
                  <a:pt x="352" y="176"/>
                </a:lnTo>
                <a:lnTo>
                  <a:pt x="350" y="174"/>
                </a:lnTo>
                <a:lnTo>
                  <a:pt x="330" y="168"/>
                </a:lnTo>
                <a:lnTo>
                  <a:pt x="330" y="168"/>
                </a:lnTo>
                <a:lnTo>
                  <a:pt x="330" y="168"/>
                </a:lnTo>
                <a:lnTo>
                  <a:pt x="326" y="156"/>
                </a:lnTo>
                <a:lnTo>
                  <a:pt x="324" y="15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Freeform 34"/>
          <p:cNvSpPr/>
          <p:nvPr/>
        </p:nvSpPr>
        <p:spPr>
          <a:xfrm>
            <a:off x="5613480" y="4367160"/>
            <a:ext cx="503280" cy="496800"/>
          </a:xfrm>
          <a:custGeom>
            <a:avLst/>
            <a:gdLst>
              <a:gd name="textAreaLeft" fmla="*/ 0 w 503280"/>
              <a:gd name="textAreaRight" fmla="*/ 503640 w 50328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370" h="366">
                <a:moveTo>
                  <a:pt x="82" y="120"/>
                </a:moveTo>
                <a:lnTo>
                  <a:pt x="80" y="120"/>
                </a:lnTo>
                <a:lnTo>
                  <a:pt x="20" y="146"/>
                </a:lnTo>
                <a:lnTo>
                  <a:pt x="2" y="162"/>
                </a:lnTo>
                <a:lnTo>
                  <a:pt x="2" y="162"/>
                </a:lnTo>
                <a:lnTo>
                  <a:pt x="0" y="182"/>
                </a:lnTo>
                <a:lnTo>
                  <a:pt x="2" y="196"/>
                </a:lnTo>
                <a:lnTo>
                  <a:pt x="4" y="206"/>
                </a:lnTo>
                <a:lnTo>
                  <a:pt x="10" y="210"/>
                </a:lnTo>
                <a:lnTo>
                  <a:pt x="28" y="222"/>
                </a:lnTo>
                <a:lnTo>
                  <a:pt x="30" y="222"/>
                </a:lnTo>
                <a:lnTo>
                  <a:pt x="30" y="222"/>
                </a:lnTo>
                <a:lnTo>
                  <a:pt x="34" y="252"/>
                </a:lnTo>
                <a:lnTo>
                  <a:pt x="34" y="252"/>
                </a:lnTo>
                <a:lnTo>
                  <a:pt x="54" y="276"/>
                </a:lnTo>
                <a:lnTo>
                  <a:pt x="60" y="282"/>
                </a:lnTo>
                <a:lnTo>
                  <a:pt x="66" y="286"/>
                </a:lnTo>
                <a:lnTo>
                  <a:pt x="82" y="290"/>
                </a:lnTo>
                <a:lnTo>
                  <a:pt x="86" y="290"/>
                </a:lnTo>
                <a:lnTo>
                  <a:pt x="86" y="290"/>
                </a:lnTo>
                <a:lnTo>
                  <a:pt x="86" y="290"/>
                </a:lnTo>
                <a:lnTo>
                  <a:pt x="92" y="296"/>
                </a:lnTo>
                <a:lnTo>
                  <a:pt x="104" y="300"/>
                </a:lnTo>
                <a:lnTo>
                  <a:pt x="152" y="302"/>
                </a:lnTo>
                <a:lnTo>
                  <a:pt x="152" y="302"/>
                </a:lnTo>
                <a:lnTo>
                  <a:pt x="194" y="304"/>
                </a:lnTo>
                <a:lnTo>
                  <a:pt x="204" y="306"/>
                </a:lnTo>
                <a:lnTo>
                  <a:pt x="210" y="310"/>
                </a:lnTo>
                <a:lnTo>
                  <a:pt x="210" y="310"/>
                </a:lnTo>
                <a:lnTo>
                  <a:pt x="214" y="312"/>
                </a:lnTo>
                <a:lnTo>
                  <a:pt x="214" y="318"/>
                </a:lnTo>
                <a:lnTo>
                  <a:pt x="214" y="332"/>
                </a:lnTo>
                <a:lnTo>
                  <a:pt x="214" y="332"/>
                </a:lnTo>
                <a:lnTo>
                  <a:pt x="214" y="342"/>
                </a:lnTo>
                <a:lnTo>
                  <a:pt x="216" y="346"/>
                </a:lnTo>
                <a:lnTo>
                  <a:pt x="234" y="342"/>
                </a:lnTo>
                <a:lnTo>
                  <a:pt x="234" y="342"/>
                </a:lnTo>
                <a:lnTo>
                  <a:pt x="242" y="340"/>
                </a:lnTo>
                <a:lnTo>
                  <a:pt x="250" y="338"/>
                </a:lnTo>
                <a:lnTo>
                  <a:pt x="256" y="340"/>
                </a:lnTo>
                <a:lnTo>
                  <a:pt x="258" y="342"/>
                </a:lnTo>
                <a:lnTo>
                  <a:pt x="266" y="350"/>
                </a:lnTo>
                <a:lnTo>
                  <a:pt x="266" y="350"/>
                </a:lnTo>
                <a:lnTo>
                  <a:pt x="278" y="362"/>
                </a:lnTo>
                <a:lnTo>
                  <a:pt x="280" y="364"/>
                </a:lnTo>
                <a:lnTo>
                  <a:pt x="282" y="366"/>
                </a:lnTo>
                <a:lnTo>
                  <a:pt x="282" y="366"/>
                </a:lnTo>
                <a:lnTo>
                  <a:pt x="290" y="360"/>
                </a:lnTo>
                <a:lnTo>
                  <a:pt x="298" y="350"/>
                </a:lnTo>
                <a:lnTo>
                  <a:pt x="300" y="348"/>
                </a:lnTo>
                <a:lnTo>
                  <a:pt x="314" y="358"/>
                </a:lnTo>
                <a:lnTo>
                  <a:pt x="324" y="350"/>
                </a:lnTo>
                <a:lnTo>
                  <a:pt x="324" y="350"/>
                </a:lnTo>
                <a:lnTo>
                  <a:pt x="326" y="342"/>
                </a:lnTo>
                <a:lnTo>
                  <a:pt x="330" y="338"/>
                </a:lnTo>
                <a:lnTo>
                  <a:pt x="334" y="334"/>
                </a:lnTo>
                <a:lnTo>
                  <a:pt x="342" y="332"/>
                </a:lnTo>
                <a:lnTo>
                  <a:pt x="346" y="330"/>
                </a:lnTo>
                <a:lnTo>
                  <a:pt x="344" y="328"/>
                </a:lnTo>
                <a:lnTo>
                  <a:pt x="342" y="326"/>
                </a:lnTo>
                <a:lnTo>
                  <a:pt x="342" y="326"/>
                </a:lnTo>
                <a:lnTo>
                  <a:pt x="344" y="306"/>
                </a:lnTo>
                <a:lnTo>
                  <a:pt x="344" y="306"/>
                </a:lnTo>
                <a:lnTo>
                  <a:pt x="338" y="300"/>
                </a:lnTo>
                <a:lnTo>
                  <a:pt x="334" y="296"/>
                </a:lnTo>
                <a:lnTo>
                  <a:pt x="328" y="294"/>
                </a:lnTo>
                <a:lnTo>
                  <a:pt x="320" y="294"/>
                </a:lnTo>
                <a:lnTo>
                  <a:pt x="320" y="294"/>
                </a:lnTo>
                <a:lnTo>
                  <a:pt x="310" y="296"/>
                </a:lnTo>
                <a:lnTo>
                  <a:pt x="306" y="296"/>
                </a:lnTo>
                <a:lnTo>
                  <a:pt x="302" y="294"/>
                </a:lnTo>
                <a:lnTo>
                  <a:pt x="302" y="294"/>
                </a:lnTo>
                <a:lnTo>
                  <a:pt x="302" y="290"/>
                </a:lnTo>
                <a:lnTo>
                  <a:pt x="302" y="286"/>
                </a:lnTo>
                <a:lnTo>
                  <a:pt x="302" y="286"/>
                </a:lnTo>
                <a:lnTo>
                  <a:pt x="292" y="272"/>
                </a:lnTo>
                <a:lnTo>
                  <a:pt x="282" y="262"/>
                </a:lnTo>
                <a:lnTo>
                  <a:pt x="282" y="262"/>
                </a:lnTo>
                <a:lnTo>
                  <a:pt x="278" y="256"/>
                </a:lnTo>
                <a:lnTo>
                  <a:pt x="274" y="250"/>
                </a:lnTo>
                <a:lnTo>
                  <a:pt x="272" y="244"/>
                </a:lnTo>
                <a:lnTo>
                  <a:pt x="274" y="238"/>
                </a:lnTo>
                <a:lnTo>
                  <a:pt x="274" y="236"/>
                </a:lnTo>
                <a:lnTo>
                  <a:pt x="298" y="240"/>
                </a:lnTo>
                <a:lnTo>
                  <a:pt x="296" y="226"/>
                </a:lnTo>
                <a:lnTo>
                  <a:pt x="296" y="226"/>
                </a:lnTo>
                <a:lnTo>
                  <a:pt x="296" y="216"/>
                </a:lnTo>
                <a:lnTo>
                  <a:pt x="298" y="212"/>
                </a:lnTo>
                <a:lnTo>
                  <a:pt x="300" y="210"/>
                </a:lnTo>
                <a:lnTo>
                  <a:pt x="300" y="210"/>
                </a:lnTo>
                <a:lnTo>
                  <a:pt x="304" y="206"/>
                </a:lnTo>
                <a:lnTo>
                  <a:pt x="310" y="204"/>
                </a:lnTo>
                <a:lnTo>
                  <a:pt x="318" y="200"/>
                </a:lnTo>
                <a:lnTo>
                  <a:pt x="318" y="196"/>
                </a:lnTo>
                <a:lnTo>
                  <a:pt x="318" y="196"/>
                </a:lnTo>
                <a:lnTo>
                  <a:pt x="312" y="178"/>
                </a:lnTo>
                <a:lnTo>
                  <a:pt x="312" y="170"/>
                </a:lnTo>
                <a:lnTo>
                  <a:pt x="312" y="166"/>
                </a:lnTo>
                <a:lnTo>
                  <a:pt x="318" y="162"/>
                </a:lnTo>
                <a:lnTo>
                  <a:pt x="318" y="162"/>
                </a:lnTo>
                <a:lnTo>
                  <a:pt x="324" y="162"/>
                </a:lnTo>
                <a:lnTo>
                  <a:pt x="338" y="166"/>
                </a:lnTo>
                <a:lnTo>
                  <a:pt x="338" y="166"/>
                </a:lnTo>
                <a:lnTo>
                  <a:pt x="340" y="166"/>
                </a:lnTo>
                <a:lnTo>
                  <a:pt x="340" y="168"/>
                </a:lnTo>
                <a:lnTo>
                  <a:pt x="340" y="168"/>
                </a:lnTo>
                <a:lnTo>
                  <a:pt x="356" y="186"/>
                </a:lnTo>
                <a:lnTo>
                  <a:pt x="370" y="162"/>
                </a:lnTo>
                <a:lnTo>
                  <a:pt x="370" y="162"/>
                </a:lnTo>
                <a:lnTo>
                  <a:pt x="356" y="140"/>
                </a:lnTo>
                <a:lnTo>
                  <a:pt x="348" y="128"/>
                </a:lnTo>
                <a:lnTo>
                  <a:pt x="336" y="136"/>
                </a:lnTo>
                <a:lnTo>
                  <a:pt x="334" y="134"/>
                </a:lnTo>
                <a:lnTo>
                  <a:pt x="302" y="126"/>
                </a:lnTo>
                <a:lnTo>
                  <a:pt x="302" y="126"/>
                </a:lnTo>
                <a:lnTo>
                  <a:pt x="302" y="126"/>
                </a:lnTo>
                <a:lnTo>
                  <a:pt x="302" y="126"/>
                </a:lnTo>
                <a:lnTo>
                  <a:pt x="292" y="122"/>
                </a:lnTo>
                <a:lnTo>
                  <a:pt x="286" y="116"/>
                </a:lnTo>
                <a:lnTo>
                  <a:pt x="280" y="110"/>
                </a:lnTo>
                <a:lnTo>
                  <a:pt x="278" y="106"/>
                </a:lnTo>
                <a:lnTo>
                  <a:pt x="260" y="96"/>
                </a:lnTo>
                <a:lnTo>
                  <a:pt x="260" y="78"/>
                </a:lnTo>
                <a:lnTo>
                  <a:pt x="294" y="58"/>
                </a:lnTo>
                <a:lnTo>
                  <a:pt x="294" y="58"/>
                </a:lnTo>
                <a:lnTo>
                  <a:pt x="292" y="44"/>
                </a:lnTo>
                <a:lnTo>
                  <a:pt x="286" y="30"/>
                </a:lnTo>
                <a:lnTo>
                  <a:pt x="282" y="18"/>
                </a:lnTo>
                <a:lnTo>
                  <a:pt x="258" y="22"/>
                </a:lnTo>
                <a:lnTo>
                  <a:pt x="258" y="22"/>
                </a:lnTo>
                <a:lnTo>
                  <a:pt x="242" y="26"/>
                </a:lnTo>
                <a:lnTo>
                  <a:pt x="226" y="28"/>
                </a:lnTo>
                <a:lnTo>
                  <a:pt x="200" y="22"/>
                </a:lnTo>
                <a:lnTo>
                  <a:pt x="200" y="14"/>
                </a:lnTo>
                <a:lnTo>
                  <a:pt x="196" y="14"/>
                </a:lnTo>
                <a:lnTo>
                  <a:pt x="190" y="10"/>
                </a:lnTo>
                <a:lnTo>
                  <a:pt x="188" y="6"/>
                </a:lnTo>
                <a:lnTo>
                  <a:pt x="188" y="6"/>
                </a:lnTo>
                <a:lnTo>
                  <a:pt x="188" y="6"/>
                </a:lnTo>
                <a:lnTo>
                  <a:pt x="188" y="6"/>
                </a:lnTo>
                <a:lnTo>
                  <a:pt x="188" y="6"/>
                </a:lnTo>
                <a:lnTo>
                  <a:pt x="186" y="2"/>
                </a:lnTo>
                <a:lnTo>
                  <a:pt x="186" y="2"/>
                </a:lnTo>
                <a:lnTo>
                  <a:pt x="186" y="0"/>
                </a:lnTo>
                <a:lnTo>
                  <a:pt x="186" y="0"/>
                </a:lnTo>
                <a:lnTo>
                  <a:pt x="184" y="22"/>
                </a:lnTo>
                <a:lnTo>
                  <a:pt x="182" y="28"/>
                </a:lnTo>
                <a:lnTo>
                  <a:pt x="182" y="28"/>
                </a:lnTo>
                <a:lnTo>
                  <a:pt x="180" y="34"/>
                </a:lnTo>
                <a:lnTo>
                  <a:pt x="182" y="36"/>
                </a:lnTo>
                <a:lnTo>
                  <a:pt x="182" y="36"/>
                </a:lnTo>
                <a:lnTo>
                  <a:pt x="184" y="40"/>
                </a:lnTo>
                <a:lnTo>
                  <a:pt x="184" y="46"/>
                </a:lnTo>
                <a:lnTo>
                  <a:pt x="182" y="50"/>
                </a:lnTo>
                <a:lnTo>
                  <a:pt x="180" y="54"/>
                </a:lnTo>
                <a:lnTo>
                  <a:pt x="184" y="68"/>
                </a:lnTo>
                <a:lnTo>
                  <a:pt x="182" y="68"/>
                </a:lnTo>
                <a:lnTo>
                  <a:pt x="182" y="70"/>
                </a:lnTo>
                <a:lnTo>
                  <a:pt x="172" y="78"/>
                </a:lnTo>
                <a:lnTo>
                  <a:pt x="172" y="96"/>
                </a:lnTo>
                <a:lnTo>
                  <a:pt x="170" y="98"/>
                </a:lnTo>
                <a:lnTo>
                  <a:pt x="170" y="98"/>
                </a:lnTo>
                <a:lnTo>
                  <a:pt x="148" y="106"/>
                </a:lnTo>
                <a:lnTo>
                  <a:pt x="132" y="110"/>
                </a:lnTo>
                <a:lnTo>
                  <a:pt x="98" y="106"/>
                </a:lnTo>
                <a:lnTo>
                  <a:pt x="82" y="120"/>
                </a:lnTo>
                <a:lnTo>
                  <a:pt x="82" y="12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Freeform 35"/>
          <p:cNvSpPr/>
          <p:nvPr/>
        </p:nvSpPr>
        <p:spPr>
          <a:xfrm>
            <a:off x="6559560" y="5429160"/>
            <a:ext cx="144360" cy="347760"/>
          </a:xfrm>
          <a:custGeom>
            <a:avLst/>
            <a:gdLst>
              <a:gd name="textAreaLeft" fmla="*/ 0 w 144360"/>
              <a:gd name="textAreaRight" fmla="*/ 144720 w 1443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06" h="256">
                <a:moveTo>
                  <a:pt x="80" y="0"/>
                </a:moveTo>
                <a:lnTo>
                  <a:pt x="80" y="0"/>
                </a:lnTo>
                <a:lnTo>
                  <a:pt x="62" y="14"/>
                </a:lnTo>
                <a:lnTo>
                  <a:pt x="46" y="32"/>
                </a:lnTo>
                <a:lnTo>
                  <a:pt x="34" y="50"/>
                </a:lnTo>
                <a:lnTo>
                  <a:pt x="24" y="70"/>
                </a:lnTo>
                <a:lnTo>
                  <a:pt x="24" y="70"/>
                </a:lnTo>
                <a:lnTo>
                  <a:pt x="10" y="98"/>
                </a:lnTo>
                <a:lnTo>
                  <a:pt x="4" y="104"/>
                </a:lnTo>
                <a:lnTo>
                  <a:pt x="0" y="108"/>
                </a:lnTo>
                <a:lnTo>
                  <a:pt x="6" y="152"/>
                </a:lnTo>
                <a:lnTo>
                  <a:pt x="6" y="154"/>
                </a:lnTo>
                <a:lnTo>
                  <a:pt x="6" y="154"/>
                </a:lnTo>
                <a:lnTo>
                  <a:pt x="2" y="184"/>
                </a:lnTo>
                <a:lnTo>
                  <a:pt x="2" y="184"/>
                </a:lnTo>
                <a:lnTo>
                  <a:pt x="2" y="196"/>
                </a:lnTo>
                <a:lnTo>
                  <a:pt x="2" y="200"/>
                </a:lnTo>
                <a:lnTo>
                  <a:pt x="4" y="202"/>
                </a:lnTo>
                <a:lnTo>
                  <a:pt x="36" y="224"/>
                </a:lnTo>
                <a:lnTo>
                  <a:pt x="36" y="224"/>
                </a:lnTo>
                <a:lnTo>
                  <a:pt x="38" y="224"/>
                </a:lnTo>
                <a:lnTo>
                  <a:pt x="38" y="226"/>
                </a:lnTo>
                <a:lnTo>
                  <a:pt x="38" y="226"/>
                </a:lnTo>
                <a:lnTo>
                  <a:pt x="38" y="226"/>
                </a:lnTo>
                <a:lnTo>
                  <a:pt x="42" y="236"/>
                </a:lnTo>
                <a:lnTo>
                  <a:pt x="50" y="248"/>
                </a:lnTo>
                <a:lnTo>
                  <a:pt x="50" y="248"/>
                </a:lnTo>
                <a:lnTo>
                  <a:pt x="56" y="252"/>
                </a:lnTo>
                <a:lnTo>
                  <a:pt x="62" y="256"/>
                </a:lnTo>
                <a:lnTo>
                  <a:pt x="66" y="204"/>
                </a:lnTo>
                <a:lnTo>
                  <a:pt x="66" y="202"/>
                </a:lnTo>
                <a:lnTo>
                  <a:pt x="90" y="146"/>
                </a:lnTo>
                <a:lnTo>
                  <a:pt x="98" y="80"/>
                </a:lnTo>
                <a:lnTo>
                  <a:pt x="98" y="78"/>
                </a:lnTo>
                <a:lnTo>
                  <a:pt x="98" y="78"/>
                </a:lnTo>
                <a:lnTo>
                  <a:pt x="106" y="60"/>
                </a:lnTo>
                <a:lnTo>
                  <a:pt x="100" y="44"/>
                </a:lnTo>
                <a:lnTo>
                  <a:pt x="100" y="44"/>
                </a:lnTo>
                <a:lnTo>
                  <a:pt x="98" y="44"/>
                </a:lnTo>
                <a:lnTo>
                  <a:pt x="98" y="24"/>
                </a:lnTo>
                <a:lnTo>
                  <a:pt x="98" y="22"/>
                </a:lnTo>
                <a:lnTo>
                  <a:pt x="98" y="22"/>
                </a:lnTo>
                <a:lnTo>
                  <a:pt x="102" y="16"/>
                </a:lnTo>
                <a:lnTo>
                  <a:pt x="106" y="12"/>
                </a:lnTo>
                <a:lnTo>
                  <a:pt x="8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Freeform 36"/>
          <p:cNvSpPr/>
          <p:nvPr/>
        </p:nvSpPr>
        <p:spPr>
          <a:xfrm>
            <a:off x="5500800" y="6045120"/>
            <a:ext cx="217440" cy="190440"/>
          </a:xfrm>
          <a:custGeom>
            <a:avLst/>
            <a:gdLst>
              <a:gd name="textAreaLeft" fmla="*/ 0 w 217440"/>
              <a:gd name="textAreaRight" fmla="*/ 217800 w 2174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60" h="140">
                <a:moveTo>
                  <a:pt x="72" y="14"/>
                </a:moveTo>
                <a:lnTo>
                  <a:pt x="70" y="18"/>
                </a:lnTo>
                <a:lnTo>
                  <a:pt x="70" y="18"/>
                </a:lnTo>
                <a:lnTo>
                  <a:pt x="68" y="20"/>
                </a:lnTo>
                <a:lnTo>
                  <a:pt x="36" y="28"/>
                </a:lnTo>
                <a:lnTo>
                  <a:pt x="38" y="32"/>
                </a:lnTo>
                <a:lnTo>
                  <a:pt x="48" y="44"/>
                </a:lnTo>
                <a:lnTo>
                  <a:pt x="48" y="44"/>
                </a:lnTo>
                <a:lnTo>
                  <a:pt x="44" y="46"/>
                </a:lnTo>
                <a:lnTo>
                  <a:pt x="30" y="54"/>
                </a:lnTo>
                <a:lnTo>
                  <a:pt x="6" y="72"/>
                </a:lnTo>
                <a:lnTo>
                  <a:pt x="6" y="72"/>
                </a:lnTo>
                <a:lnTo>
                  <a:pt x="2" y="80"/>
                </a:lnTo>
                <a:lnTo>
                  <a:pt x="0" y="92"/>
                </a:lnTo>
                <a:lnTo>
                  <a:pt x="4" y="108"/>
                </a:lnTo>
                <a:lnTo>
                  <a:pt x="10" y="126"/>
                </a:lnTo>
                <a:lnTo>
                  <a:pt x="34" y="128"/>
                </a:lnTo>
                <a:lnTo>
                  <a:pt x="36" y="128"/>
                </a:lnTo>
                <a:lnTo>
                  <a:pt x="36" y="128"/>
                </a:lnTo>
                <a:lnTo>
                  <a:pt x="60" y="140"/>
                </a:lnTo>
                <a:lnTo>
                  <a:pt x="86" y="136"/>
                </a:lnTo>
                <a:lnTo>
                  <a:pt x="86" y="136"/>
                </a:lnTo>
                <a:lnTo>
                  <a:pt x="94" y="132"/>
                </a:lnTo>
                <a:lnTo>
                  <a:pt x="102" y="126"/>
                </a:lnTo>
                <a:lnTo>
                  <a:pt x="112" y="118"/>
                </a:lnTo>
                <a:lnTo>
                  <a:pt x="122" y="106"/>
                </a:lnTo>
                <a:lnTo>
                  <a:pt x="124" y="106"/>
                </a:lnTo>
                <a:lnTo>
                  <a:pt x="126" y="104"/>
                </a:lnTo>
                <a:lnTo>
                  <a:pt x="136" y="100"/>
                </a:lnTo>
                <a:lnTo>
                  <a:pt x="134" y="66"/>
                </a:lnTo>
                <a:lnTo>
                  <a:pt x="134" y="66"/>
                </a:lnTo>
                <a:lnTo>
                  <a:pt x="148" y="44"/>
                </a:lnTo>
                <a:lnTo>
                  <a:pt x="148" y="44"/>
                </a:lnTo>
                <a:lnTo>
                  <a:pt x="148" y="44"/>
                </a:lnTo>
                <a:lnTo>
                  <a:pt x="160" y="34"/>
                </a:lnTo>
                <a:lnTo>
                  <a:pt x="160" y="34"/>
                </a:lnTo>
                <a:lnTo>
                  <a:pt x="160" y="22"/>
                </a:lnTo>
                <a:lnTo>
                  <a:pt x="158" y="14"/>
                </a:lnTo>
                <a:lnTo>
                  <a:pt x="156" y="10"/>
                </a:lnTo>
                <a:lnTo>
                  <a:pt x="156" y="10"/>
                </a:lnTo>
                <a:lnTo>
                  <a:pt x="152" y="2"/>
                </a:lnTo>
                <a:lnTo>
                  <a:pt x="146" y="0"/>
                </a:lnTo>
                <a:lnTo>
                  <a:pt x="146" y="12"/>
                </a:lnTo>
                <a:lnTo>
                  <a:pt x="126" y="8"/>
                </a:lnTo>
                <a:lnTo>
                  <a:pt x="116" y="14"/>
                </a:lnTo>
                <a:lnTo>
                  <a:pt x="114" y="14"/>
                </a:lnTo>
                <a:lnTo>
                  <a:pt x="114" y="14"/>
                </a:lnTo>
                <a:lnTo>
                  <a:pt x="72" y="14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直接连接符 46"/>
          <p:cNvSpPr/>
          <p:nvPr/>
        </p:nvSpPr>
        <p:spPr>
          <a:xfrm>
            <a:off x="6351480" y="4324320"/>
            <a:ext cx="1276560" cy="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文本框 48"/>
          <p:cNvSpPr/>
          <p:nvPr/>
        </p:nvSpPr>
        <p:spPr>
          <a:xfrm>
            <a:off x="6724800" y="4011480"/>
            <a:ext cx="5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山东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文本框 49"/>
          <p:cNvSpPr/>
          <p:nvPr/>
        </p:nvSpPr>
        <p:spPr>
          <a:xfrm>
            <a:off x="6321600" y="435600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2865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任意多边形 50"/>
          <p:cNvSpPr/>
          <p:nvPr/>
        </p:nvSpPr>
        <p:spPr>
          <a:xfrm>
            <a:off x="7737480" y="5621400"/>
            <a:ext cx="154080" cy="187200"/>
          </a:xfrm>
          <a:custGeom>
            <a:avLst/>
            <a:gdLst>
              <a:gd name="textAreaLeft" fmla="*/ 0 w 154080"/>
              <a:gd name="textAreaRight" fmla="*/ 154440 w 154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88741" h="348541">
                <a:moveTo>
                  <a:pt x="144371" y="49418"/>
                </a:moveTo>
                <a:cubicBezTo>
                  <a:pt x="91930" y="49418"/>
                  <a:pt x="49418" y="91930"/>
                  <a:pt x="49418" y="144371"/>
                </a:cubicBezTo>
                <a:cubicBezTo>
                  <a:pt x="49418" y="196811"/>
                  <a:pt x="91930" y="239323"/>
                  <a:pt x="144371" y="239323"/>
                </a:cubicBezTo>
                <a:cubicBezTo>
                  <a:pt x="196811" y="239323"/>
                  <a:pt x="239323" y="196811"/>
                  <a:pt x="239323" y="144371"/>
                </a:cubicBezTo>
                <a:cubicBezTo>
                  <a:pt x="239323" y="91930"/>
                  <a:pt x="196811" y="49418"/>
                  <a:pt x="144371" y="49418"/>
                </a:cubicBezTo>
                <a:close/>
                <a:moveTo>
                  <a:pt x="144371" y="0"/>
                </a:moveTo>
                <a:cubicBezTo>
                  <a:pt x="181318" y="-1"/>
                  <a:pt x="218266" y="14095"/>
                  <a:pt x="246456" y="42285"/>
                </a:cubicBezTo>
                <a:cubicBezTo>
                  <a:pt x="302836" y="98665"/>
                  <a:pt x="302836" y="190075"/>
                  <a:pt x="246456" y="246455"/>
                </a:cubicBezTo>
                <a:lnTo>
                  <a:pt x="144371" y="348541"/>
                </a:lnTo>
                <a:lnTo>
                  <a:pt x="42285" y="246455"/>
                </a:lnTo>
                <a:cubicBezTo>
                  <a:pt x="-14095" y="190075"/>
                  <a:pt x="-14095" y="98665"/>
                  <a:pt x="42285" y="42285"/>
                </a:cubicBezTo>
                <a:cubicBezTo>
                  <a:pt x="70475" y="14095"/>
                  <a:pt x="107423" y="-1"/>
                  <a:pt x="144371" y="0"/>
                </a:cubicBezTo>
                <a:close/>
              </a:path>
            </a:pathLst>
          </a:custGeom>
          <a:solidFill>
            <a:srgbClr val="dd3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直接连接符 51"/>
          <p:cNvSpPr/>
          <p:nvPr/>
        </p:nvSpPr>
        <p:spPr>
          <a:xfrm>
            <a:off x="5832360" y="5826240"/>
            <a:ext cx="2043360" cy="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文本框 52"/>
          <p:cNvSpPr/>
          <p:nvPr/>
        </p:nvSpPr>
        <p:spPr>
          <a:xfrm>
            <a:off x="6778800" y="5513400"/>
            <a:ext cx="5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广东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文本框 53"/>
          <p:cNvSpPr/>
          <p:nvPr/>
        </p:nvSpPr>
        <p:spPr>
          <a:xfrm>
            <a:off x="6375240" y="58561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b80"/>
                </a:solidFill>
                <a:latin typeface="Arial"/>
                <a:ea typeface="微软雅黑"/>
              </a:rPr>
              <a:t>13289</a:t>
            </a:r>
            <a:r>
              <a:rPr b="1" lang="zh-CN" sz="2400" spc="-1" strike="noStrike">
                <a:solidFill>
                  <a:srgbClr val="dd3b80"/>
                </a:solidFill>
                <a:latin typeface="Arial"/>
                <a:ea typeface="微软雅黑"/>
              </a:rPr>
              <a:t>万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任意多边形 55"/>
          <p:cNvSpPr/>
          <p:nvPr/>
        </p:nvSpPr>
        <p:spPr>
          <a:xfrm>
            <a:off x="1252440" y="3816360"/>
            <a:ext cx="154080" cy="187200"/>
          </a:xfrm>
          <a:custGeom>
            <a:avLst/>
            <a:gdLst>
              <a:gd name="textAreaLeft" fmla="*/ 0 w 154080"/>
              <a:gd name="textAreaRight" fmla="*/ 154440 w 1540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88741" h="348541">
                <a:moveTo>
                  <a:pt x="144371" y="49418"/>
                </a:moveTo>
                <a:cubicBezTo>
                  <a:pt x="91930" y="49418"/>
                  <a:pt x="49418" y="91930"/>
                  <a:pt x="49418" y="144371"/>
                </a:cubicBezTo>
                <a:cubicBezTo>
                  <a:pt x="49418" y="196811"/>
                  <a:pt x="91930" y="239323"/>
                  <a:pt x="144371" y="239323"/>
                </a:cubicBezTo>
                <a:cubicBezTo>
                  <a:pt x="196811" y="239323"/>
                  <a:pt x="239323" y="196811"/>
                  <a:pt x="239323" y="144371"/>
                </a:cubicBezTo>
                <a:cubicBezTo>
                  <a:pt x="239323" y="91930"/>
                  <a:pt x="196811" y="49418"/>
                  <a:pt x="144371" y="49418"/>
                </a:cubicBezTo>
                <a:close/>
                <a:moveTo>
                  <a:pt x="144371" y="0"/>
                </a:moveTo>
                <a:cubicBezTo>
                  <a:pt x="181318" y="-1"/>
                  <a:pt x="218266" y="14095"/>
                  <a:pt x="246456" y="42285"/>
                </a:cubicBezTo>
                <a:cubicBezTo>
                  <a:pt x="302836" y="98665"/>
                  <a:pt x="302836" y="190075"/>
                  <a:pt x="246456" y="246455"/>
                </a:cubicBezTo>
                <a:lnTo>
                  <a:pt x="144371" y="348541"/>
                </a:lnTo>
                <a:lnTo>
                  <a:pt x="42285" y="246455"/>
                </a:lnTo>
                <a:cubicBezTo>
                  <a:pt x="-14095" y="190075"/>
                  <a:pt x="-14095" y="98665"/>
                  <a:pt x="42285" y="42285"/>
                </a:cubicBezTo>
                <a:cubicBezTo>
                  <a:pt x="70475" y="14095"/>
                  <a:pt x="107423" y="-1"/>
                  <a:pt x="144371" y="0"/>
                </a:cubicBezTo>
                <a:close/>
              </a:path>
            </a:pathLst>
          </a:custGeom>
          <a:solidFill>
            <a:srgbClr val="e56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直接连接符 56"/>
          <p:cNvSpPr/>
          <p:nvPr/>
        </p:nvSpPr>
        <p:spPr>
          <a:xfrm>
            <a:off x="1252440" y="4021200"/>
            <a:ext cx="1600200" cy="144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" name="文本框 57"/>
          <p:cNvSpPr/>
          <p:nvPr/>
        </p:nvSpPr>
        <p:spPr>
          <a:xfrm>
            <a:off x="1720800" y="3708360"/>
            <a:ext cx="5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新疆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文本框 58"/>
          <p:cNvSpPr/>
          <p:nvPr/>
        </p:nvSpPr>
        <p:spPr>
          <a:xfrm>
            <a:off x="1316160" y="40528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389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KSO_GI1"/>
          <p:cNvSpPr/>
          <p:nvPr/>
        </p:nvSpPr>
        <p:spPr>
          <a:xfrm>
            <a:off x="630360" y="1447920"/>
            <a:ext cx="7883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65656"/>
                </a:solidFill>
                <a:latin typeface="幼圆"/>
                <a:ea typeface="幼圆"/>
              </a:rPr>
              <a:t>ABC</a:t>
            </a:r>
            <a:r>
              <a:rPr b="0" lang="zh-CN" sz="1400" spc="-1" strike="noStrike">
                <a:solidFill>
                  <a:srgbClr val="565656"/>
                </a:solidFill>
                <a:latin typeface="幼圆"/>
                <a:ea typeface="幼圆"/>
              </a:rPr>
              <a:t>集团预测，按汇率不变的情况计算，在全球经济复苏的带动下，</a:t>
            </a:r>
            <a:r>
              <a:rPr b="0" lang="en-US" sz="1400" spc="-1" strike="noStrike">
                <a:solidFill>
                  <a:srgbClr val="565656"/>
                </a:solidFill>
                <a:latin typeface="幼圆"/>
                <a:ea typeface="幼圆"/>
              </a:rPr>
              <a:t>2014</a:t>
            </a:r>
            <a:r>
              <a:rPr b="0" lang="zh-CN" sz="1400" spc="-1" strike="noStrike">
                <a:solidFill>
                  <a:srgbClr val="565656"/>
                </a:solidFill>
                <a:latin typeface="幼圆"/>
                <a:ea typeface="幼圆"/>
              </a:rPr>
              <a:t>年集团销售收入将以高个位数速率增长。集团作为今年巴西世界杯的官方合作伙伴，届时将成为曝光率最高的品牌。产品预计也会创下销售新高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任意多边形 47"/>
          <p:cNvSpPr/>
          <p:nvPr/>
        </p:nvSpPr>
        <p:spPr>
          <a:xfrm>
            <a:off x="2058840" y="4948200"/>
            <a:ext cx="155880" cy="187200"/>
          </a:xfrm>
          <a:custGeom>
            <a:avLst/>
            <a:gdLst>
              <a:gd name="textAreaLeft" fmla="*/ 0 w 155880"/>
              <a:gd name="textAreaRight" fmla="*/ 156240 w 1558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88741" h="348541">
                <a:moveTo>
                  <a:pt x="144371" y="49418"/>
                </a:moveTo>
                <a:cubicBezTo>
                  <a:pt x="91930" y="49418"/>
                  <a:pt x="49418" y="91930"/>
                  <a:pt x="49418" y="144371"/>
                </a:cubicBezTo>
                <a:cubicBezTo>
                  <a:pt x="49418" y="196811"/>
                  <a:pt x="91930" y="239323"/>
                  <a:pt x="144371" y="239323"/>
                </a:cubicBezTo>
                <a:cubicBezTo>
                  <a:pt x="196811" y="239323"/>
                  <a:pt x="239323" y="196811"/>
                  <a:pt x="239323" y="144371"/>
                </a:cubicBezTo>
                <a:cubicBezTo>
                  <a:pt x="239323" y="91930"/>
                  <a:pt x="196811" y="49418"/>
                  <a:pt x="144371" y="49418"/>
                </a:cubicBezTo>
                <a:close/>
                <a:moveTo>
                  <a:pt x="144371" y="0"/>
                </a:moveTo>
                <a:cubicBezTo>
                  <a:pt x="181318" y="-1"/>
                  <a:pt x="218266" y="14095"/>
                  <a:pt x="246456" y="42285"/>
                </a:cubicBezTo>
                <a:cubicBezTo>
                  <a:pt x="302836" y="98665"/>
                  <a:pt x="302836" y="190075"/>
                  <a:pt x="246456" y="246455"/>
                </a:cubicBezTo>
                <a:lnTo>
                  <a:pt x="144371" y="348541"/>
                </a:lnTo>
                <a:lnTo>
                  <a:pt x="42285" y="246455"/>
                </a:lnTo>
                <a:cubicBezTo>
                  <a:pt x="-14095" y="190075"/>
                  <a:pt x="-14095" y="98665"/>
                  <a:pt x="42285" y="42285"/>
                </a:cubicBezTo>
                <a:cubicBezTo>
                  <a:pt x="70475" y="14095"/>
                  <a:pt x="107423" y="-1"/>
                  <a:pt x="144371" y="0"/>
                </a:cubicBezTo>
                <a:close/>
              </a:path>
            </a:pathLst>
          </a:custGeom>
          <a:solidFill>
            <a:srgbClr val="f3b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直接连接符 54"/>
          <p:cNvSpPr/>
          <p:nvPr/>
        </p:nvSpPr>
        <p:spPr>
          <a:xfrm>
            <a:off x="2058840" y="5151600"/>
            <a:ext cx="2664000" cy="1440"/>
          </a:xfrm>
          <a:prstGeom prst="line">
            <a:avLst/>
          </a:prstGeom>
          <a:ln w="6480">
            <a:solidFill>
              <a:srgbClr val="b6b6b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文本框 59"/>
          <p:cNvSpPr/>
          <p:nvPr/>
        </p:nvSpPr>
        <p:spPr>
          <a:xfrm>
            <a:off x="2527200" y="4838760"/>
            <a:ext cx="5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四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文本框 61"/>
          <p:cNvSpPr/>
          <p:nvPr/>
        </p:nvSpPr>
        <p:spPr>
          <a:xfrm>
            <a:off x="2124000" y="518328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微软雅黑"/>
              </a:rPr>
              <a:t>210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微软雅黑"/>
              </a:rPr>
              <a:t>万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大中华区销售报告</a:t>
            </a: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-</a:t>
            </a:r>
            <a:r>
              <a:rPr b="1" lang="zh-CN" sz="3200" spc="-1" strike="noStrike">
                <a:solidFill>
                  <a:srgbClr val="8530b5"/>
                </a:solidFill>
                <a:latin typeface="微软雅黑"/>
              </a:rPr>
              <a:t>样板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transition spd="slow" advTm="2000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9922-CDAB-4E2E-BB6E-E3EF88FA2FA4}" type="slidenum">
              <a:rPr b="0" lang="zh-CN" sz="1200" spc="-1" strike="noStrike">
                <a:solidFill>
                  <a:srgbClr val="9c9c9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Freeform 16"/>
          <p:cNvSpPr/>
          <p:nvPr/>
        </p:nvSpPr>
        <p:spPr>
          <a:xfrm>
            <a:off x="3522600" y="4048200"/>
            <a:ext cx="1265400" cy="126828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1296" h="1298">
                <a:moveTo>
                  <a:pt x="1296" y="1298"/>
                </a:moveTo>
                <a:lnTo>
                  <a:pt x="0" y="1298"/>
                </a:lnTo>
                <a:lnTo>
                  <a:pt x="1296" y="0"/>
                </a:lnTo>
                <a:lnTo>
                  <a:pt x="1296" y="1298"/>
                </a:lnTo>
                <a:close/>
              </a:path>
            </a:pathLst>
          </a:custGeom>
          <a:solidFill>
            <a:srgbClr val="258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Freeform 17"/>
          <p:cNvSpPr/>
          <p:nvPr/>
        </p:nvSpPr>
        <p:spPr>
          <a:xfrm>
            <a:off x="4154400" y="4048200"/>
            <a:ext cx="633600" cy="1268280"/>
          </a:xfrm>
          <a:custGeom>
            <a:avLst/>
            <a:gdLst>
              <a:gd name="textAreaLeft" fmla="*/ 0 w 633600"/>
              <a:gd name="textAreaRight" fmla="*/ 633960 w 633600"/>
              <a:gd name="textAreaTop" fmla="*/ 0 h 1268280"/>
              <a:gd name="textAreaBottom" fmla="*/ 1268640 h 1268280"/>
            </a:gdLst>
            <a:ahLst/>
            <a:rect l="textAreaLeft" t="textAreaTop" r="textAreaRight" b="textAreaBottom"/>
            <a:pathLst>
              <a:path w="648" h="1298">
                <a:moveTo>
                  <a:pt x="648" y="1298"/>
                </a:moveTo>
                <a:lnTo>
                  <a:pt x="0" y="648"/>
                </a:lnTo>
                <a:lnTo>
                  <a:pt x="648" y="0"/>
                </a:lnTo>
                <a:lnTo>
                  <a:pt x="648" y="1298"/>
                </a:lnTo>
                <a:close/>
              </a:path>
            </a:pathLst>
          </a:custGeom>
          <a:solidFill>
            <a:srgbClr val="36a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不忘初心，方得始终。</a:t>
            </a:r>
            <a:r>
              <a:rPr b="1" lang="zh-CN" sz="1800" spc="-1" strike="noStrike">
                <a:solidFill>
                  <a:srgbClr val="a5a5a5"/>
                </a:solidFill>
                <a:latin typeface="微软雅黑"/>
              </a:rPr>
              <a:t>--</a:t>
            </a:r>
            <a:r>
              <a:rPr b="1" lang="zh-CN" sz="1800" spc="-1" strike="noStrike">
                <a:solidFill>
                  <a:srgbClr val="a5a5a5"/>
                </a:solidFill>
                <a:latin typeface="微软雅黑"/>
              </a:rPr>
              <a:t>林敏</a:t>
            </a:r>
            <a:endParaRPr b="1" lang="en-US" sz="18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3892680" y="2108160"/>
            <a:ext cx="895320" cy="1789200"/>
          </a:xfrm>
          <a:custGeom>
            <a:avLst/>
            <a:gdLst>
              <a:gd name="textAreaLeft" fmla="*/ 0 w 895320"/>
              <a:gd name="textAreaRight" fmla="*/ 895680 w 8953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917" h="1833">
                <a:moveTo>
                  <a:pt x="0" y="916"/>
                </a:moveTo>
                <a:lnTo>
                  <a:pt x="917" y="1833"/>
                </a:lnTo>
                <a:lnTo>
                  <a:pt x="917" y="0"/>
                </a:lnTo>
                <a:lnTo>
                  <a:pt x="0" y="916"/>
                </a:lnTo>
                <a:close/>
              </a:path>
            </a:pathLst>
          </a:custGeom>
          <a:solidFill>
            <a:srgbClr val="f4e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3892680" y="3000240"/>
            <a:ext cx="895320" cy="897120"/>
          </a:xfrm>
          <a:custGeom>
            <a:avLst/>
            <a:gdLst>
              <a:gd name="textAreaLeft" fmla="*/ 0 w 895320"/>
              <a:gd name="textAreaRight" fmla="*/ 895680 w 89532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917" h="919">
                <a:moveTo>
                  <a:pt x="0" y="2"/>
                </a:moveTo>
                <a:lnTo>
                  <a:pt x="917" y="919"/>
                </a:lnTo>
                <a:lnTo>
                  <a:pt x="917" y="0"/>
                </a:lnTo>
                <a:lnTo>
                  <a:pt x="0" y="2"/>
                </a:lnTo>
                <a:close/>
              </a:path>
            </a:pathLst>
          </a:custGeom>
          <a:solidFill>
            <a:srgbClr val="f5c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4890960" y="4003560"/>
            <a:ext cx="1265400" cy="126540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296" h="1296">
                <a:moveTo>
                  <a:pt x="1296" y="0"/>
                </a:moveTo>
                <a:lnTo>
                  <a:pt x="0" y="0"/>
                </a:lnTo>
                <a:lnTo>
                  <a:pt x="1296" y="1296"/>
                </a:lnTo>
                <a:lnTo>
                  <a:pt x="1296" y="0"/>
                </a:lnTo>
                <a:close/>
              </a:path>
            </a:pathLst>
          </a:custGeom>
          <a:solidFill>
            <a:srgbClr val="7c3d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Freeform 9"/>
          <p:cNvSpPr/>
          <p:nvPr/>
        </p:nvSpPr>
        <p:spPr>
          <a:xfrm>
            <a:off x="4890960" y="4003560"/>
            <a:ext cx="1265400" cy="633600"/>
          </a:xfrm>
          <a:custGeom>
            <a:avLst/>
            <a:gdLst>
              <a:gd name="textAreaLeft" fmla="*/ 0 w 1265400"/>
              <a:gd name="textAreaRight" fmla="*/ 1265760 w 126540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1296" h="648">
                <a:moveTo>
                  <a:pt x="1296" y="0"/>
                </a:moveTo>
                <a:lnTo>
                  <a:pt x="0" y="0"/>
                </a:lnTo>
                <a:lnTo>
                  <a:pt x="648" y="648"/>
                </a:lnTo>
                <a:lnTo>
                  <a:pt x="1296" y="0"/>
                </a:lnTo>
                <a:close/>
              </a:path>
            </a:pathLst>
          </a:custGeom>
          <a:solidFill>
            <a:srgbClr val="9274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Freeform 10"/>
          <p:cNvSpPr/>
          <p:nvPr/>
        </p:nvSpPr>
        <p:spPr>
          <a:xfrm>
            <a:off x="4890960" y="3049560"/>
            <a:ext cx="1791000" cy="89388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834" h="916">
                <a:moveTo>
                  <a:pt x="917" y="0"/>
                </a:moveTo>
                <a:lnTo>
                  <a:pt x="1834" y="916"/>
                </a:lnTo>
                <a:lnTo>
                  <a:pt x="0" y="916"/>
                </a:lnTo>
                <a:lnTo>
                  <a:pt x="917" y="0"/>
                </a:lnTo>
                <a:close/>
              </a:path>
            </a:pathLst>
          </a:custGeom>
          <a:solidFill>
            <a:srgbClr val="e54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Freeform 11"/>
          <p:cNvSpPr/>
          <p:nvPr/>
        </p:nvSpPr>
        <p:spPr>
          <a:xfrm>
            <a:off x="5786280" y="3049560"/>
            <a:ext cx="895680" cy="893880"/>
          </a:xfrm>
          <a:custGeom>
            <a:avLst/>
            <a:gdLst>
              <a:gd name="textAreaLeft" fmla="*/ 0 w 895680"/>
              <a:gd name="textAreaRight" fmla="*/ 896040 w 8956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917" h="916">
                <a:moveTo>
                  <a:pt x="0" y="0"/>
                </a:moveTo>
                <a:lnTo>
                  <a:pt x="917" y="916"/>
                </a:lnTo>
                <a:lnTo>
                  <a:pt x="0" y="916"/>
                </a:lnTo>
                <a:lnTo>
                  <a:pt x="0" y="0"/>
                </a:lnTo>
                <a:close/>
              </a:path>
            </a:pathLst>
          </a:custGeom>
          <a:solidFill>
            <a:srgbClr val="ed7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Freeform 12"/>
          <p:cNvSpPr/>
          <p:nvPr/>
        </p:nvSpPr>
        <p:spPr>
          <a:xfrm>
            <a:off x="4846680" y="2631960"/>
            <a:ext cx="1265040" cy="1265400"/>
          </a:xfrm>
          <a:custGeom>
            <a:avLst/>
            <a:gdLst>
              <a:gd name="textAreaLeft" fmla="*/ 0 w 1265040"/>
              <a:gd name="textAreaRight" fmla="*/ 1265400 w 126504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296" h="1295">
                <a:moveTo>
                  <a:pt x="0" y="0"/>
                </a:moveTo>
                <a:lnTo>
                  <a:pt x="1296" y="0"/>
                </a:lnTo>
                <a:lnTo>
                  <a:pt x="0" y="1295"/>
                </a:lnTo>
                <a:lnTo>
                  <a:pt x="0" y="0"/>
                </a:lnTo>
                <a:close/>
              </a:path>
            </a:pathLst>
          </a:custGeom>
          <a:solidFill>
            <a:srgbClr val="ee77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Freeform 13"/>
          <p:cNvSpPr/>
          <p:nvPr/>
        </p:nvSpPr>
        <p:spPr>
          <a:xfrm>
            <a:off x="4846680" y="2631960"/>
            <a:ext cx="1265040" cy="635040"/>
          </a:xfrm>
          <a:custGeom>
            <a:avLst/>
            <a:gdLst>
              <a:gd name="textAreaLeft" fmla="*/ 0 w 1265040"/>
              <a:gd name="textAreaRight" fmla="*/ 1265400 w 1265040"/>
              <a:gd name="textAreaTop" fmla="*/ 0 h 635040"/>
              <a:gd name="textAreaBottom" fmla="*/ 635400 h 635040"/>
            </a:gdLst>
            <a:ahLst/>
            <a:rect l="textAreaLeft" t="textAreaTop" r="textAreaRight" b="textAreaBottom"/>
            <a:pathLst>
              <a:path w="1296" h="650">
                <a:moveTo>
                  <a:pt x="0" y="0"/>
                </a:moveTo>
                <a:lnTo>
                  <a:pt x="1296" y="0"/>
                </a:lnTo>
                <a:lnTo>
                  <a:pt x="646" y="650"/>
                </a:lnTo>
                <a:lnTo>
                  <a:pt x="0" y="0"/>
                </a:lnTo>
                <a:close/>
              </a:path>
            </a:pathLst>
          </a:custGeom>
          <a:solidFill>
            <a:srgbClr val="f5a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Freeform 14"/>
          <p:cNvSpPr/>
          <p:nvPr/>
        </p:nvSpPr>
        <p:spPr>
          <a:xfrm>
            <a:off x="4846680" y="4048200"/>
            <a:ext cx="895320" cy="1789200"/>
          </a:xfrm>
          <a:custGeom>
            <a:avLst/>
            <a:gdLst>
              <a:gd name="textAreaLeft" fmla="*/ 0 w 895320"/>
              <a:gd name="textAreaRight" fmla="*/ 895680 w 895320"/>
              <a:gd name="textAreaTop" fmla="*/ 0 h 1789200"/>
              <a:gd name="textAreaBottom" fmla="*/ 1789560 h 1789200"/>
            </a:gdLst>
            <a:ahLst/>
            <a:rect l="textAreaLeft" t="textAreaTop" r="textAreaRight" b="textAreaBottom"/>
            <a:pathLst>
              <a:path w="917" h="1833">
                <a:moveTo>
                  <a:pt x="917" y="916"/>
                </a:moveTo>
                <a:lnTo>
                  <a:pt x="0" y="1833"/>
                </a:lnTo>
                <a:lnTo>
                  <a:pt x="0" y="0"/>
                </a:lnTo>
                <a:lnTo>
                  <a:pt x="917" y="916"/>
                </a:lnTo>
                <a:close/>
              </a:path>
            </a:pathLst>
          </a:custGeom>
          <a:solidFill>
            <a:srgbClr val="0f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Freeform 15"/>
          <p:cNvSpPr/>
          <p:nvPr/>
        </p:nvSpPr>
        <p:spPr>
          <a:xfrm>
            <a:off x="4846680" y="4048200"/>
            <a:ext cx="895320" cy="895320"/>
          </a:xfrm>
          <a:custGeom>
            <a:avLst/>
            <a:gdLst>
              <a:gd name="textAreaLeft" fmla="*/ 0 w 895320"/>
              <a:gd name="textAreaRight" fmla="*/ 895680 w 89532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917" h="916">
                <a:moveTo>
                  <a:pt x="917" y="916"/>
                </a:moveTo>
                <a:lnTo>
                  <a:pt x="0" y="916"/>
                </a:lnTo>
                <a:lnTo>
                  <a:pt x="0" y="0"/>
                </a:lnTo>
                <a:lnTo>
                  <a:pt x="917" y="916"/>
                </a:lnTo>
                <a:close/>
              </a:path>
            </a:pathLst>
          </a:custGeom>
          <a:solidFill>
            <a:srgbClr val="248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2951280" y="4003560"/>
            <a:ext cx="1788840" cy="895320"/>
          </a:xfrm>
          <a:custGeom>
            <a:avLst/>
            <a:gdLst>
              <a:gd name="textAreaLeft" fmla="*/ 0 w 1788840"/>
              <a:gd name="textAreaRight" fmla="*/ 1789200 w 178884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833" h="917">
                <a:moveTo>
                  <a:pt x="916" y="917"/>
                </a:moveTo>
                <a:lnTo>
                  <a:pt x="0" y="0"/>
                </a:lnTo>
                <a:lnTo>
                  <a:pt x="1833" y="0"/>
                </a:lnTo>
                <a:lnTo>
                  <a:pt x="916" y="917"/>
                </a:lnTo>
                <a:close/>
              </a:path>
            </a:pathLst>
          </a:custGeom>
          <a:solidFill>
            <a:srgbClr val="8e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Freeform 19"/>
          <p:cNvSpPr/>
          <p:nvPr/>
        </p:nvSpPr>
        <p:spPr>
          <a:xfrm>
            <a:off x="3844800" y="4003560"/>
            <a:ext cx="895320" cy="895320"/>
          </a:xfrm>
          <a:custGeom>
            <a:avLst/>
            <a:gdLst>
              <a:gd name="textAreaLeft" fmla="*/ 0 w 895320"/>
              <a:gd name="textAreaRight" fmla="*/ 895680 w 89532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917" h="917">
                <a:moveTo>
                  <a:pt x="0" y="917"/>
                </a:moveTo>
                <a:lnTo>
                  <a:pt x="0" y="0"/>
                </a:lnTo>
                <a:lnTo>
                  <a:pt x="917" y="0"/>
                </a:lnTo>
                <a:lnTo>
                  <a:pt x="0" y="917"/>
                </a:lnTo>
                <a:close/>
              </a:path>
            </a:pathLst>
          </a:custGeom>
          <a:solidFill>
            <a:srgbClr val="68a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Freeform 20"/>
          <p:cNvSpPr/>
          <p:nvPr/>
        </p:nvSpPr>
        <p:spPr>
          <a:xfrm>
            <a:off x="3470400" y="2679840"/>
            <a:ext cx="1266840" cy="12636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299" h="1295">
                <a:moveTo>
                  <a:pt x="0" y="1295"/>
                </a:moveTo>
                <a:lnTo>
                  <a:pt x="0" y="0"/>
                </a:lnTo>
                <a:lnTo>
                  <a:pt x="1299" y="1295"/>
                </a:lnTo>
                <a:lnTo>
                  <a:pt x="0" y="1295"/>
                </a:lnTo>
                <a:close/>
              </a:path>
            </a:pathLst>
          </a:custGeom>
          <a:solidFill>
            <a:srgbClr val="c3d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Freeform 21"/>
          <p:cNvSpPr/>
          <p:nvPr/>
        </p:nvSpPr>
        <p:spPr>
          <a:xfrm>
            <a:off x="3470400" y="3311640"/>
            <a:ext cx="1266840" cy="63180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299" h="647">
                <a:moveTo>
                  <a:pt x="0" y="647"/>
                </a:moveTo>
                <a:lnTo>
                  <a:pt x="651" y="0"/>
                </a:lnTo>
                <a:lnTo>
                  <a:pt x="1299" y="647"/>
                </a:lnTo>
                <a:lnTo>
                  <a:pt x="0" y="647"/>
                </a:lnTo>
                <a:close/>
              </a:path>
            </a:pathLst>
          </a:custGeom>
          <a:solidFill>
            <a:srgbClr val="a7c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Freeform 910"/>
          <p:cNvSpPr/>
          <p:nvPr/>
        </p:nvSpPr>
        <p:spPr>
          <a:xfrm>
            <a:off x="5348160" y="3551400"/>
            <a:ext cx="279360" cy="280800"/>
          </a:xfrm>
          <a:custGeom>
            <a:avLst/>
            <a:gdLst>
              <a:gd name="textAreaLeft" fmla="*/ 0 w 279360"/>
              <a:gd name="textAreaRight" fmla="*/ 279720 w 2793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80" h="283">
                <a:moveTo>
                  <a:pt x="140" y="0"/>
                </a:moveTo>
                <a:cubicBezTo>
                  <a:pt x="68" y="0"/>
                  <a:pt x="9" y="54"/>
                  <a:pt x="0" y="122"/>
                </a:cubicBezTo>
                <a:cubicBezTo>
                  <a:pt x="7" y="112"/>
                  <a:pt x="20" y="104"/>
                  <a:pt x="34" y="104"/>
                </a:cubicBezTo>
                <a:cubicBezTo>
                  <a:pt x="50" y="104"/>
                  <a:pt x="63" y="112"/>
                  <a:pt x="70" y="124"/>
                </a:cubicBezTo>
                <a:cubicBezTo>
                  <a:pt x="76" y="113"/>
                  <a:pt x="89" y="104"/>
                  <a:pt x="105" y="104"/>
                </a:cubicBezTo>
                <a:cubicBezTo>
                  <a:pt x="117" y="104"/>
                  <a:pt x="128" y="110"/>
                  <a:pt x="135" y="117"/>
                </a:cubicBezTo>
                <a:cubicBezTo>
                  <a:pt x="135" y="194"/>
                  <a:pt x="135" y="194"/>
                  <a:pt x="135" y="194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9" y="194"/>
                  <a:pt x="129" y="208"/>
                  <a:pt x="129" y="222"/>
                </a:cubicBezTo>
                <a:cubicBezTo>
                  <a:pt x="129" y="236"/>
                  <a:pt x="129" y="250"/>
                  <a:pt x="129" y="250"/>
                </a:cubicBezTo>
                <a:cubicBezTo>
                  <a:pt x="129" y="252"/>
                  <a:pt x="129" y="256"/>
                  <a:pt x="127" y="259"/>
                </a:cubicBezTo>
                <a:cubicBezTo>
                  <a:pt x="125" y="262"/>
                  <a:pt x="122" y="264"/>
                  <a:pt x="117" y="264"/>
                </a:cubicBezTo>
                <a:cubicBezTo>
                  <a:pt x="116" y="264"/>
                  <a:pt x="115" y="264"/>
                  <a:pt x="113" y="264"/>
                </a:cubicBezTo>
                <a:cubicBezTo>
                  <a:pt x="111" y="263"/>
                  <a:pt x="109" y="262"/>
                  <a:pt x="107" y="261"/>
                </a:cubicBezTo>
                <a:cubicBezTo>
                  <a:pt x="106" y="259"/>
                  <a:pt x="106" y="258"/>
                  <a:pt x="105" y="257"/>
                </a:cubicBezTo>
                <a:cubicBezTo>
                  <a:pt x="104" y="255"/>
                  <a:pt x="104" y="253"/>
                  <a:pt x="104" y="251"/>
                </a:cubicBezTo>
                <a:cubicBezTo>
                  <a:pt x="104" y="248"/>
                  <a:pt x="103" y="245"/>
                  <a:pt x="101" y="244"/>
                </a:cubicBezTo>
                <a:cubicBezTo>
                  <a:pt x="99" y="242"/>
                  <a:pt x="96" y="240"/>
                  <a:pt x="93" y="240"/>
                </a:cubicBezTo>
                <a:cubicBezTo>
                  <a:pt x="90" y="240"/>
                  <a:pt x="88" y="242"/>
                  <a:pt x="86" y="243"/>
                </a:cubicBezTo>
                <a:cubicBezTo>
                  <a:pt x="84" y="245"/>
                  <a:pt x="83" y="248"/>
                  <a:pt x="83" y="251"/>
                </a:cubicBezTo>
                <a:cubicBezTo>
                  <a:pt x="83" y="256"/>
                  <a:pt x="83" y="260"/>
                  <a:pt x="85" y="264"/>
                </a:cubicBezTo>
                <a:cubicBezTo>
                  <a:pt x="86" y="267"/>
                  <a:pt x="88" y="271"/>
                  <a:pt x="91" y="274"/>
                </a:cubicBezTo>
                <a:cubicBezTo>
                  <a:pt x="96" y="278"/>
                  <a:pt x="102" y="281"/>
                  <a:pt x="107" y="282"/>
                </a:cubicBezTo>
                <a:cubicBezTo>
                  <a:pt x="112" y="283"/>
                  <a:pt x="116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17" y="283"/>
                  <a:pt x="117" y="283"/>
                  <a:pt x="117" y="283"/>
                </a:cubicBezTo>
                <a:cubicBezTo>
                  <a:pt x="129" y="283"/>
                  <a:pt x="137" y="278"/>
                  <a:pt x="143" y="272"/>
                </a:cubicBezTo>
                <a:cubicBezTo>
                  <a:pt x="148" y="265"/>
                  <a:pt x="150" y="257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50"/>
                  <a:pt x="151" y="250"/>
                  <a:pt x="151" y="250"/>
                </a:cubicBezTo>
                <a:cubicBezTo>
                  <a:pt x="151" y="222"/>
                  <a:pt x="151" y="222"/>
                  <a:pt x="151" y="222"/>
                </a:cubicBezTo>
                <a:cubicBezTo>
                  <a:pt x="151" y="194"/>
                  <a:pt x="151" y="194"/>
                  <a:pt x="151" y="194"/>
                </a:cubicBezTo>
                <a:cubicBezTo>
                  <a:pt x="145" y="194"/>
                  <a:pt x="145" y="194"/>
                  <a:pt x="145" y="194"/>
                </a:cubicBezTo>
                <a:cubicBezTo>
                  <a:pt x="145" y="117"/>
                  <a:pt x="145" y="117"/>
                  <a:pt x="145" y="117"/>
                </a:cubicBezTo>
                <a:cubicBezTo>
                  <a:pt x="152" y="109"/>
                  <a:pt x="163" y="104"/>
                  <a:pt x="175" y="105"/>
                </a:cubicBezTo>
                <a:cubicBezTo>
                  <a:pt x="191" y="105"/>
                  <a:pt x="204" y="113"/>
                  <a:pt x="210" y="124"/>
                </a:cubicBezTo>
                <a:cubicBezTo>
                  <a:pt x="217" y="113"/>
                  <a:pt x="230" y="105"/>
                  <a:pt x="246" y="105"/>
                </a:cubicBezTo>
                <a:cubicBezTo>
                  <a:pt x="260" y="105"/>
                  <a:pt x="273" y="112"/>
                  <a:pt x="280" y="123"/>
                </a:cubicBezTo>
                <a:cubicBezTo>
                  <a:pt x="271" y="54"/>
                  <a:pt x="212" y="0"/>
                  <a:pt x="14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Freeform 307"/>
          <p:cNvSpPr/>
          <p:nvPr/>
        </p:nvSpPr>
        <p:spPr>
          <a:xfrm>
            <a:off x="4516560" y="4336920"/>
            <a:ext cx="210960" cy="309600"/>
          </a:xfrm>
          <a:custGeom>
            <a:avLst/>
            <a:gdLst>
              <a:gd name="textAreaLeft" fmla="*/ 0 w 210960"/>
              <a:gd name="textAreaRight" fmla="*/ 211320 w 2109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243" h="354">
                <a:moveTo>
                  <a:pt x="128" y="0"/>
                </a:moveTo>
                <a:cubicBezTo>
                  <a:pt x="136" y="1"/>
                  <a:pt x="144" y="2"/>
                  <a:pt x="151" y="4"/>
                </a:cubicBezTo>
                <a:cubicBezTo>
                  <a:pt x="172" y="9"/>
                  <a:pt x="190" y="20"/>
                  <a:pt x="205" y="35"/>
                </a:cubicBezTo>
                <a:cubicBezTo>
                  <a:pt x="221" y="51"/>
                  <a:pt x="231" y="69"/>
                  <a:pt x="236" y="91"/>
                </a:cubicBezTo>
                <a:cubicBezTo>
                  <a:pt x="243" y="121"/>
                  <a:pt x="240" y="149"/>
                  <a:pt x="225" y="177"/>
                </a:cubicBezTo>
                <a:cubicBezTo>
                  <a:pt x="221" y="185"/>
                  <a:pt x="216" y="194"/>
                  <a:pt x="212" y="202"/>
                </a:cubicBezTo>
                <a:cubicBezTo>
                  <a:pt x="206" y="214"/>
                  <a:pt x="203" y="226"/>
                  <a:pt x="202" y="238"/>
                </a:cubicBezTo>
                <a:cubicBezTo>
                  <a:pt x="202" y="240"/>
                  <a:pt x="201" y="241"/>
                  <a:pt x="201" y="243"/>
                </a:cubicBezTo>
                <a:cubicBezTo>
                  <a:pt x="200" y="246"/>
                  <a:pt x="200" y="255"/>
                  <a:pt x="200" y="258"/>
                </a:cubicBezTo>
                <a:cubicBezTo>
                  <a:pt x="202" y="264"/>
                  <a:pt x="201" y="270"/>
                  <a:pt x="199" y="276"/>
                </a:cubicBezTo>
                <a:cubicBezTo>
                  <a:pt x="198" y="278"/>
                  <a:pt x="198" y="279"/>
                  <a:pt x="199" y="281"/>
                </a:cubicBezTo>
                <a:cubicBezTo>
                  <a:pt x="205" y="297"/>
                  <a:pt x="198" y="314"/>
                  <a:pt x="183" y="322"/>
                </a:cubicBezTo>
                <a:cubicBezTo>
                  <a:pt x="181" y="322"/>
                  <a:pt x="180" y="324"/>
                  <a:pt x="180" y="325"/>
                </a:cubicBezTo>
                <a:cubicBezTo>
                  <a:pt x="173" y="342"/>
                  <a:pt x="161" y="353"/>
                  <a:pt x="143" y="354"/>
                </a:cubicBezTo>
                <a:cubicBezTo>
                  <a:pt x="127" y="354"/>
                  <a:pt x="111" y="354"/>
                  <a:pt x="96" y="353"/>
                </a:cubicBezTo>
                <a:cubicBezTo>
                  <a:pt x="80" y="352"/>
                  <a:pt x="69" y="342"/>
                  <a:pt x="63" y="328"/>
                </a:cubicBezTo>
                <a:cubicBezTo>
                  <a:pt x="62" y="324"/>
                  <a:pt x="60" y="322"/>
                  <a:pt x="57" y="321"/>
                </a:cubicBezTo>
                <a:cubicBezTo>
                  <a:pt x="43" y="313"/>
                  <a:pt x="37" y="296"/>
                  <a:pt x="43" y="281"/>
                </a:cubicBezTo>
                <a:cubicBezTo>
                  <a:pt x="44" y="279"/>
                  <a:pt x="44" y="278"/>
                  <a:pt x="43" y="276"/>
                </a:cubicBezTo>
                <a:cubicBezTo>
                  <a:pt x="40" y="268"/>
                  <a:pt x="40" y="261"/>
                  <a:pt x="43" y="253"/>
                </a:cubicBezTo>
                <a:cubicBezTo>
                  <a:pt x="43" y="252"/>
                  <a:pt x="43" y="250"/>
                  <a:pt x="43" y="248"/>
                </a:cubicBezTo>
                <a:cubicBezTo>
                  <a:pt x="41" y="242"/>
                  <a:pt x="40" y="237"/>
                  <a:pt x="39" y="231"/>
                </a:cubicBezTo>
                <a:cubicBezTo>
                  <a:pt x="37" y="218"/>
                  <a:pt x="32" y="206"/>
                  <a:pt x="26" y="195"/>
                </a:cubicBezTo>
                <a:cubicBezTo>
                  <a:pt x="21" y="184"/>
                  <a:pt x="15" y="174"/>
                  <a:pt x="10" y="163"/>
                </a:cubicBezTo>
                <a:cubicBezTo>
                  <a:pt x="2" y="143"/>
                  <a:pt x="0" y="121"/>
                  <a:pt x="4" y="100"/>
                </a:cubicBezTo>
                <a:cubicBezTo>
                  <a:pt x="11" y="57"/>
                  <a:pt x="35" y="27"/>
                  <a:pt x="74" y="10"/>
                </a:cubicBezTo>
                <a:cubicBezTo>
                  <a:pt x="86" y="4"/>
                  <a:pt x="98" y="1"/>
                  <a:pt x="111" y="1"/>
                </a:cubicBezTo>
                <a:cubicBezTo>
                  <a:pt x="112" y="0"/>
                  <a:pt x="113" y="0"/>
                  <a:pt x="114" y="0"/>
                </a:cubicBezTo>
                <a:lnTo>
                  <a:pt x="128" y="0"/>
                </a:lnTo>
                <a:close/>
                <a:moveTo>
                  <a:pt x="121" y="245"/>
                </a:moveTo>
                <a:cubicBezTo>
                  <a:pt x="136" y="245"/>
                  <a:pt x="151" y="245"/>
                  <a:pt x="167" y="245"/>
                </a:cubicBezTo>
                <a:cubicBezTo>
                  <a:pt x="176" y="245"/>
                  <a:pt x="179" y="242"/>
                  <a:pt x="180" y="233"/>
                </a:cubicBezTo>
                <a:cubicBezTo>
                  <a:pt x="182" y="223"/>
                  <a:pt x="184" y="213"/>
                  <a:pt x="187" y="203"/>
                </a:cubicBezTo>
                <a:cubicBezTo>
                  <a:pt x="192" y="191"/>
                  <a:pt x="199" y="180"/>
                  <a:pt x="205" y="168"/>
                </a:cubicBezTo>
                <a:cubicBezTo>
                  <a:pt x="212" y="156"/>
                  <a:pt x="216" y="143"/>
                  <a:pt x="217" y="128"/>
                </a:cubicBezTo>
                <a:cubicBezTo>
                  <a:pt x="220" y="94"/>
                  <a:pt x="208" y="66"/>
                  <a:pt x="182" y="44"/>
                </a:cubicBezTo>
                <a:cubicBezTo>
                  <a:pt x="149" y="17"/>
                  <a:pt x="106" y="15"/>
                  <a:pt x="70" y="37"/>
                </a:cubicBezTo>
                <a:cubicBezTo>
                  <a:pt x="35" y="58"/>
                  <a:pt x="19" y="98"/>
                  <a:pt x="26" y="138"/>
                </a:cubicBezTo>
                <a:cubicBezTo>
                  <a:pt x="28" y="152"/>
                  <a:pt x="35" y="165"/>
                  <a:pt x="42" y="177"/>
                </a:cubicBezTo>
                <a:cubicBezTo>
                  <a:pt x="52" y="195"/>
                  <a:pt x="60" y="214"/>
                  <a:pt x="62" y="235"/>
                </a:cubicBezTo>
                <a:cubicBezTo>
                  <a:pt x="62" y="242"/>
                  <a:pt x="66" y="245"/>
                  <a:pt x="73" y="245"/>
                </a:cubicBezTo>
                <a:cubicBezTo>
                  <a:pt x="89" y="245"/>
                  <a:pt x="105" y="245"/>
                  <a:pt x="121" y="245"/>
                </a:cubicBezTo>
                <a:moveTo>
                  <a:pt x="121" y="254"/>
                </a:moveTo>
                <a:cubicBezTo>
                  <a:pt x="105" y="254"/>
                  <a:pt x="89" y="254"/>
                  <a:pt x="74" y="254"/>
                </a:cubicBezTo>
                <a:cubicBezTo>
                  <a:pt x="69" y="254"/>
                  <a:pt x="65" y="256"/>
                  <a:pt x="64" y="260"/>
                </a:cubicBezTo>
                <a:cubicBezTo>
                  <a:pt x="61" y="267"/>
                  <a:pt x="66" y="274"/>
                  <a:pt x="74" y="274"/>
                </a:cubicBezTo>
                <a:cubicBezTo>
                  <a:pt x="96" y="274"/>
                  <a:pt x="118" y="274"/>
                  <a:pt x="140" y="274"/>
                </a:cubicBezTo>
                <a:cubicBezTo>
                  <a:pt x="149" y="274"/>
                  <a:pt x="159" y="274"/>
                  <a:pt x="169" y="274"/>
                </a:cubicBezTo>
                <a:cubicBezTo>
                  <a:pt x="173" y="274"/>
                  <a:pt x="176" y="272"/>
                  <a:pt x="178" y="268"/>
                </a:cubicBezTo>
                <a:cubicBezTo>
                  <a:pt x="181" y="261"/>
                  <a:pt x="176" y="254"/>
                  <a:pt x="169" y="254"/>
                </a:cubicBezTo>
                <a:cubicBezTo>
                  <a:pt x="153" y="254"/>
                  <a:pt x="137" y="254"/>
                  <a:pt x="121" y="254"/>
                </a:cubicBezTo>
                <a:moveTo>
                  <a:pt x="121" y="283"/>
                </a:moveTo>
                <a:cubicBezTo>
                  <a:pt x="105" y="283"/>
                  <a:pt x="89" y="283"/>
                  <a:pt x="74" y="283"/>
                </a:cubicBezTo>
                <a:cubicBezTo>
                  <a:pt x="69" y="283"/>
                  <a:pt x="65" y="285"/>
                  <a:pt x="64" y="289"/>
                </a:cubicBezTo>
                <a:cubicBezTo>
                  <a:pt x="61" y="296"/>
                  <a:pt x="66" y="303"/>
                  <a:pt x="74" y="303"/>
                </a:cubicBezTo>
                <a:cubicBezTo>
                  <a:pt x="96" y="303"/>
                  <a:pt x="118" y="303"/>
                  <a:pt x="140" y="303"/>
                </a:cubicBezTo>
                <a:cubicBezTo>
                  <a:pt x="149" y="303"/>
                  <a:pt x="159" y="303"/>
                  <a:pt x="169" y="303"/>
                </a:cubicBezTo>
                <a:cubicBezTo>
                  <a:pt x="173" y="303"/>
                  <a:pt x="176" y="301"/>
                  <a:pt x="178" y="297"/>
                </a:cubicBezTo>
                <a:cubicBezTo>
                  <a:pt x="181" y="290"/>
                  <a:pt x="176" y="283"/>
                  <a:pt x="169" y="283"/>
                </a:cubicBezTo>
                <a:cubicBezTo>
                  <a:pt x="153" y="283"/>
                  <a:pt x="137" y="283"/>
                  <a:pt x="121" y="283"/>
                </a:cubicBezTo>
                <a:moveTo>
                  <a:pt x="82" y="313"/>
                </a:moveTo>
                <a:cubicBezTo>
                  <a:pt x="82" y="323"/>
                  <a:pt x="90" y="331"/>
                  <a:pt x="100" y="332"/>
                </a:cubicBezTo>
                <a:cubicBezTo>
                  <a:pt x="114" y="332"/>
                  <a:pt x="128" y="332"/>
                  <a:pt x="142" y="332"/>
                </a:cubicBezTo>
                <a:cubicBezTo>
                  <a:pt x="152" y="331"/>
                  <a:pt x="159" y="323"/>
                  <a:pt x="159" y="313"/>
                </a:cubicBezTo>
                <a:lnTo>
                  <a:pt x="82" y="3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Freeform 266"/>
          <p:cNvSpPr/>
          <p:nvPr/>
        </p:nvSpPr>
        <p:spPr>
          <a:xfrm>
            <a:off x="4035600" y="4110120"/>
            <a:ext cx="264960" cy="290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83" h="200">
                <a:moveTo>
                  <a:pt x="62" y="22"/>
                </a:moveTo>
                <a:cubicBezTo>
                  <a:pt x="56" y="15"/>
                  <a:pt x="46" y="11"/>
                  <a:pt x="36" y="11"/>
                </a:cubicBezTo>
                <a:cubicBezTo>
                  <a:pt x="16" y="11"/>
                  <a:pt x="0" y="28"/>
                  <a:pt x="0" y="48"/>
                </a:cubicBezTo>
                <a:cubicBezTo>
                  <a:pt x="0" y="57"/>
                  <a:pt x="3" y="66"/>
                  <a:pt x="9" y="73"/>
                </a:cubicBezTo>
                <a:cubicBezTo>
                  <a:pt x="18" y="49"/>
                  <a:pt x="38" y="30"/>
                  <a:pt x="62" y="22"/>
                </a:cubicBezTo>
                <a:close/>
                <a:moveTo>
                  <a:pt x="147" y="11"/>
                </a:moveTo>
                <a:cubicBezTo>
                  <a:pt x="136" y="11"/>
                  <a:pt x="126" y="16"/>
                  <a:pt x="119" y="23"/>
                </a:cubicBezTo>
                <a:cubicBezTo>
                  <a:pt x="143" y="32"/>
                  <a:pt x="162" y="52"/>
                  <a:pt x="170" y="76"/>
                </a:cubicBezTo>
                <a:cubicBezTo>
                  <a:pt x="178" y="69"/>
                  <a:pt x="183" y="59"/>
                  <a:pt x="183" y="48"/>
                </a:cubicBezTo>
                <a:cubicBezTo>
                  <a:pt x="183" y="28"/>
                  <a:pt x="167" y="11"/>
                  <a:pt x="147" y="11"/>
                </a:cubicBezTo>
                <a:close/>
                <a:moveTo>
                  <a:pt x="169" y="103"/>
                </a:moveTo>
                <a:cubicBezTo>
                  <a:pt x="169" y="61"/>
                  <a:pt x="137" y="26"/>
                  <a:pt x="96" y="23"/>
                </a:cubicBezTo>
                <a:cubicBezTo>
                  <a:pt x="96" y="6"/>
                  <a:pt x="96" y="6"/>
                  <a:pt x="96" y="6"/>
                </a:cubicBezTo>
                <a:cubicBezTo>
                  <a:pt x="98" y="6"/>
                  <a:pt x="98" y="6"/>
                  <a:pt x="98" y="6"/>
                </a:cubicBezTo>
                <a:cubicBezTo>
                  <a:pt x="100" y="6"/>
                  <a:pt x="102" y="5"/>
                  <a:pt x="102" y="3"/>
                </a:cubicBezTo>
                <a:cubicBezTo>
                  <a:pt x="102" y="1"/>
                  <a:pt x="100" y="0"/>
                  <a:pt x="98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0" y="0"/>
                  <a:pt x="78" y="1"/>
                  <a:pt x="78" y="3"/>
                </a:cubicBezTo>
                <a:cubicBezTo>
                  <a:pt x="78" y="5"/>
                  <a:pt x="80" y="6"/>
                  <a:pt x="81" y="6"/>
                </a:cubicBezTo>
                <a:cubicBezTo>
                  <a:pt x="84" y="6"/>
                  <a:pt x="84" y="6"/>
                  <a:pt x="84" y="6"/>
                </a:cubicBezTo>
                <a:cubicBezTo>
                  <a:pt x="84" y="23"/>
                  <a:pt x="84" y="23"/>
                  <a:pt x="84" y="23"/>
                </a:cubicBezTo>
                <a:cubicBezTo>
                  <a:pt x="42" y="25"/>
                  <a:pt x="9" y="60"/>
                  <a:pt x="9" y="103"/>
                </a:cubicBezTo>
                <a:cubicBezTo>
                  <a:pt x="9" y="127"/>
                  <a:pt x="20" y="150"/>
                  <a:pt x="38" y="164"/>
                </a:cubicBezTo>
                <a:cubicBezTo>
                  <a:pt x="29" y="190"/>
                  <a:pt x="29" y="190"/>
                  <a:pt x="29" y="190"/>
                </a:cubicBezTo>
                <a:cubicBezTo>
                  <a:pt x="28" y="194"/>
                  <a:pt x="30" y="197"/>
                  <a:pt x="33" y="198"/>
                </a:cubicBezTo>
                <a:cubicBezTo>
                  <a:pt x="35" y="199"/>
                  <a:pt x="35" y="199"/>
                  <a:pt x="35" y="199"/>
                </a:cubicBezTo>
                <a:cubicBezTo>
                  <a:pt x="38" y="200"/>
                  <a:pt x="41" y="199"/>
                  <a:pt x="43" y="196"/>
                </a:cubicBezTo>
                <a:cubicBezTo>
                  <a:pt x="53" y="174"/>
                  <a:pt x="53" y="174"/>
                  <a:pt x="53" y="174"/>
                </a:cubicBezTo>
                <a:cubicBezTo>
                  <a:pt x="64" y="180"/>
                  <a:pt x="76" y="183"/>
                  <a:pt x="89" y="183"/>
                </a:cubicBezTo>
                <a:cubicBezTo>
                  <a:pt x="102" y="183"/>
                  <a:pt x="114" y="180"/>
                  <a:pt x="125" y="174"/>
                </a:cubicBezTo>
                <a:cubicBezTo>
                  <a:pt x="136" y="196"/>
                  <a:pt x="136" y="196"/>
                  <a:pt x="136" y="196"/>
                </a:cubicBezTo>
                <a:cubicBezTo>
                  <a:pt x="137" y="199"/>
                  <a:pt x="141" y="200"/>
                  <a:pt x="144" y="199"/>
                </a:cubicBezTo>
                <a:cubicBezTo>
                  <a:pt x="146" y="198"/>
                  <a:pt x="146" y="198"/>
                  <a:pt x="146" y="198"/>
                </a:cubicBezTo>
                <a:cubicBezTo>
                  <a:pt x="149" y="197"/>
                  <a:pt x="150" y="194"/>
                  <a:pt x="149" y="190"/>
                </a:cubicBezTo>
                <a:cubicBezTo>
                  <a:pt x="141" y="164"/>
                  <a:pt x="141" y="164"/>
                  <a:pt x="141" y="164"/>
                </a:cubicBezTo>
                <a:cubicBezTo>
                  <a:pt x="158" y="149"/>
                  <a:pt x="169" y="127"/>
                  <a:pt x="169" y="103"/>
                </a:cubicBezTo>
                <a:close/>
                <a:moveTo>
                  <a:pt x="89" y="167"/>
                </a:moveTo>
                <a:cubicBezTo>
                  <a:pt x="54" y="167"/>
                  <a:pt x="25" y="138"/>
                  <a:pt x="25" y="103"/>
                </a:cubicBezTo>
                <a:cubicBezTo>
                  <a:pt x="25" y="67"/>
                  <a:pt x="54" y="39"/>
                  <a:pt x="89" y="39"/>
                </a:cubicBezTo>
                <a:cubicBezTo>
                  <a:pt x="124" y="39"/>
                  <a:pt x="153" y="67"/>
                  <a:pt x="153" y="103"/>
                </a:cubicBezTo>
                <a:cubicBezTo>
                  <a:pt x="153" y="138"/>
                  <a:pt x="124" y="167"/>
                  <a:pt x="89" y="167"/>
                </a:cubicBezTo>
                <a:close/>
                <a:moveTo>
                  <a:pt x="97" y="111"/>
                </a:moveTo>
                <a:cubicBezTo>
                  <a:pt x="99" y="109"/>
                  <a:pt x="100" y="106"/>
                  <a:pt x="100" y="103"/>
                </a:cubicBezTo>
                <a:cubicBezTo>
                  <a:pt x="100" y="97"/>
                  <a:pt x="96" y="93"/>
                  <a:pt x="91" y="92"/>
                </a:cubicBezTo>
                <a:cubicBezTo>
                  <a:pt x="91" y="55"/>
                  <a:pt x="91" y="55"/>
                  <a:pt x="91" y="55"/>
                </a:cubicBezTo>
                <a:cubicBezTo>
                  <a:pt x="91" y="54"/>
                  <a:pt x="90" y="53"/>
                  <a:pt x="89" y="53"/>
                </a:cubicBezTo>
                <a:cubicBezTo>
                  <a:pt x="88" y="53"/>
                  <a:pt x="87" y="54"/>
                  <a:pt x="87" y="55"/>
                </a:cubicBezTo>
                <a:cubicBezTo>
                  <a:pt x="87" y="92"/>
                  <a:pt x="87" y="92"/>
                  <a:pt x="87" y="92"/>
                </a:cubicBezTo>
                <a:cubicBezTo>
                  <a:pt x="82" y="93"/>
                  <a:pt x="78" y="97"/>
                  <a:pt x="78" y="103"/>
                </a:cubicBezTo>
                <a:cubicBezTo>
                  <a:pt x="78" y="109"/>
                  <a:pt x="83" y="114"/>
                  <a:pt x="89" y="114"/>
                </a:cubicBezTo>
                <a:cubicBezTo>
                  <a:pt x="90" y="114"/>
                  <a:pt x="92" y="114"/>
                  <a:pt x="93" y="113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05" y="132"/>
                  <a:pt x="106" y="133"/>
                  <a:pt x="107" y="132"/>
                </a:cubicBezTo>
                <a:cubicBezTo>
                  <a:pt x="108" y="131"/>
                  <a:pt x="109" y="130"/>
                  <a:pt x="108" y="129"/>
                </a:cubicBezTo>
                <a:lnTo>
                  <a:pt x="97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任意多边形 54"/>
          <p:cNvSpPr/>
          <p:nvPr/>
        </p:nvSpPr>
        <p:spPr>
          <a:xfrm>
            <a:off x="4014720" y="3581280"/>
            <a:ext cx="284400" cy="246240"/>
          </a:xfrm>
          <a:custGeom>
            <a:avLst/>
            <a:gdLst>
              <a:gd name="textAreaLeft" fmla="*/ 0 w 284400"/>
              <a:gd name="textAreaRight" fmla="*/ 284760 w 2844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84274" h="245465">
                <a:moveTo>
                  <a:pt x="151847" y="38839"/>
                </a:moveTo>
                <a:lnTo>
                  <a:pt x="250725" y="94639"/>
                </a:lnTo>
                <a:cubicBezTo>
                  <a:pt x="257354" y="97954"/>
                  <a:pt x="262325" y="106794"/>
                  <a:pt x="262325" y="113976"/>
                </a:cubicBezTo>
                <a:cubicBezTo>
                  <a:pt x="262325" y="113976"/>
                  <a:pt x="262325" y="113976"/>
                  <a:pt x="262325" y="232758"/>
                </a:cubicBezTo>
                <a:cubicBezTo>
                  <a:pt x="262325" y="239940"/>
                  <a:pt x="256249" y="245465"/>
                  <a:pt x="249068" y="245465"/>
                </a:cubicBezTo>
                <a:cubicBezTo>
                  <a:pt x="249068" y="245465"/>
                  <a:pt x="249068" y="245465"/>
                  <a:pt x="193829" y="245465"/>
                </a:cubicBezTo>
                <a:cubicBezTo>
                  <a:pt x="186648" y="245465"/>
                  <a:pt x="180571" y="239940"/>
                  <a:pt x="180571" y="232758"/>
                </a:cubicBezTo>
                <a:cubicBezTo>
                  <a:pt x="180571" y="232758"/>
                  <a:pt x="180571" y="232758"/>
                  <a:pt x="180571" y="178063"/>
                </a:cubicBezTo>
                <a:cubicBezTo>
                  <a:pt x="180571" y="170881"/>
                  <a:pt x="175047" y="165356"/>
                  <a:pt x="167866" y="165356"/>
                </a:cubicBezTo>
                <a:cubicBezTo>
                  <a:pt x="167866" y="165356"/>
                  <a:pt x="167866" y="165356"/>
                  <a:pt x="118703" y="165356"/>
                </a:cubicBezTo>
                <a:cubicBezTo>
                  <a:pt x="111522" y="165356"/>
                  <a:pt x="105998" y="170881"/>
                  <a:pt x="105998" y="178063"/>
                </a:cubicBezTo>
                <a:cubicBezTo>
                  <a:pt x="105998" y="178063"/>
                  <a:pt x="105998" y="178063"/>
                  <a:pt x="105998" y="232758"/>
                </a:cubicBezTo>
                <a:cubicBezTo>
                  <a:pt x="105998" y="239940"/>
                  <a:pt x="99922" y="245465"/>
                  <a:pt x="92741" y="245465"/>
                </a:cubicBezTo>
                <a:cubicBezTo>
                  <a:pt x="92741" y="245465"/>
                  <a:pt x="92741" y="245465"/>
                  <a:pt x="37502" y="245465"/>
                </a:cubicBezTo>
                <a:cubicBezTo>
                  <a:pt x="29768" y="245465"/>
                  <a:pt x="24244" y="239940"/>
                  <a:pt x="24244" y="232758"/>
                </a:cubicBezTo>
                <a:cubicBezTo>
                  <a:pt x="24244" y="232758"/>
                  <a:pt x="24244" y="232758"/>
                  <a:pt x="24244" y="113976"/>
                </a:cubicBezTo>
                <a:cubicBezTo>
                  <a:pt x="24244" y="106794"/>
                  <a:pt x="29216" y="97954"/>
                  <a:pt x="35292" y="94087"/>
                </a:cubicBezTo>
                <a:cubicBezTo>
                  <a:pt x="35292" y="94087"/>
                  <a:pt x="35292" y="94087"/>
                  <a:pt x="129199" y="39391"/>
                </a:cubicBezTo>
                <a:cubicBezTo>
                  <a:pt x="135275" y="35524"/>
                  <a:pt x="145770" y="35524"/>
                  <a:pt x="151847" y="38839"/>
                </a:cubicBezTo>
                <a:close/>
                <a:moveTo>
                  <a:pt x="150742" y="2419"/>
                </a:moveTo>
                <a:cubicBezTo>
                  <a:pt x="276662" y="75802"/>
                  <a:pt x="276662" y="75802"/>
                  <a:pt x="276662" y="75802"/>
                </a:cubicBezTo>
                <a:cubicBezTo>
                  <a:pt x="282738" y="79112"/>
                  <a:pt x="286051" y="85733"/>
                  <a:pt x="283290" y="90147"/>
                </a:cubicBezTo>
                <a:cubicBezTo>
                  <a:pt x="281081" y="94561"/>
                  <a:pt x="273901" y="95113"/>
                  <a:pt x="267274" y="91251"/>
                </a:cubicBezTo>
                <a:cubicBezTo>
                  <a:pt x="150742" y="23937"/>
                  <a:pt x="150742" y="23937"/>
                  <a:pt x="150742" y="23937"/>
                </a:cubicBezTo>
                <a:cubicBezTo>
                  <a:pt x="144667" y="20075"/>
                  <a:pt x="134726" y="20075"/>
                  <a:pt x="128098" y="23937"/>
                </a:cubicBezTo>
                <a:cubicBezTo>
                  <a:pt x="17090" y="91251"/>
                  <a:pt x="17090" y="91251"/>
                  <a:pt x="17090" y="91251"/>
                </a:cubicBezTo>
                <a:cubicBezTo>
                  <a:pt x="10462" y="95113"/>
                  <a:pt x="3283" y="94561"/>
                  <a:pt x="1074" y="90147"/>
                </a:cubicBezTo>
                <a:cubicBezTo>
                  <a:pt x="-1688" y="85733"/>
                  <a:pt x="1074" y="79112"/>
                  <a:pt x="7149" y="75250"/>
                </a:cubicBezTo>
                <a:cubicBezTo>
                  <a:pt x="128098" y="2970"/>
                  <a:pt x="128098" y="2970"/>
                  <a:pt x="128098" y="2970"/>
                </a:cubicBezTo>
                <a:cubicBezTo>
                  <a:pt x="134174" y="-892"/>
                  <a:pt x="144667" y="-892"/>
                  <a:pt x="150742" y="24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任意多边形 53"/>
          <p:cNvSpPr/>
          <p:nvPr/>
        </p:nvSpPr>
        <p:spPr>
          <a:xfrm>
            <a:off x="4917960" y="3154320"/>
            <a:ext cx="306360" cy="235080"/>
          </a:xfrm>
          <a:custGeom>
            <a:avLst/>
            <a:gdLst>
              <a:gd name="textAreaLeft" fmla="*/ 0 w 306360"/>
              <a:gd name="textAreaRight" fmla="*/ 306720 w 3063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06505" h="235491">
                <a:moveTo>
                  <a:pt x="59259" y="107097"/>
                </a:moveTo>
                <a:cubicBezTo>
                  <a:pt x="59259" y="107827"/>
                  <a:pt x="131457" y="141384"/>
                  <a:pt x="145314" y="147220"/>
                </a:cubicBezTo>
                <a:cubicBezTo>
                  <a:pt x="159899" y="141384"/>
                  <a:pt x="232097" y="107827"/>
                  <a:pt x="232097" y="107097"/>
                </a:cubicBezTo>
                <a:lnTo>
                  <a:pt x="232097" y="206311"/>
                </a:lnTo>
                <a:cubicBezTo>
                  <a:pt x="208760" y="231114"/>
                  <a:pt x="162816" y="234762"/>
                  <a:pt x="148231" y="235491"/>
                </a:cubicBezTo>
                <a:cubicBezTo>
                  <a:pt x="148231" y="235491"/>
                  <a:pt x="147501" y="235491"/>
                  <a:pt x="145314" y="235491"/>
                </a:cubicBezTo>
                <a:cubicBezTo>
                  <a:pt x="143855" y="235491"/>
                  <a:pt x="143126" y="235491"/>
                  <a:pt x="143126" y="235491"/>
                </a:cubicBezTo>
                <a:cubicBezTo>
                  <a:pt x="128540" y="234762"/>
                  <a:pt x="82596" y="231114"/>
                  <a:pt x="59259" y="206311"/>
                </a:cubicBezTo>
                <a:cubicBezTo>
                  <a:pt x="59259" y="206311"/>
                  <a:pt x="59259" y="206311"/>
                  <a:pt x="59259" y="107097"/>
                </a:cubicBezTo>
                <a:close/>
                <a:moveTo>
                  <a:pt x="151850" y="0"/>
                </a:moveTo>
                <a:lnTo>
                  <a:pt x="293613" y="63271"/>
                </a:lnTo>
                <a:lnTo>
                  <a:pt x="294750" y="63271"/>
                </a:lnTo>
                <a:lnTo>
                  <a:pt x="294750" y="63778"/>
                </a:lnTo>
                <a:lnTo>
                  <a:pt x="298453" y="65431"/>
                </a:lnTo>
                <a:lnTo>
                  <a:pt x="294750" y="67119"/>
                </a:lnTo>
                <a:lnTo>
                  <a:pt x="294750" y="151851"/>
                </a:lnTo>
                <a:lnTo>
                  <a:pt x="300642" y="154292"/>
                </a:lnTo>
                <a:cubicBezTo>
                  <a:pt x="303295" y="156945"/>
                  <a:pt x="304936" y="160610"/>
                  <a:pt x="304936" y="164659"/>
                </a:cubicBezTo>
                <a:cubicBezTo>
                  <a:pt x="304936" y="168708"/>
                  <a:pt x="303295" y="172373"/>
                  <a:pt x="300642" y="175026"/>
                </a:cubicBezTo>
                <a:lnTo>
                  <a:pt x="300479" y="175094"/>
                </a:lnTo>
                <a:lnTo>
                  <a:pt x="303541" y="186059"/>
                </a:lnTo>
                <a:cubicBezTo>
                  <a:pt x="305893" y="196873"/>
                  <a:pt x="307702" y="212322"/>
                  <a:pt x="305531" y="230861"/>
                </a:cubicBezTo>
                <a:lnTo>
                  <a:pt x="293206" y="230861"/>
                </a:lnTo>
                <a:lnTo>
                  <a:pt x="291126" y="230861"/>
                </a:lnTo>
                <a:lnTo>
                  <a:pt x="290967" y="230861"/>
                </a:lnTo>
                <a:cubicBezTo>
                  <a:pt x="288886" y="230861"/>
                  <a:pt x="288886" y="230861"/>
                  <a:pt x="288886" y="230861"/>
                </a:cubicBezTo>
                <a:lnTo>
                  <a:pt x="276561" y="230861"/>
                </a:lnTo>
                <a:cubicBezTo>
                  <a:pt x="274390" y="212322"/>
                  <a:pt x="276199" y="196873"/>
                  <a:pt x="278551" y="186059"/>
                </a:cubicBezTo>
                <a:lnTo>
                  <a:pt x="281453" y="175666"/>
                </a:lnTo>
                <a:lnTo>
                  <a:pt x="279908" y="175026"/>
                </a:lnTo>
                <a:cubicBezTo>
                  <a:pt x="277255" y="172373"/>
                  <a:pt x="275614" y="168708"/>
                  <a:pt x="275614" y="164659"/>
                </a:cubicBezTo>
                <a:cubicBezTo>
                  <a:pt x="275614" y="160610"/>
                  <a:pt x="277255" y="156945"/>
                  <a:pt x="279908" y="154292"/>
                </a:cubicBezTo>
                <a:lnTo>
                  <a:pt x="285799" y="151852"/>
                </a:lnTo>
                <a:lnTo>
                  <a:pt x="285799" y="71199"/>
                </a:lnTo>
                <a:lnTo>
                  <a:pt x="148146" y="133949"/>
                </a:lnTo>
                <a:lnTo>
                  <a:pt x="0" y="66974"/>
                </a:lnTo>
                <a:lnTo>
                  <a:pt x="1518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Freeform 63"/>
          <p:cNvSpPr/>
          <p:nvPr/>
        </p:nvSpPr>
        <p:spPr>
          <a:xfrm>
            <a:off x="4432320" y="3112920"/>
            <a:ext cx="266760" cy="301680"/>
          </a:xfrm>
          <a:custGeom>
            <a:avLst/>
            <a:gdLst>
              <a:gd name="textAreaLeft" fmla="*/ 0 w 266760"/>
              <a:gd name="textAreaRight" fmla="*/ 267120 w 2667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52" h="400">
                <a:moveTo>
                  <a:pt x="343" y="268"/>
                </a:moveTo>
                <a:cubicBezTo>
                  <a:pt x="339" y="245"/>
                  <a:pt x="331" y="231"/>
                  <a:pt x="319" y="209"/>
                </a:cubicBezTo>
                <a:cubicBezTo>
                  <a:pt x="308" y="192"/>
                  <a:pt x="288" y="172"/>
                  <a:pt x="273" y="160"/>
                </a:cubicBezTo>
                <a:cubicBezTo>
                  <a:pt x="262" y="151"/>
                  <a:pt x="249" y="143"/>
                  <a:pt x="238" y="134"/>
                </a:cubicBezTo>
                <a:cubicBezTo>
                  <a:pt x="241" y="134"/>
                  <a:pt x="241" y="134"/>
                  <a:pt x="241" y="134"/>
                </a:cubicBezTo>
                <a:cubicBezTo>
                  <a:pt x="251" y="134"/>
                  <a:pt x="251" y="134"/>
                  <a:pt x="251" y="134"/>
                </a:cubicBezTo>
                <a:cubicBezTo>
                  <a:pt x="258" y="134"/>
                  <a:pt x="266" y="134"/>
                  <a:pt x="274" y="133"/>
                </a:cubicBezTo>
                <a:cubicBezTo>
                  <a:pt x="283" y="132"/>
                  <a:pt x="306" y="128"/>
                  <a:pt x="313" y="114"/>
                </a:cubicBezTo>
                <a:cubicBezTo>
                  <a:pt x="318" y="104"/>
                  <a:pt x="314" y="99"/>
                  <a:pt x="311" y="97"/>
                </a:cubicBezTo>
                <a:cubicBezTo>
                  <a:pt x="306" y="93"/>
                  <a:pt x="295" y="94"/>
                  <a:pt x="283" y="96"/>
                </a:cubicBezTo>
                <a:cubicBezTo>
                  <a:pt x="288" y="92"/>
                  <a:pt x="291" y="88"/>
                  <a:pt x="292" y="84"/>
                </a:cubicBezTo>
                <a:cubicBezTo>
                  <a:pt x="292" y="84"/>
                  <a:pt x="292" y="83"/>
                  <a:pt x="292" y="82"/>
                </a:cubicBezTo>
                <a:cubicBezTo>
                  <a:pt x="292" y="80"/>
                  <a:pt x="292" y="78"/>
                  <a:pt x="290" y="76"/>
                </a:cubicBezTo>
                <a:cubicBezTo>
                  <a:pt x="289" y="75"/>
                  <a:pt x="289" y="75"/>
                  <a:pt x="289" y="75"/>
                </a:cubicBezTo>
                <a:cubicBezTo>
                  <a:pt x="287" y="74"/>
                  <a:pt x="287" y="74"/>
                  <a:pt x="287" y="74"/>
                </a:cubicBezTo>
                <a:cubicBezTo>
                  <a:pt x="272" y="72"/>
                  <a:pt x="251" y="83"/>
                  <a:pt x="237" y="97"/>
                </a:cubicBezTo>
                <a:cubicBezTo>
                  <a:pt x="252" y="77"/>
                  <a:pt x="280" y="51"/>
                  <a:pt x="285" y="30"/>
                </a:cubicBezTo>
                <a:cubicBezTo>
                  <a:pt x="266" y="29"/>
                  <a:pt x="247" y="25"/>
                  <a:pt x="231" y="16"/>
                </a:cubicBezTo>
                <a:cubicBezTo>
                  <a:pt x="216" y="8"/>
                  <a:pt x="209" y="0"/>
                  <a:pt x="191" y="3"/>
                </a:cubicBezTo>
                <a:cubicBezTo>
                  <a:pt x="174" y="5"/>
                  <a:pt x="158" y="13"/>
                  <a:pt x="142" y="17"/>
                </a:cubicBezTo>
                <a:cubicBezTo>
                  <a:pt x="124" y="22"/>
                  <a:pt x="108" y="15"/>
                  <a:pt x="90" y="18"/>
                </a:cubicBezTo>
                <a:cubicBezTo>
                  <a:pt x="87" y="49"/>
                  <a:pt x="125" y="79"/>
                  <a:pt x="136" y="108"/>
                </a:cubicBezTo>
                <a:cubicBezTo>
                  <a:pt x="131" y="109"/>
                  <a:pt x="126" y="110"/>
                  <a:pt x="121" y="112"/>
                </a:cubicBezTo>
                <a:cubicBezTo>
                  <a:pt x="121" y="112"/>
                  <a:pt x="121" y="112"/>
                  <a:pt x="121" y="112"/>
                </a:cubicBezTo>
                <a:cubicBezTo>
                  <a:pt x="118" y="113"/>
                  <a:pt x="115" y="114"/>
                  <a:pt x="114" y="116"/>
                </a:cubicBezTo>
                <a:cubicBezTo>
                  <a:pt x="111" y="119"/>
                  <a:pt x="111" y="119"/>
                  <a:pt x="111" y="119"/>
                </a:cubicBezTo>
                <a:cubicBezTo>
                  <a:pt x="113" y="123"/>
                  <a:pt x="113" y="123"/>
                  <a:pt x="113" y="123"/>
                </a:cubicBezTo>
                <a:cubicBezTo>
                  <a:pt x="116" y="127"/>
                  <a:pt x="120" y="129"/>
                  <a:pt x="127" y="130"/>
                </a:cubicBezTo>
                <a:cubicBezTo>
                  <a:pt x="113" y="139"/>
                  <a:pt x="96" y="149"/>
                  <a:pt x="84" y="159"/>
                </a:cubicBezTo>
                <a:cubicBezTo>
                  <a:pt x="69" y="172"/>
                  <a:pt x="46" y="198"/>
                  <a:pt x="34" y="214"/>
                </a:cubicBezTo>
                <a:cubicBezTo>
                  <a:pt x="13" y="240"/>
                  <a:pt x="0" y="275"/>
                  <a:pt x="6" y="307"/>
                </a:cubicBezTo>
                <a:cubicBezTo>
                  <a:pt x="18" y="370"/>
                  <a:pt x="92" y="391"/>
                  <a:pt x="149" y="391"/>
                </a:cubicBezTo>
                <a:cubicBezTo>
                  <a:pt x="212" y="391"/>
                  <a:pt x="293" y="400"/>
                  <a:pt x="335" y="348"/>
                </a:cubicBezTo>
                <a:cubicBezTo>
                  <a:pt x="352" y="327"/>
                  <a:pt x="347" y="295"/>
                  <a:pt x="343" y="268"/>
                </a:cubicBezTo>
                <a:close/>
                <a:moveTo>
                  <a:pt x="305" y="105"/>
                </a:moveTo>
                <a:cubicBezTo>
                  <a:pt x="305" y="105"/>
                  <a:pt x="305" y="106"/>
                  <a:pt x="303" y="109"/>
                </a:cubicBezTo>
                <a:cubicBezTo>
                  <a:pt x="299" y="117"/>
                  <a:pt x="284" y="121"/>
                  <a:pt x="273" y="123"/>
                </a:cubicBezTo>
                <a:cubicBezTo>
                  <a:pt x="266" y="124"/>
                  <a:pt x="258" y="124"/>
                  <a:pt x="251" y="123"/>
                </a:cubicBezTo>
                <a:cubicBezTo>
                  <a:pt x="243" y="123"/>
                  <a:pt x="243" y="123"/>
                  <a:pt x="243" y="123"/>
                </a:cubicBezTo>
                <a:cubicBezTo>
                  <a:pt x="243" y="122"/>
                  <a:pt x="243" y="122"/>
                  <a:pt x="243" y="122"/>
                </a:cubicBezTo>
                <a:cubicBezTo>
                  <a:pt x="263" y="112"/>
                  <a:pt x="300" y="101"/>
                  <a:pt x="305" y="105"/>
                </a:cubicBezTo>
                <a:close/>
                <a:moveTo>
                  <a:pt x="280" y="85"/>
                </a:moveTo>
                <a:cubicBezTo>
                  <a:pt x="275" y="90"/>
                  <a:pt x="260" y="99"/>
                  <a:pt x="251" y="104"/>
                </a:cubicBezTo>
                <a:cubicBezTo>
                  <a:pt x="247" y="106"/>
                  <a:pt x="243" y="108"/>
                  <a:pt x="239" y="111"/>
                </a:cubicBezTo>
                <a:cubicBezTo>
                  <a:pt x="239" y="111"/>
                  <a:pt x="239" y="111"/>
                  <a:pt x="239" y="111"/>
                </a:cubicBezTo>
                <a:cubicBezTo>
                  <a:pt x="249" y="98"/>
                  <a:pt x="267" y="86"/>
                  <a:pt x="280" y="85"/>
                </a:cubicBezTo>
                <a:close/>
                <a:moveTo>
                  <a:pt x="230" y="301"/>
                </a:moveTo>
                <a:cubicBezTo>
                  <a:pt x="227" y="306"/>
                  <a:pt x="223" y="311"/>
                  <a:pt x="218" y="315"/>
                </a:cubicBezTo>
                <a:cubicBezTo>
                  <a:pt x="213" y="319"/>
                  <a:pt x="208" y="322"/>
                  <a:pt x="203" y="323"/>
                </a:cubicBezTo>
                <a:cubicBezTo>
                  <a:pt x="197" y="325"/>
                  <a:pt x="191" y="326"/>
                  <a:pt x="183" y="326"/>
                </a:cubicBezTo>
                <a:cubicBezTo>
                  <a:pt x="183" y="344"/>
                  <a:pt x="183" y="344"/>
                  <a:pt x="183" y="344"/>
                </a:cubicBezTo>
                <a:cubicBezTo>
                  <a:pt x="169" y="344"/>
                  <a:pt x="169" y="344"/>
                  <a:pt x="169" y="344"/>
                </a:cubicBezTo>
                <a:cubicBezTo>
                  <a:pt x="169" y="326"/>
                  <a:pt x="169" y="326"/>
                  <a:pt x="169" y="326"/>
                </a:cubicBezTo>
                <a:cubicBezTo>
                  <a:pt x="160" y="326"/>
                  <a:pt x="152" y="324"/>
                  <a:pt x="147" y="322"/>
                </a:cubicBezTo>
                <a:cubicBezTo>
                  <a:pt x="141" y="320"/>
                  <a:pt x="136" y="317"/>
                  <a:pt x="132" y="313"/>
                </a:cubicBezTo>
                <a:cubicBezTo>
                  <a:pt x="127" y="309"/>
                  <a:pt x="124" y="305"/>
                  <a:pt x="122" y="300"/>
                </a:cubicBezTo>
                <a:cubicBezTo>
                  <a:pt x="120" y="296"/>
                  <a:pt x="118" y="291"/>
                  <a:pt x="117" y="284"/>
                </a:cubicBezTo>
                <a:cubicBezTo>
                  <a:pt x="155" y="280"/>
                  <a:pt x="155" y="280"/>
                  <a:pt x="155" y="280"/>
                </a:cubicBezTo>
                <a:cubicBezTo>
                  <a:pt x="156" y="286"/>
                  <a:pt x="158" y="291"/>
                  <a:pt x="160" y="293"/>
                </a:cubicBezTo>
                <a:cubicBezTo>
                  <a:pt x="162" y="296"/>
                  <a:pt x="165" y="299"/>
                  <a:pt x="169" y="301"/>
                </a:cubicBezTo>
                <a:cubicBezTo>
                  <a:pt x="169" y="267"/>
                  <a:pt x="169" y="267"/>
                  <a:pt x="169" y="267"/>
                </a:cubicBezTo>
                <a:cubicBezTo>
                  <a:pt x="156" y="264"/>
                  <a:pt x="147" y="261"/>
                  <a:pt x="142" y="258"/>
                </a:cubicBezTo>
                <a:cubicBezTo>
                  <a:pt x="137" y="255"/>
                  <a:pt x="132" y="251"/>
                  <a:pt x="128" y="246"/>
                </a:cubicBezTo>
                <a:cubicBezTo>
                  <a:pt x="124" y="240"/>
                  <a:pt x="122" y="233"/>
                  <a:pt x="122" y="225"/>
                </a:cubicBezTo>
                <a:cubicBezTo>
                  <a:pt x="122" y="213"/>
                  <a:pt x="126" y="204"/>
                  <a:pt x="134" y="196"/>
                </a:cubicBezTo>
                <a:cubicBezTo>
                  <a:pt x="142" y="189"/>
                  <a:pt x="154" y="185"/>
                  <a:pt x="169" y="184"/>
                </a:cubicBezTo>
                <a:cubicBezTo>
                  <a:pt x="169" y="175"/>
                  <a:pt x="169" y="175"/>
                  <a:pt x="169" y="175"/>
                </a:cubicBezTo>
                <a:cubicBezTo>
                  <a:pt x="183" y="175"/>
                  <a:pt x="183" y="175"/>
                  <a:pt x="183" y="175"/>
                </a:cubicBezTo>
                <a:cubicBezTo>
                  <a:pt x="183" y="184"/>
                  <a:pt x="183" y="184"/>
                  <a:pt x="183" y="184"/>
                </a:cubicBezTo>
                <a:cubicBezTo>
                  <a:pt x="197" y="185"/>
                  <a:pt x="208" y="188"/>
                  <a:pt x="215" y="194"/>
                </a:cubicBezTo>
                <a:cubicBezTo>
                  <a:pt x="223" y="200"/>
                  <a:pt x="228" y="208"/>
                  <a:pt x="230" y="218"/>
                </a:cubicBezTo>
                <a:cubicBezTo>
                  <a:pt x="195" y="223"/>
                  <a:pt x="195" y="223"/>
                  <a:pt x="195" y="223"/>
                </a:cubicBezTo>
                <a:cubicBezTo>
                  <a:pt x="193" y="219"/>
                  <a:pt x="191" y="216"/>
                  <a:pt x="190" y="214"/>
                </a:cubicBezTo>
                <a:cubicBezTo>
                  <a:pt x="189" y="212"/>
                  <a:pt x="186" y="211"/>
                  <a:pt x="183" y="209"/>
                </a:cubicBezTo>
                <a:cubicBezTo>
                  <a:pt x="183" y="236"/>
                  <a:pt x="183" y="236"/>
                  <a:pt x="183" y="236"/>
                </a:cubicBezTo>
                <a:cubicBezTo>
                  <a:pt x="202" y="241"/>
                  <a:pt x="215" y="247"/>
                  <a:pt x="221" y="252"/>
                </a:cubicBezTo>
                <a:cubicBezTo>
                  <a:pt x="230" y="260"/>
                  <a:pt x="234" y="270"/>
                  <a:pt x="234" y="282"/>
                </a:cubicBezTo>
                <a:cubicBezTo>
                  <a:pt x="234" y="288"/>
                  <a:pt x="233" y="295"/>
                  <a:pt x="230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Freeform 285"/>
          <p:cNvSpPr/>
          <p:nvPr/>
        </p:nvSpPr>
        <p:spPr>
          <a:xfrm>
            <a:off x="4890960" y="4319640"/>
            <a:ext cx="250920" cy="255600"/>
          </a:xfrm>
          <a:custGeom>
            <a:avLst/>
            <a:gdLst>
              <a:gd name="textAreaLeft" fmla="*/ 0 w 250920"/>
              <a:gd name="textAreaRight" fmla="*/ 251280 w 2509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01" h="203">
                <a:moveTo>
                  <a:pt x="101" y="60"/>
                </a:moveTo>
                <a:cubicBezTo>
                  <a:pt x="77" y="60"/>
                  <a:pt x="58" y="80"/>
                  <a:pt x="58" y="103"/>
                </a:cubicBezTo>
                <a:cubicBezTo>
                  <a:pt x="58" y="127"/>
                  <a:pt x="77" y="147"/>
                  <a:pt x="101" y="147"/>
                </a:cubicBezTo>
                <a:cubicBezTo>
                  <a:pt x="125" y="147"/>
                  <a:pt x="144" y="127"/>
                  <a:pt x="144" y="103"/>
                </a:cubicBezTo>
                <a:cubicBezTo>
                  <a:pt x="144" y="80"/>
                  <a:pt x="125" y="60"/>
                  <a:pt x="101" y="60"/>
                </a:cubicBezTo>
                <a:close/>
                <a:moveTo>
                  <a:pt x="180" y="101"/>
                </a:moveTo>
                <a:cubicBezTo>
                  <a:pt x="180" y="99"/>
                  <a:pt x="180" y="97"/>
                  <a:pt x="180" y="95"/>
                </a:cubicBezTo>
                <a:cubicBezTo>
                  <a:pt x="201" y="90"/>
                  <a:pt x="201" y="90"/>
                  <a:pt x="201" y="90"/>
                </a:cubicBezTo>
                <a:cubicBezTo>
                  <a:pt x="200" y="80"/>
                  <a:pt x="197" y="70"/>
                  <a:pt x="193" y="61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0" y="61"/>
                  <a:pt x="166" y="56"/>
                  <a:pt x="162" y="51"/>
                </a:cubicBezTo>
                <a:cubicBezTo>
                  <a:pt x="176" y="34"/>
                  <a:pt x="176" y="34"/>
                  <a:pt x="176" y="34"/>
                </a:cubicBezTo>
                <a:cubicBezTo>
                  <a:pt x="170" y="27"/>
                  <a:pt x="162" y="20"/>
                  <a:pt x="153" y="15"/>
                </a:cubicBezTo>
                <a:cubicBezTo>
                  <a:pt x="139" y="32"/>
                  <a:pt x="139" y="32"/>
                  <a:pt x="139" y="32"/>
                </a:cubicBezTo>
                <a:cubicBezTo>
                  <a:pt x="132" y="28"/>
                  <a:pt x="124" y="25"/>
                  <a:pt x="115" y="23"/>
                </a:cubicBezTo>
                <a:cubicBezTo>
                  <a:pt x="115" y="1"/>
                  <a:pt x="115" y="1"/>
                  <a:pt x="115" y="1"/>
                </a:cubicBezTo>
                <a:cubicBezTo>
                  <a:pt x="111" y="1"/>
                  <a:pt x="106" y="0"/>
                  <a:pt x="101" y="0"/>
                </a:cubicBezTo>
                <a:cubicBezTo>
                  <a:pt x="95" y="0"/>
                  <a:pt x="91" y="1"/>
                  <a:pt x="86" y="1"/>
                </a:cubicBezTo>
                <a:cubicBezTo>
                  <a:pt x="86" y="23"/>
                  <a:pt x="86" y="23"/>
                  <a:pt x="86" y="23"/>
                </a:cubicBezTo>
                <a:cubicBezTo>
                  <a:pt x="79" y="24"/>
                  <a:pt x="73" y="26"/>
                  <a:pt x="68" y="29"/>
                </a:cubicBezTo>
                <a:cubicBezTo>
                  <a:pt x="55" y="11"/>
                  <a:pt x="55" y="11"/>
                  <a:pt x="55" y="11"/>
                </a:cubicBezTo>
                <a:cubicBezTo>
                  <a:pt x="46" y="15"/>
                  <a:pt x="38" y="21"/>
                  <a:pt x="31" y="28"/>
                </a:cubicBezTo>
                <a:cubicBezTo>
                  <a:pt x="43" y="46"/>
                  <a:pt x="43" y="46"/>
                  <a:pt x="43" y="46"/>
                </a:cubicBezTo>
                <a:cubicBezTo>
                  <a:pt x="39" y="50"/>
                  <a:pt x="35" y="55"/>
                  <a:pt x="32" y="60"/>
                </a:cubicBezTo>
                <a:cubicBezTo>
                  <a:pt x="12" y="53"/>
                  <a:pt x="12" y="53"/>
                  <a:pt x="12" y="53"/>
                </a:cubicBezTo>
                <a:cubicBezTo>
                  <a:pt x="7" y="62"/>
                  <a:pt x="3" y="71"/>
                  <a:pt x="1" y="81"/>
                </a:cubicBezTo>
                <a:cubicBezTo>
                  <a:pt x="22" y="88"/>
                  <a:pt x="22" y="88"/>
                  <a:pt x="22" y="88"/>
                </a:cubicBezTo>
                <a:cubicBezTo>
                  <a:pt x="21" y="93"/>
                  <a:pt x="21" y="97"/>
                  <a:pt x="21" y="101"/>
                </a:cubicBezTo>
                <a:cubicBezTo>
                  <a:pt x="21" y="103"/>
                  <a:pt x="21" y="105"/>
                  <a:pt x="21" y="107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23"/>
                  <a:pt x="4" y="133"/>
                  <a:pt x="7" y="142"/>
                </a:cubicBezTo>
                <a:cubicBezTo>
                  <a:pt x="28" y="136"/>
                  <a:pt x="28" y="136"/>
                  <a:pt x="28" y="136"/>
                </a:cubicBezTo>
                <a:cubicBezTo>
                  <a:pt x="31" y="142"/>
                  <a:pt x="35" y="147"/>
                  <a:pt x="39" y="152"/>
                </a:cubicBezTo>
                <a:cubicBezTo>
                  <a:pt x="25" y="169"/>
                  <a:pt x="25" y="169"/>
                  <a:pt x="25" y="169"/>
                </a:cubicBezTo>
                <a:cubicBezTo>
                  <a:pt x="31" y="176"/>
                  <a:pt x="39" y="182"/>
                  <a:pt x="47" y="188"/>
                </a:cubicBezTo>
                <a:cubicBezTo>
                  <a:pt x="61" y="171"/>
                  <a:pt x="61" y="171"/>
                  <a:pt x="61" y="171"/>
                </a:cubicBezTo>
                <a:cubicBezTo>
                  <a:pt x="69" y="175"/>
                  <a:pt x="77" y="178"/>
                  <a:pt x="86" y="180"/>
                </a:cubicBezTo>
                <a:cubicBezTo>
                  <a:pt x="86" y="202"/>
                  <a:pt x="86" y="202"/>
                  <a:pt x="86" y="202"/>
                </a:cubicBezTo>
                <a:cubicBezTo>
                  <a:pt x="91" y="202"/>
                  <a:pt x="95" y="203"/>
                  <a:pt x="101" y="203"/>
                </a:cubicBezTo>
                <a:cubicBezTo>
                  <a:pt x="106" y="203"/>
                  <a:pt x="111" y="202"/>
                  <a:pt x="115" y="202"/>
                </a:cubicBezTo>
                <a:cubicBezTo>
                  <a:pt x="115" y="180"/>
                  <a:pt x="115" y="180"/>
                  <a:pt x="115" y="180"/>
                </a:cubicBezTo>
                <a:cubicBezTo>
                  <a:pt x="122" y="179"/>
                  <a:pt x="128" y="177"/>
                  <a:pt x="134" y="174"/>
                </a:cubicBezTo>
                <a:cubicBezTo>
                  <a:pt x="146" y="192"/>
                  <a:pt x="146" y="192"/>
                  <a:pt x="146" y="192"/>
                </a:cubicBezTo>
                <a:cubicBezTo>
                  <a:pt x="155" y="188"/>
                  <a:pt x="163" y="182"/>
                  <a:pt x="170" y="175"/>
                </a:cubicBezTo>
                <a:cubicBezTo>
                  <a:pt x="158" y="157"/>
                  <a:pt x="158" y="157"/>
                  <a:pt x="158" y="157"/>
                </a:cubicBezTo>
                <a:cubicBezTo>
                  <a:pt x="162" y="153"/>
                  <a:pt x="166" y="148"/>
                  <a:pt x="169" y="142"/>
                </a:cubicBezTo>
                <a:cubicBezTo>
                  <a:pt x="190" y="150"/>
                  <a:pt x="190" y="150"/>
                  <a:pt x="190" y="150"/>
                </a:cubicBezTo>
                <a:cubicBezTo>
                  <a:pt x="194" y="141"/>
                  <a:pt x="198" y="131"/>
                  <a:pt x="200" y="121"/>
                </a:cubicBezTo>
                <a:cubicBezTo>
                  <a:pt x="179" y="114"/>
                  <a:pt x="179" y="114"/>
                  <a:pt x="179" y="114"/>
                </a:cubicBezTo>
                <a:cubicBezTo>
                  <a:pt x="180" y="110"/>
                  <a:pt x="180" y="106"/>
                  <a:pt x="180" y="101"/>
                </a:cubicBezTo>
                <a:close/>
                <a:moveTo>
                  <a:pt x="101" y="158"/>
                </a:moveTo>
                <a:cubicBezTo>
                  <a:pt x="71" y="158"/>
                  <a:pt x="47" y="133"/>
                  <a:pt x="47" y="103"/>
                </a:cubicBezTo>
                <a:cubicBezTo>
                  <a:pt x="47" y="73"/>
                  <a:pt x="71" y="49"/>
                  <a:pt x="101" y="49"/>
                </a:cubicBezTo>
                <a:cubicBezTo>
                  <a:pt x="131" y="49"/>
                  <a:pt x="155" y="73"/>
                  <a:pt x="155" y="103"/>
                </a:cubicBezTo>
                <a:cubicBezTo>
                  <a:pt x="155" y="133"/>
                  <a:pt x="131" y="158"/>
                  <a:pt x="101" y="1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5" name="Freeform 10"/>
          <p:cNvSpPr/>
          <p:nvPr/>
        </p:nvSpPr>
        <p:spPr>
          <a:xfrm>
            <a:off x="5264280" y="4052880"/>
            <a:ext cx="311040" cy="290520"/>
          </a:xfrm>
          <a:custGeom>
            <a:avLst/>
            <a:gdLst>
              <a:gd name="textAreaLeft" fmla="*/ 0 w 311040"/>
              <a:gd name="textAreaRight" fmla="*/ 311400 w 3110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15" h="390">
                <a:moveTo>
                  <a:pt x="412" y="76"/>
                </a:moveTo>
                <a:cubicBezTo>
                  <a:pt x="410" y="72"/>
                  <a:pt x="406" y="70"/>
                  <a:pt x="401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2" y="70"/>
                  <a:pt x="102" y="70"/>
                </a:cubicBezTo>
                <a:cubicBezTo>
                  <a:pt x="89" y="35"/>
                  <a:pt x="89" y="35"/>
                  <a:pt x="89" y="35"/>
                </a:cubicBezTo>
                <a:cubicBezTo>
                  <a:pt x="88" y="31"/>
                  <a:pt x="85" y="28"/>
                  <a:pt x="82" y="27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0"/>
                  <a:pt x="5" y="3"/>
                  <a:pt x="3" y="10"/>
                </a:cubicBezTo>
                <a:cubicBezTo>
                  <a:pt x="0" y="17"/>
                  <a:pt x="3" y="25"/>
                  <a:pt x="10" y="27"/>
                </a:cubicBezTo>
                <a:cubicBezTo>
                  <a:pt x="66" y="49"/>
                  <a:pt x="66" y="49"/>
                  <a:pt x="66" y="49"/>
                </a:cubicBezTo>
                <a:cubicBezTo>
                  <a:pt x="135" y="247"/>
                  <a:pt x="135" y="247"/>
                  <a:pt x="135" y="247"/>
                </a:cubicBezTo>
                <a:cubicBezTo>
                  <a:pt x="132" y="248"/>
                  <a:pt x="130" y="251"/>
                  <a:pt x="128" y="254"/>
                </a:cubicBezTo>
                <a:cubicBezTo>
                  <a:pt x="109" y="309"/>
                  <a:pt x="109" y="309"/>
                  <a:pt x="109" y="309"/>
                </a:cubicBezTo>
                <a:cubicBezTo>
                  <a:pt x="107" y="313"/>
                  <a:pt x="108" y="316"/>
                  <a:pt x="110" y="319"/>
                </a:cubicBezTo>
                <a:cubicBezTo>
                  <a:pt x="112" y="322"/>
                  <a:pt x="115" y="324"/>
                  <a:pt x="119" y="324"/>
                </a:cubicBezTo>
                <a:cubicBezTo>
                  <a:pt x="129" y="324"/>
                  <a:pt x="129" y="324"/>
                  <a:pt x="129" y="324"/>
                </a:cubicBezTo>
                <a:cubicBezTo>
                  <a:pt x="123" y="331"/>
                  <a:pt x="119" y="340"/>
                  <a:pt x="119" y="351"/>
                </a:cubicBezTo>
                <a:cubicBezTo>
                  <a:pt x="119" y="372"/>
                  <a:pt x="137" y="390"/>
                  <a:pt x="159" y="390"/>
                </a:cubicBezTo>
                <a:cubicBezTo>
                  <a:pt x="181" y="390"/>
                  <a:pt x="198" y="372"/>
                  <a:pt x="198" y="351"/>
                </a:cubicBezTo>
                <a:cubicBezTo>
                  <a:pt x="198" y="340"/>
                  <a:pt x="194" y="331"/>
                  <a:pt x="188" y="324"/>
                </a:cubicBezTo>
                <a:cubicBezTo>
                  <a:pt x="275" y="324"/>
                  <a:pt x="275" y="324"/>
                  <a:pt x="275" y="324"/>
                </a:cubicBezTo>
                <a:cubicBezTo>
                  <a:pt x="268" y="331"/>
                  <a:pt x="265" y="340"/>
                  <a:pt x="265" y="351"/>
                </a:cubicBezTo>
                <a:cubicBezTo>
                  <a:pt x="265" y="372"/>
                  <a:pt x="282" y="390"/>
                  <a:pt x="304" y="390"/>
                </a:cubicBezTo>
                <a:cubicBezTo>
                  <a:pt x="326" y="390"/>
                  <a:pt x="344" y="372"/>
                  <a:pt x="344" y="351"/>
                </a:cubicBezTo>
                <a:cubicBezTo>
                  <a:pt x="344" y="340"/>
                  <a:pt x="340" y="331"/>
                  <a:pt x="334" y="324"/>
                </a:cubicBezTo>
                <a:cubicBezTo>
                  <a:pt x="346" y="324"/>
                  <a:pt x="346" y="324"/>
                  <a:pt x="346" y="324"/>
                </a:cubicBezTo>
                <a:cubicBezTo>
                  <a:pt x="352" y="324"/>
                  <a:pt x="357" y="319"/>
                  <a:pt x="357" y="313"/>
                </a:cubicBezTo>
                <a:cubicBezTo>
                  <a:pt x="357" y="307"/>
                  <a:pt x="352" y="302"/>
                  <a:pt x="346" y="302"/>
                </a:cubicBezTo>
                <a:cubicBezTo>
                  <a:pt x="135" y="302"/>
                  <a:pt x="135" y="302"/>
                  <a:pt x="135" y="302"/>
                </a:cubicBezTo>
                <a:cubicBezTo>
                  <a:pt x="147" y="268"/>
                  <a:pt x="147" y="268"/>
                  <a:pt x="147" y="268"/>
                </a:cubicBezTo>
                <a:cubicBezTo>
                  <a:pt x="148" y="268"/>
                  <a:pt x="150" y="269"/>
                  <a:pt x="152" y="269"/>
                </a:cubicBezTo>
                <a:cubicBezTo>
                  <a:pt x="346" y="269"/>
                  <a:pt x="346" y="269"/>
                  <a:pt x="346" y="269"/>
                </a:cubicBezTo>
                <a:cubicBezTo>
                  <a:pt x="352" y="269"/>
                  <a:pt x="357" y="265"/>
                  <a:pt x="359" y="260"/>
                </a:cubicBezTo>
                <a:cubicBezTo>
                  <a:pt x="414" y="87"/>
                  <a:pt x="414" y="87"/>
                  <a:pt x="414" y="87"/>
                </a:cubicBezTo>
                <a:cubicBezTo>
                  <a:pt x="415" y="83"/>
                  <a:pt x="415" y="79"/>
                  <a:pt x="412" y="76"/>
                </a:cubicBezTo>
                <a:moveTo>
                  <a:pt x="159" y="368"/>
                </a:moveTo>
                <a:cubicBezTo>
                  <a:pt x="149" y="368"/>
                  <a:pt x="141" y="360"/>
                  <a:pt x="141" y="351"/>
                </a:cubicBezTo>
                <a:cubicBezTo>
                  <a:pt x="141" y="341"/>
                  <a:pt x="149" y="333"/>
                  <a:pt x="159" y="333"/>
                </a:cubicBezTo>
                <a:cubicBezTo>
                  <a:pt x="168" y="333"/>
                  <a:pt x="176" y="341"/>
                  <a:pt x="176" y="351"/>
                </a:cubicBezTo>
                <a:cubicBezTo>
                  <a:pt x="176" y="360"/>
                  <a:pt x="168" y="368"/>
                  <a:pt x="159" y="368"/>
                </a:cubicBezTo>
                <a:moveTo>
                  <a:pt x="304" y="368"/>
                </a:moveTo>
                <a:cubicBezTo>
                  <a:pt x="295" y="368"/>
                  <a:pt x="287" y="360"/>
                  <a:pt x="287" y="351"/>
                </a:cubicBezTo>
                <a:cubicBezTo>
                  <a:pt x="287" y="341"/>
                  <a:pt x="295" y="333"/>
                  <a:pt x="304" y="333"/>
                </a:cubicBezTo>
                <a:cubicBezTo>
                  <a:pt x="314" y="333"/>
                  <a:pt x="322" y="341"/>
                  <a:pt x="322" y="351"/>
                </a:cubicBezTo>
                <a:cubicBezTo>
                  <a:pt x="322" y="360"/>
                  <a:pt x="314" y="368"/>
                  <a:pt x="304" y="368"/>
                </a:cubicBezTo>
                <a:moveTo>
                  <a:pt x="374" y="126"/>
                </a:moveTo>
                <a:cubicBezTo>
                  <a:pt x="306" y="126"/>
                  <a:pt x="306" y="126"/>
                  <a:pt x="306" y="126"/>
                </a:cubicBezTo>
                <a:cubicBezTo>
                  <a:pt x="306" y="97"/>
                  <a:pt x="306" y="97"/>
                  <a:pt x="306" y="97"/>
                </a:cubicBezTo>
                <a:cubicBezTo>
                  <a:pt x="383" y="97"/>
                  <a:pt x="383" y="97"/>
                  <a:pt x="383" y="97"/>
                </a:cubicBezTo>
                <a:lnTo>
                  <a:pt x="374" y="126"/>
                </a:lnTo>
                <a:close/>
                <a:moveTo>
                  <a:pt x="354" y="187"/>
                </a:moveTo>
                <a:cubicBezTo>
                  <a:pt x="306" y="187"/>
                  <a:pt x="306" y="187"/>
                  <a:pt x="306" y="187"/>
                </a:cubicBezTo>
                <a:cubicBezTo>
                  <a:pt x="306" y="153"/>
                  <a:pt x="306" y="153"/>
                  <a:pt x="306" y="153"/>
                </a:cubicBezTo>
                <a:cubicBezTo>
                  <a:pt x="365" y="153"/>
                  <a:pt x="365" y="153"/>
                  <a:pt x="365" y="153"/>
                </a:cubicBezTo>
                <a:lnTo>
                  <a:pt x="354" y="187"/>
                </a:lnTo>
                <a:close/>
                <a:moveTo>
                  <a:pt x="219" y="153"/>
                </a:moveTo>
                <a:cubicBezTo>
                  <a:pt x="280" y="153"/>
                  <a:pt x="280" y="153"/>
                  <a:pt x="280" y="153"/>
                </a:cubicBezTo>
                <a:cubicBezTo>
                  <a:pt x="280" y="187"/>
                  <a:pt x="280" y="187"/>
                  <a:pt x="280" y="187"/>
                </a:cubicBezTo>
                <a:cubicBezTo>
                  <a:pt x="219" y="187"/>
                  <a:pt x="219" y="187"/>
                  <a:pt x="219" y="187"/>
                </a:cubicBezTo>
                <a:lnTo>
                  <a:pt x="219" y="153"/>
                </a:lnTo>
                <a:close/>
                <a:moveTo>
                  <a:pt x="280" y="242"/>
                </a:moveTo>
                <a:cubicBezTo>
                  <a:pt x="219" y="242"/>
                  <a:pt x="219" y="242"/>
                  <a:pt x="219" y="242"/>
                </a:cubicBezTo>
                <a:cubicBezTo>
                  <a:pt x="219" y="214"/>
                  <a:pt x="219" y="214"/>
                  <a:pt x="219" y="214"/>
                </a:cubicBezTo>
                <a:cubicBezTo>
                  <a:pt x="280" y="214"/>
                  <a:pt x="280" y="214"/>
                  <a:pt x="280" y="214"/>
                </a:cubicBezTo>
                <a:lnTo>
                  <a:pt x="280" y="242"/>
                </a:lnTo>
                <a:close/>
                <a:moveTo>
                  <a:pt x="130" y="153"/>
                </a:moveTo>
                <a:cubicBezTo>
                  <a:pt x="192" y="153"/>
                  <a:pt x="192" y="153"/>
                  <a:pt x="192" y="153"/>
                </a:cubicBezTo>
                <a:cubicBezTo>
                  <a:pt x="192" y="187"/>
                  <a:pt x="192" y="187"/>
                  <a:pt x="192" y="187"/>
                </a:cubicBezTo>
                <a:cubicBezTo>
                  <a:pt x="142" y="187"/>
                  <a:pt x="142" y="187"/>
                  <a:pt x="142" y="187"/>
                </a:cubicBezTo>
                <a:lnTo>
                  <a:pt x="130" y="153"/>
                </a:lnTo>
                <a:close/>
                <a:moveTo>
                  <a:pt x="219" y="97"/>
                </a:moveTo>
                <a:cubicBezTo>
                  <a:pt x="280" y="97"/>
                  <a:pt x="280" y="97"/>
                  <a:pt x="280" y="97"/>
                </a:cubicBezTo>
                <a:cubicBezTo>
                  <a:pt x="280" y="126"/>
                  <a:pt x="280" y="126"/>
                  <a:pt x="280" y="126"/>
                </a:cubicBezTo>
                <a:cubicBezTo>
                  <a:pt x="219" y="126"/>
                  <a:pt x="219" y="126"/>
                  <a:pt x="219" y="126"/>
                </a:cubicBezTo>
                <a:lnTo>
                  <a:pt x="219" y="97"/>
                </a:lnTo>
                <a:close/>
                <a:moveTo>
                  <a:pt x="192" y="97"/>
                </a:moveTo>
                <a:cubicBezTo>
                  <a:pt x="192" y="126"/>
                  <a:pt x="192" y="126"/>
                  <a:pt x="192" y="126"/>
                </a:cubicBezTo>
                <a:cubicBezTo>
                  <a:pt x="121" y="126"/>
                  <a:pt x="121" y="126"/>
                  <a:pt x="121" y="126"/>
                </a:cubicBezTo>
                <a:cubicBezTo>
                  <a:pt x="111" y="97"/>
                  <a:pt x="111" y="97"/>
                  <a:pt x="111" y="97"/>
                </a:cubicBezTo>
                <a:lnTo>
                  <a:pt x="192" y="97"/>
                </a:lnTo>
                <a:close/>
                <a:moveTo>
                  <a:pt x="151" y="214"/>
                </a:moveTo>
                <a:cubicBezTo>
                  <a:pt x="192" y="214"/>
                  <a:pt x="192" y="214"/>
                  <a:pt x="192" y="214"/>
                </a:cubicBezTo>
                <a:cubicBezTo>
                  <a:pt x="192" y="242"/>
                  <a:pt x="192" y="242"/>
                  <a:pt x="192" y="242"/>
                </a:cubicBezTo>
                <a:cubicBezTo>
                  <a:pt x="161" y="242"/>
                  <a:pt x="161" y="242"/>
                  <a:pt x="161" y="242"/>
                </a:cubicBezTo>
                <a:lnTo>
                  <a:pt x="151" y="214"/>
                </a:lnTo>
                <a:close/>
                <a:moveTo>
                  <a:pt x="306" y="242"/>
                </a:moveTo>
                <a:cubicBezTo>
                  <a:pt x="306" y="214"/>
                  <a:pt x="306" y="214"/>
                  <a:pt x="306" y="214"/>
                </a:cubicBezTo>
                <a:cubicBezTo>
                  <a:pt x="346" y="214"/>
                  <a:pt x="346" y="214"/>
                  <a:pt x="346" y="214"/>
                </a:cubicBezTo>
                <a:cubicBezTo>
                  <a:pt x="337" y="242"/>
                  <a:pt x="337" y="242"/>
                  <a:pt x="337" y="242"/>
                </a:cubicBezTo>
                <a:lnTo>
                  <a:pt x="306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文本框 34"/>
          <p:cNvSpPr/>
          <p:nvPr/>
        </p:nvSpPr>
        <p:spPr>
          <a:xfrm>
            <a:off x="2758320" y="2979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7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文本框 35"/>
          <p:cNvSpPr/>
          <p:nvPr/>
        </p:nvSpPr>
        <p:spPr>
          <a:xfrm>
            <a:off x="2800080" y="33782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纯净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文本框 36"/>
          <p:cNvSpPr/>
          <p:nvPr/>
        </p:nvSpPr>
        <p:spPr>
          <a:xfrm>
            <a:off x="3079800" y="5232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5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9" name="文本框 37"/>
          <p:cNvSpPr/>
          <p:nvPr/>
        </p:nvSpPr>
        <p:spPr>
          <a:xfrm>
            <a:off x="2997000" y="5630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工作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文本框 38"/>
          <p:cNvSpPr/>
          <p:nvPr/>
        </p:nvSpPr>
        <p:spPr>
          <a:xfrm>
            <a:off x="2540880" y="4243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6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文本框 39"/>
          <p:cNvSpPr/>
          <p:nvPr/>
        </p:nvSpPr>
        <p:spPr>
          <a:xfrm>
            <a:off x="2609280" y="4649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精美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文本框 40"/>
          <p:cNvSpPr/>
          <p:nvPr/>
        </p:nvSpPr>
        <p:spPr>
          <a:xfrm>
            <a:off x="3741840" y="1609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8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文本框 41"/>
          <p:cNvSpPr/>
          <p:nvPr/>
        </p:nvSpPr>
        <p:spPr>
          <a:xfrm>
            <a:off x="3822120" y="2016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适用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文本框 42"/>
          <p:cNvSpPr/>
          <p:nvPr/>
        </p:nvSpPr>
        <p:spPr>
          <a:xfrm>
            <a:off x="5294160" y="5338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4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文本框 43"/>
          <p:cNvSpPr/>
          <p:nvPr/>
        </p:nvSpPr>
        <p:spPr>
          <a:xfrm>
            <a:off x="5169960" y="5738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设计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文本框 44"/>
          <p:cNvSpPr/>
          <p:nvPr/>
        </p:nvSpPr>
        <p:spPr>
          <a:xfrm>
            <a:off x="5168880" y="17240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1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文本框 45"/>
          <p:cNvSpPr/>
          <p:nvPr/>
        </p:nvSpPr>
        <p:spPr>
          <a:xfrm>
            <a:off x="5285880" y="2225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林敏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文本框 46"/>
          <p:cNvSpPr/>
          <p:nvPr/>
        </p:nvSpPr>
        <p:spPr>
          <a:xfrm>
            <a:off x="6429240" y="3019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2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文本框 47"/>
          <p:cNvSpPr/>
          <p:nvPr/>
        </p:nvSpPr>
        <p:spPr>
          <a:xfrm>
            <a:off x="6417360" y="343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5e5e"/>
                </a:solidFill>
                <a:latin typeface="幼圆"/>
                <a:ea typeface="幼圆"/>
              </a:rPr>
              <a:t>PP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文本框 48"/>
          <p:cNvSpPr/>
          <p:nvPr/>
        </p:nvSpPr>
        <p:spPr>
          <a:xfrm>
            <a:off x="6241320" y="4224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5e5e"/>
                </a:solidFill>
                <a:latin typeface="Impact"/>
                <a:ea typeface="宋体"/>
              </a:rPr>
              <a:t>03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文本框 49"/>
          <p:cNvSpPr/>
          <p:nvPr/>
        </p:nvSpPr>
        <p:spPr>
          <a:xfrm>
            <a:off x="6335280" y="4622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05e5e"/>
                </a:solidFill>
                <a:latin typeface="幼圆"/>
                <a:ea typeface="幼圆"/>
              </a:rPr>
              <a:t>原创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2:39:58Z</dcterms:created>
  <dc:creator>Administrator</dc:creator>
  <dc:description/>
  <cp:keywords/>
  <dc:language>en-US</dc:language>
  <cp:lastModifiedBy>王玉清</cp:lastModifiedBy>
  <dcterms:modified xsi:type="dcterms:W3CDTF">2016-02-16T08:57:12Z</dcterms:modified>
  <cp:revision>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