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808FF5-64E0-42AC-8809-8DDECEC7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E3FF61-AFB1-45BB-B5FB-08A99CFE57D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610-9D50-4910-A458-73E745D9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D5D-14AA-4F51-B5E0-120B16F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C12-A9B7-4F5E-AE9C-8C0A17F7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1C0-746A-4C7A-A064-575C89C2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1C62-9A75-49A6-A6E1-6093E823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12DE-2C3F-4E4B-BA24-1F8274A8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045B-BCA7-4B1F-A5BC-004645F5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8E02-E0E2-4862-8C47-8F0B720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6563-EC90-4158-8D9C-1E23FF4A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E66C-E5D3-4A14-A802-DD898B46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B5B5-F661-4719-BA9E-CAE0F48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DF4-59CB-451C-B4FF-5418DD5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5650-1C85-4DD2-B9F7-B784B2C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C4D0-2AD2-47FC-B098-0745878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177-396F-4E77-8154-A340CC49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E686-0769-48E3-9892-B7744FED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C88-02A0-4D12-8CAE-72B17447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8F2-FF5E-425F-B012-DBF2C2FA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89C-D65F-4BF0-A1C3-94925077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FBE-4B52-4237-A457-449DF30E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686-82E2-469D-830E-5760BA5D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99B-5547-4CE1-A70E-B91E17A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0D9-A200-4560-AF2B-57AB4EE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6FB-F5C5-468E-8385-E7A15B1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BB6E7D-5425-48E1-8D46-66D26BBF169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CCC986-8261-4309-AB25-AA287ACCB4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" descr="7.jpg"/>
          <p:cNvPicPr/>
          <p:nvPr/>
        </p:nvPicPr>
        <p:blipFill>
          <a:blip r:embed="rId1"/>
          <a:stretch/>
        </p:blipFill>
        <p:spPr>
          <a:xfrm>
            <a:off x="0" y="945000"/>
            <a:ext cx="9143640" cy="4968000"/>
          </a:xfrm>
          <a:prstGeom prst="rect">
            <a:avLst/>
          </a:prstGeom>
          <a:ln w="0">
            <a:noFill/>
          </a:ln>
        </p:spPr>
      </p:pic>
      <p:sp>
        <p:nvSpPr>
          <p:cNvPr id="89" name="流程图: 手动输入 18"/>
          <p:cNvSpPr/>
          <p:nvPr/>
        </p:nvSpPr>
        <p:spPr>
          <a:xfrm rot="16200000">
            <a:off x="3659760" y="-1178280"/>
            <a:ext cx="3357360" cy="7571880"/>
          </a:xfrm>
          <a:prstGeom prst="flowChartManualInput">
            <a:avLst/>
          </a:prstGeom>
          <a:solidFill>
            <a:schemeClr val="bg1">
              <a:alpha val="4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流程图: 手动输入 19"/>
          <p:cNvSpPr/>
          <p:nvPr/>
        </p:nvSpPr>
        <p:spPr>
          <a:xfrm rot="5400000">
            <a:off x="1071720" y="3214440"/>
            <a:ext cx="1714320" cy="3857400"/>
          </a:xfrm>
          <a:prstGeom prst="flowChartManualInput">
            <a:avLst/>
          </a:prstGeom>
          <a:solidFill>
            <a:schemeClr val="bg1">
              <a:alpha val="4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1" name="直接连接符 21"/>
          <p:cNvCxnSpPr/>
          <p:nvPr/>
        </p:nvCxnSpPr>
        <p:spPr>
          <a:xfrm>
            <a:off x="1581840" y="979560"/>
            <a:ext cx="2270160" cy="504144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cxnSp>
        <p:nvCxnSpPr>
          <p:cNvPr id="92" name="直接连接符 25"/>
          <p:cNvCxnSpPr/>
          <p:nvPr/>
        </p:nvCxnSpPr>
        <p:spPr>
          <a:xfrm flipV="1">
            <a:off x="0" y="4259880"/>
            <a:ext cx="9145080" cy="108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93" name="矩形 7"/>
          <p:cNvSpPr/>
          <p:nvPr/>
        </p:nvSpPr>
        <p:spPr>
          <a:xfrm rot="20326800">
            <a:off x="5829840" y="3289680"/>
            <a:ext cx="1946160" cy="13896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ffffff"/>
            </a:solidFill>
            <a:round/>
          </a:ln>
          <a:effectLst>
            <a:glow rad="63360">
              <a:srgbClr val="267de6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1520" y="216360"/>
            <a:ext cx="931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和结束页设计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3" descr="0710240290.jpg"/>
          <p:cNvPicPr/>
          <p:nvPr/>
        </p:nvPicPr>
        <p:blipFill>
          <a:blip r:embed="rId2"/>
          <a:srcRect l="0" t="19136" r="0" b="45505"/>
          <a:stretch/>
        </p:blipFill>
        <p:spPr>
          <a:xfrm>
            <a:off x="2411280" y="0"/>
            <a:ext cx="7684920" cy="3214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4"/>
          <p:cNvSpPr/>
          <p:nvPr/>
        </p:nvSpPr>
        <p:spPr>
          <a:xfrm>
            <a:off x="1714320" y="2714760"/>
            <a:ext cx="7500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c00000"/>
                </a:solidFill>
                <a:latin typeface="Bradley Hand ITC"/>
              </a:rPr>
              <a:t>Th</a:t>
            </a:r>
            <a:r>
              <a:rPr b="1" lang="en-US" sz="9600" spc="-1" strike="noStrike">
                <a:solidFill>
                  <a:srgbClr val="ffff00"/>
                </a:solidFill>
                <a:latin typeface="Bradley Hand ITC"/>
              </a:rPr>
              <a:t>an</a:t>
            </a:r>
            <a:r>
              <a:rPr b="1" lang="en-US" sz="9600" spc="-1" strike="noStrike">
                <a:solidFill>
                  <a:srgbClr val="0070c0"/>
                </a:solidFill>
                <a:latin typeface="Bradley Hand ITC"/>
              </a:rPr>
              <a:t>k </a:t>
            </a:r>
            <a:r>
              <a:rPr b="1" lang="en-US" sz="9600" spc="-1" strike="noStrike">
                <a:solidFill>
                  <a:schemeClr val="accent3">
                    <a:lumMod val="50000"/>
                  </a:schemeClr>
                </a:solidFill>
                <a:latin typeface="Bradley Hand ITC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3"/>
          <p:cNvGrpSpPr/>
          <p:nvPr/>
        </p:nvGrpSpPr>
        <p:grpSpPr>
          <a:xfrm>
            <a:off x="714240" y="714240"/>
            <a:ext cx="8215200" cy="5214600"/>
            <a:chOff x="714240" y="714240"/>
            <a:chExt cx="8215200" cy="5214600"/>
          </a:xfrm>
        </p:grpSpPr>
        <p:sp>
          <p:nvSpPr>
            <p:cNvPr id="99" name="任意多边形 12"/>
            <p:cNvSpPr/>
            <p:nvPr/>
          </p:nvSpPr>
          <p:spPr>
            <a:xfrm>
              <a:off x="991080" y="793800"/>
              <a:ext cx="7436160" cy="5070600"/>
            </a:xfrm>
            <a:custGeom>
              <a:avLst/>
              <a:gdLst>
                <a:gd name="textAreaLeft" fmla="*/ 0 w 7436160"/>
                <a:gd name="textAreaRight" fmla="*/ 7436520 w 7436160"/>
                <a:gd name="textAreaTop" fmla="*/ 0 h 5070600"/>
                <a:gd name="textAreaBottom" fmla="*/ 5070960 h 5070600"/>
              </a:gdLst>
              <a:ahLst/>
              <a:rect l="textAreaLeft" t="textAreaTop" r="textAreaRight" b="textAreaBottom"/>
              <a:pathLst>
                <a:path w="7858148" h="5214950">
                  <a:moveTo>
                    <a:pt x="500034" y="71438"/>
                  </a:moveTo>
                  <a:lnTo>
                    <a:pt x="7286612" y="0"/>
                  </a:lnTo>
                  <a:lnTo>
                    <a:pt x="7420704" y="11031"/>
                  </a:lnTo>
                  <a:lnTo>
                    <a:pt x="7570173" y="11031"/>
                  </a:lnTo>
                  <a:lnTo>
                    <a:pt x="7719642" y="11031"/>
                  </a:lnTo>
                  <a:lnTo>
                    <a:pt x="7858148" y="5214950"/>
                  </a:lnTo>
                  <a:lnTo>
                    <a:pt x="0" y="4929246"/>
                  </a:lnTo>
                  <a:lnTo>
                    <a:pt x="500034" y="71438"/>
                  </a:lnTo>
                  <a:close/>
                </a:path>
              </a:pathLst>
            </a:cu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tl" blurRad="177840" dir="5989853" dist="101206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714240" y="714240"/>
              <a:ext cx="7857720" cy="52146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01" name="图片 3" descr="0710240290.jpg"/>
            <p:cNvPicPr/>
            <p:nvPr/>
          </p:nvPicPr>
          <p:blipFill>
            <a:blip r:embed="rId2"/>
            <a:srcRect l="0" t="5207" r="0" b="12499"/>
            <a:stretch/>
          </p:blipFill>
          <p:spPr>
            <a:xfrm>
              <a:off x="3018600" y="714240"/>
              <a:ext cx="555552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>
              <a:off x="1928880" y="2928960"/>
              <a:ext cx="70005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9600" spc="-1" strike="noStrike">
                  <a:solidFill>
                    <a:srgbClr val="c00000"/>
                  </a:solidFill>
                  <a:latin typeface="Bradley Hand ITC"/>
                </a:rPr>
                <a:t>Th</a:t>
              </a:r>
              <a:r>
                <a:rPr b="1" lang="en-US" sz="9600" spc="-1" strike="noStrike">
                  <a:solidFill>
                    <a:srgbClr val="ffff00"/>
                  </a:solidFill>
                  <a:latin typeface="Bradley Hand ITC"/>
                </a:rPr>
                <a:t>an</a:t>
              </a:r>
              <a:r>
                <a:rPr b="1" lang="en-US" sz="9600" spc="-1" strike="noStrike">
                  <a:solidFill>
                    <a:srgbClr val="0070c0"/>
                  </a:solidFill>
                  <a:latin typeface="Bradley Hand ITC"/>
                </a:rPr>
                <a:t>k </a:t>
              </a:r>
              <a:r>
                <a:rPr b="1" lang="en-US" sz="9600" spc="-1" strike="noStrike">
                  <a:solidFill>
                    <a:schemeClr val="accent3">
                      <a:lumMod val="50000"/>
                    </a:schemeClr>
                  </a:solidFill>
                  <a:latin typeface="Bradley Hand ITC"/>
                </a:rPr>
                <a:t>yo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Thank you (2).jpg"/>
          <p:cNvPicPr/>
          <p:nvPr/>
        </p:nvPicPr>
        <p:blipFill>
          <a:blip r:embed="rId1"/>
          <a:srcRect l="2169" t="3127" r="2169" b="3127"/>
          <a:stretch/>
        </p:blipFill>
        <p:spPr>
          <a:xfrm>
            <a:off x="285840" y="1000080"/>
            <a:ext cx="8572320" cy="4857480"/>
          </a:xfrm>
          <a:prstGeom prst="rect">
            <a:avLst/>
          </a:prstGeom>
          <a:ln w="0">
            <a:noFill/>
          </a:ln>
          <a:effectLst>
            <a:glow rad="63360">
              <a:srgbClr val="1dc7f4">
                <a:alpha val="40000"/>
              </a:srgbClr>
            </a:glow>
            <a:softEdge rad="112680"/>
          </a:effectLst>
        </p:spPr>
      </p:pic>
      <p:sp>
        <p:nvSpPr>
          <p:cNvPr id="104" name="矩形 2"/>
          <p:cNvSpPr/>
          <p:nvPr/>
        </p:nvSpPr>
        <p:spPr>
          <a:xfrm rot="1070400">
            <a:off x="360720" y="784800"/>
            <a:ext cx="2285640" cy="27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57150">
            <a:solidFill>
              <a:srgbClr val="ffffff"/>
            </a:solidFill>
            <a:round/>
          </a:ln>
          <a:effectLst>
            <a:glow rad="101520">
              <a:srgbClr val="ff0000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铅笔_手.jpg"/>
          <p:cNvPicPr/>
          <p:nvPr/>
        </p:nvPicPr>
        <p:blipFill>
          <a:blip r:embed="rId1"/>
          <a:srcRect l="0" t="0" r="0" b="11521"/>
          <a:stretch/>
        </p:blipFill>
        <p:spPr>
          <a:xfrm>
            <a:off x="2643120" y="0"/>
            <a:ext cx="6500520" cy="3970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1528920" y="2614680"/>
            <a:ext cx="49431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19499998" lon="0" rev="21299999"/>
              </a:camera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92cd9"/>
                </a:solidFill>
                <a:latin typeface="Brush Scrip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  <Words>29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9:41:02Z</dcterms:created>
  <dc:creator>mwk</dc:creator>
  <dc:description/>
  <dc:language>en-US</dc:language>
  <cp:lastModifiedBy>王玉清</cp:lastModifiedBy>
  <dcterms:modified xsi:type="dcterms:W3CDTF">2016-02-24T02:55:14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