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5.jpeg" ContentType="image/jpeg"/>
  <Override PartName="/ppt/media/image14.wmf" ContentType="image/x-wmf"/>
  <Override PartName="/ppt/media/image5.jpeg" ContentType="image/jpe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571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程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课程</c:v>
                </c:pt>
              </c:strCache>
            </c:strRef>
          </c:tx>
          <c:spPr>
            <a:solidFill>
              <a:srgbClr val="46aac4"/>
            </a:solidFill>
            <a:ln w="47520">
              <a:solidFill>
                <a:srgbClr val="46aac4"/>
              </a:solidFill>
              <a:round/>
            </a:ln>
          </c:spPr>
          <c:dLbls>
            <c:numFmt formatCode="General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t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6"/>
                <c:pt idx="0">
                  <c:v>目标的明确性</c:v>
                </c:pt>
                <c:pt idx="1">
                  <c:v>内容的合理性</c:v>
                </c:pt>
                <c:pt idx="2">
                  <c:v>知识的系统性</c:v>
                </c:pt>
                <c:pt idx="3">
                  <c:v>内容的适用性</c:v>
                </c:pt>
                <c:pt idx="4">
                  <c:v>趣味性</c:v>
                </c:pt>
                <c:pt idx="5">
                  <c:v>互动性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96</c:v>
                </c:pt>
                <c:pt idx="1">
                  <c:v>96</c:v>
                </c:pt>
                <c:pt idx="2">
                  <c:v>98</c:v>
                </c:pt>
                <c:pt idx="3">
                  <c:v>97</c:v>
                </c:pt>
                <c:pt idx="4">
                  <c:v>89</c:v>
                </c:pt>
                <c:pt idx="5">
                  <c:v>92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39862345"/>
        <c:axId val="29624288"/>
      </c:lineChart>
      <c:catAx>
        <c:axId val="39862345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29624288"/>
        <c:crosses val="autoZero"/>
        <c:auto val="1"/>
        <c:lblAlgn val="ctr"/>
        <c:lblOffset val="100"/>
        <c:noMultiLvlLbl val="0"/>
      </c:catAx>
      <c:valAx>
        <c:axId val="29624288"/>
        <c:scaling>
          <c:orientation val="minMax"/>
          <c:min val="60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39862345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讲 师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  讲 师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dLbls>
            <c:numFmt formatCode="General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t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7"/>
                <c:pt idx="0">
                  <c:v>内容的理解</c:v>
                </c:pt>
                <c:pt idx="1">
                  <c:v>表达能力</c:v>
                </c:pt>
                <c:pt idx="2">
                  <c:v>学员反映的关注</c:v>
                </c:pt>
                <c:pt idx="3">
                  <c:v>鼓励参与</c:v>
                </c:pt>
                <c:pt idx="4">
                  <c:v>学习兴趣的激发</c:v>
                </c:pt>
                <c:pt idx="5">
                  <c:v>提问的指导</c:v>
                </c:pt>
                <c:pt idx="6">
                  <c:v>进度的把握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97</c:v>
                </c:pt>
                <c:pt idx="1">
                  <c:v>96</c:v>
                </c:pt>
                <c:pt idx="2">
                  <c:v>96</c:v>
                </c:pt>
                <c:pt idx="3">
                  <c:v>96</c:v>
                </c:pt>
                <c:pt idx="4">
                  <c:v>96</c:v>
                </c:pt>
                <c:pt idx="5">
                  <c:v>97</c:v>
                </c:pt>
                <c:pt idx="6">
                  <c:v>96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30304989"/>
        <c:axId val="57340921"/>
      </c:lineChart>
      <c:catAx>
        <c:axId val="3030498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57340921"/>
        <c:crosses val="autoZero"/>
        <c:auto val="1"/>
        <c:lblAlgn val="ctr"/>
        <c:lblOffset val="100"/>
        <c:noMultiLvlLbl val="0"/>
      </c:catAx>
      <c:valAx>
        <c:axId val="57340921"/>
        <c:scaling>
          <c:orientation val="minMax"/>
          <c:max val="100"/>
          <c:min val="90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30304989"/>
        <c:crosses val="autoZero"/>
        <c:crossBetween val="between"/>
        <c:majorUnit val="1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安排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培训安排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dLbls>
            <c:numFmt formatCode="General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t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组织的周密程度</c:v>
                </c:pt>
                <c:pt idx="1">
                  <c:v>议程的合理性</c:v>
                </c:pt>
                <c:pt idx="2">
                  <c:v>场所、工具的准备</c:v>
                </c:pt>
                <c:pt idx="3">
                  <c:v>总体效果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7</c:v>
                </c:pt>
                <c:pt idx="1">
                  <c:v>97</c:v>
                </c:pt>
                <c:pt idx="2">
                  <c:v>98</c:v>
                </c:pt>
                <c:pt idx="3">
                  <c:v>99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58623093"/>
        <c:axId val="77960577"/>
      </c:lineChart>
      <c:catAx>
        <c:axId val="5862309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77960577"/>
        <c:crosses val="autoZero"/>
        <c:auto val="1"/>
        <c:lblAlgn val="ctr"/>
        <c:lblOffset val="100"/>
        <c:noMultiLvlLbl val="0"/>
      </c:catAx>
      <c:valAx>
        <c:axId val="77960577"/>
        <c:scaling>
          <c:orientation val="minMax"/>
          <c:max val="100"/>
          <c:min val="90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58623093"/>
        <c:crosses val="autoZero"/>
        <c:crossBetween val="between"/>
        <c:majorUnit val="1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1AECD0-C680-404D-860E-D8EDE3451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36AF0C-1B27-42C4-AAF0-0F89799E785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E995D6-5648-4A8E-94B8-21FD4F5F7F8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FD467B-2419-405F-9E3C-2A6705EB56A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D54851-9DA8-4CCB-B666-DA0E74C9FB2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D16FD0-58D4-4A5E-9B95-6C77F935A6A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45BBCB-D741-4B8C-9021-350A67C31A5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17A43A-0F8D-4A85-A97F-9963F61F0F7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E20E7A-B4C7-44F0-87E9-2283B9D1BC9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丰富员工工作生活，提升素质，增加教职员工的学习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363616-B983-4E3B-826C-813CD0D53E9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E430FD-9579-4559-BD72-8F6998BA449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1A199A-4D9F-4226-957D-10B0F599298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2C7BB8-2EF6-4B2B-9E56-EB2B462031B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1A62D9-6BE2-4E5E-B3E4-68EE0931F78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90F4F5-8F40-400A-803F-9748194BD13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418-E8E5-4CC1-BC62-505F0C79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AE1D-1A15-4C0B-B668-6E3832FD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BFD6-D03B-4797-97F1-8BD59460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A1B-6829-4244-8A3D-5A1A828A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FD55-371A-462A-AAA8-5818171C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9451-C5F5-48C3-994E-1632FB53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E194-7524-46EE-902B-1650A8A7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427C-A5C4-481E-9A09-FB031489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B928-68EF-49D6-AF05-ECC7748B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3C3B-6B96-4373-8CB1-F667F8C2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CC32-F090-492E-9A05-A4F2CB38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456F-67FD-476B-9C38-25BCB7B4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B75D-5DAF-477B-9A38-E393C840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E281-55AA-4D49-B584-58A81560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FC0E-2A25-490A-B105-70FB5BF9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A656-7D82-472B-8D97-161C2D36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00E5-8131-4CD2-8B8A-3D1542F9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BC1B9-831F-4FAD-AD5B-FF7B0AC0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6BE75-5553-4834-97D7-257E3933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62188-6F1E-4AE4-9A1C-54D1318C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A55D8-4C0F-49A3-9167-3BF786A3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11C8F-DE19-49CC-A5DA-0CB7E11A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D702-A992-45F6-84EE-DC08A71D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189F8-9157-431B-BBB0-E7F7F72E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BB4A8-ECB8-4720-A908-5FD56576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0B40F-6DD0-44AA-B7A7-B3CC3AAB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83D29-656E-4691-A875-FC3E3372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9C63F-4A25-4E36-A74B-91E5CFCC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6F3D5-2CBC-404B-88D3-AD1756F9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735B8-237F-423A-BC8F-95ED5241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B39F-5B03-4402-876E-43640D3E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EBDA-1E27-49CC-AF38-C979DA18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BEF4-1D35-4DFB-B14B-EC65EF29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5B93-8D13-4F4A-9F7A-45C832FD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EFC-8507-40EC-82C8-79639ACB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A12-F770-4BE4-919D-2F435923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单圆角矩形 8" hidden="1"/>
          <p:cNvSpPr/>
          <p:nvPr/>
        </p:nvSpPr>
        <p:spPr>
          <a:xfrm flipV="1">
            <a:off x="8172360" y="4799880"/>
            <a:ext cx="863280" cy="791640"/>
          </a:xfrm>
          <a:prstGeom prst="round1Rect">
            <a:avLst>
              <a:gd name="adj" fmla="val 16667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" name="单圆角矩形 9" hidden="1"/>
          <p:cNvSpPr/>
          <p:nvPr/>
        </p:nvSpPr>
        <p:spPr>
          <a:xfrm>
            <a:off x="8172360" y="120600"/>
            <a:ext cx="863280" cy="4679640"/>
          </a:xfrm>
          <a:prstGeom prst="round1Rect">
            <a:avLst>
              <a:gd name="adj" fmla="val 16667"/>
            </a:avLst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" name="单圆角矩形 10"/>
          <p:cNvSpPr/>
          <p:nvPr/>
        </p:nvSpPr>
        <p:spPr>
          <a:xfrm flipH="1">
            <a:off x="100800" y="120600"/>
            <a:ext cx="8964360" cy="4536720"/>
          </a:xfrm>
          <a:prstGeom prst="round1Rect">
            <a:avLst>
              <a:gd name="adj" fmla="val 23534"/>
            </a:avLst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" name="矩形 11"/>
          <p:cNvSpPr/>
          <p:nvPr/>
        </p:nvSpPr>
        <p:spPr>
          <a:xfrm>
            <a:off x="101520" y="4657680"/>
            <a:ext cx="8964360" cy="875880"/>
          </a:xfrm>
          <a:prstGeom prst="rect">
            <a:avLst/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3f0e2"/>
              </a:solidFill>
              <a:latin typeface="Calibri"/>
              <a:ea typeface="宋体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7640" y="8413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A9D993-0927-49A9-8349-55CE8052D95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单圆角矩形 8" hidden="1"/>
          <p:cNvSpPr/>
          <p:nvPr/>
        </p:nvSpPr>
        <p:spPr>
          <a:xfrm flipV="1">
            <a:off x="8172360" y="4799880"/>
            <a:ext cx="863280" cy="791640"/>
          </a:xfrm>
          <a:prstGeom prst="round1Rect">
            <a:avLst>
              <a:gd name="adj" fmla="val 16667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" name="单圆角矩形 9" hidden="1"/>
          <p:cNvSpPr/>
          <p:nvPr/>
        </p:nvSpPr>
        <p:spPr>
          <a:xfrm>
            <a:off x="8172360" y="120600"/>
            <a:ext cx="863280" cy="4679640"/>
          </a:xfrm>
          <a:prstGeom prst="round1Rect">
            <a:avLst>
              <a:gd name="adj" fmla="val 16667"/>
            </a:avLst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8008920" y="179280"/>
            <a:ext cx="119988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F8385B-9E00-4CC7-BC81-F56A09F1DE0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单圆角矩形 8" hidden="1"/>
          <p:cNvSpPr/>
          <p:nvPr/>
        </p:nvSpPr>
        <p:spPr>
          <a:xfrm flipV="1">
            <a:off x="8172360" y="4799880"/>
            <a:ext cx="863280" cy="791640"/>
          </a:xfrm>
          <a:prstGeom prst="round1Rect">
            <a:avLst>
              <a:gd name="adj" fmla="val 16667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0" name="单圆角矩形 9" hidden="1"/>
          <p:cNvSpPr/>
          <p:nvPr/>
        </p:nvSpPr>
        <p:spPr>
          <a:xfrm>
            <a:off x="8172360" y="120600"/>
            <a:ext cx="863280" cy="4679640"/>
          </a:xfrm>
          <a:prstGeom prst="round1Rect">
            <a:avLst>
              <a:gd name="adj" fmla="val 16667"/>
            </a:avLst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972E79-9012-4F8F-952C-E03CD0E3FB7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in/2013&#36130;&#24180;&#22521;&#35757;&#35745;&#21010;&#34920;-&#38738;&#23707;&#26032;&#19996;&#26041;%20-&#26102;&#38388;&#29256;+&#30446;&#30340;&#29256;-2012-08-25.xlsx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9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9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9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in/2013&#36130;&#24180;&#27963;&#21160;&#35745;&#21010;&#34920;-&#38738;&#23707;&#26032;&#19996;&#26041;.xlsx" TargetMode="Externa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9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9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aike.baidu.com/image/9c57e3fae4a7c394b58f31e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in/2013&#36130;&#24180;&#22521;&#35757;&#35745;&#21010;&#34920;-&#38738;&#23707;&#26032;&#19996;&#26041;%20-&#26102;&#38388;&#29256;+&#30446;&#30340;&#29256;-2012-08-25.xlsx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055520"/>
            <a:ext cx="8351640" cy="1225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述职报告书通用</a:t>
            </a:r>
            <a:r>
              <a:rPr b="1" lang="en-US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完整版下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9" name="直接连接符 9"/>
          <p:cNvCxnSpPr/>
          <p:nvPr/>
        </p:nvCxnSpPr>
        <p:spPr>
          <a:xfrm>
            <a:off x="6813360" y="4686120"/>
            <a:ext cx="360" cy="28944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cxnSp>
        <p:nvCxnSpPr>
          <p:cNvPr id="140" name="直接连接符 11"/>
          <p:cNvCxnSpPr/>
          <p:nvPr/>
        </p:nvCxnSpPr>
        <p:spPr>
          <a:xfrm>
            <a:off x="7772400" y="4686120"/>
            <a:ext cx="360" cy="28944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pic>
        <p:nvPicPr>
          <p:cNvPr id="141" name="Picture 9" descr="http://pica.nipic.com/2008-05-08/200858142654232_2.jpg"/>
          <p:cNvPicPr/>
          <p:nvPr/>
        </p:nvPicPr>
        <p:blipFill>
          <a:blip r:embed="rId1"/>
          <a:stretch/>
        </p:blipFill>
        <p:spPr>
          <a:xfrm>
            <a:off x="4718160" y="3289320"/>
            <a:ext cx="4273200" cy="1552320"/>
          </a:xfrm>
          <a:prstGeom prst="rect">
            <a:avLst/>
          </a:prstGeom>
          <a:ln w="0">
            <a:noFill/>
          </a:ln>
        </p:spPr>
      </p:pic>
      <p:sp>
        <p:nvSpPr>
          <p:cNvPr id="142" name="矩形 12"/>
          <p:cNvSpPr/>
          <p:nvPr/>
        </p:nvSpPr>
        <p:spPr>
          <a:xfrm>
            <a:off x="460800" y="537120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单圆角矩形 12"/>
          <p:cNvSpPr/>
          <p:nvPr/>
        </p:nvSpPr>
        <p:spPr>
          <a:xfrm flipH="1" flipV="1">
            <a:off x="250560" y="3002040"/>
            <a:ext cx="7776720" cy="1943280"/>
          </a:xfrm>
          <a:prstGeom prst="round1Rect">
            <a:avLst>
              <a:gd name="adj" fmla="val 16667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176040" y="480960"/>
            <a:ext cx="6768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财年培训计划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395280" y="3578400"/>
            <a:ext cx="74894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员工入职培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职场英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ffice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技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270000" y="310680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1"/>
          <p:cNvSpPr/>
          <p:nvPr/>
        </p:nvSpPr>
        <p:spPr>
          <a:xfrm>
            <a:off x="250920" y="912960"/>
            <a:ext cx="75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208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00" y="880920"/>
            <a:ext cx="7757640" cy="191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4"/>
          <p:cNvSpPr/>
          <p:nvPr/>
        </p:nvSpPr>
        <p:spPr>
          <a:xfrm>
            <a:off x="-360" y="33732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评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-360" y="677880"/>
            <a:ext cx="3420000" cy="1630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2810160" y="1940760"/>
            <a:ext cx="3522960" cy="1833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3"/>
          <a:stretch/>
        </p:blipFill>
        <p:spPr>
          <a:xfrm>
            <a:off x="5275800" y="3311640"/>
            <a:ext cx="3525480" cy="18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4"/>
          <p:cNvSpPr/>
          <p:nvPr/>
        </p:nvSpPr>
        <p:spPr>
          <a:xfrm>
            <a:off x="-360" y="33732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评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图表 6"/>
          <p:cNvGraphicFramePr/>
          <p:nvPr/>
        </p:nvGraphicFramePr>
        <p:xfrm>
          <a:off x="0" y="520560"/>
          <a:ext cx="9143640" cy="43527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4"/>
          <p:cNvSpPr/>
          <p:nvPr/>
        </p:nvSpPr>
        <p:spPr>
          <a:xfrm>
            <a:off x="-360" y="33732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评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图表 4"/>
          <p:cNvGraphicFramePr/>
          <p:nvPr/>
        </p:nvGraphicFramePr>
        <p:xfrm>
          <a:off x="0" y="337320"/>
          <a:ext cx="9135720" cy="4752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4"/>
          <p:cNvSpPr/>
          <p:nvPr/>
        </p:nvSpPr>
        <p:spPr>
          <a:xfrm>
            <a:off x="-360" y="33732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评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图表 3"/>
          <p:cNvGraphicFramePr/>
          <p:nvPr/>
        </p:nvGraphicFramePr>
        <p:xfrm>
          <a:off x="-360" y="337320"/>
          <a:ext cx="9136080" cy="468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4"/>
          <p:cNvSpPr/>
          <p:nvPr/>
        </p:nvSpPr>
        <p:spPr>
          <a:xfrm>
            <a:off x="-360" y="33732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入司欢迎仪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1"/>
          <p:cNvSpPr/>
          <p:nvPr/>
        </p:nvSpPr>
        <p:spPr>
          <a:xfrm>
            <a:off x="250920" y="912960"/>
            <a:ext cx="75610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滞后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行方式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管指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见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跟进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员工访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场跟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-36360" y="1057320"/>
            <a:ext cx="9143640" cy="382824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4"/>
          <p:cNvSpPr/>
          <p:nvPr/>
        </p:nvSpPr>
        <p:spPr>
          <a:xfrm>
            <a:off x="-360" y="33732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晋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1"/>
          <p:cNvSpPr/>
          <p:nvPr/>
        </p:nvSpPr>
        <p:spPr>
          <a:xfrm>
            <a:off x="251640" y="822960"/>
            <a:ext cx="32382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嘉宾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员工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行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职培训板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1"/>
          <a:stretch/>
        </p:blipFill>
        <p:spPr>
          <a:xfrm rot="699000">
            <a:off x="4448160" y="547200"/>
            <a:ext cx="3774600" cy="48675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544680" y="49626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8"/>
          <p:cNvSpPr/>
          <p:nvPr/>
        </p:nvSpPr>
        <p:spPr>
          <a:xfrm>
            <a:off x="176040" y="480960"/>
            <a:ext cx="6768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财年培训计划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2"/>
          <p:cNvGrpSpPr/>
          <p:nvPr/>
        </p:nvGrpSpPr>
        <p:grpSpPr>
          <a:xfrm>
            <a:off x="250920" y="3002040"/>
            <a:ext cx="7776720" cy="1943280"/>
            <a:chOff x="250920" y="3002040"/>
            <a:chExt cx="7776720" cy="1943280"/>
          </a:xfrm>
        </p:grpSpPr>
        <p:sp>
          <p:nvSpPr>
            <p:cNvPr id="228" name="单圆角矩形 12"/>
            <p:cNvSpPr/>
            <p:nvPr/>
          </p:nvSpPr>
          <p:spPr>
            <a:xfrm flipH="1" flipV="1">
              <a:off x="250560" y="3002040"/>
              <a:ext cx="7776720" cy="1943280"/>
            </a:xfrm>
            <a:prstGeom prst="round1Rect">
              <a:avLst>
                <a:gd name="adj" fmla="val 16667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29" name="Rectangle 14"/>
            <p:cNvSpPr/>
            <p:nvPr/>
          </p:nvSpPr>
          <p:spPr>
            <a:xfrm>
              <a:off x="270000" y="3106800"/>
              <a:ext cx="3238200" cy="366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点介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10"/>
          <p:cNvSpPr/>
          <p:nvPr/>
        </p:nvSpPr>
        <p:spPr>
          <a:xfrm>
            <a:off x="395280" y="3578400"/>
            <a:ext cx="74894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员工入职培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场英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ffice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技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1"/>
          <p:cNvSpPr/>
          <p:nvPr/>
        </p:nvSpPr>
        <p:spPr>
          <a:xfrm>
            <a:off x="250920" y="912960"/>
            <a:ext cx="75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232" name="Picture 1" descr=""/>
          <p:cNvPicPr/>
          <p:nvPr/>
        </p:nvPicPr>
        <p:blipFill>
          <a:blip r:embed="rId1"/>
          <a:stretch/>
        </p:blipFill>
        <p:spPr>
          <a:xfrm>
            <a:off x="272160" y="864720"/>
            <a:ext cx="768384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750960" y="312480"/>
            <a:ext cx="1217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cc00"/>
                </a:solidFill>
                <a:latin typeface="微软雅黑"/>
                <a:ea typeface="微软雅黑"/>
              </a:rPr>
              <a:t>职场</a:t>
            </a:r>
            <a:r>
              <a:rPr b="1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英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324000" y="944280"/>
            <a:ext cx="5374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背景介绍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：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型组织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|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身优势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|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丰富生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339840" y="1917360"/>
            <a:ext cx="7697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周期：春秋两季，每季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长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：教师委员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：详见文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8"/>
          <p:cNvSpPr/>
          <p:nvPr/>
        </p:nvSpPr>
        <p:spPr>
          <a:xfrm>
            <a:off x="176040" y="480960"/>
            <a:ext cx="6768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财年培训计划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2"/>
          <p:cNvGrpSpPr/>
          <p:nvPr/>
        </p:nvGrpSpPr>
        <p:grpSpPr>
          <a:xfrm>
            <a:off x="250920" y="3002040"/>
            <a:ext cx="7776720" cy="1943280"/>
            <a:chOff x="250920" y="3002040"/>
            <a:chExt cx="7776720" cy="1943280"/>
          </a:xfrm>
        </p:grpSpPr>
        <p:sp>
          <p:nvSpPr>
            <p:cNvPr id="238" name="单圆角矩形 12"/>
            <p:cNvSpPr/>
            <p:nvPr/>
          </p:nvSpPr>
          <p:spPr>
            <a:xfrm flipH="1" flipV="1">
              <a:off x="250560" y="3002040"/>
              <a:ext cx="7776720" cy="1943280"/>
            </a:xfrm>
            <a:prstGeom prst="round1Rect">
              <a:avLst>
                <a:gd name="adj" fmla="val 16667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39" name="Rectangle 14"/>
            <p:cNvSpPr/>
            <p:nvPr/>
          </p:nvSpPr>
          <p:spPr>
            <a:xfrm>
              <a:off x="270000" y="3106800"/>
              <a:ext cx="3238200" cy="366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点介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10"/>
          <p:cNvSpPr/>
          <p:nvPr/>
        </p:nvSpPr>
        <p:spPr>
          <a:xfrm>
            <a:off x="395280" y="3578400"/>
            <a:ext cx="74894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员工入职培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场英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Offic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1"/>
          <p:cNvSpPr/>
          <p:nvPr/>
        </p:nvSpPr>
        <p:spPr>
          <a:xfrm>
            <a:off x="250920" y="912960"/>
            <a:ext cx="75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242" name="Picture 1" descr=""/>
          <p:cNvPicPr/>
          <p:nvPr/>
        </p:nvPicPr>
        <p:blipFill>
          <a:blip r:embed="rId1"/>
          <a:stretch/>
        </p:blipFill>
        <p:spPr>
          <a:xfrm>
            <a:off x="265320" y="880920"/>
            <a:ext cx="768384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单圆角矩形 4"/>
          <p:cNvSpPr/>
          <p:nvPr/>
        </p:nvSpPr>
        <p:spPr>
          <a:xfrm flipV="1">
            <a:off x="4610160" y="226080"/>
            <a:ext cx="4357440" cy="5306760"/>
          </a:xfrm>
          <a:prstGeom prst="round1Rect">
            <a:avLst>
              <a:gd name="adj" fmla="val 9703"/>
            </a:avLst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4" name="单圆角矩形 5"/>
          <p:cNvSpPr/>
          <p:nvPr/>
        </p:nvSpPr>
        <p:spPr>
          <a:xfrm flipH="1">
            <a:off x="3968640" y="961920"/>
            <a:ext cx="3816000" cy="1263240"/>
          </a:xfrm>
          <a:prstGeom prst="round1Rect">
            <a:avLst>
              <a:gd name="adj" fmla="val 32752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chemeClr val="lt1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矩形 6"/>
          <p:cNvSpPr/>
          <p:nvPr/>
        </p:nvSpPr>
        <p:spPr>
          <a:xfrm>
            <a:off x="3995640" y="1577880"/>
            <a:ext cx="144000" cy="647280"/>
          </a:xfrm>
          <a:prstGeom prst="rect">
            <a:avLst/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6335640" y="2496960"/>
            <a:ext cx="72972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 hidden="1"/>
          <p:cNvSpPr/>
          <p:nvPr/>
        </p:nvSpPr>
        <p:spPr>
          <a:xfrm>
            <a:off x="7632000" y="2522520"/>
            <a:ext cx="3074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Num" idx="16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77A508-8D36-40F0-B3BA-1271EFA9AA8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单圆角矩形 4"/>
          <p:cNvSpPr/>
          <p:nvPr/>
        </p:nvSpPr>
        <p:spPr>
          <a:xfrm flipV="1">
            <a:off x="4610160" y="226080"/>
            <a:ext cx="4357440" cy="5306760"/>
          </a:xfrm>
          <a:prstGeom prst="round1Rect">
            <a:avLst>
              <a:gd name="adj" fmla="val 9703"/>
            </a:avLst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5" name="单圆角矩形 5"/>
          <p:cNvSpPr/>
          <p:nvPr/>
        </p:nvSpPr>
        <p:spPr>
          <a:xfrm flipH="1">
            <a:off x="3968640" y="961920"/>
            <a:ext cx="3816000" cy="1263240"/>
          </a:xfrm>
          <a:prstGeom prst="round1Rect">
            <a:avLst>
              <a:gd name="adj" fmla="val 32752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chemeClr val="lt1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3995640" y="1577880"/>
            <a:ext cx="144000" cy="647280"/>
          </a:xfrm>
          <a:prstGeom prst="rect">
            <a:avLst/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6335640" y="2496960"/>
            <a:ext cx="72972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8" hidden="1"/>
          <p:cNvSpPr/>
          <p:nvPr/>
        </p:nvSpPr>
        <p:spPr>
          <a:xfrm>
            <a:off x="7632000" y="2522520"/>
            <a:ext cx="3074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单圆角矩形 12"/>
          <p:cNvSpPr/>
          <p:nvPr/>
        </p:nvSpPr>
        <p:spPr>
          <a:xfrm flipH="1" flipV="1">
            <a:off x="250560" y="3002040"/>
            <a:ext cx="7776720" cy="1943280"/>
          </a:xfrm>
          <a:prstGeom prst="round1Rect">
            <a:avLst>
              <a:gd name="adj" fmla="val 16667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176040" y="480960"/>
            <a:ext cx="6768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财年活动计划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395280" y="3578400"/>
            <a:ext cx="74894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季旅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4"/>
          <p:cNvSpPr/>
          <p:nvPr/>
        </p:nvSpPr>
        <p:spPr>
          <a:xfrm>
            <a:off x="270000" y="310680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1"/>
          <p:cNvSpPr/>
          <p:nvPr/>
        </p:nvSpPr>
        <p:spPr>
          <a:xfrm>
            <a:off x="250920" y="912960"/>
            <a:ext cx="75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254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8200" y="1057320"/>
            <a:ext cx="775944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Num" idx="17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468542-A2D3-4614-B06A-2D2254E9C8D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单圆角矩形 4"/>
          <p:cNvSpPr/>
          <p:nvPr/>
        </p:nvSpPr>
        <p:spPr>
          <a:xfrm flipV="1">
            <a:off x="4610160" y="226080"/>
            <a:ext cx="4357440" cy="5306760"/>
          </a:xfrm>
          <a:prstGeom prst="round1Rect">
            <a:avLst>
              <a:gd name="adj" fmla="val 9703"/>
            </a:avLst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7" name="单圆角矩形 5"/>
          <p:cNvSpPr/>
          <p:nvPr/>
        </p:nvSpPr>
        <p:spPr>
          <a:xfrm flipH="1">
            <a:off x="3968640" y="961920"/>
            <a:ext cx="3816000" cy="1263240"/>
          </a:xfrm>
          <a:prstGeom prst="round1Rect">
            <a:avLst>
              <a:gd name="adj" fmla="val 32752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chemeClr val="lt1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矩形 6"/>
          <p:cNvSpPr/>
          <p:nvPr/>
        </p:nvSpPr>
        <p:spPr>
          <a:xfrm>
            <a:off x="3995640" y="1577880"/>
            <a:ext cx="144000" cy="647280"/>
          </a:xfrm>
          <a:prstGeom prst="rect">
            <a:avLst/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6335640" y="2496960"/>
            <a:ext cx="72972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8" hidden="1"/>
          <p:cNvSpPr/>
          <p:nvPr/>
        </p:nvSpPr>
        <p:spPr>
          <a:xfrm>
            <a:off x="7632000" y="2522520"/>
            <a:ext cx="3074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0"/>
          <p:cNvSpPr/>
          <p:nvPr/>
        </p:nvSpPr>
        <p:spPr>
          <a:xfrm>
            <a:off x="395280" y="3578400"/>
            <a:ext cx="74894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-360" y="33732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544680" y="49626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571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905D9-DFEC-4968-9B50-25F3B43834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Num" idx="13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351D6A-CF03-4A72-8137-7416644B124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单圆角矩形 4"/>
          <p:cNvSpPr/>
          <p:nvPr/>
        </p:nvSpPr>
        <p:spPr>
          <a:xfrm flipV="1">
            <a:off x="4610160" y="226080"/>
            <a:ext cx="4357440" cy="5306760"/>
          </a:xfrm>
          <a:prstGeom prst="round1Rect">
            <a:avLst>
              <a:gd name="adj" fmla="val 9703"/>
            </a:avLst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0" name="单圆角矩形 5"/>
          <p:cNvSpPr/>
          <p:nvPr/>
        </p:nvSpPr>
        <p:spPr>
          <a:xfrm flipH="1">
            <a:off x="3968640" y="961920"/>
            <a:ext cx="3816000" cy="1263240"/>
          </a:xfrm>
          <a:prstGeom prst="round1Rect">
            <a:avLst>
              <a:gd name="adj" fmla="val 32752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chemeClr val="lt1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3995640" y="1577880"/>
            <a:ext cx="144000" cy="647280"/>
          </a:xfrm>
          <a:prstGeom prst="rect">
            <a:avLst/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6335640" y="2496960"/>
            <a:ext cx="72972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 hidden="1"/>
          <p:cNvSpPr/>
          <p:nvPr/>
        </p:nvSpPr>
        <p:spPr>
          <a:xfrm>
            <a:off x="7632000" y="2522520"/>
            <a:ext cx="3074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单圆角矩形 16"/>
          <p:cNvSpPr/>
          <p:nvPr/>
        </p:nvSpPr>
        <p:spPr>
          <a:xfrm flipH="1" flipV="1">
            <a:off x="3924360" y="3217320"/>
            <a:ext cx="4173120" cy="1727640"/>
          </a:xfrm>
          <a:prstGeom prst="round1Rect">
            <a:avLst>
              <a:gd name="adj" fmla="val 16667"/>
            </a:avLst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5" name="单圆角矩形 3"/>
          <p:cNvSpPr/>
          <p:nvPr/>
        </p:nvSpPr>
        <p:spPr>
          <a:xfrm flipH="1">
            <a:off x="140400" y="120600"/>
            <a:ext cx="7956360" cy="2663640"/>
          </a:xfrm>
          <a:prstGeom prst="round1Rect">
            <a:avLst>
              <a:gd name="adj" fmla="val 9703"/>
            </a:avLst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2484360" y="417600"/>
            <a:ext cx="431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640" y="264960"/>
            <a:ext cx="1945080" cy="2411280"/>
          </a:xfrm>
          <a:prstGeom prst="rect">
            <a:avLst/>
          </a:prstGeom>
          <a:ln w="9525">
            <a:solidFill>
              <a:srgbClr val="ffffff"/>
            </a:solidFill>
            <a:miter/>
          </a:ln>
        </p:spPr>
      </p:pic>
      <p:grpSp>
        <p:nvGrpSpPr>
          <p:cNvPr id="158" name="Group 1"/>
          <p:cNvGrpSpPr/>
          <p:nvPr/>
        </p:nvGrpSpPr>
        <p:grpSpPr>
          <a:xfrm>
            <a:off x="2227320" y="985680"/>
            <a:ext cx="5657760" cy="2015640"/>
            <a:chOff x="2227320" y="985680"/>
            <a:chExt cx="5657760" cy="2015640"/>
          </a:xfrm>
        </p:grpSpPr>
        <p:sp>
          <p:nvSpPr>
            <p:cNvPr id="159" name="圆角矩形 9"/>
            <p:cNvSpPr/>
            <p:nvPr/>
          </p:nvSpPr>
          <p:spPr>
            <a:xfrm>
              <a:off x="2408400" y="985680"/>
              <a:ext cx="5476680" cy="2015640"/>
            </a:xfrm>
            <a:prstGeom prst="roundRect">
              <a:avLst>
                <a:gd name="adj" fmla="val 706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60" name="等腰三角形 11"/>
            <p:cNvSpPr/>
            <p:nvPr/>
          </p:nvSpPr>
          <p:spPr>
            <a:xfrm rot="16200000">
              <a:off x="2168640" y="1391040"/>
              <a:ext cx="360000" cy="242640"/>
            </a:xfrm>
            <a:prstGeom prst="triangle">
              <a:avLst>
                <a:gd name="adj" fmla="val 50000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61" name="矩形 10"/>
          <p:cNvSpPr/>
          <p:nvPr/>
        </p:nvSpPr>
        <p:spPr>
          <a:xfrm>
            <a:off x="2484360" y="1128600"/>
            <a:ext cx="538128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刘晓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青岛新东方人力资源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专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3"/>
          <p:cNvSpPr/>
          <p:nvPr/>
        </p:nvSpPr>
        <p:spPr>
          <a:xfrm>
            <a:off x="274320" y="31449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7"/>
          <p:cNvSpPr/>
          <p:nvPr/>
        </p:nvSpPr>
        <p:spPr>
          <a:xfrm>
            <a:off x="179280" y="3578400"/>
            <a:ext cx="3671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4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-09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至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学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|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学教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4120920" y="3424320"/>
            <a:ext cx="668880" cy="33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接阶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"/>
          <p:cNvSpPr/>
          <p:nvPr/>
        </p:nvSpPr>
        <p:spPr>
          <a:xfrm>
            <a:off x="4106880" y="3937680"/>
            <a:ext cx="3671640" cy="2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4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-08-16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至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-08-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3"/>
          <p:cNvSpPr/>
          <p:nvPr/>
        </p:nvSpPr>
        <p:spPr>
          <a:xfrm>
            <a:off x="204840" y="904320"/>
            <a:ext cx="5436720" cy="16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企业发展情况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订和执行企业、人员培训计划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善和监督执行企业的培训制度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立内部培训师队伍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实施培训，管理培训人员材料并建立培训档案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跟踪培训计划执行情况，培训后续效果的评估和反馈工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"/>
          <p:cNvGrpSpPr/>
          <p:nvPr/>
        </p:nvGrpSpPr>
        <p:grpSpPr>
          <a:xfrm>
            <a:off x="179280" y="431640"/>
            <a:ext cx="5835240" cy="636120"/>
            <a:chOff x="179280" y="431640"/>
            <a:chExt cx="5835240" cy="636120"/>
          </a:xfrm>
        </p:grpSpPr>
        <p:sp>
          <p:nvSpPr>
            <p:cNvPr id="168" name="Rectangle 14"/>
            <p:cNvSpPr/>
            <p:nvPr/>
          </p:nvSpPr>
          <p:spPr>
            <a:xfrm>
              <a:off x="430200" y="558720"/>
              <a:ext cx="55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14000"/>
                </a:lnSpc>
              </a:pPr>
              <a:r>
                <a:rPr b="1" lang="zh-CN" sz="16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培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单圆角矩形 13"/>
            <p:cNvSpPr/>
            <p:nvPr/>
          </p:nvSpPr>
          <p:spPr>
            <a:xfrm>
              <a:off x="179280" y="431640"/>
              <a:ext cx="144000" cy="636120"/>
            </a:xfrm>
            <a:prstGeom prst="round1Rect">
              <a:avLst>
                <a:gd name="adj" fmla="val 16667"/>
              </a:avLst>
            </a:prstGeom>
            <a:solidFill>
              <a:srgbClr val="ffcc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70" name="Group 2"/>
          <p:cNvGrpSpPr/>
          <p:nvPr/>
        </p:nvGrpSpPr>
        <p:grpSpPr>
          <a:xfrm>
            <a:off x="227160" y="2705760"/>
            <a:ext cx="5928840" cy="645120"/>
            <a:chOff x="227160" y="2705760"/>
            <a:chExt cx="5928840" cy="645120"/>
          </a:xfrm>
        </p:grpSpPr>
        <p:sp>
          <p:nvSpPr>
            <p:cNvPr id="171" name="Rectangle 15"/>
            <p:cNvSpPr/>
            <p:nvPr/>
          </p:nvSpPr>
          <p:spPr>
            <a:xfrm>
              <a:off x="468360" y="2705760"/>
              <a:ext cx="56876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14000"/>
                </a:lnSpc>
              </a:pPr>
              <a:r>
                <a:rPr b="1" lang="zh-CN" sz="16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团队建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单圆角矩形 14"/>
            <p:cNvSpPr/>
            <p:nvPr/>
          </p:nvSpPr>
          <p:spPr>
            <a:xfrm>
              <a:off x="227160" y="2712960"/>
              <a:ext cx="144000" cy="637920"/>
            </a:xfrm>
            <a:prstGeom prst="round1Rect">
              <a:avLst>
                <a:gd name="adj" fmla="val 16667"/>
              </a:avLst>
            </a:prstGeom>
            <a:solidFill>
              <a:srgbClr val="ffcc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73" name="Rectangle 13"/>
          <p:cNvSpPr/>
          <p:nvPr/>
        </p:nvSpPr>
        <p:spPr>
          <a:xfrm>
            <a:off x="202680" y="3339000"/>
            <a:ext cx="5436720" cy="10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协助参与学校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组织的团队活动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树立正向的企业价值观，宣扬新东方文化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级交办的其他工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Num" idx="14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341E8B-E18C-47DC-B49A-2BA805B5A45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单圆角矩形 4"/>
          <p:cNvSpPr/>
          <p:nvPr/>
        </p:nvSpPr>
        <p:spPr>
          <a:xfrm flipV="1">
            <a:off x="4610160" y="226080"/>
            <a:ext cx="4357440" cy="5306760"/>
          </a:xfrm>
          <a:prstGeom prst="round1Rect">
            <a:avLst>
              <a:gd name="adj" fmla="val 9703"/>
            </a:avLst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6" name="单圆角矩形 5"/>
          <p:cNvSpPr/>
          <p:nvPr/>
        </p:nvSpPr>
        <p:spPr>
          <a:xfrm flipH="1">
            <a:off x="3968640" y="961920"/>
            <a:ext cx="3816000" cy="1263240"/>
          </a:xfrm>
          <a:prstGeom prst="round1Rect">
            <a:avLst>
              <a:gd name="adj" fmla="val 32752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chemeClr val="lt1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矩形 6"/>
          <p:cNvSpPr/>
          <p:nvPr/>
        </p:nvSpPr>
        <p:spPr>
          <a:xfrm>
            <a:off x="3995640" y="1577880"/>
            <a:ext cx="144000" cy="647280"/>
          </a:xfrm>
          <a:prstGeom prst="rect">
            <a:avLst/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8" name="TextBox 7"/>
          <p:cNvSpPr/>
          <p:nvPr/>
        </p:nvSpPr>
        <p:spPr>
          <a:xfrm>
            <a:off x="6335640" y="2496960"/>
            <a:ext cx="72972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8" hidden="1"/>
          <p:cNvSpPr/>
          <p:nvPr/>
        </p:nvSpPr>
        <p:spPr>
          <a:xfrm>
            <a:off x="7632000" y="2522520"/>
            <a:ext cx="3074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44680" y="49626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3"/>
          <p:cNvSpPr/>
          <p:nvPr/>
        </p:nvSpPr>
        <p:spPr>
          <a:xfrm>
            <a:off x="395280" y="1371600"/>
            <a:ext cx="55764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-08-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-08-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179280" y="556200"/>
            <a:ext cx="5940360" cy="687960"/>
            <a:chOff x="179280" y="556200"/>
            <a:chExt cx="5940360" cy="687960"/>
          </a:xfrm>
        </p:grpSpPr>
        <p:sp>
          <p:nvSpPr>
            <p:cNvPr id="183" name="TextBox 8"/>
            <p:cNvSpPr/>
            <p:nvPr/>
          </p:nvSpPr>
          <p:spPr>
            <a:xfrm>
              <a:off x="363600" y="556200"/>
              <a:ext cx="57560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14000"/>
                </a:lnSpc>
              </a:pPr>
              <a:r>
                <a:rPr b="1" lang="zh-CN" sz="16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试用期考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单圆角矩形 11"/>
            <p:cNvSpPr/>
            <p:nvPr/>
          </p:nvSpPr>
          <p:spPr>
            <a:xfrm>
              <a:off x="179280" y="608040"/>
              <a:ext cx="144000" cy="636120"/>
            </a:xfrm>
            <a:prstGeom prst="round1Rect">
              <a:avLst>
                <a:gd name="adj" fmla="val 16667"/>
              </a:avLst>
            </a:prstGeom>
            <a:solidFill>
              <a:srgbClr val="ffcc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85" name="Group 5"/>
          <p:cNvGrpSpPr/>
          <p:nvPr/>
        </p:nvGrpSpPr>
        <p:grpSpPr>
          <a:xfrm>
            <a:off x="2195640" y="3260880"/>
            <a:ext cx="5317560" cy="637920"/>
            <a:chOff x="2195640" y="3260880"/>
            <a:chExt cx="5317560" cy="637920"/>
          </a:xfrm>
        </p:grpSpPr>
        <p:sp>
          <p:nvSpPr>
            <p:cNvPr id="186" name="Rectangle 10"/>
            <p:cNvSpPr/>
            <p:nvPr/>
          </p:nvSpPr>
          <p:spPr>
            <a:xfrm>
              <a:off x="2411280" y="3404160"/>
              <a:ext cx="5101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14000"/>
                </a:lnSpc>
              </a:pPr>
              <a:r>
                <a:rPr b="1" lang="zh-CN" sz="16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新员工入职培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单圆角矩形 12"/>
            <p:cNvSpPr/>
            <p:nvPr/>
          </p:nvSpPr>
          <p:spPr>
            <a:xfrm>
              <a:off x="2195640" y="3260880"/>
              <a:ext cx="144000" cy="637920"/>
            </a:xfrm>
            <a:prstGeom prst="round1Rect">
              <a:avLst>
                <a:gd name="adj" fmla="val 16667"/>
              </a:avLst>
            </a:prstGeom>
            <a:solidFill>
              <a:srgbClr val="ffcc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88" name="矩形 3"/>
          <p:cNvSpPr/>
          <p:nvPr/>
        </p:nvSpPr>
        <p:spPr>
          <a:xfrm>
            <a:off x="2270160" y="4081320"/>
            <a:ext cx="55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-08-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icture 1"/>
          <p:cNvSpPr/>
          <p:nvPr/>
        </p:nvSpPr>
        <p:spPr>
          <a:xfrm>
            <a:off x="179280" y="3085920"/>
            <a:ext cx="1897920" cy="15181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icture 3"/>
          <p:cNvSpPr/>
          <p:nvPr/>
        </p:nvSpPr>
        <p:spPr>
          <a:xfrm>
            <a:off x="5508000" y="245880"/>
            <a:ext cx="3120840" cy="2495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Num" idx="15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669CC3-8F13-4C60-8308-473142A67C1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单圆角矩形 4"/>
          <p:cNvSpPr/>
          <p:nvPr/>
        </p:nvSpPr>
        <p:spPr>
          <a:xfrm flipV="1">
            <a:off x="4610160" y="226080"/>
            <a:ext cx="4357440" cy="5306760"/>
          </a:xfrm>
          <a:prstGeom prst="round1Rect">
            <a:avLst>
              <a:gd name="adj" fmla="val 9703"/>
            </a:avLst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3" name="单圆角矩形 5"/>
          <p:cNvSpPr/>
          <p:nvPr/>
        </p:nvSpPr>
        <p:spPr>
          <a:xfrm flipH="1">
            <a:off x="3968640" y="961920"/>
            <a:ext cx="3816000" cy="1263240"/>
          </a:xfrm>
          <a:prstGeom prst="round1Rect">
            <a:avLst>
              <a:gd name="adj" fmla="val 32752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chemeClr val="lt1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矩形 6"/>
          <p:cNvSpPr/>
          <p:nvPr/>
        </p:nvSpPr>
        <p:spPr>
          <a:xfrm>
            <a:off x="3995640" y="1577880"/>
            <a:ext cx="144000" cy="647280"/>
          </a:xfrm>
          <a:prstGeom prst="rect">
            <a:avLst/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6335640" y="2496960"/>
            <a:ext cx="72972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8" hidden="1"/>
          <p:cNvSpPr/>
          <p:nvPr/>
        </p:nvSpPr>
        <p:spPr>
          <a:xfrm>
            <a:off x="7632000" y="2522520"/>
            <a:ext cx="3074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单圆角矩形 12"/>
          <p:cNvSpPr/>
          <p:nvPr/>
        </p:nvSpPr>
        <p:spPr>
          <a:xfrm flipH="1" flipV="1">
            <a:off x="250560" y="3002040"/>
            <a:ext cx="7776720" cy="1943280"/>
          </a:xfrm>
          <a:prstGeom prst="round1Rect">
            <a:avLst>
              <a:gd name="adj" fmla="val 16667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76040" y="480960"/>
            <a:ext cx="6768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财年培训计划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95280" y="3578400"/>
            <a:ext cx="74894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员工入职培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场英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Offic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270000" y="310680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1"/>
          <p:cNvSpPr/>
          <p:nvPr/>
        </p:nvSpPr>
        <p:spPr>
          <a:xfrm>
            <a:off x="250920" y="912960"/>
            <a:ext cx="75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202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00" y="880920"/>
            <a:ext cx="7757640" cy="191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  <Words>449</Words>
  <Paragraphs>16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8:45:17Z</dcterms:created>
  <dc:creator>Sophie</dc:creator>
  <dc:description/>
  <dc:language>en-US</dc:language>
  <cp:lastModifiedBy>王玉清</cp:lastModifiedBy>
  <dcterms:modified xsi:type="dcterms:W3CDTF">2016-03-07T02:37:16Z</dcterms:modified>
  <cp:revision>75</cp:revision>
  <dc:subject/>
  <dc:title>行业观察站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4</vt:r8>
  </property>
  <property fmtid="{D5CDD505-2E9C-101B-9397-08002B2CF9AE}" pid="3" name="PresentationFormat">
    <vt:lpwstr>全屏显示(16:10)</vt:lpwstr>
  </property>
  <property fmtid="{D5CDD505-2E9C-101B-9397-08002B2CF9AE}" pid="4" name="Slides">
    <vt:r8>24</vt:r8>
  </property>
</Properties>
</file>