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_rels/.rels" ContentType="application/vnd.openxmlformats-package.relationships+xml"/>
  <Override PartName="/customXml/_rels/item1.xml.rels" ContentType="application/vnd.openxmlformats-package.relationships+xml"/>
  <Override PartName="/customXml/item1.xml" ContentType="application/xml"/>
  <Override PartName="/customXml/itemProps1.xml" ContentType="application/vnd.openxmlformats-officedocument.customXml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customXml" Target="../customXml/item1.xml"/><Relationship Id="rId5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65712-6107-4CAE-A4D4-CE60B356B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240" cy="21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00680"/>
            <a:ext cx="8229240" cy="21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5EACA-108A-47C5-A357-FF16DCA16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15800" cy="21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76520"/>
            <a:ext cx="4015800" cy="21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00680"/>
            <a:ext cx="4015800" cy="21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00680"/>
            <a:ext cx="4015800" cy="21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5356D-39A3-4132-B73A-ED65974FA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2649600" cy="21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76520"/>
            <a:ext cx="2649600" cy="21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76520"/>
            <a:ext cx="2649600" cy="21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00680"/>
            <a:ext cx="2649600" cy="21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00680"/>
            <a:ext cx="2649600" cy="21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00680"/>
            <a:ext cx="2649600" cy="21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61CF3-A897-4F0B-9D5F-37E4DAC4F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7BCE3-F7C6-4EEC-A628-9CD9AB3C6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76520"/>
            <a:ext cx="8229240" cy="444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CC769-4828-4B1F-8925-FDCB69DD8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240" cy="444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5F6A5-5C72-489F-B07D-7DF741D9A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15800" cy="444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76520"/>
            <a:ext cx="4015800" cy="444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FCAA4-9237-4566-AEA0-4260C7094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AC0CC-24CF-4501-AD1F-B7742B0EC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6094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7BDE7-B8D6-4327-A283-3087F6995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15800" cy="21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76520"/>
            <a:ext cx="4015800" cy="444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00680"/>
            <a:ext cx="4015800" cy="21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D44C4-0CEB-4E75-B441-58FB26662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76520"/>
            <a:ext cx="8229240" cy="444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757FE-BF50-44FC-9F54-0C2F31857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15800" cy="444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76520"/>
            <a:ext cx="4015800" cy="21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00680"/>
            <a:ext cx="4015800" cy="21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4243D-1650-4818-BE33-61560AEF0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15800" cy="21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76520"/>
            <a:ext cx="4015800" cy="21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00680"/>
            <a:ext cx="8229240" cy="21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AA2EB-FF57-44B9-BEC0-C57B2BD29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240" cy="21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00680"/>
            <a:ext cx="8229240" cy="21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00E4A-B624-41C4-9A7D-406F29ED5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15800" cy="21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76520"/>
            <a:ext cx="4015800" cy="21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00680"/>
            <a:ext cx="4015800" cy="21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00680"/>
            <a:ext cx="4015800" cy="21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A7440-1960-4E66-9D74-4A798A235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2649600" cy="21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76520"/>
            <a:ext cx="2649600" cy="21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76520"/>
            <a:ext cx="2649600" cy="21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00680"/>
            <a:ext cx="2649600" cy="21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00680"/>
            <a:ext cx="2649600" cy="21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00680"/>
            <a:ext cx="2649600" cy="21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9873E-154B-45F6-B12C-D2CF4E3DF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646ACD-4C17-4C1A-80C2-54DD2D780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76520"/>
            <a:ext cx="8229240" cy="444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B1E81F-71E5-4462-8AB7-A6E25C237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240" cy="444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883FD1-8791-4994-BA4A-9B2E22F30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15800" cy="444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76520"/>
            <a:ext cx="4015800" cy="444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C020A5-20D7-47C4-9732-5E6B6A0AF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A712B5-9BCA-430E-96DD-35D5BE4D8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240" cy="444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35ECD-CD67-4DE5-994D-9C588064E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6094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9DC1F8-DAA7-42AA-BB32-B322E8390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15800" cy="21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76520"/>
            <a:ext cx="4015800" cy="444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00680"/>
            <a:ext cx="4015800" cy="21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8CA1FE-883E-4771-AA5C-B9A0D17AA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15800" cy="444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76520"/>
            <a:ext cx="4015800" cy="21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4000680"/>
            <a:ext cx="4015800" cy="21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1871AD-7E57-4831-9443-899BCCA74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15800" cy="21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76520"/>
            <a:ext cx="4015800" cy="21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000680"/>
            <a:ext cx="8229240" cy="21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054265-F717-4436-9295-87FFA5E26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240" cy="21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4000680"/>
            <a:ext cx="8229240" cy="21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EC6477-4704-41DF-9048-5F0D43245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15800" cy="21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76520"/>
            <a:ext cx="4015800" cy="21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4000680"/>
            <a:ext cx="4015800" cy="21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4000680"/>
            <a:ext cx="4015800" cy="21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710C0A-0687-4D50-A477-4A0F460F7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2649600" cy="21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76520"/>
            <a:ext cx="2649600" cy="21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76520"/>
            <a:ext cx="2649600" cy="21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4000680"/>
            <a:ext cx="2649600" cy="21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4000680"/>
            <a:ext cx="2649600" cy="21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4000680"/>
            <a:ext cx="2649600" cy="21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DB8F2A-86D8-42DD-B528-5F29684C4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705AAE-22F6-4D9B-A801-69D243002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76520"/>
            <a:ext cx="8229240" cy="444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E038D0-8575-4A54-BF3C-D8BAE0F76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240" cy="444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9784D5-EC3B-4866-BE0B-1E1FFF711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15800" cy="444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76520"/>
            <a:ext cx="4015800" cy="444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C82AA-57FF-4AFC-A69C-FB1607F40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15800" cy="444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76520"/>
            <a:ext cx="4015800" cy="444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A51E21-74E7-412C-9C95-8EB887D82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39FCF2-9045-491D-B1EA-027E8E641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6094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297D1F-FF52-4EB4-BC64-4DB2223FB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15800" cy="21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76520"/>
            <a:ext cx="4015800" cy="444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00680"/>
            <a:ext cx="4015800" cy="21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A6BA40-F0D6-40FE-8CEC-5AAF29AA7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15800" cy="444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76520"/>
            <a:ext cx="4015800" cy="21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4000680"/>
            <a:ext cx="4015800" cy="21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E672B4-D8BB-4EEE-B3EF-20397F7C3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15800" cy="21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76520"/>
            <a:ext cx="4015800" cy="21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4000680"/>
            <a:ext cx="8229240" cy="21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969D0F-9BED-4817-9C2F-6FA98E220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240" cy="21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4000680"/>
            <a:ext cx="8229240" cy="21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666916-7918-4C6A-A47F-4F625C144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15800" cy="21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76520"/>
            <a:ext cx="4015800" cy="21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4000680"/>
            <a:ext cx="4015800" cy="21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4000680"/>
            <a:ext cx="4015800" cy="21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EA5521-9CFB-4A5C-BDD7-230F93A15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2649600" cy="21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76520"/>
            <a:ext cx="2649600" cy="21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76520"/>
            <a:ext cx="2649600" cy="21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4000680"/>
            <a:ext cx="2649600" cy="21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4000680"/>
            <a:ext cx="2649600" cy="21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4000680"/>
            <a:ext cx="2649600" cy="21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5387DC-D83B-40C2-81C1-EB19C80F0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A3CE0-8163-45AE-A503-91DFEFFCB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6094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0CEA3-3147-47DB-B9E4-35012B414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15800" cy="21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76520"/>
            <a:ext cx="4015800" cy="444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00680"/>
            <a:ext cx="4015800" cy="21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03BDC-6663-4D6C-936A-DEEF489ED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15800" cy="444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76520"/>
            <a:ext cx="4015800" cy="21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00680"/>
            <a:ext cx="4015800" cy="21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A2825-4D0E-47E1-87B1-4C76A0823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15800" cy="21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76520"/>
            <a:ext cx="4015800" cy="21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00680"/>
            <a:ext cx="8229240" cy="21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695BC-B33C-4075-A5B3-7AFBE040F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0" y="3809880"/>
            <a:ext cx="3809520" cy="1828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i="1" lang="zh-CN" sz="3600" spc="-1" strike="noStrike">
                <a:solidFill>
                  <a:srgbClr val="000000"/>
                </a:solidFill>
                <a:latin typeface="Century Gothic"/>
              </a:rPr>
              <a:t>单击此处编辑母版标题样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F591561-F26B-4460-B1F3-2A769A8551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i="1" lang="zh-CN" sz="4400" spc="-1" strike="noStrike">
                <a:solidFill>
                  <a:srgbClr val="ffffff"/>
                </a:solidFill>
                <a:latin typeface="Century Gothic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Symbol" charset="2"/>
              <a:buChar char=""/>
            </a:pPr>
            <a:r>
              <a:rPr b="0" lang="zh-CN" sz="2400" spc="-1" strike="noStrike">
                <a:solidFill>
                  <a:srgbClr val="ffffff"/>
                </a:solidFill>
                <a:latin typeface="Century Gothic"/>
              </a:rPr>
              <a:t>单击此处编辑母版文本样式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Symbol" charset="2"/>
              <a:buChar char=""/>
            </a:pPr>
            <a:r>
              <a:rPr b="0" lang="zh-CN" sz="2000" spc="-1" strike="noStrike">
                <a:solidFill>
                  <a:srgbClr val="ffffff"/>
                </a:solidFill>
                <a:latin typeface="Century Gothic"/>
              </a:rPr>
              <a:t>第二级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lnSpc>
                <a:spcPct val="100000"/>
              </a:lnSpc>
              <a:spcBef>
                <a:spcPts val="360"/>
              </a:spcBef>
              <a:buClr>
                <a:srgbClr val="ffffff"/>
              </a:buClr>
              <a:buFont typeface="Symbol" charset="2"/>
              <a:buChar char=""/>
            </a:pPr>
            <a:r>
              <a:rPr b="0" lang="zh-CN" sz="1800" spc="-1" strike="noStrike">
                <a:solidFill>
                  <a:srgbClr val="ffffff"/>
                </a:solidFill>
                <a:latin typeface="Century Gothic"/>
              </a:rPr>
              <a:t>第三级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lnSpc>
                <a:spcPct val="100000"/>
              </a:lnSpc>
              <a:spcBef>
                <a:spcPts val="320"/>
              </a:spcBef>
              <a:buClr>
                <a:srgbClr val="ffffff"/>
              </a:buClr>
              <a:buFont typeface="Symbol" charset="2"/>
              <a:buChar char=""/>
            </a:pPr>
            <a:r>
              <a:rPr b="0" lang="zh-CN" sz="1600" spc="-1" strike="noStrike">
                <a:solidFill>
                  <a:srgbClr val="ffffff"/>
                </a:solidFill>
                <a:latin typeface="Century Gothic"/>
              </a:rPr>
              <a:t>第四级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lnSpc>
                <a:spcPct val="100000"/>
              </a:lnSpc>
              <a:spcBef>
                <a:spcPts val="320"/>
              </a:spcBef>
              <a:buClr>
                <a:srgbClr val="ffffff"/>
              </a:buClr>
              <a:buFont typeface="StarSymbol"/>
              <a:buChar char="»"/>
            </a:pPr>
            <a:r>
              <a:rPr b="0" lang="zh-CN" sz="1600" spc="-1" strike="noStrike">
                <a:solidFill>
                  <a:srgbClr val="ffffff"/>
                </a:solidFill>
                <a:latin typeface="Century Gothic"/>
              </a:rPr>
              <a:t>第五级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3488177-4A87-4610-B472-F53A9CE035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i="1" lang="zh-CN" sz="4400" spc="-1" strike="noStrike">
                <a:solidFill>
                  <a:srgbClr val="000000"/>
                </a:solidFill>
                <a:latin typeface="Century Gothic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76520"/>
            <a:ext cx="8229240" cy="4449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zh-CN" sz="2400" spc="-1" strike="noStrike">
                <a:solidFill>
                  <a:srgbClr val="000000"/>
                </a:solidFill>
                <a:latin typeface="Century Gothic"/>
              </a:rPr>
              <a:t>单击此处编辑母版文本样式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zh-CN" sz="2000" spc="-1" strike="noStrike">
                <a:solidFill>
                  <a:srgbClr val="000000"/>
                </a:solidFill>
                <a:latin typeface="Century Gothic"/>
              </a:rPr>
              <a:t>第二级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zh-CN" sz="1800" spc="-1" strike="noStrike">
                <a:solidFill>
                  <a:srgbClr val="000000"/>
                </a:solidFill>
                <a:latin typeface="Century Gothic"/>
              </a:rPr>
              <a:t>第三级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zh-CN" sz="1600" spc="-1" strike="noStrike">
                <a:solidFill>
                  <a:srgbClr val="000000"/>
                </a:solidFill>
                <a:latin typeface="Century Gothic"/>
              </a:rPr>
              <a:t>第四级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StarSymbol"/>
              <a:buChar char="»"/>
            </a:pPr>
            <a:r>
              <a:rPr b="0" lang="zh-CN" sz="1600" spc="-1" strike="noStrike">
                <a:solidFill>
                  <a:srgbClr val="000000"/>
                </a:solidFill>
                <a:latin typeface="Century Gothic"/>
              </a:rPr>
              <a:t>第五级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1D7AB03-9E47-4509-B62E-339C46D68B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62120" y="3438360"/>
            <a:ext cx="7772040" cy="13618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i="1" lang="zh-CN" sz="4000" spc="-1" strike="noStrike" cap="all">
                <a:solidFill>
                  <a:srgbClr val="000000"/>
                </a:solidFill>
                <a:latin typeface="Century Gothic"/>
              </a:rPr>
              <a:t>单击此处编辑母版标题样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762120" y="1938240"/>
            <a:ext cx="7772040" cy="14997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p>
            <a:pPr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entury Gothic"/>
              </a:rPr>
              <a:t>单击此处编辑母版文本样式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EB6B135-47AF-4792-853A-0B78B56A06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029200" y="3809880"/>
            <a:ext cx="3809520" cy="1828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i="1" lang="en-US" sz="3600" spc="-1" strike="noStrike">
                <a:solidFill>
                  <a:srgbClr val="000000"/>
                </a:solidFill>
                <a:latin typeface="Century Gothic"/>
              </a:rPr>
              <a:t>NEW YEAR </a:t>
            </a:r>
            <a:br>
              <a:rPr sz="3600"/>
            </a:br>
            <a:r>
              <a:rPr b="1" i="1" lang="en-US" sz="3600" spc="-1" strike="noStrike">
                <a:solidFill>
                  <a:srgbClr val="000000"/>
                </a:solidFill>
                <a:latin typeface="Century Gothic"/>
              </a:rPr>
              <a:t>AT MIDNIGH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5029200" y="5715000"/>
            <a:ext cx="3809520" cy="5331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Your Subtitle Goes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矩形 1"/>
          <p:cNvSpPr/>
          <p:nvPr/>
        </p:nvSpPr>
        <p:spPr>
          <a:xfrm>
            <a:off x="1731240" y="1556640"/>
            <a:ext cx="59824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时钟刻度尺元素背景通用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i="1" lang="en-US" sz="4400" spc="-1" strike="noStrike">
                <a:solidFill>
                  <a:srgbClr val="ffffff"/>
                </a:solidFill>
                <a:latin typeface="Century Gothic"/>
              </a:rPr>
              <a:t>Your Topic Goes He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Your Subtopics Go Here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i="1" lang="en-US" sz="4400" spc="-1" strike="noStrike">
                <a:solidFill>
                  <a:srgbClr val="000000"/>
                </a:solidFill>
                <a:latin typeface="Century Gothic"/>
              </a:rPr>
              <a:t>Your Topic Goes He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240" cy="4449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Your Subtopics Go Here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62120" y="3438360"/>
            <a:ext cx="7772040" cy="13618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i="1" lang="en-US" sz="4000" spc="-1" strike="noStrike" cap="all">
                <a:solidFill>
                  <a:srgbClr val="000000"/>
                </a:solidFill>
                <a:latin typeface="Century Gothic"/>
              </a:rPr>
              <a:t>Transitional Pa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762120" y="1938240"/>
            <a:ext cx="7772040" cy="14997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4" name="Text Box 3"/>
          <p:cNvSpPr/>
          <p:nvPr/>
        </p:nvSpPr>
        <p:spPr>
          <a:xfrm>
            <a:off x="-252360" y="6493320"/>
            <a:ext cx="5327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cc9900"/>
                </a:solidFill>
                <a:uFillTx/>
                <a:latin typeface="Arial"/>
                <a:ea typeface="宋体"/>
                <a:hlinkClick r:id="rId1"/>
              </a:rPr>
              <a:t>免费ppt模板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TS010336807">
  <a:themeElements>
    <a:clrScheme name="Equity">
      <a:dk1>
        <a:srgbClr val="000000"/>
      </a:dk1>
      <a:lt1>
        <a:srgbClr val="ffffff"/>
      </a:lt1>
      <a:dk2>
        <a:srgbClr val="696464"/>
      </a:dk2>
      <a:lt2>
        <a:srgbClr val="e9e5dc"/>
      </a:lt2>
      <a:accent1>
        <a:srgbClr val="d34817"/>
      </a:accent1>
      <a:accent2>
        <a:srgbClr val="9b2d1f"/>
      </a:accent2>
      <a:accent3>
        <a:srgbClr val="a28e6a"/>
      </a:accent3>
      <a:accent4>
        <a:srgbClr val="956251"/>
      </a:accent4>
      <a:accent5>
        <a:srgbClr val="918485"/>
      </a:accent5>
      <a:accent6>
        <a:srgbClr val="855d5d"/>
      </a:accent6>
      <a:hlink>
        <a:srgbClr val="cc9900"/>
      </a:hlink>
      <a:folHlink>
        <a:srgbClr val="96a9a9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TS010336807">
  <a:themeElements>
    <a:clrScheme name="Equity">
      <a:dk1>
        <a:srgbClr val="000000"/>
      </a:dk1>
      <a:lt1>
        <a:srgbClr val="ffffff"/>
      </a:lt1>
      <a:dk2>
        <a:srgbClr val="696464"/>
      </a:dk2>
      <a:lt2>
        <a:srgbClr val="e9e5dc"/>
      </a:lt2>
      <a:accent1>
        <a:srgbClr val="d34817"/>
      </a:accent1>
      <a:accent2>
        <a:srgbClr val="9b2d1f"/>
      </a:accent2>
      <a:accent3>
        <a:srgbClr val="a28e6a"/>
      </a:accent3>
      <a:accent4>
        <a:srgbClr val="956251"/>
      </a:accent4>
      <a:accent5>
        <a:srgbClr val="918485"/>
      </a:accent5>
      <a:accent6>
        <a:srgbClr val="855d5d"/>
      </a:accent6>
      <a:hlink>
        <a:srgbClr val="cc9900"/>
      </a:hlink>
      <a:folHlink>
        <a:srgbClr val="96a9a9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TS010336807">
  <a:themeElements>
    <a:clrScheme name="Equity">
      <a:dk1>
        <a:srgbClr val="000000"/>
      </a:dk1>
      <a:lt1>
        <a:srgbClr val="ffffff"/>
      </a:lt1>
      <a:dk2>
        <a:srgbClr val="696464"/>
      </a:dk2>
      <a:lt2>
        <a:srgbClr val="e9e5dc"/>
      </a:lt2>
      <a:accent1>
        <a:srgbClr val="d34817"/>
      </a:accent1>
      <a:accent2>
        <a:srgbClr val="9b2d1f"/>
      </a:accent2>
      <a:accent3>
        <a:srgbClr val="a28e6a"/>
      </a:accent3>
      <a:accent4>
        <a:srgbClr val="956251"/>
      </a:accent4>
      <a:accent5>
        <a:srgbClr val="918485"/>
      </a:accent5>
      <a:accent6>
        <a:srgbClr val="855d5d"/>
      </a:accent6>
      <a:hlink>
        <a:srgbClr val="cc9900"/>
      </a:hlink>
      <a:folHlink>
        <a:srgbClr val="96a9a9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TS010336807">
  <a:themeElements>
    <a:clrScheme name="Equity">
      <a:dk1>
        <a:srgbClr val="000000"/>
      </a:dk1>
      <a:lt1>
        <a:srgbClr val="ffffff"/>
      </a:lt1>
      <a:dk2>
        <a:srgbClr val="696464"/>
      </a:dk2>
      <a:lt2>
        <a:srgbClr val="e9e5dc"/>
      </a:lt2>
      <a:accent1>
        <a:srgbClr val="d34817"/>
      </a:accent1>
      <a:accent2>
        <a:srgbClr val="9b2d1f"/>
      </a:accent2>
      <a:accent3>
        <a:srgbClr val="a28e6a"/>
      </a:accent3>
      <a:accent4>
        <a:srgbClr val="956251"/>
      </a:accent4>
      <a:accent5>
        <a:srgbClr val="918485"/>
      </a:accent5>
      <a:accent6>
        <a:srgbClr val="855d5d"/>
      </a:accent6>
      <a:hlink>
        <a:srgbClr val="cc9900"/>
      </a:hlink>
      <a:folHlink>
        <a:srgbClr val="96a9a9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customXml/_rels/item1.xml.rels><?xml version="1.0" encoding="UTF-8"?>
<Relationships xmlns="http://schemas.openxmlformats.org/package/2006/relationships"><Relationship Id="rId1" Type="http://schemas.openxmlformats.org/officeDocument/2006/relationships/customXmlProps" Target="itemProps1.xml"/>
</Relationships>
</file>

<file path=customXml/item1.xml><?xml version="1.0" encoding="utf-8"?>
<?mso-contentType ?>
<FormTemplates xmlns="http://schemas.microsoft.com/sharepoint/v3/contenttype/forms">
  <Display>DocumentLibraryForm</Display>
  <Edit>AssetEditForm</Edit>
  <New>DocumentLibraryForm</New>
</FormTemplates>
</file>

<file path=customXml/itemProps1.xml><?xml version="1.0" encoding="utf-8"?>
<ds:datastoreItem xmlns:ds="http://schemas.openxmlformats.org/officeDocument/2006/customXml" ds:itemID="{2DB5D732-DEEC-4023-AA1E-55688BF7BF10}">
  <ds:schemaRefs>
    <ds:schemaRef ds:uri="http://schemas.microsoft.com/sharepoint/v3/contenttype/forms"/>
  </ds:schemaRefs>
</ds:datastoreItem>
</file>

<file path=docProps/app.xml><?xml version="1.0" encoding="utf-8"?>
<Properties xmlns="http://schemas.openxmlformats.org/officeDocument/2006/extended-properties" xmlns:vt="http://schemas.openxmlformats.org/officeDocument/2006/docPropsVTypes">
  <Template>TS010336807</Template>
  <TotalTime>1</TotalTime>
  <Application>LibreOffice/7.4.7.2$Linux_X86_64 LibreOffice_project/40$Build-2</Application>
  <AppVersion>15.0000</AppVersion>
  <Words>53</Words>
  <Paragraphs>10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12T13:59:26Z</dcterms:created>
  <dc:creator>for_yang@qq.com</dc:creator>
  <dc:description/>
  <dc:language>en-US</dc:language>
  <cp:lastModifiedBy>王玉清</cp:lastModifiedBy>
  <dcterms:modified xsi:type="dcterms:W3CDTF">2016-02-24T02:58:57Z</dcterms:modified>
  <cp:revision>2</cp:revision>
  <dc:subject/>
  <dc:title>NEW YEAR  AT MIDNIGH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4:3)</vt:lpwstr>
  </property>
  <property fmtid="{D5CDD505-2E9C-101B-9397-08002B2CF9AE}" pid="3" name="Slides">
    <vt:r8>5</vt:r8>
  </property>
  <property fmtid="{D5CDD505-2E9C-101B-9397-08002B2CF9AE}" pid="4" name="_TemplateID">
    <vt:lpwstr>TC103368079990</vt:lpwstr>
  </property>
</Properties>
</file>