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56E-A583-4DFB-91E3-DEF4DB73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DBB-4B2F-45E7-BF1C-4D005949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4A7-783D-4D54-B3EA-7E29A6BF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763-8987-41A8-A1DE-A6FDDA74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98B-AC86-4AA4-8F39-759E670A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71D9-5B65-4721-BB79-C7665C7A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49F-B5EF-41A5-A2E7-36CAF226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3195-695B-4958-B920-8F2D393E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CBEF-B686-42F6-8639-42F9B6E5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EDC-7FFA-460C-8981-006E2257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23E-85C1-42E2-B10A-F71A4FEB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10B-4500-471D-98FB-D54E0E56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873C-C09B-4058-B97F-16B01A1632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143080" y="142884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4926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4999680" y="23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49978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9978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2880" y="189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桃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2133000" y="4287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26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2283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59979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2854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3283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133000" y="4287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3926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854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"/>
          <p:cNvSpPr/>
          <p:nvPr/>
        </p:nvSpPr>
        <p:spPr>
          <a:xfrm>
            <a:off x="45691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4783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133000" y="4287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640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"/>
          <p:cNvSpPr/>
          <p:nvPr/>
        </p:nvSpPr>
        <p:spPr>
          <a:xfrm>
            <a:off x="39265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39978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133000" y="8571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926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39978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333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1211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4"/>
          <p:cNvSpPr/>
          <p:nvPr/>
        </p:nvSpPr>
        <p:spPr>
          <a:xfrm>
            <a:off x="6569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2133000" y="8571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4069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5B9-C107-43B4-BC45-3F1166B02E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6:51:25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