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4980D-8A97-4F9C-99AF-C6D2792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F264D-B16C-457A-B827-EF0FC021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AF388-B72B-4B9F-B15B-51773C0E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802B1-0ED7-40A4-B55D-E02A08F1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13144-CE17-4585-8FFC-F085E10E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757AC-4764-4A45-A779-F0E43F9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2FE1D-CA9A-43D5-8187-4DF76B9B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AA42-464E-4C65-926B-2DB6CFDB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D9B8F-C1D4-45EB-A300-297CCB10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69452-7E02-4CF8-BA12-3E1172E9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A81DE-72ED-4D48-8F20-7C92FD87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75988-4B31-4FB4-814E-80D326A3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B9C01-5E24-4973-96FF-3918CBDA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0E2FB-4714-4C9D-801F-FEB7FC46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07441-CE6A-4E39-BD97-8B4D7276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99055-2AF2-4D8E-B3AC-547ADB3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977DE-495A-4612-ACCB-3F2F2C4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31845-8CF9-45A7-8167-4DCC145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532F2-D913-4DF1-AB5F-2E4AD501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86DEF-4C2C-4C14-85F3-C103ADF2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F97A5-88BE-499A-B2F5-5F1D6C9A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0B794-3CFB-49FD-8FC1-6A99B5AD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DA289-657E-4E4A-9101-B1651547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EC584-18AE-4F50-9896-0B115A18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14E1D-7A56-4011-B1A3-899D54B5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BB00F-FDED-4A96-9DB3-A2CCEA11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DB49C-6404-444A-A362-F005289B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E6BA0-B917-49D2-AEEE-33408D89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BA097-749E-4B3F-878A-E6C985FA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590F1-A82D-469C-804F-1611812D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AA0-586D-4600-A284-20821B35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B98FD-F38E-4070-8F1A-8ED6DC8A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5D8F6-7D08-4298-A055-D2E79A45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194C7-E153-4C4E-87BC-BAD9AEB6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1AC-0B6A-45D7-9D2D-33C7C47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D65-43DB-46EA-8631-E10DC4E7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7A5-5649-449D-8AA2-E0D2596A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2BE-5107-45C6-A22D-9C3535FA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9C1-59E9-482D-A5DE-22AEB54A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9D7-B2C4-4A8B-B30D-D0381F43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1B5-106C-4255-88D9-7E9D7AC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7C0-9ED2-42B4-84F0-3B2C4CA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0CE-DFA8-401E-9DCA-B207AE5A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322-64B5-4542-B1DD-BB00D4B4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20D-793E-437B-8A49-978D6C3F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7A06-FAC0-4723-98F6-DE2DF2C9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0D59-D6DB-49EB-8847-E91F6F7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E4FA-5F49-401A-BC7E-620576DE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C87B-E6FC-4E8F-97E7-6182B84E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860D-C48B-4C7D-BB53-4DD8839A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EC34-C0EC-437E-AA09-E0A3CEC8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0A53-164C-4749-94AC-C10C0FB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BA43-258C-4FA5-A3BA-8922C1A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F8A6-402B-4EC7-871D-C4E7EEB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EDE7-169F-4DBD-94CD-4A95E1A3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E1AA-AD12-4EDE-BBB6-ACB953A8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47FB-D08D-4B2E-8A1A-74CCCC75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44E4-F718-441F-B7F7-CEA0573B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AC42-6DFF-4F6A-B402-2FA8BDE9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9FB3-6B06-4E28-97E9-AB4F2CA0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A567-1134-410B-B637-86216F11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D9A9A-8B39-4D25-9415-135AF31D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6B50-EFCE-448F-B3A9-EB394C75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CADB-C84D-4776-A899-E6B16078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3472-19BD-48E9-9F94-7832284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65DB-9373-4CA8-98CC-287AF20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88C2-62D5-4176-AC0F-538102E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838B-1997-4FB4-891C-5C5D1E04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F369-2C51-4D66-97C7-606F9467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30A8-9437-4C49-B71B-380BDFEE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0E5A-100A-459F-AA6B-18F64AE7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302F-2EDC-4D10-ADEC-1B68569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865B-42CE-4C28-8074-0BC0C1A7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2ED9-A3F9-41D7-8EAB-91B5F401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53FD-A956-4EE4-83BE-DAD4DEBA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6477-DEF8-4784-8A15-5BB14AA1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5BA4D-C12B-4AE0-85C9-3DF5DF4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A8E8-9EDD-48D6-9524-126721F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8DF7-D927-4581-97C7-8157C87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BF34-05C8-4BDD-ABF8-6E6790F6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9315D-29A4-4E15-A746-FAE9D84C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11CD1-34D5-419C-8954-4833E108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B6D11-100E-4920-A835-050C881B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8B9F8-5EE6-4ED8-88C1-7F0021C5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EB670-5612-43D6-B2C4-DE542501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E1CC2-1472-4312-907A-AFCC0CD8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557A1-8BE7-4B16-82E2-775D02C3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D0BF2-A040-46BE-86A2-77943D4C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FD824-EB2D-4961-909C-0B672F81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33EBB-1355-4855-9466-A3DA3607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FBBFC-4D79-49EC-87FC-E27156F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35D3-483E-463C-B23D-C7506A40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4FF63-657A-4C77-986D-4CFC4C3C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AF744-3CC6-41AB-B39C-B49D4C43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DBD4E-EA07-4780-8F08-D4A31155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0E5EF-25AA-4794-AE0A-B6065CB6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E130-E3C0-408E-A3F0-EBD8C616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40C62-4010-4A40-9B35-D1C6D67F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B70D-442F-4C09-B7C3-DF4196B8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DE98-CFF5-4EFB-B78C-2CA07A33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278C1-4991-4A19-8F6A-E9C729DB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BBB2B-F26A-4EDE-BAB2-6EB59855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F2167-2EE1-4007-AAB0-E526C9CC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E3C79-1298-4224-B02B-778A7F70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FA109-6769-4D8C-8C5A-26FA763F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A0E3-168E-4B8C-8618-356CAC22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66210-EE48-43C6-8B5D-282F4A62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8CE68-562F-49F5-8129-CC528BAA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4D4A-C12B-437C-94D4-AC89470D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CC04A-88EB-4C14-90CA-F3665865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6F6D1-5D6C-4DBE-96E8-CE79F124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37FBD-4A52-45C7-B313-262EB82B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5850B-21CC-4D78-99A0-C93EC21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D8E26-4075-49D5-BF60-3275E26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62E8C-EC33-4FA1-9642-9F721230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283FB-80EF-4EAC-8C61-0E79A27F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5CB5F-AD2E-4FA0-9E52-18621B4D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E1FE0-93D3-4A40-A66A-236ADCA1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E4D5A-C2FC-4395-9FF6-F9A1E90F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DFE7A-0959-4A67-AA9E-23BEE6CD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8BA7-910A-4DA7-9A69-7A673C4FF60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F7B8-75C7-4D5B-BBF4-C0D80781254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3772-6DE7-403E-A572-6731625E65D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8642-26D9-474B-84E6-BCB7096F060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79D6-2338-4EB8-AE93-26896C5C82A6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6FF8-AB28-4C5A-97CD-CCD283663C7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D82E-18A8-48FD-83A8-8C86BF4A5DC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2500-261C-4DB6-9D72-8C7A9822937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DF14-1315-439A-AD6F-74A0DC43217A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533E-7DDA-43A2-90B2-7B1444E2032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9"/>
          <p:cNvSpPr/>
          <p:nvPr/>
        </p:nvSpPr>
        <p:spPr>
          <a:xfrm>
            <a:off x="1547640" y="1566720"/>
            <a:ext cx="705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f6868"/>
                </a:solidFill>
                <a:latin typeface="汉仪中圆简"/>
                <a:ea typeface="汉仪中圆简"/>
              </a:rPr>
              <a:t>桃花通用</a:t>
            </a:r>
            <a:r>
              <a:rPr b="0" lang="en-US" sz="4000" spc="-1" strike="noStrike">
                <a:solidFill>
                  <a:srgbClr val="cf6868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cf6868"/>
                </a:solidFill>
                <a:latin typeface="汉仪中圆简"/>
                <a:ea typeface="汉仪中圆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140360" y="2133720"/>
            <a:ext cx="276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428760" y="1214280"/>
            <a:ext cx="82072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ym148</dc:creator>
  <dc:description/>
  <dc:language>en-US</dc:language>
  <cp:lastModifiedBy>王玉清</cp:lastModifiedBy>
  <dcterms:modified xsi:type="dcterms:W3CDTF">2016-02-22T03:20:29Z</dcterms:modified>
  <cp:revision>10</cp:revision>
  <dc:subject/>
  <dc:title>母亲节</dc:title>
</cp:coreProperties>
</file>