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51657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ED99-4F84-47CD-B59B-5A2111579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822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87640"/>
            <a:ext cx="822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B568-FB0C-4E7D-96D8-26011646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B386-7016-4353-8A7B-739EDB85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636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636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8764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8764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87640"/>
            <a:ext cx="264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6F23-C165-4807-B666-37DA1AE60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6360"/>
            <a:ext cx="8229600" cy="34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6FE9-2D14-42C7-9D70-E4C0EE26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82296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5AC0-558D-48C4-99C5-C242E724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8D9C-23CD-4618-926F-48AF9831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B4F6-06DD-47B4-8A42-0ACE2F3F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600" cy="39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6174-50EC-4A9E-BEE5-C3BCA59B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BC55-3687-449C-9560-DABF65AC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8764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50D9-4ADD-49CF-9341-5A97E3D6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6360"/>
            <a:ext cx="40158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87640"/>
            <a:ext cx="8229600" cy="16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6EE7-2E16-4057-8E83-6E4963C8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6360"/>
            <a:ext cx="82296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04840"/>
            <a:ext cx="213372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04840"/>
            <a:ext cx="28958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04840"/>
            <a:ext cx="213372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464E-B98B-4BD4-A852-8EC77BC8B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2268360" y="1503360"/>
            <a:ext cx="5256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汉仪小隶书简"/>
                <a:ea typeface="汉仪小隶书简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36360" y="4816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98560" y="20808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藤蔓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56880"/>
            <a:ext cx="89280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250920"/>
            <a:ext cx="1388880" cy="263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8A55-B65C-4E39-AE9C-0E470DF021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06:35:2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6:52:29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