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6B2-4B19-458A-8A3E-E905C964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DCB-053B-4DC5-BF47-EE9A166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E25-8934-4D15-86E4-CE104355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666-7DC3-4A07-8C91-8C05F0C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CE9-F973-45B9-AB18-4EA0D3E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31B-00A1-472F-9D26-F3094D5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6CC-97A4-4866-A96A-B8DFB783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4A8-875D-450F-A208-6018639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1B5-BE06-4D73-AD89-5420734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F63-8E39-45A7-B8C6-991955E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4DF-8FD0-4C2D-A7BA-EB23AE2D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104-A3B2-4B95-BB7F-2C983DB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0E0F6-E246-4242-9A84-7208B36F8F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mbiz.qpic.cn/mmbiz/NVvB3l3e9aHmBj68k7xKjSl2lZ5j4k7AbpjFVzXZMHvWQzEyRlAicqG789heeoFwOmxVncHJA2y3hiat0MNOmnhA/0"/>
          <p:cNvPicPr/>
          <p:nvPr/>
        </p:nvPicPr>
        <p:blipFill>
          <a:blip r:embed="rId1"/>
          <a:stretch/>
        </p:blipFill>
        <p:spPr>
          <a:xfrm>
            <a:off x="10413360" y="5445360"/>
            <a:ext cx="1098000" cy="843840"/>
          </a:xfrm>
          <a:prstGeom prst="rect">
            <a:avLst/>
          </a:prstGeom>
          <a:ln w="0">
            <a:noFill/>
          </a:ln>
          <a:effectLst>
            <a:outerShdw algn="t" blurRad="63360" dir="5400000" dist="50760" rotWithShape="0">
              <a:srgbClr val="000000">
                <a:alpha val="40000"/>
              </a:srgbClr>
            </a:outerShdw>
          </a:effectLst>
        </p:spPr>
      </p:pic>
      <p:sp>
        <p:nvSpPr>
          <p:cNvPr id="42" name="文本框 40"/>
          <p:cNvSpPr/>
          <p:nvPr/>
        </p:nvSpPr>
        <p:spPr>
          <a:xfrm>
            <a:off x="4293720" y="4371480"/>
            <a:ext cx="4184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走丢在长沙步行街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7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"/>
          <p:cNvSpPr/>
          <p:nvPr/>
        </p:nvSpPr>
        <p:spPr>
          <a:xfrm>
            <a:off x="5806080" y="3959640"/>
            <a:ext cx="241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</a:rPr>
              <a:t>手机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0433 359 7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3659040" y="9010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片封面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27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6:15:57Z</dcterms:created>
  <dc:creator>V41</dc:creator>
  <dc:description/>
  <dc:language>en-US</dc:language>
  <cp:lastModifiedBy>王玉清</cp:lastModifiedBy>
  <dcterms:modified xsi:type="dcterms:W3CDTF">2016-02-23T02:57:37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