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439-BAB5-49AF-B3E6-E4E200D8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EEA-9070-4582-8034-7B13E48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251-E930-487D-8FB5-077DB647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B76-F6E8-40E2-92D4-7E1D84EA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433C-C944-4895-B86A-36DBB2A0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142-BC85-446A-89E1-6205CDDD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D2D1-3D67-469A-8007-4E4E300F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3D1A-7523-415B-BC86-2D59756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D03-CB3A-44B0-9120-EC72F961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AA6C-3B59-496F-99B8-D5E5686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34D-4FCB-48BB-B8F7-E9C82E9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654-6757-48D9-A206-3E64C25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DEF0-55BB-470E-A3D6-4D3E105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B8FC-B941-4FFA-A7F8-8638601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B9F-F9D6-48D2-B8BA-C7D66DA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63B-B9FF-4A83-A074-F3531647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F01-1C34-4678-8CBB-A7EC14BD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795-FCF8-4128-A6BE-86B30277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816-1637-46CB-9174-CA2FE66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1F0-ED68-4239-8ECD-56884F85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BB8-C52D-4681-B3B5-668BC9E3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18B-3188-48D8-BBC4-3BA47415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A89-6DF2-4EDD-834B-DEEDEBD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9A8-615E-4336-8895-80F1072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5AD6E7-25C5-4D96-B3EA-2A4F41B0A1D8}" type="slidenum">
              <a:rPr b="0" lang="en-US" sz="1200" spc="-1" strike="noStrike">
                <a:solidFill>
                  <a:srgbClr val="8b8b8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五边形 7"/>
          <p:cNvSpPr/>
          <p:nvPr/>
        </p:nvSpPr>
        <p:spPr>
          <a:xfrm>
            <a:off x="0" y="0"/>
            <a:ext cx="8152920" cy="6857640"/>
          </a:xfrm>
          <a:prstGeom prst="homePlate">
            <a:avLst>
              <a:gd name="adj" fmla="val 42615"/>
            </a:avLst>
          </a:prstGeom>
          <a:solidFill>
            <a:srgbClr val="7030a0"/>
          </a:solidFill>
          <a:ln>
            <a:solidFill>
              <a:srgbClr val="7030a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任意多边形 8"/>
          <p:cNvSpPr/>
          <p:nvPr/>
        </p:nvSpPr>
        <p:spPr>
          <a:xfrm>
            <a:off x="5078520" y="-14040"/>
            <a:ext cx="7131960" cy="6864840"/>
          </a:xfrm>
          <a:custGeom>
            <a:avLst/>
            <a:gdLst>
              <a:gd name="textAreaLeft" fmla="*/ 0 w 7131960"/>
              <a:gd name="textAreaRight" fmla="*/ 7132320 w 7131960"/>
              <a:gd name="textAreaTop" fmla="*/ 0 h 6864840"/>
              <a:gd name="textAreaBottom" fmla="*/ 6865200 h 6864840"/>
            </a:gdLst>
            <a:ahLst/>
            <a:rect l="textAreaLeft" t="textAreaTop" r="textAreaRight" b="textAreaBottom"/>
            <a:pathLst>
              <a:path w="7033846" h="6865034">
                <a:moveTo>
                  <a:pt x="7019778" y="0"/>
                </a:moveTo>
                <a:lnTo>
                  <a:pt x="0" y="0"/>
                </a:lnTo>
                <a:lnTo>
                  <a:pt x="2996418" y="3446585"/>
                </a:lnTo>
                <a:lnTo>
                  <a:pt x="0" y="6865034"/>
                </a:lnTo>
                <a:lnTo>
                  <a:pt x="7033846" y="6865034"/>
                </a:lnTo>
                <a:cubicBezTo>
                  <a:pt x="7029157" y="4576689"/>
                  <a:pt x="7024467" y="2288345"/>
                  <a:pt x="7019778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4038480" y="632880"/>
            <a:ext cx="3670200" cy="5542200"/>
          </a:xfrm>
          <a:prstGeom prst="rect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1500" spc="-1" strike="noStrike">
                <a:solidFill>
                  <a:schemeClr val="lt1"/>
                </a:solidFill>
                <a:latin typeface="Franklin Gothic Book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2"/>
          <p:cNvSpPr/>
          <p:nvPr/>
        </p:nvSpPr>
        <p:spPr>
          <a:xfrm>
            <a:off x="4038480" y="632880"/>
            <a:ext cx="3670200" cy="1239840"/>
          </a:xfrm>
          <a:prstGeom prst="rect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chemeClr val="lt1"/>
                </a:solidFill>
                <a:latin typeface="Franklin Gothic Book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3"/>
          <p:cNvSpPr/>
          <p:nvPr/>
        </p:nvSpPr>
        <p:spPr>
          <a:xfrm>
            <a:off x="4038480" y="4949640"/>
            <a:ext cx="3670200" cy="1239840"/>
          </a:xfrm>
          <a:prstGeom prst="rect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4800" spc="-1" strike="noStrike">
              <a:solidFill>
                <a:schemeClr val="lt1"/>
              </a:solidFill>
              <a:latin typeface="Franklin Gothic Book"/>
            </a:endParaRPr>
          </a:p>
        </p:txBody>
      </p:sp>
      <p:grpSp>
        <p:nvGrpSpPr>
          <p:cNvPr id="8" name="组合 14"/>
          <p:cNvGrpSpPr/>
          <p:nvPr/>
        </p:nvGrpSpPr>
        <p:grpSpPr>
          <a:xfrm>
            <a:off x="5951880" y="5442840"/>
            <a:ext cx="1594800" cy="337680"/>
            <a:chOff x="5951880" y="5442840"/>
            <a:chExt cx="1594800" cy="337680"/>
          </a:xfrm>
        </p:grpSpPr>
        <p:sp>
          <p:nvSpPr>
            <p:cNvPr id="9" name="椭圆 15"/>
            <p:cNvSpPr/>
            <p:nvPr/>
          </p:nvSpPr>
          <p:spPr>
            <a:xfrm rot="4414800">
              <a:off x="5983920" y="5474880"/>
              <a:ext cx="266760" cy="2667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" name="椭圆 16"/>
            <p:cNvSpPr/>
            <p:nvPr/>
          </p:nvSpPr>
          <p:spPr>
            <a:xfrm rot="4414800">
              <a:off x="6405120" y="5474880"/>
              <a:ext cx="266760" cy="26676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" name="椭圆 17"/>
            <p:cNvSpPr/>
            <p:nvPr/>
          </p:nvSpPr>
          <p:spPr>
            <a:xfrm rot="4414800">
              <a:off x="7247520" y="5481360"/>
              <a:ext cx="266760" cy="26676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2" name="椭圆 18"/>
            <p:cNvSpPr/>
            <p:nvPr/>
          </p:nvSpPr>
          <p:spPr>
            <a:xfrm rot="4414800">
              <a:off x="6826320" y="5481360"/>
              <a:ext cx="266760" cy="26676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3" name="文本框 19"/>
          <p:cNvSpPr/>
          <p:nvPr/>
        </p:nvSpPr>
        <p:spPr>
          <a:xfrm>
            <a:off x="4195080" y="5009400"/>
            <a:ext cx="2342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Franklin Gothic Book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Franklin Gothic Book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Franklin Gothic Book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15F734-C75C-4B04-B9E3-2E037D8DE5FB}" type="slidenum">
              <a:rPr b="0" lang="en-US" sz="1200" spc="-1" strike="noStrike">
                <a:solidFill>
                  <a:srgbClr val="8b8b8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3576960" y="202500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我的简历通用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5"/>
          <p:cNvSpPr/>
          <p:nvPr/>
        </p:nvSpPr>
        <p:spPr>
          <a:xfrm>
            <a:off x="670320" y="2805480"/>
            <a:ext cx="2585520" cy="1308600"/>
          </a:xfrm>
          <a:prstGeom prst="rect">
            <a:avLst/>
          </a:prstGeom>
          <a:noFill/>
          <a:ln w="381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3571920" y="3014640"/>
            <a:ext cx="80290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8"/>
          <p:cNvSpPr/>
          <p:nvPr/>
        </p:nvSpPr>
        <p:spPr>
          <a:xfrm>
            <a:off x="3728880" y="4129200"/>
            <a:ext cx="7743600" cy="36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743825" h="0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00">
            <a:solidFill>
              <a:srgbClr val="7030a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768240" y="4448160"/>
            <a:ext cx="2389680" cy="505800"/>
            <a:chOff x="768240" y="4448160"/>
            <a:chExt cx="2389680" cy="505800"/>
          </a:xfrm>
        </p:grpSpPr>
        <p:sp>
          <p:nvSpPr>
            <p:cNvPr id="100" name="椭圆 10"/>
            <p:cNvSpPr/>
            <p:nvPr/>
          </p:nvSpPr>
          <p:spPr>
            <a:xfrm rot="15214800">
              <a:off x="2709720" y="4505760"/>
              <a:ext cx="399600" cy="399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 rot="15214800">
              <a:off x="2078640" y="4505760"/>
              <a:ext cx="399600" cy="39960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 rot="15214800">
              <a:off x="816480" y="4496040"/>
              <a:ext cx="399600" cy="39960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3" name="椭圆 13"/>
            <p:cNvSpPr/>
            <p:nvPr/>
          </p:nvSpPr>
          <p:spPr>
            <a:xfrm rot="15214800">
              <a:off x="1447560" y="4496040"/>
              <a:ext cx="399600" cy="399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"/>
          <p:cNvSpPr/>
          <p:nvPr/>
        </p:nvSpPr>
        <p:spPr>
          <a:xfrm>
            <a:off x="768240" y="2793240"/>
            <a:ext cx="2585520" cy="1308600"/>
          </a:xfrm>
          <a:prstGeom prst="rect">
            <a:avLst/>
          </a:prstGeom>
          <a:noFill/>
          <a:ln w="381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3643200" y="2607480"/>
            <a:ext cx="7586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5"/>
          <p:cNvSpPr/>
          <p:nvPr/>
        </p:nvSpPr>
        <p:spPr>
          <a:xfrm>
            <a:off x="3728880" y="4129200"/>
            <a:ext cx="6586200" cy="56880"/>
          </a:xfrm>
          <a:custGeom>
            <a:avLst/>
            <a:gdLst>
              <a:gd name="textAreaLeft" fmla="*/ 0 w 6586200"/>
              <a:gd name="textAreaRight" fmla="*/ 6586560 w 6586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7743825" h="0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00">
            <a:solidFill>
              <a:srgbClr val="7030a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grpSp>
        <p:nvGrpSpPr>
          <p:cNvPr id="107" name="组合 11"/>
          <p:cNvGrpSpPr/>
          <p:nvPr/>
        </p:nvGrpSpPr>
        <p:grpSpPr>
          <a:xfrm>
            <a:off x="768240" y="4448160"/>
            <a:ext cx="2389680" cy="505800"/>
            <a:chOff x="768240" y="4448160"/>
            <a:chExt cx="2389680" cy="505800"/>
          </a:xfrm>
        </p:grpSpPr>
        <p:sp>
          <p:nvSpPr>
            <p:cNvPr id="108" name="椭圆 12"/>
            <p:cNvSpPr/>
            <p:nvPr/>
          </p:nvSpPr>
          <p:spPr>
            <a:xfrm rot="15214800">
              <a:off x="2709720" y="4505760"/>
              <a:ext cx="399600" cy="399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9" name="椭圆 13"/>
            <p:cNvSpPr/>
            <p:nvPr/>
          </p:nvSpPr>
          <p:spPr>
            <a:xfrm rot="15214800">
              <a:off x="2078640" y="4505760"/>
              <a:ext cx="399600" cy="39960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0" name="椭圆 14"/>
            <p:cNvSpPr/>
            <p:nvPr/>
          </p:nvSpPr>
          <p:spPr>
            <a:xfrm rot="15214800">
              <a:off x="816480" y="4496040"/>
              <a:ext cx="399600" cy="39960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1" name="椭圆 15"/>
            <p:cNvSpPr/>
            <p:nvPr/>
          </p:nvSpPr>
          <p:spPr>
            <a:xfrm rot="15214800">
              <a:off x="1447560" y="4496040"/>
              <a:ext cx="399600" cy="399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4"/>
          <p:cNvSpPr/>
          <p:nvPr/>
        </p:nvSpPr>
        <p:spPr>
          <a:xfrm>
            <a:off x="1828800" y="3493440"/>
            <a:ext cx="9000720" cy="638280"/>
          </a:xfrm>
          <a:prstGeom prst="rect">
            <a:avLst/>
          </a:prstGeom>
          <a:noFill/>
          <a:ln w="381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1828800" y="838800"/>
            <a:ext cx="8714880" cy="158292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 rot="1071000">
            <a:off x="9234720" y="531360"/>
            <a:ext cx="111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7"/>
          <p:cNvGrpSpPr/>
          <p:nvPr/>
        </p:nvGrpSpPr>
        <p:grpSpPr>
          <a:xfrm>
            <a:off x="4754520" y="2407320"/>
            <a:ext cx="2389680" cy="505800"/>
            <a:chOff x="4754520" y="2407320"/>
            <a:chExt cx="2389680" cy="505800"/>
          </a:xfrm>
        </p:grpSpPr>
        <p:sp>
          <p:nvSpPr>
            <p:cNvPr id="116" name="椭圆 8"/>
            <p:cNvSpPr/>
            <p:nvPr/>
          </p:nvSpPr>
          <p:spPr>
            <a:xfrm rot="15214800">
              <a:off x="6696000" y="2464920"/>
              <a:ext cx="399600" cy="399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7" name="椭圆 9"/>
            <p:cNvSpPr/>
            <p:nvPr/>
          </p:nvSpPr>
          <p:spPr>
            <a:xfrm rot="15214800">
              <a:off x="6064920" y="2464920"/>
              <a:ext cx="399600" cy="39960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8" name="椭圆 10"/>
            <p:cNvSpPr/>
            <p:nvPr/>
          </p:nvSpPr>
          <p:spPr>
            <a:xfrm rot="15214800">
              <a:off x="4802760" y="2455200"/>
              <a:ext cx="399600" cy="39960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19" name="椭圆 11"/>
            <p:cNvSpPr/>
            <p:nvPr/>
          </p:nvSpPr>
          <p:spPr>
            <a:xfrm rot="15214800">
              <a:off x="5433840" y="2455200"/>
              <a:ext cx="399600" cy="399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4"/>
          <p:cNvSpPr/>
          <p:nvPr/>
        </p:nvSpPr>
        <p:spPr>
          <a:xfrm>
            <a:off x="1828800" y="3493440"/>
            <a:ext cx="9000720" cy="1186920"/>
          </a:xfrm>
          <a:prstGeom prst="rect">
            <a:avLst/>
          </a:prstGeom>
          <a:noFill/>
          <a:ln w="381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658880" y="838800"/>
            <a:ext cx="8714880" cy="158292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 rot="1071000">
            <a:off x="9234720" y="531360"/>
            <a:ext cx="111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7"/>
          <p:cNvGrpSpPr/>
          <p:nvPr/>
        </p:nvGrpSpPr>
        <p:grpSpPr>
          <a:xfrm>
            <a:off x="4754520" y="2407320"/>
            <a:ext cx="2389680" cy="505800"/>
            <a:chOff x="4754520" y="2407320"/>
            <a:chExt cx="2389680" cy="505800"/>
          </a:xfrm>
        </p:grpSpPr>
        <p:sp>
          <p:nvSpPr>
            <p:cNvPr id="124" name="椭圆 8"/>
            <p:cNvSpPr/>
            <p:nvPr/>
          </p:nvSpPr>
          <p:spPr>
            <a:xfrm rot="15214800">
              <a:off x="6696000" y="2464920"/>
              <a:ext cx="399600" cy="399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25" name="椭圆 9"/>
            <p:cNvSpPr/>
            <p:nvPr/>
          </p:nvSpPr>
          <p:spPr>
            <a:xfrm rot="15214800">
              <a:off x="6064920" y="2464920"/>
              <a:ext cx="399600" cy="39960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26" name="椭圆 10"/>
            <p:cNvSpPr/>
            <p:nvPr/>
          </p:nvSpPr>
          <p:spPr>
            <a:xfrm rot="15214800">
              <a:off x="4802760" y="2455200"/>
              <a:ext cx="399600" cy="39960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27" name="椭圆 11"/>
            <p:cNvSpPr/>
            <p:nvPr/>
          </p:nvSpPr>
          <p:spPr>
            <a:xfrm rot="15214800">
              <a:off x="5433840" y="2455200"/>
              <a:ext cx="399600" cy="399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217440" y="63172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2"/>
          <p:cNvSpPr/>
          <p:nvPr/>
        </p:nvSpPr>
        <p:spPr>
          <a:xfrm>
            <a:off x="2478960" y="514440"/>
            <a:ext cx="7429320" cy="1308600"/>
          </a:xfrm>
          <a:prstGeom prst="rect">
            <a:avLst/>
          </a:prstGeom>
          <a:noFill/>
          <a:ln w="381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5"/>
          <p:cNvGrpSpPr/>
          <p:nvPr/>
        </p:nvGrpSpPr>
        <p:grpSpPr>
          <a:xfrm>
            <a:off x="4998600" y="2013120"/>
            <a:ext cx="2389680" cy="505800"/>
            <a:chOff x="4998600" y="2013120"/>
            <a:chExt cx="2389680" cy="505800"/>
          </a:xfrm>
        </p:grpSpPr>
        <p:sp>
          <p:nvSpPr>
            <p:cNvPr id="131" name="椭圆 6"/>
            <p:cNvSpPr/>
            <p:nvPr/>
          </p:nvSpPr>
          <p:spPr>
            <a:xfrm rot="15214800">
              <a:off x="6940080" y="2070720"/>
              <a:ext cx="399600" cy="399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32" name="椭圆 7"/>
            <p:cNvSpPr/>
            <p:nvPr/>
          </p:nvSpPr>
          <p:spPr>
            <a:xfrm rot="15214800">
              <a:off x="6309000" y="2070720"/>
              <a:ext cx="399600" cy="39960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33" name="椭圆 8"/>
            <p:cNvSpPr/>
            <p:nvPr/>
          </p:nvSpPr>
          <p:spPr>
            <a:xfrm rot="15214800">
              <a:off x="5046840" y="2061000"/>
              <a:ext cx="399600" cy="39960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34" name="椭圆 9"/>
            <p:cNvSpPr/>
            <p:nvPr/>
          </p:nvSpPr>
          <p:spPr>
            <a:xfrm rot="15214800">
              <a:off x="5677920" y="2061000"/>
              <a:ext cx="399600" cy="399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开朗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3d9e89"/>
      </a:accent1>
      <a:accent2>
        <a:srgbClr val="385090"/>
      </a:accent2>
      <a:accent3>
        <a:srgbClr val="c7006b"/>
      </a:accent3>
      <a:accent4>
        <a:srgbClr val="fabe00"/>
      </a:accent4>
      <a:accent5>
        <a:srgbClr val="8ba842"/>
      </a:accent5>
      <a:accent6>
        <a:srgbClr val="23d515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开朗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3d9e89"/>
      </a:accent1>
      <a:accent2>
        <a:srgbClr val="385090"/>
      </a:accent2>
      <a:accent3>
        <a:srgbClr val="c7006b"/>
      </a:accent3>
      <a:accent4>
        <a:srgbClr val="fabe00"/>
      </a:accent4>
      <a:accent5>
        <a:srgbClr val="8ba842"/>
      </a:accent5>
      <a:accent6>
        <a:srgbClr val="23d515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  <Words>81</Words>
  <Paragraphs>15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www.pptbz.com</dc:creator>
  <dc:description/>
  <dc:language>en-US</dc:language>
  <cp:lastModifiedBy>王玉清</cp:lastModifiedBy>
  <dcterms:modified xsi:type="dcterms:W3CDTF">2016-03-06T04:39:25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