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85F-DEA1-46FA-A225-CBF9852E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5FC-B852-4FF8-BEEB-D6FB1DB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DEF-1D16-4A6A-8785-0DA27CAC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987-004A-4A1C-8515-227C204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EE5D-361F-47D3-92C3-4BAC8FD1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C59-8B3F-4E5A-BFD3-4D0D57C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508-9CED-464B-8E71-B03DB54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09C6-50F2-43A5-8727-0202799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DBA9-8DF7-4538-A747-63209F8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532B-1AE8-43B6-819D-33139CA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FA8-0740-443D-AEA1-80A54DBE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FEF-8A6A-4DB9-BB85-40043A23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568-F2A4-4890-89D6-E5FC911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DDE-44D7-4212-896B-498F6C0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C4B3-08B3-4CF8-AB46-F4BAA71A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7B0D-C4CE-44B9-A58C-44C8A7D4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86B-4DD4-4E0C-B7B9-1DA98748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9D6-650C-4784-92E8-C9FE658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DCE-E7F8-460F-B91C-570A7BA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302-6038-4023-BF8B-4C8EA47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E53-05DF-4961-BF8C-908EF3E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322-9261-4278-B3AF-8BE0AA5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DC0-2D7C-48BF-896D-DA2EBE6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241-9249-42F5-A222-B2AA803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CF0-19FD-46B6-873F-D418E59C42AE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heart_head_smile_hg_clr"/>
          <p:cNvPicPr/>
          <p:nvPr/>
        </p:nvPicPr>
        <p:blipFill>
          <a:blip r:embed="rId3"/>
          <a:stretch/>
        </p:blipFill>
        <p:spPr>
          <a:xfrm>
            <a:off x="5810400" y="3828960"/>
            <a:ext cx="3333600" cy="302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112E-9BAC-4BD5-854B-708BC426A65A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黑体"/>
              </a:rPr>
              <a:t>外国创意心通用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黑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0" name="Picture 8" descr="mi_amoredonkey"/>
          <p:cNvPicPr/>
          <p:nvPr/>
        </p:nvPicPr>
        <p:blipFill>
          <a:blip r:embed="rId2"/>
          <a:stretch/>
        </p:blipFill>
        <p:spPr>
          <a:xfrm>
            <a:off x="1143000" y="380880"/>
            <a:ext cx="7010280" cy="6249960"/>
          </a:xfrm>
          <a:prstGeom prst="rect">
            <a:avLst/>
          </a:prstGeom>
          <a:ln w="0">
            <a:noFill/>
          </a:ln>
        </p:spPr>
      </p:pic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2:25Z</dcterms:created>
  <dc:creator>User</dc:creator>
  <dc:description/>
  <dc:language>en-US</dc:language>
  <cp:lastModifiedBy>王玉清</cp:lastModifiedBy>
  <dcterms:modified xsi:type="dcterms:W3CDTF">2016-02-20T04:30:58Z</dcterms:modified>
  <cp:revision>4</cp:revision>
  <dc:subject/>
  <dc:title>mi amore</dc:title>
</cp:coreProperties>
</file>