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BAE-B1D3-4859-92D8-B1206A1F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DB4-684F-4AEF-8E5F-B928F114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8A32E-7BA5-4DAF-A642-4C34C4E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37610-9603-40C7-8633-528B6E0E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119D5-839A-42B0-98D9-305216F3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38F27-CB5C-4D02-BEB2-0C81D21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D82DF-A608-4829-AF4B-69F1257B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3BFE2-CB7A-45C7-8DCB-B665E288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8F435-0065-47D8-A219-D6973512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6623F-4ACA-403C-9261-DFDDA348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608AC-9338-4013-87DA-D9A1CBA1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EBA4F-C72F-4BCE-A271-4292F84B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2B2-7B7E-4B9A-9BD0-C0C2CFC4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DDB71-C914-4F98-84BC-D0994AC4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8EF0D-DBAD-46F7-B0DB-64F09512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ABB14-2885-4D2A-BB42-EAAEC2B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EB64D-F2BC-4D38-A2F8-AD888685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61CAD-DBE3-4992-930C-FA2AAB7E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9F178-A725-499C-BFFA-153CBC2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B93AE-6B63-4A00-B657-3AAF9E77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7F01D-F932-4C44-A4D3-1DAE6F2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078D0-09CA-42B7-865D-7185487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8A557-FB92-4E17-9888-8B6DCF9A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4E8-9FED-4F5C-B637-A3862E5E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EBB4E-388F-46E5-9661-1356E099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046C4-00DB-4BD8-BD42-828941DD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48126-F8A4-4771-ACC0-C7D7EFF3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EA1D-8AD3-4C6C-9A1E-693BB6E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B47EE-7554-47B5-B256-17980DFD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6C8F8-E478-48E3-94E0-2916E796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82BCF-31E5-4CBD-939F-DE5261B2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F3E5C-A5A8-44C8-83A7-895DCF41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C20BF-5A07-4E2F-8ECD-1D09270C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00A8F-B748-4FAC-B985-7195E95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732-8663-4862-A7DA-45831A6A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2DB1A-AB55-44D5-88F1-6629885A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5AE05-72EA-4F16-A64D-0E24810E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CC500-0B42-4414-82F4-55F47C93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42C75-56A8-44DF-A15A-5F535A01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01C99-D0EE-4ECA-A380-1660B3E3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776FC-0C93-4BB9-9A55-B4D113CB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A5FE3-8344-4A6D-8838-D49A115A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50F69-C4C2-46FD-8AB6-12D12E90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2C8F1-8E05-46D2-8C35-3E4F882E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B322E-4667-49C7-B7B6-C67D383A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4BE5-8070-4F32-B8F9-DA512E6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83B3E-4BBA-44DD-85F6-24028E34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36CFA-5A4D-40DE-A531-B6BF230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E7B28-0665-4D79-A87D-DA126057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8CF5A-7628-4956-B04B-F4ECA14D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580EB-AF39-4A1E-A499-130B12C9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F8F3-20B4-40D5-8513-DE50B713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A85-E74D-4D8E-A974-6BB844AA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26B9-35A3-417B-B3F2-E60610A3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7E3E-9B42-4232-867A-96AA5C1D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E6B0-A219-43BE-8020-D21DF00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529-F3C9-4FEA-9291-95014C6B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2388-673F-402E-805F-8BC38B0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4F9D-3579-4C40-BC7C-4425A69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96B2-7750-42EB-B2E5-602098F7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5E1D-2A8C-4F4A-B037-E6594469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7BF2-7901-4973-BB7B-07702528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F7ED-E15C-4168-8EA9-E4F1083A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DFA1-B0FC-44B1-BB04-FDD796AF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4FC2-A6DA-43F9-9889-888C7E0C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B474-101D-4D10-89E2-2C61FCA6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72B2-C8F0-4BFB-81D4-595C0AD5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DE5-441C-4BE2-AEF1-19DEEA10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9AFD-2F3D-4BAD-AB2B-DDBF680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6D12-51DA-42B9-A456-719F214C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49E4-6C20-4120-9BE4-049886A7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A53D-460D-460F-915C-ADDDB094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945A-68EF-467A-9A3D-79C5D809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A8BF-862E-4020-A036-2677870C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35B2-EB10-4B99-8776-118DBF79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F0AD-CAEF-459C-AB0E-4D0BF8D4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406B5-7DF0-44A1-AE9A-CD6971F1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2F9A3-8FBB-4DC0-922B-CA52D55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98B-4FD3-4DF4-8A8D-97A16C0F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26ABE-8129-49F4-9208-0A53238C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439E1-2AA4-45C5-8DBF-AD3DF6A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EEB7A-E846-46C8-A33E-E46DB718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3398-88F7-4668-A73B-032FF78D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C2E5-EAD9-4C39-81E5-F99C32B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8414-11F2-4B8C-9CBF-3923EA5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14B16-3292-4088-A262-F601F4E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F68C-7B49-4770-A20D-55FE4E93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F661-A92E-4C99-9015-811F6F61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1AFC-99A9-4F2A-8E79-31663FE9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B8D-2F32-4B5B-BDE3-2EA49017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DA67-B2CA-4AF6-8EB9-8DE55452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0B27F-03FE-491A-8BD3-4B5B4561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8DEC-346F-477A-B0D6-BA790B12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AE19-EE9F-4559-8857-B9BF00B8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B8DE-061A-4D66-8596-3F1B877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39DB-C985-43C0-84DA-A9E85F72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A44CF-D51D-42C9-BEE6-CAB2135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40FDA-14CF-4406-B836-F467B686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FD059-F5E7-4798-A6FD-3B6BCAA3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0AD18-7B81-4910-AA7B-30232310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265-0EF0-4571-8137-B076E5D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AFF44-0955-4C5A-B523-04122EFE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060F-9A3F-4195-A8D8-FC806038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C37F-7216-4F9A-8727-61833280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B596C-A8C1-430D-9E94-AA02BB3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18CB-9181-442A-ADF2-932DD822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344B1-5D87-4666-844E-A019FA66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80223-2A1B-4140-96E2-F9A8D09D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65F0F-B240-445B-B25F-7402930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D2CAB-4BE3-48AF-A711-2C419045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CDD9-721A-418B-8494-C93949B8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F68-E8BF-42D4-89EA-D231748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66E9-CA90-4581-B9F3-6E0745CE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68F1B-F632-4579-9C81-C71AADDB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99E7B-B827-4F8E-8190-CA8D213A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00E58-80D0-4415-8076-14811188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66517-953E-4FC2-A306-16C7D84F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D7A1-095C-4507-B7B6-7FDCEFD6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4C9D4-C580-4313-B329-40872650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1404-2FB5-4332-8B94-18791B97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957C-3C04-4127-A4A9-BB33D6C4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E19F8-7692-499F-8DFF-A81BB0A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2E9-0E25-4844-BED0-8C62717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810D1-1BBA-4AB3-9F42-A2DC6B33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A3052-794D-4A23-9E31-763414D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F0FC-9A8E-468A-AC5E-E975F16F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1C3AC-2BF2-4731-9781-CEFB4442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7D799-8BD2-46BF-B0F7-190C9940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1F852-BE3B-4BFF-9A1B-90EE90AB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4240-6BCC-426A-948C-2C9A3FEA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1D850-B2CF-42E5-A4E8-A457D5AF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99514-400F-4947-AB4B-070AD41E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C0B56-5184-40D3-85BE-F5A0A00D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A80-29A0-475C-A200-8EE7017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D6A53-9A4F-4AB4-BF0E-20A981E3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6A67A-6026-42AC-B11D-D570B07E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A2C50-B9F7-4F4F-9127-3031353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89C26-A44D-4DBE-856A-4E835663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E61B-A8F2-49CA-91BC-B53775D2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440DB-3504-4D2D-8F25-057D9888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7626-95AB-4E36-A8CE-A3E3CDD8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8A4BB-1314-4110-90F9-7CCB8583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3100D-52E3-4C93-99CA-1CFF1ABB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DEC0C-3657-43ED-8A3F-235100D6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A551-37F7-495E-ACAB-9F454853D32D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7E69-8B86-4644-9827-14299D54755A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693D-05DD-4309-9276-CCCA2AB8F70F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F2C8-BDFF-492B-B22B-770E660FDB84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6D3-EB2A-45A8-9137-75355FECF273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B282-4D57-4F3C-BE3A-D69971D2B323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150-4E00-43AB-9495-580B4F8C17E5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21FE-80BA-49BE-89AF-37AEF2346DA2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E56A-36E3-46A9-8953-E2E1E02E5774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30F3-BBDF-4BF5-8179-8C48B0FFE32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ABA2-AA61-4D6B-A542-203F2B75583C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624-5A95-4A2C-8BEE-B9EEFB7459B4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5314-17AB-4B2C-B780-65DB5E3A3D5A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FB1F-77CE-4FC8-AAF5-12E3E524A4AA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9054-97E7-4421-8024-4707AA6D995C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781-4D79-4429-956C-D54971C37AA8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CA9E-79CE-4993-B579-BE1607DD12B6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5B60-B722-4820-813B-72E8F2F1281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08B-6C56-448E-9790-CDF4350D4FA4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4DD-F401-43C9-AF4B-652447F758D1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00E5-833C-4FC0-A3A7-5B230DC34B25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E43E-56CE-4E4D-930E-7701344CB179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B36A-3956-4103-B61E-409A0DE98194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8CE1-0FF4-494F-A160-42C208F3E742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412920"/>
            <a:ext cx="4140360" cy="1295280"/>
          </a:xfrm>
          <a:prstGeom prst="rect">
            <a:avLst/>
          </a:prstGeom>
          <a:solidFill>
            <a:srgbClr val="197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矩形 11"/>
          <p:cNvSpPr/>
          <p:nvPr/>
        </p:nvSpPr>
        <p:spPr>
          <a:xfrm>
            <a:off x="611280" y="1851120"/>
            <a:ext cx="3529080" cy="28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28"/>
          <p:cNvSpPr/>
          <p:nvPr/>
        </p:nvSpPr>
        <p:spPr>
          <a:xfrm>
            <a:off x="163800" y="328680"/>
            <a:ext cx="370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itle Here 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矩形 42"/>
          <p:cNvSpPr/>
          <p:nvPr/>
        </p:nvSpPr>
        <p:spPr>
          <a:xfrm>
            <a:off x="611280" y="2139840"/>
            <a:ext cx="3529080" cy="2592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6"/>
          <p:cNvGrpSpPr/>
          <p:nvPr/>
        </p:nvGrpSpPr>
        <p:grpSpPr>
          <a:xfrm>
            <a:off x="3875040" y="1887480"/>
            <a:ext cx="217440" cy="216000"/>
            <a:chOff x="3875040" y="1887480"/>
            <a:chExt cx="217440" cy="216000"/>
          </a:xfrm>
        </p:grpSpPr>
        <p:sp>
          <p:nvSpPr>
            <p:cNvPr id="497" name="椭圆 15"/>
            <p:cNvSpPr/>
            <p:nvPr/>
          </p:nvSpPr>
          <p:spPr>
            <a:xfrm>
              <a:off x="3875040" y="1887480"/>
              <a:ext cx="217440" cy="216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" name="Group 8"/>
            <p:cNvGrpSpPr/>
            <p:nvPr/>
          </p:nvGrpSpPr>
          <p:grpSpPr>
            <a:xfrm>
              <a:off x="3908160" y="1924560"/>
              <a:ext cx="157680" cy="141480"/>
              <a:chOff x="3908160" y="1924560"/>
              <a:chExt cx="157680" cy="141480"/>
            </a:xfrm>
          </p:grpSpPr>
          <p:sp>
            <p:nvSpPr>
              <p:cNvPr id="499" name="直接连接符 20"/>
              <p:cNvSpPr/>
              <p:nvPr/>
            </p:nvSpPr>
            <p:spPr>
              <a:xfrm>
                <a:off x="3987720" y="1924560"/>
                <a:ext cx="0" cy="141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直接连接符 21"/>
              <p:cNvSpPr/>
              <p:nvPr/>
            </p:nvSpPr>
            <p:spPr>
              <a:xfrm flipH="1">
                <a:off x="3908160" y="1995480"/>
                <a:ext cx="157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11"/>
          <p:cNvGrpSpPr/>
          <p:nvPr/>
        </p:nvGrpSpPr>
        <p:grpSpPr>
          <a:xfrm>
            <a:off x="3875040" y="4410000"/>
            <a:ext cx="217440" cy="216000"/>
            <a:chOff x="3875040" y="4410000"/>
            <a:chExt cx="217440" cy="216000"/>
          </a:xfrm>
        </p:grpSpPr>
        <p:sp>
          <p:nvSpPr>
            <p:cNvPr id="502" name="椭圆 44"/>
            <p:cNvSpPr/>
            <p:nvPr/>
          </p:nvSpPr>
          <p:spPr>
            <a:xfrm>
              <a:off x="3875040" y="4410000"/>
              <a:ext cx="217440" cy="216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13"/>
            <p:cNvGrpSpPr/>
            <p:nvPr/>
          </p:nvGrpSpPr>
          <p:grpSpPr>
            <a:xfrm>
              <a:off x="3905640" y="4451760"/>
              <a:ext cx="159840" cy="133200"/>
              <a:chOff x="3905640" y="4451760"/>
              <a:chExt cx="159840" cy="133200"/>
            </a:xfrm>
          </p:grpSpPr>
          <p:sp>
            <p:nvSpPr>
              <p:cNvPr id="504" name="直接连接符 46"/>
              <p:cNvSpPr/>
              <p:nvPr/>
            </p:nvSpPr>
            <p:spPr>
              <a:xfrm>
                <a:off x="3986280" y="4451760"/>
                <a:ext cx="79200" cy="71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直接连接符 47"/>
              <p:cNvSpPr/>
              <p:nvPr/>
            </p:nvSpPr>
            <p:spPr>
              <a:xfrm flipH="1">
                <a:off x="3905640" y="4518360"/>
                <a:ext cx="156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直接连接符 49"/>
              <p:cNvSpPr/>
              <p:nvPr/>
            </p:nvSpPr>
            <p:spPr>
              <a:xfrm flipH="1">
                <a:off x="3986280" y="4513680"/>
                <a:ext cx="79200" cy="71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Box 51"/>
          <p:cNvSpPr/>
          <p:nvPr/>
        </p:nvSpPr>
        <p:spPr>
          <a:xfrm>
            <a:off x="139680" y="167940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691560" y="23256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691560" y="270972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691560" y="30798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691560" y="344952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691560" y="38178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23"/>
          <p:cNvGrpSpPr/>
          <p:nvPr/>
        </p:nvGrpSpPr>
        <p:grpSpPr>
          <a:xfrm>
            <a:off x="4303800" y="411120"/>
            <a:ext cx="4314960" cy="2309760"/>
            <a:chOff x="4303800" y="411120"/>
            <a:chExt cx="4314960" cy="2309760"/>
          </a:xfrm>
        </p:grpSpPr>
        <p:sp>
          <p:nvSpPr>
            <p:cNvPr id="514" name="矩形 10"/>
            <p:cNvSpPr/>
            <p:nvPr/>
          </p:nvSpPr>
          <p:spPr>
            <a:xfrm>
              <a:off x="4303800" y="411120"/>
              <a:ext cx="4281480" cy="223236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5" name="Picture 2" descr=""/>
            <p:cNvPicPr/>
            <p:nvPr/>
          </p:nvPicPr>
          <p:blipFill>
            <a:blip r:embed="rId1"/>
            <a:srcRect l="0" t="7956" r="0" b="32497"/>
            <a:stretch/>
          </p:blipFill>
          <p:spPr>
            <a:xfrm>
              <a:off x="4370040" y="460800"/>
              <a:ext cx="4140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Box 1"/>
            <p:cNvSpPr/>
            <p:nvPr/>
          </p:nvSpPr>
          <p:spPr>
            <a:xfrm>
              <a:off x="6732720" y="2139480"/>
              <a:ext cx="18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Logo 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2624040" y="2462040"/>
            <a:ext cx="1516320" cy="1516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3"/>
          <a:stretch/>
        </p:blipFill>
        <p:spPr>
          <a:xfrm rot="14508600">
            <a:off x="2378160" y="36698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"/>
          <p:cNvPicPr/>
          <p:nvPr/>
        </p:nvPicPr>
        <p:blipFill>
          <a:blip r:embed="rId4"/>
          <a:stretch/>
        </p:blipFill>
        <p:spPr>
          <a:xfrm>
            <a:off x="3038400" y="41227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5"/>
          <a:stretch/>
        </p:blipFill>
        <p:spPr>
          <a:xfrm>
            <a:off x="3433680" y="4079880"/>
            <a:ext cx="2001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31"/>
          <p:cNvGrpSpPr/>
          <p:nvPr/>
        </p:nvGrpSpPr>
        <p:grpSpPr>
          <a:xfrm>
            <a:off x="4284720" y="2716200"/>
            <a:ext cx="2155680" cy="1965240"/>
            <a:chOff x="4284720" y="2716200"/>
            <a:chExt cx="2155680" cy="1965240"/>
          </a:xfrm>
        </p:grpSpPr>
        <p:sp>
          <p:nvSpPr>
            <p:cNvPr id="522" name="矩形 4"/>
            <p:cNvSpPr/>
            <p:nvPr/>
          </p:nvSpPr>
          <p:spPr>
            <a:xfrm>
              <a:off x="4284720" y="2716200"/>
              <a:ext cx="2155680" cy="1965240"/>
            </a:xfrm>
            <a:prstGeom prst="rect">
              <a:avLst/>
            </a:prstGeom>
            <a:solidFill>
              <a:srgbClr val="2a8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3" name="Picture 8" descr=""/>
            <p:cNvPicPr/>
            <p:nvPr/>
          </p:nvPicPr>
          <p:blipFill>
            <a:blip r:embed="rId6"/>
            <a:srcRect l="0" t="0" r="0" b="9117"/>
            <a:stretch/>
          </p:blipFill>
          <p:spPr>
            <a:xfrm>
              <a:off x="4322520" y="3096720"/>
              <a:ext cx="2080080" cy="151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oup 34"/>
          <p:cNvGrpSpPr/>
          <p:nvPr/>
        </p:nvGrpSpPr>
        <p:grpSpPr>
          <a:xfrm>
            <a:off x="6588000" y="2716200"/>
            <a:ext cx="2259000" cy="1965240"/>
            <a:chOff x="6588000" y="2716200"/>
            <a:chExt cx="2259000" cy="1965240"/>
          </a:xfrm>
        </p:grpSpPr>
        <p:sp>
          <p:nvSpPr>
            <p:cNvPr id="525" name="矩形 48"/>
            <p:cNvSpPr/>
            <p:nvPr/>
          </p:nvSpPr>
          <p:spPr>
            <a:xfrm>
              <a:off x="6588000" y="2716200"/>
              <a:ext cx="1997280" cy="1965240"/>
            </a:xfrm>
            <a:prstGeom prst="rect">
              <a:avLst/>
            </a:prstGeom>
            <a:solidFill>
              <a:srgbClr val="2a8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6" name="Picture 7" descr=""/>
            <p:cNvPicPr/>
            <p:nvPr/>
          </p:nvPicPr>
          <p:blipFill>
            <a:blip r:embed="rId7"/>
            <a:srcRect l="0" t="5422" r="0" b="0"/>
            <a:stretch/>
          </p:blipFill>
          <p:spPr>
            <a:xfrm>
              <a:off x="6639480" y="2781360"/>
              <a:ext cx="1893960" cy="13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Box 7"/>
            <p:cNvSpPr/>
            <p:nvPr/>
          </p:nvSpPr>
          <p:spPr>
            <a:xfrm>
              <a:off x="6953040" y="4265640"/>
              <a:ext cx="189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Leocay.cay@live.co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8" name="Picture 9" descr=""/>
            <p:cNvPicPr/>
            <p:nvPr/>
          </p:nvPicPr>
          <p:blipFill>
            <a:blip r:embed="rId8"/>
            <a:stretch/>
          </p:blipFill>
          <p:spPr>
            <a:xfrm>
              <a:off x="6631920" y="4237920"/>
              <a:ext cx="363600" cy="36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矩形 2"/>
          <p:cNvSpPr/>
          <p:nvPr/>
        </p:nvSpPr>
        <p:spPr>
          <a:xfrm>
            <a:off x="1238040" y="1179360"/>
            <a:ext cx="64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格风景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矩形 12"/>
          <p:cNvSpPr/>
          <p:nvPr/>
        </p:nvSpPr>
        <p:spPr>
          <a:xfrm>
            <a:off x="376200" y="4811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2.77778E-007 0.49013 E">
                                      <p:cBhvr>
                                        <p:cTn id="27" dur="75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26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270"/>
                            </p:stCondLst>
                            <p:childTnLst>
                              <p:par>
                                <p:cTn id="43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7 L 0.01355 3.7037E-007 E">
                                      <p:cBhvr>
                                        <p:cTn id="44" dur="15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3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63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27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3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7870-6401-4A15-AE37-D57F2E23890A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4883040" y="987480"/>
            <a:ext cx="2497320" cy="724680"/>
            <a:chOff x="4883040" y="987480"/>
            <a:chExt cx="2497320" cy="724680"/>
          </a:xfrm>
        </p:grpSpPr>
        <p:sp>
          <p:nvSpPr>
            <p:cNvPr id="533" name="矩形 13"/>
            <p:cNvSpPr/>
            <p:nvPr/>
          </p:nvSpPr>
          <p:spPr>
            <a:xfrm>
              <a:off x="4883040" y="987480"/>
              <a:ext cx="2497320" cy="64764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944240" y="1008720"/>
              <a:ext cx="213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nclusion .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矩形 17"/>
          <p:cNvSpPr/>
          <p:nvPr/>
        </p:nvSpPr>
        <p:spPr>
          <a:xfrm>
            <a:off x="4883040" y="1749600"/>
            <a:ext cx="2497320" cy="2036520"/>
          </a:xfrm>
          <a:prstGeom prst="rect">
            <a:avLst/>
          </a:prstGeom>
          <a:solidFill>
            <a:srgbClr val="21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18"/>
          <p:cNvSpPr/>
          <p:nvPr/>
        </p:nvSpPr>
        <p:spPr>
          <a:xfrm>
            <a:off x="4932360" y="175248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19"/>
          <p:cNvSpPr/>
          <p:nvPr/>
        </p:nvSpPr>
        <p:spPr>
          <a:xfrm>
            <a:off x="4932360" y="215280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20"/>
          <p:cNvSpPr/>
          <p:nvPr/>
        </p:nvSpPr>
        <p:spPr>
          <a:xfrm>
            <a:off x="4932360" y="256716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4939200" y="2967120"/>
            <a:ext cx="19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nd so on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矩形 11"/>
          <p:cNvSpPr/>
          <p:nvPr/>
        </p:nvSpPr>
        <p:spPr>
          <a:xfrm>
            <a:off x="0" y="3940200"/>
            <a:ext cx="738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直接连接符 23"/>
          <p:cNvSpPr/>
          <p:nvPr/>
        </p:nvSpPr>
        <p:spPr>
          <a:xfrm>
            <a:off x="2460600" y="4011480"/>
            <a:ext cx="0" cy="7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直接连接符 29"/>
          <p:cNvSpPr/>
          <p:nvPr/>
        </p:nvSpPr>
        <p:spPr>
          <a:xfrm>
            <a:off x="4919760" y="4011480"/>
            <a:ext cx="1440" cy="7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60480" y="396864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2556000" y="3968640"/>
            <a:ext cx="385560" cy="387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5003640" y="3968640"/>
            <a:ext cx="385920" cy="387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27"/>
          <p:cNvSpPr/>
          <p:nvPr/>
        </p:nvSpPr>
        <p:spPr>
          <a:xfrm>
            <a:off x="449640" y="390996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us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Box 37"/>
          <p:cNvSpPr/>
          <p:nvPr/>
        </p:nvSpPr>
        <p:spPr>
          <a:xfrm>
            <a:off x="2953080" y="390996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cru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38"/>
          <p:cNvSpPr/>
          <p:nvPr/>
        </p:nvSpPr>
        <p:spPr>
          <a:xfrm>
            <a:off x="5399280" y="390996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valu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Box 39"/>
          <p:cNvSpPr/>
          <p:nvPr/>
        </p:nvSpPr>
        <p:spPr>
          <a:xfrm>
            <a:off x="67464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40"/>
          <p:cNvSpPr/>
          <p:nvPr/>
        </p:nvSpPr>
        <p:spPr>
          <a:xfrm>
            <a:off x="318528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41"/>
          <p:cNvSpPr/>
          <p:nvPr/>
        </p:nvSpPr>
        <p:spPr>
          <a:xfrm>
            <a:off x="564120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Group 22"/>
          <p:cNvGrpSpPr/>
          <p:nvPr/>
        </p:nvGrpSpPr>
        <p:grpSpPr>
          <a:xfrm>
            <a:off x="0" y="401760"/>
            <a:ext cx="7380360" cy="369720"/>
            <a:chOff x="0" y="401760"/>
            <a:chExt cx="7380360" cy="369720"/>
          </a:xfrm>
        </p:grpSpPr>
        <p:sp>
          <p:nvSpPr>
            <p:cNvPr id="553" name="矩形 3"/>
            <p:cNvSpPr/>
            <p:nvPr/>
          </p:nvSpPr>
          <p:spPr>
            <a:xfrm>
              <a:off x="0" y="412560"/>
              <a:ext cx="7380360" cy="35892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Box 2047"/>
            <p:cNvSpPr/>
            <p:nvPr/>
          </p:nvSpPr>
          <p:spPr>
            <a:xfrm>
              <a:off x="6237720" y="4017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Group 25"/>
          <p:cNvGrpSpPr/>
          <p:nvPr/>
        </p:nvGrpSpPr>
        <p:grpSpPr>
          <a:xfrm>
            <a:off x="7585560" y="401760"/>
            <a:ext cx="1613160" cy="369720"/>
            <a:chOff x="7585560" y="401760"/>
            <a:chExt cx="1613160" cy="369720"/>
          </a:xfrm>
        </p:grpSpPr>
        <p:sp>
          <p:nvSpPr>
            <p:cNvPr id="556" name="矩形 4"/>
            <p:cNvSpPr/>
            <p:nvPr/>
          </p:nvSpPr>
          <p:spPr>
            <a:xfrm>
              <a:off x="7632360" y="412560"/>
              <a:ext cx="1511640" cy="358920"/>
            </a:xfrm>
            <a:prstGeom prst="rect">
              <a:avLst/>
            </a:prstGeom>
            <a:solidFill>
              <a:srgbClr val="ff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TextBox 52"/>
            <p:cNvSpPr/>
            <p:nvPr/>
          </p:nvSpPr>
          <p:spPr>
            <a:xfrm>
              <a:off x="7585560" y="4017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 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28"/>
          <p:cNvGrpSpPr/>
          <p:nvPr/>
        </p:nvGrpSpPr>
        <p:grpSpPr>
          <a:xfrm>
            <a:off x="7632720" y="982800"/>
            <a:ext cx="1511280" cy="4160880"/>
            <a:chOff x="7632720" y="982800"/>
            <a:chExt cx="1511280" cy="4160880"/>
          </a:xfrm>
        </p:grpSpPr>
        <p:pic>
          <p:nvPicPr>
            <p:cNvPr id="559" name="Picture 2" descr=""/>
            <p:cNvPicPr/>
            <p:nvPr/>
          </p:nvPicPr>
          <p:blipFill>
            <a:blip r:embed="rId4"/>
            <a:srcRect l="48795" t="0" r="0" b="6234"/>
            <a:stretch/>
          </p:blipFill>
          <p:spPr>
            <a:xfrm flipH="1">
              <a:off x="7632720" y="988200"/>
              <a:ext cx="1511280" cy="41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矩形 5"/>
            <p:cNvSpPr/>
            <p:nvPr/>
          </p:nvSpPr>
          <p:spPr>
            <a:xfrm>
              <a:off x="7632720" y="988920"/>
              <a:ext cx="360360" cy="4154760"/>
            </a:xfrm>
            <a:prstGeom prst="rect">
              <a:avLst/>
            </a:prstGeom>
            <a:solidFill>
              <a:srgbClr val="ff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1" name="Picture 8" descr=""/>
            <p:cNvPicPr/>
            <p:nvPr/>
          </p:nvPicPr>
          <p:blipFill>
            <a:blip r:embed="rId5"/>
            <a:srcRect l="0" t="0" r="29507" b="0"/>
            <a:stretch/>
          </p:blipFill>
          <p:spPr>
            <a:xfrm rot="10800000">
              <a:off x="7632720" y="982800"/>
              <a:ext cx="360000" cy="51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矩形 17"/>
          <p:cNvSpPr/>
          <p:nvPr/>
        </p:nvSpPr>
        <p:spPr>
          <a:xfrm>
            <a:off x="33480" y="987480"/>
            <a:ext cx="4716360" cy="2809800"/>
          </a:xfrm>
          <a:prstGeom prst="rect">
            <a:avLst/>
          </a:prstGeom>
          <a:solidFill>
            <a:srgbClr val="21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18"/>
          <p:cNvSpPr/>
          <p:nvPr/>
        </p:nvSpPr>
        <p:spPr>
          <a:xfrm>
            <a:off x="179280" y="1203480"/>
            <a:ext cx="43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-30240" y="401760"/>
            <a:ext cx="15013080" cy="4741920"/>
            <a:chOff x="-30240" y="401760"/>
            <a:chExt cx="15013080" cy="4741920"/>
          </a:xfrm>
        </p:grpSpPr>
        <p:sp>
          <p:nvSpPr>
            <p:cNvPr id="565" name="矩形 22"/>
            <p:cNvSpPr/>
            <p:nvPr/>
          </p:nvSpPr>
          <p:spPr>
            <a:xfrm>
              <a:off x="-30240" y="987480"/>
              <a:ext cx="7377840" cy="458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矩形 19"/>
            <p:cNvSpPr/>
            <p:nvPr/>
          </p:nvSpPr>
          <p:spPr>
            <a:xfrm>
              <a:off x="-30240" y="981000"/>
              <a:ext cx="7377840" cy="3751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5"/>
            <p:cNvGrpSpPr/>
            <p:nvPr/>
          </p:nvGrpSpPr>
          <p:grpSpPr>
            <a:xfrm>
              <a:off x="3600" y="401760"/>
              <a:ext cx="7378560" cy="369360"/>
              <a:chOff x="3600" y="401760"/>
              <a:chExt cx="7378560" cy="369360"/>
            </a:xfrm>
          </p:grpSpPr>
          <p:sp>
            <p:nvSpPr>
              <p:cNvPr id="568" name="矩形 4"/>
              <p:cNvSpPr/>
              <p:nvPr/>
            </p:nvSpPr>
            <p:spPr>
              <a:xfrm>
                <a:off x="3600" y="412560"/>
                <a:ext cx="7378560" cy="358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Box 5"/>
              <p:cNvSpPr/>
              <p:nvPr/>
            </p:nvSpPr>
            <p:spPr>
              <a:xfrm>
                <a:off x="6239520" y="401760"/>
                <a:ext cx="111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Title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矩形 7"/>
            <p:cNvSpPr/>
            <p:nvPr/>
          </p:nvSpPr>
          <p:spPr>
            <a:xfrm>
              <a:off x="7634880" y="412560"/>
              <a:ext cx="7347960" cy="358560"/>
            </a:xfrm>
            <a:prstGeom prst="rect">
              <a:avLst/>
            </a:prstGeom>
            <a:solidFill>
              <a:srgbClr val="66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Box 8"/>
            <p:cNvSpPr/>
            <p:nvPr/>
          </p:nvSpPr>
          <p:spPr>
            <a:xfrm>
              <a:off x="7587720" y="4017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 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10"/>
            <p:cNvGrpSpPr/>
            <p:nvPr/>
          </p:nvGrpSpPr>
          <p:grpSpPr>
            <a:xfrm>
              <a:off x="7634160" y="981000"/>
              <a:ext cx="1493640" cy="4162680"/>
              <a:chOff x="7634160" y="981000"/>
              <a:chExt cx="1493640" cy="4162680"/>
            </a:xfrm>
          </p:grpSpPr>
          <p:pic>
            <p:nvPicPr>
              <p:cNvPr id="573" name="Picture 2" descr=""/>
              <p:cNvPicPr/>
              <p:nvPr/>
            </p:nvPicPr>
            <p:blipFill>
              <a:blip r:embed="rId1"/>
              <a:srcRect l="48178" t="0" r="30210" b="0"/>
              <a:stretch/>
            </p:blipFill>
            <p:spPr>
              <a:xfrm>
                <a:off x="7814160" y="981360"/>
                <a:ext cx="1313640" cy="41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矩形 11"/>
              <p:cNvSpPr/>
              <p:nvPr/>
            </p:nvSpPr>
            <p:spPr>
              <a:xfrm>
                <a:off x="7634880" y="987120"/>
                <a:ext cx="360000" cy="4156560"/>
              </a:xfrm>
              <a:prstGeom prst="rect">
                <a:avLst/>
              </a:prstGeom>
              <a:solidFill>
                <a:srgbClr val="66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75" name="Picture 8" descr=""/>
              <p:cNvPicPr/>
              <p:nvPr/>
            </p:nvPicPr>
            <p:blipFill>
              <a:blip r:embed="rId2"/>
              <a:srcRect l="0" t="0" r="29507" b="0"/>
              <a:stretch/>
            </p:blipFill>
            <p:spPr>
              <a:xfrm rot="10800000">
                <a:off x="7634160" y="981000"/>
                <a:ext cx="359640" cy="51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6" name="TextBox 14"/>
            <p:cNvSpPr/>
            <p:nvPr/>
          </p:nvSpPr>
          <p:spPr>
            <a:xfrm>
              <a:off x="689760" y="113112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our Words Here 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7" name="Picture 4" descr=""/>
            <p:cNvPicPr/>
            <p:nvPr/>
          </p:nvPicPr>
          <p:blipFill>
            <a:blip r:embed="rId3"/>
            <a:stretch/>
          </p:blipFill>
          <p:spPr>
            <a:xfrm>
              <a:off x="39600" y="401220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15"/>
            <p:cNvSpPr/>
            <p:nvPr/>
          </p:nvSpPr>
          <p:spPr>
            <a:xfrm>
              <a:off x="867960" y="1707480"/>
              <a:ext cx="5592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etails 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Box 26"/>
            <p:cNvSpPr/>
            <p:nvPr/>
          </p:nvSpPr>
          <p:spPr>
            <a:xfrm>
              <a:off x="13870440" y="4017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34"/>
          <p:cNvSpPr/>
          <p:nvPr/>
        </p:nvSpPr>
        <p:spPr>
          <a:xfrm>
            <a:off x="1511280" y="987480"/>
            <a:ext cx="28908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矩形 3"/>
          <p:cNvSpPr/>
          <p:nvPr/>
        </p:nvSpPr>
        <p:spPr>
          <a:xfrm>
            <a:off x="0" y="412920"/>
            <a:ext cx="7370640" cy="358560"/>
          </a:xfrm>
          <a:prstGeom prst="rect">
            <a:avLst/>
          </a:prstGeom>
          <a:solidFill>
            <a:srgbClr val="66b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6237720" y="40176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矩形 1"/>
          <p:cNvSpPr/>
          <p:nvPr/>
        </p:nvSpPr>
        <p:spPr>
          <a:xfrm>
            <a:off x="0" y="987480"/>
            <a:ext cx="1406520" cy="1439640"/>
          </a:xfrm>
          <a:prstGeom prst="rect">
            <a:avLst/>
          </a:prstGeom>
          <a:solidFill>
            <a:srgbClr val="6cb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矩形 5"/>
          <p:cNvSpPr/>
          <p:nvPr/>
        </p:nvSpPr>
        <p:spPr>
          <a:xfrm>
            <a:off x="1800360" y="987480"/>
            <a:ext cx="131112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矩形 6"/>
          <p:cNvSpPr/>
          <p:nvPr/>
        </p:nvSpPr>
        <p:spPr>
          <a:xfrm>
            <a:off x="3227400" y="1560600"/>
            <a:ext cx="1359000" cy="866520"/>
          </a:xfrm>
          <a:prstGeom prst="rect">
            <a:avLst/>
          </a:prstGeom>
          <a:solidFill>
            <a:srgbClr val="e61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矩形 7"/>
          <p:cNvSpPr/>
          <p:nvPr/>
        </p:nvSpPr>
        <p:spPr>
          <a:xfrm>
            <a:off x="4635360" y="987480"/>
            <a:ext cx="2745000" cy="1439640"/>
          </a:xfrm>
          <a:prstGeom prst="rect">
            <a:avLst/>
          </a:prstGeom>
          <a:solidFill>
            <a:srgbClr val="f19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矩形 8"/>
          <p:cNvSpPr/>
          <p:nvPr/>
        </p:nvSpPr>
        <p:spPr>
          <a:xfrm>
            <a:off x="3822840" y="987480"/>
            <a:ext cx="7570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矩形 9"/>
          <p:cNvSpPr/>
          <p:nvPr/>
        </p:nvSpPr>
        <p:spPr>
          <a:xfrm>
            <a:off x="0" y="2571840"/>
            <a:ext cx="7380360" cy="22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34920" y="103824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"/>
          <p:cNvPicPr/>
          <p:nvPr/>
        </p:nvPicPr>
        <p:blipFill>
          <a:blip r:embed="rId2"/>
          <a:stretch/>
        </p:blipFill>
        <p:spPr>
          <a:xfrm>
            <a:off x="1835280" y="103824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3"/>
          <a:stretch/>
        </p:blipFill>
        <p:spPr>
          <a:xfrm>
            <a:off x="3244680" y="1590840"/>
            <a:ext cx="309600" cy="309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4"/>
          <a:stretch/>
        </p:blipFill>
        <p:spPr>
          <a:xfrm>
            <a:off x="4676760" y="1038240"/>
            <a:ext cx="308160" cy="30960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5"/>
          <p:cNvGrpSpPr/>
          <p:nvPr/>
        </p:nvGrpSpPr>
        <p:grpSpPr>
          <a:xfrm>
            <a:off x="1816200" y="1560600"/>
            <a:ext cx="1387440" cy="866520"/>
            <a:chOff x="1816200" y="1560600"/>
            <a:chExt cx="1387440" cy="866520"/>
          </a:xfrm>
        </p:grpSpPr>
        <p:pic>
          <p:nvPicPr>
            <p:cNvPr id="594" name="Picture 5" descr=""/>
            <p:cNvPicPr/>
            <p:nvPr/>
          </p:nvPicPr>
          <p:blipFill>
            <a:blip r:embed="rId5"/>
            <a:stretch/>
          </p:blipFill>
          <p:spPr>
            <a:xfrm>
              <a:off x="1816200" y="1560600"/>
              <a:ext cx="138744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矩形 17"/>
            <p:cNvSpPr/>
            <p:nvPr/>
          </p:nvSpPr>
          <p:spPr>
            <a:xfrm>
              <a:off x="1816200" y="2211480"/>
              <a:ext cx="1387440" cy="215640"/>
            </a:xfrm>
            <a:prstGeom prst="rect">
              <a:avLst/>
            </a:prstGeom>
            <a:solidFill>
              <a:srgbClr val="7d5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6" name="Picture 6" descr=""/>
          <p:cNvPicPr/>
          <p:nvPr/>
        </p:nvPicPr>
        <p:blipFill>
          <a:blip r:embed="rId6"/>
          <a:stretch/>
        </p:blipFill>
        <p:spPr>
          <a:xfrm>
            <a:off x="3975120" y="1038240"/>
            <a:ext cx="452520" cy="449280"/>
          </a:xfrm>
          <a:prstGeom prst="rect">
            <a:avLst/>
          </a:prstGeom>
          <a:ln w="0">
            <a:noFill/>
          </a:ln>
        </p:spPr>
      </p:pic>
      <p:sp>
        <p:nvSpPr>
          <p:cNvPr id="597" name="TextBox 2"/>
          <p:cNvSpPr/>
          <p:nvPr/>
        </p:nvSpPr>
        <p:spPr>
          <a:xfrm>
            <a:off x="37872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18"/>
          <p:cNvSpPr/>
          <p:nvPr/>
        </p:nvSpPr>
        <p:spPr>
          <a:xfrm>
            <a:off x="214740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19"/>
          <p:cNvSpPr/>
          <p:nvPr/>
        </p:nvSpPr>
        <p:spPr>
          <a:xfrm>
            <a:off x="3591000" y="156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20"/>
          <p:cNvSpPr/>
          <p:nvPr/>
        </p:nvSpPr>
        <p:spPr>
          <a:xfrm>
            <a:off x="499284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Group 23"/>
          <p:cNvGrpSpPr/>
          <p:nvPr/>
        </p:nvGrpSpPr>
        <p:grpSpPr>
          <a:xfrm>
            <a:off x="611280" y="2859120"/>
            <a:ext cx="1539720" cy="1657440"/>
            <a:chOff x="611280" y="2859120"/>
            <a:chExt cx="1539720" cy="1657440"/>
          </a:xfrm>
        </p:grpSpPr>
        <p:sp>
          <p:nvSpPr>
            <p:cNvPr id="602" name="矩形 11"/>
            <p:cNvSpPr/>
            <p:nvPr/>
          </p:nvSpPr>
          <p:spPr>
            <a:xfrm>
              <a:off x="611280" y="3281400"/>
              <a:ext cx="106200" cy="12351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矩形 24"/>
            <p:cNvSpPr/>
            <p:nvPr/>
          </p:nvSpPr>
          <p:spPr>
            <a:xfrm>
              <a:off x="771480" y="3579840"/>
              <a:ext cx="104760" cy="93672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矩形 25"/>
            <p:cNvSpPr/>
            <p:nvPr/>
          </p:nvSpPr>
          <p:spPr>
            <a:xfrm>
              <a:off x="930240" y="3899160"/>
              <a:ext cx="101520" cy="617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矩形 26"/>
            <p:cNvSpPr/>
            <p:nvPr/>
          </p:nvSpPr>
          <p:spPr>
            <a:xfrm>
              <a:off x="1085760" y="2859120"/>
              <a:ext cx="107640" cy="165744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矩形 27"/>
            <p:cNvSpPr/>
            <p:nvPr/>
          </p:nvSpPr>
          <p:spPr>
            <a:xfrm>
              <a:off x="1246320" y="3435480"/>
              <a:ext cx="106200" cy="1081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矩形 28"/>
            <p:cNvSpPr/>
            <p:nvPr/>
          </p:nvSpPr>
          <p:spPr>
            <a:xfrm>
              <a:off x="1406520" y="3651480"/>
              <a:ext cx="106200" cy="86508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矩形 29"/>
            <p:cNvSpPr/>
            <p:nvPr/>
          </p:nvSpPr>
          <p:spPr>
            <a:xfrm>
              <a:off x="1565280" y="3281400"/>
              <a:ext cx="106200" cy="12351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矩形 30"/>
            <p:cNvSpPr/>
            <p:nvPr/>
          </p:nvSpPr>
          <p:spPr>
            <a:xfrm>
              <a:off x="1725840" y="3506760"/>
              <a:ext cx="106200" cy="100980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矩形 31"/>
            <p:cNvSpPr/>
            <p:nvPr/>
          </p:nvSpPr>
          <p:spPr>
            <a:xfrm>
              <a:off x="1884600" y="3795840"/>
              <a:ext cx="106200" cy="720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矩形 32"/>
            <p:cNvSpPr/>
            <p:nvPr/>
          </p:nvSpPr>
          <p:spPr>
            <a:xfrm>
              <a:off x="2044800" y="3074760"/>
              <a:ext cx="106200" cy="144180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椭圆 15"/>
          <p:cNvSpPr/>
          <p:nvPr/>
        </p:nvSpPr>
        <p:spPr>
          <a:xfrm>
            <a:off x="2771640" y="3147840"/>
            <a:ext cx="1295640" cy="1295640"/>
          </a:xfrm>
          <a:prstGeom prst="ellipse">
            <a:avLst/>
          </a:prstGeom>
          <a:noFill/>
          <a:ln w="25560">
            <a:solidFill>
              <a:srgbClr val="18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矩形 23"/>
          <p:cNvSpPr/>
          <p:nvPr/>
        </p:nvSpPr>
        <p:spPr>
          <a:xfrm>
            <a:off x="3111480" y="987480"/>
            <a:ext cx="66852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39"/>
          <p:cNvSpPr/>
          <p:nvPr/>
        </p:nvSpPr>
        <p:spPr>
          <a:xfrm>
            <a:off x="-31680" y="1406520"/>
            <a:ext cx="146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矩形 33"/>
          <p:cNvSpPr/>
          <p:nvPr/>
        </p:nvSpPr>
        <p:spPr>
          <a:xfrm>
            <a:off x="1406520" y="987480"/>
            <a:ext cx="318960" cy="1439640"/>
          </a:xfrm>
          <a:prstGeom prst="rect">
            <a:avLst/>
          </a:prstGeom>
          <a:solidFill>
            <a:srgbClr val="6cb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矩形 41"/>
          <p:cNvSpPr/>
          <p:nvPr/>
        </p:nvSpPr>
        <p:spPr>
          <a:xfrm>
            <a:off x="1511280" y="1527120"/>
            <a:ext cx="1600200" cy="90000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42"/>
          <p:cNvSpPr/>
          <p:nvPr/>
        </p:nvSpPr>
        <p:spPr>
          <a:xfrm>
            <a:off x="1643040" y="1406520"/>
            <a:ext cx="146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矩形 43"/>
          <p:cNvSpPr/>
          <p:nvPr/>
        </p:nvSpPr>
        <p:spPr>
          <a:xfrm>
            <a:off x="3227400" y="987480"/>
            <a:ext cx="6238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45"/>
          <p:cNvSpPr/>
          <p:nvPr/>
        </p:nvSpPr>
        <p:spPr>
          <a:xfrm>
            <a:off x="4973760" y="1406520"/>
            <a:ext cx="190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矩形 12"/>
          <p:cNvSpPr/>
          <p:nvPr/>
        </p:nvSpPr>
        <p:spPr>
          <a:xfrm>
            <a:off x="376200" y="4811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3457E-007 L -0.02465 -1.23457E-007 E">
                                      <p:cBhvr>
                                        <p:cTn id="212" dur="5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45679E-006 L -0.02257 3.45679E-006 E">
                                      <p:cBhvr>
                                        <p:cTn id="214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124"/>
          <p:cNvSpPr/>
          <p:nvPr/>
        </p:nvSpPr>
        <p:spPr>
          <a:xfrm>
            <a:off x="4878360" y="987480"/>
            <a:ext cx="1914480" cy="1042920"/>
          </a:xfrm>
          <a:prstGeom prst="rect">
            <a:avLst/>
          </a:prstGeom>
          <a:solidFill>
            <a:srgbClr val="f19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矩形 125"/>
          <p:cNvSpPr/>
          <p:nvPr/>
        </p:nvSpPr>
        <p:spPr>
          <a:xfrm>
            <a:off x="1741320" y="2151000"/>
            <a:ext cx="1000440" cy="1042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826920" y="2151000"/>
            <a:ext cx="782640" cy="1042920"/>
            <a:chOff x="826920" y="2151000"/>
            <a:chExt cx="782640" cy="1042920"/>
          </a:xfrm>
        </p:grpSpPr>
        <p:sp>
          <p:nvSpPr>
            <p:cNvPr id="624" name="矩形 117"/>
            <p:cNvSpPr/>
            <p:nvPr/>
          </p:nvSpPr>
          <p:spPr>
            <a:xfrm>
              <a:off x="826920" y="2151000"/>
              <a:ext cx="782640" cy="104292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5" name="Picture 4" descr=""/>
            <p:cNvPicPr/>
            <p:nvPr/>
          </p:nvPicPr>
          <p:blipFill>
            <a:blip r:embed="rId1"/>
            <a:srcRect l="8786" t="8420" r="8786" b="8420"/>
            <a:stretch/>
          </p:blipFill>
          <p:spPr>
            <a:xfrm>
              <a:off x="829800" y="2310120"/>
              <a:ext cx="717480" cy="72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Group 7"/>
          <p:cNvGrpSpPr/>
          <p:nvPr/>
        </p:nvGrpSpPr>
        <p:grpSpPr>
          <a:xfrm>
            <a:off x="3924360" y="2151000"/>
            <a:ext cx="865080" cy="1042920"/>
            <a:chOff x="3924360" y="2151000"/>
            <a:chExt cx="865080" cy="1042920"/>
          </a:xfrm>
        </p:grpSpPr>
        <p:sp>
          <p:nvSpPr>
            <p:cNvPr id="627" name="矩形 119"/>
            <p:cNvSpPr/>
            <p:nvPr/>
          </p:nvSpPr>
          <p:spPr>
            <a:xfrm>
              <a:off x="3924360" y="2151000"/>
              <a:ext cx="865080" cy="104292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8" name="Picture 5" descr=""/>
            <p:cNvPicPr/>
            <p:nvPr/>
          </p:nvPicPr>
          <p:blipFill>
            <a:blip r:embed="rId2"/>
            <a:stretch/>
          </p:blipFill>
          <p:spPr>
            <a:xfrm>
              <a:off x="4040640" y="2356200"/>
              <a:ext cx="632160" cy="6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Group 10"/>
          <p:cNvGrpSpPr/>
          <p:nvPr/>
        </p:nvGrpSpPr>
        <p:grpSpPr>
          <a:xfrm>
            <a:off x="826920" y="3251160"/>
            <a:ext cx="1914840" cy="1154160"/>
            <a:chOff x="826920" y="3251160"/>
            <a:chExt cx="1914840" cy="1154160"/>
          </a:xfrm>
        </p:grpSpPr>
        <p:sp>
          <p:nvSpPr>
            <p:cNvPr id="630" name="矩形 118"/>
            <p:cNvSpPr/>
            <p:nvPr/>
          </p:nvSpPr>
          <p:spPr>
            <a:xfrm>
              <a:off x="826920" y="3317760"/>
              <a:ext cx="1914840" cy="1041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1" name="Picture 6" descr=""/>
            <p:cNvPicPr/>
            <p:nvPr/>
          </p:nvPicPr>
          <p:blipFill>
            <a:blip r:embed="rId3"/>
            <a:srcRect l="10498" t="11546" r="10498" b="11546"/>
            <a:stretch/>
          </p:blipFill>
          <p:spPr>
            <a:xfrm>
              <a:off x="1191600" y="3251160"/>
              <a:ext cx="1185840" cy="115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13"/>
          <p:cNvGrpSpPr/>
          <p:nvPr/>
        </p:nvGrpSpPr>
        <p:grpSpPr>
          <a:xfrm>
            <a:off x="2868480" y="987480"/>
            <a:ext cx="1930680" cy="1078560"/>
            <a:chOff x="2868480" y="987480"/>
            <a:chExt cx="1930680" cy="1078560"/>
          </a:xfrm>
        </p:grpSpPr>
        <p:pic>
          <p:nvPicPr>
            <p:cNvPr id="633" name="Picture 7" descr=""/>
            <p:cNvPicPr/>
            <p:nvPr/>
          </p:nvPicPr>
          <p:blipFill>
            <a:blip r:embed="rId4"/>
            <a:srcRect l="0" t="13815" r="0" b="0"/>
            <a:stretch/>
          </p:blipFill>
          <p:spPr>
            <a:xfrm>
              <a:off x="2873520" y="987480"/>
              <a:ext cx="1925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矩形 120"/>
            <p:cNvSpPr/>
            <p:nvPr/>
          </p:nvSpPr>
          <p:spPr>
            <a:xfrm>
              <a:off x="2868480" y="1781280"/>
              <a:ext cx="1930680" cy="247680"/>
            </a:xfrm>
            <a:prstGeom prst="rect">
              <a:avLst/>
            </a:prstGeom>
            <a:solidFill>
              <a:srgbClr val="e61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Box 8"/>
            <p:cNvSpPr/>
            <p:nvPr/>
          </p:nvSpPr>
          <p:spPr>
            <a:xfrm>
              <a:off x="2891880" y="1728720"/>
              <a:ext cx="18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weibo.com/shiya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6" name="Picture 8" descr=""/>
          <p:cNvPicPr/>
          <p:nvPr/>
        </p:nvPicPr>
        <p:blipFill>
          <a:blip r:embed="rId5"/>
          <a:stretch/>
        </p:blipFill>
        <p:spPr>
          <a:xfrm>
            <a:off x="4878360" y="2151000"/>
            <a:ext cx="191448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8"/>
          <p:cNvGrpSpPr/>
          <p:nvPr/>
        </p:nvGrpSpPr>
        <p:grpSpPr>
          <a:xfrm>
            <a:off x="826920" y="876240"/>
            <a:ext cx="1922400" cy="1165680"/>
            <a:chOff x="826920" y="876240"/>
            <a:chExt cx="1922400" cy="1165680"/>
          </a:xfrm>
        </p:grpSpPr>
        <p:sp>
          <p:nvSpPr>
            <p:cNvPr id="638" name="矩形 7"/>
            <p:cNvSpPr/>
            <p:nvPr/>
          </p:nvSpPr>
          <p:spPr>
            <a:xfrm>
              <a:off x="826920" y="987120"/>
              <a:ext cx="1914840" cy="104328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Box 13"/>
            <p:cNvSpPr/>
            <p:nvPr/>
          </p:nvSpPr>
          <p:spPr>
            <a:xfrm>
              <a:off x="835560" y="876240"/>
              <a:ext cx="1418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nk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矩形 14"/>
            <p:cNvSpPr/>
            <p:nvPr/>
          </p:nvSpPr>
          <p:spPr>
            <a:xfrm>
              <a:off x="1839960" y="1399320"/>
              <a:ext cx="90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You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1" name="Picture 9" descr=""/>
          <p:cNvPicPr/>
          <p:nvPr/>
        </p:nvPicPr>
        <p:blipFill>
          <a:blip r:embed="rId6"/>
          <a:srcRect l="27906" t="0" r="16614" b="3331"/>
          <a:stretch/>
        </p:blipFill>
        <p:spPr>
          <a:xfrm>
            <a:off x="2874960" y="2151000"/>
            <a:ext cx="957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23"/>
          <p:cNvGrpSpPr/>
          <p:nvPr/>
        </p:nvGrpSpPr>
        <p:grpSpPr>
          <a:xfrm>
            <a:off x="4878360" y="3036960"/>
            <a:ext cx="1914480" cy="1603440"/>
            <a:chOff x="4878360" y="3036960"/>
            <a:chExt cx="1914480" cy="1603440"/>
          </a:xfrm>
        </p:grpSpPr>
        <p:sp>
          <p:nvSpPr>
            <p:cNvPr id="643" name="矩形 122"/>
            <p:cNvSpPr/>
            <p:nvPr/>
          </p:nvSpPr>
          <p:spPr>
            <a:xfrm>
              <a:off x="4878360" y="3316320"/>
              <a:ext cx="1914480" cy="104472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4" name="Picture 10" descr=""/>
            <p:cNvPicPr/>
            <p:nvPr/>
          </p:nvPicPr>
          <p:blipFill>
            <a:blip r:embed="rId7"/>
            <a:srcRect l="9597" t="9715" r="9597" b="9715"/>
            <a:stretch/>
          </p:blipFill>
          <p:spPr>
            <a:xfrm>
              <a:off x="5031720" y="3036960"/>
              <a:ext cx="1607400" cy="16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5" name="Group 26"/>
          <p:cNvGrpSpPr/>
          <p:nvPr/>
        </p:nvGrpSpPr>
        <p:grpSpPr>
          <a:xfrm>
            <a:off x="2874960" y="3317760"/>
            <a:ext cx="1914480" cy="1041480"/>
            <a:chOff x="2874960" y="3317760"/>
            <a:chExt cx="1914480" cy="1041480"/>
          </a:xfrm>
        </p:grpSpPr>
        <p:sp>
          <p:nvSpPr>
            <p:cNvPr id="646" name="矩形 121"/>
            <p:cNvSpPr/>
            <p:nvPr/>
          </p:nvSpPr>
          <p:spPr>
            <a:xfrm>
              <a:off x="2874960" y="3317760"/>
              <a:ext cx="1914480" cy="1041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TextBox 19"/>
            <p:cNvSpPr/>
            <p:nvPr/>
          </p:nvSpPr>
          <p:spPr>
            <a:xfrm>
              <a:off x="3259080" y="3552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8" name="Picture 8" descr=""/>
          <p:cNvPicPr/>
          <p:nvPr/>
        </p:nvPicPr>
        <p:blipFill>
          <a:blip r:embed="rId8"/>
          <a:srcRect l="-987" t="-1762" r="0" b="0"/>
          <a:stretch/>
        </p:blipFill>
        <p:spPr>
          <a:xfrm>
            <a:off x="7439040" y="3535200"/>
            <a:ext cx="768240" cy="773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"/>
          <p:cNvPicPr/>
          <p:nvPr/>
        </p:nvPicPr>
        <p:blipFill>
          <a:blip r:embed="rId9"/>
          <a:srcRect l="0" t="0" r="-986" b="0"/>
          <a:stretch/>
        </p:blipFill>
        <p:spPr>
          <a:xfrm>
            <a:off x="7023240" y="3849840"/>
            <a:ext cx="51588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6:10:00Z</dcterms:created>
  <dc:creator>ShiYanch</dc:creator>
  <dc:description/>
  <cp:keywords/>
  <dc:language>en-US</dc:language>
  <cp:lastModifiedBy>王玉清</cp:lastModifiedBy>
  <cp:lastPrinted>1899-12-30T00:00:00Z</cp:lastPrinted>
  <dcterms:modified xsi:type="dcterms:W3CDTF">2016-03-07T02:48:23Z</dcterms:modified>
  <cp:revision>3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73</vt:lpwstr>
  </property>
</Properties>
</file>