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1C8-D484-4E2C-870B-30F9B53C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964-559D-443B-9E2A-E82E57E6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888-1C87-4F54-B1FF-CCAD69D5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B4D-808B-4362-8DD3-C784199A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950-D03D-4321-8B09-FC97511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9A0-B2DB-45CD-AB35-9B8066F6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25F-151B-4F32-93F5-B41B425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C64-FFC2-47A8-92CC-C43CC133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D5A-8AE3-40F2-946F-B73E8994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0D6-9E1C-424D-9555-EC820D2D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248-2639-4076-B9A8-63D325E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E3C-4432-42AA-AE38-29499F87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497-029E-420A-A18C-91C3B2971850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36364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ff"/>
                </a:solidFill>
                <a:latin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B9BA-4FD1-4343-812E-458F030D017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Click to edit the title text format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" name="Oval 52"/>
          <p:cNvSpPr/>
          <p:nvPr/>
        </p:nvSpPr>
        <p:spPr>
          <a:xfrm>
            <a:off x="8244000" y="6381720"/>
            <a:ext cx="214200" cy="214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53"/>
          <p:cNvSpPr/>
          <p:nvPr/>
        </p:nvSpPr>
        <p:spPr>
          <a:xfrm>
            <a:off x="8532720" y="670068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54"/>
          <p:cNvSpPr/>
          <p:nvPr/>
        </p:nvSpPr>
        <p:spPr>
          <a:xfrm>
            <a:off x="8829720" y="6543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57"/>
          <p:cNvSpPr/>
          <p:nvPr/>
        </p:nvSpPr>
        <p:spPr>
          <a:xfrm>
            <a:off x="7740720" y="673884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58"/>
          <p:cNvSpPr/>
          <p:nvPr/>
        </p:nvSpPr>
        <p:spPr>
          <a:xfrm>
            <a:off x="5076720" y="765000"/>
            <a:ext cx="112680" cy="1130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59"/>
          <p:cNvSpPr/>
          <p:nvPr/>
        </p:nvSpPr>
        <p:spPr>
          <a:xfrm>
            <a:off x="4211640" y="54936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60" descr="院徽空心"/>
          <p:cNvPicPr/>
          <p:nvPr/>
        </p:nvPicPr>
        <p:blipFill>
          <a:blip r:embed="rId3"/>
          <a:stretch/>
        </p:blipFill>
        <p:spPr>
          <a:xfrm>
            <a:off x="5103720" y="6372360"/>
            <a:ext cx="433440" cy="412560"/>
          </a:xfrm>
          <a:prstGeom prst="rect">
            <a:avLst/>
          </a:prstGeom>
          <a:ln w="0">
            <a:noFill/>
          </a:ln>
        </p:spPr>
      </p:pic>
      <p:grpSp>
        <p:nvGrpSpPr>
          <p:cNvPr id="12" name="Group 61"/>
          <p:cNvGrpSpPr/>
          <p:nvPr/>
        </p:nvGrpSpPr>
        <p:grpSpPr>
          <a:xfrm>
            <a:off x="7666200" y="6232680"/>
            <a:ext cx="1477800" cy="1193400"/>
            <a:chOff x="7666200" y="6232680"/>
            <a:chExt cx="1477800" cy="1193400"/>
          </a:xfrm>
        </p:grpSpPr>
        <p:pic>
          <p:nvPicPr>
            <p:cNvPr id="13" name="图片 8" descr="C:\Documents and Settings\Administrator\桌面\国庆 1-8.png"/>
            <p:cNvPicPr/>
            <p:nvPr/>
          </p:nvPicPr>
          <p:blipFill>
            <a:blip r:embed="rId4"/>
            <a:stretch/>
          </p:blipFill>
          <p:spPr>
            <a:xfrm>
              <a:off x="8728200" y="6232680"/>
              <a:ext cx="415800" cy="63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" name="Group 63"/>
            <p:cNvGrpSpPr/>
            <p:nvPr/>
          </p:nvGrpSpPr>
          <p:grpSpPr>
            <a:xfrm>
              <a:off x="7666200" y="6255360"/>
              <a:ext cx="1255320" cy="1170720"/>
              <a:chOff x="7666200" y="6255360"/>
              <a:chExt cx="1255320" cy="1170720"/>
            </a:xfrm>
          </p:grpSpPr>
          <p:pic>
            <p:nvPicPr>
              <p:cNvPr id="15" name="Picture 64" descr="60"/>
              <p:cNvPicPr/>
              <p:nvPr/>
            </p:nvPicPr>
            <p:blipFill>
              <a:blip r:embed="rId5"/>
              <a:srcRect l="49813" t="0" r="0" b="42867"/>
              <a:stretch/>
            </p:blipFill>
            <p:spPr>
              <a:xfrm>
                <a:off x="7666200" y="6255360"/>
                <a:ext cx="1255320" cy="117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" name="Oval 65"/>
              <p:cNvSpPr/>
              <p:nvPr/>
            </p:nvSpPr>
            <p:spPr>
              <a:xfrm>
                <a:off x="8547120" y="6519960"/>
                <a:ext cx="149040" cy="1677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Rectangle 66"/>
          <p:cNvSpPr/>
          <p:nvPr/>
        </p:nvSpPr>
        <p:spPr>
          <a:xfrm>
            <a:off x="468360" y="640080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  <a:ea typeface="华文细黑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fld id="{AFC491AF-FB8A-4E1C-965D-E60C9F2E7402}" type="slidenum">
              <a:rPr b="1" i="1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封面底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835280" y="213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"/>
          <p:cNvSpPr/>
          <p:nvPr/>
        </p:nvSpPr>
        <p:spPr>
          <a:xfrm>
            <a:off x="1028880" y="16574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1514520" y="241452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2556000" y="2962440"/>
            <a:ext cx="106200" cy="106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6858000" y="1471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7526160" y="2408400"/>
            <a:ext cx="214560" cy="2142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3814920" y="18860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1395360" y="819000"/>
            <a:ext cx="695520" cy="69552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7583400" y="2695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4338720" y="214308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8558280" y="4095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086360" y="227664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5"/>
          <p:cNvSpPr/>
          <p:nvPr/>
        </p:nvSpPr>
        <p:spPr>
          <a:xfrm>
            <a:off x="6446880" y="1590840"/>
            <a:ext cx="144360" cy="1443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6"/>
          <p:cNvSpPr/>
          <p:nvPr/>
        </p:nvSpPr>
        <p:spPr>
          <a:xfrm>
            <a:off x="6558120" y="192420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7"/>
          <p:cNvSpPr/>
          <p:nvPr/>
        </p:nvSpPr>
        <p:spPr>
          <a:xfrm>
            <a:off x="1881360" y="338148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7164360" y="25351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4929120" y="22953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7881840" y="1514520"/>
            <a:ext cx="138240" cy="1382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7120080" y="63180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5919840" y="6764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8510760" y="720720"/>
            <a:ext cx="131760" cy="1317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24"/>
          <p:cNvSpPr/>
          <p:nvPr/>
        </p:nvSpPr>
        <p:spPr>
          <a:xfrm>
            <a:off x="1643040" y="95256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5"/>
          <p:cNvSpPr/>
          <p:nvPr/>
        </p:nvSpPr>
        <p:spPr>
          <a:xfrm>
            <a:off x="1735200" y="101268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1595520" y="178128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7653240" y="1089000"/>
            <a:ext cx="10656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8339040" y="370512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2948040" y="117144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757080" y="3019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5767560" y="1876320"/>
            <a:ext cx="182520" cy="1825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5253120" y="1876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361800" y="62856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4"/>
          <p:cNvSpPr/>
          <p:nvPr/>
        </p:nvSpPr>
        <p:spPr>
          <a:xfrm>
            <a:off x="966960" y="101916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35"/>
          <p:cNvSpPr/>
          <p:nvPr/>
        </p:nvSpPr>
        <p:spPr>
          <a:xfrm>
            <a:off x="452520" y="13622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6"/>
          <p:cNvSpPr/>
          <p:nvPr/>
        </p:nvSpPr>
        <p:spPr>
          <a:xfrm>
            <a:off x="4932360" y="260280"/>
            <a:ext cx="112680" cy="1126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7"/>
          <p:cNvSpPr/>
          <p:nvPr/>
        </p:nvSpPr>
        <p:spPr>
          <a:xfrm>
            <a:off x="4789440" y="9237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2"/>
          <p:cNvSpPr/>
          <p:nvPr/>
        </p:nvSpPr>
        <p:spPr>
          <a:xfrm>
            <a:off x="6877080" y="364500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1014480" y="28893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外科治疗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1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10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5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805040"/>
            <a:ext cx="455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溃疡性结肠炎（</a:t>
            </a: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ulcerative colitis,UC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）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又称非特异性溃疡性结肠炎，是一种病因不明的直肠和结肠炎性疾病。病变主要在大肠粘膜与粘膜下层。临床表现为腹痛、腹泻、粘液脓血便。本病与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克隆恩病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Crohn’s Disea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合称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炎症性肠病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Inflammatory Bowel Disease,IB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溃疡性结肠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slide-3 copy"/>
          <p:cNvPicPr/>
          <p:nvPr/>
        </p:nvPicPr>
        <p:blipFill>
          <a:blip r:embed="rId1"/>
          <a:stretch/>
        </p:blipFill>
        <p:spPr>
          <a:xfrm>
            <a:off x="5148360" y="1773360"/>
            <a:ext cx="3529080" cy="439236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98" name="Text Box 9"/>
          <p:cNvSpPr/>
          <p:nvPr/>
        </p:nvSpPr>
        <p:spPr>
          <a:xfrm>
            <a:off x="712800" y="6384960"/>
            <a:ext cx="443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5364000" y="6308640"/>
            <a:ext cx="30956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杭 州 市 第 三 人 民 医 院 院 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黑体"/>
                <a:ea typeface="黑体"/>
              </a:rPr>
              <a:t>中西医结合肛肠病诊疗新技术培训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封面底图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Oval 4"/>
          <p:cNvSpPr/>
          <p:nvPr/>
        </p:nvSpPr>
        <p:spPr>
          <a:xfrm>
            <a:off x="1028880" y="16574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1514520" y="241452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2529000" y="2879640"/>
            <a:ext cx="10620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858000" y="1471680"/>
            <a:ext cx="15732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272280" y="2357280"/>
            <a:ext cx="214200" cy="214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3814920" y="188604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1395360" y="819000"/>
            <a:ext cx="695520" cy="69552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6357960" y="263844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4338720" y="214308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8558280" y="409572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3932280" y="240984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6446880" y="1590840"/>
            <a:ext cx="144360" cy="1443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6558120" y="192420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1881360" y="338148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910120" y="247644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4929120" y="22953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7881840" y="1514520"/>
            <a:ext cx="138240" cy="13824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7120080" y="631800"/>
            <a:ext cx="201600" cy="20160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5919840" y="6764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8510760" y="720720"/>
            <a:ext cx="131760" cy="1317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1643040" y="952560"/>
            <a:ext cx="31428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1735200" y="101268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1595520" y="1781280"/>
            <a:ext cx="125280" cy="1252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7653240" y="1089000"/>
            <a:ext cx="106560" cy="1065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8"/>
          <p:cNvSpPr/>
          <p:nvPr/>
        </p:nvSpPr>
        <p:spPr>
          <a:xfrm>
            <a:off x="8339040" y="370512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9"/>
          <p:cNvSpPr/>
          <p:nvPr/>
        </p:nvSpPr>
        <p:spPr>
          <a:xfrm>
            <a:off x="2948040" y="117144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757080" y="3019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5767560" y="1876320"/>
            <a:ext cx="182520" cy="1825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5253120" y="1876320"/>
            <a:ext cx="119160" cy="1191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361800" y="628560"/>
            <a:ext cx="314640" cy="314280"/>
          </a:xfrm>
          <a:prstGeom prst="ellipse">
            <a:avLst/>
          </a:prstGeom>
          <a:noFill/>
          <a:ln w="633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966960" y="1019160"/>
            <a:ext cx="15696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452520" y="1362240"/>
            <a:ext cx="156960" cy="15696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4890960" y="270000"/>
            <a:ext cx="112680" cy="11268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7"/>
          <p:cNvSpPr/>
          <p:nvPr/>
        </p:nvSpPr>
        <p:spPr>
          <a:xfrm>
            <a:off x="4789440" y="923760"/>
            <a:ext cx="157320" cy="157320"/>
          </a:xfrm>
          <a:prstGeom prst="ellipse">
            <a:avLst/>
          </a:prstGeom>
          <a:noFill/>
          <a:ln w="38160">
            <a:solidFill>
              <a:srgbClr val="ba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3384720" y="279864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2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9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50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50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50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5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5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5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50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5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10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2:49:58Z</dcterms:created>
  <dc:creator>微软用户</dc:creator>
  <dc:description/>
  <dc:language>en-US</dc:language>
  <cp:lastModifiedBy>王玉清</cp:lastModifiedBy>
  <dcterms:modified xsi:type="dcterms:W3CDTF">2016-02-25T02:45:19Z</dcterms:modified>
  <cp:revision>224</cp:revision>
  <dc:subject/>
  <dc:title>幻灯片 1</dc:title>
</cp:coreProperties>
</file>