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2.png" ContentType="image/png"/>
  <Override PartName="/ppt/media/image23.png" ContentType="image/png"/>
  <Override PartName="/ppt/media/hdphoto4.wdp" ContentType="image/vnd.ms-photo"/>
  <Override PartName="/ppt/media/image21.jpeg" ContentType="image/jpeg"/>
  <Override PartName="/ppt/media/image22.png" ContentType="image/png"/>
  <Override PartName="/ppt/media/image20.png" ContentType="image/png"/>
  <Override PartName="/ppt/media/hdphoto3.wdp" ContentType="image/vnd.ms-photo"/>
  <Override PartName="/ppt/media/image15.png" ContentType="image/png"/>
  <Override PartName="/ppt/media/hdphoto2.wdp" ContentType="image/vnd.ms-photo"/>
  <Override PartName="/ppt/media/image14.png" ContentType="image/png"/>
  <Override PartName="/ppt/media/image18.jpeg" ContentType="image/jpeg"/>
  <Override PartName="/ppt/media/image16.png" ContentType="image/png"/>
  <Override PartName="/ppt/media/hdphoto1.wdp" ContentType="image/vnd.ms-photo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6849B4-009C-456D-84E8-13DDC38373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5520" cy="342864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889F4BF-DB6C-4E8A-B371-34F2F113C254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975A3-DCC4-4A5B-B311-B3E7207CB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02FB-CA19-4BFE-9440-0EA028BE5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8E49-2E45-4EEA-96B8-A011A984B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2CDF-ECA4-4DC7-B14B-B378948EC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0D926-731B-4652-A7B0-ED9547140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FE5A-E25D-4BBA-89DC-F1FF56E6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EC02-A1D0-4742-998B-72DEC3368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1E31E-CEF6-4C0B-8F98-42042EE48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7B4B-38A8-4AAC-B1DA-38FF6ADD3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61D41-0985-4388-8101-54D42809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E25AE-F427-47E4-9C9D-61CF4B3D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59ED-9563-4562-BCCE-ACEB7A147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B983-6811-4F9A-B1C8-1FB6FA4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5E8A5-38FF-4461-BF2F-EE8E551F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8C4E-39DF-4416-9EF2-96EAF4542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C1B6-8A9A-4A24-B7ED-6CCC08759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D3CB-ED0C-4096-B404-0E0813DB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A6297B-D023-4091-9FA3-9502819C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333A7-A48D-4C27-911F-29169FB4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12598-7230-4C0F-ADAD-A14F1878B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15D2BB-7ED9-49C1-B46F-725B34FB1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55BB2-374E-4F9D-9CF0-FA344569F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A643-DA6C-4F88-9C10-0AA4744D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1BFF2-9685-4AC1-90B4-0CAF43E5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D2E5-8462-4FA2-B1B3-26976AD4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1CC449-214D-417F-9916-168EA471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3CDFD-BCAD-4780-9A8C-4750F4FCD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424A7-AC4B-4B20-8A6B-CC6D8D6F4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2C431-14B8-41EA-AB72-BC38401D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2448C-6D84-4914-8B4E-D2C07A69F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7741-8C90-46B1-8E79-8A3543D5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402F-3A40-4051-AFE0-F3BDA22C2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952C-1E6D-46ED-9C0A-B492B41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2D2-5190-49BE-BA5D-323B2585C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9DF-359B-44F4-86C8-0A3AD241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3409-423F-4248-B8B3-3C253AAE3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97680"/>
            <a:ext cx="7772040" cy="110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1A2469B-E373-4A9A-A288-93FF5EC42A3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920"/>
            <a:ext cx="8229240" cy="85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ffffff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24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ffffff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ffffff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EA9E741-3877-4E33-9220-96BF008A47B5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4767120"/>
            <a:ext cx="289512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4767120"/>
            <a:ext cx="2133360" cy="27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1F2D2D-53E8-49E7-8700-C4100B585F40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microsoft.com/office/2007/relationships/hdphoto" Target="../media/hdphoto1.wdp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microsoft.com/office/2007/relationships/hdphoto" Target="../media/hdphoto2.wdp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microsoft.com/office/2007/relationships/hdphoto" Target="../media/hdphoto3.wdp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microsoft.com/office/2007/relationships/hdphoto" Target="../media/hdphoto4.wdp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hyperlink" Target="http://www.eeppt.com/moban/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矩形 5"/>
          <p:cNvSpPr/>
          <p:nvPr/>
        </p:nvSpPr>
        <p:spPr>
          <a:xfrm>
            <a:off x="0" y="843480"/>
            <a:ext cx="9143640" cy="3528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1"/>
          <a:srcRect l="33459" t="21990" r="28284" b="37450"/>
          <a:stretch/>
        </p:blipFill>
        <p:spPr>
          <a:xfrm>
            <a:off x="6444360" y="709920"/>
            <a:ext cx="2961720" cy="3723480"/>
          </a:xfrm>
          <a:prstGeom prst="rect">
            <a:avLst/>
          </a:prstGeom>
          <a:ln w="0">
            <a:noFill/>
          </a:ln>
        </p:spPr>
      </p:pic>
      <p:sp>
        <p:nvSpPr>
          <p:cNvPr id="131" name="TextBox 3"/>
          <p:cNvSpPr/>
          <p:nvPr/>
        </p:nvSpPr>
        <p:spPr>
          <a:xfrm>
            <a:off x="1640520" y="866880"/>
            <a:ext cx="59277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未来十年我们拼什么通用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icture 6"/>
          <p:cNvSpPr/>
          <p:nvPr/>
        </p:nvSpPr>
        <p:spPr>
          <a:xfrm>
            <a:off x="467640" y="1419480"/>
            <a:ext cx="2298240" cy="230400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16"/>
          <p:cNvSpPr/>
          <p:nvPr/>
        </p:nvSpPr>
        <p:spPr>
          <a:xfrm>
            <a:off x="3084840" y="2805120"/>
            <a:ext cx="4680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HAT SHOULD WE SPELL IN THE NEXT DECA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直角三角形 17"/>
          <p:cNvSpPr/>
          <p:nvPr/>
        </p:nvSpPr>
        <p:spPr>
          <a:xfrm>
            <a:off x="0" y="1995840"/>
            <a:ext cx="2195280" cy="2376000"/>
          </a:xfrm>
          <a:prstGeom prst="rtTriangle">
            <a:avLst/>
          </a:prstGeom>
          <a:solidFill>
            <a:schemeClr val="tx1">
              <a:alpha val="38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5" name="矩形 12"/>
          <p:cNvSpPr/>
          <p:nvPr/>
        </p:nvSpPr>
        <p:spPr>
          <a:xfrm>
            <a:off x="241920" y="484092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矩形 2"/>
          <p:cNvSpPr/>
          <p:nvPr/>
        </p:nvSpPr>
        <p:spPr>
          <a:xfrm>
            <a:off x="3978000" y="3458520"/>
            <a:ext cx="11869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四个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3"/>
          <p:cNvSpPr/>
          <p:nvPr/>
        </p:nvSpPr>
        <p:spPr>
          <a:xfrm rot="1672200">
            <a:off x="169164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8" name="矩形 4"/>
          <p:cNvSpPr/>
          <p:nvPr/>
        </p:nvSpPr>
        <p:spPr>
          <a:xfrm rot="1672200">
            <a:off x="336780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9" name="矩形 5"/>
          <p:cNvSpPr/>
          <p:nvPr/>
        </p:nvSpPr>
        <p:spPr>
          <a:xfrm rot="1672200">
            <a:off x="504396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0" name="矩形 6"/>
          <p:cNvSpPr/>
          <p:nvPr/>
        </p:nvSpPr>
        <p:spPr>
          <a:xfrm rot="1672200">
            <a:off x="6720120" y="-452520"/>
            <a:ext cx="1223640" cy="302400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1" name="矩形 7"/>
          <p:cNvSpPr/>
          <p:nvPr/>
        </p:nvSpPr>
        <p:spPr>
          <a:xfrm rot="18004800">
            <a:off x="158040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8"/>
          <p:cNvSpPr/>
          <p:nvPr/>
        </p:nvSpPr>
        <p:spPr>
          <a:xfrm rot="18004800">
            <a:off x="327312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9"/>
          <p:cNvSpPr/>
          <p:nvPr/>
        </p:nvSpPr>
        <p:spPr>
          <a:xfrm rot="18004800">
            <a:off x="501480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0"/>
          <p:cNvSpPr/>
          <p:nvPr/>
        </p:nvSpPr>
        <p:spPr>
          <a:xfrm rot="18004800">
            <a:off x="6668280" y="1523520"/>
            <a:ext cx="5468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变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矩形 13"/>
          <p:cNvSpPr/>
          <p:nvPr/>
        </p:nvSpPr>
        <p:spPr>
          <a:xfrm>
            <a:off x="3708000" y="4227840"/>
            <a:ext cx="1656000" cy="9151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86" name="矩形 14"/>
          <p:cNvSpPr/>
          <p:nvPr/>
        </p:nvSpPr>
        <p:spPr>
          <a:xfrm>
            <a:off x="3788640" y="4227840"/>
            <a:ext cx="1506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OUR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矩形 1"/>
          <p:cNvSpPr/>
          <p:nvPr/>
        </p:nvSpPr>
        <p:spPr>
          <a:xfrm>
            <a:off x="2286000" y="210996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一：整；资源整合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!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Calibri"/>
              </a:rPr>
              <a:t>你能整合多少资源，多少渠道，你将来就会得到多少财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组合 10"/>
          <p:cNvGrpSpPr/>
          <p:nvPr/>
        </p:nvGrpSpPr>
        <p:grpSpPr>
          <a:xfrm>
            <a:off x="1340640" y="975960"/>
            <a:ext cx="2169360" cy="2071080"/>
            <a:chOff x="1340640" y="975960"/>
            <a:chExt cx="2169360" cy="2071080"/>
          </a:xfrm>
        </p:grpSpPr>
        <p:grpSp>
          <p:nvGrpSpPr>
            <p:cNvPr id="189" name="组合 5"/>
            <p:cNvGrpSpPr/>
            <p:nvPr/>
          </p:nvGrpSpPr>
          <p:grpSpPr>
            <a:xfrm>
              <a:off x="1340640" y="2011320"/>
              <a:ext cx="861480" cy="1035720"/>
              <a:chOff x="1340640" y="2011320"/>
              <a:chExt cx="861480" cy="1035720"/>
            </a:xfrm>
          </p:grpSpPr>
          <p:sp>
            <p:nvSpPr>
              <p:cNvPr id="190" name="矩形 3"/>
              <p:cNvSpPr/>
              <p:nvPr/>
            </p:nvSpPr>
            <p:spPr>
              <a:xfrm>
                <a:off x="1340640" y="2011320"/>
                <a:ext cx="503640" cy="100764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1007640"/>
                  <a:gd name="textAreaBottom" fmla="*/ 1008000 h 100764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311150" y="6350"/>
                    </a:moveTo>
                    <a:lnTo>
                      <a:pt x="504056" y="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311150" y="635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" name="矩形 4"/>
              <p:cNvSpPr/>
              <p:nvPr/>
            </p:nvSpPr>
            <p:spPr>
              <a:xfrm rot="16200000">
                <a:off x="1570680" y="2415600"/>
                <a:ext cx="401400" cy="86148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861480"/>
                  <a:gd name="textAreaBottom" fmla="*/ 861840 h 86148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0" y="0"/>
                    </a:moveTo>
                    <a:lnTo>
                      <a:pt x="504056" y="14605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2" name="组合 6"/>
            <p:cNvGrpSpPr/>
            <p:nvPr/>
          </p:nvGrpSpPr>
          <p:grpSpPr>
            <a:xfrm>
              <a:off x="2648520" y="975960"/>
              <a:ext cx="861480" cy="1035360"/>
              <a:chOff x="2648520" y="975960"/>
              <a:chExt cx="861480" cy="1035360"/>
            </a:xfrm>
          </p:grpSpPr>
          <p:sp>
            <p:nvSpPr>
              <p:cNvPr id="193" name="矩形 3"/>
              <p:cNvSpPr/>
              <p:nvPr/>
            </p:nvSpPr>
            <p:spPr>
              <a:xfrm rot="10800000">
                <a:off x="3006360" y="1003680"/>
                <a:ext cx="503640" cy="1007640"/>
              </a:xfrm>
              <a:custGeom>
                <a:avLst/>
                <a:gdLst>
                  <a:gd name="textAreaLeft" fmla="*/ 0 w 503640"/>
                  <a:gd name="textAreaRight" fmla="*/ 504000 w 503640"/>
                  <a:gd name="textAreaTop" fmla="*/ 0 h 1007640"/>
                  <a:gd name="textAreaBottom" fmla="*/ 1008000 h 100764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311150" y="6350"/>
                    </a:moveTo>
                    <a:lnTo>
                      <a:pt x="504056" y="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311150" y="635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" name="矩形 4"/>
              <p:cNvSpPr/>
              <p:nvPr/>
            </p:nvSpPr>
            <p:spPr>
              <a:xfrm rot="5400000">
                <a:off x="2878560" y="745920"/>
                <a:ext cx="401400" cy="861480"/>
              </a:xfrm>
              <a:custGeom>
                <a:avLst/>
                <a:gdLst>
                  <a:gd name="textAreaLeft" fmla="*/ 0 w 401400"/>
                  <a:gd name="textAreaRight" fmla="*/ 401760 w 401400"/>
                  <a:gd name="textAreaTop" fmla="*/ 0 h 861480"/>
                  <a:gd name="textAreaBottom" fmla="*/ 861840 h 861480"/>
                </a:gdLst>
                <a:ahLst/>
                <a:rect l="textAreaLeft" t="textAreaTop" r="textAreaRight" b="textAreaBottom"/>
                <a:pathLst>
                  <a:path w="504056" h="1008112">
                    <a:moveTo>
                      <a:pt x="0" y="0"/>
                    </a:moveTo>
                    <a:lnTo>
                      <a:pt x="504056" y="146050"/>
                    </a:lnTo>
                    <a:lnTo>
                      <a:pt x="504056" y="1008112"/>
                    </a:lnTo>
                    <a:lnTo>
                      <a:pt x="0" y="10081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11920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sp>
          <p:nvSpPr>
            <p:cNvPr id="195" name="矩形 9"/>
            <p:cNvSpPr/>
            <p:nvPr/>
          </p:nvSpPr>
          <p:spPr>
            <a:xfrm>
              <a:off x="2090160" y="1407600"/>
              <a:ext cx="684000" cy="10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lang="zh-CN" sz="66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整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2" descr="c:\DOCUME~1\ADMINI~1\APPLIC~1\360se6\USERDA~1\Temp\063014~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520" t="523" r="520" b="523"/>
          <a:stretch/>
        </p:blipFill>
        <p:spPr>
          <a:xfrm>
            <a:off x="4596840" y="963360"/>
            <a:ext cx="4451040" cy="3338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2"/>
          <p:cNvSpPr/>
          <p:nvPr/>
        </p:nvSpPr>
        <p:spPr>
          <a:xfrm>
            <a:off x="827640" y="3243240"/>
            <a:ext cx="324000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你能整合多少资源，多少渠道，你将来就会得到多少财富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-15840" y="4845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矩形 1"/>
          <p:cNvSpPr/>
          <p:nvPr/>
        </p:nvSpPr>
        <p:spPr>
          <a:xfrm>
            <a:off x="1115640" y="2905560"/>
            <a:ext cx="2952000" cy="15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造船过河不如借船过河。</a:t>
            </a:r>
            <a:br>
              <a:rPr sz="1800"/>
            </a:b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趋势，无法阻挡；</a:t>
            </a:r>
            <a:br>
              <a:rPr sz="1800"/>
            </a:b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抉择，要有智慧！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饼形 2"/>
          <p:cNvSpPr/>
          <p:nvPr/>
        </p:nvSpPr>
        <p:spPr>
          <a:xfrm>
            <a:off x="1547640" y="1105560"/>
            <a:ext cx="1511640" cy="1511640"/>
          </a:xfrm>
          <a:prstGeom prst="pie">
            <a:avLst>
              <a:gd name="adj1" fmla="val 0"/>
              <a:gd name="adj2" fmla="val 16200000"/>
            </a:avLst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01" name="矩形 3"/>
          <p:cNvSpPr/>
          <p:nvPr/>
        </p:nvSpPr>
        <p:spPr>
          <a:xfrm>
            <a:off x="2424600" y="1117800"/>
            <a:ext cx="486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4000" spc="-1" strike="noStrike">
                <a:solidFill>
                  <a:srgbClr val="c00000"/>
                </a:solidFill>
                <a:latin typeface="微软雅黑"/>
                <a:ea typeface="微软雅黑"/>
              </a:rPr>
              <a:t>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DOCUME~1\ADMINI~1\APPLIC~1\360se6\USERDA~1\Temp\141210~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7845" t="2598" r="7845" b="2598"/>
          <a:stretch/>
        </p:blipFill>
        <p:spPr>
          <a:xfrm>
            <a:off x="4572000" y="994320"/>
            <a:ext cx="4407120" cy="33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矩形 1"/>
          <p:cNvSpPr/>
          <p:nvPr/>
        </p:nvSpPr>
        <p:spPr>
          <a:xfrm>
            <a:off x="1475640" y="2817000"/>
            <a:ext cx="1770120" cy="13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今天的企业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赢在学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</a:pPr>
            <a:r>
              <a:rPr b="1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胜在改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"/>
          <p:cNvSpPr/>
          <p:nvPr/>
        </p:nvSpPr>
        <p:spPr>
          <a:xfrm>
            <a:off x="1676880" y="1305000"/>
            <a:ext cx="1367640" cy="1367640"/>
          </a:xfrm>
          <a:prstGeom prst="rect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205" name="直接连接符 5"/>
          <p:cNvCxnSpPr/>
          <p:nvPr/>
        </p:nvCxnSpPr>
        <p:spPr>
          <a:xfrm>
            <a:off x="1676520" y="1304640"/>
            <a:ext cx="1368720" cy="136872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cxnSp>
        <p:nvCxnSpPr>
          <p:cNvPr id="206" name="直接连接符 7"/>
          <p:cNvCxnSpPr/>
          <p:nvPr/>
        </p:nvCxnSpPr>
        <p:spPr>
          <a:xfrm flipV="1">
            <a:off x="1676520" y="1304640"/>
            <a:ext cx="1368720" cy="136872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cxnSp>
        <p:nvCxnSpPr>
          <p:cNvPr id="207" name="直接连接符 9"/>
          <p:cNvCxnSpPr>
            <a:stCxn id="204" idx="1"/>
            <a:endCxn id="204" idx="3"/>
          </p:cNvCxnSpPr>
          <p:nvPr/>
        </p:nvCxnSpPr>
        <p:spPr>
          <a:xfrm>
            <a:off x="1676520" y="1989000"/>
            <a:ext cx="1368720" cy="36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cxnSp>
        <p:nvCxnSpPr>
          <p:cNvPr id="208" name="直接连接符 11"/>
          <p:cNvCxnSpPr>
            <a:stCxn id="204" idx="0"/>
            <a:endCxn id="204" idx="2"/>
          </p:cNvCxnSpPr>
          <p:nvPr/>
        </p:nvCxnSpPr>
        <p:spPr>
          <a:xfrm>
            <a:off x="2360880" y="1304640"/>
            <a:ext cx="360" cy="1368720"/>
          </a:xfrm>
          <a:prstGeom prst="straightConnector1">
            <a:avLst/>
          </a:prstGeom>
          <a:ln w="6350">
            <a:solidFill>
              <a:srgbClr val="c00000"/>
            </a:solidFill>
            <a:prstDash val="sysDash"/>
            <a:round/>
          </a:ln>
        </p:spPr>
      </p:cxnSp>
      <p:sp>
        <p:nvSpPr>
          <p:cNvPr id="209" name="矩形 3"/>
          <p:cNvSpPr/>
          <p:nvPr/>
        </p:nvSpPr>
        <p:spPr>
          <a:xfrm>
            <a:off x="2018520" y="143496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学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2" descr="c:\DOCUME~1\ADMINI~1\APPLIC~1\360se6\USERDA~1\Temp\T01F9D~1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5669" t="0" r="5669" b="0"/>
          <a:stretch/>
        </p:blipFill>
        <p:spPr>
          <a:xfrm>
            <a:off x="4552560" y="987480"/>
            <a:ext cx="4417200" cy="33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矩形 1"/>
          <p:cNvSpPr/>
          <p:nvPr/>
        </p:nvSpPr>
        <p:spPr>
          <a:xfrm>
            <a:off x="755640" y="2499840"/>
            <a:ext cx="3600000" cy="10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      </a:t>
            </a:r>
            <a:r>
              <a:rPr b="1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要想改变口袋，先要改变脑袋！</a:t>
            </a:r>
            <a:br>
              <a:rPr sz="1200"/>
            </a:b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      这个社会一直在淘汰有学历的人，但是不会淘汰有学习力愿意改变的人</a:t>
            </a:r>
            <a:r>
              <a:rPr b="1" lang="en-US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!</a:t>
            </a:r>
            <a:r>
              <a:rPr b="1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读万卷书不如行万里路，行万里路不如阅人无数，阅人无数不如明师指路！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1763640" y="1289520"/>
            <a:ext cx="1079640" cy="1079640"/>
          </a:xfrm>
          <a:prstGeom prst="rect">
            <a:avLst/>
          </a:prstGeom>
          <a:noFill/>
          <a:ln>
            <a:solidFill>
              <a:srgbClr val="c0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3" name="矩形 3"/>
          <p:cNvSpPr/>
          <p:nvPr/>
        </p:nvSpPr>
        <p:spPr>
          <a:xfrm>
            <a:off x="1968840" y="1275480"/>
            <a:ext cx="68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66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变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4"/>
          <p:cNvSpPr/>
          <p:nvPr/>
        </p:nvSpPr>
        <p:spPr>
          <a:xfrm>
            <a:off x="1771200" y="1289520"/>
            <a:ext cx="539640" cy="107964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215" name="Picture 2" descr=""/>
          <p:cNvPicPr/>
          <p:nvPr/>
        </p:nvPicPr>
        <p:blipFill>
          <a:blip r:embed="rId1"/>
          <a:srcRect l="20949" t="12196" r="49603" b="25365"/>
          <a:stretch/>
        </p:blipFill>
        <p:spPr>
          <a:xfrm>
            <a:off x="1763640" y="1275480"/>
            <a:ext cx="547200" cy="11077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4" descr="c:\DOCUME~1\ADMINI~1\APPLIC~1\360se6\USERDA~1\Temp\201201~1.JPG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saturation sat="0"/>
                    </a14:imgEffect>
                  </a14:imgLayer>
                </a14:imgProps>
              </a:ext>
            </a:extLst>
          </a:blip>
          <a:srcRect l="5556" t="0" r="5556" b="0"/>
          <a:stretch/>
        </p:blipFill>
        <p:spPr>
          <a:xfrm>
            <a:off x="4572000" y="987480"/>
            <a:ext cx="4417200" cy="33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矩形 2"/>
          <p:cNvSpPr/>
          <p:nvPr/>
        </p:nvSpPr>
        <p:spPr>
          <a:xfrm>
            <a:off x="3276000" y="843480"/>
            <a:ext cx="2808000" cy="5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2000" spc="-1" strike="noStrike">
                <a:solidFill>
                  <a:srgbClr val="c00000"/>
                </a:solidFill>
                <a:latin typeface="微软雅黑"/>
                <a:ea typeface="微软雅黑"/>
              </a:rPr>
              <a:t>马云说：成功就是三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3"/>
          <p:cNvSpPr/>
          <p:nvPr/>
        </p:nvSpPr>
        <p:spPr>
          <a:xfrm>
            <a:off x="1367640" y="1707480"/>
            <a:ext cx="1944000" cy="1944000"/>
          </a:xfrm>
          <a:prstGeom prst="ellipse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19" name="椭圆 4"/>
          <p:cNvSpPr/>
          <p:nvPr/>
        </p:nvSpPr>
        <p:spPr>
          <a:xfrm>
            <a:off x="3636000" y="1707480"/>
            <a:ext cx="1944000" cy="1944000"/>
          </a:xfrm>
          <a:prstGeom prst="ellipse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0" name="椭圆 5"/>
          <p:cNvSpPr/>
          <p:nvPr/>
        </p:nvSpPr>
        <p:spPr>
          <a:xfrm>
            <a:off x="5904000" y="1707480"/>
            <a:ext cx="1944000" cy="1944000"/>
          </a:xfrm>
          <a:prstGeom prst="ellipse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1" name="矩形 6"/>
          <p:cNvSpPr/>
          <p:nvPr/>
        </p:nvSpPr>
        <p:spPr>
          <a:xfrm>
            <a:off x="2024640" y="21250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7"/>
          <p:cNvSpPr/>
          <p:nvPr/>
        </p:nvSpPr>
        <p:spPr>
          <a:xfrm>
            <a:off x="4247280" y="21250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8"/>
          <p:cNvSpPr/>
          <p:nvPr/>
        </p:nvSpPr>
        <p:spPr>
          <a:xfrm>
            <a:off x="6551280" y="2125080"/>
            <a:ext cx="729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9"/>
          <p:cNvSpPr/>
          <p:nvPr/>
        </p:nvSpPr>
        <p:spPr>
          <a:xfrm>
            <a:off x="1907640" y="2771280"/>
            <a:ext cx="935640" cy="45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5" name="矩形 10"/>
          <p:cNvSpPr/>
          <p:nvPr/>
        </p:nvSpPr>
        <p:spPr>
          <a:xfrm>
            <a:off x="4104000" y="2771280"/>
            <a:ext cx="935640" cy="45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6" name="矩形 11"/>
          <p:cNvSpPr/>
          <p:nvPr/>
        </p:nvSpPr>
        <p:spPr>
          <a:xfrm>
            <a:off x="6408360" y="2771280"/>
            <a:ext cx="935640" cy="45360"/>
          </a:xfrm>
          <a:prstGeom prst="rect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27" name="矩形 12"/>
          <p:cNvSpPr/>
          <p:nvPr/>
        </p:nvSpPr>
        <p:spPr>
          <a:xfrm>
            <a:off x="2141280" y="2817000"/>
            <a:ext cx="409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3"/>
          <p:cNvSpPr/>
          <p:nvPr/>
        </p:nvSpPr>
        <p:spPr>
          <a:xfrm>
            <a:off x="4289400" y="28170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14"/>
          <p:cNvSpPr/>
          <p:nvPr/>
        </p:nvSpPr>
        <p:spPr>
          <a:xfrm>
            <a:off x="6579720" y="2817000"/>
            <a:ext cx="592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15"/>
          <p:cNvSpPr/>
          <p:nvPr/>
        </p:nvSpPr>
        <p:spPr>
          <a:xfrm>
            <a:off x="3312000" y="0"/>
            <a:ext cx="2592000" cy="9151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1"/>
          <p:cNvSpPr/>
          <p:nvPr/>
        </p:nvSpPr>
        <p:spPr>
          <a:xfrm rot="20883000">
            <a:off x="597960" y="1279440"/>
            <a:ext cx="7272360" cy="273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今天很残酷、明天很美好、后天更美好、大多数人死在明天晚上、看不到后天的早晨的太阳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你的圈子对了、你人生就对了、近墨者黑、近朱者赤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你如果懂得选择正能量的人做朋友、我坚信你未来不会太差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改变会痛苦、但不改变会吃苦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改变很难、想改变、是一件很痛苦的事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很多时候、我们必须要改变自己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斩断自己的退路、才能更好地赢得出路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很多时候、我们都需要一种斩断自己退路的勇气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因为身后有退路、就会心存侥幸和安逸、身后无退路、才会为自己赢得出路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任意多边形 7"/>
          <p:cNvSpPr/>
          <p:nvPr/>
        </p:nvSpPr>
        <p:spPr>
          <a:xfrm>
            <a:off x="-21960" y="-9360"/>
            <a:ext cx="9194400" cy="1978560"/>
          </a:xfrm>
          <a:custGeom>
            <a:avLst/>
            <a:gdLst>
              <a:gd name="textAreaLeft" fmla="*/ 0 w 9194400"/>
              <a:gd name="textAreaRight" fmla="*/ 9194760 w 9194400"/>
              <a:gd name="textAreaTop" fmla="*/ 0 h 1978560"/>
              <a:gd name="textAreaBottom" fmla="*/ 1978920 h 1978560"/>
            </a:gdLst>
            <a:ahLst/>
            <a:rect l="textAreaLeft" t="textAreaTop" r="textAreaRight" b="textAreaBottom"/>
            <a:pathLst>
              <a:path w="9194651" h="1978943">
                <a:moveTo>
                  <a:pt x="9194651" y="0"/>
                </a:moveTo>
                <a:lnTo>
                  <a:pt x="0" y="16793"/>
                </a:lnTo>
                <a:lnTo>
                  <a:pt x="28575" y="1978943"/>
                </a:lnTo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3" name="任意多边形 8"/>
          <p:cNvSpPr/>
          <p:nvPr/>
        </p:nvSpPr>
        <p:spPr>
          <a:xfrm rot="10800000">
            <a:off x="-21960" y="3164760"/>
            <a:ext cx="9194400" cy="1978560"/>
          </a:xfrm>
          <a:custGeom>
            <a:avLst/>
            <a:gdLst>
              <a:gd name="textAreaLeft" fmla="*/ 0 w 9194400"/>
              <a:gd name="textAreaRight" fmla="*/ 9194760 w 9194400"/>
              <a:gd name="textAreaTop" fmla="*/ 0 h 1978560"/>
              <a:gd name="textAreaBottom" fmla="*/ 1978920 h 1978560"/>
            </a:gdLst>
            <a:ahLst/>
            <a:rect l="textAreaLeft" t="textAreaTop" r="textAreaRight" b="textAreaBottom"/>
            <a:pathLst>
              <a:path w="9194651" h="1978943">
                <a:moveTo>
                  <a:pt x="9194651" y="0"/>
                </a:moveTo>
                <a:lnTo>
                  <a:pt x="0" y="16793"/>
                </a:lnTo>
                <a:lnTo>
                  <a:pt x="28575" y="1978943"/>
                </a:lnTo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4" name="Picture 6"/>
          <p:cNvSpPr/>
          <p:nvPr/>
        </p:nvSpPr>
        <p:spPr>
          <a:xfrm>
            <a:off x="447840" y="267480"/>
            <a:ext cx="1220760" cy="122364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0"/>
          <p:cNvSpPr/>
          <p:nvPr/>
        </p:nvSpPr>
        <p:spPr>
          <a:xfrm rot="20841000">
            <a:off x="6954120" y="3516120"/>
            <a:ext cx="1644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96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矩形 2"/>
          <p:cNvSpPr/>
          <p:nvPr/>
        </p:nvSpPr>
        <p:spPr>
          <a:xfrm rot="10800000">
            <a:off x="360" y="771840"/>
            <a:ext cx="4174920" cy="352872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w="7284318" h="5143500">
                <a:moveTo>
                  <a:pt x="729181" y="12693"/>
                </a:moveTo>
                <a:lnTo>
                  <a:pt x="7284318" y="0"/>
                </a:lnTo>
                <a:lnTo>
                  <a:pt x="7284318" y="5143500"/>
                </a:lnTo>
                <a:lnTo>
                  <a:pt x="0" y="5143500"/>
                </a:lnTo>
                <a:lnTo>
                  <a:pt x="729181" y="12693"/>
                </a:ln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37" name="Picture 6"/>
          <p:cNvSpPr/>
          <p:nvPr/>
        </p:nvSpPr>
        <p:spPr>
          <a:xfrm>
            <a:off x="1043640" y="1491480"/>
            <a:ext cx="1615680" cy="162000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1"/>
          <p:cNvSpPr/>
          <p:nvPr/>
        </p:nvSpPr>
        <p:spPr>
          <a:xfrm>
            <a:off x="4392360" y="827640"/>
            <a:ext cx="4571640" cy="33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成功的人和不成功的人就差一点点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成功的人可以无数次修改方法、但绝不轻易放弃目标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不成功的人总改目标、就是不改方法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在每一次逆境中、都隐藏着成功的契机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命运能给予你哭的境遇、也给了你笑的权力！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爬到山顶了、这座山才会支撑着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的境界提高了、这个境界才来提升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关心别人、别人才会关心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爱护这个环境了、这个环境才会爱护你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的亲人幸福了、你才会幸福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只有你自己成功了、朋友才会离你更近</a:t>
            </a:r>
            <a:br>
              <a:rPr sz="1200"/>
            </a:b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一切、从自己做起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2"/>
          <p:cNvSpPr/>
          <p:nvPr/>
        </p:nvSpPr>
        <p:spPr>
          <a:xfrm>
            <a:off x="8244360" y="771480"/>
            <a:ext cx="4174920" cy="3528720"/>
          </a:xfrm>
          <a:custGeom>
            <a:avLst/>
            <a:gdLst>
              <a:gd name="textAreaLeft" fmla="*/ 0 w 4174920"/>
              <a:gd name="textAreaRight" fmla="*/ 4175280 w 4174920"/>
              <a:gd name="textAreaTop" fmla="*/ 0 h 3528720"/>
              <a:gd name="textAreaBottom" fmla="*/ 3529080 h 3528720"/>
            </a:gdLst>
            <a:ahLst/>
            <a:rect l="textAreaLeft" t="textAreaTop" r="textAreaRight" b="textAreaBottom"/>
            <a:pathLst>
              <a:path w="7284318" h="5143500">
                <a:moveTo>
                  <a:pt x="729181" y="12693"/>
                </a:moveTo>
                <a:lnTo>
                  <a:pt x="7284318" y="0"/>
                </a:lnTo>
                <a:lnTo>
                  <a:pt x="7284318" y="5143500"/>
                </a:lnTo>
                <a:lnTo>
                  <a:pt x="0" y="5143500"/>
                </a:lnTo>
                <a:lnTo>
                  <a:pt x="729181" y="12693"/>
                </a:ln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40" name="TextBox 5"/>
          <p:cNvSpPr/>
          <p:nvPr/>
        </p:nvSpPr>
        <p:spPr>
          <a:xfrm>
            <a:off x="1517040" y="3192120"/>
            <a:ext cx="66888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马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3"/>
          <p:cNvSpPr/>
          <p:nvPr/>
        </p:nvSpPr>
        <p:spPr>
          <a:xfrm>
            <a:off x="-15840" y="48452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5"/>
          <p:cNvSpPr/>
          <p:nvPr/>
        </p:nvSpPr>
        <p:spPr>
          <a:xfrm>
            <a:off x="1691640" y="0"/>
            <a:ext cx="7452000" cy="51433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155520" y="-136440"/>
            <a:ext cx="298080" cy="2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-1306440" y="-1820880"/>
            <a:ext cx="4675320" cy="90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90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1</a:t>
            </a:r>
            <a:endParaRPr b="0" lang="en-US" sz="59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椭圆 6"/>
          <p:cNvSpPr/>
          <p:nvPr/>
        </p:nvSpPr>
        <p:spPr>
          <a:xfrm>
            <a:off x="2771640" y="858600"/>
            <a:ext cx="2039760" cy="20397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0" name="椭圆 9"/>
          <p:cNvSpPr/>
          <p:nvPr/>
        </p:nvSpPr>
        <p:spPr>
          <a:xfrm>
            <a:off x="6270120" y="858600"/>
            <a:ext cx="2039760" cy="2039760"/>
          </a:xfrm>
          <a:prstGeom prst="ellipse">
            <a:avLst/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41" name="Picture 2" descr="c:\DOCUME~1\ADMINI~1\APPLIC~1\360se6\USERDA~1\Temp\728692~1.JPG"/>
          <p:cNvPicPr/>
          <p:nvPr/>
        </p:nvPicPr>
        <p:blipFill>
          <a:blip r:embed="rId1"/>
          <a:stretch/>
        </p:blipFill>
        <p:spPr>
          <a:xfrm>
            <a:off x="2843640" y="1069920"/>
            <a:ext cx="1892520" cy="1419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~1\ADMINI~1\APPLIC~1\360se6\USERDA~1\Temp\PIC225~1.JPG"/>
          <p:cNvPicPr/>
          <p:nvPr/>
        </p:nvPicPr>
        <p:blipFill>
          <a:blip r:embed="rId2"/>
          <a:srcRect l="0" t="0" r="0" b="13923"/>
          <a:stretch/>
        </p:blipFill>
        <p:spPr>
          <a:xfrm>
            <a:off x="6314400" y="1265400"/>
            <a:ext cx="2027880" cy="1020600"/>
          </a:xfrm>
          <a:prstGeom prst="rect">
            <a:avLst/>
          </a:prstGeom>
          <a:ln w="0">
            <a:noFill/>
          </a:ln>
        </p:spPr>
      </p:pic>
      <p:sp>
        <p:nvSpPr>
          <p:cNvPr id="143" name="矩形 7"/>
          <p:cNvSpPr/>
          <p:nvPr/>
        </p:nvSpPr>
        <p:spPr>
          <a:xfrm>
            <a:off x="2808360" y="3497400"/>
            <a:ext cx="45716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摩托罗拉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沉醉在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808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的时候，不知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诺基亚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迎头赶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等腰三角形 13"/>
          <p:cNvSpPr/>
          <p:nvPr/>
        </p:nvSpPr>
        <p:spPr>
          <a:xfrm>
            <a:off x="7139160" y="491040"/>
            <a:ext cx="378720" cy="32652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5" name="等腰三角形 14"/>
          <p:cNvSpPr/>
          <p:nvPr/>
        </p:nvSpPr>
        <p:spPr>
          <a:xfrm rot="10800000">
            <a:off x="3617640" y="2954880"/>
            <a:ext cx="378720" cy="326520"/>
          </a:xfrm>
          <a:prstGeom prst="triangle">
            <a:avLst>
              <a:gd name="adj" fmla="val 50000"/>
            </a:avLst>
          </a:prstGeom>
          <a:solidFill>
            <a:schemeClr val="tx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3"/>
          <p:cNvSpPr/>
          <p:nvPr/>
        </p:nvSpPr>
        <p:spPr>
          <a:xfrm>
            <a:off x="-204480" y="0"/>
            <a:ext cx="2800800" cy="53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344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2</a:t>
            </a:r>
            <a:endParaRPr b="0" lang="en-US" sz="3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4"/>
          <p:cNvSpPr/>
          <p:nvPr/>
        </p:nvSpPr>
        <p:spPr>
          <a:xfrm>
            <a:off x="251640" y="3435840"/>
            <a:ext cx="8892000" cy="660240"/>
          </a:xfrm>
          <a:custGeom>
            <a:avLst/>
            <a:gdLst>
              <a:gd name="textAreaLeft" fmla="*/ 0 w 8892000"/>
              <a:gd name="textAreaRight" fmla="*/ 8892360 w 8892000"/>
              <a:gd name="textAreaTop" fmla="*/ 0 h 660240"/>
              <a:gd name="textAreaBottom" fmla="*/ 660600 h 660240"/>
            </a:gdLst>
            <a:ahLst/>
            <a:rect l="textAreaLeft" t="textAreaTop" r="textAreaRight" b="textAreaBottom"/>
            <a:pathLst>
              <a:path w="8172400" h="660772">
                <a:moveTo>
                  <a:pt x="0" y="0"/>
                </a:moveTo>
                <a:lnTo>
                  <a:pt x="8172400" y="0"/>
                </a:lnTo>
                <a:lnTo>
                  <a:pt x="8172400" y="648072"/>
                </a:lnTo>
                <a:lnTo>
                  <a:pt x="6350" y="660772"/>
                </a:lnTo>
                <a:cubicBezTo>
                  <a:pt x="4233" y="440515"/>
                  <a:pt x="2117" y="220257"/>
                  <a:pt x="0" y="0"/>
                </a:cubicBez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48" name="矩形 5"/>
          <p:cNvSpPr/>
          <p:nvPr/>
        </p:nvSpPr>
        <p:spPr>
          <a:xfrm>
            <a:off x="2051640" y="3535560"/>
            <a:ext cx="68594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诺基亚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在注重低端机市场时，乔布斯的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苹果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潜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icture 2"/>
          <p:cNvSpPr/>
          <p:nvPr/>
        </p:nvSpPr>
        <p:spPr>
          <a:xfrm>
            <a:off x="2988000" y="1004400"/>
            <a:ext cx="2160720" cy="2123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icture 4"/>
          <p:cNvSpPr/>
          <p:nvPr/>
        </p:nvSpPr>
        <p:spPr>
          <a:xfrm>
            <a:off x="5940000" y="1004400"/>
            <a:ext cx="2123640" cy="212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矩形 2"/>
          <p:cNvSpPr/>
          <p:nvPr/>
        </p:nvSpPr>
        <p:spPr>
          <a:xfrm>
            <a:off x="6732360" y="0"/>
            <a:ext cx="2411280" cy="5143320"/>
          </a:xfrm>
          <a:prstGeom prst="rect">
            <a:avLst/>
          </a:pr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rcRect l="33333" t="31138" r="31831" b="46357"/>
          <a:stretch/>
        </p:blipFill>
        <p:spPr>
          <a:xfrm>
            <a:off x="2489040" y="0"/>
            <a:ext cx="6451920" cy="5143320"/>
          </a:xfrm>
          <a:prstGeom prst="rect">
            <a:avLst/>
          </a:prstGeom>
          <a:ln w="0">
            <a:noFill/>
          </a:ln>
        </p:spPr>
      </p:pic>
      <p:sp>
        <p:nvSpPr>
          <p:cNvPr id="153" name="矩形 4"/>
          <p:cNvSpPr/>
          <p:nvPr/>
        </p:nvSpPr>
        <p:spPr>
          <a:xfrm>
            <a:off x="6732360" y="1294560"/>
            <a:ext cx="2072520" cy="16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苹果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为街机的时候，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星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已经傲视天下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icture 4"/>
          <p:cNvSpPr/>
          <p:nvPr/>
        </p:nvSpPr>
        <p:spPr>
          <a:xfrm>
            <a:off x="467640" y="1276200"/>
            <a:ext cx="2508480" cy="24904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"/>
          <p:cNvPicPr/>
          <p:nvPr/>
        </p:nvPicPr>
        <p:blipFill>
          <a:blip r:embed="rId1"/>
          <a:srcRect l="24824" t="28429" r="30750" b="32311"/>
          <a:stretch/>
        </p:blipFill>
        <p:spPr>
          <a:xfrm>
            <a:off x="-1647360" y="0"/>
            <a:ext cx="6192360" cy="6755760"/>
          </a:xfrm>
          <a:prstGeom prst="rect">
            <a:avLst/>
          </a:prstGeom>
          <a:ln w="0">
            <a:noFill/>
          </a:ln>
        </p:spPr>
      </p:pic>
      <p:sp>
        <p:nvSpPr>
          <p:cNvPr id="156" name="矩形 4"/>
          <p:cNvSpPr/>
          <p:nvPr/>
        </p:nvSpPr>
        <p:spPr>
          <a:xfrm>
            <a:off x="0" y="3075840"/>
            <a:ext cx="9143640" cy="122364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1223640"/>
              <a:gd name="textAreaBottom" fmla="*/ 1224000 h 1223640"/>
            </a:gdLst>
            <a:ahLst/>
            <a:rect l="textAreaLeft" t="textAreaTop" r="textAreaRight" b="textAreaBottom"/>
            <a:pathLst>
              <a:path w="8172400" h="660772">
                <a:moveTo>
                  <a:pt x="0" y="0"/>
                </a:moveTo>
                <a:lnTo>
                  <a:pt x="8172400" y="0"/>
                </a:lnTo>
                <a:lnTo>
                  <a:pt x="8172400" y="648072"/>
                </a:lnTo>
                <a:lnTo>
                  <a:pt x="6350" y="660772"/>
                </a:lnTo>
                <a:cubicBezTo>
                  <a:pt x="4233" y="440515"/>
                  <a:pt x="2117" y="220257"/>
                  <a:pt x="0" y="0"/>
                </a:cubicBez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7" name="矩形 3"/>
          <p:cNvSpPr/>
          <p:nvPr/>
        </p:nvSpPr>
        <p:spPr>
          <a:xfrm>
            <a:off x="3366360" y="3491640"/>
            <a:ext cx="4968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中国移动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沾沾自喜为中国最大的通讯商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3366360" y="2217960"/>
            <a:ext cx="446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浑然不觉</a:t>
            </a:r>
            <a:r>
              <a:rPr b="0" lang="zh-CN" sz="4000" spc="-1" strike="noStrike">
                <a:solidFill>
                  <a:srgbClr val="c11920"/>
                </a:solidFill>
                <a:latin typeface="微软雅黑"/>
                <a:ea typeface="微软雅黑"/>
              </a:rPr>
              <a:t>微信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客户已突破</a:t>
            </a:r>
            <a:r>
              <a:rPr b="0" lang="en-US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个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icture 4"/>
          <p:cNvSpPr/>
          <p:nvPr/>
        </p:nvSpPr>
        <p:spPr>
          <a:xfrm>
            <a:off x="7661520" y="525240"/>
            <a:ext cx="1086480" cy="1068840"/>
          </a:xfrm>
          <a:prstGeom prst="flowChartConnector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6" descr="c:\DOCUME~1\ADMINI~1\APPLIC~1\360se6\USERDA~1\Temp\T01DE6~1.JPG"/>
          <p:cNvPicPr/>
          <p:nvPr/>
        </p:nvPicPr>
        <p:blipFill>
          <a:blip r:embed="rId3"/>
          <a:srcRect l="0" t="0" r="0" b="3863"/>
          <a:stretch/>
        </p:blipFill>
        <p:spPr>
          <a:xfrm>
            <a:off x="5807880" y="339480"/>
            <a:ext cx="149796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rcRect l="36149" t="31469" r="32159" b="41813"/>
          <a:stretch/>
        </p:blipFill>
        <p:spPr>
          <a:xfrm>
            <a:off x="25920" y="0"/>
            <a:ext cx="4885920" cy="5091840"/>
          </a:xfrm>
          <a:prstGeom prst="rect">
            <a:avLst/>
          </a:prstGeom>
          <a:ln w="0">
            <a:noFill/>
          </a:ln>
        </p:spPr>
      </p:pic>
      <p:sp>
        <p:nvSpPr>
          <p:cNvPr id="162" name="矩形 2"/>
          <p:cNvSpPr/>
          <p:nvPr/>
        </p:nvSpPr>
        <p:spPr>
          <a:xfrm>
            <a:off x="4356000" y="627480"/>
            <a:ext cx="4787640" cy="13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当</a:t>
            </a: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中国银行业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赚的盆满钵满高歌猛进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2800" spc="-1" strike="noStrike">
                <a:solidFill>
                  <a:srgbClr val="c00000"/>
                </a:solidFill>
                <a:latin typeface="微软雅黑"/>
                <a:ea typeface="微软雅黑"/>
              </a:rPr>
              <a:t>阿里巴巴</a:t>
            </a:r>
            <a:r>
              <a:rPr b="0" lang="zh-CN" sz="1800" spc="-1" strike="noStrike">
                <a:solidFill>
                  <a:srgbClr val="c00000"/>
                </a:solidFill>
                <a:latin typeface="微软雅黑"/>
                <a:ea typeface="微软雅黑"/>
              </a:rPr>
              <a:t>已经推出网络虚拟信用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c:\DOCUME~1\ADMINI~1\APPLIC~1\360se6\USERDA~1\Temp\632505~1.JPG"/>
          <p:cNvPicPr/>
          <p:nvPr/>
        </p:nvPicPr>
        <p:blipFill>
          <a:blip r:embed="rId2"/>
          <a:srcRect l="9950" t="8427" r="1640" b="66712"/>
          <a:stretch/>
        </p:blipFill>
        <p:spPr>
          <a:xfrm>
            <a:off x="4212000" y="2355840"/>
            <a:ext cx="5393880" cy="17647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539640" y="477684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免费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4"/>
              </a:rPr>
              <a:t>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extBox 1"/>
          <p:cNvSpPr/>
          <p:nvPr/>
        </p:nvSpPr>
        <p:spPr>
          <a:xfrm>
            <a:off x="4897440" y="-1892880"/>
            <a:ext cx="4713480" cy="91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595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6</a:t>
            </a:r>
            <a:endParaRPr b="0" lang="en-US" sz="5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684000" y="843120"/>
            <a:ext cx="4571640" cy="178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当</a:t>
            </a:r>
            <a:r>
              <a:rPr b="1" lang="zh-CN" sz="2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工商银行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独行天下时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殊不知小弟</a:t>
            </a:r>
            <a:r>
              <a:rPr b="1" lang="zh-CN" sz="2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平安银行</a:t>
            </a: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已偷窥多日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迅速在全国铺开</a:t>
            </a:r>
            <a:r>
              <a:rPr b="0" lang="en-US" sz="1800" spc="-1" strike="noStrike">
                <a:solidFill>
                  <a:srgbClr val="c11920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icture 2"/>
          <p:cNvSpPr/>
          <p:nvPr/>
        </p:nvSpPr>
        <p:spPr>
          <a:xfrm>
            <a:off x="395640" y="2625480"/>
            <a:ext cx="1872000" cy="1872000"/>
          </a:xfrm>
          <a:prstGeom prst="flowChartConnector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c:\DOCUME~1\ADMINI~1\APPLIC~1\360se6\USERDA~1\Temp\196425~1.JPG"/>
          <p:cNvPicPr/>
          <p:nvPr/>
        </p:nvPicPr>
        <p:blipFill>
          <a:blip r:embed="rId2"/>
          <a:srcRect l="11210" t="8964" r="7150" b="19459"/>
          <a:stretch/>
        </p:blipFill>
        <p:spPr>
          <a:xfrm>
            <a:off x="2588400" y="2878920"/>
            <a:ext cx="2666880" cy="13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94840" y="228240"/>
            <a:ext cx="3326760" cy="638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41300" spc="-1" strike="noStrike">
                <a:solidFill>
                  <a:srgbClr val="c11920"/>
                </a:solidFill>
                <a:latin typeface="汉仪大黑简"/>
                <a:ea typeface="汉仪大黑简"/>
              </a:rPr>
              <a:t>7</a:t>
            </a:r>
            <a:endParaRPr b="0" lang="en-US" sz="4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2"/>
          <p:cNvSpPr/>
          <p:nvPr/>
        </p:nvSpPr>
        <p:spPr>
          <a:xfrm>
            <a:off x="1859760" y="0"/>
            <a:ext cx="7283880" cy="5143320"/>
          </a:xfrm>
          <a:custGeom>
            <a:avLst/>
            <a:gdLst>
              <a:gd name="textAreaLeft" fmla="*/ 0 w 7283880"/>
              <a:gd name="textAreaRight" fmla="*/ 7284240 w 728388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7284318" h="5143500">
                <a:moveTo>
                  <a:pt x="1200150" y="0"/>
                </a:moveTo>
                <a:lnTo>
                  <a:pt x="7284318" y="0"/>
                </a:lnTo>
                <a:lnTo>
                  <a:pt x="7284318" y="5143500"/>
                </a:lnTo>
                <a:lnTo>
                  <a:pt x="0" y="5143500"/>
                </a:lnTo>
                <a:lnTo>
                  <a:pt x="1200150" y="0"/>
                </a:ln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1" name="矩形 3"/>
          <p:cNvSpPr/>
          <p:nvPr/>
        </p:nvSpPr>
        <p:spPr>
          <a:xfrm>
            <a:off x="3188520" y="2344320"/>
            <a:ext cx="5676120" cy="11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很多人还在想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租个门面房开个小生意时，光棍节一天中国互联网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天猫</a:t>
            </a: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上创造天价成交额。不要说停止学习，就是慢一点都有可能被淘汰出局。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c:\DOCUME~1\ADMINI~1\APPLIC~1\360se6\USERDA~1\Temp\761844~1.JPG"/>
          <p:cNvPicPr/>
          <p:nvPr/>
        </p:nvPicPr>
        <p:blipFill>
          <a:blip r:embed="rId1"/>
          <a:srcRect l="4803" t="0" r="69804" b="59897"/>
          <a:stretch/>
        </p:blipFill>
        <p:spPr>
          <a:xfrm>
            <a:off x="683640" y="699480"/>
            <a:ext cx="1625040" cy="19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矩形 1"/>
          <p:cNvSpPr/>
          <p:nvPr/>
        </p:nvSpPr>
        <p:spPr>
          <a:xfrm>
            <a:off x="1063440" y="1419480"/>
            <a:ext cx="73965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未来十年拼什么</a:t>
            </a:r>
            <a:r>
              <a:rPr b="1" lang="en-US" sz="7200" spc="-1" strike="noStrike">
                <a:solidFill>
                  <a:srgbClr val="c00000"/>
                </a:solidFill>
                <a:latin typeface="微软雅黑"/>
                <a:ea typeface="微软雅黑"/>
              </a:rPr>
              <a:t>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4"/>
          <p:cNvSpPr/>
          <p:nvPr/>
        </p:nvSpPr>
        <p:spPr>
          <a:xfrm>
            <a:off x="703440" y="2643840"/>
            <a:ext cx="7756560" cy="863640"/>
          </a:xfrm>
          <a:custGeom>
            <a:avLst/>
            <a:gdLst>
              <a:gd name="textAreaLeft" fmla="*/ 0 w 7756560"/>
              <a:gd name="textAreaRight" fmla="*/ 7756920 w 775656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8172400" h="660772">
                <a:moveTo>
                  <a:pt x="0" y="0"/>
                </a:moveTo>
                <a:lnTo>
                  <a:pt x="8172400" y="0"/>
                </a:lnTo>
                <a:lnTo>
                  <a:pt x="8172400" y="648072"/>
                </a:lnTo>
                <a:lnTo>
                  <a:pt x="6350" y="660772"/>
                </a:lnTo>
                <a:cubicBezTo>
                  <a:pt x="4233" y="440515"/>
                  <a:pt x="2117" y="220257"/>
                  <a:pt x="0" y="0"/>
                </a:cubicBezTo>
                <a:close/>
              </a:path>
            </a:pathLst>
          </a:custGeom>
          <a:solidFill>
            <a:srgbClr val="c1192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75" name="矩形 2"/>
          <p:cNvSpPr/>
          <p:nvPr/>
        </p:nvSpPr>
        <p:spPr>
          <a:xfrm>
            <a:off x="1475640" y="2830320"/>
            <a:ext cx="64803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WHAT SHOULD WE SPELL IN THE NEXT DECA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  <Words>326</Words>
  <Paragraphs>5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3T02:24:33Z</dcterms:modified>
  <cp:revision>2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16:9)</vt:lpwstr>
  </property>
  <property fmtid="{D5CDD505-2E9C-101B-9397-08002B2CF9AE}" pid="4" name="Slides">
    <vt:r8>17</vt:r8>
  </property>
</Properties>
</file>