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9FDD-34A1-460F-A918-4C29C00E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1600-AC3A-4564-9C11-103BBA67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A62-B57B-48F8-95D2-748501EC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D037-7428-4626-A46F-BF1B152D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C745-B3BD-40CA-8664-45621B8C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AFC7-5357-4247-B2AF-AB90AF22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52F-1FEC-44F5-A3B3-E27D2F50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EF42-832F-402C-A35E-E02952BA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E372-CCC7-4859-BBD5-A0D156F6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A9FD-4A8E-42E2-BCCE-697512D2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0C4A-665E-41BB-BD06-87E49A79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3353-3C69-4FA0-990E-A419AB36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D23E-662C-4191-8BA7-CD365FB7A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2401920" y="119700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唯美花草通用</a:t>
            </a:r>
            <a:r>
              <a:rPr b="0" lang="en-US" sz="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684360" y="260280"/>
            <a:ext cx="41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81562b"/>
                </a:solidFill>
                <a:latin typeface="隶书"/>
              </a:rPr>
              <a:t>在此处添加演示文稿标题</a:t>
            </a:r>
            <a:endParaRPr b="0" lang="en-US" sz="1800" spc="1" strike="noStrike">
              <a:ln w="0">
                <a:noFill/>
              </a:ln>
              <a:solidFill>
                <a:srgbClr val="81562b"/>
              </a:solidFill>
              <a:latin typeface="隶书"/>
              <a:ea typeface="隶书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578760" y="2351160"/>
            <a:ext cx="2192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Arial"/>
                <a:ea typeface="黑体"/>
              </a:rPr>
              <a:t>在此处添加演示文稿正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578760" y="3141720"/>
            <a:ext cx="2192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Arial"/>
                <a:ea typeface="黑体"/>
              </a:rPr>
              <a:t>在此处添加演示文稿正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578760" y="3933720"/>
            <a:ext cx="2192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Arial"/>
                <a:ea typeface="黑体"/>
              </a:rPr>
              <a:t>在此处添加演示文稿正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2627280" y="2565360"/>
            <a:ext cx="144360" cy="1443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9"/>
          <p:cNvSpPr/>
          <p:nvPr/>
        </p:nvSpPr>
        <p:spPr>
          <a:xfrm>
            <a:off x="2627280" y="3336840"/>
            <a:ext cx="144360" cy="144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0"/>
          <p:cNvSpPr/>
          <p:nvPr/>
        </p:nvSpPr>
        <p:spPr>
          <a:xfrm>
            <a:off x="2627280" y="4110120"/>
            <a:ext cx="144360" cy="1443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8:52:44Z</dcterms:created>
  <dc:creator>雨林木风</dc:creator>
  <dc:description/>
  <dc:language>en-US</dc:language>
  <cp:lastModifiedBy>王玉清</cp:lastModifiedBy>
  <dcterms:modified xsi:type="dcterms:W3CDTF">2016-02-22T03:23:13Z</dcterms:modified>
  <cp:revision>5</cp:revision>
  <dc:subject/>
  <dc:title>幻灯片 1</dc:title>
</cp:coreProperties>
</file>