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E608-34DE-4440-ABD7-9B0593947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A5A83-BEF6-4DE1-8ACB-22C14E1D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C7A07A-EBCB-4C27-A9D2-6C404226B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7A8C2C-D3EF-4F53-B7B7-6C4EFECEF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521952-AA39-4AE9-9408-D46A1AA2C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14AB7-FDCD-43BA-9494-8471AAE01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F044D3-1EF3-4685-A98D-9436CC5D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00BBF4-DDFC-4139-9312-413B3AC76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F8403-6564-4512-A401-B875735E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FA283-85B8-4BBF-A369-ADCD17C76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133BC9-8CCF-426C-9E08-90A3D52C8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EE044-33E0-4107-9B90-B8C62A892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392E-7BF9-45FD-977D-FB2734F9F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A5F60F-6651-46C7-930E-C791542D0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263DCC-BE1F-4424-AF60-9D535E766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0F7ABF-435F-4B48-99BB-B9362CE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AF2443-CE7A-407E-A4C8-4A9349D8A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7BE6B4-B6B7-44D3-95EB-A444AEFEE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F9EB89-B40A-477C-B946-38E31E197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69F8AE-AE31-40A9-BBA2-95355EC48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0E11DE-3409-430E-B289-A8981CCD5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4575B7-8DD7-4C84-AAC3-12500534C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9DD9B5-F99E-42EF-83E8-1C7B4BD56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4101-4322-4D35-AA22-AA6F6452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4E6A61-3C0A-4742-9D7D-2721D8289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C41EC0-1507-44CF-BFBB-505AFB1BC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048AF1-506C-4033-A3A7-FD1E16574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26C7BB-CD6C-49B8-B063-B083534C7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F1160F-E0D3-4FAD-9B0F-24212FCC9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133BBC-CC86-4D52-A740-577709AF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5EB431-8774-4C0C-B9CD-7E84A71CE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D5812F-087F-43C1-9E74-3EA60AC6D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F80E6-2D6A-41E7-B9C8-0DC1099D5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997A8-DF97-4639-B96A-B4F1E7DD9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22086-9C9D-4817-BE34-D84BE3552C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AC726E-BC69-4249-8F38-786BA7004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C9A58E-DFBD-4ADA-A736-DB352F4ECE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06104-269B-4B33-BCEE-87FDBFFFD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02C2359-E338-4704-9F9E-D8B28EEB5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51CCA7-09E7-4E5C-AC57-C5BAD9DAA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00D68-50DB-4702-8B49-FE8A6B71F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EA6670-0820-4218-BC78-11AC5B83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D28B33-5D4B-40B3-BF04-9904482BB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40C12A1-3DBC-4D99-ACD4-63D7453FE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B4A63-6267-4576-AB1B-A5AB9A6E9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06A78-060A-479E-9DC1-E90BD4334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3067BBB-E064-4C79-BB15-F0F28B992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60020-EF98-4D94-9C24-EF00C228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9A832B-407E-4872-9A8D-F78F98736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2DEB9-C2BE-4DD2-8552-9D137F4E6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09ED07D-94BE-4F5A-BF78-CDB1DBACE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08C29-F776-4A08-94B4-33A19F33F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EB064-56FA-439C-B087-9ED7854FA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FD2E2-CFE8-4E91-A25A-F8BC63B25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EBC64-E7F3-44BB-AE15-93A50C417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EBBBA-1FAE-4A95-806A-4B301784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B804-0365-4D6D-B393-D3036DF0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2DE9-8815-4641-8A4B-CF544BA10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8F348-42FA-4849-8754-97D464FFB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4A3F0-7B6D-4DF6-9D7F-B845D69E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AFD63-72D7-46A9-AF6F-A2F79E42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DFD9E-1352-4BAF-BAD6-D7687731A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D0DA0-8D30-4940-9A7C-E1DCDEE9D6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555CF9-9B3B-446D-955E-5B5792B31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EB3043-F200-415B-B138-68DFE200A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68D8D2-9D43-421B-B68A-D127ED080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D51C3B-4564-4D12-9781-4A772EF7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02B3-5299-4F75-9857-509191DFA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4DA7C-BE32-43FF-8313-3AF1E6CA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4CB3D-2460-4395-A145-4ACD7D1E3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CE9686-4792-4E42-8D6D-E5C36A830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1C5DD1-20F4-498F-B1D4-B353333FF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636112-A16B-4AC8-BEB0-FC06DEF59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DFF716-4DC6-4631-8BF8-87D5DD2A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F6429-8846-44D7-8568-B58E05D64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ACE19-50F7-4A9D-B807-7606F41A6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67905A-5CFA-4D54-B227-2B21A4299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9A920D-CE9A-4A94-AAE7-F6982379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AA69-4514-4C6F-BE56-F0A6ECAFB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A9B81E-205E-44C3-8F2E-79199438A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E2E2A-E1E7-47C5-A2B2-DF0D0207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4A6B7-736C-4ACD-8F67-D21EA9D0D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833AA-589C-4EAB-BF26-CCEA9AA96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9D8D3A-4382-4542-A233-6F1DB33E0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956F49-3B3F-439A-9040-3C6EE606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E38BA-8C9E-4416-88D5-21A486566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8B204-2F03-41DA-A65E-A26C4235A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A54354-67C0-4AB1-B7FB-D416FB493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9A1D0C-F8F2-471F-94F9-98EE9922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53A6-A976-4DC8-8600-0AB9C3BFC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F98A7F-D1D3-4BDD-9D9E-6FDBB41D2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7F54AF-1AD0-4AF7-8079-101F2FA9F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FAD478-33A7-4164-B295-4819C2DDD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DBECDE-A466-47AC-A520-B45B68D0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6A95D4-90C4-4835-B40C-1490BB81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FF7248-5977-43FC-89BA-7077DAC5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4496C9-0177-4384-8E39-DA0B2F9A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09FE27-31BF-4875-ABC0-650C81A0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D7122E-F810-4ED6-962C-286D8014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08F873-309B-46D9-AE42-F0A3E2873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D671-D716-473E-9603-7C87A3DA1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45D6D-D412-4D9A-BF3B-265718289A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BDDFFE-CE75-42DF-8062-A83F1BA19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50E26-9857-4DBE-B4B7-B831B4E3B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80CCB2-E4F3-4F59-8960-8873B4434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BAF3A6-1780-41DD-993C-93055E72C3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C0C87B-1DC2-4518-B716-D84F78817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3AE5C0-6AC1-46BC-A7C2-533CD14E3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BD02A-35BB-4962-A251-42D8F1592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67774-0D0A-4F1C-B63A-889DF6107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293E6A-100A-45C6-ACA3-C642AB18B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C8EA-5482-4EDC-8A0B-0C3F6B56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B70C40-C45D-498B-AD4C-B33A6FE11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08F815-8563-43E3-A339-0AB86F5D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188854-366F-4099-91F9-08CDBB2D7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E67031-E921-49AC-AF5A-4DA199C71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89D429-1BC0-4C6A-8D5D-E118C3BB6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2F4044-BBCE-40E3-9C00-B4FFB0FF5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88F595-A3F8-4325-866A-574E9F41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2C5E41-C600-450E-972F-D98FF4E53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3E0CD-CDEA-44D4-A09A-444EC6DC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CEACD8-C5FC-47CB-A69E-17DCB302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51B4-CFE5-4050-8622-5093B5C0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B8DEF0-48EC-4B62-9492-EE4E45B38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B9FE9A-9EB6-4C6B-A665-67882D536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E077FF-1DE9-49F4-9FEE-9E233B49E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A6A40-40DC-48C3-AF96-C901C41D5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8F7F89-F0E7-4A2F-AB8F-82ED2BA29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8E0C5-E4F2-4F0D-A8D0-AD9A867E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1B50A7-F7AF-47CF-AD0E-8EAC3F125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F689C2-637A-413F-B5AB-BCD875251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5254C1-15EF-4599-913F-07A68E17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D53E60-A69D-4A88-B952-3F8624A34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3E71A-685F-42D2-BABA-CBACDBB36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D7B7C3-7F21-42F7-950C-299C8F5486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926696-191C-44BE-A00C-3B4B45A6E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3A749-F639-4BEA-9199-51F49C62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BDF6E-38B8-4EFB-9795-5582FBD3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8631E-3DA8-4133-B34A-4DBD4EAB6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5D5E04-713B-4BE1-810D-0741666D8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18DB61-997E-4E30-B5AC-933A51AAA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0D8FC7-362C-4C6B-9845-0FD8CCEFC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023B57-6DE1-4B62-9BD5-78298437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40D63D-CB42-4DBE-80A2-E5840923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D86B2-9E3A-43B6-8E24-E545C1B2400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5BC83-EAF9-4DAA-9806-44451B328276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E94E6-6A01-4786-AAB8-8CC380088E55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A45E4-4B97-4544-B4E7-E3BAA862A1F9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34ECD-935F-4EEC-9A0C-65B67539F483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D8AD-A9A4-4484-8D5B-1AAA9808D003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C4AC-D6B1-4C1E-B360-CA6204241D14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E238D-F01E-4363-A7B7-2B3816A7320E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BBC9B-5277-4700-837C-26C7ABADB574}" type="slidenum">
              <a:rPr b="0" lang="zh-CN" sz="1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FB9E6-F153-4CF1-95CA-4C95CF97EB5E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F85A3-B782-4DA3-8609-CF8654443F03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02D65-8A2D-4185-A409-DA1E08045851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87F96-4A85-40DE-8248-6B0F7BC4EA8E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DB399-0A1F-4586-997E-796942B3F1A4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48D86-175E-417E-BE92-417F42AC2BD8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921DD-D1E9-4A89-81ED-357418FF98D3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73E6F-2E02-4304-AD0B-B86034673266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2E75D-0DCB-4C47-9B66-3B95929378CF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9FBFA-F7E3-4AA5-AEE1-956D1DB50EB3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2728-3100-4123-98F7-CBC78473E75C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AA043-702E-408C-9D49-F0407438A460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fa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ctr">
            <a:noAutofit/>
          </a:bodyPr>
          <a:p>
            <a:pPr indent="0" algn="ctr"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5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8000"/>
          </a:bodyPr>
          <a:p>
            <a:pPr marL="394920" indent="-39492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855360" indent="-32796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319040" indent="-26424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3" marL="1846440" indent="-2642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4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5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6" marL="2373840" indent="-264240">
              <a:spcBef>
                <a:spcPts val="901"/>
              </a:spcBef>
              <a:buClr>
                <a:srgbClr val="000000"/>
              </a:buClr>
              <a:buFont typeface="Arial"/>
              <a:buChar char="»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245280"/>
            <a:ext cx="284508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7C92F-36D9-4473-8D03-0A8865B46B8F}" type="datetime">
              <a:rPr b="0" lang="zh-CN" sz="15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7360" y="6245280"/>
            <a:ext cx="386064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245280"/>
            <a:ext cx="2844720" cy="4744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5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4EF72-2896-4652-8FEB-DD98E8A95654}" type="slidenum">
              <a:rPr b="0" lang="zh-CN" sz="15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1.png"/><Relationship Id="rId8" Type="http://schemas.openxmlformats.org/officeDocument/2006/relationships/image" Target="../media/image10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5.png"/><Relationship Id="rId1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Picture 2" descr="wps封面1"/>
          <p:cNvPicPr/>
          <p:nvPr/>
        </p:nvPicPr>
        <p:blipFill>
          <a:blip r:embed="rId1"/>
          <a:stretch/>
        </p:blipFill>
        <p:spPr>
          <a:xfrm>
            <a:off x="14400" y="1440"/>
            <a:ext cx="12190320" cy="6855120"/>
          </a:xfrm>
          <a:prstGeom prst="rect">
            <a:avLst/>
          </a:prstGeom>
          <a:ln w="0">
            <a:noFill/>
          </a:ln>
        </p:spPr>
      </p:pic>
      <p:sp>
        <p:nvSpPr>
          <p:cNvPr id="493" name="AutoShape 4"/>
          <p:cNvSpPr/>
          <p:nvPr/>
        </p:nvSpPr>
        <p:spPr>
          <a:xfrm>
            <a:off x="987480" y="1006560"/>
            <a:ext cx="463320" cy="1019160"/>
          </a:xfrm>
          <a:prstGeom prst="triangle">
            <a:avLst>
              <a:gd name="adj" fmla="val 0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AutoShape 5"/>
          <p:cNvSpPr/>
          <p:nvPr/>
        </p:nvSpPr>
        <p:spPr>
          <a:xfrm flipV="1">
            <a:off x="3478320" y="1276200"/>
            <a:ext cx="1230120" cy="673200"/>
          </a:xfrm>
          <a:prstGeom prst="triangle">
            <a:avLst>
              <a:gd name="adj" fmla="val 50000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AutoShape 6"/>
          <p:cNvSpPr/>
          <p:nvPr/>
        </p:nvSpPr>
        <p:spPr>
          <a:xfrm>
            <a:off x="8939160" y="1846440"/>
            <a:ext cx="750960" cy="1035000"/>
          </a:xfrm>
          <a:prstGeom prst="triangle">
            <a:avLst>
              <a:gd name="adj" fmla="val 89815"/>
            </a:avLst>
          </a:prstGeom>
          <a:solidFill>
            <a:srgbClr val="ffffff">
              <a:alpha val="43000"/>
            </a:srgbClr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矩形 1"/>
          <p:cNvSpPr/>
          <p:nvPr/>
        </p:nvSpPr>
        <p:spPr>
          <a:xfrm>
            <a:off x="3610440" y="652320"/>
            <a:ext cx="49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黑体"/>
                <a:ea typeface="黑体"/>
              </a:rPr>
              <a:t>唯美艺术动态</a:t>
            </a:r>
            <a:r>
              <a:rPr b="0" lang="en-US" sz="4000" spc="-1" strike="noStrike">
                <a:solidFill>
                  <a:srgbClr val="262626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262626"/>
                </a:solidFill>
                <a:latin typeface="黑体"/>
                <a:ea typeface="黑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3"/>
          <p:cNvSpPr/>
          <p:nvPr/>
        </p:nvSpPr>
        <p:spPr>
          <a:xfrm>
            <a:off x="2209680" y="3961440"/>
            <a:ext cx="7877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2011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年，英国达人秀的舞台上，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7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岁女孩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Olivia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脖子上缠绕着她的好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友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Lucy——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一条蟒蛇，念了一首自己创作的               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2254320" y="1439640"/>
            <a:ext cx="7908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         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以各种形式存在着，从唐诗宋词，到现代诗，多少诗句给予了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我们力量、解答了我们的疑问、直击我们的痛楚、净化我们的心灵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2330280" y="3094200"/>
            <a:ext cx="7547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     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句不需要既定的形式，管他诗律、诗格、诗境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Oval 6"/>
          <p:cNvSpPr/>
          <p:nvPr/>
        </p:nvSpPr>
        <p:spPr>
          <a:xfrm>
            <a:off x="2841480" y="11732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Oval 7"/>
          <p:cNvSpPr/>
          <p:nvPr/>
        </p:nvSpPr>
        <p:spPr>
          <a:xfrm>
            <a:off x="2878200" y="2832120"/>
            <a:ext cx="8539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Oval 8"/>
          <p:cNvSpPr/>
          <p:nvPr/>
        </p:nvSpPr>
        <p:spPr>
          <a:xfrm>
            <a:off x="6832440" y="42800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nodeType="clickEffect" fill="hold">
                      <p:stCondLst>
                        <p:cond delay="0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5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3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0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40">
                                  <p:stCondLst>
                                    <p:cond delay="4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3"/>
          <p:cNvSpPr/>
          <p:nvPr/>
        </p:nvSpPr>
        <p:spPr>
          <a:xfrm>
            <a:off x="3150720" y="901800"/>
            <a:ext cx="6544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Come on,don't you have a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he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You don't want these animals to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dep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Forget the X Factor and the Top Ten singing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char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Look at the most endangered animals and the poison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d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The leopard,siberian tiger and the polar bea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They're so gorgeous,it is just not fai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If I say their Latin names,will you listen m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Oh,Louis,please don't say this is bo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Komodo dragon,by the 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Why does man have to take him all aw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Man,you're such a f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Snakes skinned alive for handbag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That is just not coo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Please listen to my pass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although it may not be in fashio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I cannot sing it.You might laug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I cannot dance.You'd say that I was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daf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Microsoft Sans Serif"/>
              </a:rPr>
              <a:t>But I am an seven,and I want these animals to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</a:rPr>
              <a:t> las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7" dur="indefinite" restart="never" nodeType="tmRoot">
          <p:childTnLst>
            <p:seq>
              <p:cTn id="488" dur="indefinite" nodeType="mainSeq">
                <p:childTnLst>
                  <p:par>
                    <p:cTn id="489" nodeType="clickEffect" fill="hold">
                      <p:stCondLst>
                        <p:cond delay="0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5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4" name="Picture 2" descr="灯泡"/>
          <p:cNvPicPr/>
          <p:nvPr/>
        </p:nvPicPr>
        <p:blipFill>
          <a:blip r:embed="rId1"/>
          <a:stretch/>
        </p:blipFill>
        <p:spPr>
          <a:xfrm>
            <a:off x="1965240" y="1755720"/>
            <a:ext cx="3805200" cy="423072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灯泡"/>
          <p:cNvPicPr/>
          <p:nvPr/>
        </p:nvPicPr>
        <p:blipFill>
          <a:blip r:embed="rId2"/>
          <a:stretch/>
        </p:blipFill>
        <p:spPr>
          <a:xfrm>
            <a:off x="10437840" y="-384120"/>
            <a:ext cx="1036440" cy="1149120"/>
          </a:xfrm>
          <a:prstGeom prst="rect">
            <a:avLst/>
          </a:prstGeom>
          <a:ln w="0">
            <a:noFill/>
          </a:ln>
        </p:spPr>
      </p:pic>
      <p:sp>
        <p:nvSpPr>
          <p:cNvPr id="616" name="Oval 4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</a:rPr>
              <a:t>Id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7" name="Picture 5" descr="灯泡"/>
          <p:cNvPicPr/>
          <p:nvPr/>
        </p:nvPicPr>
        <p:blipFill>
          <a:blip r:embed="rId3"/>
          <a:stretch/>
        </p:blipFill>
        <p:spPr>
          <a:xfrm>
            <a:off x="7188120" y="230508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618" name="Picture 6" descr="灯泡"/>
          <p:cNvPicPr/>
          <p:nvPr/>
        </p:nvPicPr>
        <p:blipFill>
          <a:blip r:embed="rId4"/>
          <a:stretch/>
        </p:blipFill>
        <p:spPr>
          <a:xfrm>
            <a:off x="11090160" y="269568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619" name="Picture 7" descr="灯泡"/>
          <p:cNvPicPr/>
          <p:nvPr/>
        </p:nvPicPr>
        <p:blipFill>
          <a:blip r:embed="rId5"/>
          <a:stretch/>
        </p:blipFill>
        <p:spPr>
          <a:xfrm>
            <a:off x="4195800" y="5762520"/>
            <a:ext cx="1036440" cy="1154160"/>
          </a:xfrm>
          <a:prstGeom prst="rect">
            <a:avLst/>
          </a:prstGeom>
          <a:ln w="0">
            <a:noFill/>
          </a:ln>
        </p:spPr>
      </p:pic>
      <p:pic>
        <p:nvPicPr>
          <p:cNvPr id="620" name="Picture 8" descr="灯泡"/>
          <p:cNvPicPr/>
          <p:nvPr/>
        </p:nvPicPr>
        <p:blipFill>
          <a:blip r:embed="rId6"/>
          <a:stretch/>
        </p:blipFill>
        <p:spPr>
          <a:xfrm>
            <a:off x="8305920" y="5537160"/>
            <a:ext cx="1038240" cy="1154160"/>
          </a:xfrm>
          <a:prstGeom prst="rect">
            <a:avLst/>
          </a:prstGeom>
          <a:ln w="0">
            <a:noFill/>
          </a:ln>
        </p:spPr>
      </p:pic>
      <p:pic>
        <p:nvPicPr>
          <p:cNvPr id="621" name="Picture 9" descr="灯泡"/>
          <p:cNvPicPr/>
          <p:nvPr/>
        </p:nvPicPr>
        <p:blipFill>
          <a:blip r:embed="rId7"/>
          <a:stretch/>
        </p:blipFill>
        <p:spPr>
          <a:xfrm>
            <a:off x="5035680" y="720720"/>
            <a:ext cx="1036440" cy="1154160"/>
          </a:xfrm>
          <a:prstGeom prst="rect">
            <a:avLst/>
          </a:prstGeom>
          <a:ln w="0">
            <a:noFill/>
          </a:ln>
        </p:spPr>
      </p:pic>
      <p:pic>
        <p:nvPicPr>
          <p:cNvPr id="622" name="Picture 10" descr="灯泡"/>
          <p:cNvPicPr/>
          <p:nvPr/>
        </p:nvPicPr>
        <p:blipFill>
          <a:blip r:embed="rId8"/>
          <a:stretch/>
        </p:blipFill>
        <p:spPr>
          <a:xfrm>
            <a:off x="803160" y="4562640"/>
            <a:ext cx="1036800" cy="1152360"/>
          </a:xfrm>
          <a:prstGeom prst="rect">
            <a:avLst/>
          </a:prstGeom>
          <a:ln w="0">
            <a:noFill/>
          </a:ln>
        </p:spPr>
      </p:pic>
      <p:pic>
        <p:nvPicPr>
          <p:cNvPr id="623" name="Picture 11" descr="灯泡"/>
          <p:cNvPicPr/>
          <p:nvPr/>
        </p:nvPicPr>
        <p:blipFill>
          <a:blip r:embed="rId9"/>
          <a:stretch/>
        </p:blipFill>
        <p:spPr>
          <a:xfrm>
            <a:off x="-61920" y="90360"/>
            <a:ext cx="1030320" cy="11541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12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nodeType="clickEffect" fill="hold">
                      <p:stCondLst>
                        <p:cond delay="0"/>
                      </p:stCondLst>
                      <p:childTnLst>
                        <p:par>
                          <p:cTn id="5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07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08" dur="500" autoRev="1" fill="hold"/>
                                        <p:tgtEl>
                                          <p:spTgt spid="6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0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1" dur="500" autoRev="1" fill="hold"/>
                                        <p:tgtEl>
                                          <p:spTgt spid="61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4" dur="500" autoRev="1" fill="hold"/>
                                        <p:tgtEl>
                                          <p:spTgt spid="6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6" dur="1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17" dur="500" autoRev="1" fill="hold"/>
                                        <p:tgtEl>
                                          <p:spTgt spid="6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26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19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0" dur="500" autoRev="1" fill="hold"/>
                                        <p:tgtEl>
                                          <p:spTgt spid="6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3" dur="250" autoRev="1" fill="hold"/>
                                        <p:tgtEl>
                                          <p:spTgt spid="62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6" dur="250" autoRev="1" fill="hold"/>
                                        <p:tgtEl>
                                          <p:spTgt spid="62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2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29" dur="250" autoRev="1" fill="hold"/>
                                        <p:tgtEl>
                                          <p:spTgt spid="6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3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2" descr="内容2"/>
          <p:cNvPicPr/>
          <p:nvPr/>
        </p:nvPicPr>
        <p:blipFill>
          <a:blip r:embed="rId1"/>
          <a:stretch/>
        </p:blipFill>
        <p:spPr>
          <a:xfrm>
            <a:off x="1584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626" name="Text Box 3"/>
          <p:cNvSpPr/>
          <p:nvPr/>
        </p:nvSpPr>
        <p:spPr>
          <a:xfrm>
            <a:off x="2328840" y="3013200"/>
            <a:ext cx="7729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Text Box 4"/>
          <p:cNvSpPr/>
          <p:nvPr/>
        </p:nvSpPr>
        <p:spPr>
          <a:xfrm>
            <a:off x="2533680" y="1739880"/>
            <a:ext cx="795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大                一定是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simple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的，复杂的是执行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Text Box 5"/>
          <p:cNvSpPr/>
          <p:nvPr/>
        </p:nvSpPr>
        <p:spPr>
          <a:xfrm>
            <a:off x="2546280" y="3005640"/>
            <a:ext cx="7856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不是好                   太宏大，只是你还没想到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世界上没有想不到的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A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，只有不行动的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Text Box 6"/>
          <p:cNvSpPr/>
          <p:nvPr/>
        </p:nvSpPr>
        <p:spPr>
          <a:xfrm>
            <a:off x="2097000" y="4775040"/>
            <a:ext cx="792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经济时代，创意和市场挂钩，设计正戴着镣铐跳舞，但                  是无限的。不能在生活中自由，至少能在脑海里自由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0" name="Picture 7" descr="我型我塑gif小"/>
          <p:cNvPicPr/>
          <p:nvPr/>
        </p:nvPicPr>
        <p:blipFill>
          <a:blip r:embed="rId2"/>
          <a:stretch/>
        </p:blipFill>
        <p:spPr>
          <a:xfrm>
            <a:off x="7610400" y="1380960"/>
            <a:ext cx="2089080" cy="2955960"/>
          </a:xfrm>
          <a:prstGeom prst="rect">
            <a:avLst/>
          </a:prstGeom>
          <a:ln w="0">
            <a:noFill/>
          </a:ln>
        </p:spPr>
      </p:pic>
      <p:sp>
        <p:nvSpPr>
          <p:cNvPr id="631" name="Oval 8"/>
          <p:cNvSpPr/>
          <p:nvPr/>
        </p:nvSpPr>
        <p:spPr>
          <a:xfrm>
            <a:off x="3365640" y="2719440"/>
            <a:ext cx="8539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Oval 9"/>
          <p:cNvSpPr/>
          <p:nvPr/>
        </p:nvSpPr>
        <p:spPr>
          <a:xfrm>
            <a:off x="2968560" y="152712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Oval 10"/>
          <p:cNvSpPr/>
          <p:nvPr/>
        </p:nvSpPr>
        <p:spPr>
          <a:xfrm>
            <a:off x="8610480" y="437832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创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Text Box 4"/>
          <p:cNvSpPr/>
          <p:nvPr/>
        </p:nvSpPr>
        <p:spPr>
          <a:xfrm>
            <a:off x="744480" y="64371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3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nodeType="clickEffect" fill="hold">
                      <p:stCondLst>
                        <p:cond delay="0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2" dur="1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35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1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40">
                                  <p:stCondLst>
                                    <p:cond delay="5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Text Box 2"/>
          <p:cNvSpPr/>
          <p:nvPr/>
        </p:nvSpPr>
        <p:spPr>
          <a:xfrm>
            <a:off x="2044800" y="2149920"/>
            <a:ext cx="8373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远远不只这些</a:t>
            </a: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....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What do you think of according "</a:t>
            </a:r>
            <a:r>
              <a:rPr b="0" lang="zh-CN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imple</a:t>
            </a: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,</a:t>
            </a:r>
            <a:r>
              <a:rPr b="0" lang="zh-CN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ful</a:t>
            </a: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 and </a:t>
            </a:r>
            <a:r>
              <a:rPr b="0" lang="zh-CN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"</a:t>
            </a: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这些都是我们创作的源泉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hese are the </a:t>
            </a:r>
            <a:r>
              <a:rPr b="0" lang="zh-CN" sz="24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ources </a:t>
            </a: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of our creatio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2" dur="indefinite" restart="never" nodeType="tmRoot">
          <p:childTnLst>
            <p:seq>
              <p:cTn id="583" dur="indefinite" nodeType="mainSeq">
                <p:childTnLst>
                  <p:par>
                    <p:cTn id="584" nodeType="clickEffect" fill="hold">
                      <p:stCondLst>
                        <p:cond delay="0"/>
                      </p:stCondLst>
                      <p:childTnLst>
                        <p:par>
                          <p:cTn id="5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8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9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8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6" name="Picture 2" descr="wps封面1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637" name="Text Box 3"/>
          <p:cNvSpPr/>
          <p:nvPr/>
        </p:nvSpPr>
        <p:spPr>
          <a:xfrm>
            <a:off x="544680" y="491040"/>
            <a:ext cx="6332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8000"/>
                </a:solidFill>
                <a:latin typeface="Calibri"/>
                <a:ea typeface="微软雅黑"/>
              </a:rPr>
              <a:t>谢</a:t>
            </a:r>
            <a:r>
              <a:rPr b="0" lang="zh-CN" sz="8800" spc="-1" strike="noStrike">
                <a:solidFill>
                  <a:srgbClr val="ff6699"/>
                </a:solidFill>
                <a:latin typeface="Calibri"/>
                <a:ea typeface="微软雅黑"/>
              </a:rPr>
              <a:t>谢</a:t>
            </a:r>
            <a:r>
              <a:rPr b="0" lang="zh-CN" sz="8800" spc="-1" strike="noStrike">
                <a:solidFill>
                  <a:srgbClr val="008000"/>
                </a:solidFill>
                <a:latin typeface="Calibri"/>
                <a:ea typeface="微软雅黑"/>
              </a:rPr>
              <a:t>观看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Text Box 4"/>
          <p:cNvSpPr/>
          <p:nvPr/>
        </p:nvSpPr>
        <p:spPr>
          <a:xfrm>
            <a:off x="7402680" y="2580840"/>
            <a:ext cx="280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H</a:t>
            </a:r>
            <a:r>
              <a:rPr b="0" lang="zh-CN" sz="4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A</a:t>
            </a:r>
            <a:r>
              <a:rPr b="0" lang="zh-CN" sz="4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NK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0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38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1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Picture 2" descr="wps目录页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499" name="AutoShape 3"/>
          <p:cNvSpPr/>
          <p:nvPr/>
        </p:nvSpPr>
        <p:spPr>
          <a:xfrm flipH="1">
            <a:off x="5000040" y="2311560"/>
            <a:ext cx="1996920" cy="4622760"/>
          </a:xfrm>
          <a:prstGeom prst="triangle">
            <a:avLst>
              <a:gd name="adj" fmla="val 50000"/>
            </a:avLst>
          </a:prstGeom>
          <a:solidFill>
            <a:srgbClr val="663300"/>
          </a:solidFill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00" name="AutoShape 4"/>
          <p:cNvCxnSpPr>
            <a:stCxn id="499" idx="5"/>
          </p:cNvCxnSpPr>
          <p:nvPr/>
        </p:nvCxnSpPr>
        <p:spPr>
          <a:xfrm rot="10800000">
            <a:off x="3378960" y="3555360"/>
            <a:ext cx="2120040" cy="1067400"/>
          </a:xfrm>
          <a:prstGeom prst="curvedConnector5">
            <a:avLst>
              <a:gd name="adj1" fmla="val 61735"/>
              <a:gd name="adj2" fmla="val 50000"/>
              <a:gd name="adj3" fmla="val 61735"/>
            </a:avLst>
          </a:prstGeom>
          <a:ln w="0">
            <a:solidFill>
              <a:srgbClr val="663300"/>
            </a:solidFill>
          </a:ln>
        </p:spPr>
      </p:cxnSp>
      <p:cxnSp>
        <p:nvCxnSpPr>
          <p:cNvPr id="501" name="AutoShape 5"/>
          <p:cNvCxnSpPr>
            <a:stCxn id="499" idx="1"/>
          </p:cNvCxnSpPr>
          <p:nvPr/>
        </p:nvCxnSpPr>
        <p:spPr>
          <a:xfrm flipV="1">
            <a:off x="6497280" y="3315600"/>
            <a:ext cx="1685160" cy="1307160"/>
          </a:xfrm>
          <a:prstGeom prst="curvedConnector5">
            <a:avLst>
              <a:gd name="adj1" fmla="val 64829"/>
              <a:gd name="adj2" fmla="val 50000"/>
              <a:gd name="adj3" fmla="val 64829"/>
            </a:avLst>
          </a:prstGeom>
          <a:ln w="0">
            <a:solidFill>
              <a:srgbClr val="663300"/>
            </a:solidFill>
          </a:ln>
        </p:spPr>
      </p:cxnSp>
      <p:sp>
        <p:nvSpPr>
          <p:cNvPr id="502" name="曲线 82"/>
          <p:cNvSpPr/>
          <p:nvPr/>
        </p:nvSpPr>
        <p:spPr>
          <a:xfrm>
            <a:off x="4332240" y="2468520"/>
            <a:ext cx="1419120" cy="11098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0574"/>
                </a:moveTo>
                <a:cubicBezTo>
                  <a:pt x="20913" y="20574"/>
                  <a:pt x="19076" y="21600"/>
                  <a:pt x="17481" y="20574"/>
                </a:cubicBezTo>
                <a:cubicBezTo>
                  <a:pt x="15885" y="19549"/>
                  <a:pt x="14242" y="16153"/>
                  <a:pt x="11998" y="14449"/>
                </a:cubicBezTo>
                <a:cubicBezTo>
                  <a:pt x="9755" y="12745"/>
                  <a:pt x="5907" y="12498"/>
                  <a:pt x="4002" y="10361"/>
                </a:cubicBezTo>
                <a:cubicBezTo>
                  <a:pt x="2098" y="8225"/>
                  <a:pt x="1140" y="3210"/>
                  <a:pt x="570" y="1605"/>
                </a:cubicBezTo>
                <a:cubicBezTo>
                  <a:pt x="0" y="0"/>
                  <a:pt x="570" y="876"/>
                  <a:pt x="570" y="728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曲线 83"/>
          <p:cNvSpPr/>
          <p:nvPr/>
        </p:nvSpPr>
        <p:spPr>
          <a:xfrm>
            <a:off x="6126120" y="2371680"/>
            <a:ext cx="1246320" cy="824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00"/>
                </a:moveTo>
                <a:cubicBezTo>
                  <a:pt x="517" y="20685"/>
                  <a:pt x="1089" y="17343"/>
                  <a:pt x="3126" y="16096"/>
                </a:cubicBezTo>
                <a:cubicBezTo>
                  <a:pt x="5163" y="14848"/>
                  <a:pt x="9148" y="16811"/>
                  <a:pt x="12231" y="14133"/>
                </a:cubicBezTo>
                <a:cubicBezTo>
                  <a:pt x="15313" y="11456"/>
                  <a:pt x="20036" y="2361"/>
                  <a:pt x="21600" y="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曲线 84"/>
          <p:cNvSpPr/>
          <p:nvPr/>
        </p:nvSpPr>
        <p:spPr>
          <a:xfrm>
            <a:off x="5499000" y="1530360"/>
            <a:ext cx="536760" cy="9302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21600"/>
                </a:moveTo>
                <a:cubicBezTo>
                  <a:pt x="20809" y="20848"/>
                  <a:pt x="18896" y="18061"/>
                  <a:pt x="16780" y="17073"/>
                </a:cubicBezTo>
                <a:cubicBezTo>
                  <a:pt x="14663" y="16085"/>
                  <a:pt x="11526" y="17545"/>
                  <a:pt x="8925" y="15687"/>
                </a:cubicBezTo>
                <a:cubicBezTo>
                  <a:pt x="6324" y="13829"/>
                  <a:pt x="2193" y="8536"/>
                  <a:pt x="1096" y="5927"/>
                </a:cubicBezTo>
                <a:cubicBezTo>
                  <a:pt x="0" y="3317"/>
                  <a:pt x="2091" y="987"/>
                  <a:pt x="2295" y="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Oval 9"/>
          <p:cNvSpPr/>
          <p:nvPr/>
        </p:nvSpPr>
        <p:spPr>
          <a:xfrm>
            <a:off x="2238480" y="319716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Text Box 10"/>
          <p:cNvSpPr/>
          <p:nvPr/>
        </p:nvSpPr>
        <p:spPr>
          <a:xfrm>
            <a:off x="2298600" y="3278160"/>
            <a:ext cx="1139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</a:rPr>
              <a:t>Wat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Oval 11"/>
          <p:cNvSpPr/>
          <p:nvPr/>
        </p:nvSpPr>
        <p:spPr>
          <a:xfrm>
            <a:off x="8183520" y="2732040"/>
            <a:ext cx="1335240" cy="127476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Text Box 12"/>
          <p:cNvSpPr/>
          <p:nvPr/>
        </p:nvSpPr>
        <p:spPr>
          <a:xfrm>
            <a:off x="8211960" y="2902320"/>
            <a:ext cx="1244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</a:rPr>
              <a:t>Tea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Oval 13"/>
          <p:cNvSpPr/>
          <p:nvPr/>
        </p:nvSpPr>
        <p:spPr>
          <a:xfrm>
            <a:off x="3222720" y="156852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Oval 14"/>
          <p:cNvSpPr/>
          <p:nvPr/>
        </p:nvSpPr>
        <p:spPr>
          <a:xfrm>
            <a:off x="6981840" y="125892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Oval 15"/>
          <p:cNvSpPr/>
          <p:nvPr/>
        </p:nvSpPr>
        <p:spPr>
          <a:xfrm>
            <a:off x="4917960" y="336600"/>
            <a:ext cx="1320840" cy="12160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Text Box 16"/>
          <p:cNvSpPr/>
          <p:nvPr/>
        </p:nvSpPr>
        <p:spPr>
          <a:xfrm>
            <a:off x="3335400" y="1709280"/>
            <a:ext cx="104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</a:rPr>
              <a:t>Hu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Text Box 17"/>
          <p:cNvSpPr/>
          <p:nvPr/>
        </p:nvSpPr>
        <p:spPr>
          <a:xfrm>
            <a:off x="7130880" y="1371960"/>
            <a:ext cx="1111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微软雅黑"/>
                <a:ea typeface="微软雅黑"/>
              </a:rPr>
              <a:t>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Po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Text Box 18"/>
          <p:cNvSpPr/>
          <p:nvPr/>
        </p:nvSpPr>
        <p:spPr>
          <a:xfrm>
            <a:off x="4986360" y="494280"/>
            <a:ext cx="118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8000"/>
                </a:solidFill>
                <a:latin typeface="微软雅黑"/>
                <a:ea typeface="微软雅黑"/>
              </a:rPr>
              <a:t>创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Ide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Text Box 19"/>
          <p:cNvSpPr/>
          <p:nvPr/>
        </p:nvSpPr>
        <p:spPr>
          <a:xfrm>
            <a:off x="1519200" y="5708880"/>
            <a:ext cx="949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6699"/>
                </a:solidFill>
                <a:latin typeface="Microsoft Sans Serif"/>
              </a:rPr>
              <a:t>What's Simple ,Powerful and Fre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Text Box 20"/>
          <p:cNvSpPr/>
          <p:nvPr/>
        </p:nvSpPr>
        <p:spPr>
          <a:xfrm>
            <a:off x="9875880" y="568476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6699"/>
                </a:solidFill>
                <a:latin typeface="Microsoft Sans Serif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5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6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7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499819">
                                      <p:cBhvr>
                                        <p:cTn id="18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19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6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6" presetSubtype="16">
                                  <p:stCondLst>
                                    <p:cond delay="6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75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">
                                  <p:stCondLst>
                                    <p:cond delay="8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6" presetSubtype="16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Oval 2"/>
          <p:cNvSpPr/>
          <p:nvPr/>
        </p:nvSpPr>
        <p:spPr>
          <a:xfrm>
            <a:off x="3124080" y="3465360"/>
            <a:ext cx="22748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ZhengBibo_2009-10-13 10:23:45"/>
          <p:cNvSpPr/>
          <p:nvPr/>
        </p:nvSpPr>
        <p:spPr>
          <a:xfrm rot="5400000">
            <a:off x="1767960" y="176040"/>
            <a:ext cx="83952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曲线 112"/>
          <p:cNvSpPr/>
          <p:nvPr/>
        </p:nvSpPr>
        <p:spPr>
          <a:xfrm>
            <a:off x="3352680" y="15840"/>
            <a:ext cx="1078200" cy="34783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13903" y="0"/>
                </a:moveTo>
                <a:cubicBezTo>
                  <a:pt x="11905" y="656"/>
                  <a:pt x="3656" y="2500"/>
                  <a:pt x="1828" y="3960"/>
                </a:cubicBezTo>
                <a:cubicBezTo>
                  <a:pt x="0" y="5420"/>
                  <a:pt x="1020" y="7593"/>
                  <a:pt x="2848" y="8746"/>
                </a:cubicBezTo>
                <a:cubicBezTo>
                  <a:pt x="4677" y="9898"/>
                  <a:pt x="9864" y="9870"/>
                  <a:pt x="12883" y="10890"/>
                </a:cubicBezTo>
                <a:cubicBezTo>
                  <a:pt x="15902" y="11910"/>
                  <a:pt x="20239" y="13286"/>
                  <a:pt x="20919" y="14858"/>
                </a:cubicBezTo>
                <a:cubicBezTo>
                  <a:pt x="21600" y="16430"/>
                  <a:pt x="17220" y="19210"/>
                  <a:pt x="16880" y="20307"/>
                </a:cubicBezTo>
                <a:cubicBezTo>
                  <a:pt x="16540" y="21404"/>
                  <a:pt x="18581" y="21320"/>
                  <a:pt x="18921" y="21460"/>
                </a:cubicBezTo>
                <a:cubicBezTo>
                  <a:pt x="19261" y="21600"/>
                  <a:pt x="18921" y="21187"/>
                  <a:pt x="18921" y="21131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ZhengBibo_2009-10-13 10:23:45"/>
          <p:cNvSpPr/>
          <p:nvPr/>
        </p:nvSpPr>
        <p:spPr>
          <a:xfrm rot="5400000">
            <a:off x="8345160" y="74916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ZhengBibo_2009-10-13 10:23:45"/>
          <p:cNvSpPr/>
          <p:nvPr/>
        </p:nvSpPr>
        <p:spPr>
          <a:xfrm rot="5400000">
            <a:off x="2567520" y="3013560"/>
            <a:ext cx="84636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ZhengBibo_2009-10-13 10:23:45"/>
          <p:cNvSpPr/>
          <p:nvPr/>
        </p:nvSpPr>
        <p:spPr>
          <a:xfrm rot="5400000">
            <a:off x="9913680" y="3862080"/>
            <a:ext cx="84780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ZhengBibo_2009-10-13 10:23:45"/>
          <p:cNvSpPr/>
          <p:nvPr/>
        </p:nvSpPr>
        <p:spPr>
          <a:xfrm rot="5400000">
            <a:off x="534240" y="3564000"/>
            <a:ext cx="84636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ZhengBibo_2009-10-13 10:23:45"/>
          <p:cNvSpPr/>
          <p:nvPr/>
        </p:nvSpPr>
        <p:spPr>
          <a:xfrm rot="5400000">
            <a:off x="4916880" y="6098400"/>
            <a:ext cx="84636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ZhengBibo_2009-10-13 10:23:45"/>
          <p:cNvSpPr/>
          <p:nvPr/>
        </p:nvSpPr>
        <p:spPr>
          <a:xfrm rot="5400000">
            <a:off x="6476400" y="288756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ZhengBibo_2009-10-13 10:23:45"/>
          <p:cNvSpPr/>
          <p:nvPr/>
        </p:nvSpPr>
        <p:spPr>
          <a:xfrm rot="5400000">
            <a:off x="10888920" y="120564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ZhengBibo_2009-10-13 10:23:45"/>
          <p:cNvSpPr/>
          <p:nvPr/>
        </p:nvSpPr>
        <p:spPr>
          <a:xfrm rot="5400000">
            <a:off x="4361400" y="1281600"/>
            <a:ext cx="84636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ZhengBibo_2009-10-13 10:23:45"/>
          <p:cNvSpPr/>
          <p:nvPr/>
        </p:nvSpPr>
        <p:spPr>
          <a:xfrm rot="5400000">
            <a:off x="8323560" y="587448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ZhengBibo_2009-10-13 10:23:45"/>
          <p:cNvSpPr/>
          <p:nvPr/>
        </p:nvSpPr>
        <p:spPr>
          <a:xfrm rot="5400000">
            <a:off x="999720" y="629424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ZhengBibo_2009-10-13 10:23:45"/>
          <p:cNvSpPr/>
          <p:nvPr/>
        </p:nvSpPr>
        <p:spPr>
          <a:xfrm rot="5400000">
            <a:off x="10978920" y="6399000"/>
            <a:ext cx="84780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Text Box 16"/>
          <p:cNvSpPr/>
          <p:nvPr/>
        </p:nvSpPr>
        <p:spPr>
          <a:xfrm>
            <a:off x="3619440" y="4094280"/>
            <a:ext cx="130644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微软雅黑"/>
                <a:ea typeface="微软雅黑"/>
              </a:rPr>
              <a:t>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Wa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Text Box 17"/>
          <p:cNvSpPr/>
          <p:nvPr/>
        </p:nvSpPr>
        <p:spPr>
          <a:xfrm>
            <a:off x="5721480" y="4676040"/>
            <a:ext cx="777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0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0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6" presetSubtype="16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9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2" descr="内容2"/>
          <p:cNvPicPr/>
          <p:nvPr/>
        </p:nvPicPr>
        <p:blipFill>
          <a:blip r:embed="rId1"/>
          <a:stretch/>
        </p:blipFill>
        <p:spPr>
          <a:xfrm>
            <a:off x="3240" y="1440"/>
            <a:ext cx="12185640" cy="6855120"/>
          </a:xfrm>
          <a:prstGeom prst="rect">
            <a:avLst/>
          </a:prstGeom>
          <a:ln w="0">
            <a:noFill/>
          </a:ln>
        </p:spPr>
      </p:pic>
      <p:sp>
        <p:nvSpPr>
          <p:cNvPr id="534" name="Oval 3"/>
          <p:cNvSpPr/>
          <p:nvPr/>
        </p:nvSpPr>
        <p:spPr>
          <a:xfrm>
            <a:off x="2104920" y="3736800"/>
            <a:ext cx="85428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1325520" y="2389320"/>
            <a:ext cx="967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在人类的童年时期，对于              兼有养育与毁灭能力、不可捉摸的性情，产生了又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又怕的感情，产生了水崇拜。通过赋予水以神的灵性，祈祷水给人类带来安宁、丰收和幸福。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It's more</a:t>
            </a:r>
            <a:r>
              <a:rPr b="0" lang="zh-CN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 powerful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than you thought.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　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Oval 5"/>
          <p:cNvSpPr/>
          <p:nvPr/>
        </p:nvSpPr>
        <p:spPr>
          <a:xfrm>
            <a:off x="2631960" y="1082520"/>
            <a:ext cx="85428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Text Box 6"/>
          <p:cNvSpPr/>
          <p:nvPr/>
        </p:nvSpPr>
        <p:spPr>
          <a:xfrm>
            <a:off x="3484440" y="1376640"/>
            <a:ext cx="70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（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H₂O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）由氢（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H)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、氧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(O)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两种元素组成。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It's </a:t>
            </a:r>
            <a:r>
              <a:rPr b="0" lang="zh-CN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simple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enough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Oval 7"/>
          <p:cNvSpPr/>
          <p:nvPr/>
        </p:nvSpPr>
        <p:spPr>
          <a:xfrm>
            <a:off x="4587840" y="198756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Text Box 8"/>
          <p:cNvSpPr/>
          <p:nvPr/>
        </p:nvSpPr>
        <p:spPr>
          <a:xfrm>
            <a:off x="1368360" y="4028040"/>
            <a:ext cx="9753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，由于它的灿烂透明，它的淡青色的光辉而令人迷恋，水把周围的一切如画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反映出来，把这一切委曲的摇曳着，我们看到的水是第一流的写生家。—— </a:t>
            </a: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车尔尼雪夫斯基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         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0">
                                  <p:stCondLst>
                                    <p:cond delay="2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9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40">
                                  <p:stCondLst>
                                    <p:cond delay="10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Picture 2" descr="过渡2"/>
          <p:cNvPicPr/>
          <p:nvPr/>
        </p:nvPicPr>
        <p:blipFill>
          <a:blip r:embed="rId1"/>
          <a:stretch/>
        </p:blipFill>
        <p:spPr>
          <a:xfrm>
            <a:off x="-744480" y="1440"/>
            <a:ext cx="12183840" cy="68551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" descr="过渡2"/>
          <p:cNvPicPr/>
          <p:nvPr/>
        </p:nvPicPr>
        <p:blipFill>
          <a:blip r:embed="rId2"/>
          <a:stretch/>
        </p:blipFill>
        <p:spPr>
          <a:xfrm>
            <a:off x="5062680" y="0"/>
            <a:ext cx="12152160" cy="6835680"/>
          </a:xfrm>
          <a:prstGeom prst="rect">
            <a:avLst/>
          </a:prstGeom>
          <a:ln w="0">
            <a:noFill/>
          </a:ln>
        </p:spPr>
      </p:pic>
      <p:sp>
        <p:nvSpPr>
          <p:cNvPr id="542" name="Text Box 4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ZhengBibo_2009-10-13 10:23:45"/>
          <p:cNvSpPr/>
          <p:nvPr/>
        </p:nvSpPr>
        <p:spPr>
          <a:xfrm rot="5400000">
            <a:off x="1914840" y="111672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ZhengBibo_2009-10-13 10:23:45"/>
          <p:cNvSpPr/>
          <p:nvPr/>
        </p:nvSpPr>
        <p:spPr>
          <a:xfrm rot="5400000">
            <a:off x="1937160" y="260892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ZhengBibo_2009-10-13 10:23:45"/>
          <p:cNvSpPr/>
          <p:nvPr/>
        </p:nvSpPr>
        <p:spPr>
          <a:xfrm rot="5400000">
            <a:off x="1929600" y="4177440"/>
            <a:ext cx="846000" cy="4320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ZhengBibo_2009-10-13 10:23:45"/>
          <p:cNvSpPr/>
          <p:nvPr/>
        </p:nvSpPr>
        <p:spPr>
          <a:xfrm rot="5400000">
            <a:off x="1958400" y="581328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ZhengBibo_2009-10-13 10:23:45"/>
          <p:cNvSpPr/>
          <p:nvPr/>
        </p:nvSpPr>
        <p:spPr>
          <a:xfrm rot="5400000">
            <a:off x="9267480" y="96660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ZhengBibo_2009-10-13 10:23:45"/>
          <p:cNvSpPr/>
          <p:nvPr/>
        </p:nvSpPr>
        <p:spPr>
          <a:xfrm rot="5400000">
            <a:off x="9297360" y="2452680"/>
            <a:ext cx="84636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ZhengBibo_2009-10-13 10:23:45"/>
          <p:cNvSpPr/>
          <p:nvPr/>
        </p:nvSpPr>
        <p:spPr>
          <a:xfrm rot="5400000">
            <a:off x="9357840" y="3922560"/>
            <a:ext cx="846000" cy="43020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ZhengBibo_2009-10-13 10:23:45"/>
          <p:cNvSpPr/>
          <p:nvPr/>
        </p:nvSpPr>
        <p:spPr>
          <a:xfrm rot="5400000">
            <a:off x="9357120" y="5693400"/>
            <a:ext cx="846000" cy="431640"/>
          </a:xfrm>
          <a:custGeom>
            <a:avLst/>
            <a:gdLst/>
            <a:ahLst/>
            <a:rect l="l" t="t" r="r" b="b"/>
            <a:pathLst>
              <a:path w="8000" h="3154">
                <a:moveTo>
                  <a:pt x="8000" y="1577"/>
                </a:moveTo>
                <a:cubicBezTo>
                  <a:pt x="8000" y="1818"/>
                  <a:pt x="7931" y="2087"/>
                  <a:pt x="7804" y="2300"/>
                </a:cubicBezTo>
                <a:cubicBezTo>
                  <a:pt x="7677" y="2513"/>
                  <a:pt x="7478" y="2717"/>
                  <a:pt x="7236" y="2853"/>
                </a:cubicBezTo>
                <a:cubicBezTo>
                  <a:pt x="6994" y="2989"/>
                  <a:pt x="6684" y="3082"/>
                  <a:pt x="6351" y="3118"/>
                </a:cubicBezTo>
                <a:cubicBezTo>
                  <a:pt x="6018" y="3154"/>
                  <a:pt x="5628" y="3128"/>
                  <a:pt x="5236" y="3071"/>
                </a:cubicBezTo>
                <a:cubicBezTo>
                  <a:pt x="4844" y="3014"/>
                  <a:pt x="4412" y="2895"/>
                  <a:pt x="4000" y="2777"/>
                </a:cubicBezTo>
                <a:cubicBezTo>
                  <a:pt x="3588" y="2659"/>
                  <a:pt x="3156" y="2499"/>
                  <a:pt x="2764" y="2366"/>
                </a:cubicBezTo>
                <a:cubicBezTo>
                  <a:pt x="2372" y="2233"/>
                  <a:pt x="1982" y="2086"/>
                  <a:pt x="1649" y="1977"/>
                </a:cubicBezTo>
                <a:cubicBezTo>
                  <a:pt x="1316" y="1868"/>
                  <a:pt x="1006" y="1776"/>
                  <a:pt x="764" y="1712"/>
                </a:cubicBezTo>
                <a:cubicBezTo>
                  <a:pt x="522" y="1648"/>
                  <a:pt x="323" y="1617"/>
                  <a:pt x="196" y="1595"/>
                </a:cubicBezTo>
                <a:cubicBezTo>
                  <a:pt x="69" y="1573"/>
                  <a:pt x="0" y="1571"/>
                  <a:pt x="0" y="1577"/>
                </a:cubicBezTo>
                <a:cubicBezTo>
                  <a:pt x="0" y="1583"/>
                  <a:pt x="69" y="1581"/>
                  <a:pt x="196" y="1559"/>
                </a:cubicBezTo>
                <a:cubicBezTo>
                  <a:pt x="323" y="1537"/>
                  <a:pt x="522" y="1506"/>
                  <a:pt x="764" y="1442"/>
                </a:cubicBezTo>
                <a:cubicBezTo>
                  <a:pt x="1006" y="1378"/>
                  <a:pt x="1316" y="1286"/>
                  <a:pt x="1649" y="1177"/>
                </a:cubicBezTo>
                <a:cubicBezTo>
                  <a:pt x="1982" y="1068"/>
                  <a:pt x="2372" y="921"/>
                  <a:pt x="2764" y="788"/>
                </a:cubicBezTo>
                <a:cubicBezTo>
                  <a:pt x="3156" y="655"/>
                  <a:pt x="3588" y="495"/>
                  <a:pt x="4000" y="377"/>
                </a:cubicBezTo>
                <a:cubicBezTo>
                  <a:pt x="4412" y="259"/>
                  <a:pt x="4844" y="140"/>
                  <a:pt x="5236" y="83"/>
                </a:cubicBezTo>
                <a:cubicBezTo>
                  <a:pt x="5628" y="26"/>
                  <a:pt x="6018" y="0"/>
                  <a:pt x="6351" y="36"/>
                </a:cubicBezTo>
                <a:cubicBezTo>
                  <a:pt x="6684" y="72"/>
                  <a:pt x="6994" y="165"/>
                  <a:pt x="7236" y="301"/>
                </a:cubicBezTo>
                <a:cubicBezTo>
                  <a:pt x="7478" y="437"/>
                  <a:pt x="7677" y="641"/>
                  <a:pt x="7804" y="854"/>
                </a:cubicBezTo>
                <a:cubicBezTo>
                  <a:pt x="7931" y="1067"/>
                  <a:pt x="8000" y="1336"/>
                  <a:pt x="8000" y="1577"/>
                </a:cubicBezTo>
                <a:close/>
              </a:path>
            </a:pathLst>
          </a:custGeom>
          <a:gradFill rotWithShape="0">
            <a:gsLst>
              <a:gs pos="0">
                <a:srgbClr val="ff7c80">
                  <a:alpha val="86274"/>
                </a:srgbClr>
              </a:gs>
              <a:gs pos="100000">
                <a:srgbClr val="e06d70"/>
              </a:gs>
            </a:gsLst>
            <a:lin ang="5400000"/>
          </a:gradFill>
          <a:ln w="9360">
            <a:solidFill>
              <a:srgbClr val="ff7c8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曲线 200"/>
          <p:cNvSpPr/>
          <p:nvPr/>
        </p:nvSpPr>
        <p:spPr>
          <a:xfrm>
            <a:off x="4044960" y="-9360"/>
            <a:ext cx="1805040" cy="3355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090" y="0"/>
                </a:moveTo>
                <a:cubicBezTo>
                  <a:pt x="21090" y="738"/>
                  <a:pt x="21600" y="2990"/>
                  <a:pt x="21090" y="4435"/>
                </a:cubicBezTo>
                <a:cubicBezTo>
                  <a:pt x="20581" y="5879"/>
                  <a:pt x="19503" y="7278"/>
                  <a:pt x="18036" y="8678"/>
                </a:cubicBezTo>
                <a:cubicBezTo>
                  <a:pt x="16570" y="10077"/>
                  <a:pt x="14473" y="11424"/>
                  <a:pt x="12292" y="12823"/>
                </a:cubicBezTo>
                <a:cubicBezTo>
                  <a:pt x="10112" y="14223"/>
                  <a:pt x="6693" y="16087"/>
                  <a:pt x="4930" y="17067"/>
                </a:cubicBezTo>
                <a:cubicBezTo>
                  <a:pt x="3168" y="18046"/>
                  <a:pt x="2476" y="18050"/>
                  <a:pt x="1701" y="18707"/>
                </a:cubicBezTo>
                <a:cubicBezTo>
                  <a:pt x="926" y="19364"/>
                  <a:pt x="531" y="20539"/>
                  <a:pt x="265" y="21020"/>
                </a:cubicBezTo>
                <a:cubicBezTo>
                  <a:pt x="0" y="21502"/>
                  <a:pt x="113" y="21502"/>
                  <a:pt x="83" y="2160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Oval 14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</a:rPr>
              <a:t>T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0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4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6" presetSubtype="16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0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554" name="Text Box 3"/>
          <p:cNvSpPr/>
          <p:nvPr/>
        </p:nvSpPr>
        <p:spPr>
          <a:xfrm>
            <a:off x="2314440" y="1738800"/>
            <a:ext cx="808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是一种略咸的透明液体，每个人的眼睛里都有制造眼泪的“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工厂”——“泪腺”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Text Box 4"/>
          <p:cNvSpPr/>
          <p:nvPr/>
        </p:nvSpPr>
        <p:spPr>
          <a:xfrm>
            <a:off x="2270160" y="2957040"/>
            <a:ext cx="8163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严厉的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爸爸只要看见女儿的              心就融化了，好强的男生看见女生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眼泪就什么都愿意去做。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It's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simple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 but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ful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Text Box 5"/>
          <p:cNvSpPr/>
          <p:nvPr/>
        </p:nvSpPr>
        <p:spPr>
          <a:xfrm>
            <a:off x="2809800" y="4450680"/>
            <a:ext cx="811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强忍              不利于健康。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You are</a:t>
            </a:r>
            <a:r>
              <a:rPr b="0" lang="zh-CN" sz="1800" spc="-1" strike="noStrike">
                <a:solidFill>
                  <a:srgbClr val="ff6699"/>
                </a:solidFill>
                <a:latin typeface="微软雅黑"/>
                <a:ea typeface="微软雅黑"/>
              </a:rPr>
              <a:t> free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to let it ou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Oval 6"/>
          <p:cNvSpPr/>
          <p:nvPr/>
        </p:nvSpPr>
        <p:spPr>
          <a:xfrm>
            <a:off x="2976480" y="1428840"/>
            <a:ext cx="85572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Oval 7"/>
          <p:cNvSpPr/>
          <p:nvPr/>
        </p:nvSpPr>
        <p:spPr>
          <a:xfrm>
            <a:off x="5654520" y="269568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Oval 8"/>
          <p:cNvSpPr/>
          <p:nvPr/>
        </p:nvSpPr>
        <p:spPr>
          <a:xfrm>
            <a:off x="3409920" y="4173480"/>
            <a:ext cx="855720" cy="8240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眼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Text Box 4"/>
          <p:cNvSpPr/>
          <p:nvPr/>
        </p:nvSpPr>
        <p:spPr>
          <a:xfrm>
            <a:off x="469800" y="6478560"/>
            <a:ext cx="715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模板下载</a:t>
            </a:r>
            <a:r>
              <a:rPr b="0" lang="zh-CN" sz="16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nodeType="clickEffect" fill="hold">
                      <p:stCondLst>
                        <p:cond delay="0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40">
                                  <p:stCondLst>
                                    <p:cond delay="3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0">
                                  <p:stCondLst>
                                    <p:cond delay="8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拥抱2"/>
          <p:cNvPicPr/>
          <p:nvPr/>
        </p:nvPicPr>
        <p:blipFill>
          <a:blip r:embed="rId1"/>
          <a:stretch/>
        </p:blipFill>
        <p:spPr>
          <a:xfrm>
            <a:off x="4284720" y="260676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3" descr="拥抱"/>
          <p:cNvPicPr/>
          <p:nvPr/>
        </p:nvPicPr>
        <p:blipFill>
          <a:blip r:embed="rId2"/>
          <a:stretch/>
        </p:blipFill>
        <p:spPr>
          <a:xfrm>
            <a:off x="1612800" y="298764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拥抱"/>
          <p:cNvPicPr/>
          <p:nvPr/>
        </p:nvPicPr>
        <p:blipFill>
          <a:blip r:embed="rId3"/>
          <a:stretch/>
        </p:blipFill>
        <p:spPr>
          <a:xfrm>
            <a:off x="1297080" y="4500720"/>
            <a:ext cx="1958760" cy="1968480"/>
          </a:xfrm>
          <a:prstGeom prst="rect">
            <a:avLst/>
          </a:prstGeom>
          <a:ln w="0">
            <a:noFill/>
          </a:ln>
        </p:spPr>
      </p:pic>
      <p:sp>
        <p:nvSpPr>
          <p:cNvPr id="564" name="Oval 5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</a:rPr>
              <a:t>Hu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5" name="Picture 6" descr="拥抱"/>
          <p:cNvPicPr/>
          <p:nvPr/>
        </p:nvPicPr>
        <p:blipFill>
          <a:blip r:embed="rId4"/>
          <a:stretch/>
        </p:blipFill>
        <p:spPr>
          <a:xfrm>
            <a:off x="396720" y="286560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66" name="Picture 7" descr="拥抱"/>
          <p:cNvPicPr/>
          <p:nvPr/>
        </p:nvPicPr>
        <p:blipFill>
          <a:blip r:embed="rId5"/>
          <a:stretch/>
        </p:blipFill>
        <p:spPr>
          <a:xfrm>
            <a:off x="6496200" y="318132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8" descr="拥抱"/>
          <p:cNvPicPr/>
          <p:nvPr/>
        </p:nvPicPr>
        <p:blipFill>
          <a:blip r:embed="rId6"/>
          <a:stretch/>
        </p:blipFill>
        <p:spPr>
          <a:xfrm>
            <a:off x="7315200" y="173340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9" descr="拥抱"/>
          <p:cNvPicPr/>
          <p:nvPr/>
        </p:nvPicPr>
        <p:blipFill>
          <a:blip r:embed="rId7"/>
          <a:stretch/>
        </p:blipFill>
        <p:spPr>
          <a:xfrm>
            <a:off x="5775480" y="177156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0" descr="拥抱"/>
          <p:cNvPicPr/>
          <p:nvPr/>
        </p:nvPicPr>
        <p:blipFill>
          <a:blip r:embed="rId8"/>
          <a:stretch/>
        </p:blipFill>
        <p:spPr>
          <a:xfrm>
            <a:off x="3389400" y="1770120"/>
            <a:ext cx="1958760" cy="196848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11" descr="拥抱"/>
          <p:cNvPicPr/>
          <p:nvPr/>
        </p:nvPicPr>
        <p:blipFill>
          <a:blip r:embed="rId9"/>
          <a:stretch/>
        </p:blipFill>
        <p:spPr>
          <a:xfrm>
            <a:off x="4184640" y="439596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拥抱"/>
          <p:cNvPicPr/>
          <p:nvPr/>
        </p:nvPicPr>
        <p:blipFill>
          <a:blip r:embed="rId10"/>
          <a:stretch/>
        </p:blipFill>
        <p:spPr>
          <a:xfrm>
            <a:off x="9610560" y="4029120"/>
            <a:ext cx="1959120" cy="196848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13" descr="拥抱2"/>
          <p:cNvPicPr/>
          <p:nvPr/>
        </p:nvPicPr>
        <p:blipFill>
          <a:blip r:embed="rId11"/>
          <a:stretch/>
        </p:blipFill>
        <p:spPr>
          <a:xfrm>
            <a:off x="1785960" y="201456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14" descr="拥抱2"/>
          <p:cNvPicPr/>
          <p:nvPr/>
        </p:nvPicPr>
        <p:blipFill>
          <a:blip r:embed="rId12"/>
          <a:stretch/>
        </p:blipFill>
        <p:spPr>
          <a:xfrm>
            <a:off x="5035680" y="382284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74" name="Picture 15" descr="拥抱2"/>
          <p:cNvPicPr/>
          <p:nvPr/>
        </p:nvPicPr>
        <p:blipFill>
          <a:blip r:embed="rId13"/>
          <a:stretch/>
        </p:blipFill>
        <p:spPr>
          <a:xfrm>
            <a:off x="66600" y="3956040"/>
            <a:ext cx="2105280" cy="1809720"/>
          </a:xfrm>
          <a:prstGeom prst="rect">
            <a:avLst/>
          </a:prstGeom>
          <a:ln w="0">
            <a:noFill/>
          </a:ln>
        </p:spPr>
      </p:pic>
      <p:pic>
        <p:nvPicPr>
          <p:cNvPr id="575" name="Picture 16" descr="拥抱2"/>
          <p:cNvPicPr/>
          <p:nvPr/>
        </p:nvPicPr>
        <p:blipFill>
          <a:blip r:embed="rId14"/>
          <a:stretch/>
        </p:blipFill>
        <p:spPr>
          <a:xfrm>
            <a:off x="7959600" y="3462480"/>
            <a:ext cx="2105280" cy="180972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7" descr="拥抱2"/>
          <p:cNvPicPr/>
          <p:nvPr/>
        </p:nvPicPr>
        <p:blipFill>
          <a:blip r:embed="rId15"/>
          <a:stretch/>
        </p:blipFill>
        <p:spPr>
          <a:xfrm>
            <a:off x="9987120" y="308628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77" name="Picture 18" descr="拥抱2"/>
          <p:cNvPicPr/>
          <p:nvPr/>
        </p:nvPicPr>
        <p:blipFill>
          <a:blip r:embed="rId16"/>
          <a:stretch/>
        </p:blipFill>
        <p:spPr>
          <a:xfrm>
            <a:off x="10933200" y="4708440"/>
            <a:ext cx="2104920" cy="1809720"/>
          </a:xfrm>
          <a:prstGeom prst="rect">
            <a:avLst/>
          </a:prstGeom>
          <a:ln w="0">
            <a:noFill/>
          </a:ln>
        </p:spPr>
      </p:pic>
      <p:pic>
        <p:nvPicPr>
          <p:cNvPr id="578" name="Picture 19" descr="拥抱2"/>
          <p:cNvPicPr/>
          <p:nvPr/>
        </p:nvPicPr>
        <p:blipFill>
          <a:blip r:embed="rId17"/>
          <a:stretch/>
        </p:blipFill>
        <p:spPr>
          <a:xfrm>
            <a:off x="-1263600" y="3102120"/>
            <a:ext cx="2098800" cy="180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nodeType="clickEffect" fill="hold">
                      <p:stCondLst>
                        <p:cond delay="0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内容2"/>
          <p:cNvPicPr/>
          <p:nvPr/>
        </p:nvPicPr>
        <p:blipFill>
          <a:blip r:embed="rId1"/>
          <a:stretch/>
        </p:blipFill>
        <p:spPr>
          <a:xfrm>
            <a:off x="0" y="1440"/>
            <a:ext cx="12192120" cy="6855120"/>
          </a:xfrm>
          <a:prstGeom prst="rect">
            <a:avLst/>
          </a:prstGeom>
          <a:ln w="0">
            <a:noFill/>
          </a:ln>
        </p:spPr>
      </p:pic>
      <p:sp>
        <p:nvSpPr>
          <p:cNvPr id="580" name="Oval 3"/>
          <p:cNvSpPr/>
          <p:nvPr/>
        </p:nvSpPr>
        <p:spPr>
          <a:xfrm>
            <a:off x="5918040" y="1308240"/>
            <a:ext cx="854280" cy="8236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Text Box 4"/>
          <p:cNvSpPr/>
          <p:nvPr/>
        </p:nvSpPr>
        <p:spPr>
          <a:xfrm>
            <a:off x="2000160" y="1605600"/>
            <a:ext cx="852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美国心理学家赫洛德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·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傅斯说：“ 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 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可以消除沮丧——能使体内免疫系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统的效能上升；拥抱能为倦怠的躯体注入新能量，使你变得更年轻，更有活力。”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Oval 5"/>
          <p:cNvSpPr/>
          <p:nvPr/>
        </p:nvSpPr>
        <p:spPr>
          <a:xfrm>
            <a:off x="4994280" y="3040200"/>
            <a:ext cx="855720" cy="82548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Text Box 6"/>
          <p:cNvSpPr/>
          <p:nvPr/>
        </p:nvSpPr>
        <p:spPr>
          <a:xfrm>
            <a:off x="2014560" y="3309480"/>
            <a:ext cx="8658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当生活欺骗了你，一个                就能给你重新注入力量，当他人对生活灰心，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也请不要吝啬你的怀抱。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Believe it or not,a hug has magical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power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Text Box 7"/>
          <p:cNvSpPr/>
          <p:nvPr/>
        </p:nvSpPr>
        <p:spPr>
          <a:xfrm>
            <a:off x="2075040" y="4962600"/>
            <a:ext cx="840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zh-CN" sz="1800" spc="-1" strike="noStrike">
                <a:solidFill>
                  <a:srgbClr val="008000"/>
                </a:solidFill>
                <a:latin typeface="微软雅黑"/>
                <a:ea typeface="微软雅黑"/>
              </a:rPr>
              <a:t>一个               又不花钱！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You are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 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to hug others for </a:t>
            </a:r>
            <a:r>
              <a:rPr b="0" lang="zh-CN" sz="1800" spc="-1" strike="noStrike">
                <a:solidFill>
                  <a:srgbClr val="ff6699"/>
                </a:solidFill>
                <a:latin typeface="Microsoft Sans Serif"/>
                <a:ea typeface="微软雅黑"/>
              </a:rPr>
              <a:t>free</a:t>
            </a:r>
            <a:r>
              <a:rPr b="0" lang="zh-CN" sz="1800" spc="-1" strike="noStrike">
                <a:solidFill>
                  <a:srgbClr val="008000"/>
                </a:solidFill>
                <a:latin typeface="Microsoft Sans Serif"/>
                <a:ea typeface="微软雅黑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Oval 8"/>
          <p:cNvSpPr/>
          <p:nvPr/>
        </p:nvSpPr>
        <p:spPr>
          <a:xfrm>
            <a:off x="3095640" y="4713120"/>
            <a:ext cx="853920" cy="82584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Calibri"/>
                <a:ea typeface="微软雅黑"/>
              </a:rPr>
              <a:t>拥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0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10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0">
                                  <p:stCondLst>
                                    <p:cond delay="4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0">
                                  <p:stCondLst>
                                    <p:cond delay="80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9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40">
                                  <p:stCondLst>
                                    <p:cond delay="9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Oval 2"/>
          <p:cNvSpPr/>
          <p:nvPr/>
        </p:nvSpPr>
        <p:spPr>
          <a:xfrm>
            <a:off x="2795760" y="3314880"/>
            <a:ext cx="2273040" cy="2259000"/>
          </a:xfrm>
          <a:prstGeom prst="ellipse">
            <a:avLst/>
          </a:prstGeom>
          <a:solidFill>
            <a:srgbClr val="ffff00">
              <a:alpha val="91000"/>
            </a:srgbClr>
          </a:solidFill>
          <a:ln w="0">
            <a:solidFill>
              <a:srgbClr val="ffff00"/>
            </a:solidFill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8000"/>
                </a:solidFill>
                <a:latin typeface="Calibri"/>
                <a:ea typeface="微软雅黑"/>
              </a:rPr>
              <a:t>诗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Microsoft Sans Serif"/>
              </a:rPr>
              <a:t>Po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Text Box 3"/>
          <p:cNvSpPr/>
          <p:nvPr/>
        </p:nvSpPr>
        <p:spPr>
          <a:xfrm>
            <a:off x="5437080" y="4510800"/>
            <a:ext cx="592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6699"/>
                </a:solidFill>
                <a:latin typeface="Calibri"/>
              </a:rPr>
              <a:t>is simple,powerful and fre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8" name="Picture 4" descr="诗2"/>
          <p:cNvPicPr/>
          <p:nvPr/>
        </p:nvPicPr>
        <p:blipFill>
          <a:blip r:embed="rId1"/>
          <a:stretch/>
        </p:blipFill>
        <p:spPr>
          <a:xfrm>
            <a:off x="5769000" y="173844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589" name="Picture 5" descr="诗2"/>
          <p:cNvPicPr/>
          <p:nvPr/>
        </p:nvPicPr>
        <p:blipFill>
          <a:blip r:embed="rId2"/>
          <a:stretch/>
        </p:blipFill>
        <p:spPr>
          <a:xfrm>
            <a:off x="8010360" y="1281240"/>
            <a:ext cx="685800" cy="6188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6" descr="诗2"/>
          <p:cNvPicPr/>
          <p:nvPr/>
        </p:nvPicPr>
        <p:blipFill>
          <a:blip r:embed="rId3"/>
          <a:stretch/>
        </p:blipFill>
        <p:spPr>
          <a:xfrm>
            <a:off x="1693800" y="114624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7" descr="诗2"/>
          <p:cNvPicPr/>
          <p:nvPr/>
        </p:nvPicPr>
        <p:blipFill>
          <a:blip r:embed="rId4"/>
          <a:stretch/>
        </p:blipFill>
        <p:spPr>
          <a:xfrm>
            <a:off x="7605720" y="375588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2" name="Picture 8" descr="诗2"/>
          <p:cNvPicPr/>
          <p:nvPr/>
        </p:nvPicPr>
        <p:blipFill>
          <a:blip r:embed="rId5"/>
          <a:stretch/>
        </p:blipFill>
        <p:spPr>
          <a:xfrm>
            <a:off x="2865600" y="2674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3" name="Picture 9" descr="诗2"/>
          <p:cNvPicPr/>
          <p:nvPr/>
        </p:nvPicPr>
        <p:blipFill>
          <a:blip r:embed="rId6"/>
          <a:stretch/>
        </p:blipFill>
        <p:spPr>
          <a:xfrm>
            <a:off x="10426680" y="469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4" name="Picture 10" descr="诗2"/>
          <p:cNvPicPr/>
          <p:nvPr/>
        </p:nvPicPr>
        <p:blipFill>
          <a:blip r:embed="rId7"/>
          <a:stretch/>
        </p:blipFill>
        <p:spPr>
          <a:xfrm>
            <a:off x="733320" y="44766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5" name="Picture 11" descr="诗2"/>
          <p:cNvPicPr/>
          <p:nvPr/>
        </p:nvPicPr>
        <p:blipFill>
          <a:blip r:embed="rId8"/>
          <a:stretch/>
        </p:blipFill>
        <p:spPr>
          <a:xfrm>
            <a:off x="2833560" y="-351000"/>
            <a:ext cx="685800" cy="614520"/>
          </a:xfrm>
          <a:prstGeom prst="rect">
            <a:avLst/>
          </a:prstGeom>
          <a:ln w="0">
            <a:noFill/>
          </a:ln>
        </p:spPr>
      </p:pic>
      <p:pic>
        <p:nvPicPr>
          <p:cNvPr id="596" name="Picture 12" descr="诗2"/>
          <p:cNvPicPr/>
          <p:nvPr/>
        </p:nvPicPr>
        <p:blipFill>
          <a:blip r:embed="rId9"/>
          <a:stretch/>
        </p:blipFill>
        <p:spPr>
          <a:xfrm>
            <a:off x="11147400" y="339552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7" name="Picture 13" descr="诗2"/>
          <p:cNvPicPr/>
          <p:nvPr/>
        </p:nvPicPr>
        <p:blipFill>
          <a:blip r:embed="rId10"/>
          <a:stretch/>
        </p:blipFill>
        <p:spPr>
          <a:xfrm>
            <a:off x="4664160" y="645804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8" name="Picture 14" descr="诗2"/>
          <p:cNvPicPr/>
          <p:nvPr/>
        </p:nvPicPr>
        <p:blipFill>
          <a:blip r:embed="rId11"/>
          <a:stretch/>
        </p:blipFill>
        <p:spPr>
          <a:xfrm>
            <a:off x="9331200" y="498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599" name="Picture 15" descr="诗2"/>
          <p:cNvPicPr/>
          <p:nvPr/>
        </p:nvPicPr>
        <p:blipFill>
          <a:blip r:embed="rId12"/>
          <a:stretch/>
        </p:blipFill>
        <p:spPr>
          <a:xfrm>
            <a:off x="10877400" y="642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600" name="Picture 16" descr="诗2"/>
          <p:cNvPicPr/>
          <p:nvPr/>
        </p:nvPicPr>
        <p:blipFill>
          <a:blip r:embed="rId13"/>
          <a:stretch/>
        </p:blipFill>
        <p:spPr>
          <a:xfrm>
            <a:off x="-208080" y="349200"/>
            <a:ext cx="681120" cy="61920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17" descr="诗2"/>
          <p:cNvPicPr/>
          <p:nvPr/>
        </p:nvPicPr>
        <p:blipFill>
          <a:blip r:embed="rId14"/>
          <a:stretch/>
        </p:blipFill>
        <p:spPr>
          <a:xfrm>
            <a:off x="1482840" y="6427800"/>
            <a:ext cx="685800" cy="61920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18" descr="诗2"/>
          <p:cNvPicPr/>
          <p:nvPr/>
        </p:nvPicPr>
        <p:blipFill>
          <a:blip r:embed="rId15"/>
          <a:stretch/>
        </p:blipFill>
        <p:spPr>
          <a:xfrm>
            <a:off x="6735600" y="-169920"/>
            <a:ext cx="685800" cy="61452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19" descr="诗2"/>
          <p:cNvPicPr/>
          <p:nvPr/>
        </p:nvPicPr>
        <p:blipFill>
          <a:blip r:embed="rId16"/>
          <a:stretch/>
        </p:blipFill>
        <p:spPr>
          <a:xfrm>
            <a:off x="6675480" y="5527800"/>
            <a:ext cx="685800" cy="618840"/>
          </a:xfrm>
          <a:prstGeom prst="rect">
            <a:avLst/>
          </a:prstGeom>
          <a:ln w="0">
            <a:noFill/>
          </a:ln>
        </p:spPr>
      </p:pic>
      <p:sp>
        <p:nvSpPr>
          <p:cNvPr id="604" name="曲线 235"/>
          <p:cNvSpPr/>
          <p:nvPr/>
        </p:nvSpPr>
        <p:spPr>
          <a:xfrm>
            <a:off x="3424320" y="6480"/>
            <a:ext cx="636480" cy="33019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9143" y="0"/>
                </a:moveTo>
                <a:cubicBezTo>
                  <a:pt x="8046" y="407"/>
                  <a:pt x="3807" y="1371"/>
                  <a:pt x="2538" y="2451"/>
                </a:cubicBezTo>
                <a:cubicBezTo>
                  <a:pt x="1269" y="3531"/>
                  <a:pt x="0" y="5363"/>
                  <a:pt x="1527" y="6477"/>
                </a:cubicBezTo>
                <a:cubicBezTo>
                  <a:pt x="3054" y="7590"/>
                  <a:pt x="8476" y="8064"/>
                  <a:pt x="11703" y="9127"/>
                </a:cubicBezTo>
                <a:cubicBezTo>
                  <a:pt x="14930" y="10191"/>
                  <a:pt x="20094" y="11616"/>
                  <a:pt x="20847" y="12858"/>
                </a:cubicBezTo>
                <a:cubicBezTo>
                  <a:pt x="21600" y="14100"/>
                  <a:pt x="17964" y="15426"/>
                  <a:pt x="16264" y="16589"/>
                </a:cubicBezTo>
                <a:cubicBezTo>
                  <a:pt x="14564" y="17752"/>
                  <a:pt x="11187" y="18995"/>
                  <a:pt x="10670" y="19830"/>
                </a:cubicBezTo>
                <a:cubicBezTo>
                  <a:pt x="10154" y="20665"/>
                  <a:pt x="12779" y="21305"/>
                  <a:pt x="13209" y="21600"/>
                </a:cubicBezTo>
              </a:path>
            </a:pathLst>
          </a:custGeom>
          <a:noFill/>
          <a:ln w="0">
            <a:solidFill>
              <a:srgbClr val="66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0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0" dur="1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zuazua W</dc:creator>
  <dc:description/>
  <cp:keywords/>
  <dc:language>en-US</dc:language>
  <cp:lastModifiedBy>王玉清</cp:lastModifiedBy>
  <dcterms:modified xsi:type="dcterms:W3CDTF">2016-02-19T07:35:06Z</dcterms:modified>
  <cp:revision>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13</vt:lpwstr>
  </property>
</Properties>
</file>