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974-4891-4214-A570-848A693B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571-8585-4E89-BA13-9E32C4D8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AD2-7F7C-4BED-8E91-B17FF538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4AF-A7B6-469C-BEE2-919AD1F7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7BA-08E1-461B-9C17-BB4382FF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9A4-3C79-4409-9A36-6F6DF984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451-3A85-4795-BF27-048593B0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371-3AAF-4D22-A162-2B851032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969-ADBC-4DFF-AE93-7081995F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B8A-277C-40C6-9C67-4AB334AB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C9F-A663-43AD-A6E7-59BDF65F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49D-D9B9-48FC-A934-C8CA2A0C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D8D3-B7B1-432E-81A4-E28BD5502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WGY0072ALM12"/>
          <p:cNvPicPr/>
          <p:nvPr/>
        </p:nvPicPr>
        <p:blipFill>
          <a:blip r:embed="rId1"/>
          <a:stretch/>
        </p:blipFill>
        <p:spPr>
          <a:xfrm>
            <a:off x="0" y="-458640"/>
            <a:ext cx="9501120" cy="7316640"/>
          </a:xfrm>
          <a:prstGeom prst="rect">
            <a:avLst/>
          </a:prstGeom>
          <a:ln w="0">
            <a:noFill/>
          </a:ln>
        </p:spPr>
      </p:pic>
      <p:pic>
        <p:nvPicPr>
          <p:cNvPr id="288" name="挥着翅膀的女孩.mp3" descr=""/>
          <p:cNvPicPr/>
          <p:nvPr/>
        </p:nvPicPr>
        <p:blipFill>
          <a:blip r:embed="rId2"/>
          <a:stretch/>
        </p:blipFill>
        <p:spPr>
          <a:xfrm>
            <a:off x="6588000" y="6786720"/>
            <a:ext cx="71640" cy="71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68280" y="4046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微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577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微笑1"/>
          <p:cNvPicPr/>
          <p:nvPr/>
        </p:nvPicPr>
        <p:blipFill>
          <a:blip r:embed="rId1"/>
          <a:stretch/>
        </p:blipFill>
        <p:spPr>
          <a:xfrm>
            <a:off x="0" y="0"/>
            <a:ext cx="914400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微笑3"/>
          <p:cNvPicPr/>
          <p:nvPr/>
        </p:nvPicPr>
        <p:blipFill>
          <a:blip r:embed="rId1"/>
          <a:stretch/>
        </p:blipFill>
        <p:spPr>
          <a:xfrm>
            <a:off x="304920" y="228600"/>
            <a:ext cx="4000320" cy="3006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微笑4"/>
          <p:cNvPicPr/>
          <p:nvPr/>
        </p:nvPicPr>
        <p:blipFill>
          <a:blip r:embed="rId2"/>
          <a:stretch/>
        </p:blipFill>
        <p:spPr>
          <a:xfrm>
            <a:off x="380880" y="3505320"/>
            <a:ext cx="3886200" cy="2849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微笑5"/>
          <p:cNvPicPr/>
          <p:nvPr/>
        </p:nvPicPr>
        <p:blipFill>
          <a:blip r:embed="rId3"/>
          <a:stretch/>
        </p:blipFill>
        <p:spPr>
          <a:xfrm>
            <a:off x="4267080" y="228600"/>
            <a:ext cx="4572000" cy="3040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微笑7"/>
          <p:cNvPicPr/>
          <p:nvPr/>
        </p:nvPicPr>
        <p:blipFill>
          <a:blip r:embed="rId4"/>
          <a:stretch/>
        </p:blipFill>
        <p:spPr>
          <a:xfrm>
            <a:off x="4800600" y="3505320"/>
            <a:ext cx="38098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219320" y="34290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范佳佳　　　　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友谊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219320" y="1143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演讲者　　　　　题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219320" y="22860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钱志明　  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我们有理由微笑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1219320" y="16002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2c5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微笑的我们要用微笑的力量去关照周围，去感化周围，去影响周围，直到每一个人脸上都挂起一片不落的灿烂。 是的，就这样，我们微笑着去面对生活带给我们的一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609480" y="914400"/>
            <a:ext cx="8534520" cy="53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2c5"/>
                </a:solidFill>
                <a:latin typeface="Times New Roman"/>
              </a:rPr>
              <a:t>　　　　　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阳光总在风雨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人生路上甜苦和喜忧，愿意与你分担所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难免曾经跌倒和等候，要勇敢的抬头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谁愿常躲在避风的港口，宁有波涛汹涌的自由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愿是你心中灯塔的守候，在迷雾中让你看透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阳光总在风雨后，乌云上有晴空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珍惜所有的感动，每一份希望在你手中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阳光总在风雨后，请相信有彩虹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风风雨雨都接受，我一直会在你的左右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yang.mp3" descr=""/>
          <p:cNvPicPr/>
          <p:nvPr/>
        </p:nvPicPr>
        <p:blipFill>
          <a:blip r:embed="rId1"/>
          <a:stretch/>
        </p:blipFill>
        <p:spPr>
          <a:xfrm>
            <a:off x="179280" y="0"/>
            <a:ext cx="7164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304118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246-EF7E-4C0E-B2EF-114A479D63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monalisaa001"/>
          <p:cNvPicPr/>
          <p:nvPr/>
        </p:nvPicPr>
        <p:blipFill>
          <a:blip r:embed="rId1"/>
          <a:stretch/>
        </p:blipFill>
        <p:spPr>
          <a:xfrm>
            <a:off x="0" y="0"/>
            <a:ext cx="4527720" cy="69436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4876920" y="457200"/>
            <a:ext cx="373356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在欧洲的文艺复兴史上，一代绘画巨匠达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·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芬奇给后世留下了一幅现藏于卢浮宫的绘画巨作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—《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蒙娜丽莎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揩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揩体"/>
              </a:rPr>
              <a:t>也许她根本就 没有微笑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 画家看到的只是他自己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 你们看到的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揩体"/>
              </a:rPr>
              <a:t>　 也只是你们自己</a:t>
            </a:r>
            <a:r>
              <a:rPr b="1" lang="zh-CN" sz="3200" spc="-1" strike="noStrike">
                <a:solidFill>
                  <a:srgbClr val="ffe2c5"/>
                </a:solidFill>
                <a:latin typeface="Times New Roman"/>
                <a:ea typeface="揩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邓小平"/>
          <p:cNvPicPr/>
          <p:nvPr/>
        </p:nvPicPr>
        <p:blipFill>
          <a:blip r:embed="rId1"/>
          <a:stretch/>
        </p:blipFill>
        <p:spPr>
          <a:xfrm>
            <a:off x="304920" y="228600"/>
            <a:ext cx="2286000" cy="2822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李嘉诚"/>
          <p:cNvPicPr/>
          <p:nvPr/>
        </p:nvPicPr>
        <p:blipFill>
          <a:blip r:embed="rId2"/>
          <a:stretch/>
        </p:blipFill>
        <p:spPr>
          <a:xfrm>
            <a:off x="2819520" y="228600"/>
            <a:ext cx="2251080" cy="2819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冰心"/>
          <p:cNvPicPr/>
          <p:nvPr/>
        </p:nvPicPr>
        <p:blipFill>
          <a:blip r:embed="rId3"/>
          <a:stretch/>
        </p:blipFill>
        <p:spPr>
          <a:xfrm>
            <a:off x="533520" y="3505320"/>
            <a:ext cx="1968480" cy="2908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毛泽东"/>
          <p:cNvPicPr/>
          <p:nvPr/>
        </p:nvPicPr>
        <p:blipFill>
          <a:blip r:embed="rId4"/>
          <a:stretch/>
        </p:blipFill>
        <p:spPr>
          <a:xfrm>
            <a:off x="5410080" y="3808440"/>
            <a:ext cx="3200400" cy="2516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金庸"/>
          <p:cNvPicPr/>
          <p:nvPr/>
        </p:nvPicPr>
        <p:blipFill>
          <a:blip r:embed="rId5"/>
          <a:stretch/>
        </p:blipFill>
        <p:spPr>
          <a:xfrm>
            <a:off x="6172200" y="304920"/>
            <a:ext cx="2457360" cy="3276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钱学森"/>
          <p:cNvPicPr/>
          <p:nvPr/>
        </p:nvPicPr>
        <p:blipFill>
          <a:blip r:embed="rId6"/>
          <a:stretch/>
        </p:blipFill>
        <p:spPr>
          <a:xfrm>
            <a:off x="2743200" y="3505320"/>
            <a:ext cx="1920960" cy="26668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0"/>
          <p:cNvSpPr/>
          <p:nvPr/>
        </p:nvSpPr>
        <p:spPr>
          <a:xfrm>
            <a:off x="4689000" y="380880"/>
            <a:ext cx="1102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李嘉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29718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钱学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5199840" y="2362320"/>
            <a:ext cx="91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金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685800" y="144792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</a:t>
            </a: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隶书"/>
              </a:rPr>
              <a:t>微笑，标志着自信、雅量和大度，这是一种胸怀，一种境界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卡通笑脸"/>
          <p:cNvPicPr/>
          <p:nvPr/>
        </p:nvPicPr>
        <p:blipFill>
          <a:blip r:embed="rId1"/>
          <a:stretch/>
        </p:blipFill>
        <p:spPr>
          <a:xfrm>
            <a:off x="685800" y="1143000"/>
            <a:ext cx="16765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026"/>
          <p:cNvSpPr/>
          <p:nvPr/>
        </p:nvSpPr>
        <p:spPr>
          <a:xfrm>
            <a:off x="1258920" y="112536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演讲者              题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金银香       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寄存失败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28"/>
          <p:cNvSpPr/>
          <p:nvPr/>
        </p:nvSpPr>
        <p:spPr>
          <a:xfrm>
            <a:off x="1295280" y="2971800"/>
            <a:ext cx="6705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沈佳萍       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微笑面对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                    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活中的挫折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》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8720" y="5302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张海迪"/>
          <p:cNvPicPr/>
          <p:nvPr/>
        </p:nvPicPr>
        <p:blipFill>
          <a:blip r:embed="rId1"/>
          <a:stretch/>
        </p:blipFill>
        <p:spPr>
          <a:xfrm>
            <a:off x="3147840" y="0"/>
            <a:ext cx="599616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1818000" y="533520"/>
            <a:ext cx="127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张海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26400" y="380880"/>
            <a:ext cx="17802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　　她微笑着坐在自己的书房里，穿着红毛衣。如果没有那张轮椅，一切该是多么完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611280" y="141300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2c5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微笑着去唱生活的歌谣，把每一次的失败都归结为一次尝试，不去自卑，把每一次成功都想象成一种幸运，不去自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微笑着去唱生活的歌谣。把“人”字写直写大，活出一种尊严，活出一种力量，不向金钱献媚不向势力背躬。清贫，是一首朴素的歌；平凡，是一行亮丽的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1523880" y="11430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演讲者                     题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914400" y="21337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杨林霞       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生活，让我微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                          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着拥抱你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447920" y="38862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金　璐        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微笑面对生活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219320" y="160020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c5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微笑着去唱生活的歌谣。这样一个豁然开朗的世界就会在你的眼前打开：蓝天，白云，小桥，流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微笑着，去唱生活的歌谣。眼泪要为别人的悲伤而流；仁慈，要为善良的心灵而发；同情，给予穷人的贫苦；关怀温暖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给予孤独的凄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8:1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46:4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