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0E5-980C-4072-9B9D-0CD3E20A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2E39-4891-45E6-9F49-326C1A97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D57-7439-4BD4-B5DE-F7B7064F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2209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9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695-0056-478A-AFEB-103149F6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B5C-FA6E-41B6-934A-DAA8D1E5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E803-00DB-454F-8E8D-72BF5C18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A40-A265-47DD-A7EB-4CE329DC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39A4-2B1E-497F-BBE5-E9E50599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CB97-0751-4433-8130-AC04A721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E5E-F446-4A89-80DC-6336AFEB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9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420-1A8E-4C4B-8D5E-41166D93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2209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9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B08-C408-4334-8FFA-C1BC6A3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C9A2-A498-4841-9119-5DBE68F90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休止的文件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4T05:53:11Z</dcterms:created>
  <dc:creator>ppt宝藏</dc:creator>
  <dc:description/>
  <dc:language>en-US</dc:language>
  <cp:lastModifiedBy>a</cp:lastModifiedBy>
  <dcterms:modified xsi:type="dcterms:W3CDTF">2015-07-25T03:13:09Z</dcterms:modified>
  <cp:revision>14</cp:revision>
  <dc:subject/>
  <dc:title>www.pptbz.com</dc:title>
</cp:coreProperties>
</file>