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244-D8D8-484C-B532-64BCDDCE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BA3-6C76-48D9-B12B-6AE634D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490-2F8A-4508-A853-96C90CA5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9B0-2A4D-4B5F-84F3-27C94006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B7B-E579-4208-AA4B-9B87563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5D4-C900-4F76-843A-2BDD0F4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35E-BAA1-433A-9B4D-71DEC5F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064-5769-4EF6-B861-89169E7C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3F5-8D8A-4E03-B45F-FF5C9B7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82C-D4AC-440C-90C3-1C7ABED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E48-093E-4597-9961-2DBD9F8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EF7-33EB-4648-9CD7-0C64F15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01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51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Picture 150" descr="2_1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5790960" y="640044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Text Box 126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66E-4926-4E26-B92B-51F3B08B03ED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Oval 152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Oval 153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Oval 154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" name="Oval 155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4" name="Picture 157" descr="3_2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4" descr="01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03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04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05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06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6" descr="09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8" name="Picture 141" descr="07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02_1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3_2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文细黑"/>
                <a:ea typeface="华文细黑"/>
              </a:rPr>
              <a:t>鲜花通用</a:t>
            </a:r>
            <a:r>
              <a:rPr b="0" lang="en-US" sz="4000" spc="-1" strike="noStrike">
                <a:solidFill>
                  <a:srgbClr val="ffc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华文细黑"/>
                <a:ea typeface="华文细黑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Oval 15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AutoShape 42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8" name="AutoShape 43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9" name="AutoShape 44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AutoShape 45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ad67d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AutoShape 46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3" name="AutoShape 48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371600" y="4876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been licensed to be used within this PowerPoint template only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533520" y="2494080"/>
            <a:ext cx="4586040" cy="4173480"/>
          </a:xfrm>
          <a:custGeom>
            <a:avLst/>
            <a:gdLst>
              <a:gd name="textAreaLeft" fmla="*/ 0 w 4586040"/>
              <a:gd name="textAreaRight" fmla="*/ 4586400 w 458604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1144440" y="313200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1528920" y="3613320"/>
            <a:ext cx="2503440" cy="227772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277720"/>
              <a:gd name="textAreaBottom" fmla="*/ 820080 h 227772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851120" y="399888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6" name="AutoShape 27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fce5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7" name="AutoShape 28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dbd2f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8" name="AutoShape 29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d1ea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bfeaf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-812880" y="6407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28be1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520" y="329148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keke</dc:creator>
  <dc:description/>
  <dc:language>en-US</dc:language>
  <cp:lastModifiedBy>王玉清</cp:lastModifiedBy>
  <dcterms:modified xsi:type="dcterms:W3CDTF">2016-02-22T03:39:20Z</dcterms:modified>
  <cp:revision>5</cp:revision>
  <dc:subject/>
  <dc:title>站长素材 SC.CHINAZ.COM</dc:title>
</cp:coreProperties>
</file>