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947-44A4-4913-BFF6-31CB4755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2F2-CE2A-49E7-936A-5EC592EA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D7D-ED77-4DB8-AB1F-13EBFE4B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2BC-130B-4A29-9096-0F1262EF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042F-EFB6-45E7-9860-B29C9046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4D3E-6808-499D-A84F-F22242AA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2BCC-1CF5-401E-AF9F-F4A732D8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3AB-CB29-403A-A065-EE6FB7CA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A0B-20F0-4640-8BE8-4C523D2F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6186-2C94-4183-B314-088C0BC9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5E8-B025-4C60-B74D-BF264ED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3E6-8693-4128-B55E-2E8DF10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1B30-C999-4AF3-9B15-24FAC8E9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0D9-CEE9-48F0-9D31-950B3CCA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8264-8D63-40AE-B33A-E053FD8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4B9D-2BA3-42EA-A4F2-366AFBBB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5F7D-30A9-40BA-89D3-34265226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B15-A642-4FB8-94BC-FCCEAFEA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7FC-7372-411B-8478-CD476A40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AAA-EAB4-4884-AA71-873B78D7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509-5563-40E8-8856-8EAE26E3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95F-55F7-4FDB-A208-46EEF1C7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610-07C0-471E-9EE3-5D8BE90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698-6F04-424E-AE2B-409AC24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9600" y="162000"/>
            <a:ext cx="9183600" cy="6696000"/>
            <a:chOff x="-39600" y="162000"/>
            <a:chExt cx="9183600" cy="6696000"/>
          </a:xfrm>
        </p:grpSpPr>
        <p:pic>
          <p:nvPicPr>
            <p:cNvPr id="1" name="Picture 3" descr="artplus_music_watermelody02_f"/>
            <p:cNvPicPr/>
            <p:nvPr/>
          </p:nvPicPr>
          <p:blipFill>
            <a:blip r:embed="rId3"/>
            <a:stretch/>
          </p:blipFill>
          <p:spPr>
            <a:xfrm>
              <a:off x="0" y="162000"/>
              <a:ext cx="9144000" cy="159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4"/>
            <p:cNvGrpSpPr/>
            <p:nvPr/>
          </p:nvGrpSpPr>
          <p:grpSpPr>
            <a:xfrm>
              <a:off x="-39600" y="181080"/>
              <a:ext cx="7950240" cy="6676920"/>
              <a:chOff x="-39600" y="181080"/>
              <a:chExt cx="7950240" cy="6676920"/>
            </a:xfrm>
          </p:grpSpPr>
          <p:pic>
            <p:nvPicPr>
              <p:cNvPr id="3" name="Picture 5" descr="artplus_plant_butterfly03_d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-39600" y="5397480"/>
                <a:ext cx="113976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6" descr="artplus_plant_butterfly03_i"/>
              <p:cNvPicPr/>
              <p:nvPr/>
            </p:nvPicPr>
            <p:blipFill>
              <a:blip r:embed="rId5"/>
              <a:stretch/>
            </p:blipFill>
            <p:spPr>
              <a:xfrm>
                <a:off x="6789600" y="181080"/>
                <a:ext cx="1121040" cy="113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1618920" y="6576480"/>
            <a:ext cx="21337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739680" y="6566040"/>
            <a:ext cx="4691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527680" y="6568560"/>
            <a:ext cx="336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5304-BA9B-448E-AF66-CA84D84BA1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6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7569360" y="236520"/>
            <a:ext cx="1428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38040" y="295200"/>
            <a:ext cx="212256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0" y="374760"/>
            <a:ext cx="8742240" cy="6483240"/>
            <a:chOff x="0" y="374760"/>
            <a:chExt cx="8742240" cy="6483240"/>
          </a:xfrm>
        </p:grpSpPr>
        <p:pic>
          <p:nvPicPr>
            <p:cNvPr id="49" name="Picture 9" descr="artplus_plant_butterfly03_i"/>
            <p:cNvPicPr/>
            <p:nvPr/>
          </p:nvPicPr>
          <p:blipFill>
            <a:blip r:embed="rId3"/>
            <a:stretch/>
          </p:blipFill>
          <p:spPr>
            <a:xfrm>
              <a:off x="7223040" y="374760"/>
              <a:ext cx="1312920" cy="133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"/>
            <p:cNvGrpSpPr/>
            <p:nvPr/>
          </p:nvGrpSpPr>
          <p:grpSpPr>
            <a:xfrm>
              <a:off x="0" y="1120680"/>
              <a:ext cx="8742240" cy="5737320"/>
              <a:chOff x="0" y="1120680"/>
              <a:chExt cx="8742240" cy="5737320"/>
            </a:xfrm>
          </p:grpSpPr>
          <p:pic>
            <p:nvPicPr>
              <p:cNvPr id="51" name="Picture 11" descr="artplus_plant_butterfly03_d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7526160" y="5299200"/>
                <a:ext cx="1216080" cy="155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2" descr="artplus_music_watermelody02_d"/>
              <p:cNvPicPr/>
              <p:nvPr/>
            </p:nvPicPr>
            <p:blipFill>
              <a:blip r:embed="rId5"/>
              <a:stretch/>
            </p:blipFill>
            <p:spPr>
              <a:xfrm>
                <a:off x="0" y="1120680"/>
                <a:ext cx="3325680" cy="573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3" descr="artplus_plant_butterfly03_k"/>
              <p:cNvPicPr/>
              <p:nvPr/>
            </p:nvPicPr>
            <p:blipFill>
              <a:blip r:embed="rId6"/>
              <a:stretch/>
            </p:blipFill>
            <p:spPr>
              <a:xfrm>
                <a:off x="0" y="1192320"/>
                <a:ext cx="7758000" cy="477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14" descr="artplus_plant_butterfly03_e"/>
              <p:cNvPicPr/>
              <p:nvPr/>
            </p:nvPicPr>
            <p:blipFill>
              <a:blip r:embed="rId7"/>
              <a:stretch/>
            </p:blipFill>
            <p:spPr>
              <a:xfrm>
                <a:off x="2354400" y="3914640"/>
                <a:ext cx="2384280" cy="294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6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375160" y="6464160"/>
            <a:ext cx="2789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3784320" y="6479640"/>
            <a:ext cx="15699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5040" y="6478560"/>
            <a:ext cx="4431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F3EF-1A68-4A95-AC1C-8EA3BACB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944800" y="3728880"/>
            <a:ext cx="6199200" cy="362160"/>
          </a:xfrm>
          <a:prstGeom prst="rect">
            <a:avLst/>
          </a:prstGeom>
          <a:solidFill>
            <a:srgbClr val="94b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89996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汉仪中宋简"/>
                <a:ea typeface="汉仪中宋简"/>
              </a:rPr>
              <a:t>向日葵舞蝶通用</a:t>
            </a:r>
            <a:r>
              <a:rPr b="1" lang="en-US" sz="4000" spc="-1" strike="noStrike">
                <a:solidFill>
                  <a:srgbClr val="0d0d0d"/>
                </a:solidFill>
                <a:latin typeface="汉仪中宋简"/>
                <a:ea typeface="汉仪中宋简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汉仪中宋简"/>
                <a:ea typeface="汉仪中宋简"/>
              </a:rPr>
              <a:t>模板免费下载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2"/>
          <p:cNvSpPr/>
          <p:nvPr/>
        </p:nvSpPr>
        <p:spPr>
          <a:xfrm flipV="1">
            <a:off x="1042920" y="5603760"/>
            <a:ext cx="3306960" cy="48744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"/>
          <p:cNvSpPr/>
          <p:nvPr/>
        </p:nvSpPr>
        <p:spPr>
          <a:xfrm flipV="1">
            <a:off x="4611600" y="5576760"/>
            <a:ext cx="3305160" cy="48600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1147680" y="2655720"/>
            <a:ext cx="3106800" cy="3076920"/>
            <a:chOff x="1147680" y="2655720"/>
            <a:chExt cx="3106800" cy="3076920"/>
          </a:xfrm>
        </p:grpSpPr>
        <p:sp>
          <p:nvSpPr>
            <p:cNvPr id="103" name="Rectangle 6"/>
            <p:cNvSpPr/>
            <p:nvPr/>
          </p:nvSpPr>
          <p:spPr>
            <a:xfrm>
              <a:off x="3757680" y="2658960"/>
              <a:ext cx="120600" cy="3073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1492200" y="2655720"/>
              <a:ext cx="120600" cy="3073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8"/>
            <p:cNvSpPr/>
            <p:nvPr/>
          </p:nvSpPr>
          <p:spPr>
            <a:xfrm>
              <a:off x="1147680" y="28544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"/>
            <p:cNvSpPr/>
            <p:nvPr/>
          </p:nvSpPr>
          <p:spPr>
            <a:xfrm>
              <a:off x="1147680" y="33876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f7575"/>
                </a:gs>
                <a:gs pos="50000">
                  <a:srgbClr val="19c5c5"/>
                </a:gs>
                <a:gs pos="100000">
                  <a:srgbClr val="0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0"/>
            <p:cNvSpPr/>
            <p:nvPr/>
          </p:nvSpPr>
          <p:spPr>
            <a:xfrm>
              <a:off x="1147680" y="39211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1147680" y="44546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f7575"/>
                </a:gs>
                <a:gs pos="50000">
                  <a:srgbClr val="19c5c5"/>
                </a:gs>
                <a:gs pos="100000">
                  <a:srgbClr val="0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2"/>
            <p:cNvSpPr/>
            <p:nvPr/>
          </p:nvSpPr>
          <p:spPr>
            <a:xfrm>
              <a:off x="1147680" y="4987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3"/>
          <p:cNvSpPr/>
          <p:nvPr/>
        </p:nvSpPr>
        <p:spPr>
          <a:xfrm>
            <a:off x="1273320" y="153684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4668840" y="2651040"/>
            <a:ext cx="3191040" cy="3081600"/>
            <a:chOff x="4668840" y="2651040"/>
            <a:chExt cx="3191040" cy="3081600"/>
          </a:xfrm>
        </p:grpSpPr>
        <p:sp>
          <p:nvSpPr>
            <p:cNvPr id="112" name="Rectangle 15"/>
            <p:cNvSpPr/>
            <p:nvPr/>
          </p:nvSpPr>
          <p:spPr>
            <a:xfrm>
              <a:off x="7399440" y="26510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5006880" y="2658960"/>
              <a:ext cx="120600" cy="3073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7"/>
            <p:cNvSpPr/>
            <p:nvPr/>
          </p:nvSpPr>
          <p:spPr>
            <a:xfrm>
              <a:off x="4668840" y="28591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8"/>
            <p:cNvSpPr/>
            <p:nvPr/>
          </p:nvSpPr>
          <p:spPr>
            <a:xfrm>
              <a:off x="4668840" y="33926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f8f"/>
                </a:gs>
                <a:gs pos="50000">
                  <a:srgbClr val="276af1"/>
                </a:gs>
                <a:gs pos="100000">
                  <a:srgbClr val="173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9"/>
            <p:cNvSpPr/>
            <p:nvPr/>
          </p:nvSpPr>
          <p:spPr>
            <a:xfrm>
              <a:off x="4668840" y="39258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0"/>
            <p:cNvSpPr/>
            <p:nvPr/>
          </p:nvSpPr>
          <p:spPr>
            <a:xfrm>
              <a:off x="4668840" y="44593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f8f"/>
                </a:gs>
                <a:gs pos="50000">
                  <a:srgbClr val="276af1"/>
                </a:gs>
                <a:gs pos="100000">
                  <a:srgbClr val="173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1"/>
            <p:cNvSpPr/>
            <p:nvPr/>
          </p:nvSpPr>
          <p:spPr>
            <a:xfrm>
              <a:off x="4668840" y="4992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2"/>
          <p:cNvSpPr/>
          <p:nvPr/>
        </p:nvSpPr>
        <p:spPr>
          <a:xfrm>
            <a:off x="2009880" y="56624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5575320" y="56228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0:37:58Z</dcterms:created>
  <dc:creator>a-dang</dc:creator>
  <dc:description/>
  <dc:language>en-US</dc:language>
  <cp:lastModifiedBy>王玉清</cp:lastModifiedBy>
  <dcterms:modified xsi:type="dcterms:W3CDTF">2016-02-22T03:24:10Z</dcterms:modified>
  <cp:revision>6</cp:revision>
  <dc:subject/>
  <dc:title>ThemeGallery  PowerTemplate </dc:title>
</cp:coreProperties>
</file>