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CAB71-438B-4F81-874B-6DCC5AAC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24313-4C02-49DF-9983-8499CE5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409C4-7AD0-4E6E-8B19-C260605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7734-8457-4F07-99DF-1AF6F94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E5DB6-D357-44E0-82A9-06F62DF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8A6F-AE06-43BE-885A-AE0CEB7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6F9B4-B6B3-4295-B9EC-C53DF66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CD487-13F9-4823-8A9F-FC132299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DACA-9099-4AE2-88B2-AF0B266F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3B33-06A9-48C9-AF1D-872EE4AE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0308C-7EA6-49B1-916C-D12A6F7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9999-8D65-41AF-B5CF-5DAF72E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F8A5-ABB4-4A69-82A5-C2FD984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E192E-374F-4CB2-89B9-A79D8FDF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C711-A58C-40D9-9D37-64E8BB3A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A1A4E-6B15-40D4-9815-2C393B7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1FD4-595C-4CF2-B0AB-B75510D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2AE39-3878-4D42-B716-A75EE3D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1106-E618-4952-AFC4-003AB81B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9C39-4662-44CB-83F9-FF500491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1497-3BA1-49A9-A39F-430E0DF6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628-E147-4D6C-AF97-6E992C46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CC9-554F-424C-86FF-E7B36533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3CD-0FDE-4DEF-9135-DDE5A70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54C-8F25-46A5-8752-0E1B81F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41A-1EA7-468E-93EA-14A9FC41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FDB-7636-41EC-B17C-EAB05C4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8DA-EA31-4511-9A17-73F00A2A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4E5-C74F-4421-832A-5ADF45F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01F-F15C-48E3-B87F-1E456BF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E07-DFBA-4136-A051-8EFCB3E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1AD-442D-41F2-95B0-A7373241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ECA-86A6-43A6-B77C-373F6945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021C-17FF-4CE1-BED3-03B96750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700B-DFAA-4706-BE5A-D33D8D41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5DC4-FC01-4E43-B6F6-7D878BF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96F-9B45-47F2-9727-2827A37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C2F-C5D6-4E34-8C2C-FBEB4011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C74-AB8B-49FC-AA50-67420FA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B071-9410-4079-87C8-F0E3107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B0A1-32E4-484C-B487-4737CFE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5B2-FF48-4609-A4A5-54CAC0E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8A3-0E18-4FFA-9FAB-6F81428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179-7D9F-4C14-B2E6-754861B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37D0-BED9-4695-8983-69CD3A6D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1539-9538-4E02-A981-3F212641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47E1-7456-4D39-8DBA-4E1EDDD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D84D-219D-42DF-AD83-849B55B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7C13-D48E-4EC0-B531-B7AEB6F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23F4-18FB-4C77-B423-A428CE17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2CC4-12AF-4208-A6F2-6929054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39C4-2BE6-4714-B245-48BDCB1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A8AF-D79E-4781-9F4A-F305364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E7ED-9D16-434B-9A83-40BFAC6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D955-DC79-4A7F-97F1-F5D0514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CE7A-0F89-42D0-AEC5-6791904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44BC-9289-43A1-81B2-53CFA775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FDA4-8DDD-4A47-8C82-11724CC7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51B8-8ED0-4F6C-B85D-6BD65D4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3BAC-F652-4F95-AE25-9AB73BC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1EED-7B14-4DC1-942F-8742724D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F1F0-739F-43FD-BD8D-5895CAE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B587-547E-4A45-AF38-1395BF7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11D8-7B49-48A0-99F7-F6BB859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E4AB-A62A-4AFF-A14F-020F9C4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BD86-DBCC-41B8-B150-33FEC4D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393F-5913-4B5C-A32F-2C0A3A7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1EFE-1D70-4BB4-9A5C-B1D2D3E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E379-8E62-4ED5-AC55-73BCE625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625A-401C-4EDE-B612-107ACDE5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8C78-C9CB-4467-AF56-44C73D9D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C041-FFB4-4EE8-996B-E41F895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E39A-4B7E-4A7F-AC6D-CAB7FBB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6498-88AE-4CB6-A765-39F1659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3851-F1B9-4C9C-96E1-0055142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92F8-4473-4FC3-917E-FF7A0D9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11B1-8DE9-41ED-90BB-2DE98B1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6C94-3F6A-4C53-A371-5C88C42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4C14-FB49-4BA3-848F-754F813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B44D8-3B3B-424F-98EB-0EE157F7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327F-CB84-49C6-B98C-F425433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75E1-FE5E-4CB8-9BAB-DFABBB05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C25B8-94D8-4EB2-9007-FC8480A8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94A7-E1DB-4B9A-95C0-68C4C48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C10FC-9641-4751-95FE-1D891FE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18E5-C8A5-4D76-8D9E-EF3F9131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B73DA-E04F-4884-BEE1-89D38CE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3395-5786-49D6-9DAF-D671BBA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0EB4-6E4E-47EE-9C31-BFCBF713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E939-6984-45B5-9117-0D73495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C6D7-1D1F-4C55-B122-D8F732A9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0C8C-7C2B-488F-BDDB-75566278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2536-35B5-4047-95F2-DDABC19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03B22-3974-413B-8534-DA7029E9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23D6E-AFD7-4062-A394-C3C563F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6806-453F-4FB5-A8C4-A5CAD91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C110-7A49-46D9-AD6E-33C92AA2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B343-D7FC-4A38-A88B-E470674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7CF6-0974-4B87-ADEC-1BDAD5F2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87D4C-7ACF-4F50-8809-71016AC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477DE-E208-46B9-9C5A-35DBDE6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0A0AA-4865-4ECC-A389-2F142DF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4FC6-281A-4BA1-94B3-346BF5B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19FA-A582-4ECF-994B-774429FB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BC91E-7C3E-474F-B26D-4741EBC6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C083-FB93-4937-B48E-9A182B9D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F0DBD-A714-430A-872C-E6E8B4F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2364-5B64-4FA5-89F6-E74CCA0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808-90F0-48A5-AF42-D15590045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2FEF-E805-4D4D-AF6C-782E3C1070A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0C0-8DD3-4011-980C-A191FE1EE27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D9BD-9773-48B9-BDA6-900E07ADC1A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5DB4-2BF5-4991-823A-EAEDFCAF6D5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D4DC-EC18-4DED-AA21-DDDEECC85DE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2975-02EE-4B95-B6AA-1AEDDBF5CAB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520-A8E8-447B-94BF-BB9E15EB481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A2C-B3A3-4033-B939-0BAE9FD5DB9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49"/>
          <p:cNvSpPr/>
          <p:nvPr/>
        </p:nvSpPr>
        <p:spPr>
          <a:xfrm>
            <a:off x="4213080" y="3724200"/>
            <a:ext cx="165240" cy="135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4732200"/>
            <a:ext cx="482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7840" y="192420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谢谢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017A-4F31-4ED0-BD77-B0CF9CD81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/>
  <dc:description/>
  <dc:language>en-US</dc:language>
  <cp:lastModifiedBy>GZB</cp:lastModifiedBy>
  <dcterms:modified xsi:type="dcterms:W3CDTF">2015-07-20T08:08:55Z</dcterms:modified>
  <cp:revision>754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