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ED5-D82D-4ADA-A616-5E2D88F9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239-D77C-46D2-BDCA-4BE5843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E48-D96E-4738-9E32-AC595F69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5A6-9CA2-4E74-AC41-3660AC29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ADFC-DBB0-49C0-BF43-797C3C25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F347-F218-4EA9-85CD-7A5726A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258A-E3E0-4210-98DB-C6440E50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D76C-4B91-49EE-931B-30F1AC49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9A59-C6F3-4253-8EBC-D86662E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D02-CE4D-4769-9A5C-A948E1C1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FC6-8FD4-459B-9CFD-3FAD3E9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AAA-D831-4DD4-B672-0C68DAF3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2FA9-79BE-46DC-A7E1-7DAE6D1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B0FC-BF3F-413E-9F94-E42C231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79A-3588-4691-A222-704C6E02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458-E634-4EEB-93E8-94C15558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E81-350D-49E5-9C58-BA424F4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9982-3C60-4BB5-9A03-68591E4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D0E-EE58-4BBE-9610-AF23C17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477-93DB-4A43-A089-CFD05396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A56-4CEB-4429-98E6-53E1A0C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83A-7B68-4DD8-ABD0-5147274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EBA-D256-4E82-9262-8FF6063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1A8-DB36-464F-8641-1F0A1F3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E3F-510E-4024-B1D3-DC3CEC803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944640" cy="819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4"/>
          <a:stretch/>
        </p:blipFill>
        <p:spPr>
          <a:xfrm>
            <a:off x="8001000" y="2133720"/>
            <a:ext cx="984240" cy="990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clip_software_02"/>
          <p:cNvPicPr/>
          <p:nvPr/>
        </p:nvPicPr>
        <p:blipFill>
          <a:blip r:embed="rId5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water"/>
          <p:cNvPicPr/>
          <p:nvPr/>
        </p:nvPicPr>
        <p:blipFill>
          <a:blip r:embed="rId6"/>
          <a:srcRect l="22412" t="16378" r="0" b="27484"/>
          <a:stretch/>
        </p:blipFill>
        <p:spPr>
          <a:xfrm rot="393000">
            <a:off x="762120" y="5638320"/>
            <a:ext cx="1447560" cy="13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2255760" cy="217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water"/>
          <p:cNvPicPr/>
          <p:nvPr/>
        </p:nvPicPr>
        <p:blipFill>
          <a:blip r:embed="rId4"/>
          <a:srcRect l="22412" t="16378" r="0" b="27484"/>
          <a:stretch/>
        </p:blipFill>
        <p:spPr>
          <a:xfrm rot="393000">
            <a:off x="1143000" y="1447560"/>
            <a:ext cx="2209680" cy="2117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ED70-E0D9-47D1-BDFF-B55BE6C8A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999800" y="10666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幸运草清新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</cp:lastModifiedBy>
  <dcterms:modified xsi:type="dcterms:W3CDTF">2015-07-25T08:04:42Z</dcterms:modified>
  <cp:revision>1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