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1FD8-4D10-4F5F-BA0E-EF7ABB2B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AFD4-A016-4005-BF89-4C664786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7ED-9FAA-4D97-AABF-95BB9207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17C0-D5E7-4EE0-8C47-A58C3D69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C1B0A-6513-4BCB-8EDC-0E3825809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1997F3-85A9-478B-9AFA-6F184D86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05F589-2FAB-4B0B-86EB-F4E31F5B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D181D-2E9F-49B9-931F-084CAD74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79380-E12C-4BFA-8B79-C562199D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6933960" cy="43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CDE50-F145-4C54-B902-CEE6020F4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0C980D-258E-49EE-9BC1-C200D4A8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0C4D-ECB8-48CF-8C71-3F40B749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F4CF7E-2001-4ACD-AF7D-569457BE8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BF1CF-28AC-485E-8DEF-BAF334D6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C448C-BE68-4B27-A1E2-1BD48BE8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D78760-B551-4C80-BD06-BD6F01B9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818AFE-2F67-4EF7-BF6C-EF4F08298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8DA-BAAD-4BA3-BAF8-D5C9C96E6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780A-9428-40CC-BF6E-9132D09F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35D-F552-4ABA-A737-CE117B3A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838080" y="2438280"/>
            <a:ext cx="6933960" cy="437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0694-FF81-4BC6-8B4D-0F7FF549E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EFB-B8A8-4059-8B36-8E44E261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AF4D-4545-475D-BB2D-27040AAD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3DEF-75EC-4F08-8D83-DA5F3752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9" descr="7_!"/>
          <p:cNvPicPr/>
          <p:nvPr/>
        </p:nvPicPr>
        <p:blipFill>
          <a:blip r:embed="rId3"/>
          <a:stretch/>
        </p:blipFill>
        <p:spPr>
          <a:xfrm>
            <a:off x="0" y="6343560"/>
            <a:ext cx="9143640" cy="514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04" hidden="1"/>
          <p:cNvSpPr/>
          <p:nvPr/>
        </p:nvSpPr>
        <p:spPr>
          <a:xfrm>
            <a:off x="0" y="0"/>
            <a:ext cx="9143640" cy="1447560"/>
          </a:xfrm>
          <a:prstGeom prst="rect">
            <a:avLst/>
          </a:prstGeom>
          <a:gradFill rotWithShape="0">
            <a:gsLst>
              <a:gs pos="0">
                <a:srgbClr val="cb999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2" descr="01_icon_f"/>
          <p:cNvPicPr/>
          <p:nvPr/>
        </p:nvPicPr>
        <p:blipFill>
          <a:blip r:embed="rId4"/>
          <a:stretch/>
        </p:blipFill>
        <p:spPr>
          <a:xfrm>
            <a:off x="7924680" y="216000"/>
            <a:ext cx="1053720" cy="10537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8" descr="7"/>
          <p:cNvPicPr/>
          <p:nvPr/>
        </p:nvPicPr>
        <p:blipFill>
          <a:blip r:embed="rId5"/>
          <a:stretch/>
        </p:blipFill>
        <p:spPr>
          <a:xfrm>
            <a:off x="0" y="0"/>
            <a:ext cx="9143640" cy="50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807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ftr" idx="2"/>
          </p:nvPr>
        </p:nvSpPr>
        <p:spPr>
          <a:xfrm>
            <a:off x="5291280" y="6515280"/>
            <a:ext cx="183960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i="1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3"/>
          </p:nvPr>
        </p:nvSpPr>
        <p:spPr>
          <a:xfrm>
            <a:off x="228600" y="6400800"/>
            <a:ext cx="38052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4FF8AF9-B884-42B2-B11B-66660A760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Text Box 14"/>
          <p:cNvSpPr/>
          <p:nvPr/>
        </p:nvSpPr>
        <p:spPr>
          <a:xfrm>
            <a:off x="7086600" y="6445080"/>
            <a:ext cx="11426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i="1" lang="en-US" sz="2000" spc="-1" strike="noStrike">
                <a:solidFill>
                  <a:srgbClr val="b10f15"/>
                </a:solidFill>
                <a:latin typeface="Arial"/>
                <a:ea typeface="宋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838080" y="2438280"/>
            <a:ext cx="6933960" cy="9424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5000" spc="-1" strike="noStrike">
                <a:solidFill>
                  <a:srgbClr val="ffffff"/>
                </a:solidFill>
                <a:latin typeface="Arial"/>
              </a:rPr>
              <a:t>单击此处编辑母版标题样式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9" descr="7_!"/>
          <p:cNvPicPr/>
          <p:nvPr/>
        </p:nvPicPr>
        <p:blipFill>
          <a:blip r:embed="rId2"/>
          <a:stretch/>
        </p:blipFill>
        <p:spPr>
          <a:xfrm>
            <a:off x="0" y="6343560"/>
            <a:ext cx="9143640" cy="51408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4"/>
          <p:cNvSpPr/>
          <p:nvPr/>
        </p:nvSpPr>
        <p:spPr>
          <a:xfrm>
            <a:off x="0" y="0"/>
            <a:ext cx="9143640" cy="1447560"/>
          </a:xfrm>
          <a:prstGeom prst="rect">
            <a:avLst/>
          </a:prstGeom>
          <a:gradFill rotWithShape="0">
            <a:gsLst>
              <a:gs pos="0">
                <a:srgbClr val="cb999a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2" descr="01_icon_f"/>
          <p:cNvPicPr/>
          <p:nvPr/>
        </p:nvPicPr>
        <p:blipFill>
          <a:blip r:embed="rId3"/>
          <a:stretch/>
        </p:blipFill>
        <p:spPr>
          <a:xfrm>
            <a:off x="7924680" y="216000"/>
            <a:ext cx="1053720" cy="1053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8" descr="7"/>
          <p:cNvPicPr/>
          <p:nvPr/>
        </p:nvPicPr>
        <p:blipFill>
          <a:blip r:embed="rId4"/>
          <a:stretch/>
        </p:blipFill>
        <p:spPr>
          <a:xfrm>
            <a:off x="0" y="0"/>
            <a:ext cx="9143640" cy="5043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503280"/>
            <a:ext cx="7086240" cy="4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533520" y="1295280"/>
            <a:ext cx="8191080" cy="51051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Wingdings" charset="2"/>
              <a:buChar char="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19"/>
              </a:spcBef>
              <a:buClr>
                <a:srgbClr val="cb999a"/>
              </a:buClr>
              <a:buFont typeface="Wingdings" charset="2"/>
              <a:buChar char=""/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fb0e1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4"/>
          </p:nvPr>
        </p:nvSpPr>
        <p:spPr>
          <a:xfrm>
            <a:off x="6553080" y="6553080"/>
            <a:ext cx="2133360" cy="244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1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5"/>
          </p:nvPr>
        </p:nvSpPr>
        <p:spPr>
          <a:xfrm>
            <a:off x="4191120" y="6505560"/>
            <a:ext cx="837720" cy="26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FA7CD28-6A09-4BF1-91C3-845388E17181}" type="slidenum"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dt" idx="6"/>
          </p:nvPr>
        </p:nvSpPr>
        <p:spPr>
          <a:xfrm>
            <a:off x="380880" y="6505560"/>
            <a:ext cx="1904760" cy="2617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1268640"/>
            <a:ext cx="7491240" cy="942480"/>
          </a:xfrm>
          <a:prstGeom prst="rect">
            <a:avLst/>
          </a:prstGeom>
          <a:noFill/>
          <a:ln w="0">
            <a:noFill/>
          </a:ln>
          <a:effectLst>
            <a:outerShdw dist="35638" dir="2700000" blurRad="0" rotWithShape="0">
              <a:srgbClr val="000000"/>
            </a:outerShdw>
          </a:effectLst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夕阳美景通用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AutoShape 2"/>
          <p:cNvSpPr/>
          <p:nvPr/>
        </p:nvSpPr>
        <p:spPr>
          <a:xfrm>
            <a:off x="533520" y="1940040"/>
            <a:ext cx="7238520" cy="3962160"/>
          </a:xfrm>
          <a:prstGeom prst="roundRect">
            <a:avLst>
              <a:gd name="adj" fmla="val 10375"/>
            </a:avLst>
          </a:prstGeom>
          <a:noFill/>
          <a:ln cap="rnd" w="1905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/>
          <p:cNvSpPr/>
          <p:nvPr/>
        </p:nvSpPr>
        <p:spPr>
          <a:xfrm>
            <a:off x="3276720" y="2625840"/>
            <a:ext cx="396216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a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3276720" y="3159000"/>
            <a:ext cx="396216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fb0e1"/>
              </a:gs>
              <a:gs pos="100000">
                <a:srgbClr val="b8df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5"/>
          <p:cNvSpPr/>
          <p:nvPr/>
        </p:nvSpPr>
        <p:spPr>
          <a:xfrm>
            <a:off x="3276720" y="3692520"/>
            <a:ext cx="396216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a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6"/>
          <p:cNvSpPr/>
          <p:nvPr/>
        </p:nvSpPr>
        <p:spPr>
          <a:xfrm>
            <a:off x="3276720" y="4226040"/>
            <a:ext cx="396216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fb0e1"/>
              </a:gs>
              <a:gs pos="100000">
                <a:srgbClr val="b8dff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7"/>
          <p:cNvSpPr/>
          <p:nvPr/>
        </p:nvSpPr>
        <p:spPr>
          <a:xfrm>
            <a:off x="3276720" y="4759200"/>
            <a:ext cx="396216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7ccf3"/>
              </a:gs>
              <a:gs pos="100000">
                <a:srgbClr val="d5eaf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1143000" y="2778120"/>
            <a:ext cx="205704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cb999a"/>
              </a:gs>
              <a:gs pos="50000">
                <a:srgbClr val="d9b4b5"/>
              </a:gs>
              <a:gs pos="100000">
                <a:srgbClr val="cb999a"/>
              </a:gs>
            </a:gsLst>
            <a:lin ang="2700000"/>
          </a:gradFill>
          <a:ln w="2857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9"/>
          <p:cNvSpPr/>
          <p:nvPr/>
        </p:nvSpPr>
        <p:spPr>
          <a:xfrm>
            <a:off x="1143000" y="3311640"/>
            <a:ext cx="205704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fb0e1"/>
              </a:gs>
              <a:gs pos="50000">
                <a:srgbClr val="7fc5e9"/>
              </a:gs>
              <a:gs pos="100000">
                <a:srgbClr val="4fb0e1"/>
              </a:gs>
            </a:gsLst>
            <a:lin ang="2700000"/>
          </a:gradFill>
          <a:ln w="2857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1143000" y="3844800"/>
            <a:ext cx="205704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cb999a"/>
              </a:gs>
              <a:gs pos="50000">
                <a:srgbClr val="d9b4b5"/>
              </a:gs>
              <a:gs pos="100000">
                <a:srgbClr val="cb999a"/>
              </a:gs>
            </a:gsLst>
            <a:lin ang="2700000"/>
          </a:gradFill>
          <a:ln w="2857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1143000" y="4378320"/>
            <a:ext cx="205704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4fb0e1"/>
              </a:gs>
              <a:gs pos="50000">
                <a:srgbClr val="7fc5e9"/>
              </a:gs>
              <a:gs pos="100000">
                <a:srgbClr val="4fb0e1"/>
              </a:gs>
            </a:gsLst>
            <a:lin ang="2700000"/>
          </a:gradFill>
          <a:ln w="2857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1143000" y="4911840"/>
            <a:ext cx="2057040" cy="3805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cb999a"/>
              </a:gs>
              <a:gs pos="50000">
                <a:srgbClr val="d9b4b5"/>
              </a:gs>
              <a:gs pos="100000">
                <a:srgbClr val="cb999a"/>
              </a:gs>
            </a:gsLst>
            <a:lin ang="2700000"/>
          </a:gradFill>
          <a:ln w="28575">
            <a:noFill/>
          </a:ln>
          <a:scene3d>
            <a:camera prst="legacyObliqueTopRight"/>
            <a:lightRig dir="b" rig="legacyFlat3"/>
          </a:scene3d>
          <a:sp3d extrusionH="430200" prstMaterial="legacyMatte">
            <a:bevelT prst="angle" w="13500" h="13500"/>
            <a:bevelB prst="angle" w="13500" h="13500"/>
            <a:extrusionClr>
              <a:schemeClr val="accent1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marL="216000" indent="-216000" algn="ctr"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503280"/>
            <a:ext cx="7086240" cy="4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838080" y="1523880"/>
            <a:ext cx="6552720" cy="568080"/>
          </a:xfrm>
          <a:prstGeom prst="roundRect">
            <a:avLst>
              <a:gd name="adj" fmla="val 16667"/>
            </a:avLst>
          </a:prstGeom>
          <a:solidFill>
            <a:schemeClr val="bg1"/>
          </a:solidFill>
          <a:ln cap="rnd" w="19050">
            <a:solidFill>
              <a:srgbClr val="c0c0c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第一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PT is a Design Digital Content &amp; Contents mal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1155600" y="990720"/>
            <a:ext cx="6933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503280"/>
            <a:ext cx="7086240" cy="4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"/>
          <p:cNvGrpSpPr/>
          <p:nvPr/>
        </p:nvGrpSpPr>
        <p:grpSpPr>
          <a:xfrm>
            <a:off x="2292480" y="1447920"/>
            <a:ext cx="4495320" cy="4514400"/>
            <a:chOff x="2292480" y="1447920"/>
            <a:chExt cx="4495320" cy="4514400"/>
          </a:xfrm>
        </p:grpSpPr>
        <p:sp>
          <p:nvSpPr>
            <p:cNvPr id="109" name="Puzzle3"/>
            <p:cNvSpPr/>
            <p:nvPr/>
          </p:nvSpPr>
          <p:spPr>
            <a:xfrm>
              <a:off x="4481640" y="1447920"/>
              <a:ext cx="1766880" cy="2399040"/>
            </a:xfrm>
            <a:custGeom>
              <a:avLst/>
              <a:gdLst>
                <a:gd name="textAreaLeft" fmla="*/ 185760 w 1766880"/>
                <a:gd name="textAreaRight" fmla="*/ 1566360 w 1766880"/>
                <a:gd name="textAreaTop" fmla="*/ 857160 h 2399040"/>
                <a:gd name="textAreaBottom" fmla="*/ 2247840 h 2399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gradFill rotWithShape="0">
              <a:gsLst>
                <a:gs pos="0">
                  <a:srgbClr val="ff6600"/>
                </a:gs>
                <a:gs pos="100000">
                  <a:srgbClr val="ff9954"/>
                </a:gs>
              </a:gsLst>
              <a:lin ang="5400000"/>
            </a:gradFill>
            <a:ln w="57150">
              <a:solidFill>
                <a:srgbClr val="ffffff"/>
              </a:solidFill>
              <a:miter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Puzzle2"/>
            <p:cNvSpPr/>
            <p:nvPr/>
          </p:nvSpPr>
          <p:spPr>
            <a:xfrm>
              <a:off x="3967560" y="3195720"/>
              <a:ext cx="2820240" cy="2184840"/>
            </a:xfrm>
            <a:custGeom>
              <a:avLst/>
              <a:gdLst>
                <a:gd name="textAreaLeft" fmla="*/ 703440 w 2820240"/>
                <a:gd name="textAreaRight" fmla="*/ 2112120 w 2820240"/>
                <a:gd name="textAreaTop" fmla="*/ 681840 h 2184840"/>
                <a:gd name="textAreaBottom" fmla="*/ 2067840 h 218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fe373"/>
                </a:gs>
              </a:gsLst>
              <a:lin ang="5400000"/>
            </a:gradFill>
            <a:ln w="57150">
              <a:solidFill>
                <a:srgbClr val="ffffff"/>
              </a:solidFill>
              <a:miter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Puzzle4"/>
            <p:cNvSpPr/>
            <p:nvPr/>
          </p:nvSpPr>
          <p:spPr>
            <a:xfrm>
              <a:off x="2876040" y="3168720"/>
              <a:ext cx="1700280" cy="2793600"/>
            </a:xfrm>
            <a:custGeom>
              <a:avLst/>
              <a:gdLst>
                <a:gd name="textAreaLeft" fmla="*/ 163440 w 1700280"/>
                <a:gd name="textAreaRight" fmla="*/ 1590480 w 1700280"/>
                <a:gd name="textAreaTop" fmla="*/ 732600 h 2793600"/>
                <a:gd name="textAreaBottom" fmla="*/ 2066760 h 2793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gradFill rotWithShape="0">
              <a:gsLst>
                <a:gs pos="0">
                  <a:srgbClr val="20ae3e"/>
                </a:gs>
                <a:gs pos="100000">
                  <a:srgbClr val="8cd59b"/>
                </a:gs>
              </a:gsLst>
              <a:lin ang="18900000"/>
            </a:gradFill>
            <a:ln w="57150">
              <a:solidFill>
                <a:srgbClr val="ffffff"/>
              </a:solidFill>
              <a:miter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Puzzle1"/>
            <p:cNvSpPr/>
            <p:nvPr/>
          </p:nvSpPr>
          <p:spPr>
            <a:xfrm>
              <a:off x="2292480" y="2173680"/>
              <a:ext cx="2855160" cy="1665000"/>
            </a:xfrm>
            <a:custGeom>
              <a:avLst/>
              <a:gdLst>
                <a:gd name="textAreaLeft" fmla="*/ 804240 w 2855160"/>
                <a:gd name="textAreaRight" fmla="*/ 2132640 w 2855160"/>
                <a:gd name="textAreaTop" fmla="*/ 198000 h 1665000"/>
                <a:gd name="textAreaBottom" fmla="*/ 1507320 h 1665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464646"/>
                </a:gs>
              </a:gsLst>
              <a:lin ang="5400000"/>
            </a:gradFill>
            <a:ln w="57150">
              <a:solidFill>
                <a:srgbClr val="ffffff"/>
              </a:solidFill>
              <a:miter/>
            </a:ln>
            <a:effectLst>
              <a:outerShdw algn="ctr" dir="2465970" dist="134718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8"/>
          <p:cNvSpPr/>
          <p:nvPr/>
        </p:nvSpPr>
        <p:spPr>
          <a:xfrm>
            <a:off x="6503760" y="3962520"/>
            <a:ext cx="1704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844560" y="3352680"/>
            <a:ext cx="1904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444760" y="1447920"/>
            <a:ext cx="24379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273560" y="5638680"/>
            <a:ext cx="281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1155600" y="990720"/>
            <a:ext cx="6933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503280"/>
            <a:ext cx="7086240" cy="4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3"/>
          <p:cNvSpPr/>
          <p:nvPr/>
        </p:nvSpPr>
        <p:spPr>
          <a:xfrm>
            <a:off x="3267000" y="1459080"/>
            <a:ext cx="2641320" cy="2644560"/>
          </a:xfrm>
          <a:prstGeom prst="ellipse">
            <a:avLst/>
          </a:prstGeom>
          <a:solidFill>
            <a:schemeClr val="accent2">
              <a:alpha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4"/>
          <p:cNvSpPr/>
          <p:nvPr/>
        </p:nvSpPr>
        <p:spPr>
          <a:xfrm>
            <a:off x="4206960" y="2851200"/>
            <a:ext cx="2642760" cy="2642760"/>
          </a:xfrm>
          <a:prstGeom prst="ellipse">
            <a:avLst/>
          </a:prstGeom>
          <a:solidFill>
            <a:schemeClr val="folHlink">
              <a:alpha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5"/>
          <p:cNvSpPr/>
          <p:nvPr/>
        </p:nvSpPr>
        <p:spPr>
          <a:xfrm>
            <a:off x="2224080" y="2816280"/>
            <a:ext cx="2644560" cy="2642760"/>
          </a:xfrm>
          <a:prstGeom prst="ellipse">
            <a:avLst/>
          </a:prstGeom>
          <a:solidFill>
            <a:schemeClr val="accent1">
              <a:alpha val="35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"/>
          <p:cNvSpPr/>
          <p:nvPr/>
        </p:nvSpPr>
        <p:spPr>
          <a:xfrm flipH="1" flipV="1">
            <a:off x="2813040" y="2503440"/>
            <a:ext cx="1149120" cy="833400"/>
          </a:xfrm>
          <a:prstGeom prst="line">
            <a:avLst/>
          </a:prstGeom>
          <a:ln w="19050">
            <a:solidFill>
              <a:srgbClr val="4d4d4d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V="1">
            <a:off x="5317920" y="2536560"/>
            <a:ext cx="1217520" cy="765360"/>
          </a:xfrm>
          <a:prstGeom prst="line">
            <a:avLst/>
          </a:prstGeom>
          <a:ln w="19050">
            <a:solidFill>
              <a:srgbClr val="4d4d4d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4519440" y="4485960"/>
            <a:ext cx="25560" cy="1043280"/>
          </a:xfrm>
          <a:prstGeom prst="line">
            <a:avLst/>
          </a:prstGeom>
          <a:ln w="19050">
            <a:solidFill>
              <a:srgbClr val="4d4d4d"/>
            </a:solidFill>
            <a:round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804120" y="3432240"/>
            <a:ext cx="15908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762120" y="1771560"/>
            <a:ext cx="205236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chemeClr val="accent2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chemeClr val="accent2"/>
                </a:solidFill>
                <a:latin typeface="Arial"/>
                <a:ea typeface="宋体"/>
              </a:rPr>
              <a:t>01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467400" y="1771560"/>
            <a:ext cx="205236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669900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chemeClr val="accent1"/>
                </a:solidFill>
                <a:latin typeface="Arial"/>
                <a:ea typeface="宋体"/>
              </a:rPr>
              <a:t>02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405240" y="5472000"/>
            <a:ext cx="2260080" cy="9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700"/>
              </a:spcBef>
              <a:tabLst>
                <a:tab algn="l" pos="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宋体"/>
              </a:rPr>
              <a:t>   </a:t>
            </a:r>
            <a:r>
              <a:rPr b="1" lang="en-US" sz="1400" spc="-1" strike="noStrike">
                <a:solidFill>
                  <a:schemeClr val="hlink"/>
                </a:solidFill>
                <a:latin typeface="Arial"/>
                <a:ea typeface="宋体"/>
              </a:rPr>
              <a:t>03.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ctr">
              <a:lnSpc>
                <a:spcPct val="60000"/>
              </a:lnSpc>
              <a:spcBef>
                <a:spcPts val="700"/>
              </a:spcBef>
              <a:buClr>
                <a:srgbClr val="1c1c1c"/>
              </a:buClr>
              <a:buFont typeface="Symbol" charset="2"/>
              <a:buChar char=""/>
              <a:tabLst>
                <a:tab algn="l" pos="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3633120" y="1800720"/>
            <a:ext cx="182376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2428920" y="3905280"/>
            <a:ext cx="182376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4862520" y="3944880"/>
            <a:ext cx="182376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is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Design Digital Content &amp; Contents mall develop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  <a:ea typeface="宋体"/>
              </a:rPr>
              <a:t>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155600" y="990720"/>
            <a:ext cx="6933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503280"/>
            <a:ext cx="7086240" cy="4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"/>
          <p:cNvSpPr/>
          <p:nvPr/>
        </p:nvSpPr>
        <p:spPr>
          <a:xfrm>
            <a:off x="5969160" y="2563920"/>
            <a:ext cx="2273040" cy="2111040"/>
          </a:xfrm>
          <a:prstGeom prst="homePlate">
            <a:avLst>
              <a:gd name="adj" fmla="val 26917"/>
            </a:avLst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251240" y="2563920"/>
            <a:ext cx="2273040" cy="2111040"/>
          </a:xfrm>
          <a:prstGeom prst="homePlate">
            <a:avLst>
              <a:gd name="adj" fmla="val 26917"/>
            </a:avLst>
          </a:pr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2435400" y="2563920"/>
            <a:ext cx="2435040" cy="2111040"/>
          </a:xfrm>
          <a:prstGeom prst="homePlate">
            <a:avLst>
              <a:gd name="adj" fmla="val 28835"/>
            </a:avLst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algn="ctr" dir="2700000" dist="71785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reeform 6"/>
          <p:cNvSpPr/>
          <p:nvPr/>
        </p:nvSpPr>
        <p:spPr>
          <a:xfrm>
            <a:off x="2220840" y="2184480"/>
            <a:ext cx="5492520" cy="423360"/>
          </a:xfrm>
          <a:custGeom>
            <a:avLst/>
            <a:gdLst>
              <a:gd name="textAreaLeft" fmla="*/ 0 w 5492520"/>
              <a:gd name="textAreaRight" fmla="*/ 5492880 w 5492520"/>
              <a:gd name="textAreaTop" fmla="*/ 0 h 423360"/>
              <a:gd name="textAreaBottom" fmla="*/ 423720 h 423360"/>
            </a:gdLst>
            <a:ahLst/>
            <a:rect l="textAreaLeft" t="textAreaTop" r="textAreaRight" b="textAreaBottom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2187a9"/>
              </a:gs>
              <a:gs pos="100000">
                <a:srgbClr val="33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990720" y="2185920"/>
            <a:ext cx="2080800" cy="2487240"/>
          </a:xfrm>
          <a:prstGeom prst="homePlate">
            <a:avLst>
              <a:gd name="adj" fmla="val 25000"/>
            </a:avLst>
          </a:prstGeom>
          <a:gradFill rotWithShape="0">
            <a:gsLst>
              <a:gs pos="0">
                <a:srgbClr val="666699"/>
              </a:gs>
              <a:gs pos="100000">
                <a:srgbClr val="47476a"/>
              </a:gs>
            </a:gsLst>
            <a:lin ang="2700000"/>
          </a:gradFill>
          <a:ln w="0">
            <a:noFill/>
          </a:ln>
          <a:effectLst>
            <a:outerShdw algn="ctr" dir="3815863" dist="56671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1098720" y="2773440"/>
            <a:ext cx="165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第一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PT 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4750560" y="2211480"/>
            <a:ext cx="14612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873680" y="3232080"/>
            <a:ext cx="14475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482920" y="4781520"/>
            <a:ext cx="1787040" cy="8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6018120" y="4781520"/>
            <a:ext cx="178704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-216000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1003320" y="1749600"/>
            <a:ext cx="678924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995400" y="1803240"/>
            <a:ext cx="42480" cy="294840"/>
          </a:xfrm>
          <a:prstGeom prst="rect">
            <a:avLst/>
          </a:prstGeom>
          <a:solidFill>
            <a:srgbClr val="ad9c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1155600" y="990720"/>
            <a:ext cx="693396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3080" algn="r">
              <a:lnSpc>
                <a:spcPct val="80000"/>
              </a:lnSpc>
              <a:spcBef>
                <a:spcPts val="201"/>
              </a:spcBef>
              <a:tabLst>
                <a:tab algn="l" pos="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You can briefly add outline of this slide page in this text bo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241"/>
              </a:spcBef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90720" y="2590920"/>
            <a:ext cx="3352320" cy="304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>
              <a:lnSpc>
                <a:spcPct val="80000"/>
              </a:lnSpc>
              <a:spcBef>
                <a:spcPts val="320"/>
              </a:spcBef>
              <a:tabLst>
                <a:tab algn="l" pos="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[ Add your company slogan 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WordArt 3"/>
          <p:cNvSpPr txBox="1"/>
          <p:nvPr/>
        </p:nvSpPr>
        <p:spPr>
          <a:xfrm>
            <a:off x="1981080" y="3048120"/>
            <a:ext cx="4952520" cy="609120"/>
          </a:xfrm>
          <a:prstGeom prst="rect">
            <a:avLst/>
          </a:prstGeom>
        </p:spPr>
        <p:txBody>
          <a:bodyPr wrap="none" lIns="90000" rIns="90000" tIns="45000" bIns="450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ln w="0">
                  <a:noFill/>
                </a:ln>
                <a:solidFill>
                  <a:srgbClr val="000000"/>
                </a:solidFill>
                <a:latin typeface="Verdana"/>
                <a:ea typeface="Verdana"/>
              </a:rPr>
              <a:t>Thank You !</a:t>
            </a:r>
            <a:endParaRPr b="0" lang="en-US" sz="5400" spc="-1" strike="noStrike">
              <a:ln w="0">
                <a:noFill/>
              </a:ln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夕阳风光[红]">
  <a:themeElements>
    <a:clrScheme name="206TGp_fall_light  2">
      <a:dk1>
        <a:srgbClr val="000000"/>
      </a:dk1>
      <a:lt1>
        <a:srgbClr val="ffffff"/>
      </a:lt1>
      <a:dk2>
        <a:srgbClr val="000000"/>
      </a:dk2>
      <a:lt2>
        <a:srgbClr val="c0c0c0"/>
      </a:lt2>
      <a:accent1>
        <a:srgbClr val="cb999a"/>
      </a:accent1>
      <a:accent2>
        <a:srgbClr val="4fb0e1"/>
      </a:accent2>
      <a:accent3>
        <a:srgbClr val="ffffff"/>
      </a:accent3>
      <a:accent4>
        <a:srgbClr val="000000"/>
      </a:accent4>
      <a:accent5>
        <a:srgbClr val="e2caca"/>
      </a:accent5>
      <a:accent6>
        <a:srgbClr val="479fcc"/>
      </a:accent6>
      <a:hlink>
        <a:srgbClr val="1a72d2"/>
      </a:hlink>
      <a:folHlink>
        <a:srgbClr val="aac8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夕阳风光[红]">
  <a:themeElements>
    <a:clrScheme name="206TGp_fall_light  2">
      <a:dk1>
        <a:srgbClr val="000000"/>
      </a:dk1>
      <a:lt1>
        <a:srgbClr val="ffffff"/>
      </a:lt1>
      <a:dk2>
        <a:srgbClr val="000000"/>
      </a:dk2>
      <a:lt2>
        <a:srgbClr val="c0c0c0"/>
      </a:lt2>
      <a:accent1>
        <a:srgbClr val="cb999a"/>
      </a:accent1>
      <a:accent2>
        <a:srgbClr val="4fb0e1"/>
      </a:accent2>
      <a:accent3>
        <a:srgbClr val="ffffff"/>
      </a:accent3>
      <a:accent4>
        <a:srgbClr val="000000"/>
      </a:accent4>
      <a:accent5>
        <a:srgbClr val="e2caca"/>
      </a:accent5>
      <a:accent6>
        <a:srgbClr val="479fcc"/>
      </a:accent6>
      <a:hlink>
        <a:srgbClr val="1a72d2"/>
      </a:hlink>
      <a:folHlink>
        <a:srgbClr val="aac856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夕阳风光[红]</Template>
  <TotalTime>279</TotalTime>
  <Application>LibreOffice/7.4.7.2$Linux_X86_64 LibreOffice_project/40$Build-2</Application>
  <AppVersion>15.0000</AppVersion>
  <Words>318</Words>
  <Paragraphs>6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01:51:45Z</dcterms:created>
  <dc:creator>jccook</dc:creator>
  <dc:description/>
  <dc:language>en-US</dc:language>
  <cp:lastModifiedBy>王玉清</cp:lastModifiedBy>
  <dcterms:modified xsi:type="dcterms:W3CDTF">2016-02-22T03:33:50Z</dcterms:modified>
  <cp:revision>7</cp:revision>
  <dc:subject/>
  <dc:title>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6</vt:r8>
  </property>
</Properties>
</file>