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C2F106-DC71-4E78-9EFD-EF1C0F7C5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5BC247-C852-4495-93FD-351480EB33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A01108-7653-4022-8769-2158873D41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5EE999-89EE-40BE-8C3E-1B6C6B29C6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6EC712-1AC2-4FB4-974B-2B682C8E8D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3C19-CB02-437D-94A8-60C7E2B3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592-CA0D-42D0-BA10-3F84CCFE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9C6-B35D-414F-AA0F-99078491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27D-1F44-4189-86B6-5C99D709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5683-0B8A-4ED9-B801-FB4C3C06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52FD-6A5D-4126-A6C2-46E8DDAE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A8A1-7EA4-4B45-91B5-E976CA95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FF87-8A55-47D7-9004-2B90D5FB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2D94-9D87-469F-8138-C036CFD4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18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F13F-377E-4790-B40F-58AF7CC6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9686-10F7-4179-A11A-A90EEACE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703E-0E32-4ABA-87FC-40E36DCF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F513-66A6-48AF-A4E0-D53E9719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BBCF-B44A-4425-B022-8646F548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BDF2-80AC-4054-8919-A92DFF47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3882-6599-4AFE-9746-3DD27EF9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F75A-61CD-448B-951F-3895DDDF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187B5-7E54-4274-9A6E-A1723120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31C2E-C344-4093-99FD-45117597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6B4C0-1B77-4120-B968-E0061F9A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357E2-C8DE-427B-92AA-1ACE1B3F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07EE5-C3B9-47D4-B005-7E4D9A67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C242-A793-4DB6-8793-3AA441A3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18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83B51-D57B-491D-B26B-F32E41BE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88D4F-3407-4BC4-BE81-D7AB9785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BDBC2-32E7-4472-BB63-DF836B6A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C0AC4-69F1-47EC-9804-D092218A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DE896-40F1-40C0-A473-4CE2967D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F66BE-5D2B-4788-9859-A4D51E16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09505-3771-49DF-948D-7875EDFB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A5BE-3E5A-41EB-9402-2F657B6D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C6E-03D2-4B7C-A7C8-1004FE1A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18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964-3E9D-4E31-86B9-EF087927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090-20F2-4CD7-9A58-ABC9C66B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13F3-1247-4B00-84C3-EB1492AF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166-20E9-4B7D-A303-4E4E7CDC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5640" cy="143964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85098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" name="Picture 10" descr=""/>
          <p:cNvPicPr/>
          <p:nvPr/>
        </p:nvPicPr>
        <p:blipFill>
          <a:blip r:embed="rId2"/>
          <a:stretch/>
        </p:blipFill>
        <p:spPr>
          <a:xfrm>
            <a:off x="7211880" y="-9360"/>
            <a:ext cx="1931760" cy="1449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" descr=""/>
          <p:cNvPicPr/>
          <p:nvPr/>
        </p:nvPicPr>
        <p:blipFill>
          <a:blip r:embed="rId3"/>
          <a:stretch/>
        </p:blipFill>
        <p:spPr>
          <a:xfrm>
            <a:off x="0" y="-936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4"/>
          <p:cNvSpPr/>
          <p:nvPr/>
        </p:nvSpPr>
        <p:spPr>
          <a:xfrm>
            <a:off x="574560" y="5479920"/>
            <a:ext cx="8569080" cy="136800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6000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6360" y="5536800"/>
            <a:ext cx="7772040" cy="722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55ABB3-E887-471D-BA45-73B93FC3A7F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0"/>
            <a:ext cx="7235640" cy="143964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85098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2"/>
          <a:stretch/>
        </p:blipFill>
        <p:spPr>
          <a:xfrm>
            <a:off x="7211880" y="-9360"/>
            <a:ext cx="1931760" cy="1449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9FFB17-0774-4029-8FE8-37D1BD337FF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0"/>
            <a:ext cx="7235640" cy="143964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85098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2"/>
          <a:stretch/>
        </p:blipFill>
        <p:spPr>
          <a:xfrm>
            <a:off x="7211880" y="-9360"/>
            <a:ext cx="1931760" cy="1449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E1F019-4CE3-4300-8504-65E4AB637BC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82560" y="6259680"/>
            <a:ext cx="6400440" cy="477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2247840" y="177264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夕阳下的跨海大桥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Bullet Poin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440" y="1663560"/>
            <a:ext cx="8229240" cy="4368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Content Placeholder 3"/>
          <p:cNvGraphicFramePr/>
          <p:nvPr/>
        </p:nvGraphicFramePr>
        <p:xfrm>
          <a:off x="901800" y="1790640"/>
          <a:ext cx="7340400" cy="3944520"/>
        </p:xfrm>
        <a:graphic>
          <a:graphicData uri="http://schemas.openxmlformats.org/presentationml/2006/ole">
            <p:oleObj progId="Excel.Chart.8" r:id="rId1" spid="">
              <p:embed/>
              <p:pic>
                <p:nvPicPr>
                  <p:cNvPr id="145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1790640"/>
                    <a:ext cx="7340400" cy="39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lour sch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571920" y="2863800"/>
            <a:ext cx="826560" cy="610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648320" y="2863800"/>
            <a:ext cx="826560" cy="610920"/>
          </a:xfrm>
          <a:prstGeom prst="rect">
            <a:avLst/>
          </a:prstGeom>
          <a:solidFill>
            <a:schemeClr val="bg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19280" y="4478400"/>
            <a:ext cx="826560" cy="61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587760" y="4478400"/>
            <a:ext cx="826560" cy="6109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56240" y="4478400"/>
            <a:ext cx="826560" cy="6109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5726160" y="4478400"/>
            <a:ext cx="826560" cy="61092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5708520" y="2863800"/>
            <a:ext cx="826560" cy="610920"/>
          </a:xfrm>
          <a:prstGeom prst="rect">
            <a:avLst/>
          </a:prstGeom>
          <a:solidFill>
            <a:schemeClr val="tx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2503440" y="2863800"/>
            <a:ext cx="826560" cy="61092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2285280" y="2224080"/>
            <a:ext cx="1264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3614400" y="2101680"/>
            <a:ext cx="746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553280" y="2224080"/>
            <a:ext cx="1016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5843160" y="2101680"/>
            <a:ext cx="55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662200" y="3838680"/>
            <a:ext cx="542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3609000" y="3838680"/>
            <a:ext cx="802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4543560" y="3716280"/>
            <a:ext cx="102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5624640" y="3714840"/>
            <a:ext cx="102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ictur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69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IMG_9271"/>
          <p:cNvPicPr/>
          <p:nvPr/>
        </p:nvPicPr>
        <p:blipFill>
          <a:blip r:embed="rId1"/>
          <a:stretch/>
        </p:blipFill>
        <p:spPr>
          <a:xfrm>
            <a:off x="5256360" y="2205000"/>
            <a:ext cx="3096720" cy="3852360"/>
          </a:xfrm>
          <a:prstGeom prst="rect">
            <a:avLst/>
          </a:prstGeom>
          <a:ln w="5715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539640" y="1268280"/>
            <a:ext cx="8208720" cy="53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 of templ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50920" y="1711440"/>
            <a:ext cx="69498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are free to use these templates for your personal and business pres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150920" y="3139920"/>
            <a:ext cx="3409560" cy="24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 these templates for your presen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4495680" y="3139920"/>
            <a:ext cx="3639600" cy="20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Don’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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ell or distribute these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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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ss off any of our created content as your own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150920" y="2608200"/>
            <a:ext cx="692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 have put a lot of work into developing all these templates and retain the copyright in them.  You can use them freely providing that you do not redistribute or sell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Custom 357">
      <a:dk1>
        <a:srgbClr val="000000"/>
      </a:dk1>
      <a:lt1>
        <a:srgbClr val="ffffff"/>
      </a:lt1>
      <a:dk2>
        <a:srgbClr val="000000"/>
      </a:dk2>
      <a:lt2>
        <a:srgbClr val="ffffff"/>
      </a:lt2>
      <a:accent1>
        <a:srgbClr val="000000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Custom 357">
      <a:dk1>
        <a:srgbClr val="000000"/>
      </a:dk1>
      <a:lt1>
        <a:srgbClr val="ffffff"/>
      </a:lt1>
      <a:dk2>
        <a:srgbClr val="000000"/>
      </a:dk2>
      <a:lt2>
        <a:srgbClr val="ffffff"/>
      </a:lt2>
      <a:accent1>
        <a:srgbClr val="000000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Custom 357">
      <a:dk1>
        <a:srgbClr val="000000"/>
      </a:dk1>
      <a:lt1>
        <a:srgbClr val="ffffff"/>
      </a:lt1>
      <a:dk2>
        <a:srgbClr val="000000"/>
      </a:dk2>
      <a:lt2>
        <a:srgbClr val="ffffff"/>
      </a:lt2>
      <a:accent1>
        <a:srgbClr val="000000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ffffff"/>
      </a:lt2>
      <a:accent1>
        <a:srgbClr val="000000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  <Words>202</Words>
  <Paragraphs>3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a</cp:lastModifiedBy>
  <dcterms:modified xsi:type="dcterms:W3CDTF">2015-07-25T08:42:50Z</dcterms:modified>
  <cp:revision>15</cp:revision>
  <dc:subject/>
  <dc:title>sunset bridg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全屏显示(4:3)</vt:lpwstr>
  </property>
  <property fmtid="{D5CDD505-2E9C-101B-9397-08002B2CF9AE}" pid="4" name="Slides">
    <vt:r8>6</vt:r8>
  </property>
</Properties>
</file>